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0E5-6E53-4540-A5A2-B4A9F61E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F94-3E81-46C1-9797-29B2738D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4F9-AB9E-4F56-B2E8-7875EEB9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21F-6C6C-4C53-84C2-1901C94F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F7B-72B2-43C9-A6E9-B52185C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F25-2118-4920-894A-B1111685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895-8523-4493-BB2A-199F47AE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2F6-0DF1-43B9-9DC0-634837E2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8EE-D5E2-4F80-82E0-99A2C12E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8F9-DE9D-469D-BB4C-3BF2A1B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4CA-337F-46F3-AB04-E02F556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677-D0D0-4BD3-973E-11E11E5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EA33-69E2-4590-8304-3F41BE3AAC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BB8-74E5-4941-850C-91CFE4EA1D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7678800" y="9360"/>
            <a:ext cx="4519440" cy="658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4" descr=""/>
          <p:cNvPicPr/>
          <p:nvPr/>
        </p:nvPicPr>
        <p:blipFill>
          <a:blip r:embed="rId2"/>
          <a:stretch/>
        </p:blipFill>
        <p:spPr>
          <a:xfrm>
            <a:off x="7758000" y="22320"/>
            <a:ext cx="4440240" cy="6470640"/>
          </a:xfrm>
          <a:prstGeom prst="rect">
            <a:avLst/>
          </a:prstGeom>
          <a:ln w="0">
            <a:noFill/>
          </a:ln>
        </p:spPr>
      </p:pic>
      <p:sp>
        <p:nvSpPr>
          <p:cNvPr id="43" name="矩形 4"/>
          <p:cNvSpPr/>
          <p:nvPr/>
        </p:nvSpPr>
        <p:spPr>
          <a:xfrm flipV="1">
            <a:off x="365040" y="2707200"/>
            <a:ext cx="7559640" cy="1587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369720" y="5191200"/>
            <a:ext cx="3916440" cy="483120"/>
            <a:chOff x="369720" y="5191200"/>
            <a:chExt cx="3916440" cy="483120"/>
          </a:xfrm>
        </p:grpSpPr>
        <p:sp>
          <p:nvSpPr>
            <p:cNvPr id="45" name="矩形 10"/>
            <p:cNvSpPr/>
            <p:nvPr/>
          </p:nvSpPr>
          <p:spPr>
            <a:xfrm>
              <a:off x="369720" y="5191200"/>
              <a:ext cx="1584720" cy="482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1"/>
            <p:cNvSpPr/>
            <p:nvPr/>
          </p:nvSpPr>
          <p:spPr>
            <a:xfrm>
              <a:off x="412560" y="5214600"/>
              <a:ext cx="38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文作者：  </a:t>
              </a:r>
              <a:r>
                <a:rPr b="1" i="1" lang="ja-JP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托尼・施瓦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2"/>
            <p:cNvSpPr/>
            <p:nvPr/>
          </p:nvSpPr>
          <p:spPr>
            <a:xfrm>
              <a:off x="1954440" y="5191200"/>
              <a:ext cx="2305080" cy="469800"/>
            </a:xfrm>
            <a:prstGeom prst="rect">
              <a:avLst/>
            </a:prstGeom>
            <a:noFill/>
            <a:ln w="1260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文本框 23"/>
          <p:cNvSpPr/>
          <p:nvPr/>
        </p:nvSpPr>
        <p:spPr>
          <a:xfrm>
            <a:off x="316080" y="477720"/>
            <a:ext cx="644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管理</a:t>
            </a:r>
            <a:r>
              <a:rPr b="1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能量</a:t>
            </a:r>
            <a:r>
              <a:rPr b="1" lang="zh-CN" sz="5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4"/>
          <p:cNvSpPr/>
          <p:nvPr/>
        </p:nvSpPr>
        <p:spPr>
          <a:xfrm>
            <a:off x="4756680" y="1509840"/>
            <a:ext cx="222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而非</a:t>
            </a:r>
            <a:r>
              <a:rPr b="1" lang="zh-CN" sz="8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时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65040" y="5807160"/>
            <a:ext cx="3888000" cy="506520"/>
            <a:chOff x="365040" y="5807160"/>
            <a:chExt cx="3888000" cy="506520"/>
          </a:xfrm>
        </p:grpSpPr>
        <p:sp>
          <p:nvSpPr>
            <p:cNvPr id="51" name="矩形 26"/>
            <p:cNvSpPr/>
            <p:nvPr/>
          </p:nvSpPr>
          <p:spPr>
            <a:xfrm>
              <a:off x="365040" y="5807160"/>
              <a:ext cx="1584000" cy="48348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27"/>
            <p:cNvSpPr/>
            <p:nvPr/>
          </p:nvSpPr>
          <p:spPr>
            <a:xfrm>
              <a:off x="1949040" y="5807160"/>
              <a:ext cx="2304000" cy="474840"/>
            </a:xfrm>
            <a:prstGeom prst="rect">
              <a:avLst/>
            </a:prstGeom>
            <a:noFill/>
            <a:ln w="1260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8"/>
            <p:cNvSpPr/>
            <p:nvPr/>
          </p:nvSpPr>
          <p:spPr>
            <a:xfrm>
              <a:off x="406800" y="5853960"/>
              <a:ext cx="38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编：  </a:t>
              </a: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直接连接符 19"/>
          <p:cNvSpPr/>
          <p:nvPr/>
        </p:nvSpPr>
        <p:spPr>
          <a:xfrm>
            <a:off x="365040" y="2941560"/>
            <a:ext cx="7559640" cy="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F1D7-93E8-4BDE-A24E-0A9856A84C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37"/>
          <p:cNvSpPr/>
          <p:nvPr/>
        </p:nvSpPr>
        <p:spPr>
          <a:xfrm flipV="1" rot="20460000">
            <a:off x="158400" y="1709280"/>
            <a:ext cx="3276720" cy="582840"/>
          </a:xfrm>
          <a:custGeom>
            <a:avLst/>
            <a:gdLst>
              <a:gd name="textAreaLeft" fmla="*/ 0 w 3276720"/>
              <a:gd name="textAreaRight" fmla="*/ 3277080 w 3276720"/>
              <a:gd name="textAreaTop" fmla="*/ -360 h 582840"/>
              <a:gd name="textAreaBottom" fmla="*/ 582840 h 58284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36"/>
          <p:cNvSpPr/>
          <p:nvPr/>
        </p:nvSpPr>
        <p:spPr>
          <a:xfrm flipV="1" rot="20819400">
            <a:off x="428400" y="3030480"/>
            <a:ext cx="3627360" cy="582840"/>
          </a:xfrm>
          <a:custGeom>
            <a:avLst/>
            <a:gdLst>
              <a:gd name="textAreaLeft" fmla="*/ 0 w 3627360"/>
              <a:gd name="textAreaRight" fmla="*/ 3627720 w 3627360"/>
              <a:gd name="textAreaTop" fmla="*/ -360 h 582840"/>
              <a:gd name="textAreaBottom" fmla="*/ 582840 h 58284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34"/>
          <p:cNvSpPr/>
          <p:nvPr/>
        </p:nvSpPr>
        <p:spPr>
          <a:xfrm rot="20901600">
            <a:off x="250920" y="2204640"/>
            <a:ext cx="4091040" cy="668520"/>
          </a:xfrm>
          <a:custGeom>
            <a:avLst/>
            <a:gdLst>
              <a:gd name="textAreaLeft" fmla="*/ 0 w 4091040"/>
              <a:gd name="textAreaRight" fmla="*/ 4091400 w 409104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1591294" h="273132">
                <a:moveTo>
                  <a:pt x="0" y="71252"/>
                </a:moveTo>
                <a:lnTo>
                  <a:pt x="0" y="273132"/>
                </a:lnTo>
                <a:lnTo>
                  <a:pt x="1508167" y="249382"/>
                </a:lnTo>
                <a:lnTo>
                  <a:pt x="1591294" y="0"/>
                </a:lnTo>
                <a:lnTo>
                  <a:pt x="0" y="71252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9324360" y="2091240"/>
            <a:ext cx="2882160" cy="2923200"/>
            <a:chOff x="9324360" y="2091240"/>
            <a:chExt cx="2882160" cy="2923200"/>
          </a:xfrm>
        </p:grpSpPr>
        <p:sp>
          <p:nvSpPr>
            <p:cNvPr id="211" name="椭圆 6"/>
            <p:cNvSpPr/>
            <p:nvPr/>
          </p:nvSpPr>
          <p:spPr>
            <a:xfrm rot="15093000">
              <a:off x="9601920" y="2421720"/>
              <a:ext cx="2327040" cy="2261880"/>
            </a:xfrm>
            <a:prstGeom prst="ellipse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9646200" y="2415960"/>
              <a:ext cx="2184840" cy="21855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10163160" y="2746440"/>
            <a:ext cx="1496880" cy="1556280"/>
            <a:chOff x="10163160" y="2746440"/>
            <a:chExt cx="1496880" cy="1556280"/>
          </a:xfrm>
        </p:grpSpPr>
        <p:sp>
          <p:nvSpPr>
            <p:cNvPr id="214" name="Freeform 35"/>
            <p:cNvSpPr/>
            <p:nvPr/>
          </p:nvSpPr>
          <p:spPr>
            <a:xfrm>
              <a:off x="10874880" y="3146040"/>
              <a:ext cx="785160" cy="80784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0"/>
            <p:cNvSpPr/>
            <p:nvPr/>
          </p:nvSpPr>
          <p:spPr>
            <a:xfrm>
              <a:off x="10163160" y="274644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直角三角形 21"/>
          <p:cNvSpPr/>
          <p:nvPr/>
        </p:nvSpPr>
        <p:spPr>
          <a:xfrm>
            <a:off x="-11160" y="436680"/>
            <a:ext cx="1011240" cy="642132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角三角形 22"/>
          <p:cNvSpPr/>
          <p:nvPr/>
        </p:nvSpPr>
        <p:spPr>
          <a:xfrm>
            <a:off x="-11160" y="1325520"/>
            <a:ext cx="87012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角三角形 23"/>
          <p:cNvSpPr/>
          <p:nvPr/>
        </p:nvSpPr>
        <p:spPr>
          <a:xfrm rot="16200000">
            <a:off x="8474040" y="3139920"/>
            <a:ext cx="1014480" cy="642168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角三角形 24"/>
          <p:cNvSpPr/>
          <p:nvPr/>
        </p:nvSpPr>
        <p:spPr>
          <a:xfrm rot="16200000">
            <a:off x="8989200" y="3654720"/>
            <a:ext cx="87300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25"/>
          <p:cNvSpPr/>
          <p:nvPr/>
        </p:nvSpPr>
        <p:spPr>
          <a:xfrm rot="16200000">
            <a:off x="10203480" y="924480"/>
            <a:ext cx="2913120" cy="106380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4393870" h="1603168">
                <a:moveTo>
                  <a:pt x="0" y="878774"/>
                </a:moveTo>
                <a:lnTo>
                  <a:pt x="973776" y="878774"/>
                </a:lnTo>
                <a:lnTo>
                  <a:pt x="1128156" y="356259"/>
                </a:lnTo>
                <a:lnTo>
                  <a:pt x="1389413" y="1508166"/>
                </a:lnTo>
                <a:lnTo>
                  <a:pt x="1543792" y="890650"/>
                </a:lnTo>
                <a:lnTo>
                  <a:pt x="1935678" y="890649"/>
                </a:lnTo>
                <a:lnTo>
                  <a:pt x="1995054" y="593766"/>
                </a:lnTo>
                <a:lnTo>
                  <a:pt x="2078182" y="1270659"/>
                </a:lnTo>
                <a:lnTo>
                  <a:pt x="2185060" y="344384"/>
                </a:lnTo>
                <a:lnTo>
                  <a:pt x="2256312" y="1128155"/>
                </a:lnTo>
                <a:lnTo>
                  <a:pt x="2339438" y="890649"/>
                </a:lnTo>
                <a:lnTo>
                  <a:pt x="2861953" y="890649"/>
                </a:lnTo>
                <a:lnTo>
                  <a:pt x="2945080" y="463137"/>
                </a:lnTo>
                <a:lnTo>
                  <a:pt x="3040083" y="1341911"/>
                </a:lnTo>
                <a:lnTo>
                  <a:pt x="3135086" y="676893"/>
                </a:lnTo>
                <a:lnTo>
                  <a:pt x="3182587" y="1056903"/>
                </a:lnTo>
                <a:lnTo>
                  <a:pt x="3230088" y="890649"/>
                </a:lnTo>
                <a:lnTo>
                  <a:pt x="3669476" y="902525"/>
                </a:lnTo>
                <a:lnTo>
                  <a:pt x="3705101" y="0"/>
                </a:lnTo>
                <a:lnTo>
                  <a:pt x="3764478" y="1603168"/>
                </a:lnTo>
                <a:lnTo>
                  <a:pt x="3835730" y="890649"/>
                </a:lnTo>
                <a:lnTo>
                  <a:pt x="4215740" y="890649"/>
                </a:lnTo>
                <a:lnTo>
                  <a:pt x="4263241" y="700644"/>
                </a:lnTo>
                <a:lnTo>
                  <a:pt x="4322618" y="1116280"/>
                </a:lnTo>
                <a:lnTo>
                  <a:pt x="4393870" y="878774"/>
                </a:lnTo>
              </a:path>
            </a:pathLst>
          </a:custGeom>
          <a:noFill/>
          <a:ln w="6480">
            <a:solidFill>
              <a:srgbClr val="0089f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9"/>
          <p:cNvSpPr/>
          <p:nvPr/>
        </p:nvSpPr>
        <p:spPr>
          <a:xfrm rot="20977800">
            <a:off x="3625920" y="865080"/>
            <a:ext cx="36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按时就寝，保证睡眠时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0"/>
          <p:cNvSpPr/>
          <p:nvPr/>
        </p:nvSpPr>
        <p:spPr>
          <a:xfrm rot="21000600">
            <a:off x="2355840" y="172512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按时按规律吃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1"/>
          <p:cNvSpPr/>
          <p:nvPr/>
        </p:nvSpPr>
        <p:spPr>
          <a:xfrm rot="21000600">
            <a:off x="5638320" y="2355480"/>
            <a:ext cx="8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间或离开办公桌休息片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2"/>
          <p:cNvSpPr/>
          <p:nvPr/>
        </p:nvSpPr>
        <p:spPr>
          <a:xfrm rot="21019200">
            <a:off x="6824880" y="2458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a5a5"/>
                </a:solidFill>
                <a:latin typeface="微软雅黑"/>
                <a:ea typeface="微软雅黑"/>
              </a:rPr>
              <a:t>休息的质量比时间更重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31"/>
          <p:cNvSpPr/>
          <p:nvPr/>
        </p:nvSpPr>
        <p:spPr>
          <a:xfrm flipV="1" rot="20460000">
            <a:off x="158400" y="1709280"/>
            <a:ext cx="3276720" cy="582840"/>
          </a:xfrm>
          <a:custGeom>
            <a:avLst/>
            <a:gdLst>
              <a:gd name="textAreaLeft" fmla="*/ 0 w 3276720"/>
              <a:gd name="textAreaRight" fmla="*/ 3277080 w 3276720"/>
              <a:gd name="textAreaTop" fmla="*/ -360 h 582840"/>
              <a:gd name="textAreaBottom" fmla="*/ 582840 h 58284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32"/>
          <p:cNvSpPr/>
          <p:nvPr/>
        </p:nvSpPr>
        <p:spPr>
          <a:xfrm flipV="1" rot="20819400">
            <a:off x="452520" y="3237480"/>
            <a:ext cx="1785960" cy="582480"/>
          </a:xfrm>
          <a:custGeom>
            <a:avLst/>
            <a:gdLst>
              <a:gd name="textAreaLeft" fmla="*/ 0 w 1785960"/>
              <a:gd name="textAreaRight" fmla="*/ 1786320 w 1785960"/>
              <a:gd name="textAreaTop" fmla="*/ 360 h 582480"/>
              <a:gd name="textAreaBottom" fmla="*/ 583200 h 58248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33"/>
          <p:cNvSpPr/>
          <p:nvPr/>
        </p:nvSpPr>
        <p:spPr>
          <a:xfrm rot="20901600">
            <a:off x="247680" y="2176560"/>
            <a:ext cx="4370400" cy="668160"/>
          </a:xfrm>
          <a:custGeom>
            <a:avLst/>
            <a:gdLst>
              <a:gd name="textAreaLeft" fmla="*/ 0 w 4370400"/>
              <a:gd name="textAreaRight" fmla="*/ 4370760 w 437040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1591294" h="273132">
                <a:moveTo>
                  <a:pt x="0" y="71252"/>
                </a:moveTo>
                <a:lnTo>
                  <a:pt x="0" y="273132"/>
                </a:lnTo>
                <a:lnTo>
                  <a:pt x="1508167" y="249382"/>
                </a:lnTo>
                <a:lnTo>
                  <a:pt x="1591294" y="0"/>
                </a:lnTo>
                <a:lnTo>
                  <a:pt x="0" y="71252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3"/>
          <p:cNvSpPr/>
          <p:nvPr/>
        </p:nvSpPr>
        <p:spPr>
          <a:xfrm rot="16200000">
            <a:off x="10203480" y="924480"/>
            <a:ext cx="2913120" cy="106380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4393870" h="1603168">
                <a:moveTo>
                  <a:pt x="0" y="878774"/>
                </a:moveTo>
                <a:lnTo>
                  <a:pt x="973776" y="878774"/>
                </a:lnTo>
                <a:lnTo>
                  <a:pt x="1128156" y="356259"/>
                </a:lnTo>
                <a:lnTo>
                  <a:pt x="1389413" y="1508166"/>
                </a:lnTo>
                <a:lnTo>
                  <a:pt x="1543792" y="890650"/>
                </a:lnTo>
                <a:lnTo>
                  <a:pt x="1935678" y="890649"/>
                </a:lnTo>
                <a:lnTo>
                  <a:pt x="1995054" y="593766"/>
                </a:lnTo>
                <a:lnTo>
                  <a:pt x="2078182" y="1270659"/>
                </a:lnTo>
                <a:lnTo>
                  <a:pt x="2185060" y="344384"/>
                </a:lnTo>
                <a:lnTo>
                  <a:pt x="2256312" y="1128155"/>
                </a:lnTo>
                <a:lnTo>
                  <a:pt x="2339438" y="890649"/>
                </a:lnTo>
                <a:lnTo>
                  <a:pt x="2861953" y="890649"/>
                </a:lnTo>
                <a:lnTo>
                  <a:pt x="2945080" y="463137"/>
                </a:lnTo>
                <a:lnTo>
                  <a:pt x="3040083" y="1341911"/>
                </a:lnTo>
                <a:lnTo>
                  <a:pt x="3135086" y="676893"/>
                </a:lnTo>
                <a:lnTo>
                  <a:pt x="3182587" y="1056903"/>
                </a:lnTo>
                <a:lnTo>
                  <a:pt x="3230088" y="890649"/>
                </a:lnTo>
                <a:lnTo>
                  <a:pt x="3669476" y="902525"/>
                </a:lnTo>
                <a:lnTo>
                  <a:pt x="3705101" y="0"/>
                </a:lnTo>
                <a:lnTo>
                  <a:pt x="3764478" y="1603168"/>
                </a:lnTo>
                <a:lnTo>
                  <a:pt x="3835730" y="890649"/>
                </a:lnTo>
                <a:lnTo>
                  <a:pt x="4215740" y="890649"/>
                </a:lnTo>
                <a:lnTo>
                  <a:pt x="4263241" y="700644"/>
                </a:lnTo>
                <a:lnTo>
                  <a:pt x="4322618" y="1116280"/>
                </a:lnTo>
                <a:lnTo>
                  <a:pt x="4393870" y="878774"/>
                </a:lnTo>
              </a:path>
            </a:pathLst>
          </a:custGeom>
          <a:noFill/>
          <a:ln w="6480">
            <a:solidFill>
              <a:srgbClr val="0089f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6"/>
          <p:cNvGrpSpPr/>
          <p:nvPr/>
        </p:nvGrpSpPr>
        <p:grpSpPr>
          <a:xfrm>
            <a:off x="9297360" y="2037960"/>
            <a:ext cx="2883960" cy="2924280"/>
            <a:chOff x="9297360" y="2037960"/>
            <a:chExt cx="2883960" cy="2924280"/>
          </a:xfrm>
        </p:grpSpPr>
        <p:grpSp>
          <p:nvGrpSpPr>
            <p:cNvPr id="230" name="Group 7"/>
            <p:cNvGrpSpPr/>
            <p:nvPr/>
          </p:nvGrpSpPr>
          <p:grpSpPr>
            <a:xfrm>
              <a:off x="9297360" y="2037960"/>
              <a:ext cx="2883960" cy="2924280"/>
              <a:chOff x="9297360" y="2037960"/>
              <a:chExt cx="2883960" cy="2924280"/>
            </a:xfrm>
          </p:grpSpPr>
          <p:sp>
            <p:nvSpPr>
              <p:cNvPr id="231" name="椭圆 20"/>
              <p:cNvSpPr/>
              <p:nvPr/>
            </p:nvSpPr>
            <p:spPr>
              <a:xfrm rot="15093000">
                <a:off x="9575280" y="2368080"/>
                <a:ext cx="2327400" cy="2263680"/>
              </a:xfrm>
              <a:prstGeom prst="ellipse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21"/>
              <p:cNvSpPr/>
              <p:nvPr/>
            </p:nvSpPr>
            <p:spPr>
              <a:xfrm>
                <a:off x="9619200" y="2363400"/>
                <a:ext cx="2186640" cy="2185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矩形 13"/>
            <p:cNvSpPr/>
            <p:nvPr/>
          </p:nvSpPr>
          <p:spPr>
            <a:xfrm>
              <a:off x="10121760" y="269388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绪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1"/>
            <p:cNvGrpSpPr/>
            <p:nvPr/>
          </p:nvGrpSpPr>
          <p:grpSpPr>
            <a:xfrm>
              <a:off x="10878120" y="2955240"/>
              <a:ext cx="638280" cy="894240"/>
              <a:chOff x="10878120" y="2955240"/>
              <a:chExt cx="638280" cy="894240"/>
            </a:xfrm>
          </p:grpSpPr>
          <p:grpSp>
            <p:nvGrpSpPr>
              <p:cNvPr id="235" name="Group 12"/>
              <p:cNvGrpSpPr/>
              <p:nvPr/>
            </p:nvGrpSpPr>
            <p:grpSpPr>
              <a:xfrm>
                <a:off x="10878120" y="3211920"/>
                <a:ext cx="637560" cy="637560"/>
                <a:chOff x="10878120" y="3211920"/>
                <a:chExt cx="637560" cy="637560"/>
              </a:xfrm>
            </p:grpSpPr>
            <p:sp>
              <p:nvSpPr>
                <p:cNvPr id="236" name="圆角矩形 17"/>
                <p:cNvSpPr/>
                <p:nvPr/>
              </p:nvSpPr>
              <p:spPr>
                <a:xfrm>
                  <a:off x="10878120" y="3211920"/>
                  <a:ext cx="637560" cy="637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椭圆 18"/>
                <p:cNvSpPr/>
                <p:nvPr/>
              </p:nvSpPr>
              <p:spPr>
                <a:xfrm>
                  <a:off x="10956600" y="3376080"/>
                  <a:ext cx="144720" cy="1447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等腰三角形 19"/>
                <p:cNvSpPr/>
                <p:nvPr/>
              </p:nvSpPr>
              <p:spPr>
                <a:xfrm flipV="1">
                  <a:off x="11094480" y="3614400"/>
                  <a:ext cx="199080" cy="16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矩形 16"/>
              <p:cNvSpPr/>
              <p:nvPr/>
            </p:nvSpPr>
            <p:spPr>
              <a:xfrm>
                <a:off x="11190960" y="2955240"/>
                <a:ext cx="325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d8d8d8"/>
                    </a:solidFill>
                    <a:latin typeface="微软雅黑"/>
                    <a:ea typeface="微软雅黑"/>
                  </a:rPr>
                  <a:t>,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矩形 22"/>
          <p:cNvSpPr/>
          <p:nvPr/>
        </p:nvSpPr>
        <p:spPr>
          <a:xfrm rot="21113400">
            <a:off x="5880240" y="2662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反向透镜，长焦透镜，广角透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角三角形 23"/>
          <p:cNvSpPr/>
          <p:nvPr/>
        </p:nvSpPr>
        <p:spPr>
          <a:xfrm>
            <a:off x="-11160" y="436680"/>
            <a:ext cx="1011240" cy="642132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角三角形 24"/>
          <p:cNvSpPr/>
          <p:nvPr/>
        </p:nvSpPr>
        <p:spPr>
          <a:xfrm>
            <a:off x="-11160" y="1325520"/>
            <a:ext cx="87012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角三角形 25"/>
          <p:cNvSpPr/>
          <p:nvPr/>
        </p:nvSpPr>
        <p:spPr>
          <a:xfrm rot="16200000">
            <a:off x="8474040" y="3139920"/>
            <a:ext cx="1014480" cy="642168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角三角形 26"/>
          <p:cNvSpPr/>
          <p:nvPr/>
        </p:nvSpPr>
        <p:spPr>
          <a:xfrm rot="16200000">
            <a:off x="8989200" y="3654720"/>
            <a:ext cx="87300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 rot="20877000">
            <a:off x="3641760" y="823680"/>
            <a:ext cx="31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“买时间”：做深呼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"/>
          <p:cNvSpPr/>
          <p:nvPr/>
        </p:nvSpPr>
        <p:spPr>
          <a:xfrm rot="20931000">
            <a:off x="4410360" y="1584000"/>
            <a:ext cx="21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向他人赞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21063600">
            <a:off x="4859280" y="2422080"/>
            <a:ext cx="24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换一种方式讲身边发生的故事： “三种透镜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任意多边形 36"/>
          <p:cNvSpPr/>
          <p:nvPr/>
        </p:nvSpPr>
        <p:spPr>
          <a:xfrm flipV="1" rot="20460000">
            <a:off x="183960" y="1865880"/>
            <a:ext cx="2312640" cy="582480"/>
          </a:xfrm>
          <a:custGeom>
            <a:avLst/>
            <a:gdLst>
              <a:gd name="textAreaLeft" fmla="*/ 0 w 2312640"/>
              <a:gd name="textAreaRight" fmla="*/ 2313000 w 2312640"/>
              <a:gd name="textAreaTop" fmla="*/ 360 h 582480"/>
              <a:gd name="textAreaBottom" fmla="*/ 583200 h 58248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37"/>
          <p:cNvSpPr/>
          <p:nvPr/>
        </p:nvSpPr>
        <p:spPr>
          <a:xfrm flipV="1" rot="20819400">
            <a:off x="434880" y="3077640"/>
            <a:ext cx="3210120" cy="582840"/>
          </a:xfrm>
          <a:custGeom>
            <a:avLst/>
            <a:gdLst>
              <a:gd name="textAreaLeft" fmla="*/ 0 w 3210120"/>
              <a:gd name="textAreaRight" fmla="*/ 3210480 w 3210120"/>
              <a:gd name="textAreaTop" fmla="*/ -360 h 582840"/>
              <a:gd name="textAreaBottom" fmla="*/ 582840 h 58284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38"/>
          <p:cNvSpPr/>
          <p:nvPr/>
        </p:nvSpPr>
        <p:spPr>
          <a:xfrm rot="20901600">
            <a:off x="245880" y="2152800"/>
            <a:ext cx="4619520" cy="666720"/>
          </a:xfrm>
          <a:custGeom>
            <a:avLst/>
            <a:gdLst>
              <a:gd name="textAreaLeft" fmla="*/ 0 w 4619520"/>
              <a:gd name="textAreaRight" fmla="*/ 4619520 w 461952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591294" h="273132">
                <a:moveTo>
                  <a:pt x="0" y="71252"/>
                </a:moveTo>
                <a:lnTo>
                  <a:pt x="0" y="273132"/>
                </a:lnTo>
                <a:lnTo>
                  <a:pt x="1508167" y="249382"/>
                </a:lnTo>
                <a:lnTo>
                  <a:pt x="1591294" y="0"/>
                </a:lnTo>
                <a:lnTo>
                  <a:pt x="0" y="71252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5"/>
          <p:cNvGrpSpPr/>
          <p:nvPr/>
        </p:nvGrpSpPr>
        <p:grpSpPr>
          <a:xfrm>
            <a:off x="9309960" y="2069640"/>
            <a:ext cx="2883960" cy="2924280"/>
            <a:chOff x="9309960" y="2069640"/>
            <a:chExt cx="2883960" cy="2924280"/>
          </a:xfrm>
        </p:grpSpPr>
        <p:grpSp>
          <p:nvGrpSpPr>
            <p:cNvPr id="252" name="Group 6"/>
            <p:cNvGrpSpPr/>
            <p:nvPr/>
          </p:nvGrpSpPr>
          <p:grpSpPr>
            <a:xfrm>
              <a:off x="9309960" y="2069640"/>
              <a:ext cx="2883960" cy="2924280"/>
              <a:chOff x="9309960" y="2069640"/>
              <a:chExt cx="2883960" cy="2924280"/>
            </a:xfrm>
          </p:grpSpPr>
          <p:sp>
            <p:nvSpPr>
              <p:cNvPr id="253" name="椭圆 15"/>
              <p:cNvSpPr/>
              <p:nvPr/>
            </p:nvSpPr>
            <p:spPr>
              <a:xfrm rot="15093000">
                <a:off x="9587880" y="2399760"/>
                <a:ext cx="2327400" cy="2263680"/>
              </a:xfrm>
              <a:prstGeom prst="ellipse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 16"/>
              <p:cNvSpPr/>
              <p:nvPr/>
            </p:nvSpPr>
            <p:spPr>
              <a:xfrm>
                <a:off x="9631800" y="2395080"/>
                <a:ext cx="2186640" cy="2185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矩形 13"/>
            <p:cNvSpPr/>
            <p:nvPr/>
          </p:nvSpPr>
          <p:spPr>
            <a:xfrm>
              <a:off x="10220040" y="272556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图片 14" descr=""/>
            <p:cNvPicPr/>
            <p:nvPr/>
          </p:nvPicPr>
          <p:blipFill>
            <a:blip r:embed="rId1"/>
            <a:stretch/>
          </p:blipFill>
          <p:spPr>
            <a:xfrm rot="244800">
              <a:off x="10796760" y="3121200"/>
              <a:ext cx="93528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任意多边形 22"/>
          <p:cNvSpPr/>
          <p:nvPr/>
        </p:nvSpPr>
        <p:spPr>
          <a:xfrm rot="16200000">
            <a:off x="10203480" y="924480"/>
            <a:ext cx="2913120" cy="106380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4393870" h="1603168">
                <a:moveTo>
                  <a:pt x="0" y="878774"/>
                </a:moveTo>
                <a:lnTo>
                  <a:pt x="973776" y="878774"/>
                </a:lnTo>
                <a:lnTo>
                  <a:pt x="1128156" y="356259"/>
                </a:lnTo>
                <a:lnTo>
                  <a:pt x="1389413" y="1508166"/>
                </a:lnTo>
                <a:lnTo>
                  <a:pt x="1543792" y="890650"/>
                </a:lnTo>
                <a:lnTo>
                  <a:pt x="1935678" y="890649"/>
                </a:lnTo>
                <a:lnTo>
                  <a:pt x="1995054" y="593766"/>
                </a:lnTo>
                <a:lnTo>
                  <a:pt x="2078182" y="1270659"/>
                </a:lnTo>
                <a:lnTo>
                  <a:pt x="2185060" y="344384"/>
                </a:lnTo>
                <a:lnTo>
                  <a:pt x="2256312" y="1128155"/>
                </a:lnTo>
                <a:lnTo>
                  <a:pt x="2339438" y="890649"/>
                </a:lnTo>
                <a:lnTo>
                  <a:pt x="2861953" y="890649"/>
                </a:lnTo>
                <a:lnTo>
                  <a:pt x="2945080" y="463137"/>
                </a:lnTo>
                <a:lnTo>
                  <a:pt x="3040083" y="1341911"/>
                </a:lnTo>
                <a:lnTo>
                  <a:pt x="3135086" y="676893"/>
                </a:lnTo>
                <a:lnTo>
                  <a:pt x="3182587" y="1056903"/>
                </a:lnTo>
                <a:lnTo>
                  <a:pt x="3230088" y="890649"/>
                </a:lnTo>
                <a:lnTo>
                  <a:pt x="3669476" y="902525"/>
                </a:lnTo>
                <a:lnTo>
                  <a:pt x="3705101" y="0"/>
                </a:lnTo>
                <a:lnTo>
                  <a:pt x="3764478" y="1603168"/>
                </a:lnTo>
                <a:lnTo>
                  <a:pt x="3835730" y="890649"/>
                </a:lnTo>
                <a:lnTo>
                  <a:pt x="4215740" y="890649"/>
                </a:lnTo>
                <a:lnTo>
                  <a:pt x="4263241" y="700644"/>
                </a:lnTo>
                <a:lnTo>
                  <a:pt x="4322618" y="1116280"/>
                </a:lnTo>
                <a:lnTo>
                  <a:pt x="4393870" y="878774"/>
                </a:lnTo>
              </a:path>
            </a:pathLst>
          </a:custGeom>
          <a:noFill/>
          <a:ln w="6480">
            <a:solidFill>
              <a:srgbClr val="0089f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角三角形 23"/>
          <p:cNvSpPr/>
          <p:nvPr/>
        </p:nvSpPr>
        <p:spPr>
          <a:xfrm>
            <a:off x="-11160" y="436680"/>
            <a:ext cx="1011240" cy="642132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角三角形 24"/>
          <p:cNvSpPr/>
          <p:nvPr/>
        </p:nvSpPr>
        <p:spPr>
          <a:xfrm>
            <a:off x="-11160" y="1325520"/>
            <a:ext cx="87012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角三角形 25"/>
          <p:cNvSpPr/>
          <p:nvPr/>
        </p:nvSpPr>
        <p:spPr>
          <a:xfrm rot="16200000">
            <a:off x="8474040" y="3139920"/>
            <a:ext cx="1014480" cy="642168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角三角形 26"/>
          <p:cNvSpPr/>
          <p:nvPr/>
        </p:nvSpPr>
        <p:spPr>
          <a:xfrm rot="16200000">
            <a:off x="8989200" y="3654720"/>
            <a:ext cx="87300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30"/>
          <p:cNvSpPr/>
          <p:nvPr/>
        </p:nvSpPr>
        <p:spPr>
          <a:xfrm rot="20835600">
            <a:off x="4973760" y="735120"/>
            <a:ext cx="15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集中全部精力做一件事情，再做下一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31"/>
          <p:cNvSpPr/>
          <p:nvPr/>
        </p:nvSpPr>
        <p:spPr>
          <a:xfrm rot="20904000">
            <a:off x="5178240" y="1199880"/>
            <a:ext cx="41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制定习惯减少外界带来的干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2"/>
          <p:cNvSpPr/>
          <p:nvPr/>
        </p:nvSpPr>
        <p:spPr>
          <a:xfrm rot="20943000">
            <a:off x="4382640" y="2119320"/>
            <a:ext cx="53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系统地专注于能够带来最长远优势的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任意多边形 3"/>
          <p:cNvSpPr/>
          <p:nvPr/>
        </p:nvSpPr>
        <p:spPr>
          <a:xfrm rot="16200000">
            <a:off x="10203480" y="924480"/>
            <a:ext cx="2913120" cy="106380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4393870" h="1603168">
                <a:moveTo>
                  <a:pt x="0" y="878774"/>
                </a:moveTo>
                <a:lnTo>
                  <a:pt x="973776" y="878774"/>
                </a:lnTo>
                <a:lnTo>
                  <a:pt x="1128156" y="356259"/>
                </a:lnTo>
                <a:lnTo>
                  <a:pt x="1389413" y="1508166"/>
                </a:lnTo>
                <a:lnTo>
                  <a:pt x="1543792" y="890650"/>
                </a:lnTo>
                <a:lnTo>
                  <a:pt x="1935678" y="890649"/>
                </a:lnTo>
                <a:lnTo>
                  <a:pt x="1995054" y="593766"/>
                </a:lnTo>
                <a:lnTo>
                  <a:pt x="2078182" y="1270659"/>
                </a:lnTo>
                <a:lnTo>
                  <a:pt x="2185060" y="344384"/>
                </a:lnTo>
                <a:lnTo>
                  <a:pt x="2256312" y="1128155"/>
                </a:lnTo>
                <a:lnTo>
                  <a:pt x="2339438" y="890649"/>
                </a:lnTo>
                <a:lnTo>
                  <a:pt x="2861953" y="890649"/>
                </a:lnTo>
                <a:lnTo>
                  <a:pt x="2945080" y="463137"/>
                </a:lnTo>
                <a:lnTo>
                  <a:pt x="3040083" y="1341911"/>
                </a:lnTo>
                <a:lnTo>
                  <a:pt x="3135086" y="676893"/>
                </a:lnTo>
                <a:lnTo>
                  <a:pt x="3182587" y="1056903"/>
                </a:lnTo>
                <a:lnTo>
                  <a:pt x="3230088" y="890649"/>
                </a:lnTo>
                <a:lnTo>
                  <a:pt x="3669476" y="902525"/>
                </a:lnTo>
                <a:lnTo>
                  <a:pt x="3705101" y="0"/>
                </a:lnTo>
                <a:lnTo>
                  <a:pt x="3764478" y="1603168"/>
                </a:lnTo>
                <a:lnTo>
                  <a:pt x="3835730" y="890649"/>
                </a:lnTo>
                <a:lnTo>
                  <a:pt x="4215740" y="890649"/>
                </a:lnTo>
                <a:lnTo>
                  <a:pt x="4263241" y="700644"/>
                </a:lnTo>
                <a:lnTo>
                  <a:pt x="4322618" y="1116280"/>
                </a:lnTo>
                <a:lnTo>
                  <a:pt x="4393870" y="878774"/>
                </a:lnTo>
              </a:path>
            </a:pathLst>
          </a:custGeom>
          <a:noFill/>
          <a:ln w="6480">
            <a:solidFill>
              <a:srgbClr val="0089f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848520" y="2728800"/>
            <a:ext cx="1497960" cy="1556280"/>
            <a:chOff x="848520" y="2728800"/>
            <a:chExt cx="1497960" cy="1556280"/>
          </a:xfrm>
        </p:grpSpPr>
        <p:sp>
          <p:nvSpPr>
            <p:cNvPr id="267" name="Freeform 35"/>
            <p:cNvSpPr/>
            <p:nvPr/>
          </p:nvSpPr>
          <p:spPr>
            <a:xfrm>
              <a:off x="1560600" y="3128400"/>
              <a:ext cx="785880" cy="80784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0"/>
            <p:cNvSpPr/>
            <p:nvPr/>
          </p:nvSpPr>
          <p:spPr>
            <a:xfrm>
              <a:off x="848520" y="272880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"/>
          <p:cNvGrpSpPr/>
          <p:nvPr/>
        </p:nvGrpSpPr>
        <p:grpSpPr>
          <a:xfrm>
            <a:off x="9284400" y="2053080"/>
            <a:ext cx="2882520" cy="2923200"/>
            <a:chOff x="9284400" y="2053080"/>
            <a:chExt cx="2882520" cy="2923200"/>
          </a:xfrm>
        </p:grpSpPr>
        <p:grpSp>
          <p:nvGrpSpPr>
            <p:cNvPr id="270" name="Group 7"/>
            <p:cNvGrpSpPr/>
            <p:nvPr/>
          </p:nvGrpSpPr>
          <p:grpSpPr>
            <a:xfrm>
              <a:off x="9284400" y="2053080"/>
              <a:ext cx="2882520" cy="2923200"/>
              <a:chOff x="9284400" y="2053080"/>
              <a:chExt cx="2882520" cy="2923200"/>
            </a:xfrm>
          </p:grpSpPr>
          <p:sp>
            <p:nvSpPr>
              <p:cNvPr id="271" name="椭圆 26"/>
              <p:cNvSpPr/>
              <p:nvPr/>
            </p:nvSpPr>
            <p:spPr>
              <a:xfrm rot="15093000">
                <a:off x="9561960" y="2383200"/>
                <a:ext cx="2327040" cy="2262240"/>
              </a:xfrm>
              <a:prstGeom prst="ellipse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椭圆 27"/>
              <p:cNvSpPr/>
              <p:nvPr/>
            </p:nvSpPr>
            <p:spPr>
              <a:xfrm>
                <a:off x="9606240" y="2377800"/>
                <a:ext cx="2185200" cy="21855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矩形 24"/>
            <p:cNvSpPr/>
            <p:nvPr/>
          </p:nvSpPr>
          <p:spPr>
            <a:xfrm>
              <a:off x="10233720" y="270828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神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7"/>
            <p:cNvSpPr/>
            <p:nvPr/>
          </p:nvSpPr>
          <p:spPr>
            <a:xfrm>
              <a:off x="10984680" y="3006720"/>
              <a:ext cx="569880" cy="10044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004400"/>
                <a:gd name="textAreaBottom" fmla="*/ 1004760 h 1004400"/>
              </a:gdLst>
              <a:ahLst/>
              <a:rect l="textAreaLeft" t="textAreaTop" r="textAreaRight" b="textAreaBottom"/>
              <a:pathLst>
                <a:path w="1160" h="2287">
                  <a:moveTo>
                    <a:pt x="580" y="540"/>
                  </a:moveTo>
                  <a:cubicBezTo>
                    <a:pt x="664" y="540"/>
                    <a:pt x="731" y="473"/>
                    <a:pt x="731" y="389"/>
                  </a:cubicBezTo>
                  <a:cubicBezTo>
                    <a:pt x="731" y="305"/>
                    <a:pt x="664" y="237"/>
                    <a:pt x="580" y="237"/>
                  </a:cubicBezTo>
                  <a:cubicBezTo>
                    <a:pt x="496" y="237"/>
                    <a:pt x="428" y="305"/>
                    <a:pt x="428" y="389"/>
                  </a:cubicBezTo>
                  <a:cubicBezTo>
                    <a:pt x="428" y="473"/>
                    <a:pt x="496" y="540"/>
                    <a:pt x="580" y="540"/>
                  </a:cubicBezTo>
                  <a:close/>
                  <a:moveTo>
                    <a:pt x="1109" y="22"/>
                  </a:moveTo>
                  <a:cubicBezTo>
                    <a:pt x="1071" y="0"/>
                    <a:pt x="1022" y="13"/>
                    <a:pt x="1000" y="51"/>
                  </a:cubicBezTo>
                  <a:cubicBezTo>
                    <a:pt x="691" y="587"/>
                    <a:pt x="691" y="587"/>
                    <a:pt x="691" y="587"/>
                  </a:cubicBezTo>
                  <a:cubicBezTo>
                    <a:pt x="469" y="587"/>
                    <a:pt x="469" y="587"/>
                    <a:pt x="469" y="587"/>
                  </a:cubicBezTo>
                  <a:cubicBezTo>
                    <a:pt x="159" y="51"/>
                    <a:pt x="159" y="51"/>
                    <a:pt x="159" y="51"/>
                  </a:cubicBezTo>
                  <a:cubicBezTo>
                    <a:pt x="137" y="13"/>
                    <a:pt x="89" y="0"/>
                    <a:pt x="51" y="22"/>
                  </a:cubicBezTo>
                  <a:cubicBezTo>
                    <a:pt x="13" y="44"/>
                    <a:pt x="0" y="93"/>
                    <a:pt x="22" y="131"/>
                  </a:cubicBezTo>
                  <a:cubicBezTo>
                    <a:pt x="377" y="745"/>
                    <a:pt x="377" y="745"/>
                    <a:pt x="377" y="745"/>
                  </a:cubicBezTo>
                  <a:cubicBezTo>
                    <a:pt x="377" y="2194"/>
                    <a:pt x="377" y="2194"/>
                    <a:pt x="377" y="2194"/>
                  </a:cubicBezTo>
                  <a:cubicBezTo>
                    <a:pt x="377" y="2246"/>
                    <a:pt x="418" y="2287"/>
                    <a:pt x="470" y="2287"/>
                  </a:cubicBezTo>
                  <a:cubicBezTo>
                    <a:pt x="521" y="2287"/>
                    <a:pt x="562" y="2246"/>
                    <a:pt x="562" y="2194"/>
                  </a:cubicBezTo>
                  <a:cubicBezTo>
                    <a:pt x="562" y="1423"/>
                    <a:pt x="562" y="1423"/>
                    <a:pt x="562" y="1423"/>
                  </a:cubicBezTo>
                  <a:cubicBezTo>
                    <a:pt x="598" y="1423"/>
                    <a:pt x="598" y="1423"/>
                    <a:pt x="598" y="1423"/>
                  </a:cubicBezTo>
                  <a:cubicBezTo>
                    <a:pt x="598" y="2194"/>
                    <a:pt x="598" y="2194"/>
                    <a:pt x="598" y="2194"/>
                  </a:cubicBezTo>
                  <a:cubicBezTo>
                    <a:pt x="598" y="2246"/>
                    <a:pt x="639" y="2287"/>
                    <a:pt x="690" y="2287"/>
                  </a:cubicBezTo>
                  <a:cubicBezTo>
                    <a:pt x="742" y="2287"/>
                    <a:pt x="783" y="2246"/>
                    <a:pt x="783" y="2194"/>
                  </a:cubicBezTo>
                  <a:cubicBezTo>
                    <a:pt x="783" y="745"/>
                    <a:pt x="783" y="745"/>
                    <a:pt x="783" y="745"/>
                  </a:cubicBezTo>
                  <a:cubicBezTo>
                    <a:pt x="1138" y="131"/>
                    <a:pt x="1138" y="131"/>
                    <a:pt x="1138" y="131"/>
                  </a:cubicBezTo>
                  <a:cubicBezTo>
                    <a:pt x="1160" y="93"/>
                    <a:pt x="1147" y="44"/>
                    <a:pt x="11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直角三角形 12"/>
          <p:cNvSpPr/>
          <p:nvPr/>
        </p:nvSpPr>
        <p:spPr>
          <a:xfrm>
            <a:off x="-11160" y="436680"/>
            <a:ext cx="1011240" cy="642132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角三角形 13"/>
          <p:cNvSpPr/>
          <p:nvPr/>
        </p:nvSpPr>
        <p:spPr>
          <a:xfrm>
            <a:off x="-11160" y="1325520"/>
            <a:ext cx="87012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角三角形 14"/>
          <p:cNvSpPr/>
          <p:nvPr/>
        </p:nvSpPr>
        <p:spPr>
          <a:xfrm rot="16200000">
            <a:off x="8474040" y="3139920"/>
            <a:ext cx="1014480" cy="6421680"/>
          </a:xfrm>
          <a:prstGeom prst="rtTriangl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角三角形 15"/>
          <p:cNvSpPr/>
          <p:nvPr/>
        </p:nvSpPr>
        <p:spPr>
          <a:xfrm rot="16200000">
            <a:off x="8989200" y="3654720"/>
            <a:ext cx="873000" cy="5532480"/>
          </a:xfrm>
          <a:prstGeom prst="rtTriangl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16"/>
          <p:cNvSpPr/>
          <p:nvPr/>
        </p:nvSpPr>
        <p:spPr>
          <a:xfrm flipV="1" rot="20460000">
            <a:off x="183960" y="1865880"/>
            <a:ext cx="2312640" cy="582480"/>
          </a:xfrm>
          <a:custGeom>
            <a:avLst/>
            <a:gdLst>
              <a:gd name="textAreaLeft" fmla="*/ 0 w 2312640"/>
              <a:gd name="textAreaRight" fmla="*/ 2313000 w 2312640"/>
              <a:gd name="textAreaTop" fmla="*/ 360 h 582480"/>
              <a:gd name="textAreaBottom" fmla="*/ 583200 h 58248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任意多边形 17"/>
          <p:cNvSpPr/>
          <p:nvPr/>
        </p:nvSpPr>
        <p:spPr>
          <a:xfrm flipV="1" rot="20819400">
            <a:off x="429840" y="3040920"/>
            <a:ext cx="3524400" cy="584280"/>
          </a:xfrm>
          <a:custGeom>
            <a:avLst/>
            <a:gdLst>
              <a:gd name="textAreaLeft" fmla="*/ 0 w 3524400"/>
              <a:gd name="textAreaRight" fmla="*/ 3524760 w 3524400"/>
              <a:gd name="textAreaTop" fmla="*/ -360 h 584280"/>
              <a:gd name="textAreaBottom" fmla="*/ 584280 h 584280"/>
            </a:gdLst>
            <a:ahLst/>
            <a:rect l="textAreaLeft" t="textAreaTop" r="textAreaRight" b="textAreaBottom"/>
            <a:pathLst>
              <a:path w="1365663" h="296883">
                <a:moveTo>
                  <a:pt x="0" y="296883"/>
                </a:moveTo>
                <a:lnTo>
                  <a:pt x="1365663" y="285007"/>
                </a:lnTo>
                <a:lnTo>
                  <a:pt x="1258785" y="0"/>
                </a:lnTo>
                <a:lnTo>
                  <a:pt x="0" y="106878"/>
                </a:lnTo>
                <a:lnTo>
                  <a:pt x="0" y="296883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18"/>
          <p:cNvSpPr/>
          <p:nvPr/>
        </p:nvSpPr>
        <p:spPr>
          <a:xfrm rot="20901600">
            <a:off x="263160" y="2323800"/>
            <a:ext cx="2913120" cy="666720"/>
          </a:xfrm>
          <a:custGeom>
            <a:avLst/>
            <a:gdLst>
              <a:gd name="textAreaLeft" fmla="*/ 0 w 2913120"/>
              <a:gd name="textAreaRight" fmla="*/ 2913480 w 291312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1591294" h="273132">
                <a:moveTo>
                  <a:pt x="0" y="71252"/>
                </a:moveTo>
                <a:lnTo>
                  <a:pt x="0" y="273132"/>
                </a:lnTo>
                <a:lnTo>
                  <a:pt x="1508167" y="249382"/>
                </a:lnTo>
                <a:lnTo>
                  <a:pt x="1591294" y="0"/>
                </a:lnTo>
                <a:lnTo>
                  <a:pt x="0" y="71252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9"/>
          <p:cNvSpPr/>
          <p:nvPr/>
        </p:nvSpPr>
        <p:spPr>
          <a:xfrm rot="20835600">
            <a:off x="2809080" y="993240"/>
            <a:ext cx="38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做自己最擅长最喜欢的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 rot="20913000">
            <a:off x="3769200" y="1512720"/>
            <a:ext cx="45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把时间和精力投入到最重要的事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1"/>
          <p:cNvSpPr/>
          <p:nvPr/>
        </p:nvSpPr>
        <p:spPr>
          <a:xfrm rot="20977200">
            <a:off x="6458040" y="2152440"/>
            <a:ext cx="10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在日常行为中奉行自己的核心价值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3"/>
          <p:cNvSpPr/>
          <p:nvPr/>
        </p:nvSpPr>
        <p:spPr>
          <a:xfrm>
            <a:off x="0" y="1951200"/>
            <a:ext cx="12192120" cy="38019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"/>
          <p:cNvSpPr/>
          <p:nvPr/>
        </p:nvSpPr>
        <p:spPr>
          <a:xfrm>
            <a:off x="4691160" y="2954160"/>
            <a:ext cx="2809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篇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"/>
          <p:cNvSpPr/>
          <p:nvPr/>
        </p:nvSpPr>
        <p:spPr>
          <a:xfrm>
            <a:off x="3065040" y="270828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量管理计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2" descr=""/>
          <p:cNvPicPr/>
          <p:nvPr/>
        </p:nvPicPr>
        <p:blipFill>
          <a:blip r:embed="rId1"/>
          <a:stretch/>
        </p:blipFill>
        <p:spPr>
          <a:xfrm>
            <a:off x="1325520" y="3871800"/>
            <a:ext cx="3470400" cy="2303640"/>
          </a:xfrm>
          <a:prstGeom prst="rect">
            <a:avLst/>
          </a:prstGeom>
          <a:ln w="28440">
            <a:solidFill>
              <a:srgbClr val="0089f0"/>
            </a:solidFill>
            <a:miter/>
          </a:ln>
        </p:spPr>
      </p:pic>
      <p:grpSp>
        <p:nvGrpSpPr>
          <p:cNvPr id="289" name="Group 3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290" name="矩形 4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十字形 6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7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8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矩形 9"/>
          <p:cNvSpPr/>
          <p:nvPr/>
        </p:nvSpPr>
        <p:spPr>
          <a:xfrm>
            <a:off x="2078280" y="231840"/>
            <a:ext cx="480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组织与员工的“隐形合约”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0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2"/>
          <p:cNvSpPr/>
          <p:nvPr/>
        </p:nvSpPr>
        <p:spPr>
          <a:xfrm>
            <a:off x="1325520" y="1550880"/>
            <a:ext cx="9186840" cy="1501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4" descr=""/>
          <p:cNvPicPr/>
          <p:nvPr/>
        </p:nvPicPr>
        <p:blipFill>
          <a:blip r:embed="rId2"/>
          <a:stretch/>
        </p:blipFill>
        <p:spPr>
          <a:xfrm>
            <a:off x="7302600" y="3871800"/>
            <a:ext cx="3454200" cy="2303640"/>
          </a:xfrm>
          <a:prstGeom prst="rect">
            <a:avLst/>
          </a:prstGeom>
          <a:ln w="28440">
            <a:solidFill>
              <a:srgbClr val="0089f0"/>
            </a:solidFill>
            <a:miter/>
          </a:ln>
        </p:spPr>
      </p:pic>
      <p:sp>
        <p:nvSpPr>
          <p:cNvPr id="299" name="矩形 16"/>
          <p:cNvSpPr/>
          <p:nvPr/>
        </p:nvSpPr>
        <p:spPr>
          <a:xfrm>
            <a:off x="1619280" y="1749600"/>
            <a:ext cx="9185400" cy="15015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1711440" y="1973160"/>
            <a:ext cx="92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方都想方设法以更快的速度从对方那里攫取更多，然后自顾自的往前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1"/>
          <p:cNvSpPr/>
          <p:nvPr/>
        </p:nvSpPr>
        <p:spPr>
          <a:xfrm>
            <a:off x="5419800" y="3992400"/>
            <a:ext cx="1249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28"/>
          <p:cNvSpPr/>
          <p:nvPr/>
        </p:nvSpPr>
        <p:spPr>
          <a:xfrm>
            <a:off x="1187280" y="4226040"/>
            <a:ext cx="1698840" cy="1698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9"/>
          <p:cNvSpPr/>
          <p:nvPr/>
        </p:nvSpPr>
        <p:spPr>
          <a:xfrm>
            <a:off x="1378080" y="4375080"/>
            <a:ext cx="1698480" cy="16988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7"/>
          <p:cNvSpPr/>
          <p:nvPr/>
        </p:nvSpPr>
        <p:spPr>
          <a:xfrm>
            <a:off x="1187280" y="1681200"/>
            <a:ext cx="1698840" cy="16970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6"/>
          <p:cNvSpPr/>
          <p:nvPr/>
        </p:nvSpPr>
        <p:spPr>
          <a:xfrm>
            <a:off x="1378080" y="1830240"/>
            <a:ext cx="1698480" cy="16988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6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307" name="矩形 4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5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十字形 6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7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8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矩形 9"/>
          <p:cNvSpPr/>
          <p:nvPr/>
        </p:nvSpPr>
        <p:spPr>
          <a:xfrm>
            <a:off x="2042640" y="23184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从内打破，帮助员工补充能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0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"/>
          <p:cNvSpPr/>
          <p:nvPr/>
        </p:nvSpPr>
        <p:spPr>
          <a:xfrm>
            <a:off x="2673360" y="2043000"/>
            <a:ext cx="8315280" cy="1738440"/>
          </a:xfrm>
          <a:prstGeom prst="rect">
            <a:avLst/>
          </a:prstGeom>
          <a:noFill/>
          <a:ln w="28440">
            <a:solidFill>
              <a:srgbClr val="0089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2666880" y="4592520"/>
            <a:ext cx="8313840" cy="1738440"/>
          </a:xfrm>
          <a:prstGeom prst="rect">
            <a:avLst/>
          </a:prstGeom>
          <a:noFill/>
          <a:ln w="28440">
            <a:solidFill>
              <a:srgbClr val="0089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670200" y="2451240"/>
            <a:ext cx="56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认同观念并给予坚定的支持</a:t>
            </a: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个人先做出表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3"/>
          <p:cNvSpPr/>
          <p:nvPr/>
        </p:nvSpPr>
        <p:spPr>
          <a:xfrm>
            <a:off x="3670200" y="49608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调整政策、改变行事方法和文化信息，支持员工改变行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1926360" y="197964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5"/>
          <p:cNvSpPr/>
          <p:nvPr/>
        </p:nvSpPr>
        <p:spPr>
          <a:xfrm>
            <a:off x="1926360" y="453240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织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4" descr=""/>
          <p:cNvPicPr/>
          <p:nvPr/>
        </p:nvPicPr>
        <p:blipFill>
          <a:blip r:embed="rId1"/>
          <a:stretch/>
        </p:blipFill>
        <p:spPr>
          <a:xfrm>
            <a:off x="7715160" y="1866960"/>
            <a:ext cx="4476960" cy="2982960"/>
          </a:xfrm>
          <a:prstGeom prst="rect">
            <a:avLst/>
          </a:prstGeom>
          <a:ln w="0">
            <a:noFill/>
          </a:ln>
        </p:spPr>
      </p:pic>
      <p:sp>
        <p:nvSpPr>
          <p:cNvPr id="321" name="矩形 4"/>
          <p:cNvSpPr/>
          <p:nvPr/>
        </p:nvSpPr>
        <p:spPr>
          <a:xfrm>
            <a:off x="0" y="1866960"/>
            <a:ext cx="7711920" cy="29844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5"/>
          <p:cNvSpPr/>
          <p:nvPr/>
        </p:nvSpPr>
        <p:spPr>
          <a:xfrm>
            <a:off x="235080" y="2062080"/>
            <a:ext cx="731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</a:t>
            </a: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对决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6"/>
          <p:cNvSpPr/>
          <p:nvPr/>
        </p:nvSpPr>
        <p:spPr>
          <a:xfrm>
            <a:off x="2279520" y="3936960"/>
            <a:ext cx="54324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7"/>
          <p:cNvSpPr/>
          <p:nvPr/>
        </p:nvSpPr>
        <p:spPr>
          <a:xfrm>
            <a:off x="7711920" y="3936960"/>
            <a:ext cx="2032200" cy="5238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3910320" y="2851200"/>
            <a:ext cx="27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利才能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赢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EEB-263D-4F48-A921-0AD521BCCBFB}" type="slidenum">
              <a:t>18</a:t>
            </a:fld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69C8-0F85-4428-B373-1EDBC5A106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1433160" y="2318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任务量增加，组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9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1"/>
          <p:cNvSpPr/>
          <p:nvPr/>
        </p:nvSpPr>
        <p:spPr>
          <a:xfrm>
            <a:off x="4873680" y="1712880"/>
            <a:ext cx="38840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关系链条越拧越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 rot="20496000">
            <a:off x="2425680" y="3420720"/>
            <a:ext cx="9045720" cy="38559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62" name="矩形 27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28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十字形 10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3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2" descr=""/>
          <p:cNvPicPr/>
          <p:nvPr/>
        </p:nvPicPr>
        <p:blipFill>
          <a:blip r:embed="rId2"/>
          <a:stretch/>
        </p:blipFill>
        <p:spPr>
          <a:xfrm>
            <a:off x="-358920" y="758880"/>
            <a:ext cx="3289320" cy="4941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3"/>
          <p:cNvSpPr/>
          <p:nvPr/>
        </p:nvSpPr>
        <p:spPr>
          <a:xfrm>
            <a:off x="2164680" y="23184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工作量增加，个人</a:t>
            </a:r>
            <a:r>
              <a:rPr b="0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条越拧越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9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71" name="矩形 27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8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十字形 10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4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3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2" descr=""/>
          <p:cNvPicPr/>
          <p:nvPr/>
        </p:nvPicPr>
        <p:blipFill>
          <a:blip r:embed="rId1"/>
          <a:stretch/>
        </p:blipFill>
        <p:spPr>
          <a:xfrm>
            <a:off x="9429840" y="1868400"/>
            <a:ext cx="2406600" cy="3603600"/>
          </a:xfrm>
          <a:prstGeom prst="rect">
            <a:avLst/>
          </a:prstGeom>
          <a:ln w="28440">
            <a:solidFill>
              <a:srgbClr val="0089f0"/>
            </a:solidFill>
            <a:miter/>
          </a:ln>
        </p:spPr>
      </p:pic>
      <p:pic>
        <p:nvPicPr>
          <p:cNvPr id="77" name="图片 5" descr=""/>
          <p:cNvPicPr/>
          <p:nvPr/>
        </p:nvPicPr>
        <p:blipFill>
          <a:blip r:embed="rId2"/>
          <a:stretch/>
        </p:blipFill>
        <p:spPr>
          <a:xfrm>
            <a:off x="376200" y="1873080"/>
            <a:ext cx="5396040" cy="3597480"/>
          </a:xfrm>
          <a:prstGeom prst="rect">
            <a:avLst/>
          </a:prstGeom>
          <a:ln w="28440">
            <a:solidFill>
              <a:srgbClr val="0089f0"/>
            </a:solidFill>
            <a:miter/>
          </a:ln>
        </p:spPr>
      </p:pic>
      <p:sp>
        <p:nvSpPr>
          <p:cNvPr id="78" name="矩形 14"/>
          <p:cNvSpPr/>
          <p:nvPr/>
        </p:nvSpPr>
        <p:spPr>
          <a:xfrm>
            <a:off x="6027840" y="1860480"/>
            <a:ext cx="3146400" cy="3622680"/>
          </a:xfrm>
          <a:prstGeom prst="rect">
            <a:avLst/>
          </a:prstGeom>
          <a:solidFill>
            <a:srgbClr val="5b9bd5"/>
          </a:solidFill>
          <a:ln w="2844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6926040" y="1779480"/>
            <a:ext cx="1338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吃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睡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娱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81" name="矩形 6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7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十字形 10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1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2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图片 15" descr=""/>
          <p:cNvPicPr/>
          <p:nvPr/>
        </p:nvPicPr>
        <p:blipFill>
          <a:blip r:embed="rId1"/>
          <a:stretch/>
        </p:blipFill>
        <p:spPr>
          <a:xfrm>
            <a:off x="366840" y="2033640"/>
            <a:ext cx="5729040" cy="3814560"/>
          </a:xfrm>
          <a:prstGeom prst="rect">
            <a:avLst/>
          </a:prstGeom>
          <a:ln w="28440">
            <a:solidFill>
              <a:srgbClr val="0089f0"/>
            </a:solidFill>
            <a:miter/>
          </a:ln>
        </p:spPr>
      </p:pic>
      <p:grpSp>
        <p:nvGrpSpPr>
          <p:cNvPr id="87" name="Group 9"/>
          <p:cNvGrpSpPr/>
          <p:nvPr/>
        </p:nvGrpSpPr>
        <p:grpSpPr>
          <a:xfrm>
            <a:off x="6909120" y="2179800"/>
            <a:ext cx="4291200" cy="3665160"/>
            <a:chOff x="6909120" y="2179800"/>
            <a:chExt cx="4291200" cy="3665160"/>
          </a:xfrm>
        </p:grpSpPr>
        <p:sp>
          <p:nvSpPr>
            <p:cNvPr id="88" name="矩形 9"/>
            <p:cNvSpPr/>
            <p:nvPr/>
          </p:nvSpPr>
          <p:spPr>
            <a:xfrm>
              <a:off x="7225560" y="3776760"/>
              <a:ext cx="26496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工作积极性</a:t>
              </a:r>
              <a:r>
                <a:rPr b="0" lang="zh-CN" sz="5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降低</a:t>
              </a:r>
              <a:r>
                <a:rPr b="0" lang="zh-CN" sz="36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6"/>
            <p:cNvSpPr/>
            <p:nvPr/>
          </p:nvSpPr>
          <p:spPr>
            <a:xfrm>
              <a:off x="7089120" y="2179800"/>
              <a:ext cx="223812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筋疲力尽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6909120" y="3093480"/>
              <a:ext cx="164376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睡眠</a:t>
              </a:r>
              <a:r>
                <a:rPr b="0" lang="zh-CN" sz="4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不足</a:t>
              </a:r>
              <a:r>
                <a:rPr b="0" lang="zh-CN" sz="32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8"/>
            <p:cNvSpPr/>
            <p:nvPr/>
          </p:nvSpPr>
          <p:spPr>
            <a:xfrm>
              <a:off x="9556560" y="3079800"/>
              <a:ext cx="1643760" cy="11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精力</a:t>
              </a:r>
              <a:r>
                <a:rPr b="0" lang="zh-CN" sz="4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涣散</a:t>
              </a:r>
              <a:r>
                <a:rPr b="0" lang="zh-CN" sz="32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9"/>
            <p:cNvSpPr/>
            <p:nvPr/>
          </p:nvSpPr>
          <p:spPr>
            <a:xfrm>
              <a:off x="7502760" y="4470840"/>
              <a:ext cx="338112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离职率</a:t>
              </a:r>
              <a:r>
                <a:rPr b="0" lang="zh-CN" sz="60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居高不下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27"/>
          <p:cNvSpPr/>
          <p:nvPr/>
        </p:nvSpPr>
        <p:spPr>
          <a:xfrm>
            <a:off x="290520" y="243000"/>
            <a:ext cx="98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延长工作时间能提高绩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8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0"/>
          <p:cNvSpPr/>
          <p:nvPr/>
        </p:nvSpPr>
        <p:spPr>
          <a:xfrm>
            <a:off x="2986200" y="4451400"/>
            <a:ext cx="3014640" cy="1191240"/>
          </a:xfrm>
          <a:prstGeom prst="rect">
            <a:avLst/>
          </a:prstGeom>
          <a:noFill/>
          <a:ln w="381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直接连接符 6"/>
          <p:cNvSpPr/>
          <p:nvPr/>
        </p:nvSpPr>
        <p:spPr>
          <a:xfrm>
            <a:off x="68400" y="4430880"/>
            <a:ext cx="9720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4"/>
          <p:cNvSpPr/>
          <p:nvPr/>
        </p:nvSpPr>
        <p:spPr>
          <a:xfrm>
            <a:off x="0" y="1951200"/>
            <a:ext cx="12192120" cy="38019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380880" y="428760"/>
            <a:ext cx="3525840" cy="5295600"/>
          </a:xfrm>
          <a:prstGeom prst="rect">
            <a:avLst/>
          </a:prstGeom>
          <a:ln w="28440">
            <a:solidFill>
              <a:srgbClr val="0089f0"/>
            </a:solidFill>
            <a:miter/>
          </a:ln>
        </p:spPr>
      </p:pic>
      <p:sp>
        <p:nvSpPr>
          <p:cNvPr id="99" name="矩形 7"/>
          <p:cNvSpPr/>
          <p:nvPr/>
        </p:nvSpPr>
        <p:spPr>
          <a:xfrm>
            <a:off x="4305240" y="22240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是一种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限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量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则不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有限时间内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效工作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"/>
          <p:cNvSpPr/>
          <p:nvPr/>
        </p:nvSpPr>
        <p:spPr>
          <a:xfrm>
            <a:off x="4287960" y="2108160"/>
            <a:ext cx="888840" cy="793800"/>
          </a:xfrm>
          <a:custGeom>
            <a:avLst/>
            <a:gdLst>
              <a:gd name="textAreaLeft" fmla="*/ 0 w 888840"/>
              <a:gd name="textAreaRight" fmla="*/ 889200 w 88884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3172" h="2597">
                <a:moveTo>
                  <a:pt x="0" y="2597"/>
                </a:moveTo>
                <a:lnTo>
                  <a:pt x="0" y="1579"/>
                </a:lnTo>
                <a:lnTo>
                  <a:pt x="926" y="0"/>
                </a:lnTo>
                <a:lnTo>
                  <a:pt x="1347" y="0"/>
                </a:lnTo>
                <a:lnTo>
                  <a:pt x="682" y="1425"/>
                </a:lnTo>
                <a:lnTo>
                  <a:pt x="1170" y="1425"/>
                </a:lnTo>
                <a:lnTo>
                  <a:pt x="1170" y="2597"/>
                </a:lnTo>
                <a:lnTo>
                  <a:pt x="0" y="2597"/>
                </a:lnTo>
                <a:close/>
                <a:moveTo>
                  <a:pt x="1775" y="2597"/>
                </a:moveTo>
                <a:lnTo>
                  <a:pt x="1775" y="1579"/>
                </a:lnTo>
                <a:lnTo>
                  <a:pt x="2732" y="0"/>
                </a:lnTo>
                <a:lnTo>
                  <a:pt x="3172" y="0"/>
                </a:lnTo>
                <a:lnTo>
                  <a:pt x="2476" y="1425"/>
                </a:lnTo>
                <a:lnTo>
                  <a:pt x="2968" y="1425"/>
                </a:lnTo>
                <a:lnTo>
                  <a:pt x="2968" y="2597"/>
                </a:lnTo>
                <a:lnTo>
                  <a:pt x="1775" y="2597"/>
                </a:lnTo>
                <a:close/>
              </a:path>
            </a:pathLst>
          </a:cu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 rot="10800000">
            <a:off x="11217240" y="4919400"/>
            <a:ext cx="517680" cy="563400"/>
          </a:xfrm>
          <a:custGeom>
            <a:avLst/>
            <a:gdLst>
              <a:gd name="textAreaLeft" fmla="*/ 0 w 517680"/>
              <a:gd name="textAreaRight" fmla="*/ 518040 w 51768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3172" h="2597">
                <a:moveTo>
                  <a:pt x="0" y="2597"/>
                </a:moveTo>
                <a:lnTo>
                  <a:pt x="0" y="1579"/>
                </a:lnTo>
                <a:lnTo>
                  <a:pt x="926" y="0"/>
                </a:lnTo>
                <a:lnTo>
                  <a:pt x="1347" y="0"/>
                </a:lnTo>
                <a:lnTo>
                  <a:pt x="682" y="1425"/>
                </a:lnTo>
                <a:lnTo>
                  <a:pt x="1170" y="1425"/>
                </a:lnTo>
                <a:lnTo>
                  <a:pt x="1170" y="2597"/>
                </a:lnTo>
                <a:lnTo>
                  <a:pt x="0" y="2597"/>
                </a:lnTo>
                <a:close/>
                <a:moveTo>
                  <a:pt x="1775" y="2597"/>
                </a:moveTo>
                <a:lnTo>
                  <a:pt x="1775" y="1579"/>
                </a:lnTo>
                <a:lnTo>
                  <a:pt x="2732" y="0"/>
                </a:lnTo>
                <a:lnTo>
                  <a:pt x="3172" y="0"/>
                </a:lnTo>
                <a:lnTo>
                  <a:pt x="2476" y="1425"/>
                </a:lnTo>
                <a:lnTo>
                  <a:pt x="2968" y="1425"/>
                </a:lnTo>
                <a:lnTo>
                  <a:pt x="2968" y="2597"/>
                </a:lnTo>
                <a:lnTo>
                  <a:pt x="1775" y="2597"/>
                </a:lnTo>
                <a:close/>
              </a:path>
            </a:pathLst>
          </a:cu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接连接符 91"/>
          <p:cNvSpPr/>
          <p:nvPr/>
        </p:nvSpPr>
        <p:spPr>
          <a:xfrm>
            <a:off x="10533240" y="5222880"/>
            <a:ext cx="2880" cy="539640"/>
          </a:xfrm>
          <a:prstGeom prst="line">
            <a:avLst/>
          </a:prstGeom>
          <a:ln w="28440">
            <a:solidFill>
              <a:srgbClr val="0089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2408400" y="231840"/>
            <a:ext cx="639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能量补充计划为美联银行创造高绩效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6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106" name="矩形 19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十字形 21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22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3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矩形 64"/>
          <p:cNvSpPr/>
          <p:nvPr/>
        </p:nvSpPr>
        <p:spPr>
          <a:xfrm>
            <a:off x="1647720" y="1631880"/>
            <a:ext cx="365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f0"/>
                </a:solidFill>
                <a:latin typeface="Impact"/>
                <a:ea typeface="微软雅黑"/>
              </a:rPr>
              <a:t>68%</a:t>
            </a:r>
            <a:r>
              <a:rPr b="0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的人表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与客户关系方面产生积极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5"/>
          <p:cNvSpPr/>
          <p:nvPr/>
        </p:nvSpPr>
        <p:spPr>
          <a:xfrm>
            <a:off x="1673280" y="4270320"/>
            <a:ext cx="365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f0"/>
                </a:solidFill>
                <a:latin typeface="Impact"/>
                <a:ea typeface="微软雅黑"/>
              </a:rPr>
              <a:t>71%</a:t>
            </a:r>
            <a:r>
              <a:rPr b="0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的人表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生产力绩效方面产生积极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6889680" y="1414440"/>
            <a:ext cx="4581720" cy="4594320"/>
            <a:chOff x="6889680" y="1414440"/>
            <a:chExt cx="4581720" cy="4594320"/>
          </a:xfrm>
        </p:grpSpPr>
        <p:sp>
          <p:nvSpPr>
            <p:cNvPr id="114" name="任意多边形 48"/>
            <p:cNvSpPr/>
            <p:nvPr/>
          </p:nvSpPr>
          <p:spPr>
            <a:xfrm>
              <a:off x="7644960" y="1982520"/>
              <a:ext cx="2823480" cy="470880"/>
            </a:xfrm>
            <a:custGeom>
              <a:avLst/>
              <a:gdLst>
                <a:gd name="textAreaLeft" fmla="*/ 0 w 2823480"/>
                <a:gd name="textAreaRight" fmla="*/ 2823840 w 282348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1365663" h="296883">
                  <a:moveTo>
                    <a:pt x="0" y="296883"/>
                  </a:moveTo>
                  <a:lnTo>
                    <a:pt x="1365663" y="285007"/>
                  </a:lnTo>
                  <a:lnTo>
                    <a:pt x="1258785" y="0"/>
                  </a:lnTo>
                  <a:lnTo>
                    <a:pt x="0" y="106878"/>
                  </a:lnTo>
                  <a:lnTo>
                    <a:pt x="0" y="296883"/>
                  </a:lnTo>
                  <a:close/>
                </a:path>
              </a:pathLst>
            </a:cu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49"/>
            <p:cNvSpPr/>
            <p:nvPr/>
          </p:nvSpPr>
          <p:spPr>
            <a:xfrm>
              <a:off x="7644960" y="2614320"/>
              <a:ext cx="2324880" cy="424080"/>
            </a:xfrm>
            <a:custGeom>
              <a:avLst/>
              <a:gdLst>
                <a:gd name="textAreaLeft" fmla="*/ 0 w 2324880"/>
                <a:gd name="textAreaRight" fmla="*/ 2325240 w 23248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591294" h="273132">
                  <a:moveTo>
                    <a:pt x="0" y="71252"/>
                  </a:moveTo>
                  <a:lnTo>
                    <a:pt x="0" y="273132"/>
                  </a:lnTo>
                  <a:lnTo>
                    <a:pt x="1508167" y="249382"/>
                  </a:lnTo>
                  <a:lnTo>
                    <a:pt x="1591294" y="0"/>
                  </a:lnTo>
                  <a:lnTo>
                    <a:pt x="0" y="7125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53"/>
            <p:cNvSpPr/>
            <p:nvPr/>
          </p:nvSpPr>
          <p:spPr>
            <a:xfrm>
              <a:off x="7644960" y="4596120"/>
              <a:ext cx="2921040" cy="470880"/>
            </a:xfrm>
            <a:custGeom>
              <a:avLst/>
              <a:gdLst>
                <a:gd name="textAreaLeft" fmla="*/ 0 w 2921040"/>
                <a:gd name="textAreaRight" fmla="*/ 2921040 w 292104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1365663" h="296883">
                  <a:moveTo>
                    <a:pt x="0" y="296883"/>
                  </a:moveTo>
                  <a:lnTo>
                    <a:pt x="1365663" y="285007"/>
                  </a:lnTo>
                  <a:lnTo>
                    <a:pt x="1258785" y="0"/>
                  </a:lnTo>
                  <a:lnTo>
                    <a:pt x="0" y="106878"/>
                  </a:lnTo>
                  <a:lnTo>
                    <a:pt x="0" y="296883"/>
                  </a:lnTo>
                  <a:close/>
                </a:path>
              </a:pathLst>
            </a:cu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54"/>
            <p:cNvSpPr/>
            <p:nvPr/>
          </p:nvSpPr>
          <p:spPr>
            <a:xfrm>
              <a:off x="7644960" y="5227920"/>
              <a:ext cx="1888200" cy="424080"/>
            </a:xfrm>
            <a:custGeom>
              <a:avLst/>
              <a:gdLst>
                <a:gd name="textAreaLeft" fmla="*/ 0 w 1888200"/>
                <a:gd name="textAreaRight" fmla="*/ 1888560 w 18882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591294" h="273132">
                  <a:moveTo>
                    <a:pt x="0" y="71252"/>
                  </a:moveTo>
                  <a:lnTo>
                    <a:pt x="0" y="273132"/>
                  </a:lnTo>
                  <a:lnTo>
                    <a:pt x="1508167" y="249382"/>
                  </a:lnTo>
                  <a:lnTo>
                    <a:pt x="1591294" y="0"/>
                  </a:lnTo>
                  <a:lnTo>
                    <a:pt x="0" y="7125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56"/>
            <p:cNvSpPr/>
            <p:nvPr/>
          </p:nvSpPr>
          <p:spPr>
            <a:xfrm>
              <a:off x="7644960" y="1414440"/>
              <a:ext cx="0" cy="19652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57"/>
            <p:cNvSpPr/>
            <p:nvPr/>
          </p:nvSpPr>
          <p:spPr>
            <a:xfrm>
              <a:off x="7644960" y="4043520"/>
              <a:ext cx="0" cy="196524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8"/>
            <p:cNvSpPr/>
            <p:nvPr/>
          </p:nvSpPr>
          <p:spPr>
            <a:xfrm>
              <a:off x="7644960" y="3379680"/>
              <a:ext cx="3826440" cy="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62"/>
            <p:cNvSpPr/>
            <p:nvPr/>
          </p:nvSpPr>
          <p:spPr>
            <a:xfrm>
              <a:off x="7644960" y="6008760"/>
              <a:ext cx="3826440" cy="0"/>
            </a:xfrm>
            <a:prstGeom prst="line">
              <a:avLst/>
            </a:prstGeom>
            <a:ln w="284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66"/>
            <p:cNvSpPr/>
            <p:nvPr/>
          </p:nvSpPr>
          <p:spPr>
            <a:xfrm>
              <a:off x="6889680" y="1419120"/>
              <a:ext cx="607320" cy="947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贷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67"/>
            <p:cNvSpPr/>
            <p:nvPr/>
          </p:nvSpPr>
          <p:spPr>
            <a:xfrm>
              <a:off x="6889680" y="4030560"/>
              <a:ext cx="607320" cy="947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存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8"/>
            <p:cNvSpPr/>
            <p:nvPr/>
          </p:nvSpPr>
          <p:spPr>
            <a:xfrm>
              <a:off x="7792920" y="20887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69"/>
            <p:cNvSpPr/>
            <p:nvPr/>
          </p:nvSpPr>
          <p:spPr>
            <a:xfrm>
              <a:off x="7792920" y="266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照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70"/>
            <p:cNvSpPr/>
            <p:nvPr/>
          </p:nvSpPr>
          <p:spPr>
            <a:xfrm>
              <a:off x="7792920" y="4695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71"/>
            <p:cNvSpPr/>
            <p:nvPr/>
          </p:nvSpPr>
          <p:spPr>
            <a:xfrm>
              <a:off x="7792920" y="52671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照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矩形 73"/>
          <p:cNvSpPr/>
          <p:nvPr/>
        </p:nvSpPr>
        <p:spPr>
          <a:xfrm>
            <a:off x="7535880" y="3355920"/>
            <a:ext cx="36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0     10     20     30     40    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4"/>
          <p:cNvSpPr/>
          <p:nvPr/>
        </p:nvSpPr>
        <p:spPr>
          <a:xfrm>
            <a:off x="7535880" y="6008760"/>
            <a:ext cx="36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0     10     20     30     40    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79"/>
          <p:cNvSpPr/>
          <p:nvPr/>
        </p:nvSpPr>
        <p:spPr>
          <a:xfrm flipH="1">
            <a:off x="9965880" y="2468520"/>
            <a:ext cx="9720" cy="539640"/>
          </a:xfrm>
          <a:prstGeom prst="line">
            <a:avLst/>
          </a:prstGeom>
          <a:ln w="28440">
            <a:solidFill>
              <a:srgbClr val="0089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81"/>
          <p:cNvSpPr/>
          <p:nvPr/>
        </p:nvSpPr>
        <p:spPr>
          <a:xfrm>
            <a:off x="10461600" y="2468520"/>
            <a:ext cx="3240" cy="539640"/>
          </a:xfrm>
          <a:prstGeom prst="line">
            <a:avLst/>
          </a:prstGeom>
          <a:ln w="28440">
            <a:solidFill>
              <a:srgbClr val="0089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等腰三角形 84"/>
          <p:cNvSpPr/>
          <p:nvPr/>
        </p:nvSpPr>
        <p:spPr>
          <a:xfrm rot="14326200">
            <a:off x="10257480" y="2183040"/>
            <a:ext cx="689040" cy="95724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5"/>
          <p:cNvSpPr/>
          <p:nvPr/>
        </p:nvSpPr>
        <p:spPr>
          <a:xfrm>
            <a:off x="10828440" y="2124000"/>
            <a:ext cx="639720" cy="639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6"/>
          <p:cNvSpPr/>
          <p:nvPr/>
        </p:nvSpPr>
        <p:spPr>
          <a:xfrm>
            <a:off x="10667520" y="2222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微软雅黑"/>
              </a:rPr>
              <a:t>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87"/>
          <p:cNvSpPr/>
          <p:nvPr/>
        </p:nvSpPr>
        <p:spPr>
          <a:xfrm rot="14326200">
            <a:off x="10389240" y="4643640"/>
            <a:ext cx="711000" cy="13860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8"/>
          <p:cNvSpPr/>
          <p:nvPr/>
        </p:nvSpPr>
        <p:spPr>
          <a:xfrm>
            <a:off x="11139480" y="4670280"/>
            <a:ext cx="731880" cy="733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9"/>
          <p:cNvSpPr/>
          <p:nvPr/>
        </p:nvSpPr>
        <p:spPr>
          <a:xfrm>
            <a:off x="11051640" y="47451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微软雅黑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90"/>
          <p:cNvSpPr/>
          <p:nvPr/>
        </p:nvSpPr>
        <p:spPr>
          <a:xfrm flipH="1">
            <a:off x="9545760" y="5222880"/>
            <a:ext cx="9360" cy="539640"/>
          </a:xfrm>
          <a:prstGeom prst="line">
            <a:avLst/>
          </a:prstGeom>
          <a:ln w="28440">
            <a:solidFill>
              <a:srgbClr val="0089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"/>
          <p:cNvSpPr/>
          <p:nvPr/>
        </p:nvSpPr>
        <p:spPr>
          <a:xfrm>
            <a:off x="334800" y="3809880"/>
            <a:ext cx="11660400" cy="180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8"/>
          <p:cNvSpPr/>
          <p:nvPr/>
        </p:nvSpPr>
        <p:spPr>
          <a:xfrm>
            <a:off x="1752480" y="3990960"/>
            <a:ext cx="6899400" cy="17478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7"/>
          <p:cNvSpPr/>
          <p:nvPr/>
        </p:nvSpPr>
        <p:spPr>
          <a:xfrm>
            <a:off x="1971720" y="4199040"/>
            <a:ext cx="6899400" cy="17478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143" name="矩形 4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5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十字形 6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7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8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9"/>
          <p:cNvSpPr/>
          <p:nvPr/>
        </p:nvSpPr>
        <p:spPr>
          <a:xfrm>
            <a:off x="1798920" y="23184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高能量创造高绩效的秘密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0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1" descr=""/>
          <p:cNvPicPr/>
          <p:nvPr/>
        </p:nvPicPr>
        <p:blipFill>
          <a:blip r:embed="rId1"/>
          <a:stretch/>
        </p:blipFill>
        <p:spPr>
          <a:xfrm>
            <a:off x="8267760" y="1508040"/>
            <a:ext cx="3575160" cy="536904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2340360" y="1860480"/>
            <a:ext cx="240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89f0"/>
                </a:solidFill>
                <a:latin typeface="微软雅黑"/>
                <a:ea typeface="微软雅黑"/>
              </a:rPr>
              <a:t>习 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3531600" y="4251240"/>
            <a:ext cx="38383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谓特定的习惯，就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意识地按照严格的时间表进行日常活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尽快使它们转变为无意识的、自觉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1198800" y="19080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497880" y="1960560"/>
            <a:ext cx="2882160" cy="2923560"/>
            <a:chOff x="497880" y="1960560"/>
            <a:chExt cx="2882160" cy="2923560"/>
          </a:xfrm>
        </p:grpSpPr>
        <p:sp>
          <p:nvSpPr>
            <p:cNvPr id="155" name="椭圆 35"/>
            <p:cNvSpPr/>
            <p:nvPr/>
          </p:nvSpPr>
          <p:spPr>
            <a:xfrm rot="15093000">
              <a:off x="775080" y="2291040"/>
              <a:ext cx="2327400" cy="2261880"/>
            </a:xfrm>
            <a:prstGeom prst="ellipse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36"/>
            <p:cNvSpPr/>
            <p:nvPr/>
          </p:nvSpPr>
          <p:spPr>
            <a:xfrm>
              <a:off x="819720" y="2285640"/>
              <a:ext cx="2184840" cy="21859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3"/>
          <p:cNvSpPr/>
          <p:nvPr/>
        </p:nvSpPr>
        <p:spPr>
          <a:xfrm>
            <a:off x="2042640" y="23184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9f0"/>
                </a:solidFill>
                <a:latin typeface="微软雅黑"/>
                <a:ea typeface="微软雅黑"/>
              </a:rPr>
              <a:t>四大源泉为人类系统补充能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6"/>
          <p:cNvSpPr/>
          <p:nvPr/>
        </p:nvSpPr>
        <p:spPr>
          <a:xfrm>
            <a:off x="334800" y="1046160"/>
            <a:ext cx="9720360" cy="1440"/>
          </a:xfrm>
          <a:prstGeom prst="line">
            <a:avLst/>
          </a:prstGeom>
          <a:ln w="3816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1336680" y="2616120"/>
            <a:ext cx="1496880" cy="1556280"/>
            <a:chOff x="1336680" y="2616120"/>
            <a:chExt cx="1496880" cy="1556280"/>
          </a:xfrm>
        </p:grpSpPr>
        <p:sp>
          <p:nvSpPr>
            <p:cNvPr id="160" name="Freeform 35"/>
            <p:cNvSpPr/>
            <p:nvPr/>
          </p:nvSpPr>
          <p:spPr>
            <a:xfrm>
              <a:off x="2048400" y="3015720"/>
              <a:ext cx="785160" cy="80784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4"/>
            <p:cNvSpPr/>
            <p:nvPr/>
          </p:nvSpPr>
          <p:spPr>
            <a:xfrm>
              <a:off x="1336680" y="261612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0"/>
          <p:cNvGrpSpPr/>
          <p:nvPr/>
        </p:nvGrpSpPr>
        <p:grpSpPr>
          <a:xfrm>
            <a:off x="10564920" y="299880"/>
            <a:ext cx="1284840" cy="1304640"/>
            <a:chOff x="10564920" y="299880"/>
            <a:chExt cx="1284840" cy="1304640"/>
          </a:xfrm>
        </p:grpSpPr>
        <p:sp>
          <p:nvSpPr>
            <p:cNvPr id="163" name="矩形 19"/>
            <p:cNvSpPr/>
            <p:nvPr/>
          </p:nvSpPr>
          <p:spPr>
            <a:xfrm>
              <a:off x="11374200" y="1046880"/>
              <a:ext cx="475560" cy="47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0"/>
            <p:cNvSpPr/>
            <p:nvPr/>
          </p:nvSpPr>
          <p:spPr>
            <a:xfrm>
              <a:off x="10564920" y="306000"/>
              <a:ext cx="906120" cy="9057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十字形 21"/>
            <p:cNvSpPr/>
            <p:nvPr/>
          </p:nvSpPr>
          <p:spPr>
            <a:xfrm>
              <a:off x="10565640" y="299880"/>
              <a:ext cx="394920" cy="394560"/>
            </a:xfrm>
            <a:prstGeom prst="plus">
              <a:avLst>
                <a:gd name="adj" fmla="val 3425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2"/>
            <p:cNvSpPr/>
            <p:nvPr/>
          </p:nvSpPr>
          <p:spPr>
            <a:xfrm>
              <a:off x="10873800" y="5396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3"/>
            <p:cNvSpPr/>
            <p:nvPr/>
          </p:nvSpPr>
          <p:spPr>
            <a:xfrm>
              <a:off x="11399400" y="1023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24"/>
          <p:cNvSpPr/>
          <p:nvPr/>
        </p:nvSpPr>
        <p:spPr>
          <a:xfrm>
            <a:off x="1359720" y="47829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好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产生高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7"/>
          <p:cNvSpPr/>
          <p:nvPr/>
        </p:nvSpPr>
        <p:spPr>
          <a:xfrm>
            <a:off x="3976560" y="47829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好情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高能量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8"/>
          <p:cNvSpPr/>
          <p:nvPr/>
        </p:nvSpPr>
        <p:spPr>
          <a:xfrm>
            <a:off x="6837120" y="47829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集中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加强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9"/>
          <p:cNvSpPr/>
          <p:nvPr/>
        </p:nvSpPr>
        <p:spPr>
          <a:xfrm>
            <a:off x="9699480" y="47829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精神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激发能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40"/>
          <p:cNvSpPr/>
          <p:nvPr/>
        </p:nvSpPr>
        <p:spPr>
          <a:xfrm>
            <a:off x="1017720" y="5603760"/>
            <a:ext cx="180000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41"/>
          <p:cNvSpPr/>
          <p:nvPr/>
        </p:nvSpPr>
        <p:spPr>
          <a:xfrm>
            <a:off x="1017720" y="4829040"/>
            <a:ext cx="180000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42"/>
          <p:cNvSpPr/>
          <p:nvPr/>
        </p:nvSpPr>
        <p:spPr>
          <a:xfrm>
            <a:off x="3706920" y="5605560"/>
            <a:ext cx="180000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43"/>
          <p:cNvSpPr/>
          <p:nvPr/>
        </p:nvSpPr>
        <p:spPr>
          <a:xfrm>
            <a:off x="3706920" y="4829040"/>
            <a:ext cx="180000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44"/>
          <p:cNvSpPr/>
          <p:nvPr/>
        </p:nvSpPr>
        <p:spPr>
          <a:xfrm>
            <a:off x="6576840" y="5603760"/>
            <a:ext cx="180036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45"/>
          <p:cNvSpPr/>
          <p:nvPr/>
        </p:nvSpPr>
        <p:spPr>
          <a:xfrm>
            <a:off x="6576840" y="4829040"/>
            <a:ext cx="180036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46"/>
          <p:cNvSpPr/>
          <p:nvPr/>
        </p:nvSpPr>
        <p:spPr>
          <a:xfrm>
            <a:off x="9437760" y="5603760"/>
            <a:ext cx="180000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7"/>
          <p:cNvSpPr/>
          <p:nvPr/>
        </p:nvSpPr>
        <p:spPr>
          <a:xfrm>
            <a:off x="9437760" y="4829040"/>
            <a:ext cx="1800000" cy="0"/>
          </a:xfrm>
          <a:prstGeom prst="line">
            <a:avLst/>
          </a:prstGeom>
          <a:ln w="28440">
            <a:solidFill>
              <a:srgbClr val="5b9b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8"/>
          <p:cNvGrpSpPr/>
          <p:nvPr/>
        </p:nvGrpSpPr>
        <p:grpSpPr>
          <a:xfrm>
            <a:off x="6023880" y="1960560"/>
            <a:ext cx="2882520" cy="2923560"/>
            <a:chOff x="6023880" y="1960560"/>
            <a:chExt cx="2882520" cy="2923560"/>
          </a:xfrm>
        </p:grpSpPr>
        <p:grpSp>
          <p:nvGrpSpPr>
            <p:cNvPr id="181" name="Group 29"/>
            <p:cNvGrpSpPr/>
            <p:nvPr/>
          </p:nvGrpSpPr>
          <p:grpSpPr>
            <a:xfrm>
              <a:off x="6023880" y="1960560"/>
              <a:ext cx="2882520" cy="2923560"/>
              <a:chOff x="6023880" y="1960560"/>
              <a:chExt cx="2882520" cy="2923560"/>
            </a:xfrm>
          </p:grpSpPr>
          <p:sp>
            <p:nvSpPr>
              <p:cNvPr id="182" name="椭圆 25"/>
              <p:cNvSpPr/>
              <p:nvPr/>
            </p:nvSpPr>
            <p:spPr>
              <a:xfrm rot="15093000">
                <a:off x="6301080" y="2291040"/>
                <a:ext cx="2327400" cy="2262240"/>
              </a:xfrm>
              <a:prstGeom prst="ellipse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10"/>
              <p:cNvSpPr/>
              <p:nvPr/>
            </p:nvSpPr>
            <p:spPr>
              <a:xfrm>
                <a:off x="6345720" y="2285640"/>
                <a:ext cx="2185200" cy="2185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矩形 16"/>
            <p:cNvSpPr/>
            <p:nvPr/>
          </p:nvSpPr>
          <p:spPr>
            <a:xfrm>
              <a:off x="6933240" y="261612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图片 1" descr=""/>
            <p:cNvPicPr/>
            <p:nvPr/>
          </p:nvPicPr>
          <p:blipFill>
            <a:blip r:embed="rId1"/>
            <a:stretch/>
          </p:blipFill>
          <p:spPr>
            <a:xfrm rot="244800">
              <a:off x="7509960" y="3011760"/>
              <a:ext cx="934560" cy="77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34"/>
          <p:cNvGrpSpPr/>
          <p:nvPr/>
        </p:nvGrpSpPr>
        <p:grpSpPr>
          <a:xfrm>
            <a:off x="8786160" y="1960560"/>
            <a:ext cx="2882520" cy="2923560"/>
            <a:chOff x="8786160" y="1960560"/>
            <a:chExt cx="2882520" cy="2923560"/>
          </a:xfrm>
        </p:grpSpPr>
        <p:grpSp>
          <p:nvGrpSpPr>
            <p:cNvPr id="187" name="Group 35"/>
            <p:cNvGrpSpPr/>
            <p:nvPr/>
          </p:nvGrpSpPr>
          <p:grpSpPr>
            <a:xfrm>
              <a:off x="8786160" y="1960560"/>
              <a:ext cx="2882520" cy="2923560"/>
              <a:chOff x="8786160" y="1960560"/>
              <a:chExt cx="2882520" cy="2923560"/>
            </a:xfrm>
          </p:grpSpPr>
          <p:sp>
            <p:nvSpPr>
              <p:cNvPr id="188" name="椭圆 29"/>
              <p:cNvSpPr/>
              <p:nvPr/>
            </p:nvSpPr>
            <p:spPr>
              <a:xfrm rot="15093000">
                <a:off x="9063360" y="2291040"/>
                <a:ext cx="2327400" cy="2262240"/>
              </a:xfrm>
              <a:prstGeom prst="ellipse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30"/>
              <p:cNvSpPr/>
              <p:nvPr/>
            </p:nvSpPr>
            <p:spPr>
              <a:xfrm>
                <a:off x="9108000" y="2285640"/>
                <a:ext cx="2185200" cy="2185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矩形 17"/>
            <p:cNvSpPr/>
            <p:nvPr/>
          </p:nvSpPr>
          <p:spPr>
            <a:xfrm>
              <a:off x="9735480" y="261612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神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10486440" y="2914560"/>
              <a:ext cx="569880" cy="100476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004760"/>
                <a:gd name="textAreaBottom" fmla="*/ 1005120 h 1004760"/>
              </a:gdLst>
              <a:ahLst/>
              <a:rect l="textAreaLeft" t="textAreaTop" r="textAreaRight" b="textAreaBottom"/>
              <a:pathLst>
                <a:path w="1160" h="2287">
                  <a:moveTo>
                    <a:pt x="580" y="540"/>
                  </a:moveTo>
                  <a:cubicBezTo>
                    <a:pt x="664" y="540"/>
                    <a:pt x="731" y="473"/>
                    <a:pt x="731" y="389"/>
                  </a:cubicBezTo>
                  <a:cubicBezTo>
                    <a:pt x="731" y="305"/>
                    <a:pt x="664" y="237"/>
                    <a:pt x="580" y="237"/>
                  </a:cubicBezTo>
                  <a:cubicBezTo>
                    <a:pt x="496" y="237"/>
                    <a:pt x="428" y="305"/>
                    <a:pt x="428" y="389"/>
                  </a:cubicBezTo>
                  <a:cubicBezTo>
                    <a:pt x="428" y="473"/>
                    <a:pt x="496" y="540"/>
                    <a:pt x="580" y="540"/>
                  </a:cubicBezTo>
                  <a:close/>
                  <a:moveTo>
                    <a:pt x="1109" y="22"/>
                  </a:moveTo>
                  <a:cubicBezTo>
                    <a:pt x="1071" y="0"/>
                    <a:pt x="1022" y="13"/>
                    <a:pt x="1000" y="51"/>
                  </a:cubicBezTo>
                  <a:cubicBezTo>
                    <a:pt x="691" y="587"/>
                    <a:pt x="691" y="587"/>
                    <a:pt x="691" y="587"/>
                  </a:cubicBezTo>
                  <a:cubicBezTo>
                    <a:pt x="469" y="587"/>
                    <a:pt x="469" y="587"/>
                    <a:pt x="469" y="587"/>
                  </a:cubicBezTo>
                  <a:cubicBezTo>
                    <a:pt x="159" y="51"/>
                    <a:pt x="159" y="51"/>
                    <a:pt x="159" y="51"/>
                  </a:cubicBezTo>
                  <a:cubicBezTo>
                    <a:pt x="137" y="13"/>
                    <a:pt x="89" y="0"/>
                    <a:pt x="51" y="22"/>
                  </a:cubicBezTo>
                  <a:cubicBezTo>
                    <a:pt x="13" y="44"/>
                    <a:pt x="0" y="93"/>
                    <a:pt x="22" y="131"/>
                  </a:cubicBezTo>
                  <a:cubicBezTo>
                    <a:pt x="377" y="745"/>
                    <a:pt x="377" y="745"/>
                    <a:pt x="377" y="745"/>
                  </a:cubicBezTo>
                  <a:cubicBezTo>
                    <a:pt x="377" y="2194"/>
                    <a:pt x="377" y="2194"/>
                    <a:pt x="377" y="2194"/>
                  </a:cubicBezTo>
                  <a:cubicBezTo>
                    <a:pt x="377" y="2246"/>
                    <a:pt x="418" y="2287"/>
                    <a:pt x="470" y="2287"/>
                  </a:cubicBezTo>
                  <a:cubicBezTo>
                    <a:pt x="521" y="2287"/>
                    <a:pt x="562" y="2246"/>
                    <a:pt x="562" y="2194"/>
                  </a:cubicBezTo>
                  <a:cubicBezTo>
                    <a:pt x="562" y="1423"/>
                    <a:pt x="562" y="1423"/>
                    <a:pt x="562" y="1423"/>
                  </a:cubicBezTo>
                  <a:cubicBezTo>
                    <a:pt x="598" y="1423"/>
                    <a:pt x="598" y="1423"/>
                    <a:pt x="598" y="1423"/>
                  </a:cubicBezTo>
                  <a:cubicBezTo>
                    <a:pt x="598" y="2194"/>
                    <a:pt x="598" y="2194"/>
                    <a:pt x="598" y="2194"/>
                  </a:cubicBezTo>
                  <a:cubicBezTo>
                    <a:pt x="598" y="2246"/>
                    <a:pt x="639" y="2287"/>
                    <a:pt x="690" y="2287"/>
                  </a:cubicBezTo>
                  <a:cubicBezTo>
                    <a:pt x="742" y="2287"/>
                    <a:pt x="783" y="2246"/>
                    <a:pt x="783" y="2194"/>
                  </a:cubicBezTo>
                  <a:cubicBezTo>
                    <a:pt x="783" y="745"/>
                    <a:pt x="783" y="745"/>
                    <a:pt x="783" y="745"/>
                  </a:cubicBezTo>
                  <a:cubicBezTo>
                    <a:pt x="1138" y="131"/>
                    <a:pt x="1138" y="131"/>
                    <a:pt x="1138" y="131"/>
                  </a:cubicBezTo>
                  <a:cubicBezTo>
                    <a:pt x="1160" y="93"/>
                    <a:pt x="1147" y="44"/>
                    <a:pt x="110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40"/>
          <p:cNvGrpSpPr/>
          <p:nvPr/>
        </p:nvGrpSpPr>
        <p:grpSpPr>
          <a:xfrm>
            <a:off x="3261600" y="1960560"/>
            <a:ext cx="2882520" cy="2923560"/>
            <a:chOff x="3261600" y="1960560"/>
            <a:chExt cx="2882520" cy="2923560"/>
          </a:xfrm>
        </p:grpSpPr>
        <p:grpSp>
          <p:nvGrpSpPr>
            <p:cNvPr id="193" name="Group 41"/>
            <p:cNvGrpSpPr/>
            <p:nvPr/>
          </p:nvGrpSpPr>
          <p:grpSpPr>
            <a:xfrm>
              <a:off x="3261600" y="1960560"/>
              <a:ext cx="2882520" cy="2923560"/>
              <a:chOff x="3261600" y="1960560"/>
              <a:chExt cx="2882520" cy="2923560"/>
            </a:xfrm>
          </p:grpSpPr>
          <p:sp>
            <p:nvSpPr>
              <p:cNvPr id="194" name="椭圆 32"/>
              <p:cNvSpPr/>
              <p:nvPr/>
            </p:nvSpPr>
            <p:spPr>
              <a:xfrm rot="15093000">
                <a:off x="3538800" y="2291040"/>
                <a:ext cx="2327400" cy="2262240"/>
              </a:xfrm>
              <a:prstGeom prst="ellipse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33"/>
              <p:cNvSpPr/>
              <p:nvPr/>
            </p:nvSpPr>
            <p:spPr>
              <a:xfrm>
                <a:off x="3583440" y="2285640"/>
                <a:ext cx="2185200" cy="2185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矩形 15"/>
            <p:cNvSpPr/>
            <p:nvPr/>
          </p:nvSpPr>
          <p:spPr>
            <a:xfrm>
              <a:off x="4085280" y="2616120"/>
              <a:ext cx="86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绪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5"/>
            <p:cNvGrpSpPr/>
            <p:nvPr/>
          </p:nvGrpSpPr>
          <p:grpSpPr>
            <a:xfrm>
              <a:off x="4841280" y="2877480"/>
              <a:ext cx="637920" cy="894240"/>
              <a:chOff x="4841280" y="2877480"/>
              <a:chExt cx="637920" cy="894240"/>
            </a:xfrm>
          </p:grpSpPr>
          <p:grpSp>
            <p:nvGrpSpPr>
              <p:cNvPr id="198" name="Group 46"/>
              <p:cNvGrpSpPr/>
              <p:nvPr/>
            </p:nvGrpSpPr>
            <p:grpSpPr>
              <a:xfrm>
                <a:off x="4841280" y="3134160"/>
                <a:ext cx="637200" cy="637560"/>
                <a:chOff x="4841280" y="3134160"/>
                <a:chExt cx="637200" cy="637560"/>
              </a:xfrm>
            </p:grpSpPr>
            <p:sp>
              <p:nvSpPr>
                <p:cNvPr id="199" name="圆角矩形 54"/>
                <p:cNvSpPr/>
                <p:nvPr/>
              </p:nvSpPr>
              <p:spPr>
                <a:xfrm>
                  <a:off x="4841280" y="3134160"/>
                  <a:ext cx="637200" cy="637560"/>
                </a:xfrm>
                <a:custGeom>
                  <a:avLst/>
                  <a:gdLst>
                    <a:gd name="textAreaLeft" fmla="*/ 30960 w 637200"/>
                    <a:gd name="textAreaRight" fmla="*/ 606240 w 637200"/>
                    <a:gd name="textAreaTop" fmla="*/ 30960 h 637560"/>
                    <a:gd name="textAreaBottom" fmla="*/ 606600 h 637560"/>
                  </a:gdLst>
                  <a:ahLst/>
                  <a:rect l="textAreaLeft" t="textAreaTop" r="textAreaRight" b="textAreaBottom"/>
                  <a:pathLst>
                    <a:path w="21600" h="21612">
                      <a:moveTo>
                        <a:pt x="3600" y="0"/>
                      </a:moveTo>
                      <a:arcTo wR="3600" hR="3600" stAng="16200000" swAng="-5400000"/>
                      <a:lnTo>
                        <a:pt x="0" y="18012"/>
                      </a:lnTo>
                      <a:arcTo wR="3600" hR="3600" stAng="10800000" swAng="-5400000"/>
                      <a:lnTo>
                        <a:pt x="18000" y="2161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椭圆 55"/>
                <p:cNvSpPr/>
                <p:nvPr/>
              </p:nvSpPr>
              <p:spPr>
                <a:xfrm>
                  <a:off x="4919760" y="3298320"/>
                  <a:ext cx="144720" cy="1447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等腰三角形 5"/>
                <p:cNvSpPr/>
                <p:nvPr/>
              </p:nvSpPr>
              <p:spPr>
                <a:xfrm flipV="1">
                  <a:off x="5057640" y="3536640"/>
                  <a:ext cx="199080" cy="16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矩形 7"/>
              <p:cNvSpPr/>
              <p:nvPr/>
            </p:nvSpPr>
            <p:spPr>
              <a:xfrm>
                <a:off x="5153760" y="2877480"/>
                <a:ext cx="325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d8d8d8"/>
                    </a:solidFill>
                    <a:latin typeface="微软雅黑"/>
                    <a:ea typeface="微软雅黑"/>
                  </a:rPr>
                  <a:t>,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0" y="1951200"/>
            <a:ext cx="12192120" cy="38019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4691160" y="2913120"/>
            <a:ext cx="2809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篇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3065040" y="270828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量管理计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04:0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8Z</dcterms:modified>
  <cp:revision>28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