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9.gif" ContentType="image/gif"/>
  <Override PartName="/ppt/media/image7.jpeg" ContentType="image/jpeg"/>
  <Override PartName="/ppt/media/image15.gif" ContentType="image/gif"/>
  <Override PartName="/ppt/media/image6.wmf" ContentType="image/x-wmf"/>
  <Override PartName="/ppt/media/image19.jpeg" ContentType="image/jpeg"/>
  <Override PartName="/ppt/media/image10.gif" ContentType="image/gif"/>
  <Override PartName="/ppt/media/image5.gif" ContentType="image/gif"/>
  <Override PartName="/ppt/media/image20.gif" ContentType="image/gif"/>
  <Override PartName="/ppt/media/image18.jpeg" ContentType="image/jpeg"/>
  <Override PartName="/ppt/media/image17.jpeg" ContentType="image/jpeg"/>
  <Override PartName="/ppt/media/image3.wmf" ContentType="image/x-wmf"/>
  <Override PartName="/ppt/media/image8.jpeg" ContentType="image/jpeg"/>
  <Override PartName="/ppt/media/image21.png" ContentType="image/png"/>
  <Override PartName="/ppt/media/image16.gif" ContentType="image/gif"/>
  <Override PartName="/ppt/media/image14.gif" ContentType="image/gif"/>
  <Override PartName="/ppt/media/image1.png" ContentType="image/png"/>
  <Override PartName="/ppt/media/image2.jpeg" ContentType="image/jpeg"/>
  <Override PartName="/ppt/media/image22.gif" ContentType="image/gif"/>
  <Override PartName="/ppt/media/image4.jpeg" ContentType="image/jpeg"/>
  <Override PartName="/ppt/media/image1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ACB-F90F-413F-B92A-4169CF2A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447-3B1F-4438-B73F-4B5C16A0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1C1-CD94-4D7F-B757-C2C6C111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778-A6C2-47DC-881D-E599AA23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3BBA-40BA-474C-8468-E7360BCC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2818-B465-4962-9602-E7A4B03B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DA42-058C-4272-B123-F69AD037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0F76-1C34-4E01-9707-5ABBAFA0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4777-77EA-4C3C-8EB4-BBB178E9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21BA-BEB4-4714-91A8-C23B0155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6A71-7C5A-441B-B185-B84955D1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4E1-91BA-4CD1-A280-2A33E020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AEDA-4E59-493D-AEEF-6D6605E2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0745-C58B-43B9-A7D5-C8739C16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22E0-BBFE-41BC-B32A-4793EC29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1D1E-46CF-47A8-B813-387D5858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76C8-712D-4BE9-B5FE-6F4A7FA1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4389-75D3-4481-9FE5-19D6B4EB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369C-6D5B-4E98-8489-E041CD14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3898C-8DE3-4C66-A8C1-1608B87C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AEB25-BC5A-48B3-BC08-5A0B1412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F6FFB-3EE7-400F-97FC-B9A88B3F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084-3F73-4DD3-A3D4-25CE266C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99B0D-15A5-4875-951F-FAE990AE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D36D-6123-40D3-9474-EE67F5D1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EF762-3FBC-4670-865D-86B55639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9C0E6-6696-404A-AE57-34D4F48A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A1A8-D044-4494-96EF-C6A11521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7523-7A22-4347-BC5E-21C99618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4A597-3121-4515-9448-F5E94EA9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81A5-4373-43DA-B0F7-E65B97A3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9635C-46D5-49B9-B3A4-88F30116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61395-F83E-409B-8297-6A9C30CF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E55-E08A-4E7E-B96A-E5C8388E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546F9-FFE2-49BD-8209-543DFD0F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F9371-0D8A-4ACB-95FF-D57FE696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E02AC-2CDD-4E21-8526-846F6BDE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2E823-1511-4491-8E59-09F67BF2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A5699-38CF-4898-80A5-23032489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706FD-BA4D-477D-8151-3657D429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1E263-552C-4089-A9E0-0D6E0E81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7DEB8-761F-4B77-8C33-DB16A8F9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EC485-AA32-4406-975A-40F14658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6E6-20F8-4F8C-A8DE-77825B65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32B-F83E-4CCF-8F82-9923CC82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E50-7CF3-4832-A5F6-2D934F15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FFE-B277-4D65-B092-55A74E2E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F22-2A5E-46AF-BB79-8A83BB7E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4824-F473-4771-B5A0-8CE402E51E5E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E995-C195-46B3-960D-3DA5FD52A692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E2BE-2D4F-4FA8-882F-E4D29EC621A4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46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6EAC-6C5E-4FEB-B299-E1CF00148D5F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../../Administrator/My%2520Documents/kejian/unit3huo.ppt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539640" y="5086440"/>
            <a:ext cx="8286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宋体"/>
                <a:ea typeface="华康简综艺"/>
              </a:rPr>
              <a:t>高三家长会</a:t>
            </a:r>
            <a:r>
              <a:rPr b="0" lang="en-US" sz="4000" spc="-1" strike="noStrike">
                <a:solidFill>
                  <a:srgbClr val="c00000"/>
                </a:solidFill>
                <a:latin typeface="宋体"/>
                <a:ea typeface="华康简综艺"/>
              </a:rPr>
              <a:t>ppt</a:t>
            </a:r>
            <a:r>
              <a:rPr b="0" lang="zh-CN" sz="4000" spc="-1" strike="noStrike">
                <a:solidFill>
                  <a:srgbClr val="c00000"/>
                </a:solidFill>
                <a:latin typeface="宋体"/>
                <a:ea typeface="华康简综艺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WordArt 5" descr=""/>
          <p:cNvPicPr/>
          <p:nvPr/>
        </p:nvPicPr>
        <p:blipFill>
          <a:blip r:embed="rId1"/>
          <a:stretch/>
        </p:blipFill>
        <p:spPr>
          <a:xfrm>
            <a:off x="466560" y="1413000"/>
            <a:ext cx="7925040" cy="3255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838080" y="8380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隶书"/>
              </a:rPr>
              <a:t>老师的教学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143000" y="190512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关注班上每一个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没有最好，只有更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班级没有后进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不以一时成败论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希望每个人都有好前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762120" y="2133720"/>
            <a:ext cx="380880" cy="3581280"/>
            <a:chOff x="762120" y="2133720"/>
            <a:chExt cx="380880" cy="3581280"/>
          </a:xfrm>
        </p:grpSpPr>
        <p:sp>
          <p:nvSpPr>
            <p:cNvPr id="216" name="AutoShape 5"/>
            <p:cNvSpPr/>
            <p:nvPr/>
          </p:nvSpPr>
          <p:spPr>
            <a:xfrm>
              <a:off x="762120" y="2971800"/>
              <a:ext cx="380880" cy="304920"/>
            </a:xfrm>
            <a:custGeom>
              <a:avLst/>
              <a:gdLst>
                <a:gd name="textAreaLeft" fmla="*/ 88920 w 380880"/>
                <a:gd name="textAreaRight" fmla="*/ 291960 w 380880"/>
                <a:gd name="textAreaTop" fmla="*/ 31680 h 304920"/>
                <a:gd name="textAreaBottom" fmla="*/ 193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6"/>
            <p:cNvSpPr/>
            <p:nvPr/>
          </p:nvSpPr>
          <p:spPr>
            <a:xfrm>
              <a:off x="762120" y="2133720"/>
              <a:ext cx="380880" cy="304920"/>
            </a:xfrm>
            <a:custGeom>
              <a:avLst/>
              <a:gdLst>
                <a:gd name="textAreaLeft" fmla="*/ 88920 w 380880"/>
                <a:gd name="textAreaRight" fmla="*/ 291960 w 380880"/>
                <a:gd name="textAreaTop" fmla="*/ 31680 h 304920"/>
                <a:gd name="textAreaBottom" fmla="*/ 193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7"/>
            <p:cNvSpPr/>
            <p:nvPr/>
          </p:nvSpPr>
          <p:spPr>
            <a:xfrm>
              <a:off x="762120" y="3733920"/>
              <a:ext cx="380880" cy="304920"/>
            </a:xfrm>
            <a:custGeom>
              <a:avLst/>
              <a:gdLst>
                <a:gd name="textAreaLeft" fmla="*/ 88920 w 380880"/>
                <a:gd name="textAreaRight" fmla="*/ 291960 w 380880"/>
                <a:gd name="textAreaTop" fmla="*/ 31680 h 304920"/>
                <a:gd name="textAreaBottom" fmla="*/ 193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8"/>
            <p:cNvSpPr/>
            <p:nvPr/>
          </p:nvSpPr>
          <p:spPr>
            <a:xfrm>
              <a:off x="762120" y="4572000"/>
              <a:ext cx="380880" cy="304920"/>
            </a:xfrm>
            <a:custGeom>
              <a:avLst/>
              <a:gdLst>
                <a:gd name="textAreaLeft" fmla="*/ 88920 w 380880"/>
                <a:gd name="textAreaRight" fmla="*/ 291960 w 380880"/>
                <a:gd name="textAreaTop" fmla="*/ 31680 h 304920"/>
                <a:gd name="textAreaBottom" fmla="*/ 193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9"/>
            <p:cNvSpPr/>
            <p:nvPr/>
          </p:nvSpPr>
          <p:spPr>
            <a:xfrm>
              <a:off x="762120" y="5410440"/>
              <a:ext cx="380880" cy="304560"/>
            </a:xfrm>
            <a:custGeom>
              <a:avLst/>
              <a:gdLst>
                <a:gd name="textAreaLeft" fmla="*/ 88920 w 380880"/>
                <a:gd name="textAreaRight" fmla="*/ 291960 w 380880"/>
                <a:gd name="textAreaTop" fmla="*/ 31680 h 304560"/>
                <a:gd name="textAreaBottom" fmla="*/ 1936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835280" y="81900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培养有理想抱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培养良好的道德品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培养良好的心理素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培养良好的学习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严格要求</a:t>
            </a:r>
            <a:r>
              <a:rPr b="0" lang="en-US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, </a:t>
            </a: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自主管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让每一位学生都健康成功</a:t>
            </a:r>
            <a:r>
              <a:rPr b="0" lang="en-US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3"/>
          <p:cNvSpPr txBox="1"/>
          <p:nvPr/>
        </p:nvSpPr>
        <p:spPr>
          <a:xfrm rot="5400000">
            <a:off x="-1477440" y="2553480"/>
            <a:ext cx="4795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38183" dir="2700000" blurRad="0" rotWithShape="0">
                    <a:srgbClr val="000000">
                      <a:alpha val="42000"/>
                    </a:srgbClr>
                  </a:outerShdw>
                </a:effectLst>
                <a:latin typeface="华文新魏"/>
              </a:rPr>
              <a:t>班级管理理念</a:t>
            </a:r>
            <a:endParaRPr b="0" lang="en-US" sz="5400" spc="-1" strike="noStrike">
              <a:ln w="0">
                <a:noFill/>
              </a:ln>
              <a:solidFill>
                <a:srgbClr val="c00000"/>
              </a:solidFill>
              <a:effectLst>
                <a:outerShdw dist="38183" dir="2700000" blurRad="0" rotWithShape="0">
                  <a:srgbClr val="000000">
                    <a:alpha val="42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6"/>
          <p:cNvSpPr/>
          <p:nvPr/>
        </p:nvSpPr>
        <p:spPr>
          <a:xfrm>
            <a:off x="900000" y="1844640"/>
            <a:ext cx="7178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汉仪中宋简"/>
                <a:ea typeface="汉仪中宋简"/>
              </a:rPr>
              <a:t>  </a:t>
            </a:r>
            <a:r>
              <a:rPr b="0" lang="zh-CN" sz="8000" spc="-1" strike="noStrike">
                <a:solidFill>
                  <a:srgbClr val="c00000"/>
                </a:solidFill>
                <a:latin typeface="汉仪中宋简"/>
                <a:ea typeface="汉仪中宋简"/>
              </a:rPr>
              <a:t>高三（ ）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0000"/>
                </a:solidFill>
                <a:latin typeface="汉仪中宋简"/>
                <a:ea typeface="汉仪中宋简"/>
              </a:rPr>
              <a:t>   </a:t>
            </a:r>
            <a:r>
              <a:rPr b="0" lang="zh-CN" sz="8000" spc="-1" strike="noStrike">
                <a:solidFill>
                  <a:srgbClr val="c00000"/>
                </a:solidFill>
                <a:latin typeface="汉仪中宋简"/>
                <a:ea typeface="汉仪中宋简"/>
              </a:rPr>
              <a:t>联考分析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3581280" y="2666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7400" y="2492280"/>
            <a:ext cx="6829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600" spc="-1" strike="noStrike">
                <a:solidFill>
                  <a:srgbClr val="c00000"/>
                </a:solidFill>
                <a:latin typeface="华文隶书"/>
                <a:ea typeface="华文隶书"/>
              </a:rPr>
              <a:t>一、汇报篇</a:t>
            </a:r>
            <a:endParaRPr b="0" lang="en-US" sz="8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895480" y="60948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979640" y="220500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Candara"/>
                <a:ea typeface="华文新魏"/>
              </a:rPr>
              <a:t>成绩状况介绍</a:t>
            </a:r>
            <a:endParaRPr b="0" lang="en-US" sz="6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60000" y="1100160"/>
            <a:ext cx="84056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我班在这次联考中，继前三次月考后又一次取得稳中略有上升的成绩，其中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 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处于生源班级领先位置，尤其是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科取得了班均分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的好成绩，其余的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处于生源班级前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名位置。但各科发展不平衡，尤其是中等学生的学科发展不平衡现象较严重，主要表现在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等学科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7400" y="2492280"/>
            <a:ext cx="6829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600" spc="-1" strike="noStrike">
                <a:solidFill>
                  <a:srgbClr val="c00000"/>
                </a:solidFill>
                <a:latin typeface="华文隶书"/>
                <a:ea typeface="华文隶书"/>
              </a:rPr>
              <a:t>二、反思篇</a:t>
            </a:r>
            <a:endParaRPr b="0" lang="en-US" sz="8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08000" y="1413000"/>
            <a:ext cx="89280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反思一</a:t>
            </a:r>
            <a:r>
              <a:rPr b="1" lang="en-US" sz="33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73e87"/>
                </a:solidFill>
                <a:latin typeface="黑体"/>
                <a:ea typeface="黑体"/>
              </a:rPr>
              <a:t>、这次考试在个人名次上发生了一些明显的变化，原因为何？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73e87"/>
                </a:solidFill>
                <a:latin typeface="黑体"/>
                <a:ea typeface="黑体"/>
              </a:rPr>
              <a:t>、我们也有不少同学在考试前也投入了大量精力，但未收到如期效果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73e87"/>
                </a:solidFill>
                <a:latin typeface="黑体"/>
                <a:ea typeface="黑体"/>
              </a:rPr>
              <a:t>、联考是冶炼，心态最重要。经历是最好的老师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在这次考后，我们发现有些同学的总分高不了，究其原因，偏科太厉害！尤其要引起重视的是英语</a:t>
            </a: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数学和地理</a:t>
            </a: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因为这三科拉的分数最多</a:t>
            </a: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. 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但部分学生在语文、政治、历史等学科也存在较大问题由于各个方面的原因，很多同学都在这些科目中出现“瘸腿”现象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试卷答题过程中暴露出来的不规范性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73e87"/>
                </a:solidFill>
                <a:latin typeface="黑体"/>
                <a:ea typeface="黑体"/>
              </a:rPr>
              <a:t>基础掌握不扎实、知识漏洞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黑体"/>
                <a:ea typeface="黑体"/>
              </a:rPr>
              <a:t>反思二</a:t>
            </a:r>
            <a:r>
              <a:rPr b="0" lang="zh-CN" sz="4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600" spc="-1" strike="noStrike">
                <a:solidFill>
                  <a:srgbClr val="ff0000"/>
                </a:solidFill>
                <a:latin typeface="黑体"/>
                <a:ea typeface="黑体"/>
              </a:rPr>
              <a:t>一模显露出的问题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468360" y="1063800"/>
            <a:ext cx="849636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反思三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学生目前存在的问题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习目的不明确，甚至模糊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集体主义观念淡漠、自私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责任感较差，自我中心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习方法需要调整，没有计划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心理素质，适应性需要加强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同学关系、师生关系需要改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"/>
          <p:cNvSpPr/>
          <p:nvPr/>
        </p:nvSpPr>
        <p:spPr>
          <a:xfrm>
            <a:off x="108000" y="1700280"/>
            <a:ext cx="87739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0000"/>
                </a:solidFill>
                <a:latin typeface="华文隶书"/>
                <a:ea typeface="华文隶书"/>
              </a:rPr>
              <a:t>离</a:t>
            </a:r>
            <a:r>
              <a:rPr b="0" lang="en-US" sz="8000" spc="-1" strike="noStrike">
                <a:solidFill>
                  <a:srgbClr val="c00000"/>
                </a:solidFill>
                <a:latin typeface="华文隶书"/>
                <a:ea typeface="华文隶书"/>
              </a:rPr>
              <a:t>201</a:t>
            </a:r>
            <a:r>
              <a:rPr b="0" lang="zh-CN" sz="8000" spc="-1" strike="noStrike">
                <a:solidFill>
                  <a:srgbClr val="c00000"/>
                </a:solidFill>
                <a:latin typeface="华文隶书"/>
                <a:ea typeface="华文隶书"/>
              </a:rPr>
              <a:t>5</a:t>
            </a:r>
            <a:r>
              <a:rPr b="0" lang="zh-CN" sz="8000" spc="-1" strike="noStrike">
                <a:solidFill>
                  <a:srgbClr val="c00000"/>
                </a:solidFill>
                <a:latin typeface="华文隶书"/>
                <a:ea typeface="华文隶书"/>
              </a:rPr>
              <a:t>年高考仅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5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华文隶书"/>
                <a:ea typeface="华文隶书"/>
              </a:rPr>
              <a:t>161</a:t>
            </a:r>
            <a:r>
              <a:rPr b="0" lang="zh-CN" sz="9600" spc="-1" strike="noStrike">
                <a:solidFill>
                  <a:srgbClr val="ff0000"/>
                </a:solidFill>
                <a:latin typeface="华文隶书"/>
                <a:ea typeface="华文隶书"/>
              </a:rPr>
              <a:t>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79280" y="-2088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Candara"/>
                <a:ea typeface="华文彩云"/>
              </a:rPr>
              <a:t>三、展望篇</a:t>
            </a:r>
            <a:endParaRPr b="0" lang="en-US" sz="8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26920" y="126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.</a:t>
            </a:r>
            <a:r>
              <a:rPr b="0" lang="zh-CN" sz="2400" spc="-1" strike="noStrike">
                <a:solidFill>
                  <a:srgbClr val="073e87"/>
                </a:solidFill>
                <a:latin typeface="Candara"/>
              </a:rPr>
              <a:t>落实学生的成绩情况之后，寻找该生的薄弱科目，确定补</a:t>
            </a:r>
            <a:r>
              <a:rPr b="0" lang="zh-CN" sz="2400" spc="-1" strike="noStrike">
                <a:solidFill>
                  <a:srgbClr val="ff0000"/>
                </a:solidFill>
                <a:latin typeface="Candara"/>
              </a:rPr>
              <a:t>薄</a:t>
            </a:r>
            <a:r>
              <a:rPr b="0" lang="zh-CN" sz="2400" spc="-1" strike="noStrike">
                <a:solidFill>
                  <a:srgbClr val="073e87"/>
                </a:solidFill>
                <a:latin typeface="Candara"/>
              </a:rPr>
              <a:t>学生名单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2.</a:t>
            </a:r>
            <a:r>
              <a:rPr b="0" lang="zh-CN" sz="2400" spc="-1" strike="noStrike">
                <a:solidFill>
                  <a:srgbClr val="073e87"/>
                </a:solidFill>
                <a:latin typeface="Candara"/>
              </a:rPr>
              <a:t>通过班主任与各科任老师的联系，对补薄学生给予更多的关注，并通过学生补</a:t>
            </a:r>
            <a:r>
              <a:rPr b="0" lang="zh-CN" sz="2400" spc="-1" strike="noStrike">
                <a:solidFill>
                  <a:srgbClr val="0080ff"/>
                </a:solidFill>
                <a:latin typeface="Candara"/>
              </a:rPr>
              <a:t>薄</a:t>
            </a:r>
            <a:r>
              <a:rPr b="0" lang="zh-CN" sz="2400" spc="-1" strike="noStrike">
                <a:solidFill>
                  <a:srgbClr val="073e87"/>
                </a:solidFill>
                <a:latin typeface="Candara"/>
              </a:rPr>
              <a:t>记录单，时时跟踪，使学生在薄弱科上有所进步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ndara"/>
              </a:rPr>
              <a:t>联考之后我们老师要做的：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395280" y="2492280"/>
            <a:ext cx="7981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加强思想教育工作，增强学生的自信心和成才欲望，充分利用课堂及班会时间给同学们加油鼓劲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04920" y="990720"/>
            <a:ext cx="816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通过与各科任老师的联系，对学生给予更多的关注，使学生在薄弱科上有所进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80880" y="4495680"/>
            <a:ext cx="8001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严格常规管理，严格请假制度，严格班规班纪，稳定学习秩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24000" y="4653000"/>
            <a:ext cx="88200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老师们全力以赴，精心备课。和学生同甘共苦，关爱每一个学生，用真情激励学生奋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80880" y="378936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加强自习课余时间的整体辅导和个别辅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95280" y="2924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增强学生时间观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431640" y="1828800"/>
            <a:ext cx="93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73e87"/>
                </a:solidFill>
                <a:latin typeface="Arial"/>
              </a:rPr>
              <a:t>向偏科现象较严重的同学介绍好的学习经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57200" y="533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73e87"/>
                </a:solidFill>
                <a:latin typeface="Arial"/>
              </a:rPr>
              <a:t>通过谈话帮助学生分析成绩，找出原因，帮助学生确定目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" descr="Season17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WordArt 4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4584d3"/>
                </a:solidFill>
                <a:latin typeface="宋体"/>
              </a:rPr>
              <a:t>家长如何看待孩子</a:t>
            </a:r>
            <a:endParaRPr b="0" lang="en-US" sz="4800" spc="-1" strike="noStrike">
              <a:ln w="9360">
                <a:solidFill>
                  <a:srgbClr val="cc0000"/>
                </a:solidFill>
                <a:miter/>
              </a:ln>
              <a:solidFill>
                <a:srgbClr val="4584d3"/>
              </a:soli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1979640" y="689040"/>
            <a:ext cx="5181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如何看待成绩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50" name="WordArt 5"/>
          <p:cNvSpPr txBox="1"/>
          <p:nvPr/>
        </p:nvSpPr>
        <p:spPr>
          <a:xfrm>
            <a:off x="0" y="2565360"/>
            <a:ext cx="561672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肯定子女的每一滴收获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2484360" y="4365720"/>
            <a:ext cx="64184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鼓励子女的每一点进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990720" y="685800"/>
            <a:ext cx="69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家长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适当的期望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116000" y="2922480"/>
            <a:ext cx="73152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孩子是家长的希望，教育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孩子是老师的希望。父母对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期望值的高低直接影响孩子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所取得成就的大小。应该有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的期望值，尽量要恰到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1908000" y="155736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幼圆"/>
              </a:rPr>
              <a:t>给孩子一个能达到的目标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幼圆"/>
              <a:ea typeface="幼圆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11280" y="189000"/>
            <a:ext cx="761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e87"/>
                </a:solidFill>
                <a:latin typeface="Times New Roman"/>
              </a:rPr>
              <a:t>*    </a:t>
            </a:r>
            <a:r>
              <a:rPr b="1" lang="zh-CN" sz="3400" spc="-1" strike="noStrike">
                <a:solidFill>
                  <a:srgbClr val="073e87"/>
                </a:solidFill>
                <a:latin typeface="Times New Roman"/>
              </a:rPr>
              <a:t>期望值过高：孩子拼命按家长的意愿生活、学习，也许父母感到满足，但孩子生活得较为压抑，甚至影响心理健康。尽力后仍达不到家长的要求，双方均失望，可能导致孩子自暴自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685800" y="2971800"/>
            <a:ext cx="754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e87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073e87"/>
                </a:solidFill>
                <a:latin typeface="Times New Roman"/>
              </a:rPr>
              <a:t>期望值过低或没有：尚不自觉的孩子缺少外在精神支持，认为不重视、无所谓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609480" y="472428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05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适当的期望值：在原有基础上适当拔高，不操之过急，不高不可攀，否则可能大家都失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250920" y="1890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ff"/>
                </a:solidFill>
                <a:latin typeface="Tahoma"/>
              </a:rPr>
              <a:t>高考倒计时</a:t>
            </a:r>
            <a:r>
              <a:rPr b="1" lang="en-US" sz="4000" spc="-1" strike="noStrike">
                <a:solidFill>
                  <a:srgbClr val="0080ff"/>
                </a:solidFill>
                <a:latin typeface="Tahoma"/>
              </a:rPr>
              <a:t>161</a:t>
            </a:r>
            <a:r>
              <a:rPr b="1" lang="zh-CN" sz="4000" spc="-1" strike="noStrike">
                <a:solidFill>
                  <a:srgbClr val="0080ff"/>
                </a:solidFill>
                <a:latin typeface="Tahoma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"/>
          <p:cNvSpPr/>
          <p:nvPr/>
        </p:nvSpPr>
        <p:spPr>
          <a:xfrm>
            <a:off x="4643280" y="549360"/>
            <a:ext cx="838440" cy="0"/>
          </a:xfrm>
          <a:prstGeom prst="line">
            <a:avLst/>
          </a:prstGeom>
          <a:ln w="93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562720" y="189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ff"/>
                </a:solidFill>
                <a:latin typeface="Tahoma"/>
              </a:rPr>
              <a:t>了解高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324000" y="90792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ae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高考实行</a:t>
            </a:r>
            <a:r>
              <a:rPr b="1" lang="zh-CN" sz="2800" spc="-1" strike="noStrike">
                <a:solidFill>
                  <a:srgbClr val="5eae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三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综合</a:t>
            </a:r>
            <a:r>
              <a:rPr b="1" lang="zh-CN" sz="2800" spc="-1" strike="noStrike">
                <a:solidFill>
                  <a:srgbClr val="5eaeff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满分：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750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分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三：语文、数学、外语（各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150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分），共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450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综合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历史</a:t>
            </a:r>
            <a:r>
              <a:rPr b="1" lang="zh-CN" sz="1800" spc="-1" strike="noStrike">
                <a:solidFill>
                  <a:srgbClr val="5eae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 地理</a:t>
            </a:r>
            <a:r>
              <a:rPr b="1" lang="zh-CN" sz="1800" spc="-1" strike="noStrike">
                <a:solidFill>
                  <a:srgbClr val="5eae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 政治计入高考成绩，共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日</a:t>
            </a:r>
            <a:r>
              <a:rPr b="1" lang="en-US" sz="2800" spc="-1" strike="noStrike">
                <a:solidFill>
                  <a:srgbClr val="5eaeff"/>
                </a:solidFill>
                <a:latin typeface="Times New Roman"/>
              </a:rPr>
              <a:t>—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日网上报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日陕西省联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2011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年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月中旬汉中市联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下学期参加省、市联考、体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考前心理调整。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日高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5eaeff"/>
                </a:solidFill>
                <a:latin typeface="Tahoma"/>
              </a:rPr>
              <a:t>25</a:t>
            </a:r>
            <a:r>
              <a:rPr b="1" lang="zh-CN" sz="2800" spc="-1" strike="noStrike">
                <a:solidFill>
                  <a:srgbClr val="5eaeff"/>
                </a:solidFill>
                <a:latin typeface="Tahoma"/>
              </a:rPr>
              <a:t>日公布成绩，网上填报志愿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85760" y="838080"/>
            <a:ext cx="373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3886200" y="1219320"/>
            <a:ext cx="914400" cy="0"/>
          </a:xfrm>
          <a:prstGeom prst="line">
            <a:avLst/>
          </a:prstGeom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800600" y="762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ff"/>
                </a:solidFill>
                <a:latin typeface="Tahoma"/>
              </a:rPr>
              <a:t>了解孩子一天的每段时间应该在做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380880" y="2209680"/>
            <a:ext cx="7467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ahoma"/>
              </a:rPr>
              <a:t>关键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英语朗读听力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\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文早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-2:00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提倡回班级看书休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下晚自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周日             休息 </a:t>
            </a:r>
            <a:r>
              <a:rPr b="1" lang="zh-CN" sz="2800" spc="-1" strike="noStrike">
                <a:solidFill>
                  <a:srgbClr val="0080ff"/>
                </a:solidFill>
                <a:latin typeface="Tahom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6"/>
          <p:cNvGrpSpPr/>
          <p:nvPr/>
        </p:nvGrpSpPr>
        <p:grpSpPr>
          <a:xfrm>
            <a:off x="971640" y="549360"/>
            <a:ext cx="4868640" cy="1493640"/>
            <a:chOff x="971640" y="549360"/>
            <a:chExt cx="4868640" cy="1493640"/>
          </a:xfrm>
        </p:grpSpPr>
        <p:sp>
          <p:nvSpPr>
            <p:cNvPr id="267" name="Rectangle 7"/>
            <p:cNvSpPr/>
            <p:nvPr/>
          </p:nvSpPr>
          <p:spPr>
            <a:xfrm>
              <a:off x="971640" y="549360"/>
              <a:ext cx="4868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Group 8"/>
            <p:cNvGrpSpPr/>
            <p:nvPr/>
          </p:nvGrpSpPr>
          <p:grpSpPr>
            <a:xfrm>
              <a:off x="971640" y="549360"/>
              <a:ext cx="1130760" cy="1493640"/>
              <a:chOff x="971640" y="549360"/>
              <a:chExt cx="1130760" cy="1493640"/>
            </a:xfrm>
          </p:grpSpPr>
          <p:sp>
            <p:nvSpPr>
              <p:cNvPr id="269" name="Rectangle 9"/>
              <p:cNvSpPr/>
              <p:nvPr/>
            </p:nvSpPr>
            <p:spPr>
              <a:xfrm>
                <a:off x="971640" y="549360"/>
                <a:ext cx="1130760" cy="149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" name="Group 10"/>
              <p:cNvGrpSpPr/>
              <p:nvPr/>
            </p:nvGrpSpPr>
            <p:grpSpPr>
              <a:xfrm>
                <a:off x="971640" y="549360"/>
                <a:ext cx="1130760" cy="1493640"/>
                <a:chOff x="971640" y="549360"/>
                <a:chExt cx="1130760" cy="1493640"/>
              </a:xfrm>
            </p:grpSpPr>
            <p:sp>
              <p:nvSpPr>
                <p:cNvPr id="271" name="Rectangle 11"/>
                <p:cNvSpPr/>
                <p:nvPr/>
              </p:nvSpPr>
              <p:spPr>
                <a:xfrm>
                  <a:off x="971640" y="549360"/>
                  <a:ext cx="1130760" cy="149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2"/>
                <p:cNvGrpSpPr/>
                <p:nvPr/>
              </p:nvGrpSpPr>
              <p:grpSpPr>
                <a:xfrm>
                  <a:off x="971640" y="549360"/>
                  <a:ext cx="1130760" cy="1493640"/>
                  <a:chOff x="971640" y="549360"/>
                  <a:chExt cx="1130760" cy="1493640"/>
                </a:xfrm>
              </p:grpSpPr>
              <p:sp>
                <p:nvSpPr>
                  <p:cNvPr id="273" name="Rectangle 13"/>
                  <p:cNvSpPr/>
                  <p:nvPr/>
                </p:nvSpPr>
                <p:spPr>
                  <a:xfrm>
                    <a:off x="971640" y="549360"/>
                    <a:ext cx="1130760" cy="149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Rectangle 14"/>
                  <p:cNvSpPr/>
                  <p:nvPr/>
                </p:nvSpPr>
                <p:spPr>
                  <a:xfrm>
                    <a:off x="971640" y="549360"/>
                    <a:ext cx="1130760" cy="149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75" name="Picture 15" descr="47292"/>
          <p:cNvPicPr/>
          <p:nvPr/>
        </p:nvPicPr>
        <p:blipFill>
          <a:blip r:embed="rId1"/>
          <a:stretch/>
        </p:blipFill>
        <p:spPr>
          <a:xfrm>
            <a:off x="6934320" y="4648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5"/>
          <p:cNvSpPr/>
          <p:nvPr/>
        </p:nvSpPr>
        <p:spPr>
          <a:xfrm>
            <a:off x="395280" y="64152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尊敬的各位家长</a:t>
            </a:r>
            <a:r>
              <a:rPr b="1" lang="en-US" sz="4400" spc="-1" strike="noStrike">
                <a:solidFill>
                  <a:srgbClr val="c0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71640" y="2421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汉真广标"/>
                <a:ea typeface="汉真广标"/>
              </a:rPr>
              <a:t>欢迎您的到来</a:t>
            </a:r>
            <a:r>
              <a:rPr b="0" lang="en-US" sz="8800" spc="-1" strike="noStrike">
                <a:solidFill>
                  <a:srgbClr val="ffffff"/>
                </a:solidFill>
                <a:latin typeface="汉真广标"/>
                <a:ea typeface="汉真广标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-0.05104 -0.01734 C -0.04931 0.00185 -0.04445 0.02937 -0.02622 0.02868 C 0.00034 0.02868 0.00225 -0.06244 0.03368 -0.06244 C 0.06198 -0.06244 0.04705 0.01712 0.07396 0.01665 C 0.10243 0.01665 0.08715 -0.04093 0.11771 -0.04093 C 0.14496 -0.04093 0.12968 -0.00208 0.15399 -0.00208 C 0.17743 -0.00208 0.16528 -0.03191 0.18646 -0.03191 C 0.19861 -0.03191 0.19948 -0.02382 0.20087 -0.01734 E">
                                      <p:cBhvr>
                                        <p:cTn id="6" dur="5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533520" y="2095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4114800" y="6094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5105520" y="228600"/>
            <a:ext cx="35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了解孩子可能存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问题以及应对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09480" y="144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自习课说话、看小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373392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提醒</a:t>
            </a:r>
            <a:r>
              <a:rPr b="1" lang="en-US" sz="2400" spc="-1" strike="noStrike">
                <a:solidFill>
                  <a:srgbClr val="0080ff"/>
                </a:solidFill>
                <a:latin typeface="Tahoma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在自己的房间在看什么书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736560" y="21589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上课、自习课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3759120" y="2158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不要太晚  不要疲劳战要效率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7621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补课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3733920" y="2819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是否必要   如必要  勤和补课老师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8380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心理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3886200" y="35812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控制自己情绪 ，多观察、  多交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注意交流的内容、方式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76212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租房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396252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提醒：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每天晚自习以后，孩子在哪里，在做什么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914400" y="5867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早恋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396252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eaeff"/>
                </a:solidFill>
                <a:latin typeface="Tahoma"/>
              </a:rPr>
              <a:t>您发现什么异样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60020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ff"/>
                </a:solidFill>
                <a:uFillTx/>
                <a:latin typeface="Tahoma"/>
              </a:rPr>
              <a:t>对您的几点参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600200" y="4038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积极配合老师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作好后勤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1523880" y="2209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掩藏负面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447920" y="1295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以孩子为中心  不要过分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5029200" y="31240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饮食要有奶类、豆类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ff"/>
                </a:solidFill>
                <a:latin typeface="Tahoma"/>
              </a:rPr>
              <a:t>蔬菜、水果、谷类、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PE03254_"/>
          <p:cNvPicPr/>
          <p:nvPr/>
        </p:nvPicPr>
        <p:blipFill>
          <a:blip r:embed="rId1"/>
          <a:stretch/>
        </p:blipFill>
        <p:spPr>
          <a:xfrm>
            <a:off x="6629400" y="4589640"/>
            <a:ext cx="2514600" cy="226836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9"/>
          <p:cNvSpPr/>
          <p:nvPr/>
        </p:nvSpPr>
        <p:spPr>
          <a:xfrm>
            <a:off x="990720" y="6019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3593880" y="59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ff"/>
                </a:solidFill>
                <a:latin typeface="Tahoma"/>
              </a:rPr>
              <a:t>让孩子感觉这是一个温暖的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1896840" y="487692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广开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ndara"/>
              </a:rPr>
              <a:t>站点介绍：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ndara"/>
              </a:rPr>
              <a:t>特别说明：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ndara"/>
              </a:rPr>
              <a:t>栏目推荐：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6D95-06C7-4BBE-9950-B0BC262CE73E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CANDLES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3"/>
          <p:cNvSpPr/>
          <p:nvPr/>
        </p:nvSpPr>
        <p:spPr>
          <a:xfrm>
            <a:off x="2124000" y="50781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孩子的健康成长，有赖您精心的呵护、正确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9914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寄语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1187280" y="112572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的成功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生的自身努力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教师的力量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家长的推动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430200" y="1676520"/>
            <a:ext cx="8713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在思想上，家长能够</a:t>
            </a:r>
            <a:r>
              <a:rPr b="1" lang="zh-CN" sz="3200" spc="-1" strike="noStrike" u="sng">
                <a:solidFill>
                  <a:srgbClr val="073e87"/>
                </a:solidFill>
                <a:uFillTx/>
                <a:latin typeface="宋体"/>
              </a:rPr>
              <a:t>多与子女沟通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，及时了解和掌握自己子女的心理动向，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其学习施加一定的压力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注意对子女的教育方式方法，要</a:t>
            </a:r>
            <a:r>
              <a:rPr b="1" lang="zh-CN" sz="3200" spc="-1" strike="noStrike" u="sng">
                <a:solidFill>
                  <a:srgbClr val="073e87"/>
                </a:solidFill>
                <a:uFillTx/>
                <a:latin typeface="宋体"/>
              </a:rPr>
              <a:t>多鼓励少批评；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对子女</a:t>
            </a:r>
            <a:r>
              <a:rPr b="1" lang="zh-CN" sz="3200" spc="-1" strike="noStrike" u="sng">
                <a:solidFill>
                  <a:srgbClr val="073e87"/>
                </a:solidFill>
                <a:uFillTx/>
                <a:latin typeface="宋体"/>
              </a:rPr>
              <a:t>要有一定的期望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，但不能过高或过低，注意观察学生变化，及时发现并纠正其不良行为而切忌护短；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）、要教育孩子怎样做人，关心孩子的思想动态使孩子有正确的思想导向、明确的奋斗目标。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）。工作再忙也要抽点时间来多了解孩子在校的表现和学习成绩情况。因为孩子只有一个呀，我们的一切工作难道不是为了孩子将来的美好前途吗？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73e87"/>
                </a:solidFill>
                <a:latin typeface="Arial"/>
              </a:rPr>
              <a:t>要学会欣赏孩子，要善于发现他们的闪光点，及时给予鼓励，以增强他们的自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127160" y="3808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希望家长配合的工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4572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073e87"/>
                </a:solidFill>
                <a:latin typeface="宋体"/>
              </a:rPr>
              <a:t>在生活上，家长能够合理安排饮食，注意补充营养关心照顾，身体是革命的本钱 。提醒孩子注意安全（交通安全、运动安全、饮食安全等），保证学生按时作息，不要因晚上学习时间过长或看电视无度、睡眠不足影响第二天学习；有特殊情况要请假；</a:t>
            </a:r>
            <a:r>
              <a:rPr b="1" lang="zh-CN" sz="3600" spc="-1" strike="noStrike">
                <a:solidFill>
                  <a:srgbClr val="073e87"/>
                </a:solidFill>
                <a:latin typeface="Arial"/>
              </a:rPr>
              <a:t>控制零花钱，引导孩子合理消费；抓好子女在家的行为习惯。如良好的休息、科学的安排学习、适量的家务劳动（劳动是教育人的较好方式，只有劳动，他才懂得来之不易，懂得珍惜）等。在孩子面前做好表率，身教重于言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574560" y="304920"/>
            <a:ext cx="85694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73e87"/>
                </a:solidFill>
                <a:latin typeface="宋体"/>
              </a:rPr>
              <a:t>在学习上，家长能够教育孩子在上课时专心听老师讲课，不懂就是不懂，要虚心请教。强调“认真”二字。少做最好不做与学习无关的事。多让他们在学习、精神等各方面得到父母的支持和鼓励，给孩子创造良好的学习环境（物质、文化、精神环境）；</a:t>
            </a:r>
            <a:r>
              <a:rPr b="1" lang="zh-CN" sz="2800" spc="-1" strike="noStrike">
                <a:solidFill>
                  <a:srgbClr val="073e87"/>
                </a:solidFill>
                <a:latin typeface="Arial"/>
              </a:rPr>
              <a:t>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科学的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6094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在教育方式上，要尊重学生人格，用科学方法教育、引导，切忌因简单、粗暴的武力压服而影响其身心健康，导致教育失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0" y="2286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73e87"/>
                </a:solidFill>
                <a:uFillTx/>
                <a:latin typeface="宋体"/>
              </a:rPr>
              <a:t>多和老师联系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支持班级工作，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及时掌握子女在学校的学习情况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帮助学生树立人生或高考目标</a:t>
            </a:r>
            <a:r>
              <a:rPr b="1" lang="zh-CN" sz="3200" spc="-1" strike="noStrike">
                <a:solidFill>
                  <a:srgbClr val="073e87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0" y="41148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之，希望家长能以负责的态度，正确的方法，与教师共同塑造学生健康的心态，培养其良好行为习惯，激发其勇于创新、不懈努力的积极性的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5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1143000" y="533520"/>
            <a:ext cx="76960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成功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智商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情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20%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80%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cartoon3"/>
          <p:cNvPicPr/>
          <p:nvPr/>
        </p:nvPicPr>
        <p:blipFill>
          <a:blip r:embed="rId1"/>
          <a:stretch/>
        </p:blipFill>
        <p:spPr>
          <a:xfrm>
            <a:off x="3886200" y="3297240"/>
            <a:ext cx="5257800" cy="356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8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8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01" name="Picture 4" descr="BJ3057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WordArt 5"/>
          <p:cNvSpPr txBox="1"/>
          <p:nvPr/>
        </p:nvSpPr>
        <p:spPr>
          <a:xfrm>
            <a:off x="1600200" y="1143000"/>
            <a:ext cx="5638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228600" y="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指責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怨天尤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敵意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好斗逞勇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恐懼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畏首畏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憐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自怨自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嘲諷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消極退縮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嫉妒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勾心斗角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羞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心懷內疚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容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極富耐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鼓勵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充滿自信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讚美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存感恩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嘉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愛人愛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接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胸寬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認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掌握目標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分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慷慨大方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誠實公平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必能維護正義真理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安定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信任自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信任他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友善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對世界多一份關懷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祥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有和平的心境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0000"/>
          <p:cNvPicPr/>
          <p:nvPr/>
        </p:nvPicPr>
        <p:blipFill>
          <a:blip r:embed="rId1"/>
          <a:stretch/>
        </p:blipFill>
        <p:spPr>
          <a:xfrm>
            <a:off x="6858000" y="1828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457200" y="1143000"/>
            <a:ext cx="83059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</a:t>
            </a:r>
            <a:r>
              <a:rPr b="1" i="1" lang="zh-CN" sz="40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孩子们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爸爸、妈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你们辛苦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我们平时忙于学习，因此和你们交流得机会很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但是作为你的儿女，我们深知你们很辛苦，也很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我们回报您的唯一办法就是好好学习，不虚度光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争取考取理想大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爸爸妈妈你们千万要注意身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eaeff"/>
                </a:solidFill>
                <a:latin typeface="楷体_GB2312"/>
                <a:ea typeface="楷体_GB2312"/>
              </a:rPr>
              <a:t>儿女在这里真诚地道一声：谢谢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81080" y="2462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刻苦努力，不断拼搏，是我们奋进的号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坚忍顽强，超越自我，是我们追求的品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克服困难，励志向前，是我们不改的信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乌鸦反哺，回报父母，是我们不变的誓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健康成长，创造辉煌，是我们共同的心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WordArt 3"/>
          <p:cNvSpPr txBox="1"/>
          <p:nvPr/>
        </p:nvSpPr>
        <p:spPr>
          <a:xfrm rot="513000">
            <a:off x="541080" y="371520"/>
            <a:ext cx="655776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350000"/>
                </a:gradFill>
                <a:latin typeface="宋体"/>
              </a:rPr>
              <a:t>说给爸爸妈妈的话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35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328" name="Rectangle 3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4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330" name="Rectangle 5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Group 6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332" name="Rectangle 7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Group 8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334" name="Rectangle 9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Rectangle 10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336" name="Picture 11" descr="19188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42865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2"/>
          <p:cNvSpPr/>
          <p:nvPr/>
        </p:nvSpPr>
        <p:spPr>
          <a:xfrm>
            <a:off x="685800" y="5029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8080"/>
                </a:solidFill>
                <a:latin typeface="Tahoma"/>
                <a:ea typeface="华文行楷"/>
              </a:rPr>
              <a:t>雪莱说“冬天到了，春天还会远吗？”春天是万物复苏的季节，我们仍在快乐的播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51777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426708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990720" y="48164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迎接高考一路坎坷，我们已感受到夏雨的清凉。当今年的六月来临，我相信我们已经做好了准备。这应该是一条通向成功的道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341" name="Rectangle 3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4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343" name="Rectangle 5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6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345" name="Rectangle 7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6" name="Group 8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347" name="Rectangle 9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Rectangle 10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349" name="Picture 11" descr="64068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444672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12"/>
          <p:cNvSpPr/>
          <p:nvPr/>
        </p:nvSpPr>
        <p:spPr>
          <a:xfrm>
            <a:off x="762120" y="51055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  <a:ea typeface="华文行楷"/>
              </a:rPr>
              <a:t>秋天是收获的季节，我们却在播种。道路可能很艰苦，但我们是朝着太阳的方向前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352" name="Rectangle 3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4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354" name="Rectangle 5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Group 6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356" name="Rectangle 7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7" name="Group 8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358" name="Rectangle 9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Rectangle 10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60" name="Text Box 11"/>
          <p:cNvSpPr/>
          <p:nvPr/>
        </p:nvSpPr>
        <p:spPr>
          <a:xfrm>
            <a:off x="1066680" y="5105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73e87"/>
                </a:solidFill>
                <a:latin typeface="Tahoma"/>
                <a:ea typeface="华文行楷"/>
              </a:rPr>
              <a:t>雪花儿飘起来了，我们舍弃了小屋的舒适，沿着这条路仍在艰难地跋涉</a:t>
            </a:r>
            <a:r>
              <a:rPr b="1" lang="en-US" sz="3200" spc="-1" strike="noStrike">
                <a:solidFill>
                  <a:srgbClr val="073e87"/>
                </a:solidFill>
                <a:latin typeface="Tahoma"/>
                <a:ea typeface="华文行楷"/>
              </a:rPr>
              <a:t>…</a:t>
            </a:r>
            <a:r>
              <a:rPr b="1" lang="en-US" sz="2800" spc="-1" strike="noStrike">
                <a:solidFill>
                  <a:srgbClr val="073e87"/>
                </a:solidFill>
                <a:latin typeface="Tahoma"/>
                <a:ea typeface="华文行楷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12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362" name="Rectangle 13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14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364" name="Rectangle 15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" name="Group 16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366" name="Rectangle 17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Group 18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368" name="Rectangle 19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Rectangle 20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370" name="Picture 21" descr="59773"/>
          <p:cNvPicPr/>
          <p:nvPr/>
        </p:nvPicPr>
        <p:blipFill>
          <a:blip r:embed="rId1"/>
          <a:stretch/>
        </p:blipFill>
        <p:spPr>
          <a:xfrm>
            <a:off x="914400" y="533520"/>
            <a:ext cx="7086600" cy="4486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2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372" name="Rectangle 3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4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374" name="Rectangle 5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Group 6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376" name="Rectangle 7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7" name="Group 8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378" name="Rectangle 9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Rectangle 10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Times New Roman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380" name="Picture 11" descr="19299"/>
          <p:cNvPicPr/>
          <p:nvPr/>
        </p:nvPicPr>
        <p:blipFill>
          <a:blip r:embed="rId1"/>
          <a:stretch/>
        </p:blipFill>
        <p:spPr>
          <a:xfrm>
            <a:off x="1066680" y="457200"/>
            <a:ext cx="6858000" cy="44355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12"/>
          <p:cNvSpPr/>
          <p:nvPr/>
        </p:nvSpPr>
        <p:spPr>
          <a:xfrm>
            <a:off x="838080" y="50292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走过春夏秋冬，走过风风雨雨</a:t>
            </a:r>
            <a:r>
              <a:rPr b="1" lang="en-US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……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当我们如雄鹰展翅，所有的辛苦，所有的泪水，都会在一笑中淡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3" descr="ZW_015"/>
          <p:cNvPicPr/>
          <p:nvPr/>
        </p:nvPicPr>
        <p:blipFill>
          <a:blip r:embed="rId1"/>
          <a:stretch/>
        </p:blipFill>
        <p:spPr>
          <a:xfrm>
            <a:off x="2050920" y="2852640"/>
            <a:ext cx="3745080" cy="317664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ndara"/>
              </a:rPr>
              <a:t>家长代表经验交流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首先感谢您在百忙之中抽空来参加家长会。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04920" y="685800"/>
            <a:ext cx="58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d028"/>
                </a:solidFill>
                <a:latin typeface="黑体"/>
                <a:ea typeface="黑体"/>
              </a:rPr>
              <a:t>尊敬的各位家长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BD06662_"/>
          <p:cNvPicPr/>
          <p:nvPr/>
        </p:nvPicPr>
        <p:blipFill>
          <a:blip r:embed="rId1"/>
          <a:stretch/>
        </p:blipFill>
        <p:spPr>
          <a:xfrm>
            <a:off x="6400800" y="0"/>
            <a:ext cx="2514600" cy="2224080"/>
          </a:xfrm>
          <a:prstGeom prst="rect">
            <a:avLst/>
          </a:prstGeom>
          <a:ln w="0">
            <a:noFill/>
          </a:ln>
        </p:spPr>
      </p:pic>
      <p:sp>
        <p:nvSpPr>
          <p:cNvPr id="206" name="WordArt 5"/>
          <p:cNvSpPr txBox="1"/>
          <p:nvPr/>
        </p:nvSpPr>
        <p:spPr>
          <a:xfrm>
            <a:off x="2195640" y="5624640"/>
            <a:ext cx="52750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家长会13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200532382337zhangjunfe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WordArt 3"/>
          <p:cNvSpPr txBox="1"/>
          <p:nvPr/>
        </p:nvSpPr>
        <p:spPr>
          <a:xfrm>
            <a:off x="4067280" y="1125360"/>
            <a:ext cx="4114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欢 迎 监 督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91" name="WordArt 4"/>
          <p:cNvSpPr txBox="1"/>
          <p:nvPr/>
        </p:nvSpPr>
        <p:spPr>
          <a:xfrm>
            <a:off x="1547640" y="0"/>
            <a:ext cx="4191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感 谢 指 导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92" name="WordArt 6"/>
          <p:cNvSpPr txBox="1"/>
          <p:nvPr/>
        </p:nvSpPr>
        <p:spPr>
          <a:xfrm>
            <a:off x="609480" y="3200400"/>
            <a:ext cx="799488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祝各位家长：家庭幸福，事业顺利！</a:t>
            </a:r>
            <a:endParaRPr b="0" lang="en-US" sz="4800" spc="-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9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BJ3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0" y="4952520"/>
            <a:ext cx="6037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Candara"/>
                <a:ea typeface="楷体_GB2312"/>
              </a:rPr>
              <a:t>让我们携起来，共创孩子的美好明天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6" name="Picture 5" descr="ZW_015"/>
          <p:cNvPicPr/>
          <p:nvPr/>
        </p:nvPicPr>
        <p:blipFill>
          <a:blip r:embed="rId2"/>
          <a:stretch/>
        </p:blipFill>
        <p:spPr>
          <a:xfrm>
            <a:off x="179280" y="3716280"/>
            <a:ext cx="213696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1143000" y="9144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成長只有一次</a:t>
            </a:r>
            <a:r>
              <a:rPr b="0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陪孩子成長</a:t>
            </a:r>
            <a:r>
              <a:rPr b="0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让我们共同托起明天的太阳！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3" descr="ga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3247920"/>
            <a:ext cx="4290840" cy="338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3"/>
          <p:cNvSpPr/>
          <p:nvPr/>
        </p:nvSpPr>
        <p:spPr>
          <a:xfrm>
            <a:off x="3780000" y="4365720"/>
            <a:ext cx="133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rebuchet MS"/>
              </a:rPr>
              <a:t>再见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face5"/>
          <p:cNvPicPr/>
          <p:nvPr/>
        </p:nvPicPr>
        <p:blipFill>
          <a:blip r:embed="rId1"/>
          <a:stretch/>
        </p:blipFill>
        <p:spPr>
          <a:xfrm>
            <a:off x="304920" y="49528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hfy2"/>
          <p:cNvPicPr/>
          <p:nvPr/>
        </p:nvPicPr>
        <p:blipFill>
          <a:blip r:embed="rId2"/>
          <a:stretch/>
        </p:blipFill>
        <p:spPr>
          <a:xfrm>
            <a:off x="0" y="0"/>
            <a:ext cx="2635200" cy="29718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fw"/>
          <p:cNvPicPr/>
          <p:nvPr/>
        </p:nvPicPr>
        <p:blipFill>
          <a:blip r:embed="rId3"/>
          <a:stretch/>
        </p:blipFill>
        <p:spPr>
          <a:xfrm>
            <a:off x="6934320" y="380880"/>
            <a:ext cx="1904760" cy="1587600"/>
          </a:xfrm>
          <a:prstGeom prst="rect">
            <a:avLst/>
          </a:prstGeom>
          <a:ln w="0">
            <a:noFill/>
          </a:ln>
        </p:spPr>
      </p:pic>
      <p:sp>
        <p:nvSpPr>
          <p:cNvPr id="403" name="WordArt 2"/>
          <p:cNvSpPr txBox="1"/>
          <p:nvPr/>
        </p:nvSpPr>
        <p:spPr>
          <a:xfrm>
            <a:off x="1317600" y="3124080"/>
            <a:ext cx="685800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1b6fd"/>
                </a:solidFill>
                <a:latin typeface="隶书"/>
              </a:rPr>
              <a:t>家长会到此结束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31b6fd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1b6fd"/>
                </a:solidFill>
                <a:latin typeface="隶书"/>
              </a:rPr>
              <a:t>祝各位家长健康愉快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31b6fd"/>
              </a:solidFill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0"/>
            <a:ext cx="9144000" cy="74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a5d028"/>
                </a:solidFill>
                <a:latin typeface="华文隶书"/>
                <a:ea typeface="华文隶书"/>
              </a:rPr>
              <a:t>知识改变命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a5d028"/>
                </a:solidFill>
                <a:latin typeface="华文隶书"/>
                <a:ea typeface="华文隶书"/>
              </a:rPr>
              <a:t>态度决定一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a5d028"/>
                </a:solidFill>
                <a:latin typeface="华文隶书"/>
                <a:ea typeface="华文隶书"/>
              </a:rPr>
              <a:t>刻苦完成学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a5d028"/>
                </a:solidFill>
                <a:latin typeface="华文隶书"/>
                <a:ea typeface="华文隶书"/>
              </a:rPr>
              <a:t>奋斗成就人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3602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家长会议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93760" y="1628640"/>
            <a:ext cx="83818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家长会召开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班级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学生在校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联考情况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存在的问题及下一阶段工作思路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需要家长配合的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给家长的一些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个别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971640" y="1197000"/>
            <a:ext cx="754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本次家长会的目的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促进交流与合作，达成教育共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843280" y="1700280"/>
            <a:ext cx="518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家长积极配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老师倾情教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生努力进步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0" y="333360"/>
            <a:ext cx="2987640" cy="2548080"/>
          </a:xfrm>
          <a:prstGeom prst="cloudCallout">
            <a:avLst>
              <a:gd name="adj1" fmla="val 29810"/>
              <a:gd name="adj2" fmla="val 770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汉仪中圆简"/>
                <a:ea typeface="汉仪中圆简"/>
              </a:rPr>
              <a:t>我们的</a:t>
            </a:r>
            <a:r>
              <a:rPr b="1" lang="zh-CN" sz="6000" spc="-1" strike="noStrike">
                <a:solidFill>
                  <a:srgbClr val="ff0000"/>
                </a:solidFill>
                <a:latin typeface="汉仪中圆简"/>
                <a:ea typeface="汉仪中圆简"/>
              </a:rPr>
              <a:t>愿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0:43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9:01Z</dcterms:modified>
  <cp:revision>14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