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789-362F-48D5-9B73-23250328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281-E206-41FE-8450-B8B4C430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1C0-BC3D-4B92-AE15-B0DEF457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D75-0AC8-431B-9985-DB87C225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4E19-7033-4D00-A357-CD41EE91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3B96-9C35-43A7-B60B-BD2BC0B5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8B0D-577C-4AD2-A515-229B0399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917E-E562-41A7-BC14-927B3C50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22A7-3DC8-4E0A-BE29-90C9922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8FCE-44F1-46A5-9948-A83C6E01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FBCD-4B1B-4F6C-895F-5578A9DC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89C-E5ED-4FF9-BB78-7863A906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D839-1892-4556-BD75-5C43B4DB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E219-5A90-4886-BB8A-7CD6D87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CA04-1D6E-4B1E-A34B-92F58003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EEBD-787E-4F1A-A2AB-FFA58439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27F0-092B-4207-A87C-A05D5EE2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D86-5A1E-4007-B764-56737755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BB9-CEA5-4413-88B4-141B597E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492-2B98-4F57-9A5C-812BEFF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59B-0C4A-4FB5-AA7F-655CD1CB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961-6F1F-4B13-9B70-C772E234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040-89C7-4884-A571-64EF23E7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692-E67C-4D6E-AD55-795A3DC5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未知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1047600"/>
            <a:ext cx="0" cy="512604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未知"/>
          <p:cNvSpPr/>
          <p:nvPr/>
        </p:nvSpPr>
        <p:spPr>
          <a:xfrm>
            <a:off x="-1440" y="6161040"/>
            <a:ext cx="86328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f8d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-98280" y="6482880"/>
            <a:ext cx="50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A782-5CEE-4208-99DA-1E555727E91B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未知"/>
          <p:cNvSpPr/>
          <p:nvPr/>
        </p:nvSpPr>
        <p:spPr>
          <a:xfrm>
            <a:off x="1878120" y="-6480"/>
            <a:ext cx="7269120" cy="6883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2c82a7"/>
              </a:gs>
              <a:gs pos="100000">
                <a:srgbClr val="37a3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medical_blue_motion06"/>
          <p:cNvPicPr/>
          <p:nvPr/>
        </p:nvPicPr>
        <p:blipFill>
          <a:blip r:embed="rId2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445E-E201-49FC-AB06-A02C3E86007D}" type="slidenum">
              <a:rPr b="0" lang="ko-KR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1811160" y="1455840"/>
            <a:ext cx="0" cy="312876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71440" y="-1440"/>
            <a:ext cx="1552680" cy="1582560"/>
            <a:chOff x="271440" y="-1440"/>
            <a:chExt cx="1552680" cy="1582560"/>
          </a:xfrm>
        </p:grpSpPr>
        <p:sp>
          <p:nvSpPr>
            <p:cNvPr id="93" name="未知"/>
            <p:cNvSpPr/>
            <p:nvPr/>
          </p:nvSpPr>
          <p:spPr>
            <a:xfrm>
              <a:off x="1036440" y="-1440"/>
              <a:ext cx="787680" cy="158256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71440" y="2880"/>
              <a:ext cx="895320" cy="29628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未知"/>
          <p:cNvSpPr/>
          <p:nvPr/>
        </p:nvSpPr>
        <p:spPr>
          <a:xfrm>
            <a:off x="1871640" y="-6480"/>
            <a:ext cx="1895400" cy="151632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871640" y="-11160"/>
            <a:ext cx="2138400" cy="157788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未知"/>
          <p:cNvSpPr/>
          <p:nvPr/>
        </p:nvSpPr>
        <p:spPr>
          <a:xfrm>
            <a:off x="1871640" y="-11160"/>
            <a:ext cx="2338560" cy="162396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未知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1876320" y="1552680"/>
            <a:ext cx="0" cy="2957400"/>
          </a:xfrm>
          <a:prstGeom prst="line">
            <a:avLst/>
          </a:prstGeom>
          <a:ln w="9360">
            <a:solidFill>
              <a:srgbClr val="37a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esign Template 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1808280" y="-6480"/>
            <a:ext cx="7332480" cy="694368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86560" y="1125360"/>
            <a:ext cx="25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国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61D8-B104-42EB-AEFB-DF7616BB9D8B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57168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57168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9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263760" y="198432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3263760" y="557856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5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1" y="0"/>
                </a:moveTo>
                <a:arcTo wR="2521" hR="2521" stAng="16200000" swAng="-5400000"/>
                <a:lnTo>
                  <a:pt x="0" y="35172"/>
                </a:lnTo>
                <a:arcTo wR="2521" hR="2521" stAng="10800000" swAng="-5400000"/>
                <a:lnTo>
                  <a:pt x="19079" y="37693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"/>
          <p:cNvSpPr/>
          <p:nvPr/>
        </p:nvSpPr>
        <p:spPr>
          <a:xfrm>
            <a:off x="595620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9"/>
          <p:cNvSpPr/>
          <p:nvPr/>
        </p:nvSpPr>
        <p:spPr>
          <a:xfrm>
            <a:off x="595620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未知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未知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24"/>
          <p:cNvGraphicFramePr/>
          <p:nvPr/>
        </p:nvGraphicFramePr>
        <p:xfrm>
          <a:off x="826920" y="2101680"/>
          <a:ext cx="230508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1680"/>
                    <a:ext cx="23050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未知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未知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27"/>
          <p:cNvGraphicFramePr/>
          <p:nvPr/>
        </p:nvGraphicFramePr>
        <p:xfrm>
          <a:off x="3365640" y="2184480"/>
          <a:ext cx="246852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18448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未知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Object 30" descr=""/>
          <p:cNvPicPr/>
          <p:nvPr/>
        </p:nvPicPr>
        <p:blipFill>
          <a:blip r:embed="rId5"/>
          <a:stretch/>
        </p:blipFill>
        <p:spPr>
          <a:xfrm>
            <a:off x="6058080" y="2044800"/>
            <a:ext cx="2468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9895-87B3-4306-9683-3D5EDFB58B57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268" name="Rectangle 6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1" name="Object 9" descr=""/>
          <p:cNvPicPr/>
          <p:nvPr/>
        </p:nvPicPr>
        <p:blipFill>
          <a:blip r:embed="rId1"/>
          <a:stretch/>
        </p:blipFill>
        <p:spPr>
          <a:xfrm>
            <a:off x="330120" y="843120"/>
            <a:ext cx="792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425c"/>
                </a:solidFill>
                <a:latin typeface="Verdana"/>
              </a:rPr>
              <a:t>使用规范说明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061-74C5-4075-A0EF-739350EF82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74E-6797-461B-8D78-B79981636813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1857240" y="1735200"/>
            <a:ext cx="6029280" cy="709560"/>
            <a:chOff x="1857240" y="1735200"/>
            <a:chExt cx="6029280" cy="709560"/>
          </a:xfrm>
        </p:grpSpPr>
        <p:sp>
          <p:nvSpPr>
            <p:cNvPr id="112" name="Rectangle 4"/>
            <p:cNvSpPr/>
            <p:nvPr/>
          </p:nvSpPr>
          <p:spPr>
            <a:xfrm>
              <a:off x="2185920" y="176364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1857240" y="174168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1857240" y="2712960"/>
            <a:ext cx="6029280" cy="709560"/>
            <a:chOff x="1857240" y="2712960"/>
            <a:chExt cx="6029280" cy="709560"/>
          </a:xfrm>
        </p:grpSpPr>
        <p:sp>
          <p:nvSpPr>
            <p:cNvPr id="117" name="Rectangle 9"/>
            <p:cNvSpPr/>
            <p:nvPr/>
          </p:nvSpPr>
          <p:spPr>
            <a:xfrm>
              <a:off x="2185920" y="274140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3281400" y="283824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1857240" y="3691080"/>
            <a:ext cx="6029280" cy="709560"/>
            <a:chOff x="1857240" y="3691080"/>
            <a:chExt cx="6029280" cy="709560"/>
          </a:xfrm>
        </p:grpSpPr>
        <p:sp>
          <p:nvSpPr>
            <p:cNvPr id="122" name="Rectangle 14"/>
            <p:cNvSpPr/>
            <p:nvPr/>
          </p:nvSpPr>
          <p:spPr>
            <a:xfrm>
              <a:off x="2185920" y="371952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1857240" y="369756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8"/>
          <p:cNvGrpSpPr/>
          <p:nvPr/>
        </p:nvGrpSpPr>
        <p:grpSpPr>
          <a:xfrm>
            <a:off x="1857240" y="4668840"/>
            <a:ext cx="6029280" cy="709560"/>
            <a:chOff x="1857240" y="4668840"/>
            <a:chExt cx="6029280" cy="709560"/>
          </a:xfrm>
        </p:grpSpPr>
        <p:sp>
          <p:nvSpPr>
            <p:cNvPr id="127" name="Rectangle 19"/>
            <p:cNvSpPr/>
            <p:nvPr/>
          </p:nvSpPr>
          <p:spPr>
            <a:xfrm>
              <a:off x="2185920" y="469728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2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56CC-1467-4869-92A6-2EF7770B9A20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B30C-0220-4427-82FA-133C09C16D2B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89cfe8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37a3d1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153" name="Rectangle 20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16D9-37DB-434E-B4EE-EAA44070B143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0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CA8F-7680-4786-B40D-AC3063C9E174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181" name="Rectangle 8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10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C238-DEC3-4B6D-BB12-0CDF9D63651A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189" name="Rectangle 4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41436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6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192" name="Rectangle 7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480852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Rectangle 9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>
              <a:gd name="textAreaLeft" fmla="*/ 432720 w 4327560"/>
              <a:gd name="textAreaRight" fmla="*/ 3894840 w 4327560"/>
              <a:gd name="textAreaTop" fmla="*/ 1730880 h 4327560"/>
              <a:gd name="textAreaBottom" fmla="*/ 2596680 h 432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4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76BE-B47F-42B5-948A-59CAFD143E1B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4" y="0"/>
                </a:moveTo>
                <a:arcTo wR="3134" hR="3134" stAng="16200000" swAng="-5400000"/>
                <a:lnTo>
                  <a:pt x="0" y="27306"/>
                </a:lnTo>
                <a:arcTo wR="3134" hR="3134" stAng="10800000" swAng="-5400000"/>
                <a:lnTo>
                  <a:pt x="18466" y="30440"/>
                </a:lnTo>
                <a:arcTo wR="3134" hR="3134" stAng="5400000" swAng="-5400000"/>
                <a:lnTo>
                  <a:pt x="21600" y="3134"/>
                </a:lnTo>
                <a:arcTo wR="3134" hR="3134" stAng="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7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584280" y="191772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4"/>
          <p:cNvSpPr/>
          <p:nvPr/>
        </p:nvSpPr>
        <p:spPr>
          <a:xfrm>
            <a:off x="584280" y="596916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807B-98D8-4F0C-BFCB-CA9D6F0B2C99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9cfe8"/>
                </a:solidFill>
                <a:uFillTx/>
                <a:latin typeface="Times New Roman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44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18:39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