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849-E7A1-468D-88E4-63B51C46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79F-15E8-4F19-995F-7AD2DD28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16B-8BF2-4ED2-B42E-CD86D3EC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8C1-B447-4527-851C-439BFBBC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1E0-E60D-4D48-B567-A701A6E4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232-3682-4386-AA52-37A8588D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D6F-1230-4451-B7D8-259AEBDE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286-6080-4EB0-B695-122943C4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38A-87C0-4255-BD41-61D0FE69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C91-2EB9-4A03-ACB4-49FE41D6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858-EBC1-4A0A-8803-71B7D29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C19-2B9C-4D28-8600-E87847AE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446-3A0D-4E89-B8C4-21D1E93927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965B-54DE-48D2-9DCF-42F0936D47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36360" y="-2700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0800" y="227664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关于生物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24" name="矩形 2"/>
          <p:cNvSpPr/>
          <p:nvPr/>
        </p:nvSpPr>
        <p:spPr>
          <a:xfrm>
            <a:off x="324000" y="4365720"/>
            <a:ext cx="6065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26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5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6"/>
          <p:cNvSpPr/>
          <p:nvPr/>
        </p:nvSpPr>
        <p:spPr>
          <a:xfrm>
            <a:off x="4095720" y="270828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3F6-5E7D-4D83-B084-10ECAF52FA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55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74560" y="4005360"/>
          <a:ext cx="7994520" cy="2017440"/>
        </p:xfrm>
        <a:graphic>
          <a:graphicData uri="http://schemas.openxmlformats.org/drawingml/2006/table">
            <a:tbl>
              <a:tblPr/>
              <a:tblGrid>
                <a:gridCol w="3584520"/>
                <a:gridCol w="441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5000"/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C9B-4371-4904-B376-9FB35F11A7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64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67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70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73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259-93A5-4F3A-BB8F-F69E06CD98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6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9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  <a:ea typeface="宋体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8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2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5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8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101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4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7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10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3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6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肘形连接符 14"/>
            <p:cNvCxnSpPr/>
            <p:nvPr/>
          </p:nvCxnSpPr>
          <p:spPr>
            <a:xfrm flipV="1" rot="10800000">
              <a:off x="3347280" y="3825720"/>
              <a:ext cx="1801080" cy="889560"/>
            </a:xfrm>
            <a:prstGeom prst="bentConnector3">
              <a:avLst>
                <a:gd name="adj1" fmla="val 2475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29" name="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肘形连接符 33"/>
            <p:cNvCxnSpPr/>
            <p:nvPr/>
          </p:nvCxnSpPr>
          <p:spPr>
            <a:xfrm>
              <a:off x="6435720" y="3897000"/>
              <a:ext cx="1347120" cy="689040"/>
            </a:xfrm>
            <a:prstGeom prst="bentConnector3">
              <a:avLst>
                <a:gd name="adj1" fmla="val 27719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4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肘形连接符 37"/>
            <p:cNvCxnSpPr/>
            <p:nvPr/>
          </p:nvCxnSpPr>
          <p:spPr>
            <a:xfrm>
              <a:off x="4973400" y="3398760"/>
              <a:ext cx="724680" cy="689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38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肘形连接符 41"/>
            <p:cNvCxnSpPr/>
            <p:nvPr/>
          </p:nvCxnSpPr>
          <p:spPr>
            <a:xfrm>
              <a:off x="7103880" y="3479400"/>
              <a:ext cx="724680" cy="6894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41" name="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2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肘形连接符 45"/>
            <p:cNvCxnSpPr/>
            <p:nvPr/>
          </p:nvCxnSpPr>
          <p:spPr>
            <a:xfrm flipV="1" rot="10800000">
              <a:off x="3557160" y="3352320"/>
              <a:ext cx="716040" cy="689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45" name="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46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肘形连接符 49"/>
            <p:cNvCxnSpPr/>
            <p:nvPr/>
          </p:nvCxnSpPr>
          <p:spPr>
            <a:xfrm>
              <a:off x="7794360" y="3479760"/>
              <a:ext cx="581400" cy="1087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49" name="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5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肘形连接符 55"/>
            <p:cNvCxnSpPr>
              <a:stCxn id="151" idx="6"/>
              <a:endCxn id="15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53" name="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5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" name="肘形连接符 60"/>
            <p:cNvCxnSpPr/>
            <p:nvPr/>
          </p:nvCxnSpPr>
          <p:spPr>
            <a:xfrm>
              <a:off x="1550880" y="2584080"/>
              <a:ext cx="724320" cy="689400"/>
            </a:xfrm>
            <a:prstGeom prst="bentConnector3">
              <a:avLst>
                <a:gd name="adj1" fmla="val 49975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57" name="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58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肘形连接符 64"/>
            <p:cNvCxnSpPr/>
            <p:nvPr/>
          </p:nvCxnSpPr>
          <p:spPr>
            <a:xfrm>
              <a:off x="7681680" y="5091120"/>
              <a:ext cx="724680" cy="689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sp>
        <p:nvSpPr>
          <p:cNvPr id="161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1116000" y="3284640"/>
            <a:ext cx="343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rcRect l="17871" t="0" r="6448" b="0"/>
          <a:stretch/>
        </p:blipFill>
        <p:spPr>
          <a:xfrm flipH="1">
            <a:off x="-9252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77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“地球上的人类已免于天花疾病”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98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02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3933720"/>
            <a:ext cx="3240000" cy="2159280"/>
            <a:chOff x="324000" y="3933720"/>
            <a:chExt cx="3240000" cy="2159280"/>
          </a:xfrm>
        </p:grpSpPr>
        <p:sp>
          <p:nvSpPr>
            <p:cNvPr id="207" name="剪去单角的矩形 19"/>
            <p:cNvSpPr/>
            <p:nvPr/>
          </p:nvSpPr>
          <p:spPr>
            <a:xfrm>
              <a:off x="324000" y="3933720"/>
              <a:ext cx="3240000" cy="2159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2159280"/>
                <a:gd name="textAreaBottom" fmla="*/ 2159640 h 2159280"/>
              </a:gdLst>
              <a:ahLst/>
              <a:rect l="textAreaLeft" t="textAreaTop" r="textAreaRight" b="textAreaBottom"/>
              <a:pathLst>
                <a:path w="3240450" h="2160300">
                  <a:moveTo>
                    <a:pt x="0" y="0"/>
                  </a:moveTo>
                  <a:lnTo>
                    <a:pt x="2880392" y="0"/>
                  </a:lnTo>
                  <a:lnTo>
                    <a:pt x="3240450" y="360057"/>
                  </a:lnTo>
                  <a:lnTo>
                    <a:pt x="3240450" y="2160300"/>
                  </a:lnTo>
                  <a:lnTo>
                    <a:pt x="0" y="21603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09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12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6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“牛痘接种术”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箭头连接符 6"/>
          <p:cNvCxnSpPr/>
          <p:nvPr/>
        </p:nvCxnSpPr>
        <p:spPr>
          <a:xfrm>
            <a:off x="1835280" y="2333160"/>
            <a:ext cx="2160" cy="359640"/>
          </a:xfrm>
          <a:prstGeom prst="straightConnector1">
            <a:avLst/>
          </a:prstGeom>
          <a:ln w="38160">
            <a:solidFill>
              <a:srgbClr val="ff550d"/>
            </a:solidFill>
            <a:miter/>
            <a:tailEnd len="med" type="arrow" w="med"/>
          </a:ln>
        </p:spPr>
      </p:cxnSp>
      <p:sp>
        <p:nvSpPr>
          <p:cNvPr id="222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20:46Z</dcterms:modified>
  <cp:revision>12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