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26F-D35E-4BCE-B255-27E726FE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E7F-6D58-4895-9FB4-792902EB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CEF-B50B-4438-8905-1D3BDC97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C85-557B-414A-80D4-89CCB5BB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5752-0D6D-487C-9A63-F17E7010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CCA3-7B2E-420C-9472-3AF253C2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80C0-518E-4C62-B746-B2E98AD8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5D78-AC53-4033-8A6B-227388AC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2E76-4A98-4404-9804-C6E50E2D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A737-48AF-434B-A0B3-C30E54F3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CDA1-6870-4F47-B051-03D839F3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155-E411-47EB-917D-A9A9AC89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F128-6CE0-4BF0-8575-7C2DE251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ADE3-821A-4621-9F32-4332F834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2F14-5EE1-41EE-92AE-8701EA59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DF4D-8584-460B-A613-2AEF1AB0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C403-7746-4B30-B4DC-F682EE28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4D3B-FA25-4D45-9CEF-A67B75EE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FA7-2174-4380-A1C0-C73B50E1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CBC-20EB-40DF-8F4D-DE42BBBE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373-CA5F-4AC9-9E70-553D956A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88C-A4CD-477C-B956-4D8E3104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FBE-66C7-4B87-B1F8-C919B2D6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2F5-8971-4175-8AB7-FC1AF752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1281-DD38-4EAB-ABFF-4A98B24D197E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对角圆角矩形 6"/>
          <p:cNvSpPr/>
          <p:nvPr/>
        </p:nvSpPr>
        <p:spPr>
          <a:xfrm>
            <a:off x="88920" y="115920"/>
            <a:ext cx="8929800" cy="6626160"/>
          </a:xfrm>
          <a:custGeom>
            <a:avLst/>
            <a:gdLst/>
            <a:ahLst/>
            <a:rect l="l" t="t" r="r" b="b"/>
            <a:pathLst>
              <a:path w="8928992" h="6624736">
                <a:moveTo>
                  <a:pt x="1104145" y="0"/>
                </a:moveTo>
                <a:lnTo>
                  <a:pt x="8928992" y="0"/>
                </a:lnTo>
                <a:lnTo>
                  <a:pt x="8928992" y="5520591"/>
                </a:lnTo>
                <a:cubicBezTo>
                  <a:pt x="8928992" y="6130393"/>
                  <a:pt x="8434649" y="6624736"/>
                  <a:pt x="7824847" y="6624736"/>
                </a:cubicBezTo>
                <a:lnTo>
                  <a:pt x="0" y="6624736"/>
                </a:lnTo>
                <a:lnTo>
                  <a:pt x="0" y="1104145"/>
                </a:lnTo>
                <a:cubicBezTo>
                  <a:pt x="0" y="494343"/>
                  <a:pt x="494343" y="0"/>
                  <a:pt x="1104145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3B58-D28D-47C8-A20C-9B370B561D1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2139120" y="2492280"/>
            <a:ext cx="47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黑白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7"/>
          <p:cNvSpPr/>
          <p:nvPr/>
        </p:nvSpPr>
        <p:spPr>
          <a:xfrm>
            <a:off x="395280" y="3645000"/>
            <a:ext cx="856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6434280" y="3665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7"/>
          <p:cNvGrpSpPr/>
          <p:nvPr/>
        </p:nvGrpSpPr>
        <p:grpSpPr>
          <a:xfrm>
            <a:off x="1116000" y="115920"/>
            <a:ext cx="7559280" cy="1512720"/>
            <a:chOff x="1116000" y="115920"/>
            <a:chExt cx="7559280" cy="1512720"/>
          </a:xfrm>
        </p:grpSpPr>
        <p:sp>
          <p:nvSpPr>
            <p:cNvPr id="86" name="矩形 12"/>
            <p:cNvSpPr/>
            <p:nvPr/>
          </p:nvSpPr>
          <p:spPr>
            <a:xfrm>
              <a:off x="1116000" y="115920"/>
              <a:ext cx="359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矩形 13"/>
            <p:cNvSpPr/>
            <p:nvPr/>
          </p:nvSpPr>
          <p:spPr>
            <a:xfrm>
              <a:off x="1620000" y="115920"/>
              <a:ext cx="35964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14"/>
            <p:cNvSpPr/>
            <p:nvPr/>
          </p:nvSpPr>
          <p:spPr>
            <a:xfrm>
              <a:off x="212400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矩形 15"/>
            <p:cNvSpPr/>
            <p:nvPr/>
          </p:nvSpPr>
          <p:spPr>
            <a:xfrm>
              <a:off x="3203640" y="115920"/>
              <a:ext cx="359640" cy="10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矩形 16"/>
            <p:cNvSpPr/>
            <p:nvPr/>
          </p:nvSpPr>
          <p:spPr>
            <a:xfrm>
              <a:off x="370764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4211640" y="115920"/>
              <a:ext cx="35964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18"/>
            <p:cNvSpPr/>
            <p:nvPr/>
          </p:nvSpPr>
          <p:spPr>
            <a:xfrm>
              <a:off x="527508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矩形 19"/>
            <p:cNvSpPr/>
            <p:nvPr/>
          </p:nvSpPr>
          <p:spPr>
            <a:xfrm>
              <a:off x="577908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矩形 20"/>
            <p:cNvSpPr/>
            <p:nvPr/>
          </p:nvSpPr>
          <p:spPr>
            <a:xfrm>
              <a:off x="628308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矩形 21"/>
            <p:cNvSpPr/>
            <p:nvPr/>
          </p:nvSpPr>
          <p:spPr>
            <a:xfrm>
              <a:off x="7307640" y="115920"/>
              <a:ext cx="35964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矩形 22"/>
            <p:cNvSpPr/>
            <p:nvPr/>
          </p:nvSpPr>
          <p:spPr>
            <a:xfrm>
              <a:off x="781164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 23"/>
            <p:cNvSpPr/>
            <p:nvPr/>
          </p:nvSpPr>
          <p:spPr>
            <a:xfrm>
              <a:off x="8315640" y="115920"/>
              <a:ext cx="359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2484360" y="1557360"/>
            <a:ext cx="4464000" cy="4464000"/>
            <a:chOff x="2484360" y="1557360"/>
            <a:chExt cx="4464000" cy="4464000"/>
          </a:xfrm>
        </p:grpSpPr>
        <p:sp>
          <p:nvSpPr>
            <p:cNvPr id="100" name="AutoShape 26"/>
            <p:cNvSpPr/>
            <p:nvPr/>
          </p:nvSpPr>
          <p:spPr>
            <a:xfrm flipH="1" rot="16200000">
              <a:off x="1614960" y="3131640"/>
              <a:ext cx="3002400" cy="1263600"/>
            </a:xfrm>
            <a:custGeom>
              <a:avLst/>
              <a:gdLst>
                <a:gd name="textAreaLeft" fmla="*/ 625320 w 3002400"/>
                <a:gd name="textAreaRight" fmla="*/ 2377080 w 300240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3214080" y="1557360"/>
              <a:ext cx="3004560" cy="1263600"/>
            </a:xfrm>
            <a:custGeom>
              <a:avLst/>
              <a:gdLst>
                <a:gd name="textAreaLeft" fmla="*/ 625680 w 3004560"/>
                <a:gd name="textAreaRight" fmla="*/ 2378880 w 300456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24"/>
            <p:cNvSpPr/>
            <p:nvPr/>
          </p:nvSpPr>
          <p:spPr>
            <a:xfrm flipV="1">
              <a:off x="3214080" y="4757760"/>
              <a:ext cx="3004560" cy="1263600"/>
            </a:xfrm>
            <a:custGeom>
              <a:avLst/>
              <a:gdLst>
                <a:gd name="textAreaLeft" fmla="*/ 625680 w 3004560"/>
                <a:gd name="textAreaRight" fmla="*/ 2378880 w 300456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25"/>
            <p:cNvSpPr/>
            <p:nvPr/>
          </p:nvSpPr>
          <p:spPr>
            <a:xfrm rot="5400000">
              <a:off x="4815360" y="3133800"/>
              <a:ext cx="3002400" cy="1263600"/>
            </a:xfrm>
            <a:custGeom>
              <a:avLst/>
              <a:gdLst>
                <a:gd name="textAreaLeft" fmla="*/ 625320 w 3002400"/>
                <a:gd name="textAreaRight" fmla="*/ 2377080 w 3002400"/>
                <a:gd name="textAreaTop" fmla="*/ 263160 h 1263600"/>
                <a:gd name="textAreaBottom" fmla="*/ 10004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1"/>
            <p:cNvSpPr/>
            <p:nvPr/>
          </p:nvSpPr>
          <p:spPr>
            <a:xfrm>
              <a:off x="3738960" y="2818440"/>
              <a:ext cx="1954800" cy="195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3963960" y="3016800"/>
              <a:ext cx="1504440" cy="1506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TextBox 15"/>
          <p:cNvSpPr/>
          <p:nvPr/>
        </p:nvSpPr>
        <p:spPr>
          <a:xfrm>
            <a:off x="121536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17"/>
          <p:cNvSpPr/>
          <p:nvPr/>
        </p:nvSpPr>
        <p:spPr>
          <a:xfrm>
            <a:off x="250920" y="1197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18"/>
          <p:cNvSpPr/>
          <p:nvPr/>
        </p:nvSpPr>
        <p:spPr>
          <a:xfrm>
            <a:off x="250920" y="623736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432036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2693880" y="3562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5946120" y="3562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4467960" y="5189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3"/>
          <p:cNvSpPr/>
          <p:nvPr/>
        </p:nvSpPr>
        <p:spPr>
          <a:xfrm>
            <a:off x="4320360" y="3595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4"/>
          <p:cNvSpPr/>
          <p:nvPr/>
        </p:nvSpPr>
        <p:spPr>
          <a:xfrm>
            <a:off x="565200" y="1589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5"/>
          <p:cNvSpPr/>
          <p:nvPr/>
        </p:nvSpPr>
        <p:spPr>
          <a:xfrm>
            <a:off x="471240" y="1989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6"/>
          <p:cNvSpPr/>
          <p:nvPr/>
        </p:nvSpPr>
        <p:spPr>
          <a:xfrm>
            <a:off x="7410240" y="30225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7316640" y="34225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AED3-6378-4F75-AABC-429582280C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421920" y="5229360"/>
            <a:ext cx="7561080" cy="1512720"/>
            <a:chOff x="421920" y="5229360"/>
            <a:chExt cx="7561080" cy="1512720"/>
          </a:xfrm>
        </p:grpSpPr>
        <p:sp>
          <p:nvSpPr>
            <p:cNvPr id="122" name="矩形 2"/>
            <p:cNvSpPr/>
            <p:nvPr/>
          </p:nvSpPr>
          <p:spPr>
            <a:xfrm rot="10800000">
              <a:off x="7623000" y="6165720"/>
              <a:ext cx="3600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3"/>
            <p:cNvSpPr/>
            <p:nvPr/>
          </p:nvSpPr>
          <p:spPr>
            <a:xfrm rot="10800000">
              <a:off x="7119000" y="5949720"/>
              <a:ext cx="36000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4"/>
            <p:cNvSpPr/>
            <p:nvPr/>
          </p:nvSpPr>
          <p:spPr>
            <a:xfrm rot="10800000">
              <a:off x="661500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5"/>
            <p:cNvSpPr/>
            <p:nvPr/>
          </p:nvSpPr>
          <p:spPr>
            <a:xfrm rot="10800000">
              <a:off x="5534640" y="5661360"/>
              <a:ext cx="360000" cy="10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 rot="10800000">
              <a:off x="503064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7"/>
            <p:cNvSpPr/>
            <p:nvPr/>
          </p:nvSpPr>
          <p:spPr>
            <a:xfrm rot="10800000">
              <a:off x="4526640" y="5229360"/>
              <a:ext cx="36000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8"/>
            <p:cNvSpPr/>
            <p:nvPr/>
          </p:nvSpPr>
          <p:spPr>
            <a:xfrm rot="10800000">
              <a:off x="346320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9"/>
            <p:cNvSpPr/>
            <p:nvPr/>
          </p:nvSpPr>
          <p:spPr>
            <a:xfrm rot="10800000">
              <a:off x="295920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矩形 10"/>
            <p:cNvSpPr/>
            <p:nvPr/>
          </p:nvSpPr>
          <p:spPr>
            <a:xfrm rot="10800000">
              <a:off x="245484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矩形 11"/>
            <p:cNvSpPr/>
            <p:nvPr/>
          </p:nvSpPr>
          <p:spPr>
            <a:xfrm rot="10800000">
              <a:off x="1429920" y="5805720"/>
              <a:ext cx="36000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矩形 12"/>
            <p:cNvSpPr/>
            <p:nvPr/>
          </p:nvSpPr>
          <p:spPr>
            <a:xfrm rot="10800000">
              <a:off x="92592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13"/>
            <p:cNvSpPr/>
            <p:nvPr/>
          </p:nvSpPr>
          <p:spPr>
            <a:xfrm rot="10800000">
              <a:off x="421920" y="6454080"/>
              <a:ext cx="360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TextBox 14"/>
          <p:cNvSpPr/>
          <p:nvPr/>
        </p:nvSpPr>
        <p:spPr>
          <a:xfrm>
            <a:off x="3749040" y="20304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15"/>
          <p:cNvSpPr/>
          <p:nvPr/>
        </p:nvSpPr>
        <p:spPr>
          <a:xfrm>
            <a:off x="395280" y="3645000"/>
            <a:ext cx="856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5613840" y="376236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位名称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5819400" y="4149720"/>
            <a:ext cx="7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告人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5:1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06:27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