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792-09A1-46B2-BB1C-BA3C34B1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E3B9-FF65-47AF-9EA4-7F71E74B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CA40-BE1D-42B3-AD1A-65366832A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8DFE-538D-4979-B4D3-064BFACEB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C119-810B-4E42-B2AA-315948B74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6A37-D2F6-4472-B57A-FA2C095A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1E2D-0516-47F7-891A-2257853F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CEE3-C52E-4F57-AABB-54927CF7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8D15-EB66-42FA-9DBF-65C3BE5A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FBE3-704F-41A0-9DAF-222A700F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207F-D5DA-46A3-825A-AE6668E45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A7DB-2882-4377-9205-4B9CF82E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D050-31BD-458F-B18E-A276BE74DE2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6419" t="0" r="0" b="0"/>
          <a:stretch/>
        </p:blipFill>
        <p:spPr>
          <a:xfrm>
            <a:off x="0" y="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63560" y="4343400"/>
            <a:ext cx="25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28480" y="15228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黑白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31C1-656B-48FE-963B-DD5C3A3554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27T05:22:0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26:14Z</dcterms:modified>
  <cp:revision>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