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8162-EFAA-4CAA-AFC4-9BBE4DA66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C8B4-1EE2-46B7-914F-296AD219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804B-F2A5-429A-8A3F-04F2DAE2E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3BFD-66BA-475E-9353-3BF52C6DB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CA7D-BAEA-47DB-9870-1001CE97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E6A9-2E8A-49F2-A291-8BE0B299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B68A-97A5-4A60-9C9F-D6E01D99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276A-09ED-4D66-9A65-368467E9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24B4-64A8-4E69-B56A-214294FD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B592-B578-4159-AFFF-2096D590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122D-0606-4F2F-908D-AB62307A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0EAD-8EA9-4189-958D-B32B8ACA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C809-1100-4F6A-9CC7-4D250DB05A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019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火车轨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素材免费下载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2060640"/>
            <a:ext cx="4957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Your Subtitle Goes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Your Topic Goes He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Your subtitle goes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31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Transitional Pag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Your Subtitle Goes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2238480" y="6515280"/>
            <a:ext cx="47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素材 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Your Topic Goes He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Your subtopics go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52280" y="944640"/>
            <a:ext cx="243864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These are full sized backdrops, just scale them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Can be Copy-Pasted out of Templates for use an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2753280" y="93816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itl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343760" y="93816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lid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5672520" y="93816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ransitional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7487280" y="93816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int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>
            <a:hlinkClick r:id="rId1"/>
          </p:cNvPr>
          <p:cNvSpPr/>
          <p:nvPr/>
        </p:nvSpPr>
        <p:spPr>
          <a:xfrm>
            <a:off x="457920" y="700200"/>
            <a:ext cx="1508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www.animationfactory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>
            <a:off x="457200" y="25448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152280" y="2590920"/>
            <a:ext cx="2362320" cy="21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Additional Graphic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cale them up or dow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GIF clipart is anim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JPG clipart can be scaled up and take up little file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PNG clipart can be scaled unusually large without distor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railway_prt"/>
          <p:cNvPicPr/>
          <p:nvPr/>
        </p:nvPicPr>
        <p:blipFill>
          <a:blip r:embed="rId2"/>
          <a:stretch/>
        </p:blipFill>
        <p:spPr>
          <a:xfrm>
            <a:off x="7391520" y="1219320"/>
            <a:ext cx="1447560" cy="1085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railway_qx"/>
          <p:cNvPicPr/>
          <p:nvPr/>
        </p:nvPicPr>
        <p:blipFill>
          <a:blip r:embed="rId3"/>
          <a:stretch/>
        </p:blipFill>
        <p:spPr>
          <a:xfrm>
            <a:off x="2666880" y="1219320"/>
            <a:ext cx="1447920" cy="1085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railway_sld"/>
          <p:cNvPicPr/>
          <p:nvPr/>
        </p:nvPicPr>
        <p:blipFill>
          <a:blip r:embed="rId4"/>
          <a:stretch/>
        </p:blipFill>
        <p:spPr>
          <a:xfrm>
            <a:off x="4267080" y="1219320"/>
            <a:ext cx="1447920" cy="1085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railway_trs"/>
          <p:cNvPicPr/>
          <p:nvPr/>
        </p:nvPicPr>
        <p:blipFill>
          <a:blip r:embed="rId5"/>
          <a:stretch/>
        </p:blipFill>
        <p:spPr>
          <a:xfrm>
            <a:off x="5867280" y="1219320"/>
            <a:ext cx="144792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规范说明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  <a:ea typeface="宋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  <a:ea typeface="宋体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  <a:ea typeface="宋体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  <a:ea typeface="宋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  <a:ea typeface="宋体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  <a:ea typeface="宋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  <a:ea typeface="宋体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16:48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24T12:27:08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