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940-944B-49A3-9B61-736C4CBC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C6E-934B-49DA-80F7-ACD2CCC2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880-43D6-4498-B459-BC6FC5FA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4FE-CD08-4D5F-8696-D5C53634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38C-F6C8-48B4-B641-1F37FF04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6E8-BD08-4D77-AC5D-338EAB5D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29B-4BD2-4666-9E05-D7E6379A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E00-2600-4880-BF67-A164670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4E5-5FC5-428F-A63F-4FB75B06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E28-3E11-4F9E-9D74-D3EC820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CEC-9321-4A32-B104-73DD4FCF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2CE-B9D2-47C3-9275-B32B0A26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Segoe U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348A-C79F-4B76-8902-80E2350C91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BA95-ADA4-4EDC-B8ED-2489ABBE07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组合 6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6" name="直接连接符 7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直接连接符 8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直接连接符 9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直接连接符 10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直接连接符 11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直接连接符 12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组合 13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13" name="直接连接符 14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直接连接符 15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直接连接符 16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直接连接符 17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 18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直接连接符 19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组合 20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20" name="直接连接符 21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直接连接符 22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直接连接符 23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直接连接符 24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直接连接符 25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直接连接符 26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组合 27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27" name="直接连接符 28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直接连接符 29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直接连接符 30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直接连接符 31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直接连接符 32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直接连接符 33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8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77800" y="480960"/>
            <a:ext cx="4714920" cy="478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364000" y="1778040"/>
            <a:ext cx="3651480" cy="2298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4"/>
          <a:stretch/>
        </p:blipFill>
        <p:spPr>
          <a:xfrm>
            <a:off x="1895400" y="2316240"/>
            <a:ext cx="2079720" cy="122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800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482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489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496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503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矩形 53"/>
          <p:cNvSpPr/>
          <p:nvPr/>
        </p:nvSpPr>
        <p:spPr>
          <a:xfrm rot="10800000">
            <a:off x="1660320" y="1561320"/>
            <a:ext cx="5824440" cy="3600360"/>
          </a:xfrm>
          <a:prstGeom prst="rect">
            <a:avLst/>
          </a:prstGeom>
          <a:noFill/>
          <a:ln w="32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19120" y="5364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Segoe UI"/>
              </a:rPr>
              <a:t>黄金矩形的</a:t>
            </a:r>
            <a:r>
              <a:rPr b="1" lang="zh-CN" sz="3600" spc="-1" strike="noStrike">
                <a:solidFill>
                  <a:srgbClr val="cccc00"/>
                </a:solidFill>
                <a:latin typeface="Segoe UI"/>
              </a:rPr>
              <a:t>黄金分割线</a:t>
            </a:r>
            <a:endParaRPr b="1" lang="en-US" sz="3600" spc="-1" strike="noStrike">
              <a:solidFill>
                <a:srgbClr val="595959"/>
              </a:solidFill>
              <a:latin typeface="Segoe UI"/>
            </a:endParaRPr>
          </a:p>
        </p:txBody>
      </p:sp>
      <p:grpSp>
        <p:nvGrpSpPr>
          <p:cNvPr id="511" name="组合 12"/>
          <p:cNvGrpSpPr/>
          <p:nvPr/>
        </p:nvGrpSpPr>
        <p:grpSpPr>
          <a:xfrm>
            <a:off x="1660320" y="1562040"/>
            <a:ext cx="5824440" cy="3600360"/>
            <a:chOff x="1660320" y="1562040"/>
            <a:chExt cx="5824440" cy="3600360"/>
          </a:xfrm>
        </p:grpSpPr>
        <p:sp>
          <p:nvSpPr>
            <p:cNvPr id="512" name="直接连接符 8"/>
            <p:cNvSpPr/>
            <p:nvPr/>
          </p:nvSpPr>
          <p:spPr>
            <a:xfrm flipH="1" flipV="1">
              <a:off x="1660320" y="2937240"/>
              <a:ext cx="5824440" cy="2520"/>
            </a:xfrm>
            <a:prstGeom prst="line">
              <a:avLst/>
            </a:prstGeom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直接连接符 10"/>
            <p:cNvSpPr/>
            <p:nvPr/>
          </p:nvSpPr>
          <p:spPr>
            <a:xfrm>
              <a:off x="5260320" y="1562040"/>
              <a:ext cx="0" cy="3600360"/>
            </a:xfrm>
            <a:prstGeom prst="line">
              <a:avLst/>
            </a:prstGeom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61"/>
          <p:cNvGrpSpPr/>
          <p:nvPr/>
        </p:nvGrpSpPr>
        <p:grpSpPr>
          <a:xfrm>
            <a:off x="1666800" y="1561680"/>
            <a:ext cx="5824440" cy="3600360"/>
            <a:chOff x="1666800" y="1561680"/>
            <a:chExt cx="5824440" cy="3600360"/>
          </a:xfrm>
        </p:grpSpPr>
        <p:sp>
          <p:nvSpPr>
            <p:cNvPr id="515" name="直接连接符 62"/>
            <p:cNvSpPr/>
            <p:nvPr/>
          </p:nvSpPr>
          <p:spPr>
            <a:xfrm>
              <a:off x="1666800" y="3784320"/>
              <a:ext cx="5824440" cy="2520"/>
            </a:xfrm>
            <a:prstGeom prst="line">
              <a:avLst/>
            </a:prstGeom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直接连接符 63"/>
            <p:cNvSpPr/>
            <p:nvPr/>
          </p:nvSpPr>
          <p:spPr>
            <a:xfrm flipV="1">
              <a:off x="3891240" y="1561680"/>
              <a:ext cx="0" cy="3600360"/>
            </a:xfrm>
            <a:prstGeom prst="line">
              <a:avLst/>
            </a:prstGeom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组合 69"/>
          <p:cNvGrpSpPr/>
          <p:nvPr/>
        </p:nvGrpSpPr>
        <p:grpSpPr>
          <a:xfrm>
            <a:off x="1657080" y="1555920"/>
            <a:ext cx="5826240" cy="3614400"/>
            <a:chOff x="1657080" y="1555920"/>
            <a:chExt cx="5826240" cy="3614400"/>
          </a:xfrm>
        </p:grpSpPr>
        <p:grpSp>
          <p:nvGrpSpPr>
            <p:cNvPr id="518" name="组合 14"/>
            <p:cNvGrpSpPr/>
            <p:nvPr/>
          </p:nvGrpSpPr>
          <p:grpSpPr>
            <a:xfrm>
              <a:off x="1657440" y="1555920"/>
              <a:ext cx="5825880" cy="3614400"/>
              <a:chOff x="1657440" y="1555920"/>
              <a:chExt cx="5825880" cy="3614400"/>
            </a:xfrm>
          </p:grpSpPr>
          <p:sp>
            <p:nvSpPr>
              <p:cNvPr id="519" name="直接连接符 3"/>
              <p:cNvSpPr/>
              <p:nvPr/>
            </p:nvSpPr>
            <p:spPr>
              <a:xfrm flipV="1">
                <a:off x="1664280" y="1555920"/>
                <a:ext cx="4443480" cy="3594960"/>
              </a:xfrm>
              <a:prstGeom prst="line">
                <a:avLst/>
              </a:prstGeom>
              <a:ln w="93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直接连接符 60"/>
              <p:cNvSpPr/>
              <p:nvPr/>
            </p:nvSpPr>
            <p:spPr>
              <a:xfrm flipV="1">
                <a:off x="1657440" y="2399760"/>
                <a:ext cx="5825880" cy="2770560"/>
              </a:xfrm>
              <a:prstGeom prst="line">
                <a:avLst/>
              </a:prstGeom>
              <a:ln w="93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组合 13"/>
            <p:cNvGrpSpPr/>
            <p:nvPr/>
          </p:nvGrpSpPr>
          <p:grpSpPr>
            <a:xfrm>
              <a:off x="1657080" y="1555920"/>
              <a:ext cx="5825880" cy="3614400"/>
              <a:chOff x="1657080" y="1555920"/>
              <a:chExt cx="5825880" cy="3614400"/>
            </a:xfrm>
          </p:grpSpPr>
          <p:sp>
            <p:nvSpPr>
              <p:cNvPr id="522" name="直接连接符 67"/>
              <p:cNvSpPr/>
              <p:nvPr/>
            </p:nvSpPr>
            <p:spPr>
              <a:xfrm flipH="1">
                <a:off x="3032640" y="1575360"/>
                <a:ext cx="4443480" cy="3594960"/>
              </a:xfrm>
              <a:prstGeom prst="line">
                <a:avLst/>
              </a:prstGeom>
              <a:ln w="93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直接连接符 68"/>
              <p:cNvSpPr/>
              <p:nvPr/>
            </p:nvSpPr>
            <p:spPr>
              <a:xfrm flipH="1">
                <a:off x="1657080" y="1555920"/>
                <a:ext cx="5825880" cy="2770560"/>
              </a:xfrm>
              <a:prstGeom prst="line">
                <a:avLst/>
              </a:prstGeom>
              <a:ln w="93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70"/>
          <p:cNvGrpSpPr/>
          <p:nvPr/>
        </p:nvGrpSpPr>
        <p:grpSpPr>
          <a:xfrm>
            <a:off x="1660680" y="1555920"/>
            <a:ext cx="5821200" cy="3614400"/>
            <a:chOff x="1660680" y="1555920"/>
            <a:chExt cx="5821200" cy="3614400"/>
          </a:xfrm>
        </p:grpSpPr>
        <p:grpSp>
          <p:nvGrpSpPr>
            <p:cNvPr id="525" name="组合 71"/>
            <p:cNvGrpSpPr/>
            <p:nvPr/>
          </p:nvGrpSpPr>
          <p:grpSpPr>
            <a:xfrm>
              <a:off x="1660680" y="1555920"/>
              <a:ext cx="5821200" cy="3614400"/>
              <a:chOff x="1660680" y="1555920"/>
              <a:chExt cx="5821200" cy="3614400"/>
            </a:xfrm>
          </p:grpSpPr>
          <p:sp>
            <p:nvSpPr>
              <p:cNvPr id="526" name="直接连接符 75"/>
              <p:cNvSpPr/>
              <p:nvPr/>
            </p:nvSpPr>
            <p:spPr>
              <a:xfrm flipH="1" flipV="1">
                <a:off x="3035520" y="1555920"/>
                <a:ext cx="4439880" cy="3594960"/>
              </a:xfrm>
              <a:prstGeom prst="line">
                <a:avLst/>
              </a:prstGeom>
              <a:ln w="93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直接连接符 76"/>
              <p:cNvSpPr/>
              <p:nvPr/>
            </p:nvSpPr>
            <p:spPr>
              <a:xfrm flipH="1" flipV="1">
                <a:off x="1660680" y="2399760"/>
                <a:ext cx="5821200" cy="2770560"/>
              </a:xfrm>
              <a:prstGeom prst="line">
                <a:avLst/>
              </a:prstGeom>
              <a:ln w="93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72"/>
            <p:cNvGrpSpPr/>
            <p:nvPr/>
          </p:nvGrpSpPr>
          <p:grpSpPr>
            <a:xfrm>
              <a:off x="1660680" y="1555920"/>
              <a:ext cx="5821200" cy="3614400"/>
              <a:chOff x="1660680" y="1555920"/>
              <a:chExt cx="5821200" cy="3614400"/>
            </a:xfrm>
          </p:grpSpPr>
          <p:sp>
            <p:nvSpPr>
              <p:cNvPr id="529" name="直接连接符 73"/>
              <p:cNvSpPr/>
              <p:nvPr/>
            </p:nvSpPr>
            <p:spPr>
              <a:xfrm>
                <a:off x="1667160" y="1575360"/>
                <a:ext cx="4439880" cy="3594960"/>
              </a:xfrm>
              <a:prstGeom prst="line">
                <a:avLst/>
              </a:prstGeom>
              <a:ln w="93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直接连接符 74"/>
              <p:cNvSpPr/>
              <p:nvPr/>
            </p:nvSpPr>
            <p:spPr>
              <a:xfrm>
                <a:off x="1660680" y="1555920"/>
                <a:ext cx="5821200" cy="2770560"/>
              </a:xfrm>
              <a:prstGeom prst="line">
                <a:avLst/>
              </a:prstGeom>
              <a:ln w="936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矩形 6"/>
          <p:cNvSpPr/>
          <p:nvPr/>
        </p:nvSpPr>
        <p:spPr>
          <a:xfrm>
            <a:off x="2044800" y="257040"/>
            <a:ext cx="5048280" cy="5121360"/>
          </a:xfrm>
          <a:prstGeom prst="rect">
            <a:avLst/>
          </a:prstGeom>
          <a:blipFill rotWithShape="0">
            <a:blip r:embed="rId2">
              <a:alphaModFix amt="2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22160" y="228888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Segoe UI"/>
              </a:rPr>
              <a:t>简单运用篇</a:t>
            </a:r>
            <a:endParaRPr b="1" lang="en-US" sz="4000" spc="-1" strike="noStrike">
              <a:solidFill>
                <a:srgbClr val="595959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534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541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548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555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19120" y="5364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Segoe UI"/>
              </a:rPr>
              <a:t>首先明确强调的内容</a:t>
            </a:r>
            <a:endParaRPr b="1" lang="en-US" sz="36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562" name="椭圆 168"/>
          <p:cNvSpPr/>
          <p:nvPr/>
        </p:nvSpPr>
        <p:spPr>
          <a:xfrm>
            <a:off x="2711520" y="1852560"/>
            <a:ext cx="1100160" cy="101304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1013040"/>
              <a:gd name="textAreaBottom" fmla="*/ 1013040 h 1013040"/>
            </a:gdLst>
            <a:ahLst/>
            <a:rect l="textAreaLeft" t="textAreaTop" r="textAreaRight" b="textAreaBottom"/>
            <a:pathLst>
              <a:path w="2922576" h="2692126">
                <a:moveTo>
                  <a:pt x="553896" y="1279436"/>
                </a:moveTo>
                <a:cubicBezTo>
                  <a:pt x="792021" y="1473111"/>
                  <a:pt x="992046" y="1742986"/>
                  <a:pt x="1211121" y="1974761"/>
                </a:cubicBezTo>
                <a:lnTo>
                  <a:pt x="1201596" y="2431961"/>
                </a:lnTo>
                <a:cubicBezTo>
                  <a:pt x="947596" y="2384336"/>
                  <a:pt x="769796" y="2336711"/>
                  <a:pt x="639621" y="2117636"/>
                </a:cubicBezTo>
                <a:cubicBezTo>
                  <a:pt x="509446" y="1898561"/>
                  <a:pt x="582471" y="1558836"/>
                  <a:pt x="553896" y="1279436"/>
                </a:cubicBezTo>
                <a:close/>
                <a:moveTo>
                  <a:pt x="1414250" y="349940"/>
                </a:moveTo>
                <a:lnTo>
                  <a:pt x="1576175" y="702365"/>
                </a:lnTo>
                <a:lnTo>
                  <a:pt x="1840671" y="351223"/>
                </a:lnTo>
                <a:cubicBezTo>
                  <a:pt x="1946050" y="474823"/>
                  <a:pt x="2011221" y="645739"/>
                  <a:pt x="2011221" y="834547"/>
                </a:cubicBezTo>
                <a:cubicBezTo>
                  <a:pt x="2019964" y="1198269"/>
                  <a:pt x="1873746" y="1469720"/>
                  <a:pt x="1527496" y="1508764"/>
                </a:cubicBezTo>
                <a:lnTo>
                  <a:pt x="1534971" y="2136686"/>
                </a:lnTo>
                <a:cubicBezTo>
                  <a:pt x="1804846" y="1854111"/>
                  <a:pt x="2036621" y="1552486"/>
                  <a:pt x="2344596" y="1288961"/>
                </a:cubicBezTo>
                <a:cubicBezTo>
                  <a:pt x="2347771" y="1504861"/>
                  <a:pt x="2350946" y="1939836"/>
                  <a:pt x="2192196" y="2193836"/>
                </a:cubicBezTo>
                <a:cubicBezTo>
                  <a:pt x="1995346" y="2466886"/>
                  <a:pt x="1623871" y="2444661"/>
                  <a:pt x="1344471" y="2441486"/>
                </a:cubicBezTo>
                <a:lnTo>
                  <a:pt x="1353780" y="1510652"/>
                </a:lnTo>
                <a:cubicBezTo>
                  <a:pt x="992542" y="1480514"/>
                  <a:pt x="840254" y="1205525"/>
                  <a:pt x="849171" y="834547"/>
                </a:cubicBezTo>
                <a:cubicBezTo>
                  <a:pt x="853745" y="644286"/>
                  <a:pt x="913894" y="479273"/>
                  <a:pt x="1011904" y="360081"/>
                </a:cubicBezTo>
                <a:lnTo>
                  <a:pt x="1014200" y="359465"/>
                </a:lnTo>
                <a:lnTo>
                  <a:pt x="1214225" y="683315"/>
                </a:lnTo>
                <a:lnTo>
                  <a:pt x="1414250" y="349940"/>
                </a:lnTo>
                <a:close/>
                <a:moveTo>
                  <a:pt x="480281" y="174535"/>
                </a:moveTo>
                <a:cubicBezTo>
                  <a:pt x="324175" y="174535"/>
                  <a:pt x="197626" y="319405"/>
                  <a:pt x="197626" y="498111"/>
                </a:cubicBezTo>
                <a:lnTo>
                  <a:pt x="197626" y="2194015"/>
                </a:lnTo>
                <a:cubicBezTo>
                  <a:pt x="197626" y="2372721"/>
                  <a:pt x="324175" y="2517591"/>
                  <a:pt x="480281" y="2517591"/>
                </a:cubicBezTo>
                <a:lnTo>
                  <a:pt x="2458598" y="2517591"/>
                </a:lnTo>
                <a:cubicBezTo>
                  <a:pt x="2614704" y="2517591"/>
                  <a:pt x="2741253" y="2372721"/>
                  <a:pt x="2741253" y="2194015"/>
                </a:cubicBezTo>
                <a:lnTo>
                  <a:pt x="2741253" y="498111"/>
                </a:lnTo>
                <a:cubicBezTo>
                  <a:pt x="2741253" y="319405"/>
                  <a:pt x="2614704" y="174535"/>
                  <a:pt x="2458598" y="174535"/>
                </a:cubicBezTo>
                <a:lnTo>
                  <a:pt x="480281" y="174535"/>
                </a:lnTo>
                <a:close/>
                <a:moveTo>
                  <a:pt x="324765" y="0"/>
                </a:moveTo>
                <a:lnTo>
                  <a:pt x="2597811" y="0"/>
                </a:lnTo>
                <a:cubicBezTo>
                  <a:pt x="2777173" y="0"/>
                  <a:pt x="2922576" y="166453"/>
                  <a:pt x="2922576" y="371783"/>
                </a:cubicBezTo>
                <a:lnTo>
                  <a:pt x="2922576" y="2320344"/>
                </a:lnTo>
                <a:cubicBezTo>
                  <a:pt x="2922576" y="2525673"/>
                  <a:pt x="2777173" y="2692126"/>
                  <a:pt x="2597811" y="2692126"/>
                </a:cubicBezTo>
                <a:lnTo>
                  <a:pt x="324765" y="2692126"/>
                </a:lnTo>
                <a:cubicBezTo>
                  <a:pt x="145402" y="2692126"/>
                  <a:pt x="0" y="2525673"/>
                  <a:pt x="0" y="2320344"/>
                </a:cubicBezTo>
                <a:lnTo>
                  <a:pt x="0" y="371783"/>
                </a:lnTo>
                <a:cubicBezTo>
                  <a:pt x="0" y="166453"/>
                  <a:pt x="145402" y="0"/>
                  <a:pt x="324765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组合 13"/>
          <p:cNvGrpSpPr/>
          <p:nvPr/>
        </p:nvGrpSpPr>
        <p:grpSpPr>
          <a:xfrm>
            <a:off x="1085760" y="1870200"/>
            <a:ext cx="1052640" cy="969840"/>
            <a:chOff x="1085760" y="1870200"/>
            <a:chExt cx="1052640" cy="969840"/>
          </a:xfrm>
        </p:grpSpPr>
        <p:sp>
          <p:nvSpPr>
            <p:cNvPr id="564" name="圆角矩形 10"/>
            <p:cNvSpPr/>
            <p:nvPr/>
          </p:nvSpPr>
          <p:spPr>
            <a:xfrm>
              <a:off x="1085760" y="1870200"/>
              <a:ext cx="1052640" cy="96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98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15"/>
            <p:cNvSpPr/>
            <p:nvPr/>
          </p:nvSpPr>
          <p:spPr>
            <a:xfrm>
              <a:off x="1279800" y="2029320"/>
              <a:ext cx="664560" cy="65124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2075909" h="2034026">
                  <a:moveTo>
                    <a:pt x="1047022" y="265246"/>
                  </a:moveTo>
                  <a:lnTo>
                    <a:pt x="656134" y="1249447"/>
                  </a:lnTo>
                  <a:lnTo>
                    <a:pt x="1423951" y="1249447"/>
                  </a:lnTo>
                  <a:lnTo>
                    <a:pt x="1047022" y="265246"/>
                  </a:lnTo>
                  <a:close/>
                  <a:moveTo>
                    <a:pt x="837618" y="0"/>
                  </a:moveTo>
                  <a:lnTo>
                    <a:pt x="1270387" y="0"/>
                  </a:lnTo>
                  <a:lnTo>
                    <a:pt x="2075909" y="2034026"/>
                  </a:lnTo>
                  <a:lnTo>
                    <a:pt x="1717116" y="2031957"/>
                  </a:lnTo>
                  <a:lnTo>
                    <a:pt x="1528653" y="1500733"/>
                  </a:lnTo>
                  <a:lnTo>
                    <a:pt x="565392" y="1500733"/>
                  </a:lnTo>
                  <a:lnTo>
                    <a:pt x="328067" y="2031224"/>
                  </a:lnTo>
                  <a:lnTo>
                    <a:pt x="0" y="2031224"/>
                  </a:lnTo>
                  <a:lnTo>
                    <a:pt x="83761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20"/>
          <p:cNvGrpSpPr/>
          <p:nvPr/>
        </p:nvGrpSpPr>
        <p:grpSpPr>
          <a:xfrm>
            <a:off x="4403880" y="1849320"/>
            <a:ext cx="1090440" cy="992160"/>
            <a:chOff x="4403880" y="1849320"/>
            <a:chExt cx="1090440" cy="992160"/>
          </a:xfrm>
        </p:grpSpPr>
        <p:sp>
          <p:nvSpPr>
            <p:cNvPr id="567" name="圆角矩形 18"/>
            <p:cNvSpPr/>
            <p:nvPr/>
          </p:nvSpPr>
          <p:spPr>
            <a:xfrm>
              <a:off x="4414320" y="1860480"/>
              <a:ext cx="1045080" cy="963000"/>
            </a:xfrm>
            <a:prstGeom prst="roundRect">
              <a:avLst>
                <a:gd name="adj" fmla="val 16667"/>
              </a:avLst>
            </a:prstGeom>
            <a:noFill/>
            <a:ln w="698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6"/>
            <p:cNvSpPr/>
            <p:nvPr/>
          </p:nvSpPr>
          <p:spPr>
            <a:xfrm>
              <a:off x="4403880" y="1849320"/>
              <a:ext cx="1090440" cy="99216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809406" h="788281">
                  <a:moveTo>
                    <a:pt x="320855" y="418202"/>
                  </a:moveTo>
                  <a:lnTo>
                    <a:pt x="320855" y="535670"/>
                  </a:lnTo>
                  <a:lnTo>
                    <a:pt x="542500" y="535670"/>
                  </a:lnTo>
                  <a:lnTo>
                    <a:pt x="542500" y="418202"/>
                  </a:lnTo>
                  <a:lnTo>
                    <a:pt x="320855" y="418202"/>
                  </a:lnTo>
                  <a:close/>
                  <a:moveTo>
                    <a:pt x="320855" y="234347"/>
                  </a:moveTo>
                  <a:lnTo>
                    <a:pt x="320855" y="351815"/>
                  </a:lnTo>
                  <a:lnTo>
                    <a:pt x="542500" y="351815"/>
                  </a:lnTo>
                  <a:lnTo>
                    <a:pt x="542500" y="234347"/>
                  </a:lnTo>
                  <a:lnTo>
                    <a:pt x="320855" y="234347"/>
                  </a:lnTo>
                  <a:close/>
                  <a:moveTo>
                    <a:pt x="254468" y="0"/>
                  </a:moveTo>
                  <a:lnTo>
                    <a:pt x="320855" y="0"/>
                  </a:lnTo>
                  <a:lnTo>
                    <a:pt x="320855" y="167960"/>
                  </a:lnTo>
                  <a:lnTo>
                    <a:pt x="542500" y="167960"/>
                  </a:lnTo>
                  <a:lnTo>
                    <a:pt x="542500" y="0"/>
                  </a:lnTo>
                  <a:lnTo>
                    <a:pt x="608887" y="0"/>
                  </a:lnTo>
                  <a:lnTo>
                    <a:pt x="608887" y="167960"/>
                  </a:lnTo>
                  <a:lnTo>
                    <a:pt x="788281" y="167960"/>
                  </a:lnTo>
                  <a:lnTo>
                    <a:pt x="788281" y="234347"/>
                  </a:lnTo>
                  <a:lnTo>
                    <a:pt x="608887" y="234347"/>
                  </a:lnTo>
                  <a:lnTo>
                    <a:pt x="608887" y="351815"/>
                  </a:lnTo>
                  <a:lnTo>
                    <a:pt x="788281" y="351815"/>
                  </a:lnTo>
                  <a:lnTo>
                    <a:pt x="788281" y="418202"/>
                  </a:lnTo>
                  <a:lnTo>
                    <a:pt x="608887" y="418202"/>
                  </a:lnTo>
                  <a:lnTo>
                    <a:pt x="608887" y="535670"/>
                  </a:lnTo>
                  <a:lnTo>
                    <a:pt x="809406" y="535670"/>
                  </a:lnTo>
                  <a:lnTo>
                    <a:pt x="809406" y="602057"/>
                  </a:lnTo>
                  <a:lnTo>
                    <a:pt x="608887" y="602057"/>
                  </a:lnTo>
                  <a:lnTo>
                    <a:pt x="608887" y="788281"/>
                  </a:lnTo>
                  <a:lnTo>
                    <a:pt x="542500" y="788281"/>
                  </a:lnTo>
                  <a:lnTo>
                    <a:pt x="542500" y="602057"/>
                  </a:lnTo>
                  <a:lnTo>
                    <a:pt x="320855" y="602057"/>
                  </a:lnTo>
                  <a:lnTo>
                    <a:pt x="320855" y="788281"/>
                  </a:lnTo>
                  <a:lnTo>
                    <a:pt x="254468" y="788281"/>
                  </a:lnTo>
                  <a:lnTo>
                    <a:pt x="254468" y="602057"/>
                  </a:lnTo>
                  <a:lnTo>
                    <a:pt x="21125" y="602057"/>
                  </a:lnTo>
                  <a:lnTo>
                    <a:pt x="21125" y="535670"/>
                  </a:lnTo>
                  <a:lnTo>
                    <a:pt x="254468" y="535670"/>
                  </a:lnTo>
                  <a:lnTo>
                    <a:pt x="254468" y="418202"/>
                  </a:lnTo>
                  <a:lnTo>
                    <a:pt x="0" y="418202"/>
                  </a:lnTo>
                  <a:lnTo>
                    <a:pt x="0" y="351815"/>
                  </a:lnTo>
                  <a:lnTo>
                    <a:pt x="254468" y="351815"/>
                  </a:lnTo>
                  <a:lnTo>
                    <a:pt x="254468" y="234347"/>
                  </a:lnTo>
                  <a:lnTo>
                    <a:pt x="0" y="234347"/>
                  </a:lnTo>
                  <a:lnTo>
                    <a:pt x="0" y="167960"/>
                  </a:lnTo>
                  <a:lnTo>
                    <a:pt x="254468" y="167960"/>
                  </a:lnTo>
                  <a:lnTo>
                    <a:pt x="25446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31"/>
          <p:cNvGrpSpPr/>
          <p:nvPr/>
        </p:nvGrpSpPr>
        <p:grpSpPr>
          <a:xfrm>
            <a:off x="6068880" y="1878120"/>
            <a:ext cx="1046160" cy="963360"/>
            <a:chOff x="6068880" y="1878120"/>
            <a:chExt cx="1046160" cy="963360"/>
          </a:xfrm>
        </p:grpSpPr>
        <p:sp>
          <p:nvSpPr>
            <p:cNvPr id="570" name="圆角矩形 29"/>
            <p:cNvSpPr/>
            <p:nvPr/>
          </p:nvSpPr>
          <p:spPr>
            <a:xfrm>
              <a:off x="6068880" y="1878120"/>
              <a:ext cx="1046160" cy="96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98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27"/>
            <p:cNvSpPr/>
            <p:nvPr/>
          </p:nvSpPr>
          <p:spPr>
            <a:xfrm>
              <a:off x="6239520" y="2073600"/>
              <a:ext cx="714600" cy="7610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567268" h="604266">
                  <a:moveTo>
                    <a:pt x="0" y="316234"/>
                  </a:moveTo>
                  <a:lnTo>
                    <a:pt x="135219" y="316234"/>
                  </a:lnTo>
                  <a:lnTo>
                    <a:pt x="135219" y="604266"/>
                  </a:lnTo>
                  <a:lnTo>
                    <a:pt x="0" y="604266"/>
                  </a:lnTo>
                  <a:lnTo>
                    <a:pt x="0" y="316234"/>
                  </a:lnTo>
                  <a:close/>
                  <a:moveTo>
                    <a:pt x="432049" y="112871"/>
                  </a:moveTo>
                  <a:lnTo>
                    <a:pt x="567268" y="112871"/>
                  </a:lnTo>
                  <a:lnTo>
                    <a:pt x="567268" y="604266"/>
                  </a:lnTo>
                  <a:lnTo>
                    <a:pt x="432049" y="604266"/>
                  </a:lnTo>
                  <a:lnTo>
                    <a:pt x="432049" y="112871"/>
                  </a:lnTo>
                  <a:close/>
                  <a:moveTo>
                    <a:pt x="212109" y="0"/>
                  </a:moveTo>
                  <a:lnTo>
                    <a:pt x="347328" y="0"/>
                  </a:lnTo>
                  <a:lnTo>
                    <a:pt x="347328" y="604266"/>
                  </a:lnTo>
                  <a:lnTo>
                    <a:pt x="212109" y="604266"/>
                  </a:lnTo>
                  <a:lnTo>
                    <a:pt x="212109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35"/>
          <p:cNvSpPr/>
          <p:nvPr/>
        </p:nvSpPr>
        <p:spPr>
          <a:xfrm>
            <a:off x="936720" y="28926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Segoe UI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37"/>
          <p:cNvSpPr/>
          <p:nvPr/>
        </p:nvSpPr>
        <p:spPr>
          <a:xfrm>
            <a:off x="2565360" y="2892600"/>
            <a:ext cx="13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Segoe UI"/>
                <a:ea typeface="微软雅黑"/>
              </a:rPr>
              <a:t>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38"/>
          <p:cNvSpPr/>
          <p:nvPr/>
        </p:nvSpPr>
        <p:spPr>
          <a:xfrm>
            <a:off x="4264200" y="2892600"/>
            <a:ext cx="13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Segoe UI"/>
                <a:ea typeface="微软雅黑"/>
              </a:rPr>
              <a:t>表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39"/>
          <p:cNvSpPr/>
          <p:nvPr/>
        </p:nvSpPr>
        <p:spPr>
          <a:xfrm>
            <a:off x="5927760" y="28926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Segoe UI"/>
                <a:ea typeface="微软雅黑"/>
              </a:rPr>
              <a:t>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6"/>
          <p:cNvSpPr/>
          <p:nvPr/>
        </p:nvSpPr>
        <p:spPr>
          <a:xfrm>
            <a:off x="2442960" y="3362400"/>
            <a:ext cx="472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1859b"/>
                </a:solidFill>
                <a:latin typeface="Segoe UI"/>
                <a:ea typeface="微软雅黑"/>
              </a:rPr>
              <a:t>Which One</a:t>
            </a:r>
            <a:r>
              <a:rPr b="0" lang="zh-CN" sz="6000" spc="-1" strike="noStrike">
                <a:solidFill>
                  <a:srgbClr val="31859b"/>
                </a:solidFill>
                <a:latin typeface="Segoe UI"/>
                <a:ea typeface="微软雅黑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41"/>
          <p:cNvSpPr/>
          <p:nvPr/>
        </p:nvSpPr>
        <p:spPr>
          <a:xfrm>
            <a:off x="3251520" y="4297320"/>
            <a:ext cx="28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"/>
                <a:ea typeface="微软雅黑"/>
              </a:rPr>
              <a:t>突出强调</a:t>
            </a:r>
            <a:r>
              <a:rPr b="0" lang="en-US" sz="1600" spc="-1" strike="noStrike">
                <a:solidFill>
                  <a:srgbClr val="595959"/>
                </a:solidFill>
                <a:latin typeface="Segoe UI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595959"/>
                </a:solidFill>
                <a:latin typeface="Segoe UI"/>
                <a:ea typeface="微软雅黑"/>
              </a:rPr>
              <a:t>合适的版式</a:t>
            </a:r>
            <a:r>
              <a:rPr b="0" lang="en-US" sz="1600" spc="-1" strike="noStrike">
                <a:solidFill>
                  <a:srgbClr val="595959"/>
                </a:solidFill>
                <a:latin typeface="Segoe UI"/>
                <a:ea typeface="微软雅黑"/>
              </a:rPr>
              <a:t>=</a:t>
            </a:r>
            <a:r>
              <a:rPr b="0" lang="zh-CN" sz="1600" spc="-1" strike="noStrike">
                <a:solidFill>
                  <a:srgbClr val="595959"/>
                </a:solidFill>
                <a:latin typeface="Segoe UI"/>
                <a:ea typeface="微软雅黑"/>
              </a:rPr>
              <a:t>观众看的养眼且明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9"/>
          <p:cNvSpPr/>
          <p:nvPr/>
        </p:nvSpPr>
        <p:spPr>
          <a:xfrm>
            <a:off x="6481440" y="5326200"/>
            <a:ext cx="20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595959"/>
                </a:solidFill>
                <a:latin typeface="Segoe UI"/>
                <a:ea typeface="微软雅黑"/>
              </a:rPr>
              <a:t>接下来开始黄金分割与</a:t>
            </a:r>
            <a:r>
              <a:rPr b="0" i="1" lang="en-US" sz="1200" spc="-1" strike="noStrike">
                <a:solidFill>
                  <a:srgbClr val="595959"/>
                </a:solidFill>
                <a:latin typeface="Segoe UI"/>
                <a:ea typeface="微软雅黑"/>
              </a:rPr>
              <a:t>PPT</a:t>
            </a:r>
            <a:r>
              <a:rPr b="0" i="1" lang="zh-CN" sz="1200" spc="-1" strike="noStrike">
                <a:solidFill>
                  <a:srgbClr val="595959"/>
                </a:solidFill>
                <a:latin typeface="Segoe UI"/>
                <a:ea typeface="微软雅黑"/>
              </a:rPr>
              <a:t>结合的奇幻之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4"/>
          <p:cNvGrpSpPr/>
          <p:nvPr/>
        </p:nvGrpSpPr>
        <p:grpSpPr>
          <a:xfrm>
            <a:off x="7583400" y="2286000"/>
            <a:ext cx="941400" cy="112680"/>
            <a:chOff x="7583400" y="2286000"/>
            <a:chExt cx="941400" cy="112680"/>
          </a:xfrm>
        </p:grpSpPr>
        <p:sp>
          <p:nvSpPr>
            <p:cNvPr id="580" name="椭圆 1"/>
            <p:cNvSpPr/>
            <p:nvPr/>
          </p:nvSpPr>
          <p:spPr>
            <a:xfrm>
              <a:off x="7583400" y="2286000"/>
              <a:ext cx="111600" cy="11268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21"/>
            <p:cNvSpPr/>
            <p:nvPr/>
          </p:nvSpPr>
          <p:spPr>
            <a:xfrm>
              <a:off x="7749360" y="2286000"/>
              <a:ext cx="111600" cy="11268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22"/>
            <p:cNvSpPr/>
            <p:nvPr/>
          </p:nvSpPr>
          <p:spPr>
            <a:xfrm>
              <a:off x="7915320" y="2286000"/>
              <a:ext cx="111600" cy="11268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椭圆 24"/>
            <p:cNvSpPr/>
            <p:nvPr/>
          </p:nvSpPr>
          <p:spPr>
            <a:xfrm>
              <a:off x="8081280" y="2286000"/>
              <a:ext cx="111600" cy="11268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椭圆 25"/>
            <p:cNvSpPr/>
            <p:nvPr/>
          </p:nvSpPr>
          <p:spPr>
            <a:xfrm>
              <a:off x="8247240" y="2286000"/>
              <a:ext cx="111600" cy="11268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26"/>
            <p:cNvSpPr/>
            <p:nvPr/>
          </p:nvSpPr>
          <p:spPr>
            <a:xfrm>
              <a:off x="8413200" y="2286000"/>
              <a:ext cx="111600" cy="11268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组合 55"/>
          <p:cNvGrpSpPr/>
          <p:nvPr/>
        </p:nvGrpSpPr>
        <p:grpSpPr>
          <a:xfrm>
            <a:off x="-9360" y="0"/>
            <a:ext cx="9153360" cy="5711760"/>
            <a:chOff x="-9360" y="0"/>
            <a:chExt cx="9153360" cy="5711760"/>
          </a:xfrm>
        </p:grpSpPr>
        <p:sp>
          <p:nvSpPr>
            <p:cNvPr id="587" name="矩形 56"/>
            <p:cNvSpPr/>
            <p:nvPr/>
          </p:nvSpPr>
          <p:spPr>
            <a:xfrm>
              <a:off x="-9360" y="0"/>
              <a:ext cx="9153360" cy="218484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59"/>
            <p:cNvSpPr/>
            <p:nvPr/>
          </p:nvSpPr>
          <p:spPr>
            <a:xfrm>
              <a:off x="-9360" y="2184840"/>
              <a:ext cx="9153360" cy="35269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56"/>
          <p:cNvSpPr/>
          <p:nvPr/>
        </p:nvSpPr>
        <p:spPr>
          <a:xfrm>
            <a:off x="396720" y="480960"/>
            <a:ext cx="5183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40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595959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59"/>
          <p:cNvSpPr/>
          <p:nvPr/>
        </p:nvSpPr>
        <p:spPr>
          <a:xfrm>
            <a:off x="0" y="2184480"/>
            <a:ext cx="9144000" cy="3527280"/>
          </a:xfrm>
          <a:prstGeom prst="rect">
            <a:avLst/>
          </a:prstGeom>
          <a:gradFill rotWithShape="0">
            <a:gsLst>
              <a:gs pos="0">
                <a:srgbClr val="79d6f7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2"/>
          <p:cNvSpPr/>
          <p:nvPr/>
        </p:nvSpPr>
        <p:spPr>
          <a:xfrm>
            <a:off x="0" y="2124000"/>
            <a:ext cx="914400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3"/>
          <p:cNvSpPr/>
          <p:nvPr/>
        </p:nvSpPr>
        <p:spPr>
          <a:xfrm>
            <a:off x="3114720" y="3146400"/>
            <a:ext cx="291636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4"/>
          <p:cNvSpPr/>
          <p:nvPr/>
        </p:nvSpPr>
        <p:spPr>
          <a:xfrm>
            <a:off x="5940360" y="168120"/>
            <a:ext cx="3240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56"/>
          <p:cNvSpPr/>
          <p:nvPr/>
        </p:nvSpPr>
        <p:spPr>
          <a:xfrm>
            <a:off x="1727280" y="2712960"/>
            <a:ext cx="568944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44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44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40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59"/>
          <p:cNvSpPr/>
          <p:nvPr/>
        </p:nvSpPr>
        <p:spPr>
          <a:xfrm>
            <a:off x="0" y="0"/>
            <a:ext cx="9144000" cy="2166840"/>
          </a:xfrm>
          <a:prstGeom prst="rect">
            <a:avLst/>
          </a:prstGeom>
          <a:gradFill rotWithShape="0">
            <a:gsLst>
              <a:gs pos="0">
                <a:srgbClr val="79d6f7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2"/>
          <p:cNvSpPr/>
          <p:nvPr/>
        </p:nvSpPr>
        <p:spPr>
          <a:xfrm>
            <a:off x="0" y="2124000"/>
            <a:ext cx="914400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3"/>
          <p:cNvSpPr/>
          <p:nvPr/>
        </p:nvSpPr>
        <p:spPr>
          <a:xfrm>
            <a:off x="324000" y="312840"/>
            <a:ext cx="367164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4"/>
          <p:cNvSpPr/>
          <p:nvPr/>
        </p:nvSpPr>
        <p:spPr>
          <a:xfrm>
            <a:off x="5940360" y="193680"/>
            <a:ext cx="324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4311000" y="51418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36c09"/>
                </a:solidFill>
                <a:latin typeface="Segoe UI"/>
                <a:ea typeface="微软雅黑"/>
              </a:rPr>
              <a:t>PS</a:t>
            </a:r>
            <a:r>
              <a:rPr b="0" lang="zh-CN" sz="1400" spc="-1" strike="noStrike">
                <a:solidFill>
                  <a:srgbClr val="e36c09"/>
                </a:solidFill>
                <a:latin typeface="Segoe UI"/>
                <a:ea typeface="微软雅黑"/>
              </a:rPr>
              <a:t>：同一种版式，强调的内容却是不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56"/>
          <p:cNvSpPr/>
          <p:nvPr/>
        </p:nvSpPr>
        <p:spPr>
          <a:xfrm>
            <a:off x="1727280" y="3686040"/>
            <a:ext cx="56894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9"/>
          <p:cNvSpPr/>
          <p:nvPr/>
        </p:nvSpPr>
        <p:spPr>
          <a:xfrm>
            <a:off x="-7920" y="0"/>
            <a:ext cx="9151920" cy="3495600"/>
          </a:xfrm>
          <a:custGeom>
            <a:avLst/>
            <a:gdLst>
              <a:gd name="textAreaLeft" fmla="*/ 0 w 9151920"/>
              <a:gd name="textAreaRight" fmla="*/ 9152280 w 9151920"/>
              <a:gd name="textAreaTop" fmla="*/ 0 h 3495600"/>
              <a:gd name="textAreaBottom" fmla="*/ 3495960 h 3495600"/>
            </a:gdLst>
            <a:ahLst/>
            <a:rect l="textAreaLeft" t="textAreaTop" r="textAreaRight" b="textAreaBottom"/>
            <a:pathLst>
              <a:path w="9155019" h="3496065">
                <a:moveTo>
                  <a:pt x="11017" y="0"/>
                </a:moveTo>
                <a:lnTo>
                  <a:pt x="9155019" y="0"/>
                </a:lnTo>
                <a:lnTo>
                  <a:pt x="9155019" y="2166909"/>
                </a:lnTo>
                <a:cubicBezTo>
                  <a:pt x="7407010" y="3224528"/>
                  <a:pt x="3797148" y="4546553"/>
                  <a:pt x="0" y="2144875"/>
                </a:cubicBezTo>
                <a:cubicBezTo>
                  <a:pt x="3672" y="1429917"/>
                  <a:pt x="7345" y="714958"/>
                  <a:pt x="11017" y="0"/>
                </a:cubicBezTo>
                <a:close/>
              </a:path>
            </a:pathLst>
          </a:custGeom>
          <a:gradFill rotWithShape="0">
            <a:gsLst>
              <a:gs pos="0">
                <a:srgbClr val="79d6f7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3"/>
          <p:cNvSpPr/>
          <p:nvPr/>
        </p:nvSpPr>
        <p:spPr>
          <a:xfrm>
            <a:off x="3276720" y="976320"/>
            <a:ext cx="25905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图  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4"/>
          <p:cNvSpPr/>
          <p:nvPr/>
        </p:nvSpPr>
        <p:spPr>
          <a:xfrm>
            <a:off x="6948360" y="10800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"/>
          <p:cNvSpPr/>
          <p:nvPr/>
        </p:nvSpPr>
        <p:spPr>
          <a:xfrm>
            <a:off x="-7920" y="2125800"/>
            <a:ext cx="9207360" cy="1360440"/>
          </a:xfrm>
          <a:custGeom>
            <a:avLst/>
            <a:gdLst>
              <a:gd name="textAreaLeft" fmla="*/ 0 w 9207360"/>
              <a:gd name="textAreaRight" fmla="*/ 9207720 w 9207360"/>
              <a:gd name="textAreaTop" fmla="*/ 0 h 1360440"/>
              <a:gd name="textAreaBottom" fmla="*/ 1360800 h 1360440"/>
            </a:gdLst>
            <a:ahLst/>
            <a:rect l="textAreaLeft" t="textAreaTop" r="textAreaRight" b="textAreaBottom"/>
            <a:pathLst>
              <a:path w="9210101" h="1360579">
                <a:moveTo>
                  <a:pt x="0" y="11016"/>
                </a:moveTo>
                <a:cubicBezTo>
                  <a:pt x="2721166" y="1839815"/>
                  <a:pt x="7094863" y="1377108"/>
                  <a:pt x="9210101" y="0"/>
                </a:cubicBezTo>
                <a:cubicBezTo>
                  <a:pt x="7337233" y="1454227"/>
                  <a:pt x="2853368" y="2137273"/>
                  <a:pt x="0" y="110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组合 55"/>
          <p:cNvGrpSpPr/>
          <p:nvPr/>
        </p:nvGrpSpPr>
        <p:grpSpPr>
          <a:xfrm>
            <a:off x="-9360" y="360"/>
            <a:ext cx="9153360" cy="5711760"/>
            <a:chOff x="-9360" y="360"/>
            <a:chExt cx="9153360" cy="5711760"/>
          </a:xfrm>
        </p:grpSpPr>
        <p:sp>
          <p:nvSpPr>
            <p:cNvPr id="606" name="矩形 56"/>
            <p:cNvSpPr/>
            <p:nvPr/>
          </p:nvSpPr>
          <p:spPr>
            <a:xfrm>
              <a:off x="-9360" y="3527280"/>
              <a:ext cx="9153360" cy="218484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59"/>
            <p:cNvSpPr/>
            <p:nvPr/>
          </p:nvSpPr>
          <p:spPr>
            <a:xfrm>
              <a:off x="-9360" y="360"/>
              <a:ext cx="9153360" cy="35269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56"/>
          <p:cNvSpPr/>
          <p:nvPr/>
        </p:nvSpPr>
        <p:spPr>
          <a:xfrm>
            <a:off x="1692360" y="3865680"/>
            <a:ext cx="5759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40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595959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组合 1"/>
          <p:cNvGrpSpPr/>
          <p:nvPr/>
        </p:nvGrpSpPr>
        <p:grpSpPr>
          <a:xfrm>
            <a:off x="0" y="0"/>
            <a:ext cx="9144000" cy="3587760"/>
            <a:chOff x="0" y="0"/>
            <a:chExt cx="9144000" cy="3587760"/>
          </a:xfrm>
        </p:grpSpPr>
        <p:sp>
          <p:nvSpPr>
            <p:cNvPr id="610" name="矩形 59"/>
            <p:cNvSpPr/>
            <p:nvPr/>
          </p:nvSpPr>
          <p:spPr>
            <a:xfrm>
              <a:off x="0" y="0"/>
              <a:ext cx="9144000" cy="3527280"/>
            </a:xfrm>
            <a:prstGeom prst="rect">
              <a:avLst/>
            </a:prstGeom>
            <a:gradFill rotWithShape="0">
              <a:gsLst>
                <a:gs pos="0">
                  <a:srgbClr val="79d6f7"/>
                </a:gs>
                <a:gs pos="100000">
                  <a:srgbClr val="00b0f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2"/>
            <p:cNvSpPr/>
            <p:nvPr/>
          </p:nvSpPr>
          <p:spPr>
            <a:xfrm rot="10800000">
              <a:off x="0" y="3502440"/>
              <a:ext cx="9144000" cy="84960"/>
            </a:xfrm>
            <a:prstGeom prst="rect">
              <a:avLst/>
            </a:prstGeom>
            <a:solidFill>
              <a:srgbClr val="173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矩形 13"/>
          <p:cNvSpPr/>
          <p:nvPr/>
        </p:nvSpPr>
        <p:spPr>
          <a:xfrm>
            <a:off x="2916360" y="1065240"/>
            <a:ext cx="3311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4"/>
          <p:cNvSpPr/>
          <p:nvPr/>
        </p:nvSpPr>
        <p:spPr>
          <a:xfrm>
            <a:off x="6732720" y="168120"/>
            <a:ext cx="24112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56"/>
          <p:cNvSpPr/>
          <p:nvPr/>
        </p:nvSpPr>
        <p:spPr>
          <a:xfrm>
            <a:off x="755640" y="3720960"/>
            <a:ext cx="5759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40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595959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9"/>
          <p:cNvSpPr/>
          <p:nvPr/>
        </p:nvSpPr>
        <p:spPr>
          <a:xfrm>
            <a:off x="0" y="0"/>
            <a:ext cx="9144000" cy="3684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84600"/>
              <a:gd name="textAreaBottom" fmla="*/ 3684960 h 3684600"/>
            </a:gdLst>
            <a:ahLst/>
            <a:rect l="textAreaLeft" t="textAreaTop" r="textAreaRight" b="textAreaBottom"/>
            <a:pathLst>
              <a:path w="9144001" h="3684386">
                <a:moveTo>
                  <a:pt x="0" y="0"/>
                </a:moveTo>
                <a:lnTo>
                  <a:pt x="9144001" y="0"/>
                </a:lnTo>
                <a:lnTo>
                  <a:pt x="9144001" y="3527167"/>
                </a:lnTo>
                <a:cubicBezTo>
                  <a:pt x="5995739" y="4211280"/>
                  <a:pt x="3112167" y="2370449"/>
                  <a:pt x="0" y="3527167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9d6f7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3"/>
          <p:cNvSpPr/>
          <p:nvPr/>
        </p:nvSpPr>
        <p:spPr>
          <a:xfrm>
            <a:off x="2916360" y="1065240"/>
            <a:ext cx="3311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4"/>
          <p:cNvSpPr/>
          <p:nvPr/>
        </p:nvSpPr>
        <p:spPr>
          <a:xfrm>
            <a:off x="6732720" y="168120"/>
            <a:ext cx="24112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3"/>
          <p:cNvSpPr/>
          <p:nvPr/>
        </p:nvSpPr>
        <p:spPr>
          <a:xfrm>
            <a:off x="-22320" y="3086280"/>
            <a:ext cx="9166320" cy="622080"/>
          </a:xfrm>
          <a:custGeom>
            <a:avLst/>
            <a:gdLst>
              <a:gd name="textAreaLeft" fmla="*/ 0 w 9166320"/>
              <a:gd name="textAreaRight" fmla="*/ 9166680 w 916632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9168065" h="620950">
                <a:moveTo>
                  <a:pt x="0" y="442966"/>
                </a:moveTo>
                <a:cubicBezTo>
                  <a:pt x="2675022" y="-784133"/>
                  <a:pt x="6769770" y="984630"/>
                  <a:pt x="9168065" y="455361"/>
                </a:cubicBezTo>
                <a:cubicBezTo>
                  <a:pt x="6986341" y="1141040"/>
                  <a:pt x="2759243" y="-591630"/>
                  <a:pt x="0" y="44296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6"/>
          <p:cNvSpPr/>
          <p:nvPr/>
        </p:nvSpPr>
        <p:spPr>
          <a:xfrm>
            <a:off x="2044800" y="257040"/>
            <a:ext cx="5048280" cy="5121360"/>
          </a:xfrm>
          <a:prstGeom prst="rect">
            <a:avLst/>
          </a:prstGeom>
          <a:blipFill rotWithShape="0">
            <a:blip r:embed="rId2">
              <a:alphaModFix amt="2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228888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Segoe UI"/>
              </a:rPr>
              <a:t>基础知识篇</a:t>
            </a:r>
            <a:endParaRPr b="1" lang="en-US" sz="4000" spc="-1" strike="noStrike">
              <a:solidFill>
                <a:srgbClr val="595959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56"/>
          <p:cNvSpPr/>
          <p:nvPr/>
        </p:nvSpPr>
        <p:spPr>
          <a:xfrm>
            <a:off x="647640" y="1057320"/>
            <a:ext cx="56880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44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44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40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59"/>
          <p:cNvSpPr/>
          <p:nvPr/>
        </p:nvSpPr>
        <p:spPr>
          <a:xfrm>
            <a:off x="0" y="3548160"/>
            <a:ext cx="9144000" cy="2166840"/>
          </a:xfrm>
          <a:prstGeom prst="rect">
            <a:avLst/>
          </a:prstGeom>
          <a:gradFill rotWithShape="0">
            <a:gsLst>
              <a:gs pos="0">
                <a:srgbClr val="79d6f7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2"/>
          <p:cNvSpPr/>
          <p:nvPr/>
        </p:nvSpPr>
        <p:spPr>
          <a:xfrm>
            <a:off x="0" y="3548160"/>
            <a:ext cx="914400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13"/>
          <p:cNvSpPr/>
          <p:nvPr/>
        </p:nvSpPr>
        <p:spPr>
          <a:xfrm>
            <a:off x="3132000" y="3936960"/>
            <a:ext cx="28800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11"/>
          <p:cNvSpPr/>
          <p:nvPr/>
        </p:nvSpPr>
        <p:spPr>
          <a:xfrm>
            <a:off x="6948360" y="264960"/>
            <a:ext cx="22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组合 2"/>
          <p:cNvGrpSpPr/>
          <p:nvPr/>
        </p:nvGrpSpPr>
        <p:grpSpPr>
          <a:xfrm>
            <a:off x="0" y="-360"/>
            <a:ext cx="9150480" cy="5715360"/>
            <a:chOff x="0" y="-360"/>
            <a:chExt cx="9150480" cy="5715360"/>
          </a:xfrm>
        </p:grpSpPr>
        <p:sp>
          <p:nvSpPr>
            <p:cNvPr id="625" name="矩形 4"/>
            <p:cNvSpPr/>
            <p:nvPr/>
          </p:nvSpPr>
          <p:spPr>
            <a:xfrm rot="10800000">
              <a:off x="5655600" y="-360"/>
              <a:ext cx="3494880" cy="5715000"/>
            </a:xfrm>
            <a:prstGeom prst="rect">
              <a:avLst/>
            </a:prstGeom>
            <a:noFill/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5"/>
            <p:cNvSpPr/>
            <p:nvPr/>
          </p:nvSpPr>
          <p:spPr>
            <a:xfrm>
              <a:off x="0" y="0"/>
              <a:ext cx="5655600" cy="5715000"/>
            </a:xfrm>
            <a:prstGeom prst="rect">
              <a:avLst/>
            </a:prstGeom>
            <a:noFill/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矩形 6"/>
            <p:cNvSpPr/>
            <p:nvPr/>
          </p:nvSpPr>
          <p:spPr>
            <a:xfrm>
              <a:off x="5655600" y="0"/>
              <a:ext cx="3494880" cy="5715000"/>
            </a:xfrm>
            <a:prstGeom prst="rect">
              <a:avLst/>
            </a:prstGeom>
            <a:noFill/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3"/>
          <p:cNvSpPr/>
          <p:nvPr/>
        </p:nvSpPr>
        <p:spPr>
          <a:xfrm rot="5400000">
            <a:off x="2832120" y="2819160"/>
            <a:ext cx="572436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4"/>
          <p:cNvSpPr/>
          <p:nvPr/>
        </p:nvSpPr>
        <p:spPr>
          <a:xfrm>
            <a:off x="0" y="0"/>
            <a:ext cx="5654520" cy="5715000"/>
          </a:xfrm>
          <a:prstGeom prst="rect">
            <a:avLst/>
          </a:prstGeom>
          <a:gradFill rotWithShape="0">
            <a:gsLst>
              <a:gs pos="0">
                <a:srgbClr val="79d6f7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"/>
          <p:cNvSpPr/>
          <p:nvPr/>
        </p:nvSpPr>
        <p:spPr>
          <a:xfrm>
            <a:off x="1387440" y="1994040"/>
            <a:ext cx="28796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8"/>
          <p:cNvSpPr/>
          <p:nvPr/>
        </p:nvSpPr>
        <p:spPr>
          <a:xfrm>
            <a:off x="6764400" y="552600"/>
            <a:ext cx="16239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6"/>
          <p:cNvSpPr/>
          <p:nvPr/>
        </p:nvSpPr>
        <p:spPr>
          <a:xfrm>
            <a:off x="-33480" y="264960"/>
            <a:ext cx="2230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Segoe UI"/>
              </a:rPr>
              <a:t>使用规范说明</a:t>
            </a:r>
            <a:endParaRPr b="1" lang="en-US" sz="44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8000" y="105696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Segoe U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Segoe U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Segoe U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 U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 U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 U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F35-8FFD-49CA-BFFA-4FA033B083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4"/>
          <p:cNvSpPr/>
          <p:nvPr/>
        </p:nvSpPr>
        <p:spPr>
          <a:xfrm>
            <a:off x="5694480" y="0"/>
            <a:ext cx="3449520" cy="5715000"/>
          </a:xfrm>
          <a:prstGeom prst="rect">
            <a:avLst/>
          </a:prstGeom>
          <a:gradFill rotWithShape="0">
            <a:gsLst>
              <a:gs pos="0">
                <a:srgbClr val="79d6f7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3"/>
          <p:cNvSpPr/>
          <p:nvPr/>
        </p:nvSpPr>
        <p:spPr>
          <a:xfrm rot="5400000">
            <a:off x="2832120" y="2819160"/>
            <a:ext cx="572436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7"/>
          <p:cNvSpPr/>
          <p:nvPr/>
        </p:nvSpPr>
        <p:spPr>
          <a:xfrm>
            <a:off x="5978520" y="2279520"/>
            <a:ext cx="28814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8"/>
          <p:cNvSpPr/>
          <p:nvPr/>
        </p:nvSpPr>
        <p:spPr>
          <a:xfrm>
            <a:off x="324000" y="1778040"/>
            <a:ext cx="4613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9"/>
          <p:cNvSpPr/>
          <p:nvPr/>
        </p:nvSpPr>
        <p:spPr>
          <a:xfrm>
            <a:off x="324000" y="4152960"/>
            <a:ext cx="4967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Segoe UI"/>
                <a:ea typeface="Segoe UI"/>
              </a:rPr>
              <a:t>PS: </a:t>
            </a:r>
            <a:r>
              <a:rPr b="0" lang="zh-CN" sz="1400" spc="-1" strike="noStrike">
                <a:solidFill>
                  <a:srgbClr val="0c0c0c"/>
                </a:solidFill>
                <a:latin typeface="Arial"/>
              </a:rPr>
              <a:t>所有示例展示的只是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轮廓性</a:t>
            </a:r>
            <a:r>
              <a:rPr b="0" lang="zh-CN" sz="1400" spc="-1" strike="noStrike">
                <a:solidFill>
                  <a:srgbClr val="0c0c0c"/>
                </a:solidFill>
                <a:latin typeface="Arial"/>
              </a:rPr>
              <a:t>版式。实际运用时，图片不一定是矩形，可以是其他形状；文字可以旋转</a:t>
            </a:r>
            <a:r>
              <a:rPr b="0" lang="en-US" sz="1400" spc="-1" strike="noStrike">
                <a:solidFill>
                  <a:srgbClr val="0c0c0c"/>
                </a:solidFill>
                <a:latin typeface="Segoe UI"/>
                <a:ea typeface="Segoe UI"/>
              </a:rPr>
              <a:t>90°</a:t>
            </a:r>
            <a:r>
              <a:rPr b="0" lang="zh-CN" sz="1400" spc="-1" strike="noStrike">
                <a:solidFill>
                  <a:srgbClr val="0c0c0c"/>
                </a:solidFill>
                <a:latin typeface="Arial"/>
              </a:rPr>
              <a:t>，也可以水平；空白处往往需要添加修饰性素材，以平衡丰富页面效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10"/>
          <p:cNvSpPr/>
          <p:nvPr/>
        </p:nvSpPr>
        <p:spPr>
          <a:xfrm>
            <a:off x="357120" y="264960"/>
            <a:ext cx="22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组合 2"/>
          <p:cNvGrpSpPr/>
          <p:nvPr/>
        </p:nvGrpSpPr>
        <p:grpSpPr>
          <a:xfrm>
            <a:off x="0" y="-360"/>
            <a:ext cx="9144000" cy="5715360"/>
            <a:chOff x="0" y="-360"/>
            <a:chExt cx="9144000" cy="5715360"/>
          </a:xfrm>
        </p:grpSpPr>
        <p:sp>
          <p:nvSpPr>
            <p:cNvPr id="643" name="矩形 4"/>
            <p:cNvSpPr/>
            <p:nvPr/>
          </p:nvSpPr>
          <p:spPr>
            <a:xfrm rot="10800000">
              <a:off x="0" y="-360"/>
              <a:ext cx="3494520" cy="5715000"/>
            </a:xfrm>
            <a:prstGeom prst="rect">
              <a:avLst/>
            </a:prstGeom>
            <a:noFill/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矩形 5"/>
            <p:cNvSpPr/>
            <p:nvPr/>
          </p:nvSpPr>
          <p:spPr>
            <a:xfrm>
              <a:off x="3489120" y="0"/>
              <a:ext cx="5654880" cy="5715000"/>
            </a:xfrm>
            <a:prstGeom prst="rect">
              <a:avLst/>
            </a:prstGeom>
            <a:noFill/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矩形 6"/>
            <p:cNvSpPr/>
            <p:nvPr/>
          </p:nvSpPr>
          <p:spPr>
            <a:xfrm>
              <a:off x="360" y="0"/>
              <a:ext cx="3494520" cy="5715000"/>
            </a:xfrm>
            <a:prstGeom prst="rect">
              <a:avLst/>
            </a:prstGeom>
            <a:noFill/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矩形 4"/>
          <p:cNvSpPr/>
          <p:nvPr/>
        </p:nvSpPr>
        <p:spPr>
          <a:xfrm>
            <a:off x="0" y="0"/>
            <a:ext cx="3489480" cy="5715000"/>
          </a:xfrm>
          <a:prstGeom prst="rect">
            <a:avLst/>
          </a:prstGeom>
          <a:gradFill rotWithShape="0">
            <a:gsLst>
              <a:gs pos="0">
                <a:srgbClr val="79d6f7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7"/>
          <p:cNvSpPr/>
          <p:nvPr/>
        </p:nvSpPr>
        <p:spPr>
          <a:xfrm>
            <a:off x="250920" y="1994040"/>
            <a:ext cx="28810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3"/>
          <p:cNvSpPr/>
          <p:nvPr/>
        </p:nvSpPr>
        <p:spPr>
          <a:xfrm rot="5400000">
            <a:off x="646920" y="2819880"/>
            <a:ext cx="5724360" cy="842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13"/>
          <p:cNvSpPr/>
          <p:nvPr/>
        </p:nvSpPr>
        <p:spPr>
          <a:xfrm>
            <a:off x="4076640" y="1704960"/>
            <a:ext cx="4613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8"/>
          <p:cNvSpPr/>
          <p:nvPr/>
        </p:nvSpPr>
        <p:spPr>
          <a:xfrm>
            <a:off x="4076640" y="3936960"/>
            <a:ext cx="4613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Segoe UI"/>
                <a:ea typeface="Segoe UI"/>
              </a:rPr>
              <a:t>PS: </a:t>
            </a:r>
            <a:r>
              <a:rPr b="0" lang="zh-CN" sz="1400" spc="-1" strike="noStrike">
                <a:solidFill>
                  <a:srgbClr val="0c0c0c"/>
                </a:solidFill>
                <a:latin typeface="Arial"/>
              </a:rPr>
              <a:t>所有示例展示的只是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轮廓性</a:t>
            </a:r>
            <a:r>
              <a:rPr b="0" lang="zh-CN" sz="1400" spc="-1" strike="noStrike">
                <a:solidFill>
                  <a:srgbClr val="0c0c0c"/>
                </a:solidFill>
                <a:latin typeface="Arial"/>
              </a:rPr>
              <a:t>版式。实际运用时，图片不一定是矩形，可以是其他形状；空白处往往需要添加修饰性素材，以平衡丰富页面效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9"/>
          <p:cNvSpPr/>
          <p:nvPr/>
        </p:nvSpPr>
        <p:spPr>
          <a:xfrm>
            <a:off x="6588000" y="264960"/>
            <a:ext cx="22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10"/>
          <p:cNvSpPr/>
          <p:nvPr/>
        </p:nvSpPr>
        <p:spPr>
          <a:xfrm>
            <a:off x="3510000" y="0"/>
            <a:ext cx="5634000" cy="5715000"/>
          </a:xfrm>
          <a:prstGeom prst="rect">
            <a:avLst/>
          </a:prstGeom>
          <a:gradFill rotWithShape="0">
            <a:gsLst>
              <a:gs pos="0">
                <a:srgbClr val="79d6f7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7"/>
          <p:cNvSpPr/>
          <p:nvPr/>
        </p:nvSpPr>
        <p:spPr>
          <a:xfrm>
            <a:off x="4643280" y="2063880"/>
            <a:ext cx="28814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8"/>
          <p:cNvSpPr/>
          <p:nvPr/>
        </p:nvSpPr>
        <p:spPr>
          <a:xfrm>
            <a:off x="96840" y="1795320"/>
            <a:ext cx="3300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2800" spc="-1" strike="noStrike">
                <a:solidFill>
                  <a:srgbClr val="0c0c0c"/>
                </a:solidFill>
                <a:latin typeface="Arial"/>
              </a:rPr>
              <a:t>设计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Arial"/>
              </a:rPr>
              <a:t>的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1"/>
          <p:cNvSpPr/>
          <p:nvPr/>
        </p:nvSpPr>
        <p:spPr>
          <a:xfrm rot="5400000">
            <a:off x="646920" y="2819880"/>
            <a:ext cx="5724360" cy="842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2"/>
          <p:cNvSpPr/>
          <p:nvPr/>
        </p:nvSpPr>
        <p:spPr>
          <a:xfrm>
            <a:off x="6588000" y="264960"/>
            <a:ext cx="22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任意多边形 10"/>
          <p:cNvSpPr/>
          <p:nvPr/>
        </p:nvSpPr>
        <p:spPr>
          <a:xfrm>
            <a:off x="-20520" y="-20520"/>
            <a:ext cx="9164520" cy="5744880"/>
          </a:xfrm>
          <a:custGeom>
            <a:avLst/>
            <a:gdLst>
              <a:gd name="textAreaLeft" fmla="*/ 0 w 9164520"/>
              <a:gd name="textAreaRight" fmla="*/ 9164880 w 9164520"/>
              <a:gd name="textAreaTop" fmla="*/ 0 h 5744880"/>
              <a:gd name="textAreaBottom" fmla="*/ 5745240 h 5744880"/>
            </a:gdLst>
            <a:ahLst/>
            <a:rect l="textAreaLeft" t="textAreaTop" r="textAreaRight" b="textAreaBottom"/>
            <a:pathLst>
              <a:path w="9166578" h="5746045">
                <a:moveTo>
                  <a:pt x="0" y="5734756"/>
                </a:moveTo>
                <a:lnTo>
                  <a:pt x="7032978" y="0"/>
                </a:lnTo>
                <a:lnTo>
                  <a:pt x="9166578" y="0"/>
                </a:lnTo>
                <a:lnTo>
                  <a:pt x="9166578" y="5746045"/>
                </a:lnTo>
                <a:lnTo>
                  <a:pt x="0" y="5734756"/>
                </a:lnTo>
                <a:close/>
              </a:path>
            </a:pathLst>
          </a:custGeom>
          <a:noFill/>
          <a:ln w="12600">
            <a:solidFill>
              <a:srgbClr val="0c0c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3"/>
          <p:cNvSpPr/>
          <p:nvPr/>
        </p:nvSpPr>
        <p:spPr>
          <a:xfrm flipV="1">
            <a:off x="0" y="15840"/>
            <a:ext cx="6981840" cy="5686560"/>
          </a:xfrm>
          <a:prstGeom prst="line">
            <a:avLst/>
          </a:prstGeom>
          <a:ln w="1260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8"/>
          <p:cNvSpPr/>
          <p:nvPr/>
        </p:nvSpPr>
        <p:spPr>
          <a:xfrm>
            <a:off x="6075000" y="27129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Segoe UI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9"/>
          <p:cNvSpPr/>
          <p:nvPr/>
        </p:nvSpPr>
        <p:spPr>
          <a:xfrm>
            <a:off x="1660320" y="9129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Segoe UI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任意多边形 10"/>
          <p:cNvSpPr/>
          <p:nvPr/>
        </p:nvSpPr>
        <p:spPr>
          <a:xfrm>
            <a:off x="-20520" y="-20520"/>
            <a:ext cx="9164520" cy="5744880"/>
          </a:xfrm>
          <a:custGeom>
            <a:avLst/>
            <a:gdLst>
              <a:gd name="textAreaLeft" fmla="*/ 0 w 9164520"/>
              <a:gd name="textAreaRight" fmla="*/ 9164880 w 9164520"/>
              <a:gd name="textAreaTop" fmla="*/ 0 h 5744880"/>
              <a:gd name="textAreaBottom" fmla="*/ 5745240 h 5744880"/>
            </a:gdLst>
            <a:ahLst/>
            <a:rect l="textAreaLeft" t="textAreaTop" r="textAreaRight" b="textAreaBottom"/>
            <a:pathLst>
              <a:path w="9166578" h="5746045">
                <a:moveTo>
                  <a:pt x="0" y="5734756"/>
                </a:moveTo>
                <a:lnTo>
                  <a:pt x="7032978" y="0"/>
                </a:lnTo>
                <a:lnTo>
                  <a:pt x="9166578" y="0"/>
                </a:lnTo>
                <a:lnTo>
                  <a:pt x="9166578" y="5746045"/>
                </a:lnTo>
                <a:lnTo>
                  <a:pt x="0" y="5734756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79d6f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6"/>
          <p:cNvSpPr/>
          <p:nvPr/>
        </p:nvSpPr>
        <p:spPr>
          <a:xfrm rot="8448000">
            <a:off x="-1033560" y="2784600"/>
            <a:ext cx="914256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7"/>
          <p:cNvSpPr/>
          <p:nvPr/>
        </p:nvSpPr>
        <p:spPr>
          <a:xfrm>
            <a:off x="4356000" y="3218040"/>
            <a:ext cx="2880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12"/>
          <p:cNvSpPr/>
          <p:nvPr/>
        </p:nvSpPr>
        <p:spPr>
          <a:xfrm rot="19260000">
            <a:off x="-50760" y="1307880"/>
            <a:ext cx="48988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9"/>
          <p:cNvSpPr/>
          <p:nvPr/>
        </p:nvSpPr>
        <p:spPr>
          <a:xfrm>
            <a:off x="6588000" y="260280"/>
            <a:ext cx="223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76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83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90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97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9120" y="5364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Segoe UI"/>
              </a:rPr>
              <a:t>黄金分割</a:t>
            </a:r>
            <a:endParaRPr b="1" lang="en-US" sz="36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1562040"/>
            <a:ext cx="4753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黄金分割是指事物各部分间一定的数学比例关系，即将整体一分为二，较大部分与较小部分之比等于整体与较大部分之比，其比值为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1∶0.618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1.618∶1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，即</a:t>
            </a:r>
            <a:r>
              <a:rPr b="0" lang="zh-CN" sz="1800" spc="-1" strike="noStrike">
                <a:solidFill>
                  <a:srgbClr val="c00000"/>
                </a:solidFill>
                <a:latin typeface="Segoe UI"/>
              </a:rPr>
              <a:t>长段为全段的</a:t>
            </a:r>
            <a:r>
              <a:rPr b="0" lang="en-US" sz="1800" spc="-1" strike="noStrike">
                <a:solidFill>
                  <a:srgbClr val="c00000"/>
                </a:solidFill>
                <a:latin typeface="Segoe UI"/>
              </a:rPr>
              <a:t>0.618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0.618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被公认为最具有审美意义的比例数字。上述比例是最能引起人的美感的比例，因此被称为黄金分割。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algn="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百度百科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rcRect l="0" t="0" r="30598" b="1840"/>
          <a:stretch/>
        </p:blipFill>
        <p:spPr>
          <a:xfrm>
            <a:off x="5580000" y="625320"/>
            <a:ext cx="3519720" cy="505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6116760" y="2878200"/>
            <a:ext cx="1347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任意多边形 1"/>
          <p:cNvSpPr/>
          <p:nvPr/>
        </p:nvSpPr>
        <p:spPr>
          <a:xfrm>
            <a:off x="-20520" y="-9360"/>
            <a:ext cx="7064280" cy="5711760"/>
          </a:xfrm>
          <a:custGeom>
            <a:avLst/>
            <a:gdLst>
              <a:gd name="textAreaLeft" fmla="*/ 0 w 7064280"/>
              <a:gd name="textAreaRight" fmla="*/ 7064640 w 7064280"/>
              <a:gd name="textAreaTop" fmla="*/ 0 h 5711760"/>
              <a:gd name="textAreaBottom" fmla="*/ 5712120 h 5711760"/>
            </a:gdLst>
            <a:ahLst/>
            <a:rect l="textAreaLeft" t="textAreaTop" r="textAreaRight" b="textAreaBottom"/>
            <a:pathLst>
              <a:path w="7066845" h="5712178">
                <a:moveTo>
                  <a:pt x="0" y="0"/>
                </a:moveTo>
                <a:lnTo>
                  <a:pt x="7066845" y="0"/>
                </a:lnTo>
                <a:lnTo>
                  <a:pt x="0" y="571217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79d6f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6"/>
          <p:cNvSpPr/>
          <p:nvPr/>
        </p:nvSpPr>
        <p:spPr>
          <a:xfrm rot="8448000">
            <a:off x="-1033560" y="2784600"/>
            <a:ext cx="914256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2"/>
          <p:cNvSpPr/>
          <p:nvPr/>
        </p:nvSpPr>
        <p:spPr>
          <a:xfrm>
            <a:off x="4135320" y="2209680"/>
            <a:ext cx="43243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8"/>
          <p:cNvSpPr/>
          <p:nvPr/>
        </p:nvSpPr>
        <p:spPr>
          <a:xfrm>
            <a:off x="4135320" y="4103640"/>
            <a:ext cx="425304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</a:rPr>
              <a:t>PS: 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所有示例展示的只是</a:t>
            </a: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轮廓性</a:t>
            </a:r>
            <a:r>
              <a:rPr b="0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版式。实际运用时不会这么简单，比如：边框变曲线、文字是否倾斜、配色的调整搭配、空白处的背景、修饰性素材的添加等，以平衡丰富页面效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9"/>
          <p:cNvSpPr/>
          <p:nvPr/>
        </p:nvSpPr>
        <p:spPr>
          <a:xfrm>
            <a:off x="6588000" y="260280"/>
            <a:ext cx="223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4"/>
          <p:cNvSpPr/>
          <p:nvPr/>
        </p:nvSpPr>
        <p:spPr>
          <a:xfrm>
            <a:off x="662040" y="1125360"/>
            <a:ext cx="28796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任意多边形 8"/>
          <p:cNvSpPr/>
          <p:nvPr/>
        </p:nvSpPr>
        <p:spPr>
          <a:xfrm>
            <a:off x="-20520" y="-9360"/>
            <a:ext cx="7064280" cy="5711760"/>
          </a:xfrm>
          <a:custGeom>
            <a:avLst/>
            <a:gdLst>
              <a:gd name="textAreaLeft" fmla="*/ 0 w 7064280"/>
              <a:gd name="textAreaRight" fmla="*/ 7064640 w 7064280"/>
              <a:gd name="textAreaTop" fmla="*/ 0 h 5711760"/>
              <a:gd name="textAreaBottom" fmla="*/ 5712120 h 5711760"/>
            </a:gdLst>
            <a:ahLst/>
            <a:rect l="textAreaLeft" t="textAreaTop" r="textAreaRight" b="textAreaBottom"/>
            <a:pathLst>
              <a:path w="7066845" h="5712178">
                <a:moveTo>
                  <a:pt x="0" y="0"/>
                </a:moveTo>
                <a:lnTo>
                  <a:pt x="7066845" y="0"/>
                </a:lnTo>
                <a:lnTo>
                  <a:pt x="0" y="571217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79d6f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6"/>
          <p:cNvSpPr/>
          <p:nvPr/>
        </p:nvSpPr>
        <p:spPr>
          <a:xfrm rot="8448000">
            <a:off x="-1033560" y="2784600"/>
            <a:ext cx="914256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12"/>
          <p:cNvSpPr/>
          <p:nvPr/>
        </p:nvSpPr>
        <p:spPr>
          <a:xfrm rot="19260000">
            <a:off x="1846440" y="2295000"/>
            <a:ext cx="59734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40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9"/>
          <p:cNvSpPr/>
          <p:nvPr/>
        </p:nvSpPr>
        <p:spPr>
          <a:xfrm>
            <a:off x="662040" y="1125360"/>
            <a:ext cx="28796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4"/>
          <p:cNvSpPr/>
          <p:nvPr/>
        </p:nvSpPr>
        <p:spPr>
          <a:xfrm rot="19158000">
            <a:off x="5009760" y="3598560"/>
            <a:ext cx="3459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Segoe UI"/>
                <a:ea typeface="Segoe UI"/>
              </a:rPr>
              <a:t>PS: </a:t>
            </a:r>
            <a:r>
              <a:rPr b="0" lang="zh-CN" sz="1200" spc="-1" strike="noStrike">
                <a:solidFill>
                  <a:srgbClr val="0c0c0c"/>
                </a:solidFill>
                <a:latin typeface="Arial"/>
              </a:rPr>
              <a:t>所有示例展示的只是轮廓性版式。实际运用时不会这么简单，比如：文字是否倾斜、直线边变曲线、配色的调整搭配、空白处的背景、修饰性素材的添加等，以平衡丰富页面效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5"/>
          <p:cNvSpPr/>
          <p:nvPr/>
        </p:nvSpPr>
        <p:spPr>
          <a:xfrm>
            <a:off x="324000" y="260280"/>
            <a:ext cx="223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0" y="1332000"/>
            <a:ext cx="9155160" cy="44258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425840"/>
              <a:gd name="textAreaBottom" fmla="*/ 4425840 h 4425840"/>
            </a:gdLst>
            <a:ahLst/>
            <a:rect l="textAreaLeft" t="textAreaTop" r="textAreaRight" b="textAreaBottom"/>
            <a:pathLst>
              <a:path w="9155289" h="4425244">
                <a:moveTo>
                  <a:pt x="0" y="4391378"/>
                </a:moveTo>
                <a:lnTo>
                  <a:pt x="9155289" y="0"/>
                </a:lnTo>
                <a:lnTo>
                  <a:pt x="9155289" y="4425244"/>
                </a:lnTo>
                <a:lnTo>
                  <a:pt x="0" y="4391378"/>
                </a:lnTo>
                <a:close/>
              </a:path>
            </a:pathLst>
          </a:custGeom>
          <a:noFill/>
          <a:ln w="12600">
            <a:solidFill>
              <a:srgbClr val="0c0c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12"/>
          <p:cNvSpPr/>
          <p:nvPr/>
        </p:nvSpPr>
        <p:spPr>
          <a:xfrm>
            <a:off x="1947600" y="1122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Segoe UI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3"/>
          <p:cNvSpPr/>
          <p:nvPr/>
        </p:nvSpPr>
        <p:spPr>
          <a:xfrm>
            <a:off x="6364080" y="37209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Segoe UI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任意多边形 11"/>
          <p:cNvSpPr/>
          <p:nvPr/>
        </p:nvSpPr>
        <p:spPr>
          <a:xfrm>
            <a:off x="0" y="1332000"/>
            <a:ext cx="9155160" cy="44258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425840"/>
              <a:gd name="textAreaBottom" fmla="*/ 4425840 h 4425840"/>
            </a:gdLst>
            <a:ahLst/>
            <a:rect l="textAreaLeft" t="textAreaTop" r="textAreaRight" b="textAreaBottom"/>
            <a:pathLst>
              <a:path w="9155289" h="4425244">
                <a:moveTo>
                  <a:pt x="0" y="4391378"/>
                </a:moveTo>
                <a:lnTo>
                  <a:pt x="9155289" y="0"/>
                </a:lnTo>
                <a:lnTo>
                  <a:pt x="9155289" y="4425244"/>
                </a:lnTo>
                <a:lnTo>
                  <a:pt x="0" y="4391378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79d6f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3"/>
          <p:cNvSpPr/>
          <p:nvPr/>
        </p:nvSpPr>
        <p:spPr>
          <a:xfrm rot="9240000">
            <a:off x="-535320" y="3472560"/>
            <a:ext cx="10256760" cy="860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7"/>
          <p:cNvSpPr/>
          <p:nvPr/>
        </p:nvSpPr>
        <p:spPr>
          <a:xfrm>
            <a:off x="5308560" y="3865680"/>
            <a:ext cx="288144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20059800">
            <a:off x="-248760" y="1390320"/>
            <a:ext cx="7140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44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44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40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23"/>
          <p:cNvSpPr/>
          <p:nvPr/>
        </p:nvSpPr>
        <p:spPr>
          <a:xfrm>
            <a:off x="324000" y="260280"/>
            <a:ext cx="223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任意多边形 1"/>
          <p:cNvSpPr/>
          <p:nvPr/>
        </p:nvSpPr>
        <p:spPr>
          <a:xfrm>
            <a:off x="-20520" y="0"/>
            <a:ext cx="9175680" cy="5780160"/>
          </a:xfrm>
          <a:custGeom>
            <a:avLst/>
            <a:gdLst>
              <a:gd name="textAreaLeft" fmla="*/ 0 w 9175680"/>
              <a:gd name="textAreaRight" fmla="*/ 9176040 w 9175680"/>
              <a:gd name="textAreaTop" fmla="*/ 0 h 5780160"/>
              <a:gd name="textAreaBottom" fmla="*/ 5780520 h 5780160"/>
            </a:gdLst>
            <a:ahLst/>
            <a:rect l="textAreaLeft" t="textAreaTop" r="textAreaRight" b="textAreaBottom"/>
            <a:pathLst>
              <a:path w="9177867" h="5779911">
                <a:moveTo>
                  <a:pt x="0" y="5779911"/>
                </a:moveTo>
                <a:lnTo>
                  <a:pt x="0" y="0"/>
                </a:lnTo>
                <a:lnTo>
                  <a:pt x="9177867" y="0"/>
                </a:lnTo>
                <a:lnTo>
                  <a:pt x="9177867" y="1264356"/>
                </a:lnTo>
                <a:lnTo>
                  <a:pt x="0" y="5779911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79d6f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3"/>
          <p:cNvSpPr/>
          <p:nvPr/>
        </p:nvSpPr>
        <p:spPr>
          <a:xfrm rot="9240000">
            <a:off x="-535320" y="3472560"/>
            <a:ext cx="10256760" cy="860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7"/>
          <p:cNvSpPr/>
          <p:nvPr/>
        </p:nvSpPr>
        <p:spPr>
          <a:xfrm>
            <a:off x="1042920" y="1143000"/>
            <a:ext cx="28814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图 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8"/>
          <p:cNvSpPr/>
          <p:nvPr/>
        </p:nvSpPr>
        <p:spPr>
          <a:xfrm rot="20059800">
            <a:off x="2448000" y="3142800"/>
            <a:ext cx="7142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黄金分割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Arial"/>
              </a:rPr>
              <a:t>封面模板</a:t>
            </a:r>
            <a:r>
              <a:rPr b="1" lang="zh-CN" sz="3200" spc="-1" strike="noStrike">
                <a:solidFill>
                  <a:srgbClr val="0c0c0c"/>
                </a:solidFill>
                <a:latin typeface="Arial"/>
              </a:rPr>
              <a:t>设计中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12"/>
          <p:cNvSpPr/>
          <p:nvPr/>
        </p:nvSpPr>
        <p:spPr>
          <a:xfrm>
            <a:off x="324000" y="260280"/>
            <a:ext cx="223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Segoe UI"/>
                <a:ea typeface="Segoe UI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55"/>
          <p:cNvGrpSpPr/>
          <p:nvPr/>
        </p:nvGrpSpPr>
        <p:grpSpPr>
          <a:xfrm>
            <a:off x="-33480" y="-3240"/>
            <a:ext cx="9177480" cy="5748480"/>
            <a:chOff x="-33480" y="-3240"/>
            <a:chExt cx="9177480" cy="5748480"/>
          </a:xfrm>
        </p:grpSpPr>
        <p:sp>
          <p:nvSpPr>
            <p:cNvPr id="692" name="矩形 56"/>
            <p:cNvSpPr/>
            <p:nvPr/>
          </p:nvSpPr>
          <p:spPr>
            <a:xfrm>
              <a:off x="-33480" y="2520"/>
              <a:ext cx="1387440" cy="85320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58"/>
            <p:cNvSpPr/>
            <p:nvPr/>
          </p:nvSpPr>
          <p:spPr>
            <a:xfrm>
              <a:off x="7790760" y="2520"/>
              <a:ext cx="1353240" cy="85320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59"/>
            <p:cNvSpPr/>
            <p:nvPr/>
          </p:nvSpPr>
          <p:spPr>
            <a:xfrm>
              <a:off x="-33480" y="849960"/>
              <a:ext cx="9177120" cy="13417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62"/>
            <p:cNvSpPr/>
            <p:nvPr/>
          </p:nvSpPr>
          <p:spPr>
            <a:xfrm>
              <a:off x="-33480" y="5200200"/>
              <a:ext cx="9177480" cy="54504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115"/>
            <p:cNvSpPr/>
            <p:nvPr/>
          </p:nvSpPr>
          <p:spPr>
            <a:xfrm>
              <a:off x="1353960" y="-3240"/>
              <a:ext cx="6436440" cy="85320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140"/>
            <p:cNvSpPr/>
            <p:nvPr/>
          </p:nvSpPr>
          <p:spPr>
            <a:xfrm>
              <a:off x="-33480" y="2194920"/>
              <a:ext cx="5671800" cy="30049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141"/>
            <p:cNvSpPr/>
            <p:nvPr/>
          </p:nvSpPr>
          <p:spPr>
            <a:xfrm>
              <a:off x="5638320" y="2192040"/>
              <a:ext cx="3505680" cy="300816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16"/>
          <p:cNvSpPr/>
          <p:nvPr/>
        </p:nvSpPr>
        <p:spPr>
          <a:xfrm>
            <a:off x="0" y="5199120"/>
            <a:ext cx="9155160" cy="546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0"/>
          <p:cNvSpPr/>
          <p:nvPr/>
        </p:nvSpPr>
        <p:spPr>
          <a:xfrm>
            <a:off x="0" y="0"/>
            <a:ext cx="9144000" cy="8780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62"/>
          <p:cNvSpPr/>
          <p:nvPr/>
        </p:nvSpPr>
        <p:spPr>
          <a:xfrm>
            <a:off x="-33480" y="5199120"/>
            <a:ext cx="9177480" cy="546120"/>
          </a:xfrm>
          <a:prstGeom prst="rect">
            <a:avLst/>
          </a:prstGeom>
          <a:noFill/>
          <a:ln w="32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115"/>
          <p:cNvSpPr/>
          <p:nvPr/>
        </p:nvSpPr>
        <p:spPr>
          <a:xfrm>
            <a:off x="1387440" y="-3240"/>
            <a:ext cx="66675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c0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黄金分割在</a:t>
            </a:r>
            <a:r>
              <a:rPr b="1" lang="en-US" sz="2400" spc="-1" strike="noStrike">
                <a:solidFill>
                  <a:srgbClr val="ffffff"/>
                </a:solidFill>
                <a:latin typeface="Segoe UI"/>
                <a:ea typeface="Segoe UI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常见内容页模板设计中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15"/>
          <p:cNvSpPr/>
          <p:nvPr/>
        </p:nvSpPr>
        <p:spPr>
          <a:xfrm>
            <a:off x="7790040" y="85680"/>
            <a:ext cx="1353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UI"/>
                <a:ea typeface="Segoe U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1"/>
          <p:cNvSpPr/>
          <p:nvPr/>
        </p:nvSpPr>
        <p:spPr>
          <a:xfrm>
            <a:off x="0" y="828720"/>
            <a:ext cx="914400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2"/>
          <p:cNvSpPr/>
          <p:nvPr/>
        </p:nvSpPr>
        <p:spPr>
          <a:xfrm>
            <a:off x="0" y="0"/>
            <a:ext cx="1352520" cy="82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e36c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8"/>
          <p:cNvSpPr/>
          <p:nvPr/>
        </p:nvSpPr>
        <p:spPr>
          <a:xfrm>
            <a:off x="0" y="5200560"/>
            <a:ext cx="914400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466560" y="1273320"/>
            <a:ext cx="5308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c0c"/>
                </a:solidFill>
                <a:latin typeface="Arial"/>
              </a:rPr>
              <a:t>（一）黄金分割运用心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21"/>
          <p:cNvSpPr/>
          <p:nvPr/>
        </p:nvSpPr>
        <p:spPr>
          <a:xfrm>
            <a:off x="647640" y="1778040"/>
            <a:ext cx="50767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6c09"/>
                </a:solidFill>
                <a:latin typeface="Segoe UI"/>
                <a:ea typeface="Segoe UI"/>
              </a:rPr>
              <a:t>1.</a:t>
            </a:r>
            <a:r>
              <a:rPr b="1" lang="zh-CN" sz="2000" spc="-1" strike="noStrike">
                <a:solidFill>
                  <a:srgbClr val="e36c09"/>
                </a:solidFill>
                <a:latin typeface="Arial"/>
              </a:rPr>
              <a:t>重点“突出”了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22"/>
          <p:cNvSpPr/>
          <p:nvPr/>
        </p:nvSpPr>
        <p:spPr>
          <a:xfrm>
            <a:off x="611280" y="2193840"/>
            <a:ext cx="507528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黄金分割不只是简单地将页面划分一下就万事大吉。黄金分割可通过不断深入分割，但不管如何划分，突出想要表达的重点内容是核心。突不出重点，让非重点内容喧宾夺主，这样的排版即使再好看，也是失败的。好看是形式，内容才是实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3" descr=""/>
          <p:cNvPicPr/>
          <p:nvPr/>
        </p:nvPicPr>
        <p:blipFill>
          <a:blip r:embed="rId2"/>
          <a:stretch/>
        </p:blipFill>
        <p:spPr>
          <a:xfrm>
            <a:off x="6364440" y="2179800"/>
            <a:ext cx="1690560" cy="2388960"/>
          </a:xfrm>
          <a:prstGeom prst="rect">
            <a:avLst/>
          </a:prstGeom>
          <a:ln cap="sq" w="101520">
            <a:solidFill>
              <a:srgbClr val="fdfdfd"/>
            </a:solidFill>
            <a:miter/>
          </a:ln>
        </p:spPr>
      </p:pic>
      <p:sp>
        <p:nvSpPr>
          <p:cNvPr id="711" name="TextBox 24"/>
          <p:cNvSpPr/>
          <p:nvPr/>
        </p:nvSpPr>
        <p:spPr>
          <a:xfrm>
            <a:off x="6842880" y="4081320"/>
            <a:ext cx="820800" cy="2764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  <a:ea typeface="微软雅黑"/>
              </a:rPr>
              <a:t>蒙娜丽莎的微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矩形 16"/>
          <p:cNvSpPr/>
          <p:nvPr/>
        </p:nvSpPr>
        <p:spPr>
          <a:xfrm>
            <a:off x="0" y="5199120"/>
            <a:ext cx="9155160" cy="546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10"/>
          <p:cNvSpPr/>
          <p:nvPr/>
        </p:nvSpPr>
        <p:spPr>
          <a:xfrm>
            <a:off x="0" y="0"/>
            <a:ext cx="9144000" cy="87156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62"/>
          <p:cNvSpPr/>
          <p:nvPr/>
        </p:nvSpPr>
        <p:spPr>
          <a:xfrm>
            <a:off x="-33480" y="5199120"/>
            <a:ext cx="9177480" cy="546120"/>
          </a:xfrm>
          <a:prstGeom prst="rect">
            <a:avLst/>
          </a:prstGeom>
          <a:noFill/>
          <a:ln w="32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15"/>
          <p:cNvSpPr/>
          <p:nvPr/>
        </p:nvSpPr>
        <p:spPr>
          <a:xfrm>
            <a:off x="1387440" y="-3240"/>
            <a:ext cx="66405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c0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黄金分割在</a:t>
            </a:r>
            <a:r>
              <a:rPr b="1" lang="en-US" sz="2400" spc="-1" strike="noStrike">
                <a:solidFill>
                  <a:srgbClr val="ffffff"/>
                </a:solidFill>
                <a:latin typeface="Segoe UI"/>
                <a:ea typeface="Segoe UI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常见内容页模板设计中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11"/>
          <p:cNvSpPr/>
          <p:nvPr/>
        </p:nvSpPr>
        <p:spPr>
          <a:xfrm>
            <a:off x="0" y="828720"/>
            <a:ext cx="914400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2"/>
          <p:cNvSpPr/>
          <p:nvPr/>
        </p:nvSpPr>
        <p:spPr>
          <a:xfrm>
            <a:off x="0" y="0"/>
            <a:ext cx="1352520" cy="82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e36c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18"/>
          <p:cNvSpPr/>
          <p:nvPr/>
        </p:nvSpPr>
        <p:spPr>
          <a:xfrm>
            <a:off x="0" y="5200560"/>
            <a:ext cx="9144000" cy="8568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20"/>
          <p:cNvSpPr/>
          <p:nvPr/>
        </p:nvSpPr>
        <p:spPr>
          <a:xfrm>
            <a:off x="466560" y="1273320"/>
            <a:ext cx="5308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c0c"/>
                </a:solidFill>
                <a:latin typeface="Arial"/>
              </a:rPr>
              <a:t>（一）黄金分割运用心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21"/>
          <p:cNvSpPr/>
          <p:nvPr/>
        </p:nvSpPr>
        <p:spPr>
          <a:xfrm>
            <a:off x="647640" y="1778040"/>
            <a:ext cx="50767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6c09"/>
                </a:solidFill>
                <a:latin typeface="Segoe UI"/>
                <a:ea typeface="Segoe UI"/>
              </a:rPr>
              <a:t>2.</a:t>
            </a:r>
            <a:r>
              <a:rPr b="1" lang="zh-CN" sz="2000" spc="-1" strike="noStrike">
                <a:solidFill>
                  <a:srgbClr val="e36c09"/>
                </a:solidFill>
                <a:latin typeface="Arial"/>
              </a:rPr>
              <a:t>另一种重要的分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2"/>
          <p:cNvSpPr/>
          <p:nvPr/>
        </p:nvSpPr>
        <p:spPr>
          <a:xfrm>
            <a:off x="3276720" y="2193840"/>
            <a:ext cx="540072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个人认为黄金分割比较适合页面中多元素的版式设计。但有时候页面的元素比较少，这就用到另一种分割：</a:t>
            </a:r>
            <a:r>
              <a:rPr b="1" lang="en-US" sz="1800" spc="-1" strike="noStrike">
                <a:solidFill>
                  <a:srgbClr val="c00000"/>
                </a:solidFill>
                <a:latin typeface="Segoe UI"/>
                <a:ea typeface="Segoe UI"/>
              </a:rPr>
              <a:t>0.5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比例分割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，也可以很好的突出重点。</a:t>
            </a:r>
            <a:r>
              <a:rPr b="0" lang="en-US" sz="1800" spc="-1" strike="noStrike">
                <a:solidFill>
                  <a:srgbClr val="0c0c0c"/>
                </a:solidFill>
                <a:latin typeface="Segoe UI"/>
                <a:ea typeface="Segoe UI"/>
              </a:rPr>
              <a:t>0.5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比例分割也用到均衡强调的设计中。此外，字体大小、文字背景的恰当处理，都能起到重点强调的作用，不过这就是题外话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组合 4"/>
          <p:cNvGrpSpPr/>
          <p:nvPr/>
        </p:nvGrpSpPr>
        <p:grpSpPr>
          <a:xfrm>
            <a:off x="1009800" y="2336760"/>
            <a:ext cx="1654200" cy="2290680"/>
            <a:chOff x="1009800" y="2336760"/>
            <a:chExt cx="1654200" cy="2290680"/>
          </a:xfrm>
        </p:grpSpPr>
        <p:pic>
          <p:nvPicPr>
            <p:cNvPr id="723" name="图片 2" descr=""/>
            <p:cNvPicPr/>
            <p:nvPr/>
          </p:nvPicPr>
          <p:blipFill>
            <a:blip r:embed="rId2"/>
            <a:stretch/>
          </p:blipFill>
          <p:spPr>
            <a:xfrm>
              <a:off x="1009800" y="2336760"/>
              <a:ext cx="1654200" cy="2290680"/>
            </a:xfrm>
            <a:prstGeom prst="rect">
              <a:avLst/>
            </a:prstGeom>
            <a:ln cap="sq" w="101520">
              <a:solidFill>
                <a:srgbClr val="fdfdfd"/>
              </a:solidFill>
              <a:miter/>
            </a:ln>
          </p:spPr>
        </p:pic>
        <p:sp>
          <p:nvSpPr>
            <p:cNvPr id="724" name="TextBox 3"/>
            <p:cNvSpPr/>
            <p:nvPr/>
          </p:nvSpPr>
          <p:spPr>
            <a:xfrm>
              <a:off x="1517760" y="4081680"/>
              <a:ext cx="637920" cy="276480"/>
            </a:xfrm>
            <a:prstGeom prst="rect">
              <a:avLst/>
            </a:prstGeom>
            <a:solidFill>
              <a:srgbClr val="0c0c0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Segoe UI"/>
                  <a:ea typeface="微软雅黑"/>
                </a:rPr>
                <a:t>维特鲁威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矩形 1"/>
            <p:cNvSpPr/>
            <p:nvPr/>
          </p:nvSpPr>
          <p:spPr>
            <a:xfrm>
              <a:off x="1191960" y="3146040"/>
              <a:ext cx="122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3f3f"/>
                  </a:solidFill>
                  <a:latin typeface="Segoe UI"/>
                  <a:ea typeface="微软雅黑"/>
                </a:rPr>
                <a:t>0.6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矩形 17"/>
          <p:cNvSpPr/>
          <p:nvPr/>
        </p:nvSpPr>
        <p:spPr>
          <a:xfrm>
            <a:off x="7790040" y="85680"/>
            <a:ext cx="1353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UI"/>
                <a:ea typeface="Segoe U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组合 55"/>
          <p:cNvGrpSpPr/>
          <p:nvPr/>
        </p:nvGrpSpPr>
        <p:grpSpPr>
          <a:xfrm>
            <a:off x="-33480" y="-3240"/>
            <a:ext cx="9177480" cy="5718240"/>
            <a:chOff x="-33480" y="-3240"/>
            <a:chExt cx="9177480" cy="5718240"/>
          </a:xfrm>
        </p:grpSpPr>
        <p:sp>
          <p:nvSpPr>
            <p:cNvPr id="728" name="矩形 56"/>
            <p:cNvSpPr/>
            <p:nvPr/>
          </p:nvSpPr>
          <p:spPr>
            <a:xfrm>
              <a:off x="-33480" y="2520"/>
              <a:ext cx="1387440" cy="85320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59"/>
            <p:cNvSpPr/>
            <p:nvPr/>
          </p:nvSpPr>
          <p:spPr>
            <a:xfrm>
              <a:off x="-33480" y="849960"/>
              <a:ext cx="9177120" cy="134136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矩形 115"/>
            <p:cNvSpPr/>
            <p:nvPr/>
          </p:nvSpPr>
          <p:spPr>
            <a:xfrm>
              <a:off x="1353960" y="-3240"/>
              <a:ext cx="7789680" cy="85320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40"/>
            <p:cNvSpPr/>
            <p:nvPr/>
          </p:nvSpPr>
          <p:spPr>
            <a:xfrm>
              <a:off x="3508200" y="2191680"/>
              <a:ext cx="5635800" cy="3523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41"/>
            <p:cNvSpPr/>
            <p:nvPr/>
          </p:nvSpPr>
          <p:spPr>
            <a:xfrm>
              <a:off x="2520" y="2191680"/>
              <a:ext cx="3505680" cy="3523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矩形 24"/>
          <p:cNvSpPr/>
          <p:nvPr/>
        </p:nvSpPr>
        <p:spPr>
          <a:xfrm>
            <a:off x="0" y="0"/>
            <a:ext cx="9144000" cy="8715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9144002" h="870929">
                <a:moveTo>
                  <a:pt x="0" y="0"/>
                </a:moveTo>
                <a:lnTo>
                  <a:pt x="9144002" y="0"/>
                </a:lnTo>
                <a:lnTo>
                  <a:pt x="9144002" y="870929"/>
                </a:lnTo>
                <a:lnTo>
                  <a:pt x="1172974" y="870929"/>
                </a:lnTo>
                <a:cubicBezTo>
                  <a:pt x="1212609" y="800794"/>
                  <a:pt x="1242962" y="902242"/>
                  <a:pt x="1251112" y="627763"/>
                </a:cubicBezTo>
                <a:cubicBezTo>
                  <a:pt x="1259262" y="353284"/>
                  <a:pt x="1033242" y="109695"/>
                  <a:pt x="698538" y="109695"/>
                </a:cubicBezTo>
                <a:cubicBezTo>
                  <a:pt x="585274" y="109695"/>
                  <a:pt x="481517" y="148293"/>
                  <a:pt x="398742" y="213955"/>
                </a:cubicBezTo>
                <a:cubicBezTo>
                  <a:pt x="268138" y="307421"/>
                  <a:pt x="183835" y="460622"/>
                  <a:pt x="183835" y="633514"/>
                </a:cubicBezTo>
                <a:cubicBezTo>
                  <a:pt x="183835" y="719467"/>
                  <a:pt x="204671" y="800554"/>
                  <a:pt x="243640" y="870929"/>
                </a:cubicBezTo>
                <a:lnTo>
                  <a:pt x="0" y="87092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同心圆 6"/>
          <p:cNvSpPr/>
          <p:nvPr/>
        </p:nvSpPr>
        <p:spPr>
          <a:xfrm>
            <a:off x="0" y="77760"/>
            <a:ext cx="9155160" cy="82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9155152" h="824355">
                <a:moveTo>
                  <a:pt x="704288" y="0"/>
                </a:moveTo>
                <a:cubicBezTo>
                  <a:pt x="1010996" y="0"/>
                  <a:pt x="1259632" y="248636"/>
                  <a:pt x="1259632" y="555344"/>
                </a:cubicBezTo>
                <a:cubicBezTo>
                  <a:pt x="1259632" y="623594"/>
                  <a:pt x="1247321" y="688967"/>
                  <a:pt x="1223065" y="748720"/>
                </a:cubicBezTo>
                <a:lnTo>
                  <a:pt x="9155152" y="748720"/>
                </a:lnTo>
                <a:lnTo>
                  <a:pt x="9155152" y="824355"/>
                </a:lnTo>
                <a:lnTo>
                  <a:pt x="1137310" y="824355"/>
                </a:lnTo>
                <a:cubicBezTo>
                  <a:pt x="1188462" y="747366"/>
                  <a:pt x="1216719" y="654655"/>
                  <a:pt x="1216719" y="555343"/>
                </a:cubicBezTo>
                <a:cubicBezTo>
                  <a:pt x="1216719" y="272398"/>
                  <a:pt x="987347" y="43026"/>
                  <a:pt x="704402" y="43026"/>
                </a:cubicBezTo>
                <a:cubicBezTo>
                  <a:pt x="421457" y="43026"/>
                  <a:pt x="192085" y="272398"/>
                  <a:pt x="192085" y="555343"/>
                </a:cubicBezTo>
                <a:cubicBezTo>
                  <a:pt x="192085" y="654655"/>
                  <a:pt x="220342" y="747366"/>
                  <a:pt x="271494" y="824355"/>
                </a:cubicBezTo>
                <a:lnTo>
                  <a:pt x="0" y="824355"/>
                </a:lnTo>
                <a:lnTo>
                  <a:pt x="0" y="758645"/>
                </a:lnTo>
                <a:lnTo>
                  <a:pt x="0" y="748720"/>
                </a:lnTo>
                <a:lnTo>
                  <a:pt x="185512" y="748720"/>
                </a:lnTo>
                <a:cubicBezTo>
                  <a:pt x="161256" y="688967"/>
                  <a:pt x="148944" y="623594"/>
                  <a:pt x="148944" y="555344"/>
                </a:cubicBezTo>
                <a:cubicBezTo>
                  <a:pt x="148944" y="248636"/>
                  <a:pt x="397580" y="0"/>
                  <a:pt x="704288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15"/>
          <p:cNvSpPr/>
          <p:nvPr/>
        </p:nvSpPr>
        <p:spPr>
          <a:xfrm>
            <a:off x="1260360" y="120600"/>
            <a:ext cx="6999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c0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二、黄金分割在</a:t>
            </a:r>
            <a:r>
              <a:rPr b="0" lang="en-US" sz="2400" spc="-1" strike="noStrike">
                <a:solidFill>
                  <a:srgbClr val="ffffff"/>
                </a:solidFill>
                <a:latin typeface="Segoe UI"/>
                <a:ea typeface="Segoe UI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常见内容页模板设计中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2"/>
          <p:cNvSpPr/>
          <p:nvPr/>
        </p:nvSpPr>
        <p:spPr>
          <a:xfrm>
            <a:off x="220680" y="150840"/>
            <a:ext cx="966600" cy="966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e36c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34"/>
          <p:cNvSpPr/>
          <p:nvPr/>
        </p:nvSpPr>
        <p:spPr>
          <a:xfrm>
            <a:off x="466560" y="1273320"/>
            <a:ext cx="5308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</a:rPr>
              <a:t>（一）黄金分割运用心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35"/>
          <p:cNvSpPr/>
          <p:nvPr/>
        </p:nvSpPr>
        <p:spPr>
          <a:xfrm>
            <a:off x="611280" y="1778040"/>
            <a:ext cx="507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6c09"/>
                </a:solidFill>
                <a:latin typeface="Segoe UI"/>
                <a:ea typeface="Segoe UI"/>
              </a:rPr>
              <a:t>3.</a:t>
            </a:r>
            <a:r>
              <a:rPr b="1" lang="zh-CN" sz="2000" spc="-1" strike="noStrike">
                <a:solidFill>
                  <a:srgbClr val="e36c09"/>
                </a:solidFill>
                <a:latin typeface="Arial"/>
              </a:rPr>
              <a:t>黄金分割的“模糊特性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36"/>
          <p:cNvSpPr/>
          <p:nvPr/>
        </p:nvSpPr>
        <p:spPr>
          <a:xfrm>
            <a:off x="3995640" y="2352600"/>
            <a:ext cx="4537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黄金分割给了我们很好的设计思路，但不是必须严格遵循</a:t>
            </a:r>
            <a:r>
              <a:rPr b="0" lang="en-US" sz="1800" spc="-1" strike="noStrike">
                <a:solidFill>
                  <a:srgbClr val="0c0c0c"/>
                </a:solidFill>
                <a:latin typeface="Segoe UI"/>
                <a:ea typeface="Segoe UI"/>
              </a:rPr>
              <a:t>0.618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去设计</a:t>
            </a:r>
            <a:r>
              <a:rPr b="0" lang="en-US" sz="18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。任何美学参数都有“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模糊特性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”，有一个允许变化的幅度范围。过分追求黄金分割，最后反而适得其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3" descr=""/>
          <p:cNvPicPr/>
          <p:nvPr/>
        </p:nvPicPr>
        <p:blipFill>
          <a:blip r:embed="rId3"/>
          <a:srcRect l="0" t="0" r="0" b="10634"/>
          <a:stretch/>
        </p:blipFill>
        <p:spPr>
          <a:xfrm>
            <a:off x="611280" y="2419200"/>
            <a:ext cx="30002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108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115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122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129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圆角矩形 43"/>
          <p:cNvSpPr/>
          <p:nvPr/>
        </p:nvSpPr>
        <p:spPr>
          <a:xfrm>
            <a:off x="1693800" y="4226040"/>
            <a:ext cx="5756400" cy="647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9120" y="5364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Segoe UI"/>
              </a:rPr>
              <a:t>黄金分割</a:t>
            </a:r>
            <a:r>
              <a:rPr b="1" lang="zh-CN" sz="3600" spc="-1" strike="noStrike">
                <a:solidFill>
                  <a:srgbClr val="cccc00"/>
                </a:solidFill>
                <a:latin typeface="Segoe UI"/>
              </a:rPr>
              <a:t>点</a:t>
            </a:r>
            <a:endParaRPr b="1" lang="en-US" sz="36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37" name="直接连接符 4"/>
          <p:cNvSpPr/>
          <p:nvPr/>
        </p:nvSpPr>
        <p:spPr>
          <a:xfrm>
            <a:off x="749160" y="2352600"/>
            <a:ext cx="1374840" cy="1800"/>
          </a:xfrm>
          <a:prstGeom prst="line">
            <a:avLst/>
          </a:prstGeom>
          <a:ln w="856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5"/>
          <p:cNvSpPr/>
          <p:nvPr/>
        </p:nvSpPr>
        <p:spPr>
          <a:xfrm>
            <a:off x="2124000" y="2352600"/>
            <a:ext cx="2224080" cy="1800"/>
          </a:xfrm>
          <a:prstGeom prst="line">
            <a:avLst/>
          </a:prstGeom>
          <a:ln w="856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7"/>
          <p:cNvSpPr/>
          <p:nvPr/>
        </p:nvSpPr>
        <p:spPr>
          <a:xfrm>
            <a:off x="2124000" y="1920960"/>
            <a:ext cx="0" cy="576000"/>
          </a:xfrm>
          <a:prstGeom prst="line">
            <a:avLst/>
          </a:prstGeom>
          <a:ln w="93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8"/>
          <p:cNvSpPr/>
          <p:nvPr/>
        </p:nvSpPr>
        <p:spPr>
          <a:xfrm>
            <a:off x="4348080" y="1920960"/>
            <a:ext cx="1800" cy="936720"/>
          </a:xfrm>
          <a:prstGeom prst="line">
            <a:avLst/>
          </a:prstGeom>
          <a:ln w="93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0"/>
          <p:cNvSpPr/>
          <p:nvPr/>
        </p:nvSpPr>
        <p:spPr>
          <a:xfrm>
            <a:off x="749160" y="1920960"/>
            <a:ext cx="0" cy="936720"/>
          </a:xfrm>
          <a:prstGeom prst="line">
            <a:avLst/>
          </a:prstGeom>
          <a:ln w="93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7"/>
          <p:cNvSpPr/>
          <p:nvPr/>
        </p:nvSpPr>
        <p:spPr>
          <a:xfrm>
            <a:off x="820800" y="2092320"/>
            <a:ext cx="1224000" cy="0"/>
          </a:xfrm>
          <a:prstGeom prst="line">
            <a:avLst/>
          </a:prstGeom>
          <a:ln w="9360">
            <a:solidFill>
              <a:srgbClr val="0c0c0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8"/>
          <p:cNvSpPr/>
          <p:nvPr/>
        </p:nvSpPr>
        <p:spPr>
          <a:xfrm>
            <a:off x="2166840" y="2092320"/>
            <a:ext cx="2109960" cy="0"/>
          </a:xfrm>
          <a:prstGeom prst="line">
            <a:avLst/>
          </a:prstGeom>
          <a:ln w="9360">
            <a:solidFill>
              <a:srgbClr val="0c0c0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0"/>
          <p:cNvSpPr/>
          <p:nvPr/>
        </p:nvSpPr>
        <p:spPr>
          <a:xfrm>
            <a:off x="820800" y="2641680"/>
            <a:ext cx="3456000" cy="0"/>
          </a:xfrm>
          <a:prstGeom prst="line">
            <a:avLst/>
          </a:prstGeom>
          <a:ln w="9360">
            <a:solidFill>
              <a:srgbClr val="0c0c0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1061280" y="1938240"/>
            <a:ext cx="785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"/>
                <a:ea typeface="微软雅黑"/>
              </a:rPr>
              <a:t>3.82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2861640" y="1938240"/>
            <a:ext cx="785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Segoe UI"/>
                <a:ea typeface="微软雅黑"/>
              </a:rPr>
              <a:t>6.18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2154600" y="2487600"/>
            <a:ext cx="766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微软雅黑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27"/>
          <p:cNvSpPr/>
          <p:nvPr/>
        </p:nvSpPr>
        <p:spPr>
          <a:xfrm flipH="1">
            <a:off x="7013160" y="2352600"/>
            <a:ext cx="1374840" cy="1800"/>
          </a:xfrm>
          <a:prstGeom prst="line">
            <a:avLst/>
          </a:prstGeom>
          <a:ln w="856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28"/>
          <p:cNvSpPr/>
          <p:nvPr/>
        </p:nvSpPr>
        <p:spPr>
          <a:xfrm flipH="1">
            <a:off x="4788000" y="2352600"/>
            <a:ext cx="2225520" cy="1800"/>
          </a:xfrm>
          <a:prstGeom prst="line">
            <a:avLst/>
          </a:prstGeom>
          <a:ln w="856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29"/>
          <p:cNvSpPr/>
          <p:nvPr/>
        </p:nvSpPr>
        <p:spPr>
          <a:xfrm>
            <a:off x="7013520" y="1920960"/>
            <a:ext cx="0" cy="576000"/>
          </a:xfrm>
          <a:prstGeom prst="line">
            <a:avLst/>
          </a:prstGeom>
          <a:ln w="93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30"/>
          <p:cNvSpPr/>
          <p:nvPr/>
        </p:nvSpPr>
        <p:spPr>
          <a:xfrm flipH="1">
            <a:off x="4788000" y="1920960"/>
            <a:ext cx="1440" cy="936720"/>
          </a:xfrm>
          <a:prstGeom prst="line">
            <a:avLst/>
          </a:prstGeom>
          <a:ln w="93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1"/>
          <p:cNvSpPr/>
          <p:nvPr/>
        </p:nvSpPr>
        <p:spPr>
          <a:xfrm>
            <a:off x="8388360" y="1920960"/>
            <a:ext cx="0" cy="936720"/>
          </a:xfrm>
          <a:prstGeom prst="line">
            <a:avLst/>
          </a:prstGeom>
          <a:ln w="93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32"/>
          <p:cNvSpPr/>
          <p:nvPr/>
        </p:nvSpPr>
        <p:spPr>
          <a:xfrm flipH="1">
            <a:off x="7093080" y="2092320"/>
            <a:ext cx="1224000" cy="0"/>
          </a:xfrm>
          <a:prstGeom prst="line">
            <a:avLst/>
          </a:prstGeom>
          <a:ln w="9360">
            <a:solidFill>
              <a:srgbClr val="0c0c0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33"/>
          <p:cNvSpPr/>
          <p:nvPr/>
        </p:nvSpPr>
        <p:spPr>
          <a:xfrm flipH="1">
            <a:off x="4861080" y="2092320"/>
            <a:ext cx="2108160" cy="0"/>
          </a:xfrm>
          <a:prstGeom prst="line">
            <a:avLst/>
          </a:prstGeom>
          <a:ln w="9360">
            <a:solidFill>
              <a:srgbClr val="0c0c0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34"/>
          <p:cNvSpPr/>
          <p:nvPr/>
        </p:nvSpPr>
        <p:spPr>
          <a:xfrm flipH="1">
            <a:off x="4861080" y="2641680"/>
            <a:ext cx="3456000" cy="0"/>
          </a:xfrm>
          <a:prstGeom prst="line">
            <a:avLst/>
          </a:prstGeom>
          <a:ln w="9360">
            <a:solidFill>
              <a:srgbClr val="0c0c0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5"/>
          <p:cNvSpPr/>
          <p:nvPr/>
        </p:nvSpPr>
        <p:spPr>
          <a:xfrm flipH="1">
            <a:off x="7288920" y="1938240"/>
            <a:ext cx="785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"/>
                <a:ea typeface="微软雅黑"/>
              </a:rPr>
              <a:t>3.82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6"/>
          <p:cNvSpPr/>
          <p:nvPr/>
        </p:nvSpPr>
        <p:spPr>
          <a:xfrm flipH="1">
            <a:off x="5489640" y="1938240"/>
            <a:ext cx="785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Segoe UI"/>
                <a:ea typeface="微软雅黑"/>
              </a:rPr>
              <a:t>6.18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7"/>
          <p:cNvSpPr/>
          <p:nvPr/>
        </p:nvSpPr>
        <p:spPr>
          <a:xfrm flipH="1">
            <a:off x="6216120" y="2487600"/>
            <a:ext cx="766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微软雅黑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39"/>
          <p:cNvSpPr/>
          <p:nvPr/>
        </p:nvSpPr>
        <p:spPr>
          <a:xfrm>
            <a:off x="2050920" y="2281320"/>
            <a:ext cx="144720" cy="14436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40"/>
          <p:cNvSpPr/>
          <p:nvPr/>
        </p:nvSpPr>
        <p:spPr>
          <a:xfrm>
            <a:off x="6934320" y="2281320"/>
            <a:ext cx="142920" cy="144360"/>
          </a:xfrm>
          <a:prstGeom prst="ellipse">
            <a:avLst/>
          </a:prstGeom>
          <a:solidFill>
            <a:srgbClr val="e36c09"/>
          </a:solidFill>
          <a:ln w="255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3721320" y="4365720"/>
            <a:ext cx="17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Segoe UI"/>
                <a:ea typeface="微软雅黑"/>
              </a:rPr>
              <a:t>一条线段经过一次分割得到</a:t>
            </a:r>
            <a:r>
              <a:rPr b="0" lang="en-US" sz="1800" spc="-1" strike="noStrike">
                <a:solidFill>
                  <a:srgbClr val="ffc000"/>
                </a:solidFill>
                <a:latin typeface="Segoe UI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Segoe UI"/>
                <a:ea typeface="微软雅黑"/>
              </a:rPr>
              <a:t>个黄金分割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73"/>
          <p:cNvGrpSpPr/>
          <p:nvPr/>
        </p:nvGrpSpPr>
        <p:grpSpPr>
          <a:xfrm>
            <a:off x="2779560" y="3720960"/>
            <a:ext cx="3598920" cy="144720"/>
            <a:chOff x="2779560" y="3720960"/>
            <a:chExt cx="3598920" cy="144720"/>
          </a:xfrm>
        </p:grpSpPr>
        <p:grpSp>
          <p:nvGrpSpPr>
            <p:cNvPr id="163" name="组合 86"/>
            <p:cNvGrpSpPr/>
            <p:nvPr/>
          </p:nvGrpSpPr>
          <p:grpSpPr>
            <a:xfrm>
              <a:off x="2779560" y="3793320"/>
              <a:ext cx="3598920" cy="0"/>
              <a:chOff x="2779560" y="3793320"/>
              <a:chExt cx="3598920" cy="0"/>
            </a:xfrm>
          </p:grpSpPr>
          <p:sp>
            <p:nvSpPr>
              <p:cNvPr id="164" name="直接连接符 87"/>
              <p:cNvSpPr/>
              <p:nvPr/>
            </p:nvSpPr>
            <p:spPr>
              <a:xfrm>
                <a:off x="2779560" y="3793320"/>
                <a:ext cx="1374840" cy="0"/>
              </a:xfrm>
              <a:prstGeom prst="line">
                <a:avLst/>
              </a:prstGeom>
              <a:ln w="856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88"/>
              <p:cNvSpPr/>
              <p:nvPr/>
            </p:nvSpPr>
            <p:spPr>
              <a:xfrm>
                <a:off x="4154400" y="3793320"/>
                <a:ext cx="2224080" cy="0"/>
              </a:xfrm>
              <a:prstGeom prst="line">
                <a:avLst/>
              </a:prstGeom>
              <a:ln w="8568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89"/>
              <p:cNvSpPr/>
              <p:nvPr/>
            </p:nvSpPr>
            <p:spPr>
              <a:xfrm>
                <a:off x="4154400" y="3793320"/>
                <a:ext cx="838440" cy="0"/>
              </a:xfrm>
              <a:prstGeom prst="line">
                <a:avLst/>
              </a:prstGeom>
              <a:ln w="8568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61"/>
            <p:cNvGrpSpPr/>
            <p:nvPr/>
          </p:nvGrpSpPr>
          <p:grpSpPr>
            <a:xfrm>
              <a:off x="4082400" y="3720960"/>
              <a:ext cx="985680" cy="144720"/>
              <a:chOff x="4082400" y="3720960"/>
              <a:chExt cx="985680" cy="144720"/>
            </a:xfrm>
          </p:grpSpPr>
          <p:sp>
            <p:nvSpPr>
              <p:cNvPr id="168" name="椭圆 46"/>
              <p:cNvSpPr/>
              <p:nvPr/>
            </p:nvSpPr>
            <p:spPr>
              <a:xfrm>
                <a:off x="4082400" y="3720960"/>
                <a:ext cx="144000" cy="144720"/>
              </a:xfrm>
              <a:prstGeom prst="ellipse">
                <a:avLst/>
              </a:prstGeom>
              <a:solidFill>
                <a:srgbClr val="cccc00"/>
              </a:solidFill>
              <a:ln w="255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椭圆 49"/>
              <p:cNvSpPr/>
              <p:nvPr/>
            </p:nvSpPr>
            <p:spPr>
              <a:xfrm>
                <a:off x="4924080" y="3720960"/>
                <a:ext cx="144000" cy="144720"/>
              </a:xfrm>
              <a:prstGeom prst="ellipse">
                <a:avLst/>
              </a:prstGeom>
              <a:solidFill>
                <a:srgbClr val="e36c09"/>
              </a:solidFill>
              <a:ln w="255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右箭头 1"/>
          <p:cNvSpPr/>
          <p:nvPr/>
        </p:nvSpPr>
        <p:spPr>
          <a:xfrm rot="5400000">
            <a:off x="4335480" y="3083040"/>
            <a:ext cx="487440" cy="325440"/>
          </a:xfrm>
          <a:custGeom>
            <a:avLst/>
            <a:gdLst>
              <a:gd name="textAreaLeft" fmla="*/ 0 w 487440"/>
              <a:gd name="textAreaRight" fmla="*/ 487800 w 48744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4729978" h="3155430">
                <a:moveTo>
                  <a:pt x="384207" y="788571"/>
                </a:moveTo>
                <a:cubicBezTo>
                  <a:pt x="856530" y="514872"/>
                  <a:pt x="1556113" y="788569"/>
                  <a:pt x="3152923" y="788569"/>
                </a:cubicBezTo>
                <a:cubicBezTo>
                  <a:pt x="3152923" y="525740"/>
                  <a:pt x="2897429" y="7416"/>
                  <a:pt x="3152923" y="82"/>
                </a:cubicBezTo>
                <a:cubicBezTo>
                  <a:pt x="3369299" y="-12142"/>
                  <a:pt x="4742121" y="1333786"/>
                  <a:pt x="4729897" y="1577056"/>
                </a:cubicBezTo>
                <a:cubicBezTo>
                  <a:pt x="4717673" y="1820326"/>
                  <a:pt x="3396193" y="3166254"/>
                  <a:pt x="3152923" y="3154030"/>
                </a:cubicBezTo>
                <a:cubicBezTo>
                  <a:pt x="2897429" y="3187037"/>
                  <a:pt x="3152923" y="2628372"/>
                  <a:pt x="3152923" y="2365543"/>
                </a:cubicBezTo>
                <a:cubicBezTo>
                  <a:pt x="1556113" y="2365543"/>
                  <a:pt x="780439" y="2693590"/>
                  <a:pt x="318986" y="2430761"/>
                </a:cubicBezTo>
                <a:cubicBezTo>
                  <a:pt x="-142467" y="2167932"/>
                  <a:pt x="-88116" y="1062270"/>
                  <a:pt x="384207" y="788571"/>
                </a:cubicBez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4" descr=""/>
          <p:cNvPicPr/>
          <p:nvPr/>
        </p:nvPicPr>
        <p:blipFill>
          <a:blip r:embed="rId2"/>
          <a:stretch/>
        </p:blipFill>
        <p:spPr>
          <a:xfrm>
            <a:off x="4492800" y="1849320"/>
            <a:ext cx="4443120" cy="33847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3" descr=""/>
          <p:cNvPicPr/>
          <p:nvPr/>
        </p:nvPicPr>
        <p:blipFill>
          <a:blip r:embed="rId3"/>
          <a:stretch/>
        </p:blipFill>
        <p:spPr>
          <a:xfrm>
            <a:off x="826920" y="2232000"/>
            <a:ext cx="360360" cy="495360"/>
          </a:xfrm>
          <a:prstGeom prst="rect">
            <a:avLst/>
          </a:prstGeom>
          <a:ln w="0">
            <a:noFill/>
          </a:ln>
        </p:spPr>
      </p:pic>
      <p:sp>
        <p:nvSpPr>
          <p:cNvPr id="743" name="矩形 44"/>
          <p:cNvSpPr/>
          <p:nvPr/>
        </p:nvSpPr>
        <p:spPr>
          <a:xfrm>
            <a:off x="738000" y="1185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45"/>
          <p:cNvSpPr/>
          <p:nvPr/>
        </p:nvSpPr>
        <p:spPr>
          <a:xfrm>
            <a:off x="1122480" y="178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组合 3"/>
          <p:cNvGrpSpPr/>
          <p:nvPr/>
        </p:nvGrpSpPr>
        <p:grpSpPr>
          <a:xfrm>
            <a:off x="1714680" y="1201680"/>
            <a:ext cx="2425680" cy="2519640"/>
            <a:chOff x="1714680" y="1201680"/>
            <a:chExt cx="2425680" cy="2519640"/>
          </a:xfrm>
        </p:grpSpPr>
        <p:sp>
          <p:nvSpPr>
            <p:cNvPr id="746" name="矩形 2"/>
            <p:cNvSpPr/>
            <p:nvPr/>
          </p:nvSpPr>
          <p:spPr>
            <a:xfrm>
              <a:off x="1714680" y="1201680"/>
              <a:ext cx="24256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牧童遥指杏花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借问酒家何处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路上行人欲断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清明时节雨纷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直接连接符 82"/>
            <p:cNvSpPr/>
            <p:nvPr/>
          </p:nvSpPr>
          <p:spPr>
            <a:xfrm>
              <a:off x="3470040" y="1272600"/>
              <a:ext cx="0" cy="2448720"/>
            </a:xfrm>
            <a:prstGeom prst="line">
              <a:avLst/>
            </a:prstGeom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直接连接符 83"/>
            <p:cNvSpPr/>
            <p:nvPr/>
          </p:nvSpPr>
          <p:spPr>
            <a:xfrm>
              <a:off x="2893680" y="1272600"/>
              <a:ext cx="0" cy="2448720"/>
            </a:xfrm>
            <a:prstGeom prst="line">
              <a:avLst/>
            </a:prstGeom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直接连接符 84"/>
            <p:cNvSpPr/>
            <p:nvPr/>
          </p:nvSpPr>
          <p:spPr>
            <a:xfrm>
              <a:off x="2317320" y="1272600"/>
              <a:ext cx="0" cy="2448720"/>
            </a:xfrm>
            <a:prstGeom prst="line">
              <a:avLst/>
            </a:prstGeom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Picture 12" descr=""/>
          <p:cNvPicPr/>
          <p:nvPr/>
        </p:nvPicPr>
        <p:blipFill>
          <a:blip r:embed="rId4"/>
          <a:stretch/>
        </p:blipFill>
        <p:spPr>
          <a:xfrm>
            <a:off x="101520" y="4824360"/>
            <a:ext cx="3554640" cy="819360"/>
          </a:xfrm>
          <a:prstGeom prst="rect">
            <a:avLst/>
          </a:prstGeom>
          <a:ln w="0">
            <a:noFill/>
          </a:ln>
        </p:spPr>
      </p:pic>
      <p:grpSp>
        <p:nvGrpSpPr>
          <p:cNvPr id="751" name="组合 6"/>
          <p:cNvGrpSpPr/>
          <p:nvPr/>
        </p:nvGrpSpPr>
        <p:grpSpPr>
          <a:xfrm>
            <a:off x="5940360" y="1028880"/>
            <a:ext cx="3059280" cy="820440"/>
            <a:chOff x="5940360" y="1028880"/>
            <a:chExt cx="3059280" cy="820440"/>
          </a:xfrm>
        </p:grpSpPr>
        <p:pic>
          <p:nvPicPr>
            <p:cNvPr id="752" name="Picture 12" descr=""/>
            <p:cNvPicPr/>
            <p:nvPr/>
          </p:nvPicPr>
          <p:blipFill>
            <a:blip r:embed="rId5"/>
            <a:stretch/>
          </p:blipFill>
          <p:spPr>
            <a:xfrm>
              <a:off x="6033960" y="1028880"/>
              <a:ext cx="296568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12" descr=""/>
            <p:cNvPicPr/>
            <p:nvPr/>
          </p:nvPicPr>
          <p:blipFill>
            <a:blip r:embed="rId6"/>
            <a:stretch/>
          </p:blipFill>
          <p:spPr>
            <a:xfrm>
              <a:off x="5940360" y="1150200"/>
              <a:ext cx="2095920" cy="48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4" name="矩形 15"/>
          <p:cNvSpPr/>
          <p:nvPr/>
        </p:nvSpPr>
        <p:spPr>
          <a:xfrm>
            <a:off x="506520" y="3886200"/>
            <a:ext cx="45702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Segoe UI"/>
                <a:ea typeface="Segoe UI"/>
              </a:rPr>
              <a:t>PS</a:t>
            </a:r>
            <a:r>
              <a:rPr b="0" lang="zh-CN" sz="1100" spc="-1" strike="noStrike">
                <a:solidFill>
                  <a:srgbClr val="c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c0c0c"/>
                </a:solidFill>
                <a:latin typeface="Arial"/>
              </a:rPr>
              <a:t>在制作</a:t>
            </a:r>
            <a:r>
              <a:rPr b="0" lang="en-US" sz="11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r>
              <a:rPr b="0" lang="zh-CN" sz="1100" spc="-1" strike="noStrike">
                <a:solidFill>
                  <a:srgbClr val="0c0c0c"/>
                </a:solidFill>
                <a:latin typeface="Arial"/>
              </a:rPr>
              <a:t>时，有时候连设计者自己都不知道想要强调什么内容，而一味追求素材的丰富、制作的难度。这样设计出来的</a:t>
            </a:r>
            <a:r>
              <a:rPr b="0" lang="en-US" sz="1100" spc="-1" strike="noStrike">
                <a:solidFill>
                  <a:srgbClr val="0c0c0c"/>
                </a:solidFill>
                <a:latin typeface="Segoe UI"/>
                <a:ea typeface="Segoe UI"/>
              </a:rPr>
              <a:t>ppt</a:t>
            </a:r>
            <a:r>
              <a:rPr b="0" lang="zh-CN" sz="1100" spc="-1" strike="noStrike">
                <a:solidFill>
                  <a:srgbClr val="0c0c0c"/>
                </a:solidFill>
                <a:latin typeface="Arial"/>
              </a:rPr>
              <a:t>，观众的眼神总是被无关紧要的内容吸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矩形 59"/>
          <p:cNvSpPr/>
          <p:nvPr/>
        </p:nvSpPr>
        <p:spPr>
          <a:xfrm>
            <a:off x="5621400" y="2187720"/>
            <a:ext cx="3522600" cy="3524040"/>
          </a:xfrm>
          <a:prstGeom prst="rect">
            <a:avLst/>
          </a:prstGeom>
          <a:noFill/>
          <a:ln w="32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Segoe UI"/>
                <a:ea typeface="Segoe U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74"/>
          <p:cNvSpPr/>
          <p:nvPr/>
        </p:nvSpPr>
        <p:spPr>
          <a:xfrm>
            <a:off x="-34920" y="0"/>
            <a:ext cx="2163600" cy="5715000"/>
          </a:xfrm>
          <a:prstGeom prst="rect">
            <a:avLst/>
          </a:prstGeom>
          <a:noFill/>
          <a:ln w="32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Segoe UI"/>
                <a:ea typeface="Segoe U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75"/>
          <p:cNvSpPr/>
          <p:nvPr/>
        </p:nvSpPr>
        <p:spPr>
          <a:xfrm>
            <a:off x="2128680" y="0"/>
            <a:ext cx="3492720" cy="5711760"/>
          </a:xfrm>
          <a:prstGeom prst="rect">
            <a:avLst/>
          </a:prstGeom>
          <a:noFill/>
          <a:ln w="32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Segoe UI"/>
                <a:ea typeface="Segoe U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82"/>
          <p:cNvSpPr/>
          <p:nvPr/>
        </p:nvSpPr>
        <p:spPr>
          <a:xfrm>
            <a:off x="5619600" y="0"/>
            <a:ext cx="3522960" cy="2187720"/>
          </a:xfrm>
          <a:prstGeom prst="rect">
            <a:avLst/>
          </a:prstGeom>
          <a:noFill/>
          <a:ln w="32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Segoe UI"/>
                <a:ea typeface="Segoe U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" descr=""/>
          <p:cNvPicPr/>
          <p:nvPr/>
        </p:nvPicPr>
        <p:blipFill>
          <a:blip r:embed="rId2"/>
          <a:stretch/>
        </p:blipFill>
        <p:spPr>
          <a:xfrm>
            <a:off x="5580000" y="2678040"/>
            <a:ext cx="3355920" cy="25560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3" descr=""/>
          <p:cNvPicPr/>
          <p:nvPr/>
        </p:nvPicPr>
        <p:blipFill>
          <a:blip r:embed="rId3"/>
          <a:stretch/>
        </p:blipFill>
        <p:spPr>
          <a:xfrm>
            <a:off x="755640" y="2809800"/>
            <a:ext cx="453960" cy="623880"/>
          </a:xfrm>
          <a:prstGeom prst="rect">
            <a:avLst/>
          </a:prstGeom>
          <a:ln w="0">
            <a:noFill/>
          </a:ln>
        </p:spPr>
      </p:pic>
      <p:sp>
        <p:nvSpPr>
          <p:cNvPr id="761" name="矩形 44"/>
          <p:cNvSpPr/>
          <p:nvPr/>
        </p:nvSpPr>
        <p:spPr>
          <a:xfrm>
            <a:off x="842040" y="9367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45"/>
          <p:cNvSpPr/>
          <p:nvPr/>
        </p:nvSpPr>
        <p:spPr>
          <a:xfrm>
            <a:off x="1205280" y="20415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3"/>
          <p:cNvGrpSpPr/>
          <p:nvPr/>
        </p:nvGrpSpPr>
        <p:grpSpPr>
          <a:xfrm>
            <a:off x="2155680" y="998640"/>
            <a:ext cx="3386160" cy="3550680"/>
            <a:chOff x="2155680" y="998640"/>
            <a:chExt cx="3386160" cy="3550680"/>
          </a:xfrm>
        </p:grpSpPr>
        <p:sp>
          <p:nvSpPr>
            <p:cNvPr id="764" name="矩形 2"/>
            <p:cNvSpPr/>
            <p:nvPr/>
          </p:nvSpPr>
          <p:spPr>
            <a:xfrm>
              <a:off x="2155680" y="998640"/>
              <a:ext cx="3386160" cy="32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牧童遥指杏花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借问酒家何处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路上行人欲断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清明时节雨纷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直接连接符 82"/>
            <p:cNvSpPr/>
            <p:nvPr/>
          </p:nvSpPr>
          <p:spPr>
            <a:xfrm>
              <a:off x="4574880" y="1129320"/>
              <a:ext cx="0" cy="3420000"/>
            </a:xfrm>
            <a:prstGeom prst="line">
              <a:avLst/>
            </a:prstGeom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直接连接符 83"/>
            <p:cNvSpPr/>
            <p:nvPr/>
          </p:nvSpPr>
          <p:spPr>
            <a:xfrm>
              <a:off x="3792600" y="1129320"/>
              <a:ext cx="0" cy="3420000"/>
            </a:xfrm>
            <a:prstGeom prst="line">
              <a:avLst/>
            </a:prstGeom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直接连接符 84"/>
            <p:cNvSpPr/>
            <p:nvPr/>
          </p:nvSpPr>
          <p:spPr>
            <a:xfrm>
              <a:off x="2916720" y="1129320"/>
              <a:ext cx="0" cy="3420000"/>
            </a:xfrm>
            <a:prstGeom prst="line">
              <a:avLst/>
            </a:prstGeom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8" name="Picture 12" descr=""/>
          <p:cNvPicPr/>
          <p:nvPr/>
        </p:nvPicPr>
        <p:blipFill>
          <a:blip r:embed="rId4"/>
          <a:stretch/>
        </p:blipFill>
        <p:spPr>
          <a:xfrm>
            <a:off x="108000" y="4997520"/>
            <a:ext cx="2074680" cy="479520"/>
          </a:xfrm>
          <a:prstGeom prst="rect">
            <a:avLst/>
          </a:prstGeom>
          <a:ln w="0">
            <a:noFill/>
          </a:ln>
        </p:spPr>
      </p:pic>
      <p:grpSp>
        <p:nvGrpSpPr>
          <p:cNvPr id="769" name="组合 6"/>
          <p:cNvGrpSpPr/>
          <p:nvPr/>
        </p:nvGrpSpPr>
        <p:grpSpPr>
          <a:xfrm>
            <a:off x="5940360" y="2041560"/>
            <a:ext cx="3059280" cy="819000"/>
            <a:chOff x="5940360" y="2041560"/>
            <a:chExt cx="3059280" cy="819000"/>
          </a:xfrm>
        </p:grpSpPr>
        <p:pic>
          <p:nvPicPr>
            <p:cNvPr id="770" name="Picture 12" descr=""/>
            <p:cNvPicPr/>
            <p:nvPr/>
          </p:nvPicPr>
          <p:blipFill>
            <a:blip r:embed="rId5"/>
            <a:stretch/>
          </p:blipFill>
          <p:spPr>
            <a:xfrm>
              <a:off x="6033960" y="2041560"/>
              <a:ext cx="296568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12" descr=""/>
            <p:cNvPicPr/>
            <p:nvPr/>
          </p:nvPicPr>
          <p:blipFill>
            <a:blip r:embed="rId6"/>
            <a:stretch/>
          </p:blipFill>
          <p:spPr>
            <a:xfrm>
              <a:off x="5940360" y="2162520"/>
              <a:ext cx="2095920" cy="48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2" name="矩形 14"/>
          <p:cNvSpPr/>
          <p:nvPr/>
        </p:nvSpPr>
        <p:spPr>
          <a:xfrm>
            <a:off x="2306520" y="4805280"/>
            <a:ext cx="323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Segoe UI"/>
                <a:ea typeface="Segoe UI"/>
              </a:rPr>
              <a:t>PS</a:t>
            </a:r>
            <a:r>
              <a:rPr b="0" lang="zh-CN" sz="1100" spc="-1" strike="noStrike">
                <a:solidFill>
                  <a:srgbClr val="c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c0c0c"/>
                </a:solidFill>
                <a:latin typeface="Arial"/>
              </a:rPr>
              <a:t>经过修改后，知道想强调的内容了吗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5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组合 1"/>
          <p:cNvGrpSpPr/>
          <p:nvPr/>
        </p:nvGrpSpPr>
        <p:grpSpPr>
          <a:xfrm>
            <a:off x="757080" y="1592280"/>
            <a:ext cx="3560760" cy="2793240"/>
            <a:chOff x="757080" y="1592280"/>
            <a:chExt cx="3560760" cy="2793240"/>
          </a:xfrm>
        </p:grpSpPr>
        <p:pic>
          <p:nvPicPr>
            <p:cNvPr id="774" name="Picture 2" descr="http://i1.sinaimg.cn/IT/digi/dc/2013-03-08/U803P2T1D8126546F13DT20130308112016.jpg"/>
            <p:cNvPicPr/>
            <p:nvPr/>
          </p:nvPicPr>
          <p:blipFill>
            <a:blip r:embed="rId2"/>
            <a:stretch/>
          </p:blipFill>
          <p:spPr>
            <a:xfrm>
              <a:off x="757080" y="1592280"/>
              <a:ext cx="3560760" cy="237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5" name="组合 8"/>
            <p:cNvGrpSpPr/>
            <p:nvPr/>
          </p:nvGrpSpPr>
          <p:grpSpPr>
            <a:xfrm>
              <a:off x="1395720" y="1666800"/>
              <a:ext cx="2079360" cy="2718720"/>
              <a:chOff x="1395720" y="1666800"/>
              <a:chExt cx="2079360" cy="2718720"/>
            </a:xfrm>
          </p:grpSpPr>
          <p:sp>
            <p:nvSpPr>
              <p:cNvPr id="776" name="任意多边形 9"/>
              <p:cNvSpPr/>
              <p:nvPr/>
            </p:nvSpPr>
            <p:spPr>
              <a:xfrm rot="15119400">
                <a:off x="2209320" y="3031560"/>
                <a:ext cx="911880" cy="1405800"/>
              </a:xfrm>
              <a:custGeom>
                <a:avLst/>
                <a:gdLst>
                  <a:gd name="textAreaLeft" fmla="*/ 0 w 911880"/>
                  <a:gd name="textAreaRight" fmla="*/ 912240 w 911880"/>
                  <a:gd name="textAreaTop" fmla="*/ 0 h 1405800"/>
                  <a:gd name="textAreaBottom" fmla="*/ 1406160 h 1405800"/>
                </a:gdLst>
                <a:ahLst/>
                <a:rect l="textAreaLeft" t="textAreaTop" r="textAreaRight" b="textAreaBottom"/>
                <a:pathLst>
                  <a:path w="341832" h="526991">
                    <a:moveTo>
                      <a:pt x="0" y="526991"/>
                    </a:moveTo>
                    <a:lnTo>
                      <a:pt x="170916" y="0"/>
                    </a:lnTo>
                    <a:lnTo>
                      <a:pt x="341832" y="526991"/>
                    </a:lnTo>
                    <a:lnTo>
                      <a:pt x="0" y="526991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 10"/>
              <p:cNvSpPr/>
              <p:nvPr/>
            </p:nvSpPr>
            <p:spPr>
              <a:xfrm rot="15119400">
                <a:off x="1394640" y="2102760"/>
                <a:ext cx="1937880" cy="1405800"/>
              </a:xfrm>
              <a:custGeom>
                <a:avLst/>
                <a:gdLst>
                  <a:gd name="textAreaLeft" fmla="*/ 0 w 1937880"/>
                  <a:gd name="textAreaRight" fmla="*/ 1938240 w 1937880"/>
                  <a:gd name="textAreaTop" fmla="*/ 0 h 1405800"/>
                  <a:gd name="textAreaBottom" fmla="*/ 1406160 h 1405800"/>
                </a:gdLst>
                <a:ahLst/>
                <a:rect l="textAreaLeft" t="textAreaTop" r="textAreaRight" b="textAreaBottom"/>
                <a:pathLst>
                  <a:path w="726393" h="526991">
                    <a:moveTo>
                      <a:pt x="726393" y="526991"/>
                    </a:moveTo>
                    <a:lnTo>
                      <a:pt x="0" y="0"/>
                    </a:lnTo>
                    <a:lnTo>
                      <a:pt x="170916" y="526991"/>
                    </a:lnTo>
                    <a:lnTo>
                      <a:pt x="726393" y="526991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矩形 12"/>
          <p:cNvSpPr/>
          <p:nvPr/>
        </p:nvSpPr>
        <p:spPr>
          <a:xfrm>
            <a:off x="595440" y="307800"/>
            <a:ext cx="4840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三、黄金分割在</a:t>
            </a:r>
            <a:r>
              <a:rPr b="1" lang="en-US" sz="1800" spc="-1" strike="noStrike">
                <a:solidFill>
                  <a:srgbClr val="ffffff"/>
                </a:solidFill>
                <a:latin typeface="Segoe UI"/>
                <a:ea typeface="Segoe UI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图片裁剪中的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圆角矩形 13"/>
          <p:cNvSpPr/>
          <p:nvPr/>
        </p:nvSpPr>
        <p:spPr>
          <a:xfrm>
            <a:off x="1733400" y="4152960"/>
            <a:ext cx="5718240" cy="596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14"/>
          <p:cNvSpPr/>
          <p:nvPr/>
        </p:nvSpPr>
        <p:spPr>
          <a:xfrm>
            <a:off x="2082960" y="4213080"/>
            <a:ext cx="501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隐藏在图片中的黄金分割让图中女孩看起来更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2" descr="http://i1.sinaimg.cn/IT/digi/dc/2013-03-08/U803P2T1D8126546F13DT20130308112016.jpg"/>
          <p:cNvPicPr/>
          <p:nvPr/>
        </p:nvPicPr>
        <p:blipFill>
          <a:blip r:embed="rId4"/>
          <a:stretch/>
        </p:blipFill>
        <p:spPr>
          <a:xfrm>
            <a:off x="4788000" y="1587600"/>
            <a:ext cx="35607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25"/>
          <p:cNvGrpSpPr/>
          <p:nvPr/>
        </p:nvGrpSpPr>
        <p:grpSpPr>
          <a:xfrm>
            <a:off x="6313320" y="2095560"/>
            <a:ext cx="1138320" cy="1841400"/>
            <a:chOff x="6313320" y="2095560"/>
            <a:chExt cx="1138320" cy="1841400"/>
          </a:xfrm>
        </p:grpSpPr>
        <p:grpSp>
          <p:nvGrpSpPr>
            <p:cNvPr id="783" name="组合 26"/>
            <p:cNvGrpSpPr/>
            <p:nvPr/>
          </p:nvGrpSpPr>
          <p:grpSpPr>
            <a:xfrm>
              <a:off x="6313320" y="2095560"/>
              <a:ext cx="1138320" cy="1841400"/>
              <a:chOff x="6313320" y="2095560"/>
              <a:chExt cx="1138320" cy="1841400"/>
            </a:xfrm>
          </p:grpSpPr>
          <p:sp>
            <p:nvSpPr>
              <p:cNvPr id="784" name="矩形 28"/>
              <p:cNvSpPr/>
              <p:nvPr/>
            </p:nvSpPr>
            <p:spPr>
              <a:xfrm rot="5400000">
                <a:off x="6748200" y="2095560"/>
                <a:ext cx="703440" cy="703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矩形 29"/>
              <p:cNvSpPr/>
              <p:nvPr/>
            </p:nvSpPr>
            <p:spPr>
              <a:xfrm rot="5400000">
                <a:off x="6313320" y="2798640"/>
                <a:ext cx="1137960" cy="11383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矩形 30"/>
              <p:cNvSpPr/>
              <p:nvPr/>
            </p:nvSpPr>
            <p:spPr>
              <a:xfrm rot="5400000">
                <a:off x="6313320" y="2095200"/>
                <a:ext cx="434520" cy="434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矩形 31"/>
              <p:cNvSpPr/>
              <p:nvPr/>
            </p:nvSpPr>
            <p:spPr>
              <a:xfrm rot="5400000">
                <a:off x="6313320" y="2530080"/>
                <a:ext cx="268560" cy="2685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矩形 32"/>
              <p:cNvSpPr/>
              <p:nvPr/>
            </p:nvSpPr>
            <p:spPr>
              <a:xfrm rot="5400000">
                <a:off x="6582240" y="2632680"/>
                <a:ext cx="165960" cy="1659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矩形 33"/>
              <p:cNvSpPr/>
              <p:nvPr/>
            </p:nvSpPr>
            <p:spPr>
              <a:xfrm rot="5400000">
                <a:off x="6645960" y="2530080"/>
                <a:ext cx="102240" cy="1022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矩形 34"/>
              <p:cNvSpPr/>
              <p:nvPr/>
            </p:nvSpPr>
            <p:spPr>
              <a:xfrm rot="5400000">
                <a:off x="6581880" y="2530080"/>
                <a:ext cx="63720" cy="637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矩形 35"/>
              <p:cNvSpPr/>
              <p:nvPr/>
            </p:nvSpPr>
            <p:spPr>
              <a:xfrm rot="5400000">
                <a:off x="6581880" y="2593800"/>
                <a:ext cx="38520" cy="38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任意多边形 27"/>
            <p:cNvSpPr/>
            <p:nvPr/>
          </p:nvSpPr>
          <p:spPr>
            <a:xfrm rot="5400000">
              <a:off x="5963040" y="2447280"/>
              <a:ext cx="1839240" cy="1135440"/>
            </a:xfrm>
            <a:custGeom>
              <a:avLst/>
              <a:gdLst>
                <a:gd name="textAreaLeft" fmla="*/ 0 w 1839240"/>
                <a:gd name="textAreaRight" fmla="*/ 1839600 w 1839240"/>
                <a:gd name="textAreaTop" fmla="*/ 0 h 1135440"/>
                <a:gd name="textAreaBottom" fmla="*/ 1135800 h 1135440"/>
              </a:gdLst>
              <a:ahLst/>
              <a:rect l="textAreaLeft" t="textAreaTop" r="textAreaRight" b="textAreaBottom"/>
              <a:pathLst>
                <a:path w="9150428" h="5647897">
                  <a:moveTo>
                    <a:pt x="2670780" y="4131950"/>
                  </a:moveTo>
                  <a:cubicBezTo>
                    <a:pt x="2673276" y="4238785"/>
                    <a:pt x="2577603" y="4319050"/>
                    <a:pt x="2485490" y="4319522"/>
                  </a:cubicBezTo>
                  <a:cubicBezTo>
                    <a:pt x="2362895" y="4320535"/>
                    <a:pt x="2172157" y="4253453"/>
                    <a:pt x="2164244" y="4009512"/>
                  </a:cubicBezTo>
                  <a:cubicBezTo>
                    <a:pt x="2161679" y="3717444"/>
                    <a:pt x="2349028" y="3499356"/>
                    <a:pt x="2668501" y="3492557"/>
                  </a:cubicBezTo>
                  <a:cubicBezTo>
                    <a:pt x="3062296" y="3489502"/>
                    <a:pt x="3505570" y="3814003"/>
                    <a:pt x="3499886" y="4327011"/>
                  </a:cubicBezTo>
                  <a:cubicBezTo>
                    <a:pt x="3494202" y="4984398"/>
                    <a:pt x="2969897" y="5616480"/>
                    <a:pt x="2178041" y="5647896"/>
                  </a:cubicBezTo>
                  <a:cubicBezTo>
                    <a:pt x="1111374" y="5647229"/>
                    <a:pt x="-7133" y="5049853"/>
                    <a:pt x="34" y="3488811"/>
                  </a:cubicBezTo>
                  <a:cubicBezTo>
                    <a:pt x="-3269" y="1587662"/>
                    <a:pt x="1437405" y="1746"/>
                    <a:pt x="3508982" y="54"/>
                  </a:cubicBezTo>
                  <a:cubicBezTo>
                    <a:pt x="6855855" y="-13831"/>
                    <a:pt x="9144163" y="2686934"/>
                    <a:pt x="9150428" y="56478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矩形 39"/>
          <p:cNvSpPr/>
          <p:nvPr/>
        </p:nvSpPr>
        <p:spPr>
          <a:xfrm>
            <a:off x="5479920" y="1079640"/>
            <a:ext cx="298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Segoe UI"/>
                <a:ea typeface="微软雅黑"/>
              </a:rPr>
              <a:t>图片来源于</a:t>
            </a:r>
            <a:r>
              <a:rPr b="1" lang="zh-CN" sz="2000" spc="-1" strike="noStrike">
                <a:solidFill>
                  <a:srgbClr val="e36c09"/>
                </a:solidFill>
                <a:latin typeface="Segoe UI"/>
                <a:ea typeface="微软雅黑"/>
              </a:rPr>
              <a:t>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圆角矩形 4"/>
          <p:cNvSpPr/>
          <p:nvPr/>
        </p:nvSpPr>
        <p:spPr>
          <a:xfrm>
            <a:off x="665280" y="3794040"/>
            <a:ext cx="7932600" cy="1139760"/>
          </a:xfrm>
          <a:prstGeom prst="roundRect">
            <a:avLst>
              <a:gd name="adj" fmla="val 851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5"/>
          <p:cNvSpPr/>
          <p:nvPr/>
        </p:nvSpPr>
        <p:spPr>
          <a:xfrm>
            <a:off x="1187280" y="4111560"/>
            <a:ext cx="699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实际运用图片时，我们往往需要针对版面对图片进行裁剪，同样的图片在不同的版面中裁剪方式是不同的。黄金分割会是一个很好的思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组合 2050"/>
          <p:cNvGrpSpPr/>
          <p:nvPr/>
        </p:nvGrpSpPr>
        <p:grpSpPr>
          <a:xfrm>
            <a:off x="1042920" y="696960"/>
            <a:ext cx="4719600" cy="2952720"/>
            <a:chOff x="1042920" y="696960"/>
            <a:chExt cx="4719600" cy="2952720"/>
          </a:xfrm>
        </p:grpSpPr>
        <p:pic>
          <p:nvPicPr>
            <p:cNvPr id="797" name="Picture 2" descr="http://i1.sinaimg.cn/IT/digi/dc/2013-03-08/U803P2T1D8126546F13DT20130308112016.jpg"/>
            <p:cNvPicPr/>
            <p:nvPr/>
          </p:nvPicPr>
          <p:blipFill>
            <a:blip r:embed="rId3"/>
            <a:srcRect l="0" t="6735" r="340" b="0"/>
            <a:stretch/>
          </p:blipFill>
          <p:spPr>
            <a:xfrm>
              <a:off x="1042920" y="696960"/>
              <a:ext cx="4719600" cy="294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矩形 125"/>
            <p:cNvSpPr/>
            <p:nvPr/>
          </p:nvSpPr>
          <p:spPr>
            <a:xfrm>
              <a:off x="1090080" y="2919600"/>
              <a:ext cx="4672440" cy="730080"/>
            </a:xfrm>
            <a:prstGeom prst="rect">
              <a:avLst/>
            </a:prstGeom>
            <a:solidFill>
              <a:srgbClr val="0c0c0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图片长高比（横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组合 2048"/>
          <p:cNvGrpSpPr/>
          <p:nvPr/>
        </p:nvGrpSpPr>
        <p:grpSpPr>
          <a:xfrm>
            <a:off x="6102360" y="703440"/>
            <a:ext cx="2035080" cy="2946240"/>
            <a:chOff x="6102360" y="703440"/>
            <a:chExt cx="2035080" cy="2946240"/>
          </a:xfrm>
        </p:grpSpPr>
        <p:pic>
          <p:nvPicPr>
            <p:cNvPr id="800" name="Picture 2" descr="http://i1.sinaimg.cn/IT/digi/dc/2013-03-08/U803P2T1D8126546F13DT20130308112016.jpg"/>
            <p:cNvPicPr/>
            <p:nvPr/>
          </p:nvPicPr>
          <p:blipFill>
            <a:blip r:embed="rId4"/>
            <a:srcRect l="32263" t="8156" r="25651" b="0"/>
            <a:stretch/>
          </p:blipFill>
          <p:spPr>
            <a:xfrm>
              <a:off x="6102360" y="703440"/>
              <a:ext cx="202392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矩形 126"/>
            <p:cNvSpPr/>
            <p:nvPr/>
          </p:nvSpPr>
          <p:spPr>
            <a:xfrm>
              <a:off x="7621200" y="703440"/>
              <a:ext cx="516240" cy="2946240"/>
            </a:xfrm>
            <a:prstGeom prst="rect">
              <a:avLst/>
            </a:prstGeom>
            <a:solidFill>
              <a:srgbClr val="0c0c0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图片长高比（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圆角矩形 4"/>
          <p:cNvSpPr/>
          <p:nvPr/>
        </p:nvSpPr>
        <p:spPr>
          <a:xfrm>
            <a:off x="1042920" y="3794040"/>
            <a:ext cx="7039080" cy="1139760"/>
          </a:xfrm>
          <a:prstGeom prst="roundRect">
            <a:avLst>
              <a:gd name="adj" fmla="val 851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5"/>
          <p:cNvSpPr/>
          <p:nvPr/>
        </p:nvSpPr>
        <p:spPr>
          <a:xfrm>
            <a:off x="1116000" y="4082760"/>
            <a:ext cx="689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裁剪图片时，图片中女孩眼神方向朝左，这也是必须考虑的因素之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组合 10"/>
          <p:cNvGrpSpPr/>
          <p:nvPr/>
        </p:nvGrpSpPr>
        <p:grpSpPr>
          <a:xfrm>
            <a:off x="5724360" y="704880"/>
            <a:ext cx="2357640" cy="2944800"/>
            <a:chOff x="5724360" y="704880"/>
            <a:chExt cx="2357640" cy="2944800"/>
          </a:xfrm>
        </p:grpSpPr>
        <p:pic>
          <p:nvPicPr>
            <p:cNvPr id="805" name="Picture 2" descr="http://i1.sinaimg.cn/IT/digi/dc/2013-03-08/U803P2T1D8126546F13DT20130308112016.jpg"/>
            <p:cNvPicPr/>
            <p:nvPr/>
          </p:nvPicPr>
          <p:blipFill>
            <a:blip r:embed="rId3"/>
            <a:srcRect l="25573" t="6735" r="24599" b="0"/>
            <a:stretch/>
          </p:blipFill>
          <p:spPr>
            <a:xfrm>
              <a:off x="5724360" y="704880"/>
              <a:ext cx="2357640" cy="29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12"/>
            <p:cNvSpPr/>
            <p:nvPr/>
          </p:nvSpPr>
          <p:spPr>
            <a:xfrm>
              <a:off x="5728680" y="704880"/>
              <a:ext cx="595080" cy="2944800"/>
            </a:xfrm>
            <a:prstGeom prst="rect">
              <a:avLst/>
            </a:prstGeom>
            <a:solidFill>
              <a:srgbClr val="0c0c0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人物靠右（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"/>
          <p:cNvGrpSpPr/>
          <p:nvPr/>
        </p:nvGrpSpPr>
        <p:grpSpPr>
          <a:xfrm>
            <a:off x="1042920" y="703440"/>
            <a:ext cx="4518000" cy="2946240"/>
            <a:chOff x="1042920" y="703440"/>
            <a:chExt cx="4518000" cy="2946240"/>
          </a:xfrm>
        </p:grpSpPr>
        <p:pic>
          <p:nvPicPr>
            <p:cNvPr id="808" name="Picture 2" descr="http://i1.sinaimg.cn/IT/digi/dc/2013-03-08/U803P2T1D8126546F13DT20130308112016.jpg"/>
            <p:cNvPicPr/>
            <p:nvPr/>
          </p:nvPicPr>
          <p:blipFill>
            <a:blip r:embed="rId4"/>
            <a:srcRect l="0" t="21704" r="25512" b="5507"/>
            <a:stretch/>
          </p:blipFill>
          <p:spPr>
            <a:xfrm>
              <a:off x="1042920" y="703440"/>
              <a:ext cx="4518000" cy="29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3"/>
            <p:cNvSpPr/>
            <p:nvPr/>
          </p:nvSpPr>
          <p:spPr>
            <a:xfrm>
              <a:off x="1042920" y="2919960"/>
              <a:ext cx="4518000" cy="729720"/>
            </a:xfrm>
            <a:prstGeom prst="rect">
              <a:avLst/>
            </a:prstGeom>
            <a:solidFill>
              <a:srgbClr val="0c0c0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人物靠右（横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圆角矩形 4"/>
          <p:cNvSpPr/>
          <p:nvPr/>
        </p:nvSpPr>
        <p:spPr>
          <a:xfrm>
            <a:off x="952560" y="3344760"/>
            <a:ext cx="7302600" cy="1152720"/>
          </a:xfrm>
          <a:prstGeom prst="roundRect">
            <a:avLst>
              <a:gd name="adj" fmla="val 851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5"/>
          <p:cNvSpPr/>
          <p:nvPr/>
        </p:nvSpPr>
        <p:spPr>
          <a:xfrm>
            <a:off x="1260360" y="3505320"/>
            <a:ext cx="676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形状填充图片背景后，可以让图片突破矩形的限制，会呈现不同的效果。但黄金分割的运用却是通用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43"/>
          <p:cNvSpPr/>
          <p:nvPr/>
        </p:nvSpPr>
        <p:spPr>
          <a:xfrm>
            <a:off x="674640" y="912960"/>
            <a:ext cx="2313000" cy="196056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2769444" h="2348453">
                <a:moveTo>
                  <a:pt x="206740" y="0"/>
                </a:moveTo>
                <a:cubicBezTo>
                  <a:pt x="877018" y="396240"/>
                  <a:pt x="1882577" y="15240"/>
                  <a:pt x="2476655" y="350520"/>
                </a:cubicBezTo>
                <a:cubicBezTo>
                  <a:pt x="3070733" y="685800"/>
                  <a:pt x="2537615" y="1443715"/>
                  <a:pt x="2766215" y="2348453"/>
                </a:cubicBezTo>
                <a:cubicBezTo>
                  <a:pt x="1974017" y="2246853"/>
                  <a:pt x="923020" y="2420071"/>
                  <a:pt x="389620" y="2043653"/>
                </a:cubicBezTo>
                <a:cubicBezTo>
                  <a:pt x="-143780" y="1667235"/>
                  <a:pt x="-52340" y="437378"/>
                  <a:pt x="206740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组合 72"/>
          <p:cNvGrpSpPr/>
          <p:nvPr/>
        </p:nvGrpSpPr>
        <p:grpSpPr>
          <a:xfrm>
            <a:off x="5626440" y="417960"/>
            <a:ext cx="3277800" cy="2882520"/>
            <a:chOff x="5626440" y="417960"/>
            <a:chExt cx="3277800" cy="2882520"/>
          </a:xfrm>
        </p:grpSpPr>
        <p:sp>
          <p:nvSpPr>
            <p:cNvPr id="814" name="三十二角星 75"/>
            <p:cNvSpPr/>
            <p:nvPr/>
          </p:nvSpPr>
          <p:spPr>
            <a:xfrm rot="894600">
              <a:off x="5867280" y="739800"/>
              <a:ext cx="2795760" cy="22384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2238480"/>
                <a:gd name="textAreaBottom" fmla="*/ 2238840 h 2238480"/>
              </a:gdLst>
              <a:ahLst/>
              <a:rect l="textAreaLeft" t="textAreaTop" r="textAreaRight" b="textAreaBottom"/>
              <a:pathLst>
                <a:path w="4149953" h="3323116">
                  <a:moveTo>
                    <a:pt x="505242" y="2924447"/>
                  </a:moveTo>
                  <a:lnTo>
                    <a:pt x="505285" y="2924489"/>
                  </a:lnTo>
                  <a:lnTo>
                    <a:pt x="505100" y="2924591"/>
                  </a:lnTo>
                  <a:lnTo>
                    <a:pt x="505242" y="2924447"/>
                  </a:lnTo>
                  <a:close/>
                  <a:moveTo>
                    <a:pt x="317425" y="2713235"/>
                  </a:moveTo>
                  <a:lnTo>
                    <a:pt x="322202" y="2720425"/>
                  </a:lnTo>
                  <a:lnTo>
                    <a:pt x="290632" y="2731345"/>
                  </a:lnTo>
                  <a:lnTo>
                    <a:pt x="317425" y="2713235"/>
                  </a:lnTo>
                  <a:close/>
                  <a:moveTo>
                    <a:pt x="184817" y="2486907"/>
                  </a:moveTo>
                  <a:lnTo>
                    <a:pt x="191506" y="2499912"/>
                  </a:lnTo>
                  <a:lnTo>
                    <a:pt x="131270" y="2510868"/>
                  </a:lnTo>
                  <a:lnTo>
                    <a:pt x="184817" y="2486907"/>
                  </a:lnTo>
                  <a:close/>
                  <a:moveTo>
                    <a:pt x="104988" y="2252379"/>
                  </a:moveTo>
                  <a:lnTo>
                    <a:pt x="109117" y="2269123"/>
                  </a:lnTo>
                  <a:lnTo>
                    <a:pt x="33128" y="2271646"/>
                  </a:lnTo>
                  <a:lnTo>
                    <a:pt x="104988" y="2252379"/>
                  </a:lnTo>
                  <a:close/>
                  <a:moveTo>
                    <a:pt x="0" y="2022858"/>
                  </a:moveTo>
                  <a:lnTo>
                    <a:pt x="71152" y="2014826"/>
                  </a:lnTo>
                  <a:lnTo>
                    <a:pt x="71193" y="2030896"/>
                  </a:lnTo>
                  <a:lnTo>
                    <a:pt x="0" y="2022858"/>
                  </a:lnTo>
                  <a:close/>
                  <a:moveTo>
                    <a:pt x="33128" y="1774071"/>
                  </a:moveTo>
                  <a:lnTo>
                    <a:pt x="85209" y="1775799"/>
                  </a:lnTo>
                  <a:lnTo>
                    <a:pt x="83834" y="1787666"/>
                  </a:lnTo>
                  <a:lnTo>
                    <a:pt x="33128" y="1774071"/>
                  </a:lnTo>
                  <a:close/>
                  <a:moveTo>
                    <a:pt x="131272" y="1534848"/>
                  </a:moveTo>
                  <a:lnTo>
                    <a:pt x="149067" y="1538085"/>
                  </a:lnTo>
                  <a:lnTo>
                    <a:pt x="147613" y="1542160"/>
                  </a:lnTo>
                  <a:lnTo>
                    <a:pt x="131272" y="1534848"/>
                  </a:lnTo>
                  <a:close/>
                  <a:moveTo>
                    <a:pt x="1373728" y="687336"/>
                  </a:moveTo>
                  <a:lnTo>
                    <a:pt x="1375758" y="691985"/>
                  </a:lnTo>
                  <a:lnTo>
                    <a:pt x="1380189" y="694029"/>
                  </a:lnTo>
                  <a:lnTo>
                    <a:pt x="1373728" y="687336"/>
                  </a:lnTo>
                  <a:close/>
                  <a:moveTo>
                    <a:pt x="2018863" y="177048"/>
                  </a:moveTo>
                  <a:lnTo>
                    <a:pt x="2052800" y="254763"/>
                  </a:lnTo>
                  <a:lnTo>
                    <a:pt x="2087377" y="243426"/>
                  </a:lnTo>
                  <a:cubicBezTo>
                    <a:pt x="2101463" y="240166"/>
                    <a:pt x="2115557" y="237099"/>
                    <a:pt x="2130506" y="237385"/>
                  </a:cubicBezTo>
                  <a:lnTo>
                    <a:pt x="2171678" y="319263"/>
                  </a:lnTo>
                  <a:cubicBezTo>
                    <a:pt x="2176812" y="317073"/>
                    <a:pt x="2182137" y="316887"/>
                    <a:pt x="2187492" y="316867"/>
                  </a:cubicBezTo>
                  <a:lnTo>
                    <a:pt x="2188599" y="319870"/>
                  </a:lnTo>
                  <a:lnTo>
                    <a:pt x="2188773" y="199666"/>
                  </a:lnTo>
                  <a:lnTo>
                    <a:pt x="2231114" y="190259"/>
                  </a:lnTo>
                  <a:lnTo>
                    <a:pt x="2232081" y="190218"/>
                  </a:lnTo>
                  <a:lnTo>
                    <a:pt x="2237101" y="136914"/>
                  </a:lnTo>
                  <a:lnTo>
                    <a:pt x="2272676" y="133445"/>
                  </a:lnTo>
                  <a:lnTo>
                    <a:pt x="2297695" y="252895"/>
                  </a:lnTo>
                  <a:lnTo>
                    <a:pt x="2314090" y="298987"/>
                  </a:lnTo>
                  <a:lnTo>
                    <a:pt x="2315682" y="298908"/>
                  </a:lnTo>
                  <a:lnTo>
                    <a:pt x="2324636" y="210188"/>
                  </a:lnTo>
                  <a:cubicBezTo>
                    <a:pt x="2353242" y="203961"/>
                    <a:pt x="2382210" y="202324"/>
                    <a:pt x="2411187" y="204026"/>
                  </a:cubicBezTo>
                  <a:lnTo>
                    <a:pt x="2434469" y="296419"/>
                  </a:lnTo>
                  <a:lnTo>
                    <a:pt x="2484207" y="122786"/>
                  </a:lnTo>
                  <a:lnTo>
                    <a:pt x="2520553" y="122303"/>
                  </a:lnTo>
                  <a:lnTo>
                    <a:pt x="2521122" y="181553"/>
                  </a:lnTo>
                  <a:cubicBezTo>
                    <a:pt x="2533651" y="179270"/>
                    <a:pt x="2545926" y="180599"/>
                    <a:pt x="2558129" y="182535"/>
                  </a:cubicBezTo>
                  <a:lnTo>
                    <a:pt x="2572489" y="301326"/>
                  </a:lnTo>
                  <a:lnTo>
                    <a:pt x="2577624" y="301427"/>
                  </a:lnTo>
                  <a:lnTo>
                    <a:pt x="2607996" y="210977"/>
                  </a:lnTo>
                  <a:lnTo>
                    <a:pt x="2692860" y="219535"/>
                  </a:lnTo>
                  <a:lnTo>
                    <a:pt x="2731485" y="141321"/>
                  </a:lnTo>
                  <a:lnTo>
                    <a:pt x="2763143" y="146193"/>
                  </a:lnTo>
                  <a:lnTo>
                    <a:pt x="2751085" y="212724"/>
                  </a:lnTo>
                  <a:lnTo>
                    <a:pt x="2752970" y="208765"/>
                  </a:lnTo>
                  <a:cubicBezTo>
                    <a:pt x="2782327" y="210478"/>
                    <a:pt x="2810499" y="216636"/>
                    <a:pt x="2837599" y="225906"/>
                  </a:cubicBezTo>
                  <a:lnTo>
                    <a:pt x="2824294" y="353457"/>
                  </a:lnTo>
                  <a:lnTo>
                    <a:pt x="2828875" y="354730"/>
                  </a:lnTo>
                  <a:lnTo>
                    <a:pt x="2885755" y="259853"/>
                  </a:lnTo>
                  <a:lnTo>
                    <a:pt x="2923277" y="270641"/>
                  </a:lnTo>
                  <a:lnTo>
                    <a:pt x="2980495" y="193049"/>
                  </a:lnTo>
                  <a:lnTo>
                    <a:pt x="3001387" y="199963"/>
                  </a:lnTo>
                  <a:lnTo>
                    <a:pt x="2966286" y="292754"/>
                  </a:lnTo>
                  <a:lnTo>
                    <a:pt x="2947660" y="383098"/>
                  </a:lnTo>
                  <a:lnTo>
                    <a:pt x="3023011" y="284885"/>
                  </a:lnTo>
                  <a:cubicBezTo>
                    <a:pt x="3051251" y="291875"/>
                    <a:pt x="3077531" y="302735"/>
                    <a:pt x="3101981" y="316672"/>
                  </a:cubicBezTo>
                  <a:lnTo>
                    <a:pt x="3058988" y="443837"/>
                  </a:lnTo>
                  <a:lnTo>
                    <a:pt x="3060855" y="444750"/>
                  </a:lnTo>
                  <a:lnTo>
                    <a:pt x="3087710" y="419273"/>
                  </a:lnTo>
                  <a:lnTo>
                    <a:pt x="3147286" y="354815"/>
                  </a:lnTo>
                  <a:lnTo>
                    <a:pt x="3152749" y="357567"/>
                  </a:lnTo>
                  <a:lnTo>
                    <a:pt x="3228346" y="285846"/>
                  </a:lnTo>
                  <a:lnTo>
                    <a:pt x="3234943" y="288674"/>
                  </a:lnTo>
                  <a:lnTo>
                    <a:pt x="3184198" y="373391"/>
                  </a:lnTo>
                  <a:cubicBezTo>
                    <a:pt x="3198619" y="377312"/>
                    <a:pt x="3210832" y="384556"/>
                    <a:pt x="3222448" y="392640"/>
                  </a:cubicBezTo>
                  <a:lnTo>
                    <a:pt x="3181408" y="483597"/>
                  </a:lnTo>
                  <a:lnTo>
                    <a:pt x="3271078" y="405536"/>
                  </a:lnTo>
                  <a:cubicBezTo>
                    <a:pt x="3296965" y="417506"/>
                    <a:pt x="3320352" y="432624"/>
                    <a:pt x="3341037" y="450754"/>
                  </a:cubicBezTo>
                  <a:lnTo>
                    <a:pt x="3330147" y="468866"/>
                  </a:lnTo>
                  <a:lnTo>
                    <a:pt x="3333735" y="465962"/>
                  </a:lnTo>
                  <a:lnTo>
                    <a:pt x="3296489" y="524841"/>
                  </a:lnTo>
                  <a:lnTo>
                    <a:pt x="3281342" y="550030"/>
                  </a:lnTo>
                  <a:lnTo>
                    <a:pt x="3430846" y="451952"/>
                  </a:lnTo>
                  <a:lnTo>
                    <a:pt x="3390560" y="498270"/>
                  </a:lnTo>
                  <a:cubicBezTo>
                    <a:pt x="3412212" y="510161"/>
                    <a:pt x="3431060" y="525126"/>
                    <a:pt x="3447376" y="542491"/>
                  </a:cubicBezTo>
                  <a:lnTo>
                    <a:pt x="3386629" y="624842"/>
                  </a:lnTo>
                  <a:lnTo>
                    <a:pt x="3487821" y="566055"/>
                  </a:lnTo>
                  <a:cubicBezTo>
                    <a:pt x="3510234" y="582414"/>
                    <a:pt x="3529819" y="601197"/>
                    <a:pt x="3545759" y="622759"/>
                  </a:cubicBezTo>
                  <a:lnTo>
                    <a:pt x="3492401" y="680364"/>
                  </a:lnTo>
                  <a:lnTo>
                    <a:pt x="3595067" y="624557"/>
                  </a:lnTo>
                  <a:lnTo>
                    <a:pt x="3528415" y="691602"/>
                  </a:lnTo>
                  <a:lnTo>
                    <a:pt x="3548849" y="683025"/>
                  </a:lnTo>
                  <a:lnTo>
                    <a:pt x="3582793" y="666857"/>
                  </a:lnTo>
                  <a:cubicBezTo>
                    <a:pt x="3603272" y="684779"/>
                    <a:pt x="3620910" y="704789"/>
                    <a:pt x="3634361" y="727500"/>
                  </a:cubicBezTo>
                  <a:lnTo>
                    <a:pt x="3553611" y="800389"/>
                  </a:lnTo>
                  <a:lnTo>
                    <a:pt x="3664692" y="760496"/>
                  </a:lnTo>
                  <a:cubicBezTo>
                    <a:pt x="3682787" y="780438"/>
                    <a:pt x="3697794" y="802192"/>
                    <a:pt x="3708298" y="826241"/>
                  </a:cubicBezTo>
                  <a:lnTo>
                    <a:pt x="3638449" y="876986"/>
                  </a:lnTo>
                  <a:lnTo>
                    <a:pt x="3809531" y="817801"/>
                  </a:lnTo>
                  <a:lnTo>
                    <a:pt x="3721748" y="877138"/>
                  </a:lnTo>
                  <a:lnTo>
                    <a:pt x="3739212" y="872359"/>
                  </a:lnTo>
                  <a:cubicBezTo>
                    <a:pt x="3755323" y="893352"/>
                    <a:pt x="3768102" y="915999"/>
                    <a:pt x="3776114" y="940650"/>
                  </a:cubicBezTo>
                  <a:lnTo>
                    <a:pt x="3674830" y="1001912"/>
                  </a:lnTo>
                  <a:lnTo>
                    <a:pt x="3794236" y="981491"/>
                  </a:lnTo>
                  <a:cubicBezTo>
                    <a:pt x="3807602" y="1004078"/>
                    <a:pt x="3817444" y="1027995"/>
                    <a:pt x="3822289" y="1053456"/>
                  </a:cubicBezTo>
                  <a:lnTo>
                    <a:pt x="3782923" y="1072107"/>
                  </a:lnTo>
                  <a:lnTo>
                    <a:pt x="3962617" y="1039421"/>
                  </a:lnTo>
                  <a:lnTo>
                    <a:pt x="3963155" y="1040848"/>
                  </a:lnTo>
                  <a:lnTo>
                    <a:pt x="3825681" y="1102365"/>
                  </a:lnTo>
                  <a:lnTo>
                    <a:pt x="3845533" y="1100480"/>
                  </a:lnTo>
                  <a:lnTo>
                    <a:pt x="3860956" y="1135987"/>
                  </a:lnTo>
                  <a:cubicBezTo>
                    <a:pt x="3864708" y="1148225"/>
                    <a:pt x="3868242" y="1160466"/>
                    <a:pt x="3867910" y="1173455"/>
                  </a:cubicBezTo>
                  <a:lnTo>
                    <a:pt x="3745637" y="1219857"/>
                  </a:lnTo>
                  <a:lnTo>
                    <a:pt x="3871098" y="1220219"/>
                  </a:lnTo>
                  <a:lnTo>
                    <a:pt x="3881944" y="1257267"/>
                  </a:lnTo>
                  <a:lnTo>
                    <a:pt x="3883441" y="1283597"/>
                  </a:lnTo>
                  <a:lnTo>
                    <a:pt x="4024176" y="1278924"/>
                  </a:lnTo>
                  <a:lnTo>
                    <a:pt x="4025367" y="1288673"/>
                  </a:lnTo>
                  <a:lnTo>
                    <a:pt x="3842272" y="1337764"/>
                  </a:lnTo>
                  <a:lnTo>
                    <a:pt x="3899216" y="1342104"/>
                  </a:lnTo>
                  <a:lnTo>
                    <a:pt x="3903317" y="1364153"/>
                  </a:lnTo>
                  <a:lnTo>
                    <a:pt x="3926510" y="1356129"/>
                  </a:lnTo>
                  <a:lnTo>
                    <a:pt x="3904581" y="1370952"/>
                  </a:lnTo>
                  <a:cubicBezTo>
                    <a:pt x="3907265" y="1386292"/>
                    <a:pt x="3907516" y="1401792"/>
                    <a:pt x="3906309" y="1417295"/>
                  </a:cubicBezTo>
                  <a:lnTo>
                    <a:pt x="3865599" y="1425036"/>
                  </a:lnTo>
                  <a:cubicBezTo>
                    <a:pt x="3875010" y="1437716"/>
                    <a:pt x="3882481" y="1451439"/>
                    <a:pt x="3887539" y="1466180"/>
                  </a:cubicBezTo>
                  <a:lnTo>
                    <a:pt x="3893905" y="1467306"/>
                  </a:lnTo>
                  <a:lnTo>
                    <a:pt x="3892749" y="1502874"/>
                  </a:lnTo>
                  <a:lnTo>
                    <a:pt x="4032974" y="1518704"/>
                  </a:lnTo>
                  <a:lnTo>
                    <a:pt x="4031178" y="1534076"/>
                  </a:lnTo>
                  <a:lnTo>
                    <a:pt x="3924208" y="1546153"/>
                  </a:lnTo>
                  <a:cubicBezTo>
                    <a:pt x="3931286" y="1560640"/>
                    <a:pt x="3936248" y="1575912"/>
                    <a:pt x="3939268" y="1591784"/>
                  </a:cubicBezTo>
                  <a:lnTo>
                    <a:pt x="3899902" y="1610435"/>
                  </a:lnTo>
                  <a:lnTo>
                    <a:pt x="4079596" y="1577749"/>
                  </a:lnTo>
                  <a:lnTo>
                    <a:pt x="4080135" y="1579176"/>
                  </a:lnTo>
                  <a:lnTo>
                    <a:pt x="3942660" y="1640693"/>
                  </a:lnTo>
                  <a:lnTo>
                    <a:pt x="3962512" y="1638808"/>
                  </a:lnTo>
                  <a:lnTo>
                    <a:pt x="3977935" y="1674315"/>
                  </a:lnTo>
                  <a:cubicBezTo>
                    <a:pt x="3981687" y="1686553"/>
                    <a:pt x="3985221" y="1698794"/>
                    <a:pt x="3984889" y="1711783"/>
                  </a:cubicBezTo>
                  <a:lnTo>
                    <a:pt x="3921163" y="1735967"/>
                  </a:lnTo>
                  <a:lnTo>
                    <a:pt x="3990460" y="1754546"/>
                  </a:lnTo>
                  <a:lnTo>
                    <a:pt x="3988532" y="1760097"/>
                  </a:lnTo>
                  <a:lnTo>
                    <a:pt x="3998923" y="1795595"/>
                  </a:lnTo>
                  <a:lnTo>
                    <a:pt x="4000420" y="1821925"/>
                  </a:lnTo>
                  <a:lnTo>
                    <a:pt x="4141155" y="1817252"/>
                  </a:lnTo>
                  <a:lnTo>
                    <a:pt x="4142347" y="1827001"/>
                  </a:lnTo>
                  <a:lnTo>
                    <a:pt x="3959251" y="1876092"/>
                  </a:lnTo>
                  <a:lnTo>
                    <a:pt x="4016195" y="1880432"/>
                  </a:lnTo>
                  <a:cubicBezTo>
                    <a:pt x="4023362" y="1905283"/>
                    <a:pt x="4025248" y="1930449"/>
                    <a:pt x="4023289" y="1955623"/>
                  </a:cubicBezTo>
                  <a:lnTo>
                    <a:pt x="3893096" y="1980380"/>
                  </a:lnTo>
                  <a:lnTo>
                    <a:pt x="3896149" y="1981747"/>
                  </a:lnTo>
                  <a:lnTo>
                    <a:pt x="3894522" y="1985053"/>
                  </a:lnTo>
                  <a:lnTo>
                    <a:pt x="4010884" y="2005634"/>
                  </a:lnTo>
                  <a:lnTo>
                    <a:pt x="4009728" y="2041202"/>
                  </a:lnTo>
                  <a:lnTo>
                    <a:pt x="4149953" y="2057032"/>
                  </a:lnTo>
                  <a:lnTo>
                    <a:pt x="4148157" y="2072404"/>
                  </a:lnTo>
                  <a:lnTo>
                    <a:pt x="3908288" y="2099484"/>
                  </a:lnTo>
                  <a:lnTo>
                    <a:pt x="4015289" y="2126600"/>
                  </a:lnTo>
                  <a:cubicBezTo>
                    <a:pt x="4016624" y="2152115"/>
                    <a:pt x="4012784" y="2177096"/>
                    <a:pt x="4005284" y="2201492"/>
                  </a:cubicBezTo>
                  <a:lnTo>
                    <a:pt x="3847930" y="2204110"/>
                  </a:lnTo>
                  <a:lnTo>
                    <a:pt x="3978825" y="2251926"/>
                  </a:lnTo>
                  <a:lnTo>
                    <a:pt x="3977235" y="2257965"/>
                  </a:lnTo>
                  <a:lnTo>
                    <a:pt x="4107440" y="2292874"/>
                  </a:lnTo>
                  <a:cubicBezTo>
                    <a:pt x="4105759" y="2298889"/>
                    <a:pt x="4103940" y="2304874"/>
                    <a:pt x="4101261" y="2310657"/>
                  </a:cubicBezTo>
                  <a:lnTo>
                    <a:pt x="3964587" y="2306119"/>
                  </a:lnTo>
                  <a:cubicBezTo>
                    <a:pt x="3964760" y="2313217"/>
                    <a:pt x="3962202" y="2319592"/>
                    <a:pt x="3959391" y="2325902"/>
                  </a:cubicBezTo>
                  <a:lnTo>
                    <a:pt x="3845719" y="2316630"/>
                  </a:lnTo>
                  <a:lnTo>
                    <a:pt x="3959027" y="2367902"/>
                  </a:lnTo>
                  <a:cubicBezTo>
                    <a:pt x="3954244" y="2393032"/>
                    <a:pt x="3944851" y="2416889"/>
                    <a:pt x="3931750" y="2439510"/>
                  </a:cubicBezTo>
                  <a:lnTo>
                    <a:pt x="3780498" y="2415977"/>
                  </a:lnTo>
                  <a:lnTo>
                    <a:pt x="4013128" y="2520075"/>
                  </a:lnTo>
                  <a:cubicBezTo>
                    <a:pt x="4010822" y="2526222"/>
                    <a:pt x="4007657" y="2532033"/>
                    <a:pt x="4004406" y="2537808"/>
                  </a:cubicBezTo>
                  <a:lnTo>
                    <a:pt x="3878207" y="2514852"/>
                  </a:lnTo>
                  <a:cubicBezTo>
                    <a:pt x="3874255" y="2530200"/>
                    <a:pt x="3865857" y="2543862"/>
                    <a:pt x="3856139" y="2556922"/>
                  </a:cubicBezTo>
                  <a:lnTo>
                    <a:pt x="3758597" y="2531540"/>
                  </a:lnTo>
                  <a:lnTo>
                    <a:pt x="3849717" y="2595106"/>
                  </a:lnTo>
                  <a:cubicBezTo>
                    <a:pt x="3839016" y="2618747"/>
                    <a:pt x="3824461" y="2640574"/>
                    <a:pt x="3806179" y="2660400"/>
                  </a:cubicBezTo>
                  <a:lnTo>
                    <a:pt x="3712657" y="2628554"/>
                  </a:lnTo>
                  <a:lnTo>
                    <a:pt x="3869183" y="2734353"/>
                  </a:lnTo>
                  <a:lnTo>
                    <a:pt x="3857619" y="2749273"/>
                  </a:lnTo>
                  <a:lnTo>
                    <a:pt x="3748915" y="2711669"/>
                  </a:lnTo>
                  <a:cubicBezTo>
                    <a:pt x="3737269" y="2731841"/>
                    <a:pt x="3721642" y="2749704"/>
                    <a:pt x="3703303" y="2765704"/>
                  </a:cubicBezTo>
                  <a:lnTo>
                    <a:pt x="3623217" y="2728773"/>
                  </a:lnTo>
                  <a:lnTo>
                    <a:pt x="3691622" y="2799626"/>
                  </a:lnTo>
                  <a:cubicBezTo>
                    <a:pt x="3675547" y="2820750"/>
                    <a:pt x="3656398" y="2839700"/>
                    <a:pt x="3633688" y="2855807"/>
                  </a:cubicBezTo>
                  <a:lnTo>
                    <a:pt x="3563067" y="2816490"/>
                  </a:lnTo>
                  <a:lnTo>
                    <a:pt x="3675148" y="2929236"/>
                  </a:lnTo>
                  <a:lnTo>
                    <a:pt x="3663103" y="2939746"/>
                  </a:lnTo>
                  <a:lnTo>
                    <a:pt x="3566895" y="2887448"/>
                  </a:lnTo>
                  <a:lnTo>
                    <a:pt x="3571753" y="2893832"/>
                  </a:lnTo>
                  <a:cubicBezTo>
                    <a:pt x="3553097" y="2913400"/>
                    <a:pt x="3531655" y="2930491"/>
                    <a:pt x="3507032" y="2944388"/>
                  </a:cubicBezTo>
                  <a:lnTo>
                    <a:pt x="3443970" y="2899677"/>
                  </a:lnTo>
                  <a:lnTo>
                    <a:pt x="3490528" y="2973451"/>
                  </a:lnTo>
                  <a:cubicBezTo>
                    <a:pt x="3469901" y="2991240"/>
                    <a:pt x="3446870" y="3006562"/>
                    <a:pt x="3420726" y="3018249"/>
                  </a:cubicBezTo>
                  <a:lnTo>
                    <a:pt x="3344172" y="2954238"/>
                  </a:lnTo>
                  <a:lnTo>
                    <a:pt x="3349986" y="2963775"/>
                  </a:lnTo>
                  <a:lnTo>
                    <a:pt x="3349129" y="2964364"/>
                  </a:lnTo>
                  <a:lnTo>
                    <a:pt x="3432212" y="3095696"/>
                  </a:lnTo>
                  <a:lnTo>
                    <a:pt x="3422004" y="3101716"/>
                  </a:lnTo>
                  <a:lnTo>
                    <a:pt x="3346089" y="3040302"/>
                  </a:lnTo>
                  <a:lnTo>
                    <a:pt x="3349773" y="3048113"/>
                  </a:lnTo>
                  <a:cubicBezTo>
                    <a:pt x="3327006" y="3063901"/>
                    <a:pt x="3302162" y="3076978"/>
                    <a:pt x="3274687" y="3086115"/>
                  </a:cubicBezTo>
                  <a:lnTo>
                    <a:pt x="3227597" y="3036584"/>
                  </a:lnTo>
                  <a:lnTo>
                    <a:pt x="3253980" y="3109337"/>
                  </a:lnTo>
                  <a:cubicBezTo>
                    <a:pt x="3229819" y="3123335"/>
                    <a:pt x="3203753" y="3134435"/>
                    <a:pt x="3175368" y="3141396"/>
                  </a:cubicBezTo>
                  <a:lnTo>
                    <a:pt x="3119380" y="3071533"/>
                  </a:lnTo>
                  <a:lnTo>
                    <a:pt x="3127978" y="3096407"/>
                  </a:lnTo>
                  <a:lnTo>
                    <a:pt x="3106915" y="3105558"/>
                  </a:lnTo>
                  <a:lnTo>
                    <a:pt x="3145927" y="3222836"/>
                  </a:lnTo>
                  <a:lnTo>
                    <a:pt x="3138491" y="3225592"/>
                  </a:lnTo>
                  <a:lnTo>
                    <a:pt x="3087888" y="3163752"/>
                  </a:lnTo>
                  <a:cubicBezTo>
                    <a:pt x="3065287" y="3174485"/>
                    <a:pt x="3040889" y="3181628"/>
                    <a:pt x="3015095" y="3185342"/>
                  </a:cubicBezTo>
                  <a:lnTo>
                    <a:pt x="2992568" y="3149077"/>
                  </a:lnTo>
                  <a:lnTo>
                    <a:pt x="2985093" y="3151621"/>
                  </a:lnTo>
                  <a:lnTo>
                    <a:pt x="2991394" y="3201704"/>
                  </a:lnTo>
                  <a:lnTo>
                    <a:pt x="2950521" y="3215103"/>
                  </a:lnTo>
                  <a:cubicBezTo>
                    <a:pt x="2936435" y="3218362"/>
                    <a:pt x="2922345" y="3221431"/>
                    <a:pt x="2907392" y="3221144"/>
                  </a:cubicBezTo>
                  <a:lnTo>
                    <a:pt x="2879208" y="3165091"/>
                  </a:lnTo>
                  <a:lnTo>
                    <a:pt x="2881853" y="3188376"/>
                  </a:lnTo>
                  <a:lnTo>
                    <a:pt x="2824539" y="3201526"/>
                  </a:lnTo>
                  <a:lnTo>
                    <a:pt x="2824500" y="3227684"/>
                  </a:lnTo>
                  <a:lnTo>
                    <a:pt x="2823746" y="3227851"/>
                  </a:lnTo>
                  <a:lnTo>
                    <a:pt x="2828176" y="3300759"/>
                  </a:lnTo>
                  <a:lnTo>
                    <a:pt x="2822422" y="3301819"/>
                  </a:lnTo>
                  <a:lnTo>
                    <a:pt x="2789846" y="3235384"/>
                  </a:lnTo>
                  <a:lnTo>
                    <a:pt x="2782157" y="3237093"/>
                  </a:lnTo>
                  <a:lnTo>
                    <a:pt x="2779439" y="3237207"/>
                  </a:lnTo>
                  <a:lnTo>
                    <a:pt x="2784641" y="3289821"/>
                  </a:lnTo>
                  <a:lnTo>
                    <a:pt x="2761983" y="3237936"/>
                  </a:lnTo>
                  <a:cubicBezTo>
                    <a:pt x="2754314" y="3239802"/>
                    <a:pt x="2746470" y="3239856"/>
                    <a:pt x="2738502" y="3238915"/>
                  </a:cubicBezTo>
                  <a:lnTo>
                    <a:pt x="2732392" y="3221734"/>
                  </a:lnTo>
                  <a:lnTo>
                    <a:pt x="2715696" y="3224263"/>
                  </a:lnTo>
                  <a:lnTo>
                    <a:pt x="2713266" y="3248341"/>
                  </a:lnTo>
                  <a:cubicBezTo>
                    <a:pt x="2684659" y="3254568"/>
                    <a:pt x="2655689" y="3256202"/>
                    <a:pt x="2626714" y="3254505"/>
                  </a:cubicBezTo>
                  <a:lnTo>
                    <a:pt x="2621379" y="3233329"/>
                  </a:lnTo>
                  <a:lnTo>
                    <a:pt x="2621136" y="3235581"/>
                  </a:lnTo>
                  <a:lnTo>
                    <a:pt x="2543764" y="3239436"/>
                  </a:lnTo>
                  <a:lnTo>
                    <a:pt x="2542002" y="3247123"/>
                  </a:lnTo>
                  <a:lnTo>
                    <a:pt x="2527287" y="3246733"/>
                  </a:lnTo>
                  <a:lnTo>
                    <a:pt x="2520133" y="3322703"/>
                  </a:lnTo>
                  <a:lnTo>
                    <a:pt x="2508516" y="3322858"/>
                  </a:lnTo>
                  <a:lnTo>
                    <a:pt x="2502282" y="3293085"/>
                  </a:lnTo>
                  <a:lnTo>
                    <a:pt x="2496100" y="3323022"/>
                  </a:lnTo>
                  <a:lnTo>
                    <a:pt x="2489167" y="3323116"/>
                  </a:lnTo>
                  <a:lnTo>
                    <a:pt x="2473491" y="3247185"/>
                  </a:lnTo>
                  <a:lnTo>
                    <a:pt x="2445219" y="3249465"/>
                  </a:lnTo>
                  <a:cubicBezTo>
                    <a:pt x="2431692" y="3249335"/>
                    <a:pt x="2418218" y="3249030"/>
                    <a:pt x="2405009" y="3245432"/>
                  </a:cubicBezTo>
                  <a:lnTo>
                    <a:pt x="2404955" y="3245037"/>
                  </a:lnTo>
                  <a:cubicBezTo>
                    <a:pt x="2384113" y="3246539"/>
                    <a:pt x="2363734" y="3243509"/>
                    <a:pt x="2343695" y="3238860"/>
                  </a:cubicBezTo>
                  <a:lnTo>
                    <a:pt x="2343629" y="3235750"/>
                  </a:lnTo>
                  <a:lnTo>
                    <a:pt x="2315476" y="3235195"/>
                  </a:lnTo>
                  <a:lnTo>
                    <a:pt x="2288121" y="3229644"/>
                  </a:lnTo>
                  <a:lnTo>
                    <a:pt x="2267242" y="3302536"/>
                  </a:lnTo>
                  <a:lnTo>
                    <a:pt x="2244742" y="3299073"/>
                  </a:lnTo>
                  <a:lnTo>
                    <a:pt x="2243938" y="3215272"/>
                  </a:lnTo>
                  <a:lnTo>
                    <a:pt x="2230511" y="3212553"/>
                  </a:lnTo>
                  <a:lnTo>
                    <a:pt x="2224029" y="3227291"/>
                  </a:lnTo>
                  <a:lnTo>
                    <a:pt x="2201290" y="3223372"/>
                  </a:lnTo>
                  <a:lnTo>
                    <a:pt x="2170190" y="3286801"/>
                  </a:lnTo>
                  <a:lnTo>
                    <a:pt x="2158096" y="3283895"/>
                  </a:lnTo>
                  <a:lnTo>
                    <a:pt x="2162180" y="3216631"/>
                  </a:lnTo>
                  <a:cubicBezTo>
                    <a:pt x="2156052" y="3217001"/>
                    <a:pt x="2150582" y="3215421"/>
                    <a:pt x="2145162" y="3213699"/>
                  </a:cubicBezTo>
                  <a:lnTo>
                    <a:pt x="2146560" y="3197072"/>
                  </a:lnTo>
                  <a:lnTo>
                    <a:pt x="2101324" y="3184066"/>
                  </a:lnTo>
                  <a:lnTo>
                    <a:pt x="2097266" y="3190925"/>
                  </a:lnTo>
                  <a:lnTo>
                    <a:pt x="2061161" y="3180877"/>
                  </a:lnTo>
                  <a:lnTo>
                    <a:pt x="2055964" y="3191401"/>
                  </a:lnTo>
                  <a:lnTo>
                    <a:pt x="2060071" y="3259000"/>
                  </a:lnTo>
                  <a:lnTo>
                    <a:pt x="2054317" y="3260060"/>
                  </a:lnTo>
                  <a:lnTo>
                    <a:pt x="2038245" y="3227282"/>
                  </a:lnTo>
                  <a:lnTo>
                    <a:pt x="2026214" y="3251643"/>
                  </a:lnTo>
                  <a:lnTo>
                    <a:pt x="1999803" y="3242902"/>
                  </a:lnTo>
                  <a:lnTo>
                    <a:pt x="2004050" y="3219469"/>
                  </a:lnTo>
                  <a:lnTo>
                    <a:pt x="1993878" y="3196176"/>
                  </a:lnTo>
                  <a:cubicBezTo>
                    <a:pt x="1986209" y="3198043"/>
                    <a:pt x="1978365" y="3198096"/>
                    <a:pt x="1970397" y="3197156"/>
                  </a:cubicBezTo>
                  <a:lnTo>
                    <a:pt x="1964287" y="3179975"/>
                  </a:lnTo>
                  <a:lnTo>
                    <a:pt x="1947591" y="3182504"/>
                  </a:lnTo>
                  <a:lnTo>
                    <a:pt x="1945161" y="3206582"/>
                  </a:lnTo>
                  <a:cubicBezTo>
                    <a:pt x="1916555" y="3212809"/>
                    <a:pt x="1887584" y="3214443"/>
                    <a:pt x="1858609" y="3212746"/>
                  </a:cubicBezTo>
                  <a:lnTo>
                    <a:pt x="1853274" y="3191570"/>
                  </a:lnTo>
                  <a:lnTo>
                    <a:pt x="1853031" y="3193821"/>
                  </a:lnTo>
                  <a:lnTo>
                    <a:pt x="1775659" y="3197677"/>
                  </a:lnTo>
                  <a:lnTo>
                    <a:pt x="1773897" y="3205364"/>
                  </a:lnTo>
                  <a:lnTo>
                    <a:pt x="1759182" y="3204974"/>
                  </a:lnTo>
                  <a:lnTo>
                    <a:pt x="1752028" y="3280944"/>
                  </a:lnTo>
                  <a:lnTo>
                    <a:pt x="1740411" y="3281099"/>
                  </a:lnTo>
                  <a:lnTo>
                    <a:pt x="1734177" y="3251326"/>
                  </a:lnTo>
                  <a:lnTo>
                    <a:pt x="1727995" y="3281263"/>
                  </a:lnTo>
                  <a:lnTo>
                    <a:pt x="1721062" y="3281357"/>
                  </a:lnTo>
                  <a:lnTo>
                    <a:pt x="1705386" y="3205426"/>
                  </a:lnTo>
                  <a:lnTo>
                    <a:pt x="1677114" y="3207706"/>
                  </a:lnTo>
                  <a:cubicBezTo>
                    <a:pt x="1663587" y="3207576"/>
                    <a:pt x="1650113" y="3207271"/>
                    <a:pt x="1636904" y="3203673"/>
                  </a:cubicBezTo>
                  <a:lnTo>
                    <a:pt x="1636850" y="3203278"/>
                  </a:lnTo>
                  <a:cubicBezTo>
                    <a:pt x="1616008" y="3204780"/>
                    <a:pt x="1595629" y="3201750"/>
                    <a:pt x="1575590" y="3197100"/>
                  </a:cubicBezTo>
                  <a:lnTo>
                    <a:pt x="1575524" y="3193991"/>
                  </a:lnTo>
                  <a:lnTo>
                    <a:pt x="1547371" y="3193436"/>
                  </a:lnTo>
                  <a:lnTo>
                    <a:pt x="1520016" y="3187885"/>
                  </a:lnTo>
                  <a:lnTo>
                    <a:pt x="1499137" y="3260777"/>
                  </a:lnTo>
                  <a:lnTo>
                    <a:pt x="1476637" y="3257314"/>
                  </a:lnTo>
                  <a:lnTo>
                    <a:pt x="1475833" y="3173513"/>
                  </a:lnTo>
                  <a:lnTo>
                    <a:pt x="1462406" y="3170794"/>
                  </a:lnTo>
                  <a:lnTo>
                    <a:pt x="1455924" y="3185532"/>
                  </a:lnTo>
                  <a:lnTo>
                    <a:pt x="1433185" y="3181613"/>
                  </a:lnTo>
                  <a:lnTo>
                    <a:pt x="1402085" y="3245042"/>
                  </a:lnTo>
                  <a:lnTo>
                    <a:pt x="1389991" y="3242136"/>
                  </a:lnTo>
                  <a:lnTo>
                    <a:pt x="1394075" y="3174872"/>
                  </a:lnTo>
                  <a:cubicBezTo>
                    <a:pt x="1387947" y="3175242"/>
                    <a:pt x="1382478" y="3173662"/>
                    <a:pt x="1377057" y="3171939"/>
                  </a:cubicBezTo>
                  <a:lnTo>
                    <a:pt x="1378455" y="3155313"/>
                  </a:lnTo>
                  <a:lnTo>
                    <a:pt x="1333219" y="3142307"/>
                  </a:lnTo>
                  <a:lnTo>
                    <a:pt x="1329161" y="3149166"/>
                  </a:lnTo>
                  <a:lnTo>
                    <a:pt x="1293056" y="3139119"/>
                  </a:lnTo>
                  <a:lnTo>
                    <a:pt x="1258109" y="3209884"/>
                  </a:lnTo>
                  <a:lnTo>
                    <a:pt x="1231698" y="3201143"/>
                  </a:lnTo>
                  <a:lnTo>
                    <a:pt x="1258478" y="3053365"/>
                  </a:lnTo>
                  <a:lnTo>
                    <a:pt x="1222155" y="3100711"/>
                  </a:lnTo>
                  <a:lnTo>
                    <a:pt x="1219789" y="3099759"/>
                  </a:lnTo>
                  <a:lnTo>
                    <a:pt x="1204152" y="3121681"/>
                  </a:lnTo>
                  <a:lnTo>
                    <a:pt x="1146785" y="3100574"/>
                  </a:lnTo>
                  <a:lnTo>
                    <a:pt x="1101466" y="3155954"/>
                  </a:lnTo>
                  <a:lnTo>
                    <a:pt x="1082305" y="3147743"/>
                  </a:lnTo>
                  <a:lnTo>
                    <a:pt x="1112516" y="3056924"/>
                  </a:lnTo>
                  <a:lnTo>
                    <a:pt x="1096086" y="3048655"/>
                  </a:lnTo>
                  <a:lnTo>
                    <a:pt x="1085557" y="3060304"/>
                  </a:lnTo>
                  <a:lnTo>
                    <a:pt x="1079798" y="3057484"/>
                  </a:lnTo>
                  <a:lnTo>
                    <a:pt x="1029823" y="3125253"/>
                  </a:lnTo>
                  <a:lnTo>
                    <a:pt x="1003920" y="3114152"/>
                  </a:lnTo>
                  <a:lnTo>
                    <a:pt x="1033865" y="3034992"/>
                  </a:lnTo>
                  <a:cubicBezTo>
                    <a:pt x="1026554" y="3033310"/>
                    <a:pt x="1020705" y="3029626"/>
                    <a:pt x="1014995" y="3025753"/>
                  </a:cubicBezTo>
                  <a:lnTo>
                    <a:pt x="1054739" y="2936979"/>
                  </a:lnTo>
                  <a:lnTo>
                    <a:pt x="972094" y="3014691"/>
                  </a:lnTo>
                  <a:cubicBezTo>
                    <a:pt x="947643" y="3004410"/>
                    <a:pt x="925719" y="2990759"/>
                    <a:pt x="906048" y="2974457"/>
                  </a:cubicBezTo>
                  <a:lnTo>
                    <a:pt x="910348" y="2966755"/>
                  </a:lnTo>
                  <a:lnTo>
                    <a:pt x="838731" y="3024692"/>
                  </a:lnTo>
                  <a:lnTo>
                    <a:pt x="813814" y="3008281"/>
                  </a:lnTo>
                  <a:lnTo>
                    <a:pt x="814637" y="3006980"/>
                  </a:lnTo>
                  <a:lnTo>
                    <a:pt x="813492" y="3008068"/>
                  </a:lnTo>
                  <a:lnTo>
                    <a:pt x="793595" y="2994964"/>
                  </a:lnTo>
                  <a:lnTo>
                    <a:pt x="843166" y="2912204"/>
                  </a:lnTo>
                  <a:cubicBezTo>
                    <a:pt x="828504" y="2905098"/>
                    <a:pt x="816754" y="2894863"/>
                    <a:pt x="805971" y="2883720"/>
                  </a:cubicBezTo>
                  <a:lnTo>
                    <a:pt x="857913" y="2812012"/>
                  </a:lnTo>
                  <a:lnTo>
                    <a:pt x="768589" y="2868781"/>
                  </a:lnTo>
                  <a:cubicBezTo>
                    <a:pt x="747236" y="2854137"/>
                    <a:pt x="728763" y="2836869"/>
                    <a:pt x="713333" y="2817124"/>
                  </a:cubicBezTo>
                  <a:lnTo>
                    <a:pt x="722588" y="2806364"/>
                  </a:lnTo>
                  <a:lnTo>
                    <a:pt x="620484" y="2861868"/>
                  </a:lnTo>
                  <a:lnTo>
                    <a:pt x="593586" y="2835579"/>
                  </a:lnTo>
                  <a:lnTo>
                    <a:pt x="673570" y="2755122"/>
                  </a:lnTo>
                  <a:cubicBezTo>
                    <a:pt x="656920" y="2741579"/>
                    <a:pt x="643746" y="2725358"/>
                    <a:pt x="632906" y="2707631"/>
                  </a:cubicBezTo>
                  <a:lnTo>
                    <a:pt x="643054" y="2698233"/>
                  </a:lnTo>
                  <a:cubicBezTo>
                    <a:pt x="639427" y="2695808"/>
                    <a:pt x="637386" y="2692569"/>
                    <a:pt x="635434" y="2689271"/>
                  </a:cubicBezTo>
                  <a:lnTo>
                    <a:pt x="662542" y="2664803"/>
                  </a:lnTo>
                  <a:lnTo>
                    <a:pt x="601288" y="2689562"/>
                  </a:lnTo>
                  <a:lnTo>
                    <a:pt x="564627" y="2636562"/>
                  </a:lnTo>
                  <a:lnTo>
                    <a:pt x="449409" y="2676419"/>
                  </a:lnTo>
                  <a:cubicBezTo>
                    <a:pt x="440165" y="2665103"/>
                    <a:pt x="431577" y="2653394"/>
                    <a:pt x="424419" y="2640914"/>
                  </a:cubicBezTo>
                  <a:lnTo>
                    <a:pt x="535060" y="2566128"/>
                  </a:lnTo>
                  <a:cubicBezTo>
                    <a:pt x="520551" y="2547228"/>
                    <a:pt x="509519" y="2526614"/>
                    <a:pt x="502215" y="2504431"/>
                  </a:cubicBezTo>
                  <a:lnTo>
                    <a:pt x="507272" y="2501268"/>
                  </a:lnTo>
                  <a:lnTo>
                    <a:pt x="495674" y="2479803"/>
                  </a:lnTo>
                  <a:lnTo>
                    <a:pt x="476852" y="2483745"/>
                  </a:lnTo>
                  <a:lnTo>
                    <a:pt x="463390" y="2450456"/>
                  </a:lnTo>
                  <a:lnTo>
                    <a:pt x="326097" y="2475430"/>
                  </a:lnTo>
                  <a:lnTo>
                    <a:pt x="304443" y="2433376"/>
                  </a:lnTo>
                  <a:lnTo>
                    <a:pt x="365729" y="2405952"/>
                  </a:lnTo>
                  <a:lnTo>
                    <a:pt x="332363" y="2412972"/>
                  </a:lnTo>
                  <a:lnTo>
                    <a:pt x="433066" y="2358272"/>
                  </a:lnTo>
                  <a:cubicBezTo>
                    <a:pt x="427054" y="2350420"/>
                    <a:pt x="424637" y="2341382"/>
                    <a:pt x="422877" y="2332137"/>
                  </a:cubicBezTo>
                  <a:lnTo>
                    <a:pt x="431476" y="2328063"/>
                  </a:lnTo>
                  <a:lnTo>
                    <a:pt x="428191" y="2315916"/>
                  </a:lnTo>
                  <a:lnTo>
                    <a:pt x="424261" y="2316289"/>
                  </a:lnTo>
                  <a:lnTo>
                    <a:pt x="408840" y="2280782"/>
                  </a:lnTo>
                  <a:lnTo>
                    <a:pt x="404853" y="2259304"/>
                  </a:lnTo>
                  <a:lnTo>
                    <a:pt x="245608" y="2264591"/>
                  </a:lnTo>
                  <a:lnTo>
                    <a:pt x="234071" y="2217771"/>
                  </a:lnTo>
                  <a:lnTo>
                    <a:pt x="428911" y="2165532"/>
                  </a:lnTo>
                  <a:lnTo>
                    <a:pt x="374068" y="2165374"/>
                  </a:lnTo>
                  <a:lnTo>
                    <a:pt x="367511" y="2142972"/>
                  </a:lnTo>
                  <a:lnTo>
                    <a:pt x="291064" y="2143680"/>
                  </a:lnTo>
                  <a:lnTo>
                    <a:pt x="362786" y="2120587"/>
                  </a:lnTo>
                  <a:lnTo>
                    <a:pt x="361053" y="2090145"/>
                  </a:lnTo>
                  <a:lnTo>
                    <a:pt x="387940" y="2082875"/>
                  </a:lnTo>
                  <a:lnTo>
                    <a:pt x="387644" y="2075966"/>
                  </a:lnTo>
                  <a:lnTo>
                    <a:pt x="370582" y="2074666"/>
                  </a:lnTo>
                  <a:lnTo>
                    <a:pt x="369630" y="2064585"/>
                  </a:lnTo>
                  <a:lnTo>
                    <a:pt x="207054" y="2046233"/>
                  </a:lnTo>
                  <a:cubicBezTo>
                    <a:pt x="205395" y="2030705"/>
                    <a:pt x="204627" y="2015170"/>
                    <a:pt x="205761" y="1999630"/>
                  </a:cubicBezTo>
                  <a:lnTo>
                    <a:pt x="374373" y="1980594"/>
                  </a:lnTo>
                  <a:cubicBezTo>
                    <a:pt x="374049" y="1971190"/>
                    <a:pt x="375161" y="1961863"/>
                    <a:pt x="378469" y="1952638"/>
                  </a:cubicBezTo>
                  <a:lnTo>
                    <a:pt x="475755" y="1940304"/>
                  </a:lnTo>
                  <a:lnTo>
                    <a:pt x="351268" y="1918286"/>
                  </a:lnTo>
                  <a:lnTo>
                    <a:pt x="352651" y="1875615"/>
                  </a:lnTo>
                  <a:lnTo>
                    <a:pt x="302859" y="1865667"/>
                  </a:lnTo>
                  <a:lnTo>
                    <a:pt x="352732" y="1859760"/>
                  </a:lnTo>
                  <a:lnTo>
                    <a:pt x="215108" y="1822862"/>
                  </a:lnTo>
                  <a:lnTo>
                    <a:pt x="220080" y="1780277"/>
                  </a:lnTo>
                  <a:lnTo>
                    <a:pt x="377231" y="1785495"/>
                  </a:lnTo>
                  <a:cubicBezTo>
                    <a:pt x="375768" y="1774495"/>
                    <a:pt x="378298" y="1763998"/>
                    <a:pt x="381492" y="1753607"/>
                  </a:cubicBezTo>
                  <a:lnTo>
                    <a:pt x="410978" y="1753116"/>
                  </a:lnTo>
                  <a:cubicBezTo>
                    <a:pt x="410704" y="1741168"/>
                    <a:pt x="414464" y="1729995"/>
                    <a:pt x="419013" y="1719019"/>
                  </a:cubicBezTo>
                  <a:lnTo>
                    <a:pt x="526758" y="1724394"/>
                  </a:lnTo>
                  <a:lnTo>
                    <a:pt x="383323" y="1671996"/>
                  </a:lnTo>
                  <a:lnTo>
                    <a:pt x="389047" y="1650200"/>
                  </a:lnTo>
                  <a:lnTo>
                    <a:pt x="269036" y="1596495"/>
                  </a:lnTo>
                  <a:lnTo>
                    <a:pt x="281346" y="1562147"/>
                  </a:lnTo>
                  <a:lnTo>
                    <a:pt x="433594" y="1589840"/>
                  </a:lnTo>
                  <a:lnTo>
                    <a:pt x="427749" y="1587195"/>
                  </a:lnTo>
                  <a:cubicBezTo>
                    <a:pt x="432532" y="1562068"/>
                    <a:pt x="441928" y="1538212"/>
                    <a:pt x="455025" y="1515588"/>
                  </a:cubicBezTo>
                  <a:lnTo>
                    <a:pt x="497894" y="1522256"/>
                  </a:lnTo>
                  <a:cubicBezTo>
                    <a:pt x="499749" y="1512615"/>
                    <a:pt x="504812" y="1504251"/>
                    <a:pt x="510346" y="1496093"/>
                  </a:cubicBezTo>
                  <a:lnTo>
                    <a:pt x="585135" y="1513434"/>
                  </a:lnTo>
                  <a:lnTo>
                    <a:pt x="475553" y="1439365"/>
                  </a:lnTo>
                  <a:lnTo>
                    <a:pt x="469821" y="1435995"/>
                  </a:lnTo>
                  <a:lnTo>
                    <a:pt x="470015" y="1435619"/>
                  </a:lnTo>
                  <a:lnTo>
                    <a:pt x="374200" y="1370855"/>
                  </a:lnTo>
                  <a:lnTo>
                    <a:pt x="388352" y="1348175"/>
                  </a:lnTo>
                  <a:lnTo>
                    <a:pt x="496294" y="1385516"/>
                  </a:lnTo>
                  <a:cubicBezTo>
                    <a:pt x="497774" y="1378519"/>
                    <a:pt x="501764" y="1372701"/>
                    <a:pt x="506007" y="1366998"/>
                  </a:cubicBezTo>
                  <a:lnTo>
                    <a:pt x="556046" y="1380018"/>
                  </a:lnTo>
                  <a:lnTo>
                    <a:pt x="481927" y="1326121"/>
                  </a:lnTo>
                  <a:lnTo>
                    <a:pt x="546590" y="1345700"/>
                  </a:lnTo>
                  <a:cubicBezTo>
                    <a:pt x="554247" y="1326980"/>
                    <a:pt x="566281" y="1310224"/>
                    <a:pt x="580597" y="1294698"/>
                  </a:cubicBezTo>
                  <a:lnTo>
                    <a:pt x="633354" y="1312662"/>
                  </a:lnTo>
                  <a:cubicBezTo>
                    <a:pt x="636679" y="1304884"/>
                    <a:pt x="642511" y="1298725"/>
                    <a:pt x="648656" y="1292783"/>
                  </a:cubicBezTo>
                  <a:lnTo>
                    <a:pt x="696405" y="1313566"/>
                  </a:lnTo>
                  <a:lnTo>
                    <a:pt x="536446" y="1152657"/>
                  </a:lnTo>
                  <a:lnTo>
                    <a:pt x="545501" y="1143086"/>
                  </a:lnTo>
                  <a:lnTo>
                    <a:pt x="631947" y="1190079"/>
                  </a:lnTo>
                  <a:cubicBezTo>
                    <a:pt x="638180" y="1177712"/>
                    <a:pt x="648043" y="1167639"/>
                    <a:pt x="658846" y="1158215"/>
                  </a:cubicBezTo>
                  <a:lnTo>
                    <a:pt x="729063" y="1190598"/>
                  </a:lnTo>
                  <a:lnTo>
                    <a:pt x="695154" y="1155472"/>
                  </a:lnTo>
                  <a:lnTo>
                    <a:pt x="700063" y="1150713"/>
                  </a:lnTo>
                  <a:lnTo>
                    <a:pt x="642318" y="1085326"/>
                  </a:lnTo>
                  <a:lnTo>
                    <a:pt x="721697" y="1129732"/>
                  </a:lnTo>
                  <a:cubicBezTo>
                    <a:pt x="729521" y="1117581"/>
                    <a:pt x="740781" y="1108018"/>
                    <a:pt x="753087" y="1099293"/>
                  </a:cubicBezTo>
                  <a:lnTo>
                    <a:pt x="810983" y="1131526"/>
                  </a:lnTo>
                  <a:cubicBezTo>
                    <a:pt x="815307" y="1125326"/>
                    <a:pt x="821540" y="1120986"/>
                    <a:pt x="827999" y="1116872"/>
                  </a:cubicBezTo>
                  <a:lnTo>
                    <a:pt x="887303" y="1157445"/>
                  </a:lnTo>
                  <a:lnTo>
                    <a:pt x="799840" y="1042504"/>
                  </a:lnTo>
                  <a:lnTo>
                    <a:pt x="798738" y="1045591"/>
                  </a:lnTo>
                  <a:lnTo>
                    <a:pt x="782398" y="1038279"/>
                  </a:lnTo>
                  <a:lnTo>
                    <a:pt x="798911" y="1041282"/>
                  </a:lnTo>
                  <a:lnTo>
                    <a:pt x="790391" y="1030086"/>
                  </a:lnTo>
                  <a:lnTo>
                    <a:pt x="802956" y="1020272"/>
                  </a:lnTo>
                  <a:lnTo>
                    <a:pt x="766428" y="962531"/>
                  </a:lnTo>
                  <a:lnTo>
                    <a:pt x="820685" y="1006424"/>
                  </a:lnTo>
                  <a:cubicBezTo>
                    <a:pt x="829811" y="995225"/>
                    <a:pt x="842011" y="986927"/>
                    <a:pt x="855113" y="979532"/>
                  </a:cubicBezTo>
                  <a:lnTo>
                    <a:pt x="927139" y="1030596"/>
                  </a:lnTo>
                  <a:lnTo>
                    <a:pt x="896243" y="981647"/>
                  </a:lnTo>
                  <a:lnTo>
                    <a:pt x="899657" y="979457"/>
                  </a:lnTo>
                  <a:lnTo>
                    <a:pt x="850250" y="890738"/>
                  </a:lnTo>
                  <a:lnTo>
                    <a:pt x="855088" y="887884"/>
                  </a:lnTo>
                  <a:lnTo>
                    <a:pt x="933399" y="957803"/>
                  </a:lnTo>
                  <a:cubicBezTo>
                    <a:pt x="942339" y="948542"/>
                    <a:pt x="953857" y="942300"/>
                    <a:pt x="966050" y="936849"/>
                  </a:cubicBezTo>
                  <a:lnTo>
                    <a:pt x="1023586" y="984957"/>
                  </a:lnTo>
                  <a:cubicBezTo>
                    <a:pt x="1028537" y="980187"/>
                    <a:pt x="1034826" y="977450"/>
                    <a:pt x="1041268" y="974937"/>
                  </a:cubicBezTo>
                  <a:lnTo>
                    <a:pt x="1075812" y="1010338"/>
                  </a:lnTo>
                  <a:lnTo>
                    <a:pt x="1012373" y="875806"/>
                  </a:lnTo>
                  <a:lnTo>
                    <a:pt x="1029918" y="866927"/>
                  </a:lnTo>
                  <a:lnTo>
                    <a:pt x="1039477" y="851606"/>
                  </a:lnTo>
                  <a:lnTo>
                    <a:pt x="1051782" y="855863"/>
                  </a:lnTo>
                  <a:lnTo>
                    <a:pt x="1065917" y="848710"/>
                  </a:lnTo>
                  <a:lnTo>
                    <a:pt x="1064579" y="844686"/>
                  </a:lnTo>
                  <a:lnTo>
                    <a:pt x="1067297" y="848010"/>
                  </a:lnTo>
                  <a:cubicBezTo>
                    <a:pt x="1073048" y="842939"/>
                    <a:pt x="1080163" y="840233"/>
                    <a:pt x="1087464" y="837805"/>
                  </a:cubicBezTo>
                  <a:lnTo>
                    <a:pt x="1127308" y="879719"/>
                  </a:lnTo>
                  <a:lnTo>
                    <a:pt x="1091604" y="763978"/>
                  </a:lnTo>
                  <a:cubicBezTo>
                    <a:pt x="1097500" y="761357"/>
                    <a:pt x="1103476" y="758866"/>
                    <a:pt x="1109803" y="756987"/>
                  </a:cubicBezTo>
                  <a:lnTo>
                    <a:pt x="1164465" y="832846"/>
                  </a:lnTo>
                  <a:cubicBezTo>
                    <a:pt x="1178355" y="823484"/>
                    <a:pt x="1194470" y="817855"/>
                    <a:pt x="1211407" y="813702"/>
                  </a:cubicBezTo>
                  <a:lnTo>
                    <a:pt x="1216829" y="820467"/>
                  </a:lnTo>
                  <a:cubicBezTo>
                    <a:pt x="1219820" y="811724"/>
                    <a:pt x="1225560" y="804813"/>
                    <a:pt x="1231723" y="798129"/>
                  </a:cubicBezTo>
                  <a:lnTo>
                    <a:pt x="1276179" y="813267"/>
                  </a:lnTo>
                  <a:lnTo>
                    <a:pt x="1264818" y="762969"/>
                  </a:lnTo>
                  <a:lnTo>
                    <a:pt x="1287217" y="756325"/>
                  </a:lnTo>
                  <a:lnTo>
                    <a:pt x="1187572" y="656088"/>
                  </a:lnTo>
                  <a:lnTo>
                    <a:pt x="1196627" y="646517"/>
                  </a:lnTo>
                  <a:lnTo>
                    <a:pt x="1283072" y="693510"/>
                  </a:lnTo>
                  <a:cubicBezTo>
                    <a:pt x="1289306" y="681143"/>
                    <a:pt x="1299169" y="671070"/>
                    <a:pt x="1309972" y="661646"/>
                  </a:cubicBezTo>
                  <a:lnTo>
                    <a:pt x="1347794" y="679088"/>
                  </a:lnTo>
                  <a:lnTo>
                    <a:pt x="1362003" y="675190"/>
                  </a:lnTo>
                  <a:lnTo>
                    <a:pt x="1346280" y="658903"/>
                  </a:lnTo>
                  <a:lnTo>
                    <a:pt x="1351189" y="654144"/>
                  </a:lnTo>
                  <a:lnTo>
                    <a:pt x="1293443" y="588757"/>
                  </a:lnTo>
                  <a:lnTo>
                    <a:pt x="1372823" y="633163"/>
                  </a:lnTo>
                  <a:cubicBezTo>
                    <a:pt x="1380647" y="621012"/>
                    <a:pt x="1391906" y="611449"/>
                    <a:pt x="1404212" y="602724"/>
                  </a:cubicBezTo>
                  <a:lnTo>
                    <a:pt x="1462109" y="634957"/>
                  </a:lnTo>
                  <a:cubicBezTo>
                    <a:pt x="1466433" y="628757"/>
                    <a:pt x="1472666" y="624417"/>
                    <a:pt x="1479125" y="620304"/>
                  </a:cubicBezTo>
                  <a:lnTo>
                    <a:pt x="1538429" y="660876"/>
                  </a:lnTo>
                  <a:lnTo>
                    <a:pt x="1441517" y="533517"/>
                  </a:lnTo>
                  <a:lnTo>
                    <a:pt x="1454082" y="523703"/>
                  </a:lnTo>
                  <a:lnTo>
                    <a:pt x="1417554" y="465962"/>
                  </a:lnTo>
                  <a:lnTo>
                    <a:pt x="1471811" y="509855"/>
                  </a:lnTo>
                  <a:cubicBezTo>
                    <a:pt x="1480937" y="498656"/>
                    <a:pt x="1493137" y="490358"/>
                    <a:pt x="1506239" y="482963"/>
                  </a:cubicBezTo>
                  <a:lnTo>
                    <a:pt x="1578264" y="534027"/>
                  </a:lnTo>
                  <a:lnTo>
                    <a:pt x="1547369" y="485078"/>
                  </a:lnTo>
                  <a:lnTo>
                    <a:pt x="1550783" y="482888"/>
                  </a:lnTo>
                  <a:lnTo>
                    <a:pt x="1501376" y="394169"/>
                  </a:lnTo>
                  <a:lnTo>
                    <a:pt x="1506214" y="391315"/>
                  </a:lnTo>
                  <a:lnTo>
                    <a:pt x="1584525" y="461234"/>
                  </a:lnTo>
                  <a:cubicBezTo>
                    <a:pt x="1593465" y="451973"/>
                    <a:pt x="1604982" y="445731"/>
                    <a:pt x="1617176" y="440280"/>
                  </a:cubicBezTo>
                  <a:lnTo>
                    <a:pt x="1674712" y="488388"/>
                  </a:lnTo>
                  <a:cubicBezTo>
                    <a:pt x="1679663" y="483618"/>
                    <a:pt x="1685952" y="480881"/>
                    <a:pt x="1692394" y="478368"/>
                  </a:cubicBezTo>
                  <a:lnTo>
                    <a:pt x="1726938" y="513769"/>
                  </a:lnTo>
                  <a:lnTo>
                    <a:pt x="1663499" y="379237"/>
                  </a:lnTo>
                  <a:lnTo>
                    <a:pt x="1717043" y="352141"/>
                  </a:lnTo>
                  <a:lnTo>
                    <a:pt x="1715705" y="348117"/>
                  </a:lnTo>
                  <a:lnTo>
                    <a:pt x="1718423" y="351441"/>
                  </a:lnTo>
                  <a:cubicBezTo>
                    <a:pt x="1724174" y="346370"/>
                    <a:pt x="1731289" y="343664"/>
                    <a:pt x="1738590" y="341236"/>
                  </a:cubicBezTo>
                  <a:lnTo>
                    <a:pt x="1778434" y="383150"/>
                  </a:lnTo>
                  <a:lnTo>
                    <a:pt x="1742730" y="267409"/>
                  </a:lnTo>
                  <a:cubicBezTo>
                    <a:pt x="1748626" y="264788"/>
                    <a:pt x="1754602" y="262297"/>
                    <a:pt x="1760929" y="260418"/>
                  </a:cubicBezTo>
                  <a:lnTo>
                    <a:pt x="1815591" y="336277"/>
                  </a:lnTo>
                  <a:cubicBezTo>
                    <a:pt x="1829481" y="326915"/>
                    <a:pt x="1845596" y="321286"/>
                    <a:pt x="1862533" y="317133"/>
                  </a:cubicBezTo>
                  <a:lnTo>
                    <a:pt x="1914311" y="381741"/>
                  </a:lnTo>
                  <a:cubicBezTo>
                    <a:pt x="1919536" y="378317"/>
                    <a:pt x="1925502" y="376993"/>
                    <a:pt x="1931553" y="375872"/>
                  </a:cubicBezTo>
                  <a:lnTo>
                    <a:pt x="1945684" y="398067"/>
                  </a:lnTo>
                  <a:lnTo>
                    <a:pt x="1915943" y="266400"/>
                  </a:lnTo>
                  <a:lnTo>
                    <a:pt x="1995482" y="242809"/>
                  </a:lnTo>
                  <a:lnTo>
                    <a:pt x="1989772" y="185029"/>
                  </a:lnTo>
                  <a:lnTo>
                    <a:pt x="2018863" y="177048"/>
                  </a:lnTo>
                  <a:close/>
                  <a:moveTo>
                    <a:pt x="2519378" y="0"/>
                  </a:moveTo>
                  <a:lnTo>
                    <a:pt x="2519443" y="6756"/>
                  </a:lnTo>
                  <a:lnTo>
                    <a:pt x="2517436" y="6781"/>
                  </a:lnTo>
                  <a:lnTo>
                    <a:pt x="2519378" y="0"/>
                  </a:lnTo>
                  <a:close/>
                  <a:moveTo>
                    <a:pt x="2248361" y="17353"/>
                  </a:moveTo>
                  <a:lnTo>
                    <a:pt x="2248802" y="19454"/>
                  </a:lnTo>
                  <a:lnTo>
                    <a:pt x="2248158" y="19517"/>
                  </a:lnTo>
                  <a:lnTo>
                    <a:pt x="2248361" y="17353"/>
                  </a:lnTo>
                  <a:close/>
                </a:path>
              </a:pathLst>
            </a:cu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三十二角星 75"/>
            <p:cNvSpPr/>
            <p:nvPr/>
          </p:nvSpPr>
          <p:spPr>
            <a:xfrm rot="894600">
              <a:off x="6152400" y="909000"/>
              <a:ext cx="2425680" cy="196776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1967760"/>
                <a:gd name="textAreaBottom" fmla="*/ 1968120 h 1967760"/>
              </a:gdLst>
              <a:ahLst/>
              <a:rect l="textAreaLeft" t="textAreaTop" r="textAreaRight" b="textAreaBottom"/>
              <a:pathLst>
                <a:path w="3050213" h="2919320">
                  <a:moveTo>
                    <a:pt x="1335165" y="2762749"/>
                  </a:moveTo>
                  <a:lnTo>
                    <a:pt x="1336844" y="2779976"/>
                  </a:lnTo>
                  <a:lnTo>
                    <a:pt x="1339135" y="2771951"/>
                  </a:lnTo>
                  <a:lnTo>
                    <a:pt x="1335165" y="2762749"/>
                  </a:lnTo>
                  <a:close/>
                  <a:moveTo>
                    <a:pt x="252198" y="2606480"/>
                  </a:moveTo>
                  <a:lnTo>
                    <a:pt x="252228" y="2606514"/>
                  </a:lnTo>
                  <a:lnTo>
                    <a:pt x="252103" y="2606593"/>
                  </a:lnTo>
                  <a:lnTo>
                    <a:pt x="252198" y="2606480"/>
                  </a:lnTo>
                  <a:close/>
                  <a:moveTo>
                    <a:pt x="125538" y="2440525"/>
                  </a:moveTo>
                  <a:lnTo>
                    <a:pt x="128760" y="2446174"/>
                  </a:lnTo>
                  <a:lnTo>
                    <a:pt x="107470" y="2454754"/>
                  </a:lnTo>
                  <a:lnTo>
                    <a:pt x="125538" y="2440525"/>
                  </a:lnTo>
                  <a:close/>
                  <a:moveTo>
                    <a:pt x="0" y="1514633"/>
                  </a:moveTo>
                  <a:lnTo>
                    <a:pt x="12001" y="1517176"/>
                  </a:lnTo>
                  <a:lnTo>
                    <a:pt x="11020" y="1520378"/>
                  </a:lnTo>
                  <a:lnTo>
                    <a:pt x="0" y="1514633"/>
                  </a:lnTo>
                  <a:close/>
                  <a:moveTo>
                    <a:pt x="392111" y="815805"/>
                  </a:moveTo>
                  <a:lnTo>
                    <a:pt x="404112" y="818348"/>
                  </a:lnTo>
                  <a:lnTo>
                    <a:pt x="403131" y="821550"/>
                  </a:lnTo>
                  <a:lnTo>
                    <a:pt x="392111" y="815805"/>
                  </a:lnTo>
                  <a:close/>
                  <a:moveTo>
                    <a:pt x="2029470" y="108065"/>
                  </a:moveTo>
                  <a:lnTo>
                    <a:pt x="2029513" y="113373"/>
                  </a:lnTo>
                  <a:lnTo>
                    <a:pt x="2028160" y="113393"/>
                  </a:lnTo>
                  <a:lnTo>
                    <a:pt x="2029470" y="108065"/>
                  </a:lnTo>
                  <a:close/>
                  <a:moveTo>
                    <a:pt x="1846700" y="121699"/>
                  </a:moveTo>
                  <a:lnTo>
                    <a:pt x="1846997" y="123350"/>
                  </a:lnTo>
                  <a:lnTo>
                    <a:pt x="1846563" y="123399"/>
                  </a:lnTo>
                  <a:lnTo>
                    <a:pt x="1846700" y="121699"/>
                  </a:lnTo>
                  <a:close/>
                  <a:moveTo>
                    <a:pt x="1225962" y="139111"/>
                  </a:moveTo>
                  <a:lnTo>
                    <a:pt x="1248848" y="200174"/>
                  </a:lnTo>
                  <a:lnTo>
                    <a:pt x="1272166" y="191266"/>
                  </a:lnTo>
                  <a:cubicBezTo>
                    <a:pt x="1281666" y="188705"/>
                    <a:pt x="1291171" y="186295"/>
                    <a:pt x="1301252" y="186519"/>
                  </a:cubicBezTo>
                  <a:lnTo>
                    <a:pt x="1329017" y="250853"/>
                  </a:lnTo>
                  <a:cubicBezTo>
                    <a:pt x="1332480" y="249133"/>
                    <a:pt x="1336071" y="248987"/>
                    <a:pt x="1339683" y="248971"/>
                  </a:cubicBezTo>
                  <a:lnTo>
                    <a:pt x="1340429" y="251330"/>
                  </a:lnTo>
                  <a:lnTo>
                    <a:pt x="1340545" y="156882"/>
                  </a:lnTo>
                  <a:lnTo>
                    <a:pt x="1369100" y="149491"/>
                  </a:lnTo>
                  <a:lnTo>
                    <a:pt x="1369753" y="149459"/>
                  </a:lnTo>
                  <a:lnTo>
                    <a:pt x="1373138" y="107577"/>
                  </a:lnTo>
                  <a:lnTo>
                    <a:pt x="1397129" y="104851"/>
                  </a:lnTo>
                  <a:lnTo>
                    <a:pt x="1414002" y="198706"/>
                  </a:lnTo>
                  <a:lnTo>
                    <a:pt x="1425058" y="234922"/>
                  </a:lnTo>
                  <a:lnTo>
                    <a:pt x="1426132" y="234860"/>
                  </a:lnTo>
                  <a:lnTo>
                    <a:pt x="1432170" y="165150"/>
                  </a:lnTo>
                  <a:cubicBezTo>
                    <a:pt x="1451462" y="160257"/>
                    <a:pt x="1470997" y="158971"/>
                    <a:pt x="1490538" y="160309"/>
                  </a:cubicBezTo>
                  <a:lnTo>
                    <a:pt x="1506240" y="232904"/>
                  </a:lnTo>
                  <a:lnTo>
                    <a:pt x="1539782" y="96476"/>
                  </a:lnTo>
                  <a:lnTo>
                    <a:pt x="1564293" y="96096"/>
                  </a:lnTo>
                  <a:lnTo>
                    <a:pt x="1564677" y="142650"/>
                  </a:lnTo>
                  <a:cubicBezTo>
                    <a:pt x="1573126" y="140857"/>
                    <a:pt x="1581404" y="141901"/>
                    <a:pt x="1589634" y="143423"/>
                  </a:cubicBezTo>
                  <a:lnTo>
                    <a:pt x="1599318" y="236760"/>
                  </a:lnTo>
                  <a:lnTo>
                    <a:pt x="1602781" y="236839"/>
                  </a:lnTo>
                  <a:lnTo>
                    <a:pt x="1623263" y="165770"/>
                  </a:lnTo>
                  <a:lnTo>
                    <a:pt x="1680494" y="172494"/>
                  </a:lnTo>
                  <a:lnTo>
                    <a:pt x="1706542" y="111040"/>
                  </a:lnTo>
                  <a:lnTo>
                    <a:pt x="1727892" y="114868"/>
                  </a:lnTo>
                  <a:lnTo>
                    <a:pt x="1719760" y="167143"/>
                  </a:lnTo>
                  <a:lnTo>
                    <a:pt x="1721032" y="164032"/>
                  </a:lnTo>
                  <a:cubicBezTo>
                    <a:pt x="1740829" y="165378"/>
                    <a:pt x="1759828" y="170217"/>
                    <a:pt x="1778104" y="177500"/>
                  </a:cubicBezTo>
                  <a:lnTo>
                    <a:pt x="1769131" y="277720"/>
                  </a:lnTo>
                  <a:lnTo>
                    <a:pt x="1772220" y="278721"/>
                  </a:lnTo>
                  <a:lnTo>
                    <a:pt x="1810579" y="204174"/>
                  </a:lnTo>
                  <a:lnTo>
                    <a:pt x="1835884" y="212649"/>
                  </a:lnTo>
                  <a:lnTo>
                    <a:pt x="1874470" y="151684"/>
                  </a:lnTo>
                  <a:lnTo>
                    <a:pt x="1888560" y="157116"/>
                  </a:lnTo>
                  <a:lnTo>
                    <a:pt x="1865715" y="227477"/>
                  </a:lnTo>
                  <a:lnTo>
                    <a:pt x="1873228" y="269269"/>
                  </a:lnTo>
                  <a:lnTo>
                    <a:pt x="1903142" y="223842"/>
                  </a:lnTo>
                  <a:cubicBezTo>
                    <a:pt x="1922187" y="229334"/>
                    <a:pt x="1939910" y="237867"/>
                    <a:pt x="1956399" y="248818"/>
                  </a:cubicBezTo>
                  <a:lnTo>
                    <a:pt x="1950581" y="268865"/>
                  </a:lnTo>
                  <a:cubicBezTo>
                    <a:pt x="1952578" y="268131"/>
                    <a:pt x="1954542" y="268239"/>
                    <a:pt x="1956507" y="268374"/>
                  </a:cubicBezTo>
                  <a:lnTo>
                    <a:pt x="1964799" y="306713"/>
                  </a:lnTo>
                  <a:lnTo>
                    <a:pt x="1986951" y="278788"/>
                  </a:lnTo>
                  <a:lnTo>
                    <a:pt x="1987427" y="279067"/>
                  </a:lnTo>
                  <a:lnTo>
                    <a:pt x="2005750" y="204541"/>
                  </a:lnTo>
                  <a:lnTo>
                    <a:pt x="2030261" y="204162"/>
                  </a:lnTo>
                  <a:lnTo>
                    <a:pt x="2030531" y="236850"/>
                  </a:lnTo>
                  <a:lnTo>
                    <a:pt x="2041617" y="224597"/>
                  </a:lnTo>
                  <a:lnTo>
                    <a:pt x="2046065" y="226819"/>
                  </a:lnTo>
                  <a:lnTo>
                    <a:pt x="2033731" y="250811"/>
                  </a:lnTo>
                  <a:cubicBezTo>
                    <a:pt x="2041058" y="249177"/>
                    <a:pt x="2048349" y="250147"/>
                    <a:pt x="2055602" y="251488"/>
                  </a:cubicBezTo>
                  <a:lnTo>
                    <a:pt x="2063319" y="325858"/>
                  </a:lnTo>
                  <a:lnTo>
                    <a:pt x="2070435" y="318641"/>
                  </a:lnTo>
                  <a:lnTo>
                    <a:pt x="2075270" y="322282"/>
                  </a:lnTo>
                  <a:lnTo>
                    <a:pt x="2089232" y="273836"/>
                  </a:lnTo>
                  <a:lnTo>
                    <a:pt x="2146462" y="280560"/>
                  </a:lnTo>
                  <a:lnTo>
                    <a:pt x="2172511" y="219105"/>
                  </a:lnTo>
                  <a:lnTo>
                    <a:pt x="2193860" y="222933"/>
                  </a:lnTo>
                  <a:lnTo>
                    <a:pt x="2185728" y="275208"/>
                  </a:lnTo>
                  <a:lnTo>
                    <a:pt x="2187000" y="272097"/>
                  </a:lnTo>
                  <a:cubicBezTo>
                    <a:pt x="2206797" y="273443"/>
                    <a:pt x="2225797" y="278282"/>
                    <a:pt x="2244072" y="285566"/>
                  </a:cubicBezTo>
                  <a:lnTo>
                    <a:pt x="2235100" y="385786"/>
                  </a:lnTo>
                  <a:lnTo>
                    <a:pt x="2238189" y="386786"/>
                  </a:lnTo>
                  <a:lnTo>
                    <a:pt x="2276547" y="312239"/>
                  </a:lnTo>
                  <a:lnTo>
                    <a:pt x="2301852" y="320715"/>
                  </a:lnTo>
                  <a:lnTo>
                    <a:pt x="2340439" y="259749"/>
                  </a:lnTo>
                  <a:lnTo>
                    <a:pt x="2354528" y="265181"/>
                  </a:lnTo>
                  <a:lnTo>
                    <a:pt x="2330856" y="338089"/>
                  </a:lnTo>
                  <a:lnTo>
                    <a:pt x="2318295" y="409076"/>
                  </a:lnTo>
                  <a:lnTo>
                    <a:pt x="2369111" y="331907"/>
                  </a:lnTo>
                  <a:cubicBezTo>
                    <a:pt x="2388156" y="337399"/>
                    <a:pt x="2405878" y="345932"/>
                    <a:pt x="2422367" y="356883"/>
                  </a:cubicBezTo>
                  <a:lnTo>
                    <a:pt x="2393373" y="456800"/>
                  </a:lnTo>
                  <a:lnTo>
                    <a:pt x="2394632" y="457517"/>
                  </a:lnTo>
                  <a:lnTo>
                    <a:pt x="2412743" y="437499"/>
                  </a:lnTo>
                  <a:lnTo>
                    <a:pt x="2452920" y="386853"/>
                  </a:lnTo>
                  <a:lnTo>
                    <a:pt x="2456604" y="389015"/>
                  </a:lnTo>
                  <a:lnTo>
                    <a:pt x="2507585" y="332662"/>
                  </a:lnTo>
                  <a:lnTo>
                    <a:pt x="2512034" y="334884"/>
                  </a:lnTo>
                  <a:lnTo>
                    <a:pt x="2477813" y="401449"/>
                  </a:lnTo>
                  <a:cubicBezTo>
                    <a:pt x="2487538" y="404530"/>
                    <a:pt x="2495774" y="410221"/>
                    <a:pt x="2503608" y="416573"/>
                  </a:cubicBezTo>
                  <a:lnTo>
                    <a:pt x="2475931" y="488040"/>
                  </a:lnTo>
                  <a:lnTo>
                    <a:pt x="2536403" y="426706"/>
                  </a:lnTo>
                  <a:cubicBezTo>
                    <a:pt x="2553861" y="436111"/>
                    <a:pt x="2569633" y="447990"/>
                    <a:pt x="2583582" y="462235"/>
                  </a:cubicBezTo>
                  <a:lnTo>
                    <a:pt x="2576238" y="476466"/>
                  </a:lnTo>
                  <a:lnTo>
                    <a:pt x="2578658" y="474185"/>
                  </a:lnTo>
                  <a:lnTo>
                    <a:pt x="2553539" y="520447"/>
                  </a:lnTo>
                  <a:lnTo>
                    <a:pt x="2543325" y="540239"/>
                  </a:lnTo>
                  <a:lnTo>
                    <a:pt x="2644148" y="463176"/>
                  </a:lnTo>
                  <a:lnTo>
                    <a:pt x="2616980" y="499570"/>
                  </a:lnTo>
                  <a:cubicBezTo>
                    <a:pt x="2631580" y="508913"/>
                    <a:pt x="2644292" y="520671"/>
                    <a:pt x="2655295" y="534315"/>
                  </a:cubicBezTo>
                  <a:lnTo>
                    <a:pt x="2614328" y="599021"/>
                  </a:lnTo>
                  <a:lnTo>
                    <a:pt x="2682571" y="552830"/>
                  </a:lnTo>
                  <a:cubicBezTo>
                    <a:pt x="2697686" y="565684"/>
                    <a:pt x="2710894" y="580442"/>
                    <a:pt x="2721643" y="597384"/>
                  </a:cubicBezTo>
                  <a:lnTo>
                    <a:pt x="2685659" y="642646"/>
                  </a:lnTo>
                  <a:lnTo>
                    <a:pt x="2754895" y="598796"/>
                  </a:lnTo>
                  <a:lnTo>
                    <a:pt x="2709947" y="651476"/>
                  </a:lnTo>
                  <a:lnTo>
                    <a:pt x="2723727" y="644737"/>
                  </a:lnTo>
                  <a:lnTo>
                    <a:pt x="2746618" y="632033"/>
                  </a:lnTo>
                  <a:cubicBezTo>
                    <a:pt x="2760429" y="646115"/>
                    <a:pt x="2772324" y="661837"/>
                    <a:pt x="2781395" y="679682"/>
                  </a:cubicBezTo>
                  <a:lnTo>
                    <a:pt x="2726939" y="736953"/>
                  </a:lnTo>
                  <a:lnTo>
                    <a:pt x="2801849" y="705608"/>
                  </a:lnTo>
                  <a:cubicBezTo>
                    <a:pt x="2814053" y="721277"/>
                    <a:pt x="2824173" y="738370"/>
                    <a:pt x="2831256" y="757265"/>
                  </a:cubicBezTo>
                  <a:lnTo>
                    <a:pt x="2784152" y="797137"/>
                  </a:lnTo>
                  <a:lnTo>
                    <a:pt x="2899527" y="750634"/>
                  </a:lnTo>
                  <a:lnTo>
                    <a:pt x="2840327" y="797257"/>
                  </a:lnTo>
                  <a:lnTo>
                    <a:pt x="2852104" y="793502"/>
                  </a:lnTo>
                  <a:cubicBezTo>
                    <a:pt x="2862970" y="809997"/>
                    <a:pt x="2871587" y="827791"/>
                    <a:pt x="2876991" y="847160"/>
                  </a:cubicBezTo>
                  <a:lnTo>
                    <a:pt x="2808687" y="895295"/>
                  </a:lnTo>
                  <a:lnTo>
                    <a:pt x="2889212" y="879250"/>
                  </a:lnTo>
                  <a:cubicBezTo>
                    <a:pt x="2898225" y="896997"/>
                    <a:pt x="2904863" y="915790"/>
                    <a:pt x="2908131" y="935795"/>
                  </a:cubicBezTo>
                  <a:lnTo>
                    <a:pt x="2881583" y="950450"/>
                  </a:lnTo>
                  <a:lnTo>
                    <a:pt x="3002766" y="924767"/>
                  </a:lnTo>
                  <a:lnTo>
                    <a:pt x="3003128" y="925889"/>
                  </a:lnTo>
                  <a:lnTo>
                    <a:pt x="2910418" y="974224"/>
                  </a:lnTo>
                  <a:lnTo>
                    <a:pt x="2923806" y="972743"/>
                  </a:lnTo>
                  <a:lnTo>
                    <a:pt x="2934207" y="1000642"/>
                  </a:lnTo>
                  <a:cubicBezTo>
                    <a:pt x="2936737" y="1010257"/>
                    <a:pt x="2939120" y="1019876"/>
                    <a:pt x="2938896" y="1030081"/>
                  </a:cubicBezTo>
                  <a:lnTo>
                    <a:pt x="2856438" y="1066541"/>
                  </a:lnTo>
                  <a:lnTo>
                    <a:pt x="2941047" y="1066825"/>
                  </a:lnTo>
                  <a:lnTo>
                    <a:pt x="2948361" y="1095935"/>
                  </a:lnTo>
                  <a:lnTo>
                    <a:pt x="2949371" y="1116623"/>
                  </a:lnTo>
                  <a:lnTo>
                    <a:pt x="3044279" y="1112952"/>
                  </a:lnTo>
                  <a:lnTo>
                    <a:pt x="3045083" y="1120612"/>
                  </a:lnTo>
                  <a:lnTo>
                    <a:pt x="2921606" y="1159184"/>
                  </a:lnTo>
                  <a:lnTo>
                    <a:pt x="2960009" y="1162594"/>
                  </a:lnTo>
                  <a:cubicBezTo>
                    <a:pt x="2964842" y="1182120"/>
                    <a:pt x="2966114" y="1201893"/>
                    <a:pt x="2964792" y="1221673"/>
                  </a:cubicBezTo>
                  <a:lnTo>
                    <a:pt x="2868869" y="1242926"/>
                  </a:lnTo>
                  <a:lnTo>
                    <a:pt x="2956427" y="1260969"/>
                  </a:lnTo>
                  <a:lnTo>
                    <a:pt x="2955647" y="1288916"/>
                  </a:lnTo>
                  <a:lnTo>
                    <a:pt x="3050213" y="1301353"/>
                  </a:lnTo>
                  <a:lnTo>
                    <a:pt x="3049002" y="1313432"/>
                  </a:lnTo>
                  <a:lnTo>
                    <a:pt x="2887238" y="1334709"/>
                  </a:lnTo>
                  <a:lnTo>
                    <a:pt x="2959397" y="1356015"/>
                  </a:lnTo>
                  <a:cubicBezTo>
                    <a:pt x="2960298" y="1376063"/>
                    <a:pt x="2957708" y="1395691"/>
                    <a:pt x="2952650" y="1414859"/>
                  </a:cubicBezTo>
                  <a:lnTo>
                    <a:pt x="2846533" y="1416917"/>
                  </a:lnTo>
                  <a:lnTo>
                    <a:pt x="2934807" y="1454487"/>
                  </a:lnTo>
                  <a:lnTo>
                    <a:pt x="2933735" y="1459232"/>
                  </a:lnTo>
                  <a:lnTo>
                    <a:pt x="3021543" y="1486661"/>
                  </a:lnTo>
                  <a:cubicBezTo>
                    <a:pt x="3020409" y="1491388"/>
                    <a:pt x="3019182" y="1496089"/>
                    <a:pt x="3017376" y="1500634"/>
                  </a:cubicBezTo>
                  <a:lnTo>
                    <a:pt x="2925205" y="1497068"/>
                  </a:lnTo>
                  <a:cubicBezTo>
                    <a:pt x="2925321" y="1502645"/>
                    <a:pt x="2923597" y="1507654"/>
                    <a:pt x="2921700" y="1512613"/>
                  </a:cubicBezTo>
                  <a:lnTo>
                    <a:pt x="2845042" y="1505327"/>
                  </a:lnTo>
                  <a:lnTo>
                    <a:pt x="2921456" y="1545613"/>
                  </a:lnTo>
                  <a:cubicBezTo>
                    <a:pt x="2918230" y="1565358"/>
                    <a:pt x="2911895" y="1584104"/>
                    <a:pt x="2903060" y="1601877"/>
                  </a:cubicBezTo>
                  <a:lnTo>
                    <a:pt x="2801058" y="1583387"/>
                  </a:lnTo>
                  <a:lnTo>
                    <a:pt x="2957940" y="1665179"/>
                  </a:lnTo>
                  <a:cubicBezTo>
                    <a:pt x="2956385" y="1670009"/>
                    <a:pt x="2954251" y="1674575"/>
                    <a:pt x="2952058" y="1679113"/>
                  </a:cubicBezTo>
                  <a:lnTo>
                    <a:pt x="2866952" y="1661076"/>
                  </a:lnTo>
                  <a:cubicBezTo>
                    <a:pt x="2864287" y="1673135"/>
                    <a:pt x="2858624" y="1683870"/>
                    <a:pt x="2852069" y="1694131"/>
                  </a:cubicBezTo>
                  <a:lnTo>
                    <a:pt x="2786289" y="1674188"/>
                  </a:lnTo>
                  <a:lnTo>
                    <a:pt x="2847739" y="1724133"/>
                  </a:lnTo>
                  <a:lnTo>
                    <a:pt x="2840176" y="1737347"/>
                  </a:lnTo>
                  <a:lnTo>
                    <a:pt x="2871874" y="1736121"/>
                  </a:lnTo>
                  <a:lnTo>
                    <a:pt x="2872678" y="1743781"/>
                  </a:lnTo>
                  <a:lnTo>
                    <a:pt x="2828617" y="1757545"/>
                  </a:lnTo>
                  <a:cubicBezTo>
                    <a:pt x="2826646" y="1764416"/>
                    <a:pt x="2822663" y="1770021"/>
                    <a:pt x="2818377" y="1775437"/>
                  </a:cubicBezTo>
                  <a:lnTo>
                    <a:pt x="2797657" y="1767216"/>
                  </a:lnTo>
                  <a:lnTo>
                    <a:pt x="2782611" y="1771916"/>
                  </a:lnTo>
                  <a:lnTo>
                    <a:pt x="2860866" y="1833544"/>
                  </a:lnTo>
                  <a:lnTo>
                    <a:pt x="2853068" y="1845266"/>
                  </a:lnTo>
                  <a:lnTo>
                    <a:pt x="2790375" y="1819999"/>
                  </a:lnTo>
                  <a:cubicBezTo>
                    <a:pt x="2793040" y="1828189"/>
                    <a:pt x="2792943" y="1836515"/>
                    <a:pt x="2792387" y="1844843"/>
                  </a:cubicBezTo>
                  <a:lnTo>
                    <a:pt x="2752212" y="1853743"/>
                  </a:lnTo>
                  <a:cubicBezTo>
                    <a:pt x="2751525" y="1855575"/>
                    <a:pt x="2750272" y="1856884"/>
                    <a:pt x="2749000" y="1858177"/>
                  </a:cubicBezTo>
                  <a:lnTo>
                    <a:pt x="2744095" y="1855542"/>
                  </a:lnTo>
                  <a:lnTo>
                    <a:pt x="2721078" y="1860641"/>
                  </a:lnTo>
                  <a:lnTo>
                    <a:pt x="2731596" y="1873334"/>
                  </a:lnTo>
                  <a:lnTo>
                    <a:pt x="2784021" y="1884138"/>
                  </a:lnTo>
                  <a:lnTo>
                    <a:pt x="2783241" y="1912085"/>
                  </a:lnTo>
                  <a:lnTo>
                    <a:pt x="2877807" y="1924522"/>
                  </a:lnTo>
                  <a:lnTo>
                    <a:pt x="2876596" y="1936601"/>
                  </a:lnTo>
                  <a:lnTo>
                    <a:pt x="2714833" y="1957878"/>
                  </a:lnTo>
                  <a:lnTo>
                    <a:pt x="2786992" y="1979184"/>
                  </a:lnTo>
                  <a:cubicBezTo>
                    <a:pt x="2787892" y="1999232"/>
                    <a:pt x="2785303" y="2018860"/>
                    <a:pt x="2780245" y="2038028"/>
                  </a:cubicBezTo>
                  <a:lnTo>
                    <a:pt x="2674128" y="2040086"/>
                  </a:lnTo>
                  <a:lnTo>
                    <a:pt x="2762401" y="2077656"/>
                  </a:lnTo>
                  <a:lnTo>
                    <a:pt x="2761329" y="2082402"/>
                  </a:lnTo>
                  <a:lnTo>
                    <a:pt x="2849137" y="2109830"/>
                  </a:lnTo>
                  <a:cubicBezTo>
                    <a:pt x="2848004" y="2114557"/>
                    <a:pt x="2846777" y="2119259"/>
                    <a:pt x="2844970" y="2123803"/>
                  </a:cubicBezTo>
                  <a:lnTo>
                    <a:pt x="2752799" y="2120237"/>
                  </a:lnTo>
                  <a:cubicBezTo>
                    <a:pt x="2752916" y="2125815"/>
                    <a:pt x="2751191" y="2130823"/>
                    <a:pt x="2749295" y="2135782"/>
                  </a:cubicBezTo>
                  <a:lnTo>
                    <a:pt x="2672637" y="2128496"/>
                  </a:lnTo>
                  <a:lnTo>
                    <a:pt x="2749050" y="2168782"/>
                  </a:lnTo>
                  <a:cubicBezTo>
                    <a:pt x="2745824" y="2188527"/>
                    <a:pt x="2739489" y="2207273"/>
                    <a:pt x="2730655" y="2225046"/>
                  </a:cubicBezTo>
                  <a:lnTo>
                    <a:pt x="2628653" y="2206556"/>
                  </a:lnTo>
                  <a:lnTo>
                    <a:pt x="2785535" y="2288348"/>
                  </a:lnTo>
                  <a:cubicBezTo>
                    <a:pt x="2783980" y="2293179"/>
                    <a:pt x="2781845" y="2297744"/>
                    <a:pt x="2779653" y="2302282"/>
                  </a:cubicBezTo>
                  <a:lnTo>
                    <a:pt x="2694546" y="2284245"/>
                  </a:lnTo>
                  <a:cubicBezTo>
                    <a:pt x="2691881" y="2296304"/>
                    <a:pt x="2686218" y="2307039"/>
                    <a:pt x="2679664" y="2317300"/>
                  </a:cubicBezTo>
                  <a:lnTo>
                    <a:pt x="2613883" y="2297357"/>
                  </a:lnTo>
                  <a:lnTo>
                    <a:pt x="2675333" y="2347302"/>
                  </a:lnTo>
                  <a:cubicBezTo>
                    <a:pt x="2668116" y="2365878"/>
                    <a:pt x="2658301" y="2383028"/>
                    <a:pt x="2645972" y="2398606"/>
                  </a:cubicBezTo>
                  <a:lnTo>
                    <a:pt x="2582902" y="2373583"/>
                  </a:lnTo>
                  <a:lnTo>
                    <a:pt x="2688461" y="2456713"/>
                  </a:lnTo>
                  <a:lnTo>
                    <a:pt x="2680662" y="2468436"/>
                  </a:lnTo>
                  <a:lnTo>
                    <a:pt x="2607354" y="2438890"/>
                  </a:lnTo>
                  <a:cubicBezTo>
                    <a:pt x="2599500" y="2454739"/>
                    <a:pt x="2588961" y="2468775"/>
                    <a:pt x="2576594" y="2481346"/>
                  </a:cubicBezTo>
                  <a:lnTo>
                    <a:pt x="2522585" y="2452328"/>
                  </a:lnTo>
                  <a:lnTo>
                    <a:pt x="2568717" y="2507999"/>
                  </a:lnTo>
                  <a:cubicBezTo>
                    <a:pt x="2557876" y="2524598"/>
                    <a:pt x="2544963" y="2539487"/>
                    <a:pt x="2529647" y="2552143"/>
                  </a:cubicBezTo>
                  <a:lnTo>
                    <a:pt x="2482021" y="2521250"/>
                  </a:lnTo>
                  <a:lnTo>
                    <a:pt x="2557607" y="2609838"/>
                  </a:lnTo>
                  <a:lnTo>
                    <a:pt x="2549483" y="2618095"/>
                  </a:lnTo>
                  <a:lnTo>
                    <a:pt x="2484603" y="2577004"/>
                  </a:lnTo>
                  <a:lnTo>
                    <a:pt x="2487879" y="2582020"/>
                  </a:lnTo>
                  <a:cubicBezTo>
                    <a:pt x="2475298" y="2597395"/>
                    <a:pt x="2460838" y="2610824"/>
                    <a:pt x="2444232" y="2621743"/>
                  </a:cubicBezTo>
                  <a:lnTo>
                    <a:pt x="2401704" y="2586613"/>
                  </a:lnTo>
                  <a:lnTo>
                    <a:pt x="2433103" y="2644579"/>
                  </a:lnTo>
                  <a:cubicBezTo>
                    <a:pt x="2419191" y="2658556"/>
                    <a:pt x="2403661" y="2670595"/>
                    <a:pt x="2386029" y="2679777"/>
                  </a:cubicBezTo>
                  <a:lnTo>
                    <a:pt x="2334402" y="2629482"/>
                  </a:lnTo>
                  <a:lnTo>
                    <a:pt x="2338323" y="2636976"/>
                  </a:lnTo>
                  <a:lnTo>
                    <a:pt x="2337745" y="2637439"/>
                  </a:lnTo>
                  <a:lnTo>
                    <a:pt x="2393775" y="2740630"/>
                  </a:lnTo>
                  <a:lnTo>
                    <a:pt x="2386890" y="2745360"/>
                  </a:lnTo>
                  <a:lnTo>
                    <a:pt x="2335695" y="2697106"/>
                  </a:lnTo>
                  <a:lnTo>
                    <a:pt x="2338179" y="2703243"/>
                  </a:lnTo>
                  <a:cubicBezTo>
                    <a:pt x="2322825" y="2715648"/>
                    <a:pt x="2306071" y="2725923"/>
                    <a:pt x="2287542" y="2733102"/>
                  </a:cubicBezTo>
                  <a:lnTo>
                    <a:pt x="2255786" y="2694184"/>
                  </a:lnTo>
                  <a:lnTo>
                    <a:pt x="2273578" y="2751348"/>
                  </a:lnTo>
                  <a:cubicBezTo>
                    <a:pt x="2257284" y="2762347"/>
                    <a:pt x="2239706" y="2771069"/>
                    <a:pt x="2220563" y="2776538"/>
                  </a:cubicBezTo>
                  <a:lnTo>
                    <a:pt x="2182807" y="2721645"/>
                  </a:lnTo>
                  <a:lnTo>
                    <a:pt x="2188604" y="2741189"/>
                  </a:lnTo>
                  <a:lnTo>
                    <a:pt x="2174400" y="2748379"/>
                  </a:lnTo>
                  <a:lnTo>
                    <a:pt x="2200709" y="2840528"/>
                  </a:lnTo>
                  <a:lnTo>
                    <a:pt x="2195694" y="2842693"/>
                  </a:lnTo>
                  <a:lnTo>
                    <a:pt x="2161568" y="2794104"/>
                  </a:lnTo>
                  <a:cubicBezTo>
                    <a:pt x="2146327" y="2802537"/>
                    <a:pt x="2129873" y="2808150"/>
                    <a:pt x="2112478" y="2811068"/>
                  </a:cubicBezTo>
                  <a:lnTo>
                    <a:pt x="2097287" y="2782574"/>
                  </a:lnTo>
                  <a:lnTo>
                    <a:pt x="2092246" y="2784572"/>
                  </a:lnTo>
                  <a:lnTo>
                    <a:pt x="2096495" y="2823924"/>
                  </a:lnTo>
                  <a:lnTo>
                    <a:pt x="2068930" y="2834452"/>
                  </a:lnTo>
                  <a:cubicBezTo>
                    <a:pt x="2059431" y="2837012"/>
                    <a:pt x="2049929" y="2839424"/>
                    <a:pt x="2039845" y="2839198"/>
                  </a:cubicBezTo>
                  <a:lnTo>
                    <a:pt x="2020838" y="2795155"/>
                  </a:lnTo>
                  <a:lnTo>
                    <a:pt x="2022622" y="2813451"/>
                  </a:lnTo>
                  <a:lnTo>
                    <a:pt x="1983971" y="2823784"/>
                  </a:lnTo>
                  <a:lnTo>
                    <a:pt x="1983944" y="2844337"/>
                  </a:lnTo>
                  <a:lnTo>
                    <a:pt x="1983436" y="2844468"/>
                  </a:lnTo>
                  <a:lnTo>
                    <a:pt x="1986423" y="2901754"/>
                  </a:lnTo>
                  <a:lnTo>
                    <a:pt x="1982543" y="2902587"/>
                  </a:lnTo>
                  <a:lnTo>
                    <a:pt x="1960575" y="2850387"/>
                  </a:lnTo>
                  <a:lnTo>
                    <a:pt x="1955389" y="2851730"/>
                  </a:lnTo>
                  <a:lnTo>
                    <a:pt x="1953556" y="2851819"/>
                  </a:lnTo>
                  <a:lnTo>
                    <a:pt x="1957064" y="2893159"/>
                  </a:lnTo>
                  <a:lnTo>
                    <a:pt x="1941783" y="2852392"/>
                  </a:lnTo>
                  <a:cubicBezTo>
                    <a:pt x="1936612" y="2853859"/>
                    <a:pt x="1931322" y="2853900"/>
                    <a:pt x="1925948" y="2853161"/>
                  </a:cubicBezTo>
                  <a:lnTo>
                    <a:pt x="1921828" y="2839662"/>
                  </a:lnTo>
                  <a:lnTo>
                    <a:pt x="1910568" y="2841649"/>
                  </a:lnTo>
                  <a:lnTo>
                    <a:pt x="1908930" y="2860568"/>
                  </a:lnTo>
                  <a:cubicBezTo>
                    <a:pt x="1889637" y="2865460"/>
                    <a:pt x="1870101" y="2866744"/>
                    <a:pt x="1850560" y="2865411"/>
                  </a:cubicBezTo>
                  <a:lnTo>
                    <a:pt x="1846963" y="2848773"/>
                  </a:lnTo>
                  <a:lnTo>
                    <a:pt x="1846799" y="2850542"/>
                  </a:lnTo>
                  <a:lnTo>
                    <a:pt x="1794620" y="2853571"/>
                  </a:lnTo>
                  <a:lnTo>
                    <a:pt x="1793432" y="2859611"/>
                  </a:lnTo>
                  <a:lnTo>
                    <a:pt x="1783509" y="2859304"/>
                  </a:lnTo>
                  <a:lnTo>
                    <a:pt x="1778684" y="2918996"/>
                  </a:lnTo>
                  <a:lnTo>
                    <a:pt x="1770850" y="2919118"/>
                  </a:lnTo>
                  <a:lnTo>
                    <a:pt x="1766646" y="2895724"/>
                  </a:lnTo>
                  <a:lnTo>
                    <a:pt x="1762477" y="2919247"/>
                  </a:lnTo>
                  <a:lnTo>
                    <a:pt x="1757801" y="2919320"/>
                  </a:lnTo>
                  <a:lnTo>
                    <a:pt x="1747230" y="2859660"/>
                  </a:lnTo>
                  <a:lnTo>
                    <a:pt x="1728164" y="2861451"/>
                  </a:lnTo>
                  <a:cubicBezTo>
                    <a:pt x="1719040" y="2861349"/>
                    <a:pt x="1709955" y="2861109"/>
                    <a:pt x="1701047" y="2858282"/>
                  </a:cubicBezTo>
                  <a:lnTo>
                    <a:pt x="1701011" y="2857972"/>
                  </a:lnTo>
                  <a:cubicBezTo>
                    <a:pt x="1686954" y="2859152"/>
                    <a:pt x="1673212" y="2856771"/>
                    <a:pt x="1659698" y="2853118"/>
                  </a:cubicBezTo>
                  <a:lnTo>
                    <a:pt x="1659653" y="2850674"/>
                  </a:lnTo>
                  <a:lnTo>
                    <a:pt x="1640667" y="2850239"/>
                  </a:lnTo>
                  <a:lnTo>
                    <a:pt x="1622219" y="2845877"/>
                  </a:lnTo>
                  <a:lnTo>
                    <a:pt x="1608138" y="2903150"/>
                  </a:lnTo>
                  <a:lnTo>
                    <a:pt x="1592965" y="2900429"/>
                  </a:lnTo>
                  <a:lnTo>
                    <a:pt x="1592423" y="2834585"/>
                  </a:lnTo>
                  <a:lnTo>
                    <a:pt x="1583368" y="2832449"/>
                  </a:lnTo>
                  <a:lnTo>
                    <a:pt x="1578996" y="2844028"/>
                  </a:lnTo>
                  <a:lnTo>
                    <a:pt x="1563661" y="2840949"/>
                  </a:lnTo>
                  <a:lnTo>
                    <a:pt x="1542689" y="2890787"/>
                  </a:lnTo>
                  <a:lnTo>
                    <a:pt x="1534533" y="2888503"/>
                  </a:lnTo>
                  <a:lnTo>
                    <a:pt x="1537287" y="2835652"/>
                  </a:lnTo>
                  <a:cubicBezTo>
                    <a:pt x="1533154" y="2835943"/>
                    <a:pt x="1529465" y="2834701"/>
                    <a:pt x="1525810" y="2833348"/>
                  </a:cubicBezTo>
                  <a:lnTo>
                    <a:pt x="1526752" y="2820284"/>
                  </a:lnTo>
                  <a:lnTo>
                    <a:pt x="1496247" y="2810065"/>
                  </a:lnTo>
                  <a:lnTo>
                    <a:pt x="1493510" y="2815454"/>
                  </a:lnTo>
                  <a:lnTo>
                    <a:pt x="1469161" y="2807560"/>
                  </a:lnTo>
                  <a:lnTo>
                    <a:pt x="1445594" y="2863162"/>
                  </a:lnTo>
                  <a:lnTo>
                    <a:pt x="1427783" y="2856294"/>
                  </a:lnTo>
                  <a:lnTo>
                    <a:pt x="1440599" y="2773895"/>
                  </a:lnTo>
                  <a:cubicBezTo>
                    <a:pt x="1436377" y="2776837"/>
                    <a:pt x="1431627" y="2777853"/>
                    <a:pt x="1426804" y="2778662"/>
                  </a:cubicBezTo>
                  <a:lnTo>
                    <a:pt x="1423985" y="2773375"/>
                  </a:lnTo>
                  <a:lnTo>
                    <a:pt x="1421347" y="2777382"/>
                  </a:lnTo>
                  <a:lnTo>
                    <a:pt x="1419751" y="2776634"/>
                  </a:lnTo>
                  <a:lnTo>
                    <a:pt x="1410794" y="2791265"/>
                  </a:lnTo>
                  <a:lnTo>
                    <a:pt x="1410821" y="2791518"/>
                  </a:lnTo>
                  <a:lnTo>
                    <a:pt x="1410583" y="2791608"/>
                  </a:lnTo>
                  <a:lnTo>
                    <a:pt x="1409206" y="2793859"/>
                  </a:lnTo>
                  <a:lnTo>
                    <a:pt x="1407079" y="2792947"/>
                  </a:lnTo>
                  <a:lnTo>
                    <a:pt x="1383256" y="2802046"/>
                  </a:lnTo>
                  <a:cubicBezTo>
                    <a:pt x="1373758" y="2804606"/>
                    <a:pt x="1364255" y="2807018"/>
                    <a:pt x="1354171" y="2806792"/>
                  </a:cubicBezTo>
                  <a:lnTo>
                    <a:pt x="1352503" y="2802925"/>
                  </a:lnTo>
                  <a:lnTo>
                    <a:pt x="1339957" y="2820788"/>
                  </a:lnTo>
                  <a:lnTo>
                    <a:pt x="1327034" y="2814336"/>
                  </a:lnTo>
                  <a:lnTo>
                    <a:pt x="1336505" y="2781164"/>
                  </a:lnTo>
                  <a:lnTo>
                    <a:pt x="1298297" y="2791378"/>
                  </a:lnTo>
                  <a:lnTo>
                    <a:pt x="1298270" y="2811931"/>
                  </a:lnTo>
                  <a:lnTo>
                    <a:pt x="1297762" y="2812063"/>
                  </a:lnTo>
                  <a:lnTo>
                    <a:pt x="1300749" y="2869348"/>
                  </a:lnTo>
                  <a:lnTo>
                    <a:pt x="1296869" y="2870181"/>
                  </a:lnTo>
                  <a:lnTo>
                    <a:pt x="1274901" y="2817981"/>
                  </a:lnTo>
                  <a:lnTo>
                    <a:pt x="1269715" y="2819324"/>
                  </a:lnTo>
                  <a:lnTo>
                    <a:pt x="1267882" y="2819413"/>
                  </a:lnTo>
                  <a:lnTo>
                    <a:pt x="1271390" y="2860753"/>
                  </a:lnTo>
                  <a:lnTo>
                    <a:pt x="1256110" y="2819986"/>
                  </a:lnTo>
                  <a:cubicBezTo>
                    <a:pt x="1250938" y="2821453"/>
                    <a:pt x="1245648" y="2821494"/>
                    <a:pt x="1240275" y="2820755"/>
                  </a:cubicBezTo>
                  <a:lnTo>
                    <a:pt x="1236155" y="2807256"/>
                  </a:lnTo>
                  <a:lnTo>
                    <a:pt x="1224895" y="2809243"/>
                  </a:lnTo>
                  <a:lnTo>
                    <a:pt x="1223256" y="2828162"/>
                  </a:lnTo>
                  <a:cubicBezTo>
                    <a:pt x="1203963" y="2833054"/>
                    <a:pt x="1184427" y="2834338"/>
                    <a:pt x="1164887" y="2833005"/>
                  </a:cubicBezTo>
                  <a:lnTo>
                    <a:pt x="1161289" y="2816367"/>
                  </a:lnTo>
                  <a:lnTo>
                    <a:pt x="1161125" y="2818136"/>
                  </a:lnTo>
                  <a:lnTo>
                    <a:pt x="1108947" y="2821165"/>
                  </a:lnTo>
                  <a:lnTo>
                    <a:pt x="1107759" y="2827205"/>
                  </a:lnTo>
                  <a:lnTo>
                    <a:pt x="1097835" y="2826898"/>
                  </a:lnTo>
                  <a:lnTo>
                    <a:pt x="1093011" y="2886590"/>
                  </a:lnTo>
                  <a:lnTo>
                    <a:pt x="1085176" y="2886712"/>
                  </a:lnTo>
                  <a:lnTo>
                    <a:pt x="1080972" y="2863318"/>
                  </a:lnTo>
                  <a:lnTo>
                    <a:pt x="1076803" y="2886841"/>
                  </a:lnTo>
                  <a:lnTo>
                    <a:pt x="1072128" y="2886914"/>
                  </a:lnTo>
                  <a:lnTo>
                    <a:pt x="1061556" y="2827254"/>
                  </a:lnTo>
                  <a:lnTo>
                    <a:pt x="1042490" y="2829045"/>
                  </a:lnTo>
                  <a:cubicBezTo>
                    <a:pt x="1033366" y="2828943"/>
                    <a:pt x="1024281" y="2828703"/>
                    <a:pt x="1015373" y="2825876"/>
                  </a:cubicBezTo>
                  <a:lnTo>
                    <a:pt x="1015337" y="2825566"/>
                  </a:lnTo>
                  <a:cubicBezTo>
                    <a:pt x="1001281" y="2826746"/>
                    <a:pt x="987538" y="2824365"/>
                    <a:pt x="974024" y="2820712"/>
                  </a:cubicBezTo>
                  <a:lnTo>
                    <a:pt x="973979" y="2818268"/>
                  </a:lnTo>
                  <a:lnTo>
                    <a:pt x="954993" y="2817832"/>
                  </a:lnTo>
                  <a:lnTo>
                    <a:pt x="936546" y="2813471"/>
                  </a:lnTo>
                  <a:lnTo>
                    <a:pt x="922465" y="2870744"/>
                  </a:lnTo>
                  <a:lnTo>
                    <a:pt x="907292" y="2868023"/>
                  </a:lnTo>
                  <a:lnTo>
                    <a:pt x="906749" y="2802179"/>
                  </a:lnTo>
                  <a:lnTo>
                    <a:pt x="897694" y="2800043"/>
                  </a:lnTo>
                  <a:lnTo>
                    <a:pt x="893323" y="2811622"/>
                  </a:lnTo>
                  <a:lnTo>
                    <a:pt x="877987" y="2808542"/>
                  </a:lnTo>
                  <a:lnTo>
                    <a:pt x="857015" y="2858381"/>
                  </a:lnTo>
                  <a:lnTo>
                    <a:pt x="848859" y="2856097"/>
                  </a:lnTo>
                  <a:lnTo>
                    <a:pt x="851613" y="2803246"/>
                  </a:lnTo>
                  <a:cubicBezTo>
                    <a:pt x="847480" y="2803537"/>
                    <a:pt x="843792" y="2802295"/>
                    <a:pt x="840137" y="2800942"/>
                  </a:cubicBezTo>
                  <a:lnTo>
                    <a:pt x="841078" y="2787878"/>
                  </a:lnTo>
                  <a:lnTo>
                    <a:pt x="810573" y="2777659"/>
                  </a:lnTo>
                  <a:lnTo>
                    <a:pt x="807836" y="2783048"/>
                  </a:lnTo>
                  <a:lnTo>
                    <a:pt x="783487" y="2775154"/>
                  </a:lnTo>
                  <a:lnTo>
                    <a:pt x="759920" y="2830757"/>
                  </a:lnTo>
                  <a:lnTo>
                    <a:pt x="742109" y="2823888"/>
                  </a:lnTo>
                  <a:lnTo>
                    <a:pt x="760169" y="2707775"/>
                  </a:lnTo>
                  <a:lnTo>
                    <a:pt x="735673" y="2744976"/>
                  </a:lnTo>
                  <a:lnTo>
                    <a:pt x="734078" y="2744228"/>
                  </a:lnTo>
                  <a:lnTo>
                    <a:pt x="723532" y="2761453"/>
                  </a:lnTo>
                  <a:lnTo>
                    <a:pt x="684845" y="2744868"/>
                  </a:lnTo>
                  <a:lnTo>
                    <a:pt x="654283" y="2788382"/>
                  </a:lnTo>
                  <a:lnTo>
                    <a:pt x="641361" y="2781930"/>
                  </a:lnTo>
                  <a:lnTo>
                    <a:pt x="661733" y="2710571"/>
                  </a:lnTo>
                  <a:lnTo>
                    <a:pt x="650654" y="2704074"/>
                  </a:lnTo>
                  <a:lnTo>
                    <a:pt x="643554" y="2713227"/>
                  </a:lnTo>
                  <a:lnTo>
                    <a:pt x="639670" y="2711011"/>
                  </a:lnTo>
                  <a:lnTo>
                    <a:pt x="605967" y="2764259"/>
                  </a:lnTo>
                  <a:lnTo>
                    <a:pt x="588499" y="2755537"/>
                  </a:lnTo>
                  <a:lnTo>
                    <a:pt x="608694" y="2693339"/>
                  </a:lnTo>
                  <a:cubicBezTo>
                    <a:pt x="603763" y="2692017"/>
                    <a:pt x="599819" y="2689122"/>
                    <a:pt x="595968" y="2686080"/>
                  </a:cubicBezTo>
                  <a:lnTo>
                    <a:pt x="622771" y="2616327"/>
                  </a:lnTo>
                  <a:lnTo>
                    <a:pt x="567035" y="2677387"/>
                  </a:lnTo>
                  <a:cubicBezTo>
                    <a:pt x="550547" y="2669310"/>
                    <a:pt x="535761" y="2658584"/>
                    <a:pt x="522496" y="2645775"/>
                  </a:cubicBezTo>
                  <a:lnTo>
                    <a:pt x="525396" y="2639723"/>
                  </a:lnTo>
                  <a:lnTo>
                    <a:pt x="477098" y="2685246"/>
                  </a:lnTo>
                  <a:lnTo>
                    <a:pt x="460295" y="2672351"/>
                  </a:lnTo>
                  <a:lnTo>
                    <a:pt x="460850" y="2671329"/>
                  </a:lnTo>
                  <a:lnTo>
                    <a:pt x="460078" y="2672184"/>
                  </a:lnTo>
                  <a:lnTo>
                    <a:pt x="446660" y="2661887"/>
                  </a:lnTo>
                  <a:lnTo>
                    <a:pt x="480089" y="2596861"/>
                  </a:lnTo>
                  <a:cubicBezTo>
                    <a:pt x="470201" y="2591278"/>
                    <a:pt x="462277" y="2583235"/>
                    <a:pt x="455005" y="2574480"/>
                  </a:cubicBezTo>
                  <a:lnTo>
                    <a:pt x="490035" y="2518138"/>
                  </a:lnTo>
                  <a:lnTo>
                    <a:pt x="429795" y="2562741"/>
                  </a:lnTo>
                  <a:cubicBezTo>
                    <a:pt x="415396" y="2551236"/>
                    <a:pt x="402938" y="2537668"/>
                    <a:pt x="392532" y="2522154"/>
                  </a:cubicBezTo>
                  <a:lnTo>
                    <a:pt x="398774" y="2513700"/>
                  </a:lnTo>
                  <a:lnTo>
                    <a:pt x="329916" y="2557310"/>
                  </a:lnTo>
                  <a:lnTo>
                    <a:pt x="311777" y="2536654"/>
                  </a:lnTo>
                  <a:lnTo>
                    <a:pt x="365716" y="2473436"/>
                  </a:lnTo>
                  <a:cubicBezTo>
                    <a:pt x="354487" y="2462796"/>
                    <a:pt x="345604" y="2450051"/>
                    <a:pt x="338293" y="2436122"/>
                  </a:cubicBezTo>
                  <a:lnTo>
                    <a:pt x="345137" y="2428737"/>
                  </a:lnTo>
                  <a:cubicBezTo>
                    <a:pt x="342691" y="2426832"/>
                    <a:pt x="341315" y="2424287"/>
                    <a:pt x="339999" y="2421696"/>
                  </a:cubicBezTo>
                  <a:lnTo>
                    <a:pt x="358280" y="2402470"/>
                  </a:lnTo>
                  <a:lnTo>
                    <a:pt x="316971" y="2421925"/>
                  </a:lnTo>
                  <a:lnTo>
                    <a:pt x="292247" y="2380281"/>
                  </a:lnTo>
                  <a:lnTo>
                    <a:pt x="214545" y="2411598"/>
                  </a:lnTo>
                  <a:cubicBezTo>
                    <a:pt x="208312" y="2402706"/>
                    <a:pt x="202521" y="2393507"/>
                    <a:pt x="197693" y="2383700"/>
                  </a:cubicBezTo>
                  <a:lnTo>
                    <a:pt x="272308" y="2324939"/>
                  </a:lnTo>
                  <a:cubicBezTo>
                    <a:pt x="262523" y="2310089"/>
                    <a:pt x="255084" y="2293892"/>
                    <a:pt x="250158" y="2276461"/>
                  </a:cubicBezTo>
                  <a:lnTo>
                    <a:pt x="253567" y="2273977"/>
                  </a:lnTo>
                  <a:lnTo>
                    <a:pt x="245746" y="2257111"/>
                  </a:lnTo>
                  <a:lnTo>
                    <a:pt x="233053" y="2260208"/>
                  </a:lnTo>
                  <a:lnTo>
                    <a:pt x="223974" y="2234052"/>
                  </a:lnTo>
                  <a:lnTo>
                    <a:pt x="131387" y="2253675"/>
                  </a:lnTo>
                  <a:lnTo>
                    <a:pt x="116783" y="2220632"/>
                  </a:lnTo>
                  <a:lnTo>
                    <a:pt x="158114" y="2199084"/>
                  </a:lnTo>
                  <a:lnTo>
                    <a:pt x="135613" y="2204600"/>
                  </a:lnTo>
                  <a:lnTo>
                    <a:pt x="203525" y="2161621"/>
                  </a:lnTo>
                  <a:cubicBezTo>
                    <a:pt x="199471" y="2155452"/>
                    <a:pt x="197841" y="2148349"/>
                    <a:pt x="196653" y="2141086"/>
                  </a:cubicBezTo>
                  <a:lnTo>
                    <a:pt x="202452" y="2137885"/>
                  </a:lnTo>
                  <a:lnTo>
                    <a:pt x="200236" y="2128340"/>
                  </a:lnTo>
                  <a:lnTo>
                    <a:pt x="197586" y="2128634"/>
                  </a:lnTo>
                  <a:lnTo>
                    <a:pt x="187186" y="2100735"/>
                  </a:lnTo>
                  <a:lnTo>
                    <a:pt x="184499" y="2083859"/>
                  </a:lnTo>
                  <a:lnTo>
                    <a:pt x="77106" y="2088012"/>
                  </a:lnTo>
                  <a:lnTo>
                    <a:pt x="69326" y="2051225"/>
                  </a:lnTo>
                  <a:lnTo>
                    <a:pt x="200722" y="2010179"/>
                  </a:lnTo>
                  <a:lnTo>
                    <a:pt x="163738" y="2010056"/>
                  </a:lnTo>
                  <a:lnTo>
                    <a:pt x="159316" y="1992453"/>
                  </a:lnTo>
                  <a:lnTo>
                    <a:pt x="107761" y="1993010"/>
                  </a:lnTo>
                  <a:lnTo>
                    <a:pt x="156129" y="1974865"/>
                  </a:lnTo>
                  <a:lnTo>
                    <a:pt x="154961" y="1950946"/>
                  </a:lnTo>
                  <a:lnTo>
                    <a:pt x="173093" y="1945233"/>
                  </a:lnTo>
                  <a:lnTo>
                    <a:pt x="172893" y="1939805"/>
                  </a:lnTo>
                  <a:lnTo>
                    <a:pt x="161387" y="1938784"/>
                  </a:lnTo>
                  <a:lnTo>
                    <a:pt x="160744" y="1930863"/>
                  </a:lnTo>
                  <a:lnTo>
                    <a:pt x="57379" y="1917268"/>
                  </a:lnTo>
                  <a:cubicBezTo>
                    <a:pt x="59042" y="1904899"/>
                    <a:pt x="58563" y="1891978"/>
                    <a:pt x="54829" y="1879221"/>
                  </a:cubicBezTo>
                  <a:lnTo>
                    <a:pt x="163944" y="1864869"/>
                  </a:lnTo>
                  <a:cubicBezTo>
                    <a:pt x="163725" y="1857479"/>
                    <a:pt x="164475" y="1850151"/>
                    <a:pt x="166706" y="1842903"/>
                  </a:cubicBezTo>
                  <a:lnTo>
                    <a:pt x="232313" y="1833211"/>
                  </a:lnTo>
                  <a:lnTo>
                    <a:pt x="148362" y="1815911"/>
                  </a:lnTo>
                  <a:lnTo>
                    <a:pt x="149294" y="1782384"/>
                  </a:lnTo>
                  <a:lnTo>
                    <a:pt x="115716" y="1774567"/>
                  </a:lnTo>
                  <a:lnTo>
                    <a:pt x="149349" y="1769926"/>
                  </a:lnTo>
                  <a:lnTo>
                    <a:pt x="56538" y="1740934"/>
                  </a:lnTo>
                  <a:lnTo>
                    <a:pt x="59891" y="1707474"/>
                  </a:lnTo>
                  <a:lnTo>
                    <a:pt x="165871" y="1711573"/>
                  </a:lnTo>
                  <a:cubicBezTo>
                    <a:pt x="164884" y="1702930"/>
                    <a:pt x="166589" y="1694683"/>
                    <a:pt x="168744" y="1686519"/>
                  </a:cubicBezTo>
                  <a:lnTo>
                    <a:pt x="188629" y="1686133"/>
                  </a:lnTo>
                  <a:cubicBezTo>
                    <a:pt x="188444" y="1676744"/>
                    <a:pt x="190980" y="1667966"/>
                    <a:pt x="194048" y="1659342"/>
                  </a:cubicBezTo>
                  <a:lnTo>
                    <a:pt x="266709" y="1663565"/>
                  </a:lnTo>
                  <a:lnTo>
                    <a:pt x="169979" y="1622395"/>
                  </a:lnTo>
                  <a:lnTo>
                    <a:pt x="173839" y="1605268"/>
                  </a:lnTo>
                  <a:lnTo>
                    <a:pt x="92905" y="1563071"/>
                  </a:lnTo>
                  <a:lnTo>
                    <a:pt x="101207" y="1536083"/>
                  </a:lnTo>
                  <a:lnTo>
                    <a:pt x="203881" y="1557842"/>
                  </a:lnTo>
                  <a:lnTo>
                    <a:pt x="199939" y="1555764"/>
                  </a:lnTo>
                  <a:cubicBezTo>
                    <a:pt x="203165" y="1536021"/>
                    <a:pt x="209501" y="1517276"/>
                    <a:pt x="218333" y="1499500"/>
                  </a:cubicBezTo>
                  <a:lnTo>
                    <a:pt x="247243" y="1504740"/>
                  </a:lnTo>
                  <a:cubicBezTo>
                    <a:pt x="248495" y="1497164"/>
                    <a:pt x="251909" y="1490592"/>
                    <a:pt x="255641" y="1484182"/>
                  </a:cubicBezTo>
                  <a:lnTo>
                    <a:pt x="306078" y="1497807"/>
                  </a:lnTo>
                  <a:lnTo>
                    <a:pt x="232178" y="1439610"/>
                  </a:lnTo>
                  <a:lnTo>
                    <a:pt x="228312" y="1436961"/>
                  </a:lnTo>
                  <a:lnTo>
                    <a:pt x="228443" y="1436666"/>
                  </a:lnTo>
                  <a:lnTo>
                    <a:pt x="163827" y="1385780"/>
                  </a:lnTo>
                  <a:lnTo>
                    <a:pt x="173370" y="1367959"/>
                  </a:lnTo>
                  <a:lnTo>
                    <a:pt x="246165" y="1397299"/>
                  </a:lnTo>
                  <a:cubicBezTo>
                    <a:pt x="247163" y="1391801"/>
                    <a:pt x="249854" y="1387230"/>
                    <a:pt x="252715" y="1382748"/>
                  </a:cubicBezTo>
                  <a:lnTo>
                    <a:pt x="286461" y="1392979"/>
                  </a:lnTo>
                  <a:lnTo>
                    <a:pt x="236476" y="1350630"/>
                  </a:lnTo>
                  <a:lnTo>
                    <a:pt x="280083" y="1366014"/>
                  </a:lnTo>
                  <a:cubicBezTo>
                    <a:pt x="285247" y="1351306"/>
                    <a:pt x="293363" y="1338140"/>
                    <a:pt x="303017" y="1325940"/>
                  </a:cubicBezTo>
                  <a:lnTo>
                    <a:pt x="338596" y="1340055"/>
                  </a:lnTo>
                  <a:cubicBezTo>
                    <a:pt x="340838" y="1333944"/>
                    <a:pt x="344771" y="1329104"/>
                    <a:pt x="348915" y="1324436"/>
                  </a:cubicBezTo>
                  <a:lnTo>
                    <a:pt x="381116" y="1340766"/>
                  </a:lnTo>
                  <a:lnTo>
                    <a:pt x="273241" y="1214335"/>
                  </a:lnTo>
                  <a:lnTo>
                    <a:pt x="279349" y="1206815"/>
                  </a:lnTo>
                  <a:lnTo>
                    <a:pt x="337647" y="1243738"/>
                  </a:lnTo>
                  <a:cubicBezTo>
                    <a:pt x="341850" y="1234021"/>
                    <a:pt x="348502" y="1226107"/>
                    <a:pt x="355787" y="1218702"/>
                  </a:cubicBezTo>
                  <a:lnTo>
                    <a:pt x="403140" y="1244146"/>
                  </a:lnTo>
                  <a:lnTo>
                    <a:pt x="380272" y="1216546"/>
                  </a:lnTo>
                  <a:lnTo>
                    <a:pt x="383583" y="1212808"/>
                  </a:lnTo>
                  <a:lnTo>
                    <a:pt x="344640" y="1161431"/>
                  </a:lnTo>
                  <a:lnTo>
                    <a:pt x="398173" y="1196322"/>
                  </a:lnTo>
                  <a:cubicBezTo>
                    <a:pt x="403448" y="1186775"/>
                    <a:pt x="411042" y="1179261"/>
                    <a:pt x="419341" y="1172405"/>
                  </a:cubicBezTo>
                  <a:lnTo>
                    <a:pt x="447634" y="1190757"/>
                  </a:lnTo>
                  <a:cubicBezTo>
                    <a:pt x="448681" y="1187125"/>
                    <a:pt x="447923" y="1183753"/>
                    <a:pt x="446940" y="1180393"/>
                  </a:cubicBezTo>
                  <a:lnTo>
                    <a:pt x="482201" y="1175755"/>
                  </a:lnTo>
                  <a:lnTo>
                    <a:pt x="444499" y="1118028"/>
                  </a:lnTo>
                  <a:lnTo>
                    <a:pt x="452972" y="1110316"/>
                  </a:lnTo>
                  <a:lnTo>
                    <a:pt x="428338" y="1064948"/>
                  </a:lnTo>
                  <a:lnTo>
                    <a:pt x="464928" y="1099436"/>
                  </a:lnTo>
                  <a:cubicBezTo>
                    <a:pt x="471083" y="1090636"/>
                    <a:pt x="479311" y="1084116"/>
                    <a:pt x="488146" y="1078306"/>
                  </a:cubicBezTo>
                  <a:lnTo>
                    <a:pt x="536719" y="1118428"/>
                  </a:lnTo>
                  <a:lnTo>
                    <a:pt x="515884" y="1079967"/>
                  </a:lnTo>
                  <a:lnTo>
                    <a:pt x="518186" y="1078247"/>
                  </a:lnTo>
                  <a:lnTo>
                    <a:pt x="518134" y="1078138"/>
                  </a:lnTo>
                  <a:lnTo>
                    <a:pt x="507827" y="1075738"/>
                  </a:lnTo>
                  <a:lnTo>
                    <a:pt x="516420" y="1074553"/>
                  </a:lnTo>
                  <a:lnTo>
                    <a:pt x="510084" y="1061296"/>
                  </a:lnTo>
                  <a:lnTo>
                    <a:pt x="448649" y="1042105"/>
                  </a:lnTo>
                  <a:lnTo>
                    <a:pt x="452001" y="1008645"/>
                  </a:lnTo>
                  <a:lnTo>
                    <a:pt x="485538" y="1009942"/>
                  </a:lnTo>
                  <a:lnTo>
                    <a:pt x="484866" y="1008538"/>
                  </a:lnTo>
                  <a:lnTo>
                    <a:pt x="488129" y="1006295"/>
                  </a:lnTo>
                  <a:lnTo>
                    <a:pt x="491871" y="1010187"/>
                  </a:lnTo>
                  <a:lnTo>
                    <a:pt x="557982" y="1012745"/>
                  </a:lnTo>
                  <a:cubicBezTo>
                    <a:pt x="556995" y="1004102"/>
                    <a:pt x="558700" y="995854"/>
                    <a:pt x="560855" y="987690"/>
                  </a:cubicBezTo>
                  <a:lnTo>
                    <a:pt x="580739" y="987305"/>
                  </a:lnTo>
                  <a:cubicBezTo>
                    <a:pt x="580555" y="977916"/>
                    <a:pt x="583091" y="969137"/>
                    <a:pt x="586159" y="960513"/>
                  </a:cubicBezTo>
                  <a:lnTo>
                    <a:pt x="658820" y="964736"/>
                  </a:lnTo>
                  <a:lnTo>
                    <a:pt x="562090" y="923566"/>
                  </a:lnTo>
                  <a:lnTo>
                    <a:pt x="565950" y="906440"/>
                  </a:lnTo>
                  <a:lnTo>
                    <a:pt x="485016" y="864243"/>
                  </a:lnTo>
                  <a:lnTo>
                    <a:pt x="493318" y="837254"/>
                  </a:lnTo>
                  <a:lnTo>
                    <a:pt x="595992" y="859014"/>
                  </a:lnTo>
                  <a:lnTo>
                    <a:pt x="592049" y="856935"/>
                  </a:lnTo>
                  <a:cubicBezTo>
                    <a:pt x="595276" y="837192"/>
                    <a:pt x="601612" y="818448"/>
                    <a:pt x="610444" y="800672"/>
                  </a:cubicBezTo>
                  <a:lnTo>
                    <a:pt x="639354" y="805911"/>
                  </a:lnTo>
                  <a:cubicBezTo>
                    <a:pt x="640605" y="798336"/>
                    <a:pt x="644020" y="791764"/>
                    <a:pt x="647752" y="785354"/>
                  </a:cubicBezTo>
                  <a:lnTo>
                    <a:pt x="698188" y="798979"/>
                  </a:lnTo>
                  <a:lnTo>
                    <a:pt x="624289" y="740781"/>
                  </a:lnTo>
                  <a:lnTo>
                    <a:pt x="620423" y="738133"/>
                  </a:lnTo>
                  <a:lnTo>
                    <a:pt x="620553" y="737838"/>
                  </a:lnTo>
                  <a:lnTo>
                    <a:pt x="555937" y="686951"/>
                  </a:lnTo>
                  <a:lnTo>
                    <a:pt x="565481" y="669130"/>
                  </a:lnTo>
                  <a:lnTo>
                    <a:pt x="638275" y="698470"/>
                  </a:lnTo>
                  <a:cubicBezTo>
                    <a:pt x="639274" y="692972"/>
                    <a:pt x="641964" y="688402"/>
                    <a:pt x="644826" y="683920"/>
                  </a:cubicBezTo>
                  <a:lnTo>
                    <a:pt x="678572" y="694150"/>
                  </a:lnTo>
                  <a:lnTo>
                    <a:pt x="628587" y="651802"/>
                  </a:lnTo>
                  <a:lnTo>
                    <a:pt x="672194" y="667186"/>
                  </a:lnTo>
                  <a:cubicBezTo>
                    <a:pt x="677358" y="652477"/>
                    <a:pt x="685473" y="639311"/>
                    <a:pt x="695128" y="627112"/>
                  </a:cubicBezTo>
                  <a:lnTo>
                    <a:pt x="730706" y="641227"/>
                  </a:lnTo>
                  <a:cubicBezTo>
                    <a:pt x="732949" y="635116"/>
                    <a:pt x="736882" y="630276"/>
                    <a:pt x="741026" y="625607"/>
                  </a:cubicBezTo>
                  <a:lnTo>
                    <a:pt x="773227" y="641938"/>
                  </a:lnTo>
                  <a:lnTo>
                    <a:pt x="665352" y="515507"/>
                  </a:lnTo>
                  <a:lnTo>
                    <a:pt x="671460" y="507987"/>
                  </a:lnTo>
                  <a:lnTo>
                    <a:pt x="729757" y="544910"/>
                  </a:lnTo>
                  <a:cubicBezTo>
                    <a:pt x="733961" y="535193"/>
                    <a:pt x="740613" y="527278"/>
                    <a:pt x="747898" y="519873"/>
                  </a:cubicBezTo>
                  <a:lnTo>
                    <a:pt x="795251" y="545318"/>
                  </a:lnTo>
                  <a:lnTo>
                    <a:pt x="772383" y="517718"/>
                  </a:lnTo>
                  <a:lnTo>
                    <a:pt x="775694" y="513979"/>
                  </a:lnTo>
                  <a:lnTo>
                    <a:pt x="736750" y="462603"/>
                  </a:lnTo>
                  <a:lnTo>
                    <a:pt x="790283" y="497493"/>
                  </a:lnTo>
                  <a:cubicBezTo>
                    <a:pt x="795559" y="487946"/>
                    <a:pt x="803153" y="480433"/>
                    <a:pt x="811452" y="473576"/>
                  </a:cubicBezTo>
                  <a:lnTo>
                    <a:pt x="850497" y="498903"/>
                  </a:lnTo>
                  <a:cubicBezTo>
                    <a:pt x="853413" y="494032"/>
                    <a:pt x="857616" y="490622"/>
                    <a:pt x="861972" y="487390"/>
                  </a:cubicBezTo>
                  <a:lnTo>
                    <a:pt x="901966" y="519268"/>
                  </a:lnTo>
                  <a:lnTo>
                    <a:pt x="836609" y="419199"/>
                  </a:lnTo>
                  <a:lnTo>
                    <a:pt x="845083" y="411488"/>
                  </a:lnTo>
                  <a:lnTo>
                    <a:pt x="820449" y="366119"/>
                  </a:lnTo>
                  <a:lnTo>
                    <a:pt x="857039" y="400607"/>
                  </a:lnTo>
                  <a:cubicBezTo>
                    <a:pt x="863194" y="391808"/>
                    <a:pt x="871421" y="385288"/>
                    <a:pt x="880257" y="379477"/>
                  </a:cubicBezTo>
                  <a:lnTo>
                    <a:pt x="928830" y="419600"/>
                  </a:lnTo>
                  <a:lnTo>
                    <a:pt x="907994" y="381139"/>
                  </a:lnTo>
                  <a:lnTo>
                    <a:pt x="910297" y="379418"/>
                  </a:lnTo>
                  <a:lnTo>
                    <a:pt x="876977" y="309709"/>
                  </a:lnTo>
                  <a:lnTo>
                    <a:pt x="880240" y="307467"/>
                  </a:lnTo>
                  <a:lnTo>
                    <a:pt x="933052" y="362404"/>
                  </a:lnTo>
                  <a:cubicBezTo>
                    <a:pt x="939081" y="355127"/>
                    <a:pt x="946848" y="350223"/>
                    <a:pt x="955071" y="345940"/>
                  </a:cubicBezTo>
                  <a:lnTo>
                    <a:pt x="993872" y="383740"/>
                  </a:lnTo>
                  <a:cubicBezTo>
                    <a:pt x="997211" y="379992"/>
                    <a:pt x="1001452" y="377842"/>
                    <a:pt x="1005797" y="375867"/>
                  </a:cubicBezTo>
                  <a:lnTo>
                    <a:pt x="1029093" y="403682"/>
                  </a:lnTo>
                  <a:lnTo>
                    <a:pt x="986311" y="297976"/>
                  </a:lnTo>
                  <a:lnTo>
                    <a:pt x="1022420" y="276687"/>
                  </a:lnTo>
                  <a:lnTo>
                    <a:pt x="1021517" y="273525"/>
                  </a:lnTo>
                  <a:lnTo>
                    <a:pt x="1023350" y="276137"/>
                  </a:lnTo>
                  <a:cubicBezTo>
                    <a:pt x="1027229" y="272152"/>
                    <a:pt x="1032026" y="270026"/>
                    <a:pt x="1036951" y="268118"/>
                  </a:cubicBezTo>
                  <a:lnTo>
                    <a:pt x="1063821" y="301051"/>
                  </a:lnTo>
                  <a:lnTo>
                    <a:pt x="1039742" y="210110"/>
                  </a:lnTo>
                  <a:cubicBezTo>
                    <a:pt x="1043718" y="208051"/>
                    <a:pt x="1047749" y="206093"/>
                    <a:pt x="1052016" y="204617"/>
                  </a:cubicBezTo>
                  <a:lnTo>
                    <a:pt x="1088879" y="264222"/>
                  </a:lnTo>
                  <a:cubicBezTo>
                    <a:pt x="1098246" y="256866"/>
                    <a:pt x="1109114" y="252443"/>
                    <a:pt x="1120536" y="249180"/>
                  </a:cubicBezTo>
                  <a:lnTo>
                    <a:pt x="1155454" y="299944"/>
                  </a:lnTo>
                  <a:cubicBezTo>
                    <a:pt x="1158977" y="297254"/>
                    <a:pt x="1163001" y="296213"/>
                    <a:pt x="1167080" y="295333"/>
                  </a:cubicBezTo>
                  <a:lnTo>
                    <a:pt x="1176611" y="312772"/>
                  </a:lnTo>
                  <a:lnTo>
                    <a:pt x="1156555" y="209317"/>
                  </a:lnTo>
                  <a:lnTo>
                    <a:pt x="1210194" y="190781"/>
                  </a:lnTo>
                  <a:lnTo>
                    <a:pt x="1206343" y="145382"/>
                  </a:lnTo>
                  <a:lnTo>
                    <a:pt x="1225962" y="139111"/>
                  </a:lnTo>
                  <a:close/>
                  <a:moveTo>
                    <a:pt x="1563501" y="0"/>
                  </a:moveTo>
                  <a:lnTo>
                    <a:pt x="1563545" y="5307"/>
                  </a:lnTo>
                  <a:lnTo>
                    <a:pt x="1562191" y="5327"/>
                  </a:lnTo>
                  <a:lnTo>
                    <a:pt x="1563501" y="0"/>
                  </a:lnTo>
                  <a:close/>
                  <a:moveTo>
                    <a:pt x="1380732" y="13634"/>
                  </a:moveTo>
                  <a:lnTo>
                    <a:pt x="1381029" y="15285"/>
                  </a:lnTo>
                  <a:lnTo>
                    <a:pt x="1380595" y="15334"/>
                  </a:lnTo>
                  <a:lnTo>
                    <a:pt x="1380732" y="13634"/>
                  </a:lnTo>
                  <a:close/>
                </a:path>
              </a:pathLst>
            </a:custGeom>
            <a:solidFill>
              <a:srgbClr val="959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三十二角星 75"/>
            <p:cNvSpPr/>
            <p:nvPr/>
          </p:nvSpPr>
          <p:spPr>
            <a:xfrm rot="894600">
              <a:off x="6435000" y="1017360"/>
              <a:ext cx="1839240" cy="1785600"/>
            </a:xfrm>
            <a:custGeom>
              <a:avLst/>
              <a:gdLst>
                <a:gd name="textAreaLeft" fmla="*/ 0 w 1839240"/>
                <a:gd name="textAreaRight" fmla="*/ 1839600 w 1839240"/>
                <a:gd name="textAreaTop" fmla="*/ 0 h 1785600"/>
                <a:gd name="textAreaBottom" fmla="*/ 1785960 h 1785600"/>
              </a:gdLst>
              <a:ahLst/>
              <a:rect l="textAreaLeft" t="textAreaTop" r="textAreaRight" b="textAreaBottom"/>
              <a:pathLst>
                <a:path w="3069349" h="2980154">
                  <a:moveTo>
                    <a:pt x="1354301" y="2762749"/>
                  </a:moveTo>
                  <a:lnTo>
                    <a:pt x="1355980" y="2779976"/>
                  </a:lnTo>
                  <a:lnTo>
                    <a:pt x="1358271" y="2771951"/>
                  </a:lnTo>
                  <a:lnTo>
                    <a:pt x="1354301" y="2762749"/>
                  </a:lnTo>
                  <a:close/>
                  <a:moveTo>
                    <a:pt x="271334" y="2606480"/>
                  </a:moveTo>
                  <a:cubicBezTo>
                    <a:pt x="271344" y="2606491"/>
                    <a:pt x="271354" y="2606503"/>
                    <a:pt x="271364" y="2606514"/>
                  </a:cubicBezTo>
                  <a:cubicBezTo>
                    <a:pt x="271322" y="2606540"/>
                    <a:pt x="271281" y="2606567"/>
                    <a:pt x="271239" y="2606593"/>
                  </a:cubicBezTo>
                  <a:lnTo>
                    <a:pt x="271334" y="2606480"/>
                  </a:lnTo>
                  <a:close/>
                  <a:moveTo>
                    <a:pt x="144674" y="2440525"/>
                  </a:moveTo>
                  <a:lnTo>
                    <a:pt x="147896" y="2446174"/>
                  </a:lnTo>
                  <a:lnTo>
                    <a:pt x="126606" y="2454754"/>
                  </a:lnTo>
                  <a:lnTo>
                    <a:pt x="144674" y="2440525"/>
                  </a:lnTo>
                  <a:close/>
                  <a:moveTo>
                    <a:pt x="19136" y="1514633"/>
                  </a:moveTo>
                  <a:lnTo>
                    <a:pt x="31137" y="1517176"/>
                  </a:lnTo>
                  <a:lnTo>
                    <a:pt x="30156" y="1520378"/>
                  </a:lnTo>
                  <a:lnTo>
                    <a:pt x="19136" y="1514633"/>
                  </a:lnTo>
                  <a:close/>
                  <a:moveTo>
                    <a:pt x="411247" y="815805"/>
                  </a:moveTo>
                  <a:lnTo>
                    <a:pt x="423248" y="818348"/>
                  </a:lnTo>
                  <a:lnTo>
                    <a:pt x="422267" y="821550"/>
                  </a:lnTo>
                  <a:lnTo>
                    <a:pt x="411247" y="815805"/>
                  </a:lnTo>
                  <a:close/>
                  <a:moveTo>
                    <a:pt x="2048606" y="108065"/>
                  </a:moveTo>
                  <a:cubicBezTo>
                    <a:pt x="2048620" y="109834"/>
                    <a:pt x="2048635" y="111604"/>
                    <a:pt x="2048649" y="113373"/>
                  </a:cubicBezTo>
                  <a:lnTo>
                    <a:pt x="2047296" y="113393"/>
                  </a:lnTo>
                  <a:lnTo>
                    <a:pt x="2048606" y="108065"/>
                  </a:lnTo>
                  <a:close/>
                  <a:moveTo>
                    <a:pt x="1865836" y="121699"/>
                  </a:moveTo>
                  <a:lnTo>
                    <a:pt x="1866133" y="123350"/>
                  </a:lnTo>
                  <a:lnTo>
                    <a:pt x="1865699" y="123399"/>
                  </a:lnTo>
                  <a:cubicBezTo>
                    <a:pt x="1865745" y="122832"/>
                    <a:pt x="1865790" y="122266"/>
                    <a:pt x="1865836" y="121699"/>
                  </a:cubicBezTo>
                  <a:close/>
                  <a:moveTo>
                    <a:pt x="1245098" y="139111"/>
                  </a:moveTo>
                  <a:lnTo>
                    <a:pt x="1267984" y="200174"/>
                  </a:lnTo>
                  <a:lnTo>
                    <a:pt x="1291302" y="191266"/>
                  </a:lnTo>
                  <a:cubicBezTo>
                    <a:pt x="1300802" y="188705"/>
                    <a:pt x="1310307" y="186295"/>
                    <a:pt x="1320388" y="186519"/>
                  </a:cubicBezTo>
                  <a:lnTo>
                    <a:pt x="1348153" y="250853"/>
                  </a:lnTo>
                  <a:cubicBezTo>
                    <a:pt x="1351616" y="249133"/>
                    <a:pt x="1355207" y="248987"/>
                    <a:pt x="1358819" y="248971"/>
                  </a:cubicBezTo>
                  <a:lnTo>
                    <a:pt x="1359565" y="251330"/>
                  </a:lnTo>
                  <a:cubicBezTo>
                    <a:pt x="1359604" y="219847"/>
                    <a:pt x="1359642" y="188365"/>
                    <a:pt x="1359681" y="156882"/>
                  </a:cubicBezTo>
                  <a:lnTo>
                    <a:pt x="1388236" y="149491"/>
                  </a:lnTo>
                  <a:lnTo>
                    <a:pt x="1388889" y="149459"/>
                  </a:lnTo>
                  <a:lnTo>
                    <a:pt x="1392274" y="107577"/>
                  </a:lnTo>
                  <a:lnTo>
                    <a:pt x="1416265" y="104851"/>
                  </a:lnTo>
                  <a:lnTo>
                    <a:pt x="1433138" y="198706"/>
                  </a:lnTo>
                  <a:lnTo>
                    <a:pt x="1444194" y="234922"/>
                  </a:lnTo>
                  <a:lnTo>
                    <a:pt x="1445268" y="234860"/>
                  </a:lnTo>
                  <a:lnTo>
                    <a:pt x="1451306" y="165150"/>
                  </a:lnTo>
                  <a:cubicBezTo>
                    <a:pt x="1470598" y="160257"/>
                    <a:pt x="1490133" y="158971"/>
                    <a:pt x="1509674" y="160309"/>
                  </a:cubicBezTo>
                  <a:lnTo>
                    <a:pt x="1525376" y="232904"/>
                  </a:lnTo>
                  <a:lnTo>
                    <a:pt x="1558918" y="96476"/>
                  </a:lnTo>
                  <a:lnTo>
                    <a:pt x="1583429" y="96096"/>
                  </a:lnTo>
                  <a:lnTo>
                    <a:pt x="1583813" y="142650"/>
                  </a:lnTo>
                  <a:cubicBezTo>
                    <a:pt x="1592262" y="140857"/>
                    <a:pt x="1600540" y="141901"/>
                    <a:pt x="1608770" y="143423"/>
                  </a:cubicBezTo>
                  <a:lnTo>
                    <a:pt x="1618454" y="236760"/>
                  </a:lnTo>
                  <a:lnTo>
                    <a:pt x="1621917" y="236839"/>
                  </a:lnTo>
                  <a:lnTo>
                    <a:pt x="1642399" y="165770"/>
                  </a:lnTo>
                  <a:lnTo>
                    <a:pt x="1699630" y="172494"/>
                  </a:lnTo>
                  <a:lnTo>
                    <a:pt x="1725678" y="111040"/>
                  </a:lnTo>
                  <a:lnTo>
                    <a:pt x="1747028" y="114868"/>
                  </a:lnTo>
                  <a:lnTo>
                    <a:pt x="1738896" y="167143"/>
                  </a:lnTo>
                  <a:lnTo>
                    <a:pt x="1740168" y="164032"/>
                  </a:lnTo>
                  <a:cubicBezTo>
                    <a:pt x="1748397" y="182462"/>
                    <a:pt x="1779736" y="258605"/>
                    <a:pt x="1788267" y="277720"/>
                  </a:cubicBezTo>
                  <a:lnTo>
                    <a:pt x="1791356" y="278721"/>
                  </a:lnTo>
                  <a:lnTo>
                    <a:pt x="1855020" y="212649"/>
                  </a:lnTo>
                  <a:lnTo>
                    <a:pt x="1893606" y="151684"/>
                  </a:lnTo>
                  <a:lnTo>
                    <a:pt x="1907696" y="157116"/>
                  </a:lnTo>
                  <a:lnTo>
                    <a:pt x="1884851" y="227477"/>
                  </a:lnTo>
                  <a:lnTo>
                    <a:pt x="1892364" y="269269"/>
                  </a:lnTo>
                  <a:lnTo>
                    <a:pt x="1922278" y="223842"/>
                  </a:lnTo>
                  <a:cubicBezTo>
                    <a:pt x="1941323" y="229334"/>
                    <a:pt x="1959046" y="237867"/>
                    <a:pt x="1975535" y="248818"/>
                  </a:cubicBezTo>
                  <a:lnTo>
                    <a:pt x="1969717" y="268865"/>
                  </a:lnTo>
                  <a:cubicBezTo>
                    <a:pt x="1971714" y="268131"/>
                    <a:pt x="1973678" y="268239"/>
                    <a:pt x="1975643" y="268374"/>
                  </a:cubicBezTo>
                  <a:lnTo>
                    <a:pt x="1983935" y="306713"/>
                  </a:lnTo>
                  <a:lnTo>
                    <a:pt x="2006087" y="278788"/>
                  </a:lnTo>
                  <a:lnTo>
                    <a:pt x="2006563" y="279067"/>
                  </a:lnTo>
                  <a:lnTo>
                    <a:pt x="2024886" y="204541"/>
                  </a:lnTo>
                  <a:lnTo>
                    <a:pt x="2049397" y="204162"/>
                  </a:lnTo>
                  <a:lnTo>
                    <a:pt x="2049667" y="236850"/>
                  </a:lnTo>
                  <a:lnTo>
                    <a:pt x="2060753" y="224597"/>
                  </a:lnTo>
                  <a:lnTo>
                    <a:pt x="2065201" y="226819"/>
                  </a:lnTo>
                  <a:lnTo>
                    <a:pt x="2052867" y="250811"/>
                  </a:lnTo>
                  <a:cubicBezTo>
                    <a:pt x="2060194" y="249177"/>
                    <a:pt x="2067485" y="250147"/>
                    <a:pt x="2074738" y="251488"/>
                  </a:cubicBezTo>
                  <a:lnTo>
                    <a:pt x="2082455" y="325858"/>
                  </a:lnTo>
                  <a:lnTo>
                    <a:pt x="2089571" y="318641"/>
                  </a:lnTo>
                  <a:lnTo>
                    <a:pt x="2094406" y="322282"/>
                  </a:lnTo>
                  <a:lnTo>
                    <a:pt x="2108368" y="273836"/>
                  </a:lnTo>
                  <a:lnTo>
                    <a:pt x="2165598" y="280560"/>
                  </a:lnTo>
                  <a:lnTo>
                    <a:pt x="2191647" y="219105"/>
                  </a:lnTo>
                  <a:lnTo>
                    <a:pt x="2212996" y="222933"/>
                  </a:lnTo>
                  <a:lnTo>
                    <a:pt x="2204864" y="275208"/>
                  </a:lnTo>
                  <a:lnTo>
                    <a:pt x="2206136" y="272097"/>
                  </a:lnTo>
                  <a:cubicBezTo>
                    <a:pt x="2225933" y="273443"/>
                    <a:pt x="2244933" y="278282"/>
                    <a:pt x="2263208" y="285566"/>
                  </a:cubicBezTo>
                  <a:lnTo>
                    <a:pt x="2254236" y="385786"/>
                  </a:lnTo>
                  <a:lnTo>
                    <a:pt x="2257325" y="386786"/>
                  </a:lnTo>
                  <a:lnTo>
                    <a:pt x="2295683" y="312239"/>
                  </a:lnTo>
                  <a:lnTo>
                    <a:pt x="2320988" y="320715"/>
                  </a:lnTo>
                  <a:lnTo>
                    <a:pt x="2359575" y="259749"/>
                  </a:lnTo>
                  <a:lnTo>
                    <a:pt x="2373664" y="265181"/>
                  </a:lnTo>
                  <a:lnTo>
                    <a:pt x="2417133" y="213645"/>
                  </a:lnTo>
                  <a:lnTo>
                    <a:pt x="2337431" y="409076"/>
                  </a:lnTo>
                  <a:lnTo>
                    <a:pt x="2388247" y="331907"/>
                  </a:lnTo>
                  <a:cubicBezTo>
                    <a:pt x="2407292" y="337399"/>
                    <a:pt x="2425014" y="345932"/>
                    <a:pt x="2441503" y="356883"/>
                  </a:cubicBezTo>
                  <a:lnTo>
                    <a:pt x="2412509" y="456800"/>
                  </a:lnTo>
                  <a:lnTo>
                    <a:pt x="2413768" y="457517"/>
                  </a:lnTo>
                  <a:lnTo>
                    <a:pt x="2431879" y="437499"/>
                  </a:lnTo>
                  <a:lnTo>
                    <a:pt x="2472056" y="386853"/>
                  </a:lnTo>
                  <a:lnTo>
                    <a:pt x="2475740" y="389015"/>
                  </a:lnTo>
                  <a:lnTo>
                    <a:pt x="2526721" y="332662"/>
                  </a:lnTo>
                  <a:lnTo>
                    <a:pt x="2531170" y="334884"/>
                  </a:lnTo>
                  <a:lnTo>
                    <a:pt x="2496949" y="401449"/>
                  </a:lnTo>
                  <a:cubicBezTo>
                    <a:pt x="2506674" y="404530"/>
                    <a:pt x="2514910" y="410221"/>
                    <a:pt x="2522744" y="416573"/>
                  </a:cubicBezTo>
                  <a:lnTo>
                    <a:pt x="2495067" y="488040"/>
                  </a:lnTo>
                  <a:lnTo>
                    <a:pt x="2648034" y="326847"/>
                  </a:lnTo>
                  <a:cubicBezTo>
                    <a:pt x="2665492" y="336252"/>
                    <a:pt x="2588769" y="447990"/>
                    <a:pt x="2602718" y="462235"/>
                  </a:cubicBezTo>
                  <a:lnTo>
                    <a:pt x="2595374" y="476466"/>
                  </a:lnTo>
                  <a:lnTo>
                    <a:pt x="2597794" y="474185"/>
                  </a:lnTo>
                  <a:lnTo>
                    <a:pt x="2572675" y="520447"/>
                  </a:lnTo>
                  <a:lnTo>
                    <a:pt x="2562461" y="540239"/>
                  </a:lnTo>
                  <a:lnTo>
                    <a:pt x="2737044" y="387114"/>
                  </a:lnTo>
                  <a:lnTo>
                    <a:pt x="2636116" y="499570"/>
                  </a:lnTo>
                  <a:cubicBezTo>
                    <a:pt x="2650716" y="508913"/>
                    <a:pt x="2731337" y="446168"/>
                    <a:pt x="2742340" y="459812"/>
                  </a:cubicBezTo>
                  <a:lnTo>
                    <a:pt x="2633464" y="599021"/>
                  </a:lnTo>
                  <a:lnTo>
                    <a:pt x="2701707" y="552830"/>
                  </a:lnTo>
                  <a:cubicBezTo>
                    <a:pt x="2716822" y="565684"/>
                    <a:pt x="2730030" y="580442"/>
                    <a:pt x="2740779" y="597384"/>
                  </a:cubicBezTo>
                  <a:lnTo>
                    <a:pt x="2704795" y="642646"/>
                  </a:lnTo>
                  <a:lnTo>
                    <a:pt x="2774031" y="598796"/>
                  </a:lnTo>
                  <a:lnTo>
                    <a:pt x="2729083" y="651476"/>
                  </a:lnTo>
                  <a:lnTo>
                    <a:pt x="2742863" y="644737"/>
                  </a:lnTo>
                  <a:lnTo>
                    <a:pt x="2765754" y="632033"/>
                  </a:lnTo>
                  <a:cubicBezTo>
                    <a:pt x="2779565" y="646115"/>
                    <a:pt x="2791460" y="661837"/>
                    <a:pt x="2800531" y="679682"/>
                  </a:cubicBezTo>
                  <a:lnTo>
                    <a:pt x="2746075" y="736953"/>
                  </a:lnTo>
                  <a:lnTo>
                    <a:pt x="2820985" y="705608"/>
                  </a:lnTo>
                  <a:cubicBezTo>
                    <a:pt x="2833822" y="704520"/>
                    <a:pt x="2997305" y="617686"/>
                    <a:pt x="3002206" y="626295"/>
                  </a:cubicBezTo>
                  <a:cubicBezTo>
                    <a:pt x="3010425" y="632514"/>
                    <a:pt x="2807811" y="744480"/>
                    <a:pt x="2782509" y="766308"/>
                  </a:cubicBezTo>
                  <a:cubicBezTo>
                    <a:pt x="2757207" y="788136"/>
                    <a:pt x="2861561" y="748229"/>
                    <a:pt x="2850392" y="757265"/>
                  </a:cubicBezTo>
                  <a:lnTo>
                    <a:pt x="2803288" y="797137"/>
                  </a:lnTo>
                  <a:lnTo>
                    <a:pt x="2918663" y="750634"/>
                  </a:lnTo>
                  <a:lnTo>
                    <a:pt x="2859463" y="797257"/>
                  </a:lnTo>
                  <a:lnTo>
                    <a:pt x="2871240" y="793502"/>
                  </a:lnTo>
                  <a:cubicBezTo>
                    <a:pt x="2865967" y="809842"/>
                    <a:pt x="2821638" y="881004"/>
                    <a:pt x="2827823" y="895295"/>
                  </a:cubicBezTo>
                  <a:lnTo>
                    <a:pt x="3060138" y="813742"/>
                  </a:lnTo>
                  <a:cubicBezTo>
                    <a:pt x="3069151" y="831489"/>
                    <a:pt x="2911908" y="893938"/>
                    <a:pt x="2915176" y="913943"/>
                  </a:cubicBezTo>
                  <a:lnTo>
                    <a:pt x="2900719" y="950450"/>
                  </a:lnTo>
                  <a:lnTo>
                    <a:pt x="3021902" y="924767"/>
                  </a:lnTo>
                  <a:lnTo>
                    <a:pt x="3022264" y="925889"/>
                  </a:lnTo>
                  <a:lnTo>
                    <a:pt x="2929554" y="974224"/>
                  </a:lnTo>
                  <a:lnTo>
                    <a:pt x="2942942" y="972743"/>
                  </a:lnTo>
                  <a:lnTo>
                    <a:pt x="2953343" y="1000642"/>
                  </a:lnTo>
                  <a:cubicBezTo>
                    <a:pt x="2955873" y="1010257"/>
                    <a:pt x="2958256" y="1019876"/>
                    <a:pt x="2958032" y="1030081"/>
                  </a:cubicBezTo>
                  <a:lnTo>
                    <a:pt x="2875574" y="1066541"/>
                  </a:lnTo>
                  <a:lnTo>
                    <a:pt x="2960183" y="1066825"/>
                  </a:lnTo>
                  <a:lnTo>
                    <a:pt x="2967497" y="1095935"/>
                  </a:lnTo>
                  <a:cubicBezTo>
                    <a:pt x="2967834" y="1102831"/>
                    <a:pt x="2968170" y="1109727"/>
                    <a:pt x="2968507" y="1116623"/>
                  </a:cubicBezTo>
                  <a:lnTo>
                    <a:pt x="3063415" y="1112952"/>
                  </a:lnTo>
                  <a:lnTo>
                    <a:pt x="3064219" y="1120612"/>
                  </a:lnTo>
                  <a:lnTo>
                    <a:pt x="2940742" y="1159184"/>
                  </a:lnTo>
                  <a:lnTo>
                    <a:pt x="2979145" y="1162594"/>
                  </a:lnTo>
                  <a:cubicBezTo>
                    <a:pt x="2983978" y="1182120"/>
                    <a:pt x="2985250" y="1201893"/>
                    <a:pt x="2983928" y="1221673"/>
                  </a:cubicBezTo>
                  <a:lnTo>
                    <a:pt x="2888005" y="1242926"/>
                  </a:lnTo>
                  <a:lnTo>
                    <a:pt x="2975563" y="1260969"/>
                  </a:lnTo>
                  <a:lnTo>
                    <a:pt x="2974783" y="1288916"/>
                  </a:lnTo>
                  <a:lnTo>
                    <a:pt x="3069349" y="1301353"/>
                  </a:lnTo>
                  <a:lnTo>
                    <a:pt x="3068138" y="1313432"/>
                  </a:lnTo>
                  <a:lnTo>
                    <a:pt x="2906374" y="1334709"/>
                  </a:lnTo>
                  <a:lnTo>
                    <a:pt x="2978533" y="1356015"/>
                  </a:lnTo>
                  <a:cubicBezTo>
                    <a:pt x="2979434" y="1376063"/>
                    <a:pt x="2935489" y="1381634"/>
                    <a:pt x="2930431" y="1400802"/>
                  </a:cubicBezTo>
                  <a:lnTo>
                    <a:pt x="2865669" y="1416917"/>
                  </a:lnTo>
                  <a:lnTo>
                    <a:pt x="2953943" y="1454487"/>
                  </a:lnTo>
                  <a:lnTo>
                    <a:pt x="2952871" y="1459232"/>
                  </a:lnTo>
                  <a:lnTo>
                    <a:pt x="3040679" y="1486661"/>
                  </a:lnTo>
                  <a:cubicBezTo>
                    <a:pt x="3039545" y="1491388"/>
                    <a:pt x="3038318" y="1496089"/>
                    <a:pt x="3036512" y="1500634"/>
                  </a:cubicBezTo>
                  <a:lnTo>
                    <a:pt x="2944341" y="1497068"/>
                  </a:lnTo>
                  <a:cubicBezTo>
                    <a:pt x="2944457" y="1502645"/>
                    <a:pt x="2942733" y="1507654"/>
                    <a:pt x="2940836" y="1512613"/>
                  </a:cubicBezTo>
                  <a:lnTo>
                    <a:pt x="2864178" y="1505327"/>
                  </a:lnTo>
                  <a:lnTo>
                    <a:pt x="2940592" y="1545613"/>
                  </a:lnTo>
                  <a:cubicBezTo>
                    <a:pt x="2937366" y="1565358"/>
                    <a:pt x="2931031" y="1584104"/>
                    <a:pt x="2922196" y="1601877"/>
                  </a:cubicBezTo>
                  <a:lnTo>
                    <a:pt x="2820194" y="1583387"/>
                  </a:lnTo>
                  <a:lnTo>
                    <a:pt x="2977076" y="1665179"/>
                  </a:lnTo>
                  <a:cubicBezTo>
                    <a:pt x="2975521" y="1670009"/>
                    <a:pt x="2973387" y="1674575"/>
                    <a:pt x="2971194" y="1679113"/>
                  </a:cubicBezTo>
                  <a:lnTo>
                    <a:pt x="2886088" y="1661076"/>
                  </a:lnTo>
                  <a:cubicBezTo>
                    <a:pt x="2883423" y="1673135"/>
                    <a:pt x="2877760" y="1683870"/>
                    <a:pt x="2871205" y="1694131"/>
                  </a:cubicBezTo>
                  <a:lnTo>
                    <a:pt x="2805425" y="1674188"/>
                  </a:lnTo>
                  <a:lnTo>
                    <a:pt x="2866875" y="1724133"/>
                  </a:lnTo>
                  <a:lnTo>
                    <a:pt x="2859312" y="1737347"/>
                  </a:lnTo>
                  <a:lnTo>
                    <a:pt x="2891010" y="1736121"/>
                  </a:lnTo>
                  <a:lnTo>
                    <a:pt x="2891814" y="1743781"/>
                  </a:lnTo>
                  <a:lnTo>
                    <a:pt x="2847753" y="1757545"/>
                  </a:lnTo>
                  <a:cubicBezTo>
                    <a:pt x="2845782" y="1764416"/>
                    <a:pt x="2841799" y="1770021"/>
                    <a:pt x="2837513" y="1775437"/>
                  </a:cubicBezTo>
                  <a:lnTo>
                    <a:pt x="2816793" y="1767216"/>
                  </a:lnTo>
                  <a:lnTo>
                    <a:pt x="2801747" y="1771916"/>
                  </a:lnTo>
                  <a:lnTo>
                    <a:pt x="2880002" y="1833544"/>
                  </a:lnTo>
                  <a:lnTo>
                    <a:pt x="2872204" y="1845266"/>
                  </a:lnTo>
                  <a:lnTo>
                    <a:pt x="2809511" y="1819999"/>
                  </a:lnTo>
                  <a:cubicBezTo>
                    <a:pt x="2812176" y="1828189"/>
                    <a:pt x="2812079" y="1836515"/>
                    <a:pt x="2811523" y="1844843"/>
                  </a:cubicBezTo>
                  <a:lnTo>
                    <a:pt x="2771348" y="1853743"/>
                  </a:lnTo>
                  <a:cubicBezTo>
                    <a:pt x="2770661" y="1855575"/>
                    <a:pt x="2769408" y="1856884"/>
                    <a:pt x="2768136" y="1858177"/>
                  </a:cubicBezTo>
                  <a:lnTo>
                    <a:pt x="2763231" y="1855542"/>
                  </a:lnTo>
                  <a:lnTo>
                    <a:pt x="2740214" y="1860641"/>
                  </a:lnTo>
                  <a:lnTo>
                    <a:pt x="2750732" y="1873334"/>
                  </a:lnTo>
                  <a:lnTo>
                    <a:pt x="2803157" y="1884138"/>
                  </a:lnTo>
                  <a:lnTo>
                    <a:pt x="2802377" y="1912085"/>
                  </a:lnTo>
                  <a:lnTo>
                    <a:pt x="2896943" y="1924522"/>
                  </a:lnTo>
                  <a:lnTo>
                    <a:pt x="2895732" y="1936601"/>
                  </a:lnTo>
                  <a:lnTo>
                    <a:pt x="2733969" y="1957878"/>
                  </a:lnTo>
                  <a:lnTo>
                    <a:pt x="2806128" y="1979184"/>
                  </a:lnTo>
                  <a:cubicBezTo>
                    <a:pt x="2807028" y="1999232"/>
                    <a:pt x="2804439" y="2018860"/>
                    <a:pt x="2799381" y="2038028"/>
                  </a:cubicBezTo>
                  <a:lnTo>
                    <a:pt x="2693264" y="2040086"/>
                  </a:lnTo>
                  <a:lnTo>
                    <a:pt x="2781537" y="2077656"/>
                  </a:lnTo>
                  <a:lnTo>
                    <a:pt x="2780465" y="2082402"/>
                  </a:lnTo>
                  <a:lnTo>
                    <a:pt x="2868273" y="2109830"/>
                  </a:lnTo>
                  <a:cubicBezTo>
                    <a:pt x="2867140" y="2114557"/>
                    <a:pt x="2865913" y="2119259"/>
                    <a:pt x="2864106" y="2123803"/>
                  </a:cubicBezTo>
                  <a:lnTo>
                    <a:pt x="2771935" y="2120237"/>
                  </a:lnTo>
                  <a:cubicBezTo>
                    <a:pt x="2772052" y="2125815"/>
                    <a:pt x="2770327" y="2130823"/>
                    <a:pt x="2768431" y="2135782"/>
                  </a:cubicBezTo>
                  <a:lnTo>
                    <a:pt x="2691773" y="2128496"/>
                  </a:lnTo>
                  <a:lnTo>
                    <a:pt x="2768186" y="2168782"/>
                  </a:lnTo>
                  <a:cubicBezTo>
                    <a:pt x="2764960" y="2188527"/>
                    <a:pt x="2758625" y="2207273"/>
                    <a:pt x="2749791" y="2225046"/>
                  </a:cubicBezTo>
                  <a:lnTo>
                    <a:pt x="2647789" y="2206556"/>
                  </a:lnTo>
                  <a:lnTo>
                    <a:pt x="2804671" y="2288348"/>
                  </a:lnTo>
                  <a:cubicBezTo>
                    <a:pt x="2803116" y="2293179"/>
                    <a:pt x="2800981" y="2297744"/>
                    <a:pt x="2798789" y="2302282"/>
                  </a:cubicBezTo>
                  <a:lnTo>
                    <a:pt x="2713682" y="2284245"/>
                  </a:lnTo>
                  <a:cubicBezTo>
                    <a:pt x="2711017" y="2296304"/>
                    <a:pt x="2705354" y="2307039"/>
                    <a:pt x="2698800" y="2317300"/>
                  </a:cubicBezTo>
                  <a:lnTo>
                    <a:pt x="2633019" y="2297357"/>
                  </a:lnTo>
                  <a:lnTo>
                    <a:pt x="2694469" y="2347302"/>
                  </a:lnTo>
                  <a:cubicBezTo>
                    <a:pt x="2687252" y="2365878"/>
                    <a:pt x="2677437" y="2383028"/>
                    <a:pt x="2665108" y="2398606"/>
                  </a:cubicBezTo>
                  <a:lnTo>
                    <a:pt x="2602038" y="2373583"/>
                  </a:lnTo>
                  <a:lnTo>
                    <a:pt x="2707597" y="2456713"/>
                  </a:lnTo>
                  <a:lnTo>
                    <a:pt x="2699798" y="2468436"/>
                  </a:lnTo>
                  <a:lnTo>
                    <a:pt x="2626490" y="2438890"/>
                  </a:lnTo>
                  <a:cubicBezTo>
                    <a:pt x="2618636" y="2454739"/>
                    <a:pt x="2608097" y="2468775"/>
                    <a:pt x="2595730" y="2481346"/>
                  </a:cubicBezTo>
                  <a:lnTo>
                    <a:pt x="2541721" y="2452328"/>
                  </a:lnTo>
                  <a:lnTo>
                    <a:pt x="2587853" y="2507999"/>
                  </a:lnTo>
                  <a:cubicBezTo>
                    <a:pt x="2591104" y="2519934"/>
                    <a:pt x="2709358" y="2554073"/>
                    <a:pt x="2702846" y="2561430"/>
                  </a:cubicBezTo>
                  <a:cubicBezTo>
                    <a:pt x="2696334" y="2568787"/>
                    <a:pt x="2558794" y="2552591"/>
                    <a:pt x="2548783" y="2552143"/>
                  </a:cubicBezTo>
                  <a:lnTo>
                    <a:pt x="2501157" y="2521250"/>
                  </a:lnTo>
                  <a:lnTo>
                    <a:pt x="2576743" y="2609838"/>
                  </a:lnTo>
                  <a:lnTo>
                    <a:pt x="2568619" y="2618095"/>
                  </a:lnTo>
                  <a:lnTo>
                    <a:pt x="2503739" y="2577004"/>
                  </a:lnTo>
                  <a:lnTo>
                    <a:pt x="2507015" y="2582020"/>
                  </a:lnTo>
                  <a:cubicBezTo>
                    <a:pt x="2494434" y="2597395"/>
                    <a:pt x="2479974" y="2610824"/>
                    <a:pt x="2463368" y="2621743"/>
                  </a:cubicBezTo>
                  <a:lnTo>
                    <a:pt x="2420840" y="2586613"/>
                  </a:lnTo>
                  <a:lnTo>
                    <a:pt x="2452239" y="2644579"/>
                  </a:lnTo>
                  <a:cubicBezTo>
                    <a:pt x="2438327" y="2658556"/>
                    <a:pt x="2422797" y="2670595"/>
                    <a:pt x="2405165" y="2679777"/>
                  </a:cubicBezTo>
                  <a:lnTo>
                    <a:pt x="2353538" y="2629482"/>
                  </a:lnTo>
                  <a:lnTo>
                    <a:pt x="2357459" y="2636976"/>
                  </a:lnTo>
                  <a:lnTo>
                    <a:pt x="2356881" y="2637439"/>
                  </a:lnTo>
                  <a:lnTo>
                    <a:pt x="2412911" y="2740630"/>
                  </a:lnTo>
                  <a:lnTo>
                    <a:pt x="2406026" y="2745360"/>
                  </a:lnTo>
                  <a:lnTo>
                    <a:pt x="2354831" y="2697106"/>
                  </a:lnTo>
                  <a:lnTo>
                    <a:pt x="2357315" y="2703243"/>
                  </a:lnTo>
                  <a:cubicBezTo>
                    <a:pt x="2341961" y="2715648"/>
                    <a:pt x="2325207" y="2725923"/>
                    <a:pt x="2306678" y="2733102"/>
                  </a:cubicBezTo>
                  <a:lnTo>
                    <a:pt x="2274922" y="2694184"/>
                  </a:lnTo>
                  <a:lnTo>
                    <a:pt x="2292714" y="2751348"/>
                  </a:lnTo>
                  <a:cubicBezTo>
                    <a:pt x="2276420" y="2762347"/>
                    <a:pt x="2258842" y="2771069"/>
                    <a:pt x="2239699" y="2776538"/>
                  </a:cubicBezTo>
                  <a:lnTo>
                    <a:pt x="2201943" y="2721645"/>
                  </a:lnTo>
                  <a:lnTo>
                    <a:pt x="2207740" y="2741189"/>
                  </a:lnTo>
                  <a:lnTo>
                    <a:pt x="2193536" y="2748379"/>
                  </a:lnTo>
                  <a:lnTo>
                    <a:pt x="2219845" y="2840528"/>
                  </a:lnTo>
                  <a:lnTo>
                    <a:pt x="2214830" y="2842693"/>
                  </a:lnTo>
                  <a:lnTo>
                    <a:pt x="2180704" y="2794104"/>
                  </a:lnTo>
                  <a:cubicBezTo>
                    <a:pt x="2165463" y="2802537"/>
                    <a:pt x="2149009" y="2808150"/>
                    <a:pt x="2131614" y="2811068"/>
                  </a:cubicBezTo>
                  <a:lnTo>
                    <a:pt x="2116423" y="2782574"/>
                  </a:lnTo>
                  <a:lnTo>
                    <a:pt x="2111382" y="2784572"/>
                  </a:lnTo>
                  <a:lnTo>
                    <a:pt x="2115631" y="2823924"/>
                  </a:lnTo>
                  <a:lnTo>
                    <a:pt x="2088066" y="2834452"/>
                  </a:lnTo>
                  <a:cubicBezTo>
                    <a:pt x="2078567" y="2837012"/>
                    <a:pt x="2069065" y="2839424"/>
                    <a:pt x="2058981" y="2839198"/>
                  </a:cubicBezTo>
                  <a:lnTo>
                    <a:pt x="2039974" y="2795155"/>
                  </a:lnTo>
                  <a:lnTo>
                    <a:pt x="2041758" y="2813451"/>
                  </a:lnTo>
                  <a:lnTo>
                    <a:pt x="2003107" y="2823784"/>
                  </a:lnTo>
                  <a:lnTo>
                    <a:pt x="2003080" y="2844337"/>
                  </a:lnTo>
                  <a:lnTo>
                    <a:pt x="2002572" y="2844468"/>
                  </a:lnTo>
                  <a:lnTo>
                    <a:pt x="2005559" y="2901754"/>
                  </a:lnTo>
                  <a:lnTo>
                    <a:pt x="2001679" y="2902587"/>
                  </a:lnTo>
                  <a:lnTo>
                    <a:pt x="1979711" y="2850387"/>
                  </a:lnTo>
                  <a:lnTo>
                    <a:pt x="1974525" y="2851730"/>
                  </a:lnTo>
                  <a:lnTo>
                    <a:pt x="1972692" y="2851819"/>
                  </a:lnTo>
                  <a:lnTo>
                    <a:pt x="1976200" y="2893159"/>
                  </a:lnTo>
                  <a:lnTo>
                    <a:pt x="1960919" y="2852392"/>
                  </a:lnTo>
                  <a:cubicBezTo>
                    <a:pt x="1955748" y="2853859"/>
                    <a:pt x="1950458" y="2853900"/>
                    <a:pt x="1945084" y="2853161"/>
                  </a:cubicBezTo>
                  <a:lnTo>
                    <a:pt x="1940964" y="2839662"/>
                  </a:lnTo>
                  <a:lnTo>
                    <a:pt x="1929704" y="2841649"/>
                  </a:lnTo>
                  <a:lnTo>
                    <a:pt x="1928066" y="2860568"/>
                  </a:lnTo>
                  <a:cubicBezTo>
                    <a:pt x="1908773" y="2865460"/>
                    <a:pt x="1889237" y="2866744"/>
                    <a:pt x="1869696" y="2865411"/>
                  </a:cubicBezTo>
                  <a:lnTo>
                    <a:pt x="1866099" y="2848773"/>
                  </a:lnTo>
                  <a:cubicBezTo>
                    <a:pt x="1866044" y="2849363"/>
                    <a:pt x="1865990" y="2849952"/>
                    <a:pt x="1865935" y="2850542"/>
                  </a:cubicBezTo>
                  <a:lnTo>
                    <a:pt x="1813756" y="2853571"/>
                  </a:lnTo>
                  <a:lnTo>
                    <a:pt x="1812568" y="2859611"/>
                  </a:lnTo>
                  <a:lnTo>
                    <a:pt x="1802645" y="2859304"/>
                  </a:lnTo>
                  <a:lnTo>
                    <a:pt x="1797820" y="2918996"/>
                  </a:lnTo>
                  <a:lnTo>
                    <a:pt x="1789986" y="2919118"/>
                  </a:lnTo>
                  <a:lnTo>
                    <a:pt x="1785782" y="2895724"/>
                  </a:lnTo>
                  <a:lnTo>
                    <a:pt x="1781613" y="2919247"/>
                  </a:lnTo>
                  <a:lnTo>
                    <a:pt x="1776937" y="2919320"/>
                  </a:lnTo>
                  <a:lnTo>
                    <a:pt x="1766366" y="2859660"/>
                  </a:lnTo>
                  <a:lnTo>
                    <a:pt x="1747300" y="2861451"/>
                  </a:lnTo>
                  <a:cubicBezTo>
                    <a:pt x="1738176" y="2861349"/>
                    <a:pt x="1729091" y="2861109"/>
                    <a:pt x="1720183" y="2858282"/>
                  </a:cubicBezTo>
                  <a:cubicBezTo>
                    <a:pt x="1720171" y="2858179"/>
                    <a:pt x="1720159" y="2858075"/>
                    <a:pt x="1720147" y="2857972"/>
                  </a:cubicBezTo>
                  <a:cubicBezTo>
                    <a:pt x="1706090" y="2859152"/>
                    <a:pt x="1692348" y="2856771"/>
                    <a:pt x="1678834" y="2853118"/>
                  </a:cubicBezTo>
                  <a:cubicBezTo>
                    <a:pt x="1678819" y="2852303"/>
                    <a:pt x="1678804" y="2851489"/>
                    <a:pt x="1678789" y="2850674"/>
                  </a:cubicBezTo>
                  <a:lnTo>
                    <a:pt x="1659803" y="2850239"/>
                  </a:lnTo>
                  <a:lnTo>
                    <a:pt x="1641355" y="2845877"/>
                  </a:lnTo>
                  <a:lnTo>
                    <a:pt x="1627274" y="2903150"/>
                  </a:lnTo>
                  <a:lnTo>
                    <a:pt x="1612101" y="2900429"/>
                  </a:lnTo>
                  <a:cubicBezTo>
                    <a:pt x="1611920" y="2878481"/>
                    <a:pt x="1611740" y="2856533"/>
                    <a:pt x="1611559" y="2834585"/>
                  </a:cubicBezTo>
                  <a:lnTo>
                    <a:pt x="1602504" y="2832449"/>
                  </a:lnTo>
                  <a:lnTo>
                    <a:pt x="1598132" y="2844028"/>
                  </a:lnTo>
                  <a:lnTo>
                    <a:pt x="1582797" y="2840949"/>
                  </a:lnTo>
                  <a:lnTo>
                    <a:pt x="1561825" y="2890787"/>
                  </a:lnTo>
                  <a:lnTo>
                    <a:pt x="1553669" y="2888503"/>
                  </a:lnTo>
                  <a:lnTo>
                    <a:pt x="1556423" y="2835652"/>
                  </a:lnTo>
                  <a:cubicBezTo>
                    <a:pt x="1552290" y="2835943"/>
                    <a:pt x="1548601" y="2834701"/>
                    <a:pt x="1544946" y="2833348"/>
                  </a:cubicBezTo>
                  <a:lnTo>
                    <a:pt x="1545888" y="2820284"/>
                  </a:lnTo>
                  <a:lnTo>
                    <a:pt x="1515383" y="2810065"/>
                  </a:lnTo>
                  <a:lnTo>
                    <a:pt x="1512646" y="2815454"/>
                  </a:lnTo>
                  <a:lnTo>
                    <a:pt x="1488297" y="2807560"/>
                  </a:lnTo>
                  <a:lnTo>
                    <a:pt x="1464730" y="2863162"/>
                  </a:lnTo>
                  <a:lnTo>
                    <a:pt x="1446919" y="2856294"/>
                  </a:lnTo>
                  <a:lnTo>
                    <a:pt x="1459735" y="2773895"/>
                  </a:lnTo>
                  <a:cubicBezTo>
                    <a:pt x="1455513" y="2776837"/>
                    <a:pt x="1450763" y="2777853"/>
                    <a:pt x="1445940" y="2778662"/>
                  </a:cubicBezTo>
                  <a:lnTo>
                    <a:pt x="1443121" y="2773375"/>
                  </a:lnTo>
                  <a:lnTo>
                    <a:pt x="1440483" y="2777382"/>
                  </a:lnTo>
                  <a:lnTo>
                    <a:pt x="1438887" y="2776634"/>
                  </a:lnTo>
                  <a:lnTo>
                    <a:pt x="1429930" y="2791265"/>
                  </a:lnTo>
                  <a:cubicBezTo>
                    <a:pt x="1429939" y="2791349"/>
                    <a:pt x="1429948" y="2791434"/>
                    <a:pt x="1429957" y="2791518"/>
                  </a:cubicBezTo>
                  <a:lnTo>
                    <a:pt x="1429719" y="2791608"/>
                  </a:lnTo>
                  <a:lnTo>
                    <a:pt x="1428342" y="2793859"/>
                  </a:lnTo>
                  <a:lnTo>
                    <a:pt x="1426215" y="2792947"/>
                  </a:lnTo>
                  <a:lnTo>
                    <a:pt x="1402392" y="2802046"/>
                  </a:lnTo>
                  <a:cubicBezTo>
                    <a:pt x="1392894" y="2804606"/>
                    <a:pt x="1383391" y="2807018"/>
                    <a:pt x="1373307" y="2806792"/>
                  </a:cubicBezTo>
                  <a:lnTo>
                    <a:pt x="1371639" y="2802925"/>
                  </a:lnTo>
                  <a:lnTo>
                    <a:pt x="1359093" y="2820788"/>
                  </a:lnTo>
                  <a:lnTo>
                    <a:pt x="1346170" y="2814336"/>
                  </a:lnTo>
                  <a:lnTo>
                    <a:pt x="1355641" y="2781164"/>
                  </a:lnTo>
                  <a:lnTo>
                    <a:pt x="1317433" y="2791378"/>
                  </a:lnTo>
                  <a:lnTo>
                    <a:pt x="1317406" y="2811931"/>
                  </a:lnTo>
                  <a:lnTo>
                    <a:pt x="1316898" y="2812063"/>
                  </a:lnTo>
                  <a:lnTo>
                    <a:pt x="1319885" y="2869348"/>
                  </a:lnTo>
                  <a:lnTo>
                    <a:pt x="1316005" y="2870181"/>
                  </a:lnTo>
                  <a:lnTo>
                    <a:pt x="1294037" y="2817981"/>
                  </a:lnTo>
                  <a:lnTo>
                    <a:pt x="1288851" y="2819324"/>
                  </a:lnTo>
                  <a:lnTo>
                    <a:pt x="1287018" y="2819413"/>
                  </a:lnTo>
                  <a:lnTo>
                    <a:pt x="1290526" y="2860753"/>
                  </a:lnTo>
                  <a:lnTo>
                    <a:pt x="1275246" y="2819986"/>
                  </a:lnTo>
                  <a:cubicBezTo>
                    <a:pt x="1270074" y="2821453"/>
                    <a:pt x="1264784" y="2821494"/>
                    <a:pt x="1259411" y="2820755"/>
                  </a:cubicBezTo>
                  <a:lnTo>
                    <a:pt x="1255291" y="2807256"/>
                  </a:lnTo>
                  <a:lnTo>
                    <a:pt x="1244031" y="2809243"/>
                  </a:lnTo>
                  <a:lnTo>
                    <a:pt x="1242392" y="2828162"/>
                  </a:lnTo>
                  <a:cubicBezTo>
                    <a:pt x="1223099" y="2833054"/>
                    <a:pt x="1203563" y="2834338"/>
                    <a:pt x="1184023" y="2833005"/>
                  </a:cubicBezTo>
                  <a:lnTo>
                    <a:pt x="1180425" y="2816367"/>
                  </a:lnTo>
                  <a:cubicBezTo>
                    <a:pt x="1180370" y="2816957"/>
                    <a:pt x="1180316" y="2817546"/>
                    <a:pt x="1180261" y="2818136"/>
                  </a:cubicBezTo>
                  <a:lnTo>
                    <a:pt x="1128083" y="2821165"/>
                  </a:lnTo>
                  <a:lnTo>
                    <a:pt x="1126895" y="2827205"/>
                  </a:lnTo>
                  <a:lnTo>
                    <a:pt x="1116971" y="2826898"/>
                  </a:lnTo>
                  <a:lnTo>
                    <a:pt x="1112147" y="2886590"/>
                  </a:lnTo>
                  <a:lnTo>
                    <a:pt x="1104312" y="2886712"/>
                  </a:lnTo>
                  <a:lnTo>
                    <a:pt x="1100108" y="2863318"/>
                  </a:lnTo>
                  <a:lnTo>
                    <a:pt x="1095939" y="2886841"/>
                  </a:lnTo>
                  <a:lnTo>
                    <a:pt x="1047152" y="2980154"/>
                  </a:lnTo>
                  <a:lnTo>
                    <a:pt x="1080692" y="2827254"/>
                  </a:lnTo>
                  <a:lnTo>
                    <a:pt x="1061626" y="2829045"/>
                  </a:lnTo>
                  <a:cubicBezTo>
                    <a:pt x="1052502" y="2828943"/>
                    <a:pt x="1043417" y="2828703"/>
                    <a:pt x="1034509" y="2825876"/>
                  </a:cubicBezTo>
                  <a:cubicBezTo>
                    <a:pt x="1034497" y="2825773"/>
                    <a:pt x="1034485" y="2825669"/>
                    <a:pt x="1034473" y="2825566"/>
                  </a:cubicBezTo>
                  <a:cubicBezTo>
                    <a:pt x="1020417" y="2826746"/>
                    <a:pt x="1006674" y="2824365"/>
                    <a:pt x="993160" y="2820712"/>
                  </a:cubicBezTo>
                  <a:cubicBezTo>
                    <a:pt x="993145" y="2819897"/>
                    <a:pt x="993130" y="2819083"/>
                    <a:pt x="993115" y="2818268"/>
                  </a:cubicBezTo>
                  <a:lnTo>
                    <a:pt x="974129" y="2817832"/>
                  </a:lnTo>
                  <a:lnTo>
                    <a:pt x="955682" y="2813471"/>
                  </a:lnTo>
                  <a:lnTo>
                    <a:pt x="941601" y="2870744"/>
                  </a:lnTo>
                  <a:lnTo>
                    <a:pt x="926428" y="2868023"/>
                  </a:lnTo>
                  <a:lnTo>
                    <a:pt x="925885" y="2802179"/>
                  </a:lnTo>
                  <a:lnTo>
                    <a:pt x="916830" y="2800043"/>
                  </a:lnTo>
                  <a:lnTo>
                    <a:pt x="912459" y="2811622"/>
                  </a:lnTo>
                  <a:lnTo>
                    <a:pt x="897123" y="2808542"/>
                  </a:lnTo>
                  <a:lnTo>
                    <a:pt x="876151" y="2858381"/>
                  </a:lnTo>
                  <a:lnTo>
                    <a:pt x="867995" y="2856097"/>
                  </a:lnTo>
                  <a:lnTo>
                    <a:pt x="870749" y="2803246"/>
                  </a:lnTo>
                  <a:cubicBezTo>
                    <a:pt x="866616" y="2803537"/>
                    <a:pt x="862928" y="2802295"/>
                    <a:pt x="859273" y="2800942"/>
                  </a:cubicBezTo>
                  <a:cubicBezTo>
                    <a:pt x="859587" y="2796587"/>
                    <a:pt x="790029" y="2929943"/>
                    <a:pt x="790343" y="2925588"/>
                  </a:cubicBezTo>
                  <a:lnTo>
                    <a:pt x="829709" y="2777659"/>
                  </a:lnTo>
                  <a:lnTo>
                    <a:pt x="826972" y="2783048"/>
                  </a:lnTo>
                  <a:lnTo>
                    <a:pt x="802623" y="2775154"/>
                  </a:lnTo>
                  <a:lnTo>
                    <a:pt x="779056" y="2830757"/>
                  </a:lnTo>
                  <a:lnTo>
                    <a:pt x="761245" y="2823888"/>
                  </a:lnTo>
                  <a:lnTo>
                    <a:pt x="779305" y="2707775"/>
                  </a:lnTo>
                  <a:lnTo>
                    <a:pt x="754809" y="2744976"/>
                  </a:lnTo>
                  <a:lnTo>
                    <a:pt x="753214" y="2744228"/>
                  </a:lnTo>
                  <a:lnTo>
                    <a:pt x="742668" y="2761453"/>
                  </a:lnTo>
                  <a:lnTo>
                    <a:pt x="703981" y="2744868"/>
                  </a:lnTo>
                  <a:lnTo>
                    <a:pt x="673419" y="2788382"/>
                  </a:lnTo>
                  <a:lnTo>
                    <a:pt x="660497" y="2781930"/>
                  </a:lnTo>
                  <a:lnTo>
                    <a:pt x="680869" y="2710571"/>
                  </a:lnTo>
                  <a:lnTo>
                    <a:pt x="669790" y="2704074"/>
                  </a:lnTo>
                  <a:lnTo>
                    <a:pt x="662690" y="2713227"/>
                  </a:lnTo>
                  <a:lnTo>
                    <a:pt x="658806" y="2711011"/>
                  </a:lnTo>
                  <a:lnTo>
                    <a:pt x="625103" y="2764259"/>
                  </a:lnTo>
                  <a:lnTo>
                    <a:pt x="607635" y="2755537"/>
                  </a:lnTo>
                  <a:lnTo>
                    <a:pt x="627830" y="2693339"/>
                  </a:lnTo>
                  <a:cubicBezTo>
                    <a:pt x="622899" y="2692017"/>
                    <a:pt x="618955" y="2689122"/>
                    <a:pt x="615104" y="2686080"/>
                  </a:cubicBezTo>
                  <a:lnTo>
                    <a:pt x="641907" y="2616327"/>
                  </a:lnTo>
                  <a:lnTo>
                    <a:pt x="586171" y="2677387"/>
                  </a:lnTo>
                  <a:cubicBezTo>
                    <a:pt x="569683" y="2669310"/>
                    <a:pt x="554897" y="2658584"/>
                    <a:pt x="541632" y="2645775"/>
                  </a:cubicBezTo>
                  <a:lnTo>
                    <a:pt x="544532" y="2639723"/>
                  </a:lnTo>
                  <a:lnTo>
                    <a:pt x="496234" y="2685246"/>
                  </a:lnTo>
                  <a:lnTo>
                    <a:pt x="479431" y="2672351"/>
                  </a:lnTo>
                  <a:lnTo>
                    <a:pt x="479986" y="2671329"/>
                  </a:lnTo>
                  <a:lnTo>
                    <a:pt x="479214" y="2672184"/>
                  </a:lnTo>
                  <a:lnTo>
                    <a:pt x="465796" y="2661887"/>
                  </a:lnTo>
                  <a:lnTo>
                    <a:pt x="499225" y="2596861"/>
                  </a:lnTo>
                  <a:cubicBezTo>
                    <a:pt x="489337" y="2591278"/>
                    <a:pt x="481413" y="2583235"/>
                    <a:pt x="474141" y="2574480"/>
                  </a:cubicBezTo>
                  <a:lnTo>
                    <a:pt x="509171" y="2518138"/>
                  </a:lnTo>
                  <a:lnTo>
                    <a:pt x="448931" y="2562741"/>
                  </a:lnTo>
                  <a:cubicBezTo>
                    <a:pt x="434532" y="2551236"/>
                    <a:pt x="422074" y="2537668"/>
                    <a:pt x="411668" y="2522154"/>
                  </a:cubicBezTo>
                  <a:lnTo>
                    <a:pt x="417910" y="2513700"/>
                  </a:lnTo>
                  <a:lnTo>
                    <a:pt x="349052" y="2557310"/>
                  </a:lnTo>
                  <a:lnTo>
                    <a:pt x="330913" y="2536654"/>
                  </a:lnTo>
                  <a:lnTo>
                    <a:pt x="384852" y="2473436"/>
                  </a:lnTo>
                  <a:cubicBezTo>
                    <a:pt x="373623" y="2462796"/>
                    <a:pt x="364740" y="2450051"/>
                    <a:pt x="357429" y="2436122"/>
                  </a:cubicBezTo>
                  <a:lnTo>
                    <a:pt x="364273" y="2428737"/>
                  </a:lnTo>
                  <a:cubicBezTo>
                    <a:pt x="361827" y="2426832"/>
                    <a:pt x="360451" y="2424287"/>
                    <a:pt x="359135" y="2421696"/>
                  </a:cubicBezTo>
                  <a:lnTo>
                    <a:pt x="377416" y="2402470"/>
                  </a:lnTo>
                  <a:lnTo>
                    <a:pt x="336107" y="2421925"/>
                  </a:lnTo>
                  <a:lnTo>
                    <a:pt x="311383" y="2380281"/>
                  </a:lnTo>
                  <a:lnTo>
                    <a:pt x="216829" y="2383700"/>
                  </a:lnTo>
                  <a:lnTo>
                    <a:pt x="291444" y="2324939"/>
                  </a:lnTo>
                  <a:cubicBezTo>
                    <a:pt x="281659" y="2310089"/>
                    <a:pt x="274220" y="2293892"/>
                    <a:pt x="269294" y="2276461"/>
                  </a:cubicBezTo>
                  <a:lnTo>
                    <a:pt x="272703" y="2273977"/>
                  </a:lnTo>
                  <a:lnTo>
                    <a:pt x="264882" y="2257111"/>
                  </a:lnTo>
                  <a:lnTo>
                    <a:pt x="252189" y="2260208"/>
                  </a:lnTo>
                  <a:lnTo>
                    <a:pt x="243110" y="2234052"/>
                  </a:lnTo>
                  <a:lnTo>
                    <a:pt x="150523" y="2253675"/>
                  </a:lnTo>
                  <a:lnTo>
                    <a:pt x="135919" y="2220632"/>
                  </a:lnTo>
                  <a:lnTo>
                    <a:pt x="177250" y="2199084"/>
                  </a:lnTo>
                  <a:lnTo>
                    <a:pt x="154749" y="2204600"/>
                  </a:lnTo>
                  <a:lnTo>
                    <a:pt x="222661" y="2161621"/>
                  </a:lnTo>
                  <a:cubicBezTo>
                    <a:pt x="218607" y="2155452"/>
                    <a:pt x="216977" y="2148349"/>
                    <a:pt x="215789" y="2141086"/>
                  </a:cubicBezTo>
                  <a:lnTo>
                    <a:pt x="221588" y="2137885"/>
                  </a:lnTo>
                  <a:lnTo>
                    <a:pt x="219372" y="2128340"/>
                  </a:lnTo>
                  <a:lnTo>
                    <a:pt x="216722" y="2128634"/>
                  </a:lnTo>
                  <a:lnTo>
                    <a:pt x="206322" y="2100735"/>
                  </a:lnTo>
                  <a:lnTo>
                    <a:pt x="99843" y="2117778"/>
                  </a:lnTo>
                  <a:lnTo>
                    <a:pt x="219858" y="2010179"/>
                  </a:lnTo>
                  <a:lnTo>
                    <a:pt x="182874" y="2010056"/>
                  </a:lnTo>
                  <a:lnTo>
                    <a:pt x="178452" y="1992453"/>
                  </a:lnTo>
                  <a:lnTo>
                    <a:pt x="126897" y="1993010"/>
                  </a:lnTo>
                  <a:lnTo>
                    <a:pt x="175265" y="1974865"/>
                  </a:lnTo>
                  <a:cubicBezTo>
                    <a:pt x="174876" y="1966892"/>
                    <a:pt x="174486" y="1958919"/>
                    <a:pt x="174097" y="1950946"/>
                  </a:cubicBezTo>
                  <a:lnTo>
                    <a:pt x="192229" y="1945233"/>
                  </a:lnTo>
                  <a:cubicBezTo>
                    <a:pt x="192162" y="1943424"/>
                    <a:pt x="192096" y="1941614"/>
                    <a:pt x="192029" y="1939805"/>
                  </a:cubicBezTo>
                  <a:lnTo>
                    <a:pt x="180523" y="1938784"/>
                  </a:lnTo>
                  <a:cubicBezTo>
                    <a:pt x="180309" y="1936144"/>
                    <a:pt x="214" y="1987687"/>
                    <a:pt x="0" y="1985047"/>
                  </a:cubicBezTo>
                  <a:lnTo>
                    <a:pt x="232190" y="1913405"/>
                  </a:lnTo>
                  <a:cubicBezTo>
                    <a:pt x="233853" y="1901036"/>
                    <a:pt x="77699" y="1891978"/>
                    <a:pt x="73965" y="1879221"/>
                  </a:cubicBezTo>
                  <a:lnTo>
                    <a:pt x="183080" y="1864869"/>
                  </a:lnTo>
                  <a:cubicBezTo>
                    <a:pt x="182861" y="1857479"/>
                    <a:pt x="183611" y="1850151"/>
                    <a:pt x="185842" y="1842903"/>
                  </a:cubicBezTo>
                  <a:lnTo>
                    <a:pt x="251449" y="1833211"/>
                  </a:lnTo>
                  <a:lnTo>
                    <a:pt x="167498" y="1815911"/>
                  </a:lnTo>
                  <a:cubicBezTo>
                    <a:pt x="167809" y="1804735"/>
                    <a:pt x="168119" y="1793560"/>
                    <a:pt x="168430" y="1782384"/>
                  </a:cubicBezTo>
                  <a:lnTo>
                    <a:pt x="134852" y="1774567"/>
                  </a:lnTo>
                  <a:lnTo>
                    <a:pt x="168485" y="1769926"/>
                  </a:lnTo>
                  <a:lnTo>
                    <a:pt x="75674" y="1740934"/>
                  </a:lnTo>
                  <a:lnTo>
                    <a:pt x="185007" y="1711573"/>
                  </a:lnTo>
                  <a:cubicBezTo>
                    <a:pt x="184020" y="1702930"/>
                    <a:pt x="185725" y="1694683"/>
                    <a:pt x="187880" y="1686519"/>
                  </a:cubicBezTo>
                  <a:lnTo>
                    <a:pt x="207765" y="1686133"/>
                  </a:lnTo>
                  <a:cubicBezTo>
                    <a:pt x="207580" y="1676744"/>
                    <a:pt x="210116" y="1667966"/>
                    <a:pt x="213184" y="1659342"/>
                  </a:cubicBezTo>
                  <a:lnTo>
                    <a:pt x="285845" y="1663565"/>
                  </a:lnTo>
                  <a:lnTo>
                    <a:pt x="189115" y="1622395"/>
                  </a:lnTo>
                  <a:lnTo>
                    <a:pt x="192975" y="1605268"/>
                  </a:lnTo>
                  <a:lnTo>
                    <a:pt x="112041" y="1563071"/>
                  </a:lnTo>
                  <a:lnTo>
                    <a:pt x="120343" y="1536083"/>
                  </a:lnTo>
                  <a:lnTo>
                    <a:pt x="223017" y="1557842"/>
                  </a:lnTo>
                  <a:lnTo>
                    <a:pt x="219075" y="1555764"/>
                  </a:lnTo>
                  <a:cubicBezTo>
                    <a:pt x="222301" y="1536021"/>
                    <a:pt x="228637" y="1517276"/>
                    <a:pt x="237469" y="1499500"/>
                  </a:cubicBezTo>
                  <a:lnTo>
                    <a:pt x="266379" y="1504740"/>
                  </a:lnTo>
                  <a:cubicBezTo>
                    <a:pt x="267631" y="1497164"/>
                    <a:pt x="271045" y="1490592"/>
                    <a:pt x="274777" y="1484182"/>
                  </a:cubicBezTo>
                  <a:lnTo>
                    <a:pt x="325214" y="1497807"/>
                  </a:lnTo>
                  <a:lnTo>
                    <a:pt x="251314" y="1439610"/>
                  </a:lnTo>
                  <a:lnTo>
                    <a:pt x="247448" y="1436961"/>
                  </a:lnTo>
                  <a:cubicBezTo>
                    <a:pt x="247492" y="1436863"/>
                    <a:pt x="247535" y="1436764"/>
                    <a:pt x="247579" y="1436666"/>
                  </a:cubicBezTo>
                  <a:lnTo>
                    <a:pt x="182963" y="1385780"/>
                  </a:lnTo>
                  <a:lnTo>
                    <a:pt x="192506" y="1367959"/>
                  </a:lnTo>
                  <a:lnTo>
                    <a:pt x="265301" y="1397299"/>
                  </a:lnTo>
                  <a:cubicBezTo>
                    <a:pt x="266299" y="1391801"/>
                    <a:pt x="268990" y="1387230"/>
                    <a:pt x="271851" y="1382748"/>
                  </a:cubicBezTo>
                  <a:lnTo>
                    <a:pt x="305597" y="1392979"/>
                  </a:lnTo>
                  <a:lnTo>
                    <a:pt x="255612" y="1350630"/>
                  </a:lnTo>
                  <a:lnTo>
                    <a:pt x="299219" y="1366014"/>
                  </a:lnTo>
                  <a:cubicBezTo>
                    <a:pt x="304383" y="1351306"/>
                    <a:pt x="312499" y="1338140"/>
                    <a:pt x="322153" y="1325940"/>
                  </a:cubicBezTo>
                  <a:lnTo>
                    <a:pt x="357732" y="1340055"/>
                  </a:lnTo>
                  <a:cubicBezTo>
                    <a:pt x="359974" y="1333944"/>
                    <a:pt x="363907" y="1329104"/>
                    <a:pt x="368051" y="1324436"/>
                  </a:cubicBezTo>
                  <a:lnTo>
                    <a:pt x="400252" y="1340766"/>
                  </a:lnTo>
                  <a:lnTo>
                    <a:pt x="292377" y="1214335"/>
                  </a:lnTo>
                  <a:lnTo>
                    <a:pt x="298485" y="1206815"/>
                  </a:lnTo>
                  <a:lnTo>
                    <a:pt x="356783" y="1243738"/>
                  </a:lnTo>
                  <a:cubicBezTo>
                    <a:pt x="360986" y="1234021"/>
                    <a:pt x="367638" y="1226107"/>
                    <a:pt x="374923" y="1218702"/>
                  </a:cubicBezTo>
                  <a:lnTo>
                    <a:pt x="422276" y="1244146"/>
                  </a:lnTo>
                  <a:lnTo>
                    <a:pt x="399408" y="1216546"/>
                  </a:lnTo>
                  <a:lnTo>
                    <a:pt x="402719" y="1212808"/>
                  </a:lnTo>
                  <a:lnTo>
                    <a:pt x="363776" y="1161431"/>
                  </a:lnTo>
                  <a:lnTo>
                    <a:pt x="417309" y="1196322"/>
                  </a:lnTo>
                  <a:cubicBezTo>
                    <a:pt x="422584" y="1186775"/>
                    <a:pt x="430178" y="1179261"/>
                    <a:pt x="438477" y="1172405"/>
                  </a:cubicBezTo>
                  <a:lnTo>
                    <a:pt x="466770" y="1190757"/>
                  </a:lnTo>
                  <a:cubicBezTo>
                    <a:pt x="467817" y="1187125"/>
                    <a:pt x="467059" y="1183753"/>
                    <a:pt x="466076" y="1180393"/>
                  </a:cubicBezTo>
                  <a:lnTo>
                    <a:pt x="501337" y="1175755"/>
                  </a:lnTo>
                  <a:lnTo>
                    <a:pt x="463635" y="1118028"/>
                  </a:lnTo>
                  <a:lnTo>
                    <a:pt x="472108" y="1110316"/>
                  </a:lnTo>
                  <a:lnTo>
                    <a:pt x="447474" y="1064948"/>
                  </a:lnTo>
                  <a:lnTo>
                    <a:pt x="484064" y="1099436"/>
                  </a:lnTo>
                  <a:cubicBezTo>
                    <a:pt x="490219" y="1090636"/>
                    <a:pt x="498447" y="1084116"/>
                    <a:pt x="507282" y="1078306"/>
                  </a:cubicBezTo>
                  <a:lnTo>
                    <a:pt x="555855" y="1118428"/>
                  </a:lnTo>
                  <a:lnTo>
                    <a:pt x="535020" y="1079967"/>
                  </a:lnTo>
                  <a:lnTo>
                    <a:pt x="537322" y="1078247"/>
                  </a:lnTo>
                  <a:cubicBezTo>
                    <a:pt x="537305" y="1078211"/>
                    <a:pt x="537287" y="1078174"/>
                    <a:pt x="537270" y="1078138"/>
                  </a:cubicBezTo>
                  <a:lnTo>
                    <a:pt x="526963" y="1075738"/>
                  </a:lnTo>
                  <a:lnTo>
                    <a:pt x="535556" y="1074553"/>
                  </a:lnTo>
                  <a:lnTo>
                    <a:pt x="529220" y="1061296"/>
                  </a:lnTo>
                  <a:lnTo>
                    <a:pt x="467785" y="1042105"/>
                  </a:lnTo>
                  <a:lnTo>
                    <a:pt x="471137" y="1008645"/>
                  </a:lnTo>
                  <a:lnTo>
                    <a:pt x="504674" y="1009942"/>
                  </a:lnTo>
                  <a:lnTo>
                    <a:pt x="504002" y="1008538"/>
                  </a:lnTo>
                  <a:lnTo>
                    <a:pt x="507265" y="1006295"/>
                  </a:lnTo>
                  <a:lnTo>
                    <a:pt x="511007" y="1010187"/>
                  </a:lnTo>
                  <a:lnTo>
                    <a:pt x="577118" y="1012745"/>
                  </a:lnTo>
                  <a:cubicBezTo>
                    <a:pt x="576131" y="1004102"/>
                    <a:pt x="577836" y="995854"/>
                    <a:pt x="579991" y="987690"/>
                  </a:cubicBezTo>
                  <a:lnTo>
                    <a:pt x="599875" y="987305"/>
                  </a:lnTo>
                  <a:cubicBezTo>
                    <a:pt x="599691" y="977916"/>
                    <a:pt x="602227" y="969137"/>
                    <a:pt x="605295" y="960513"/>
                  </a:cubicBezTo>
                  <a:lnTo>
                    <a:pt x="677956" y="964736"/>
                  </a:lnTo>
                  <a:lnTo>
                    <a:pt x="581226" y="923566"/>
                  </a:lnTo>
                  <a:lnTo>
                    <a:pt x="585086" y="906440"/>
                  </a:lnTo>
                  <a:lnTo>
                    <a:pt x="395299" y="855630"/>
                  </a:lnTo>
                  <a:lnTo>
                    <a:pt x="512454" y="837254"/>
                  </a:lnTo>
                  <a:lnTo>
                    <a:pt x="615128" y="859014"/>
                  </a:lnTo>
                  <a:lnTo>
                    <a:pt x="611185" y="856935"/>
                  </a:lnTo>
                  <a:cubicBezTo>
                    <a:pt x="614412" y="837192"/>
                    <a:pt x="620748" y="818448"/>
                    <a:pt x="629580" y="800672"/>
                  </a:cubicBezTo>
                  <a:lnTo>
                    <a:pt x="658490" y="805911"/>
                  </a:lnTo>
                  <a:cubicBezTo>
                    <a:pt x="659741" y="798336"/>
                    <a:pt x="663156" y="791764"/>
                    <a:pt x="666888" y="785354"/>
                  </a:cubicBezTo>
                  <a:lnTo>
                    <a:pt x="717324" y="798979"/>
                  </a:lnTo>
                  <a:lnTo>
                    <a:pt x="643425" y="740781"/>
                  </a:lnTo>
                  <a:lnTo>
                    <a:pt x="639559" y="738133"/>
                  </a:lnTo>
                  <a:lnTo>
                    <a:pt x="639689" y="737838"/>
                  </a:lnTo>
                  <a:lnTo>
                    <a:pt x="575073" y="686951"/>
                  </a:lnTo>
                  <a:lnTo>
                    <a:pt x="584617" y="669130"/>
                  </a:lnTo>
                  <a:lnTo>
                    <a:pt x="657411" y="698470"/>
                  </a:lnTo>
                  <a:cubicBezTo>
                    <a:pt x="658410" y="692972"/>
                    <a:pt x="661100" y="688402"/>
                    <a:pt x="663962" y="683920"/>
                  </a:cubicBezTo>
                  <a:lnTo>
                    <a:pt x="697708" y="694150"/>
                  </a:lnTo>
                  <a:lnTo>
                    <a:pt x="647723" y="651802"/>
                  </a:lnTo>
                  <a:lnTo>
                    <a:pt x="691330" y="667186"/>
                  </a:lnTo>
                  <a:cubicBezTo>
                    <a:pt x="696494" y="652477"/>
                    <a:pt x="704609" y="639311"/>
                    <a:pt x="714264" y="627112"/>
                  </a:cubicBezTo>
                  <a:lnTo>
                    <a:pt x="749842" y="641227"/>
                  </a:lnTo>
                  <a:cubicBezTo>
                    <a:pt x="752085" y="635116"/>
                    <a:pt x="756018" y="630276"/>
                    <a:pt x="760162" y="625607"/>
                  </a:cubicBezTo>
                  <a:lnTo>
                    <a:pt x="792363" y="641938"/>
                  </a:lnTo>
                  <a:lnTo>
                    <a:pt x="684488" y="515507"/>
                  </a:lnTo>
                  <a:lnTo>
                    <a:pt x="690596" y="507987"/>
                  </a:lnTo>
                  <a:lnTo>
                    <a:pt x="748893" y="544910"/>
                  </a:lnTo>
                  <a:cubicBezTo>
                    <a:pt x="753097" y="535193"/>
                    <a:pt x="759749" y="527278"/>
                    <a:pt x="767034" y="519873"/>
                  </a:cubicBezTo>
                  <a:lnTo>
                    <a:pt x="814387" y="545318"/>
                  </a:lnTo>
                  <a:lnTo>
                    <a:pt x="791519" y="517718"/>
                  </a:lnTo>
                  <a:lnTo>
                    <a:pt x="794830" y="513979"/>
                  </a:lnTo>
                  <a:lnTo>
                    <a:pt x="755886" y="462603"/>
                  </a:lnTo>
                  <a:lnTo>
                    <a:pt x="809419" y="497493"/>
                  </a:lnTo>
                  <a:cubicBezTo>
                    <a:pt x="814695" y="487946"/>
                    <a:pt x="822289" y="480433"/>
                    <a:pt x="830588" y="473576"/>
                  </a:cubicBezTo>
                  <a:lnTo>
                    <a:pt x="869633" y="498903"/>
                  </a:lnTo>
                  <a:cubicBezTo>
                    <a:pt x="872549" y="494032"/>
                    <a:pt x="876752" y="490622"/>
                    <a:pt x="881108" y="487390"/>
                  </a:cubicBezTo>
                  <a:lnTo>
                    <a:pt x="921102" y="519268"/>
                  </a:lnTo>
                  <a:lnTo>
                    <a:pt x="855745" y="419199"/>
                  </a:lnTo>
                  <a:lnTo>
                    <a:pt x="864219" y="411488"/>
                  </a:lnTo>
                  <a:lnTo>
                    <a:pt x="839585" y="366119"/>
                  </a:lnTo>
                  <a:lnTo>
                    <a:pt x="876175" y="400607"/>
                  </a:lnTo>
                  <a:cubicBezTo>
                    <a:pt x="882330" y="391808"/>
                    <a:pt x="890557" y="385288"/>
                    <a:pt x="899393" y="379477"/>
                  </a:cubicBezTo>
                  <a:lnTo>
                    <a:pt x="947966" y="419600"/>
                  </a:lnTo>
                  <a:lnTo>
                    <a:pt x="927130" y="381139"/>
                  </a:lnTo>
                  <a:lnTo>
                    <a:pt x="929433" y="379418"/>
                  </a:lnTo>
                  <a:lnTo>
                    <a:pt x="896113" y="309709"/>
                  </a:lnTo>
                  <a:lnTo>
                    <a:pt x="899376" y="307467"/>
                  </a:lnTo>
                  <a:lnTo>
                    <a:pt x="952188" y="362404"/>
                  </a:lnTo>
                  <a:cubicBezTo>
                    <a:pt x="958217" y="355127"/>
                    <a:pt x="965984" y="350223"/>
                    <a:pt x="974207" y="345940"/>
                  </a:cubicBezTo>
                  <a:lnTo>
                    <a:pt x="1013008" y="383740"/>
                  </a:lnTo>
                  <a:cubicBezTo>
                    <a:pt x="1016347" y="379992"/>
                    <a:pt x="1020588" y="377842"/>
                    <a:pt x="1024933" y="375867"/>
                  </a:cubicBezTo>
                  <a:lnTo>
                    <a:pt x="1048229" y="403682"/>
                  </a:lnTo>
                  <a:lnTo>
                    <a:pt x="1005447" y="297976"/>
                  </a:lnTo>
                  <a:lnTo>
                    <a:pt x="1041556" y="276687"/>
                  </a:lnTo>
                  <a:lnTo>
                    <a:pt x="1040653" y="273525"/>
                  </a:lnTo>
                  <a:lnTo>
                    <a:pt x="1042486" y="276137"/>
                  </a:lnTo>
                  <a:cubicBezTo>
                    <a:pt x="1046365" y="272152"/>
                    <a:pt x="1051162" y="270026"/>
                    <a:pt x="1056087" y="268118"/>
                  </a:cubicBezTo>
                  <a:lnTo>
                    <a:pt x="1082957" y="301051"/>
                  </a:lnTo>
                  <a:lnTo>
                    <a:pt x="1058878" y="210110"/>
                  </a:lnTo>
                  <a:cubicBezTo>
                    <a:pt x="1062854" y="208051"/>
                    <a:pt x="1066885" y="206093"/>
                    <a:pt x="1071152" y="204617"/>
                  </a:cubicBezTo>
                  <a:lnTo>
                    <a:pt x="1108015" y="264222"/>
                  </a:lnTo>
                  <a:cubicBezTo>
                    <a:pt x="1117382" y="256866"/>
                    <a:pt x="1128250" y="252443"/>
                    <a:pt x="1139672" y="249180"/>
                  </a:cubicBezTo>
                  <a:lnTo>
                    <a:pt x="1174590" y="299944"/>
                  </a:lnTo>
                  <a:cubicBezTo>
                    <a:pt x="1178113" y="297254"/>
                    <a:pt x="1182137" y="296213"/>
                    <a:pt x="1186216" y="295333"/>
                  </a:cubicBezTo>
                  <a:lnTo>
                    <a:pt x="1195747" y="312772"/>
                  </a:lnTo>
                  <a:lnTo>
                    <a:pt x="1175691" y="209317"/>
                  </a:lnTo>
                  <a:lnTo>
                    <a:pt x="1229330" y="190781"/>
                  </a:lnTo>
                  <a:lnTo>
                    <a:pt x="1225479" y="145382"/>
                  </a:lnTo>
                  <a:lnTo>
                    <a:pt x="1245098" y="139111"/>
                  </a:lnTo>
                  <a:close/>
                  <a:moveTo>
                    <a:pt x="1582637" y="0"/>
                  </a:moveTo>
                  <a:cubicBezTo>
                    <a:pt x="1582652" y="1769"/>
                    <a:pt x="1582666" y="3538"/>
                    <a:pt x="1582681" y="5307"/>
                  </a:cubicBezTo>
                  <a:lnTo>
                    <a:pt x="1581327" y="5327"/>
                  </a:lnTo>
                  <a:lnTo>
                    <a:pt x="1582637" y="0"/>
                  </a:lnTo>
                  <a:close/>
                  <a:moveTo>
                    <a:pt x="1399868" y="13634"/>
                  </a:moveTo>
                  <a:lnTo>
                    <a:pt x="1400165" y="15285"/>
                  </a:lnTo>
                  <a:lnTo>
                    <a:pt x="1399731" y="15334"/>
                  </a:lnTo>
                  <a:cubicBezTo>
                    <a:pt x="1399777" y="14767"/>
                    <a:pt x="1399822" y="14201"/>
                    <a:pt x="1399868" y="13634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矩形 16"/>
          <p:cNvSpPr/>
          <p:nvPr/>
        </p:nvSpPr>
        <p:spPr>
          <a:xfrm>
            <a:off x="3564000" y="923760"/>
            <a:ext cx="2141640" cy="216252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2162520"/>
              <a:gd name="textAreaBottom" fmla="*/ 2162880 h 2162520"/>
            </a:gdLst>
            <a:ahLst/>
            <a:rect l="textAreaLeft" t="textAreaTop" r="textAreaRight" b="textAreaBottom"/>
            <a:pathLst>
              <a:path w="2598957" h="2625676">
                <a:moveTo>
                  <a:pt x="887953" y="2543644"/>
                </a:moveTo>
                <a:lnTo>
                  <a:pt x="892102" y="2548584"/>
                </a:lnTo>
                <a:cubicBezTo>
                  <a:pt x="892424" y="2550309"/>
                  <a:pt x="892038" y="2551779"/>
                  <a:pt x="889628" y="2552947"/>
                </a:cubicBezTo>
                <a:cubicBezTo>
                  <a:pt x="889165" y="2549766"/>
                  <a:pt x="888613" y="2546661"/>
                  <a:pt x="887953" y="2543644"/>
                </a:cubicBezTo>
                <a:close/>
                <a:moveTo>
                  <a:pt x="890381" y="2509934"/>
                </a:moveTo>
                <a:cubicBezTo>
                  <a:pt x="891403" y="2511049"/>
                  <a:pt x="886561" y="2514245"/>
                  <a:pt x="881807" y="2517586"/>
                </a:cubicBezTo>
                <a:cubicBezTo>
                  <a:pt x="881359" y="2515559"/>
                  <a:pt x="880726" y="2513642"/>
                  <a:pt x="879892" y="2511845"/>
                </a:cubicBezTo>
                <a:lnTo>
                  <a:pt x="890381" y="2509934"/>
                </a:lnTo>
                <a:close/>
                <a:moveTo>
                  <a:pt x="2436610" y="2314966"/>
                </a:moveTo>
                <a:lnTo>
                  <a:pt x="2442554" y="2314966"/>
                </a:lnTo>
                <a:cubicBezTo>
                  <a:pt x="2442246" y="2316629"/>
                  <a:pt x="2441914" y="2316709"/>
                  <a:pt x="2441573" y="2316748"/>
                </a:cubicBezTo>
                <a:cubicBezTo>
                  <a:pt x="2440047" y="2316930"/>
                  <a:pt x="2438359" y="2316341"/>
                  <a:pt x="2436610" y="2314966"/>
                </a:cubicBezTo>
                <a:close/>
                <a:moveTo>
                  <a:pt x="113180" y="1622426"/>
                </a:moveTo>
                <a:lnTo>
                  <a:pt x="116240" y="1635314"/>
                </a:lnTo>
                <a:cubicBezTo>
                  <a:pt x="113550" y="1634915"/>
                  <a:pt x="113170" y="1629645"/>
                  <a:pt x="113180" y="1622426"/>
                </a:cubicBezTo>
                <a:close/>
                <a:moveTo>
                  <a:pt x="121903" y="1614989"/>
                </a:moveTo>
                <a:cubicBezTo>
                  <a:pt x="120933" y="1619596"/>
                  <a:pt x="119934" y="1623940"/>
                  <a:pt x="118907" y="1627522"/>
                </a:cubicBezTo>
                <a:lnTo>
                  <a:pt x="121903" y="1614989"/>
                </a:lnTo>
                <a:close/>
                <a:moveTo>
                  <a:pt x="109838" y="1608352"/>
                </a:moveTo>
                <a:lnTo>
                  <a:pt x="111572" y="1615655"/>
                </a:lnTo>
                <a:lnTo>
                  <a:pt x="111132" y="1617329"/>
                </a:lnTo>
                <a:lnTo>
                  <a:pt x="109816" y="1610779"/>
                </a:lnTo>
                <a:lnTo>
                  <a:pt x="109838" y="1608352"/>
                </a:lnTo>
                <a:close/>
                <a:moveTo>
                  <a:pt x="161153" y="1543776"/>
                </a:moveTo>
                <a:lnTo>
                  <a:pt x="153352" y="1549696"/>
                </a:lnTo>
                <a:lnTo>
                  <a:pt x="151821" y="1575693"/>
                </a:lnTo>
                <a:lnTo>
                  <a:pt x="158932" y="1562837"/>
                </a:lnTo>
                <a:cubicBezTo>
                  <a:pt x="160364" y="1557195"/>
                  <a:pt x="161024" y="1550449"/>
                  <a:pt x="161153" y="1543776"/>
                </a:cubicBezTo>
                <a:close/>
                <a:moveTo>
                  <a:pt x="155006" y="1535342"/>
                </a:moveTo>
                <a:lnTo>
                  <a:pt x="154154" y="1536096"/>
                </a:lnTo>
                <a:lnTo>
                  <a:pt x="153935" y="1539806"/>
                </a:lnTo>
                <a:lnTo>
                  <a:pt x="155006" y="1535342"/>
                </a:lnTo>
                <a:close/>
                <a:moveTo>
                  <a:pt x="162881" y="1525906"/>
                </a:moveTo>
                <a:lnTo>
                  <a:pt x="156189" y="1538985"/>
                </a:lnTo>
                <a:lnTo>
                  <a:pt x="161358" y="1535737"/>
                </a:lnTo>
                <a:lnTo>
                  <a:pt x="161432" y="1532844"/>
                </a:lnTo>
                <a:cubicBezTo>
                  <a:pt x="162041" y="1530838"/>
                  <a:pt x="162631" y="1528541"/>
                  <a:pt x="162881" y="1525906"/>
                </a:cubicBezTo>
                <a:close/>
                <a:moveTo>
                  <a:pt x="157974" y="1471223"/>
                </a:moveTo>
                <a:lnTo>
                  <a:pt x="156324" y="1499234"/>
                </a:lnTo>
                <a:lnTo>
                  <a:pt x="163457" y="1523149"/>
                </a:lnTo>
                <a:lnTo>
                  <a:pt x="166474" y="1508707"/>
                </a:lnTo>
                <a:cubicBezTo>
                  <a:pt x="166719" y="1508861"/>
                  <a:pt x="166942" y="1509042"/>
                  <a:pt x="167200" y="1509042"/>
                </a:cubicBezTo>
                <a:lnTo>
                  <a:pt x="157974" y="1471223"/>
                </a:lnTo>
                <a:close/>
                <a:moveTo>
                  <a:pt x="85082" y="1444908"/>
                </a:moveTo>
                <a:cubicBezTo>
                  <a:pt x="86560" y="1444676"/>
                  <a:pt x="88259" y="1445071"/>
                  <a:pt x="89962" y="1445735"/>
                </a:cubicBezTo>
                <a:lnTo>
                  <a:pt x="86724" y="1503844"/>
                </a:lnTo>
                <a:lnTo>
                  <a:pt x="85331" y="1505133"/>
                </a:lnTo>
                <a:lnTo>
                  <a:pt x="85937" y="1507686"/>
                </a:lnTo>
                <a:cubicBezTo>
                  <a:pt x="81320" y="1509859"/>
                  <a:pt x="76644" y="1513997"/>
                  <a:pt x="76014" y="1513091"/>
                </a:cubicBezTo>
                <a:cubicBezTo>
                  <a:pt x="76771" y="1509323"/>
                  <a:pt x="82988" y="1501537"/>
                  <a:pt x="85905" y="1496377"/>
                </a:cubicBezTo>
                <a:cubicBezTo>
                  <a:pt x="85280" y="1495882"/>
                  <a:pt x="79485" y="1493222"/>
                  <a:pt x="79505" y="1491715"/>
                </a:cubicBezTo>
                <a:lnTo>
                  <a:pt x="86025" y="1487336"/>
                </a:lnTo>
                <a:lnTo>
                  <a:pt x="86745" y="1487577"/>
                </a:lnTo>
                <a:cubicBezTo>
                  <a:pt x="83933" y="1483397"/>
                  <a:pt x="74968" y="1478095"/>
                  <a:pt x="73987" y="1471054"/>
                </a:cubicBezTo>
                <a:cubicBezTo>
                  <a:pt x="73143" y="1464988"/>
                  <a:pt x="77578" y="1460417"/>
                  <a:pt x="84319" y="1458003"/>
                </a:cubicBezTo>
                <a:lnTo>
                  <a:pt x="80623" y="1451059"/>
                </a:lnTo>
                <a:cubicBezTo>
                  <a:pt x="81381" y="1446781"/>
                  <a:pt x="83016" y="1445233"/>
                  <a:pt x="85082" y="1444908"/>
                </a:cubicBezTo>
                <a:close/>
                <a:moveTo>
                  <a:pt x="110682" y="1346201"/>
                </a:moveTo>
                <a:lnTo>
                  <a:pt x="141321" y="1448929"/>
                </a:lnTo>
                <a:lnTo>
                  <a:pt x="115212" y="1550357"/>
                </a:lnTo>
                <a:lnTo>
                  <a:pt x="110034" y="1545189"/>
                </a:lnTo>
                <a:cubicBezTo>
                  <a:pt x="110204" y="1543195"/>
                  <a:pt x="110422" y="1541902"/>
                  <a:pt x="110647" y="1540557"/>
                </a:cubicBezTo>
                <a:lnTo>
                  <a:pt x="110302" y="1527138"/>
                </a:lnTo>
                <a:lnTo>
                  <a:pt x="109374" y="1527317"/>
                </a:lnTo>
                <a:lnTo>
                  <a:pt x="109532" y="1516890"/>
                </a:lnTo>
                <a:lnTo>
                  <a:pt x="105236" y="1524041"/>
                </a:lnTo>
                <a:lnTo>
                  <a:pt x="110682" y="1346201"/>
                </a:lnTo>
                <a:close/>
                <a:moveTo>
                  <a:pt x="81853" y="1324075"/>
                </a:moveTo>
                <a:lnTo>
                  <a:pt x="93376" y="1328631"/>
                </a:lnTo>
                <a:lnTo>
                  <a:pt x="96537" y="1327720"/>
                </a:lnTo>
                <a:lnTo>
                  <a:pt x="90587" y="1434516"/>
                </a:lnTo>
                <a:lnTo>
                  <a:pt x="90489" y="1433776"/>
                </a:lnTo>
                <a:cubicBezTo>
                  <a:pt x="88988" y="1434509"/>
                  <a:pt x="87768" y="1434675"/>
                  <a:pt x="86967" y="1434120"/>
                </a:cubicBezTo>
                <a:cubicBezTo>
                  <a:pt x="87035" y="1429596"/>
                  <a:pt x="87966" y="1427800"/>
                  <a:pt x="89157" y="1425861"/>
                </a:cubicBezTo>
                <a:lnTo>
                  <a:pt x="88588" y="1421878"/>
                </a:lnTo>
                <a:cubicBezTo>
                  <a:pt x="81550" y="1423109"/>
                  <a:pt x="77101" y="1421606"/>
                  <a:pt x="77851" y="1416655"/>
                </a:cubicBezTo>
                <a:lnTo>
                  <a:pt x="85203" y="1404989"/>
                </a:lnTo>
                <a:lnTo>
                  <a:pt x="85594" y="1403891"/>
                </a:lnTo>
                <a:cubicBezTo>
                  <a:pt x="85589" y="1403900"/>
                  <a:pt x="85582" y="1403900"/>
                  <a:pt x="85575" y="1403901"/>
                </a:cubicBezTo>
                <a:lnTo>
                  <a:pt x="73224" y="1410855"/>
                </a:lnTo>
                <a:cubicBezTo>
                  <a:pt x="70391" y="1408943"/>
                  <a:pt x="76467" y="1395022"/>
                  <a:pt x="76368" y="1389266"/>
                </a:cubicBezTo>
                <a:lnTo>
                  <a:pt x="67538" y="1393086"/>
                </a:lnTo>
                <a:lnTo>
                  <a:pt x="67852" y="1392426"/>
                </a:lnTo>
                <a:lnTo>
                  <a:pt x="67507" y="1393100"/>
                </a:lnTo>
                <a:lnTo>
                  <a:pt x="64562" y="1394374"/>
                </a:lnTo>
                <a:cubicBezTo>
                  <a:pt x="64575" y="1391459"/>
                  <a:pt x="64717" y="1391128"/>
                  <a:pt x="64884" y="1390775"/>
                </a:cubicBezTo>
                <a:lnTo>
                  <a:pt x="68625" y="1384647"/>
                </a:lnTo>
                <a:cubicBezTo>
                  <a:pt x="63571" y="1385558"/>
                  <a:pt x="59825" y="1385123"/>
                  <a:pt x="58356" y="1380324"/>
                </a:cubicBezTo>
                <a:cubicBezTo>
                  <a:pt x="59378" y="1375263"/>
                  <a:pt x="68387" y="1368030"/>
                  <a:pt x="70413" y="1365401"/>
                </a:cubicBezTo>
                <a:lnTo>
                  <a:pt x="70505" y="1364556"/>
                </a:lnTo>
                <a:lnTo>
                  <a:pt x="64001" y="1364375"/>
                </a:lnTo>
                <a:cubicBezTo>
                  <a:pt x="63991" y="1363391"/>
                  <a:pt x="69809" y="1359216"/>
                  <a:pt x="70439" y="1358628"/>
                </a:cubicBezTo>
                <a:cubicBezTo>
                  <a:pt x="67562" y="1356443"/>
                  <a:pt x="61435" y="1353907"/>
                  <a:pt x="60630" y="1351704"/>
                </a:cubicBezTo>
                <a:cubicBezTo>
                  <a:pt x="61700" y="1350256"/>
                  <a:pt x="74110" y="1353457"/>
                  <a:pt x="76856" y="1349949"/>
                </a:cubicBezTo>
                <a:lnTo>
                  <a:pt x="77876" y="1342892"/>
                </a:lnTo>
                <a:lnTo>
                  <a:pt x="76635" y="1341948"/>
                </a:lnTo>
                <a:lnTo>
                  <a:pt x="77798" y="1340454"/>
                </a:lnTo>
                <a:lnTo>
                  <a:pt x="77111" y="1330650"/>
                </a:lnTo>
                <a:lnTo>
                  <a:pt x="80434" y="1329867"/>
                </a:lnTo>
                <a:cubicBezTo>
                  <a:pt x="80349" y="1328557"/>
                  <a:pt x="80360" y="1327340"/>
                  <a:pt x="80564" y="1326335"/>
                </a:cubicBezTo>
                <a:lnTo>
                  <a:pt x="81853" y="1324075"/>
                </a:lnTo>
                <a:close/>
                <a:moveTo>
                  <a:pt x="61016" y="1314386"/>
                </a:moveTo>
                <a:lnTo>
                  <a:pt x="57342" y="1318445"/>
                </a:lnTo>
                <a:cubicBezTo>
                  <a:pt x="56058" y="1318760"/>
                  <a:pt x="54965" y="1318380"/>
                  <a:pt x="54095" y="1316024"/>
                </a:cubicBezTo>
                <a:cubicBezTo>
                  <a:pt x="56463" y="1315571"/>
                  <a:pt x="58772" y="1315032"/>
                  <a:pt x="61016" y="1314386"/>
                </a:cubicBezTo>
                <a:close/>
                <a:moveTo>
                  <a:pt x="2512867" y="1308915"/>
                </a:moveTo>
                <a:lnTo>
                  <a:pt x="2518559" y="1317302"/>
                </a:lnTo>
                <a:cubicBezTo>
                  <a:pt x="2517051" y="1317740"/>
                  <a:pt x="2515625" y="1318361"/>
                  <a:pt x="2514289" y="1319175"/>
                </a:cubicBezTo>
                <a:lnTo>
                  <a:pt x="2512867" y="1308915"/>
                </a:lnTo>
                <a:close/>
                <a:moveTo>
                  <a:pt x="2541615" y="1307233"/>
                </a:moveTo>
                <a:cubicBezTo>
                  <a:pt x="2542899" y="1306917"/>
                  <a:pt x="2543992" y="1307296"/>
                  <a:pt x="2544861" y="1309652"/>
                </a:cubicBezTo>
                <a:cubicBezTo>
                  <a:pt x="2542495" y="1310105"/>
                  <a:pt x="2540184" y="1310646"/>
                  <a:pt x="2537940" y="1311290"/>
                </a:cubicBezTo>
                <a:lnTo>
                  <a:pt x="2541615" y="1307233"/>
                </a:lnTo>
                <a:close/>
                <a:moveTo>
                  <a:pt x="84667" y="1306501"/>
                </a:moveTo>
                <a:lnTo>
                  <a:pt x="86089" y="1316761"/>
                </a:lnTo>
                <a:lnTo>
                  <a:pt x="80399" y="1308375"/>
                </a:lnTo>
                <a:cubicBezTo>
                  <a:pt x="81906" y="1307937"/>
                  <a:pt x="83331" y="1307317"/>
                  <a:pt x="84667" y="1306501"/>
                </a:cubicBezTo>
                <a:close/>
                <a:moveTo>
                  <a:pt x="96006" y="1296994"/>
                </a:moveTo>
                <a:lnTo>
                  <a:pt x="97896" y="1303334"/>
                </a:lnTo>
                <a:lnTo>
                  <a:pt x="96741" y="1324065"/>
                </a:lnTo>
                <a:cubicBezTo>
                  <a:pt x="96003" y="1320638"/>
                  <a:pt x="94937" y="1317117"/>
                  <a:pt x="94347" y="1313986"/>
                </a:cubicBezTo>
                <a:lnTo>
                  <a:pt x="88675" y="1319610"/>
                </a:lnTo>
                <a:lnTo>
                  <a:pt x="87350" y="1316284"/>
                </a:lnTo>
                <a:cubicBezTo>
                  <a:pt x="86962" y="1313379"/>
                  <a:pt x="87373" y="1309176"/>
                  <a:pt x="87923" y="1304604"/>
                </a:cubicBezTo>
                <a:lnTo>
                  <a:pt x="96006" y="1296994"/>
                </a:lnTo>
                <a:close/>
                <a:moveTo>
                  <a:pt x="83507" y="1273148"/>
                </a:moveTo>
                <a:lnTo>
                  <a:pt x="89621" y="1275586"/>
                </a:lnTo>
                <a:lnTo>
                  <a:pt x="91811" y="1282927"/>
                </a:lnTo>
                <a:lnTo>
                  <a:pt x="82615" y="1277055"/>
                </a:lnTo>
                <a:lnTo>
                  <a:pt x="83507" y="1273148"/>
                </a:lnTo>
                <a:close/>
                <a:moveTo>
                  <a:pt x="136864" y="1260897"/>
                </a:moveTo>
                <a:lnTo>
                  <a:pt x="135630" y="1263758"/>
                </a:lnTo>
                <a:lnTo>
                  <a:pt x="137426" y="1264146"/>
                </a:lnTo>
                <a:lnTo>
                  <a:pt x="137611" y="1263718"/>
                </a:lnTo>
                <a:lnTo>
                  <a:pt x="137645" y="1263452"/>
                </a:lnTo>
                <a:cubicBezTo>
                  <a:pt x="137440" y="1262533"/>
                  <a:pt x="137215" y="1261609"/>
                  <a:pt x="136864" y="1260897"/>
                </a:cubicBezTo>
                <a:close/>
                <a:moveTo>
                  <a:pt x="81054" y="1259038"/>
                </a:moveTo>
                <a:lnTo>
                  <a:pt x="81113" y="1276097"/>
                </a:lnTo>
                <a:cubicBezTo>
                  <a:pt x="75404" y="1271865"/>
                  <a:pt x="67876" y="1268242"/>
                  <a:pt x="59462" y="1264525"/>
                </a:cubicBezTo>
                <a:lnTo>
                  <a:pt x="59484" y="1263567"/>
                </a:lnTo>
                <a:lnTo>
                  <a:pt x="75055" y="1269777"/>
                </a:lnTo>
                <a:lnTo>
                  <a:pt x="81054" y="1259038"/>
                </a:lnTo>
                <a:close/>
                <a:moveTo>
                  <a:pt x="26074" y="1221255"/>
                </a:moveTo>
                <a:lnTo>
                  <a:pt x="27633" y="1225343"/>
                </a:lnTo>
                <a:lnTo>
                  <a:pt x="25933" y="1223790"/>
                </a:lnTo>
                <a:lnTo>
                  <a:pt x="26074" y="1221255"/>
                </a:lnTo>
                <a:close/>
                <a:moveTo>
                  <a:pt x="10584" y="1190324"/>
                </a:moveTo>
                <a:lnTo>
                  <a:pt x="16480" y="1215157"/>
                </a:lnTo>
                <a:cubicBezTo>
                  <a:pt x="11369" y="1210295"/>
                  <a:pt x="5759" y="1205300"/>
                  <a:pt x="0" y="1200107"/>
                </a:cubicBezTo>
                <a:lnTo>
                  <a:pt x="10584" y="1190324"/>
                </a:lnTo>
                <a:close/>
                <a:moveTo>
                  <a:pt x="61405" y="1180983"/>
                </a:moveTo>
                <a:lnTo>
                  <a:pt x="81011" y="1246720"/>
                </a:lnTo>
                <a:lnTo>
                  <a:pt x="81047" y="1257004"/>
                </a:lnTo>
                <a:lnTo>
                  <a:pt x="59927" y="1244526"/>
                </a:lnTo>
                <a:lnTo>
                  <a:pt x="61405" y="1180983"/>
                </a:lnTo>
                <a:close/>
                <a:moveTo>
                  <a:pt x="28482" y="1178031"/>
                </a:moveTo>
                <a:lnTo>
                  <a:pt x="32221" y="1178483"/>
                </a:lnTo>
                <a:lnTo>
                  <a:pt x="27242" y="1200287"/>
                </a:lnTo>
                <a:lnTo>
                  <a:pt x="28482" y="1178031"/>
                </a:lnTo>
                <a:close/>
                <a:moveTo>
                  <a:pt x="80544" y="1111526"/>
                </a:moveTo>
                <a:lnTo>
                  <a:pt x="80692" y="1154421"/>
                </a:lnTo>
                <a:lnTo>
                  <a:pt x="73967" y="1126852"/>
                </a:lnTo>
                <a:cubicBezTo>
                  <a:pt x="74873" y="1126121"/>
                  <a:pt x="75423" y="1125213"/>
                  <a:pt x="75918" y="1124326"/>
                </a:cubicBezTo>
                <a:lnTo>
                  <a:pt x="80544" y="1111526"/>
                </a:lnTo>
                <a:close/>
                <a:moveTo>
                  <a:pt x="182199" y="1059909"/>
                </a:moveTo>
                <a:lnTo>
                  <a:pt x="181009" y="1080111"/>
                </a:lnTo>
                <a:lnTo>
                  <a:pt x="189790" y="1064395"/>
                </a:lnTo>
                <a:lnTo>
                  <a:pt x="182199" y="1059909"/>
                </a:lnTo>
                <a:close/>
                <a:moveTo>
                  <a:pt x="88452" y="1059314"/>
                </a:moveTo>
                <a:lnTo>
                  <a:pt x="101136" y="1064371"/>
                </a:lnTo>
                <a:lnTo>
                  <a:pt x="109927" y="1087421"/>
                </a:lnTo>
                <a:lnTo>
                  <a:pt x="108032" y="1121430"/>
                </a:lnTo>
                <a:lnTo>
                  <a:pt x="88452" y="1059314"/>
                </a:lnTo>
                <a:close/>
                <a:moveTo>
                  <a:pt x="71809" y="1052676"/>
                </a:moveTo>
                <a:lnTo>
                  <a:pt x="80352" y="1056082"/>
                </a:lnTo>
                <a:lnTo>
                  <a:pt x="80443" y="1082365"/>
                </a:lnTo>
                <a:cubicBezTo>
                  <a:pt x="75683" y="1080386"/>
                  <a:pt x="70052" y="1078528"/>
                  <a:pt x="63830" y="1076740"/>
                </a:cubicBezTo>
                <a:lnTo>
                  <a:pt x="64158" y="1062650"/>
                </a:lnTo>
                <a:lnTo>
                  <a:pt x="71809" y="1052676"/>
                </a:lnTo>
                <a:close/>
                <a:moveTo>
                  <a:pt x="114543" y="1004038"/>
                </a:moveTo>
                <a:cubicBezTo>
                  <a:pt x="114553" y="1004039"/>
                  <a:pt x="114563" y="1004043"/>
                  <a:pt x="114573" y="1004042"/>
                </a:cubicBezTo>
                <a:lnTo>
                  <a:pt x="114358" y="1007888"/>
                </a:lnTo>
                <a:lnTo>
                  <a:pt x="113963" y="1005127"/>
                </a:lnTo>
                <a:cubicBezTo>
                  <a:pt x="114075" y="1004652"/>
                  <a:pt x="114238" y="1004206"/>
                  <a:pt x="114543" y="1004038"/>
                </a:cubicBezTo>
                <a:close/>
                <a:moveTo>
                  <a:pt x="80089" y="980523"/>
                </a:moveTo>
                <a:lnTo>
                  <a:pt x="80115" y="987898"/>
                </a:lnTo>
                <a:lnTo>
                  <a:pt x="77658" y="982719"/>
                </a:lnTo>
                <a:lnTo>
                  <a:pt x="80089" y="980523"/>
                </a:lnTo>
                <a:close/>
                <a:moveTo>
                  <a:pt x="94748" y="904657"/>
                </a:moveTo>
                <a:lnTo>
                  <a:pt x="90061" y="925186"/>
                </a:lnTo>
                <a:lnTo>
                  <a:pt x="71546" y="939543"/>
                </a:lnTo>
                <a:lnTo>
                  <a:pt x="71035" y="937955"/>
                </a:lnTo>
                <a:lnTo>
                  <a:pt x="75046" y="929502"/>
                </a:lnTo>
                <a:cubicBezTo>
                  <a:pt x="81104" y="924619"/>
                  <a:pt x="85120" y="918972"/>
                  <a:pt x="85833" y="912713"/>
                </a:cubicBezTo>
                <a:lnTo>
                  <a:pt x="94748" y="904657"/>
                </a:lnTo>
                <a:close/>
                <a:moveTo>
                  <a:pt x="102087" y="872518"/>
                </a:moveTo>
                <a:lnTo>
                  <a:pt x="99834" y="882384"/>
                </a:lnTo>
                <a:lnTo>
                  <a:pt x="95992" y="885363"/>
                </a:lnTo>
                <a:lnTo>
                  <a:pt x="102087" y="872518"/>
                </a:lnTo>
                <a:close/>
                <a:moveTo>
                  <a:pt x="73465" y="849850"/>
                </a:moveTo>
                <a:lnTo>
                  <a:pt x="79644" y="851921"/>
                </a:lnTo>
                <a:lnTo>
                  <a:pt x="79682" y="862955"/>
                </a:lnTo>
                <a:lnTo>
                  <a:pt x="73312" y="850503"/>
                </a:lnTo>
                <a:lnTo>
                  <a:pt x="73465" y="849850"/>
                </a:lnTo>
                <a:close/>
                <a:moveTo>
                  <a:pt x="237777" y="775410"/>
                </a:moveTo>
                <a:lnTo>
                  <a:pt x="197098" y="806957"/>
                </a:lnTo>
                <a:lnTo>
                  <a:pt x="196773" y="812464"/>
                </a:lnTo>
                <a:lnTo>
                  <a:pt x="237777" y="775410"/>
                </a:lnTo>
                <a:close/>
                <a:moveTo>
                  <a:pt x="89275" y="712774"/>
                </a:moveTo>
                <a:lnTo>
                  <a:pt x="75574" y="765999"/>
                </a:lnTo>
                <a:lnTo>
                  <a:pt x="60825" y="752392"/>
                </a:lnTo>
                <a:lnTo>
                  <a:pt x="65361" y="741879"/>
                </a:lnTo>
                <a:lnTo>
                  <a:pt x="65655" y="741605"/>
                </a:lnTo>
                <a:cubicBezTo>
                  <a:pt x="65625" y="741538"/>
                  <a:pt x="65594" y="741471"/>
                  <a:pt x="65534" y="741478"/>
                </a:cubicBezTo>
                <a:lnTo>
                  <a:pt x="68663" y="734225"/>
                </a:lnTo>
                <a:cubicBezTo>
                  <a:pt x="70380" y="737642"/>
                  <a:pt x="72707" y="738528"/>
                  <a:pt x="74531" y="737352"/>
                </a:cubicBezTo>
                <a:lnTo>
                  <a:pt x="78848" y="717856"/>
                </a:lnTo>
                <a:lnTo>
                  <a:pt x="89275" y="712774"/>
                </a:lnTo>
                <a:close/>
                <a:moveTo>
                  <a:pt x="336208" y="691818"/>
                </a:moveTo>
                <a:lnTo>
                  <a:pt x="322545" y="744898"/>
                </a:lnTo>
                <a:lnTo>
                  <a:pt x="194924" y="843866"/>
                </a:lnTo>
                <a:lnTo>
                  <a:pt x="192878" y="878604"/>
                </a:lnTo>
                <a:lnTo>
                  <a:pt x="316999" y="766442"/>
                </a:lnTo>
                <a:lnTo>
                  <a:pt x="233635" y="1090300"/>
                </a:lnTo>
                <a:lnTo>
                  <a:pt x="190388" y="1064748"/>
                </a:lnTo>
                <a:lnTo>
                  <a:pt x="180824" y="1083254"/>
                </a:lnTo>
                <a:lnTo>
                  <a:pt x="180082" y="1095857"/>
                </a:lnTo>
                <a:lnTo>
                  <a:pt x="227353" y="1114708"/>
                </a:lnTo>
                <a:lnTo>
                  <a:pt x="164617" y="1358424"/>
                </a:lnTo>
                <a:lnTo>
                  <a:pt x="159553" y="1444423"/>
                </a:lnTo>
                <a:lnTo>
                  <a:pt x="236124" y="1118206"/>
                </a:lnTo>
                <a:lnTo>
                  <a:pt x="279084" y="1135340"/>
                </a:lnTo>
                <a:cubicBezTo>
                  <a:pt x="280588" y="1129703"/>
                  <a:pt x="282079" y="1124275"/>
                  <a:pt x="283255" y="1119618"/>
                </a:cubicBezTo>
                <a:lnTo>
                  <a:pt x="241573" y="1094992"/>
                </a:lnTo>
                <a:lnTo>
                  <a:pt x="319148" y="764500"/>
                </a:lnTo>
                <a:lnTo>
                  <a:pt x="331836" y="753035"/>
                </a:lnTo>
                <a:lnTo>
                  <a:pt x="334750" y="735433"/>
                </a:lnTo>
                <a:lnTo>
                  <a:pt x="324018" y="743755"/>
                </a:lnTo>
                <a:lnTo>
                  <a:pt x="336208" y="691818"/>
                </a:lnTo>
                <a:close/>
                <a:moveTo>
                  <a:pt x="146137" y="451255"/>
                </a:moveTo>
                <a:lnTo>
                  <a:pt x="144102" y="455233"/>
                </a:lnTo>
                <a:cubicBezTo>
                  <a:pt x="143833" y="453395"/>
                  <a:pt x="144783" y="452163"/>
                  <a:pt x="146137" y="451255"/>
                </a:cubicBezTo>
                <a:close/>
                <a:moveTo>
                  <a:pt x="160196" y="430125"/>
                </a:moveTo>
                <a:lnTo>
                  <a:pt x="161924" y="430544"/>
                </a:lnTo>
                <a:lnTo>
                  <a:pt x="137076" y="527077"/>
                </a:lnTo>
                <a:cubicBezTo>
                  <a:pt x="133638" y="523986"/>
                  <a:pt x="130046" y="520988"/>
                  <a:pt x="126402" y="518083"/>
                </a:cubicBezTo>
                <a:lnTo>
                  <a:pt x="132442" y="514318"/>
                </a:lnTo>
                <a:lnTo>
                  <a:pt x="128746" y="507616"/>
                </a:lnTo>
                <a:cubicBezTo>
                  <a:pt x="130260" y="499310"/>
                  <a:pt x="135286" y="501567"/>
                  <a:pt x="140243" y="502723"/>
                </a:cubicBezTo>
                <a:cubicBezTo>
                  <a:pt x="140356" y="496261"/>
                  <a:pt x="136967" y="485115"/>
                  <a:pt x="137459" y="478038"/>
                </a:cubicBezTo>
                <a:lnTo>
                  <a:pt x="139666" y="473388"/>
                </a:lnTo>
                <a:lnTo>
                  <a:pt x="149598" y="475471"/>
                </a:lnTo>
                <a:cubicBezTo>
                  <a:pt x="149605" y="475471"/>
                  <a:pt x="149611" y="475467"/>
                  <a:pt x="149617" y="475471"/>
                </a:cubicBezTo>
                <a:lnTo>
                  <a:pt x="149235" y="474106"/>
                </a:lnTo>
                <a:lnTo>
                  <a:pt x="143803" y="464670"/>
                </a:lnTo>
                <a:lnTo>
                  <a:pt x="151590" y="448260"/>
                </a:lnTo>
                <a:cubicBezTo>
                  <a:pt x="152673" y="446937"/>
                  <a:pt x="154191" y="446391"/>
                  <a:pt x="155806" y="445944"/>
                </a:cubicBezTo>
                <a:lnTo>
                  <a:pt x="154233" y="442690"/>
                </a:lnTo>
                <a:lnTo>
                  <a:pt x="160196" y="430125"/>
                </a:lnTo>
                <a:close/>
                <a:moveTo>
                  <a:pt x="157156" y="429722"/>
                </a:moveTo>
                <a:lnTo>
                  <a:pt x="152429" y="438959"/>
                </a:lnTo>
                <a:lnTo>
                  <a:pt x="151388" y="436805"/>
                </a:lnTo>
                <a:lnTo>
                  <a:pt x="157156" y="429722"/>
                </a:lnTo>
                <a:close/>
                <a:moveTo>
                  <a:pt x="170311" y="392245"/>
                </a:moveTo>
                <a:cubicBezTo>
                  <a:pt x="170742" y="392432"/>
                  <a:pt x="171185" y="392637"/>
                  <a:pt x="171611" y="392910"/>
                </a:cubicBezTo>
                <a:lnTo>
                  <a:pt x="167175" y="410141"/>
                </a:lnTo>
                <a:lnTo>
                  <a:pt x="164530" y="415312"/>
                </a:lnTo>
                <a:cubicBezTo>
                  <a:pt x="163254" y="405645"/>
                  <a:pt x="161590" y="395835"/>
                  <a:pt x="163969" y="392353"/>
                </a:cubicBezTo>
                <a:cubicBezTo>
                  <a:pt x="165156" y="390616"/>
                  <a:pt x="167486" y="391024"/>
                  <a:pt x="170311" y="392245"/>
                </a:cubicBezTo>
                <a:close/>
                <a:moveTo>
                  <a:pt x="196552" y="348491"/>
                </a:moveTo>
                <a:lnTo>
                  <a:pt x="198464" y="348997"/>
                </a:lnTo>
                <a:lnTo>
                  <a:pt x="195395" y="354994"/>
                </a:lnTo>
                <a:lnTo>
                  <a:pt x="196552" y="348491"/>
                </a:lnTo>
                <a:close/>
                <a:moveTo>
                  <a:pt x="157384" y="308928"/>
                </a:moveTo>
                <a:cubicBezTo>
                  <a:pt x="158909" y="308746"/>
                  <a:pt x="160597" y="309335"/>
                  <a:pt x="162347" y="310710"/>
                </a:cubicBezTo>
                <a:lnTo>
                  <a:pt x="156403" y="310710"/>
                </a:lnTo>
                <a:cubicBezTo>
                  <a:pt x="156710" y="309047"/>
                  <a:pt x="157043" y="308967"/>
                  <a:pt x="157384" y="308928"/>
                </a:cubicBezTo>
                <a:close/>
                <a:moveTo>
                  <a:pt x="1717150" y="108091"/>
                </a:moveTo>
                <a:cubicBezTo>
                  <a:pt x="1717598" y="110117"/>
                  <a:pt x="1718232" y="112034"/>
                  <a:pt x="1719064" y="113831"/>
                </a:cubicBezTo>
                <a:lnTo>
                  <a:pt x="1708576" y="115743"/>
                </a:lnTo>
                <a:cubicBezTo>
                  <a:pt x="1707554" y="114627"/>
                  <a:pt x="1712396" y="111431"/>
                  <a:pt x="1717150" y="108091"/>
                </a:cubicBezTo>
                <a:close/>
                <a:moveTo>
                  <a:pt x="1709329" y="72729"/>
                </a:moveTo>
                <a:cubicBezTo>
                  <a:pt x="1709791" y="75910"/>
                  <a:pt x="1710344" y="79017"/>
                  <a:pt x="1711004" y="82032"/>
                </a:cubicBezTo>
                <a:lnTo>
                  <a:pt x="1706855" y="77092"/>
                </a:lnTo>
                <a:cubicBezTo>
                  <a:pt x="1706532" y="75367"/>
                  <a:pt x="1706920" y="73897"/>
                  <a:pt x="1709329" y="72729"/>
                </a:cubicBezTo>
                <a:close/>
                <a:moveTo>
                  <a:pt x="1827839" y="0"/>
                </a:moveTo>
                <a:cubicBezTo>
                  <a:pt x="1835970" y="11062"/>
                  <a:pt x="1843594" y="22176"/>
                  <a:pt x="1850911" y="32822"/>
                </a:cubicBezTo>
                <a:cubicBezTo>
                  <a:pt x="1846982" y="57850"/>
                  <a:pt x="1846455" y="75245"/>
                  <a:pt x="1853558" y="75606"/>
                </a:cubicBezTo>
                <a:cubicBezTo>
                  <a:pt x="1857156" y="75788"/>
                  <a:pt x="1862611" y="69303"/>
                  <a:pt x="1869012" y="58683"/>
                </a:cubicBezTo>
                <a:cubicBezTo>
                  <a:pt x="1882978" y="78744"/>
                  <a:pt x="1895408" y="94797"/>
                  <a:pt x="1905315" y="102067"/>
                </a:cubicBezTo>
                <a:cubicBezTo>
                  <a:pt x="1913892" y="108362"/>
                  <a:pt x="1920296" y="111386"/>
                  <a:pt x="1925897" y="111849"/>
                </a:cubicBezTo>
                <a:lnTo>
                  <a:pt x="1933615" y="130228"/>
                </a:lnTo>
                <a:lnTo>
                  <a:pt x="1940313" y="125727"/>
                </a:lnTo>
                <a:lnTo>
                  <a:pt x="1941972" y="125886"/>
                </a:lnTo>
                <a:cubicBezTo>
                  <a:pt x="1946695" y="116896"/>
                  <a:pt x="1951449" y="97680"/>
                  <a:pt x="1956733" y="74516"/>
                </a:cubicBezTo>
                <a:cubicBezTo>
                  <a:pt x="1978988" y="103450"/>
                  <a:pt x="2002488" y="123704"/>
                  <a:pt x="2028201" y="118062"/>
                </a:cubicBezTo>
                <a:cubicBezTo>
                  <a:pt x="2037701" y="115980"/>
                  <a:pt x="2046222" y="110583"/>
                  <a:pt x="2052964" y="102614"/>
                </a:cubicBezTo>
                <a:lnTo>
                  <a:pt x="2067663" y="112215"/>
                </a:lnTo>
                <a:cubicBezTo>
                  <a:pt x="2071107" y="112002"/>
                  <a:pt x="2073340" y="108870"/>
                  <a:pt x="2075097" y="104295"/>
                </a:cubicBezTo>
                <a:cubicBezTo>
                  <a:pt x="2083573" y="102723"/>
                  <a:pt x="2090993" y="99104"/>
                  <a:pt x="2098663" y="94313"/>
                </a:cubicBezTo>
                <a:cubicBezTo>
                  <a:pt x="2110180" y="111956"/>
                  <a:pt x="2122371" y="122294"/>
                  <a:pt x="2135406" y="118062"/>
                </a:cubicBezTo>
                <a:cubicBezTo>
                  <a:pt x="2140719" y="116338"/>
                  <a:pt x="2145580" y="112345"/>
                  <a:pt x="2149449" y="106504"/>
                </a:cubicBezTo>
                <a:cubicBezTo>
                  <a:pt x="2148675" y="113647"/>
                  <a:pt x="2150513" y="118020"/>
                  <a:pt x="2155474" y="118604"/>
                </a:cubicBezTo>
                <a:lnTo>
                  <a:pt x="2186134" y="97979"/>
                </a:lnTo>
                <a:cubicBezTo>
                  <a:pt x="2178314" y="118756"/>
                  <a:pt x="2176727" y="132996"/>
                  <a:pt x="2185955" y="134084"/>
                </a:cubicBezTo>
                <a:cubicBezTo>
                  <a:pt x="2192153" y="134812"/>
                  <a:pt x="2203450" y="126318"/>
                  <a:pt x="2217749" y="112853"/>
                </a:cubicBezTo>
                <a:cubicBezTo>
                  <a:pt x="2217931" y="116209"/>
                  <a:pt x="2219220" y="118221"/>
                  <a:pt x="2221419" y="118603"/>
                </a:cubicBezTo>
                <a:lnTo>
                  <a:pt x="2242140" y="97979"/>
                </a:lnTo>
                <a:cubicBezTo>
                  <a:pt x="2236854" y="118756"/>
                  <a:pt x="2235783" y="132996"/>
                  <a:pt x="2242018" y="134083"/>
                </a:cubicBezTo>
                <a:cubicBezTo>
                  <a:pt x="2250184" y="135502"/>
                  <a:pt x="2271441" y="101886"/>
                  <a:pt x="2297432" y="64869"/>
                </a:cubicBezTo>
                <a:lnTo>
                  <a:pt x="2300190" y="68610"/>
                </a:lnTo>
                <a:cubicBezTo>
                  <a:pt x="2300305" y="75750"/>
                  <a:pt x="2301672" y="81776"/>
                  <a:pt x="2306625" y="86187"/>
                </a:cubicBezTo>
                <a:lnTo>
                  <a:pt x="2300947" y="100202"/>
                </a:lnTo>
                <a:cubicBezTo>
                  <a:pt x="2302659" y="103690"/>
                  <a:pt x="2308638" y="105811"/>
                  <a:pt x="2320878" y="106008"/>
                </a:cubicBezTo>
                <a:cubicBezTo>
                  <a:pt x="2333539" y="138278"/>
                  <a:pt x="2344270" y="171802"/>
                  <a:pt x="2353966" y="192865"/>
                </a:cubicBezTo>
                <a:cubicBezTo>
                  <a:pt x="2355932" y="192779"/>
                  <a:pt x="2357791" y="192777"/>
                  <a:pt x="2358900" y="193402"/>
                </a:cubicBezTo>
                <a:lnTo>
                  <a:pt x="2364282" y="194266"/>
                </a:lnTo>
                <a:cubicBezTo>
                  <a:pt x="2367548" y="196453"/>
                  <a:pt x="2364768" y="201515"/>
                  <a:pt x="2360963" y="207220"/>
                </a:cubicBezTo>
                <a:cubicBezTo>
                  <a:pt x="2361167" y="207894"/>
                  <a:pt x="2361485" y="208525"/>
                  <a:pt x="2361800" y="209110"/>
                </a:cubicBezTo>
                <a:lnTo>
                  <a:pt x="2365234" y="213348"/>
                </a:lnTo>
                <a:lnTo>
                  <a:pt x="2367659" y="212834"/>
                </a:lnTo>
                <a:lnTo>
                  <a:pt x="2368276" y="213349"/>
                </a:lnTo>
                <a:lnTo>
                  <a:pt x="2377264" y="212061"/>
                </a:lnTo>
                <a:lnTo>
                  <a:pt x="2380006" y="213213"/>
                </a:lnTo>
                <a:cubicBezTo>
                  <a:pt x="2380195" y="212823"/>
                  <a:pt x="2380383" y="212424"/>
                  <a:pt x="2380549" y="212019"/>
                </a:cubicBezTo>
                <a:lnTo>
                  <a:pt x="2385736" y="211964"/>
                </a:lnTo>
                <a:lnTo>
                  <a:pt x="2390136" y="213213"/>
                </a:lnTo>
                <a:cubicBezTo>
                  <a:pt x="2391367" y="211492"/>
                  <a:pt x="2392579" y="209616"/>
                  <a:pt x="2393831" y="207713"/>
                </a:cubicBezTo>
                <a:cubicBezTo>
                  <a:pt x="2397147" y="218662"/>
                  <a:pt x="2401285" y="227941"/>
                  <a:pt x="2406385" y="234381"/>
                </a:cubicBezTo>
                <a:lnTo>
                  <a:pt x="2424294" y="238142"/>
                </a:lnTo>
                <a:lnTo>
                  <a:pt x="2420470" y="244024"/>
                </a:lnTo>
                <a:cubicBezTo>
                  <a:pt x="2421929" y="244071"/>
                  <a:pt x="2423387" y="243864"/>
                  <a:pt x="2424746" y="242866"/>
                </a:cubicBezTo>
                <a:cubicBezTo>
                  <a:pt x="2424597" y="257550"/>
                  <a:pt x="2424335" y="274073"/>
                  <a:pt x="2424156" y="290692"/>
                </a:cubicBezTo>
                <a:cubicBezTo>
                  <a:pt x="2428055" y="274899"/>
                  <a:pt x="2432059" y="252487"/>
                  <a:pt x="2432811" y="256151"/>
                </a:cubicBezTo>
                <a:cubicBezTo>
                  <a:pt x="2434100" y="262420"/>
                  <a:pt x="2427688" y="312649"/>
                  <a:pt x="2425145" y="343174"/>
                </a:cubicBezTo>
                <a:lnTo>
                  <a:pt x="2429148" y="350277"/>
                </a:lnTo>
                <a:lnTo>
                  <a:pt x="2432670" y="354571"/>
                </a:lnTo>
                <a:cubicBezTo>
                  <a:pt x="2437736" y="327207"/>
                  <a:pt x="2443645" y="273090"/>
                  <a:pt x="2444985" y="276597"/>
                </a:cubicBezTo>
                <a:cubicBezTo>
                  <a:pt x="2446418" y="280341"/>
                  <a:pt x="2443251" y="324532"/>
                  <a:pt x="2440783" y="364834"/>
                </a:cubicBezTo>
                <a:lnTo>
                  <a:pt x="2445945" y="356335"/>
                </a:lnTo>
                <a:lnTo>
                  <a:pt x="2444921" y="371834"/>
                </a:lnTo>
                <a:cubicBezTo>
                  <a:pt x="2445742" y="372781"/>
                  <a:pt x="2446551" y="374077"/>
                  <a:pt x="2447349" y="375388"/>
                </a:cubicBezTo>
                <a:lnTo>
                  <a:pt x="2447085" y="376517"/>
                </a:lnTo>
                <a:lnTo>
                  <a:pt x="2372347" y="376517"/>
                </a:lnTo>
                <a:lnTo>
                  <a:pt x="2372347" y="431549"/>
                </a:lnTo>
                <a:cubicBezTo>
                  <a:pt x="2373975" y="419255"/>
                  <a:pt x="2375457" y="410405"/>
                  <a:pt x="2376500" y="411972"/>
                </a:cubicBezTo>
                <a:lnTo>
                  <a:pt x="2377721" y="439489"/>
                </a:lnTo>
                <a:lnTo>
                  <a:pt x="2380020" y="481006"/>
                </a:lnTo>
                <a:cubicBezTo>
                  <a:pt x="2380851" y="484699"/>
                  <a:pt x="2381734" y="488643"/>
                  <a:pt x="2382538" y="491702"/>
                </a:cubicBezTo>
                <a:lnTo>
                  <a:pt x="2383738" y="489837"/>
                </a:lnTo>
                <a:lnTo>
                  <a:pt x="2390990" y="481242"/>
                </a:lnTo>
                <a:lnTo>
                  <a:pt x="2396110" y="468279"/>
                </a:lnTo>
                <a:cubicBezTo>
                  <a:pt x="2398965" y="466671"/>
                  <a:pt x="2400421" y="476788"/>
                  <a:pt x="2400586" y="491957"/>
                </a:cubicBezTo>
                <a:lnTo>
                  <a:pt x="2406645" y="483622"/>
                </a:lnTo>
                <a:cubicBezTo>
                  <a:pt x="2406258" y="498899"/>
                  <a:pt x="2405510" y="504431"/>
                  <a:pt x="2404892" y="509936"/>
                </a:cubicBezTo>
                <a:cubicBezTo>
                  <a:pt x="2408847" y="510684"/>
                  <a:pt x="2417480" y="498155"/>
                  <a:pt x="2419208" y="504754"/>
                </a:cubicBezTo>
                <a:cubicBezTo>
                  <a:pt x="2418068" y="520743"/>
                  <a:pt x="2417070" y="526578"/>
                  <a:pt x="2416270" y="532135"/>
                </a:cubicBezTo>
                <a:cubicBezTo>
                  <a:pt x="2416270" y="532151"/>
                  <a:pt x="2416270" y="532164"/>
                  <a:pt x="2416268" y="532179"/>
                </a:cubicBezTo>
                <a:lnTo>
                  <a:pt x="2416959" y="531392"/>
                </a:lnTo>
                <a:lnTo>
                  <a:pt x="2423862" y="515766"/>
                </a:lnTo>
                <a:lnTo>
                  <a:pt x="2427173" y="535575"/>
                </a:lnTo>
                <a:lnTo>
                  <a:pt x="2426650" y="539895"/>
                </a:lnTo>
                <a:lnTo>
                  <a:pt x="2428845" y="545618"/>
                </a:lnTo>
                <a:cubicBezTo>
                  <a:pt x="2429157" y="546652"/>
                  <a:pt x="2429156" y="547032"/>
                  <a:pt x="2429154" y="547417"/>
                </a:cubicBezTo>
                <a:lnTo>
                  <a:pt x="2429514" y="546998"/>
                </a:lnTo>
                <a:lnTo>
                  <a:pt x="2435621" y="562128"/>
                </a:lnTo>
                <a:cubicBezTo>
                  <a:pt x="2435213" y="565308"/>
                  <a:pt x="2434762" y="568481"/>
                  <a:pt x="2434346" y="571651"/>
                </a:cubicBezTo>
                <a:cubicBezTo>
                  <a:pt x="2435662" y="572134"/>
                  <a:pt x="2437398" y="571541"/>
                  <a:pt x="2439286" y="570543"/>
                </a:cubicBezTo>
                <a:cubicBezTo>
                  <a:pt x="2439535" y="570085"/>
                  <a:pt x="2439785" y="569987"/>
                  <a:pt x="2440015" y="570111"/>
                </a:cubicBezTo>
                <a:lnTo>
                  <a:pt x="2440134" y="570042"/>
                </a:lnTo>
                <a:lnTo>
                  <a:pt x="2452333" y="580331"/>
                </a:lnTo>
                <a:cubicBezTo>
                  <a:pt x="2451796" y="584770"/>
                  <a:pt x="2450954" y="589479"/>
                  <a:pt x="2450088" y="594255"/>
                </a:cubicBezTo>
                <a:cubicBezTo>
                  <a:pt x="2425312" y="573285"/>
                  <a:pt x="2402757" y="554131"/>
                  <a:pt x="2401776" y="571135"/>
                </a:cubicBezTo>
                <a:cubicBezTo>
                  <a:pt x="2401003" y="584542"/>
                  <a:pt x="2421080" y="621433"/>
                  <a:pt x="2441521" y="664482"/>
                </a:cubicBezTo>
                <a:cubicBezTo>
                  <a:pt x="2442894" y="675001"/>
                  <a:pt x="2445290" y="687791"/>
                  <a:pt x="2448064" y="700545"/>
                </a:cubicBezTo>
                <a:cubicBezTo>
                  <a:pt x="2421816" y="685405"/>
                  <a:pt x="2397156" y="670585"/>
                  <a:pt x="2396850" y="688659"/>
                </a:cubicBezTo>
                <a:cubicBezTo>
                  <a:pt x="2396701" y="697655"/>
                  <a:pt x="2405739" y="714355"/>
                  <a:pt x="2418133" y="735199"/>
                </a:cubicBezTo>
                <a:lnTo>
                  <a:pt x="2419684" y="737848"/>
                </a:lnTo>
                <a:cubicBezTo>
                  <a:pt x="2426338" y="749224"/>
                  <a:pt x="2433853" y="761606"/>
                  <a:pt x="2441382" y="774646"/>
                </a:cubicBezTo>
                <a:lnTo>
                  <a:pt x="2424966" y="779862"/>
                </a:lnTo>
                <a:cubicBezTo>
                  <a:pt x="2424905" y="792550"/>
                  <a:pt x="2424432" y="809696"/>
                  <a:pt x="2424156" y="826995"/>
                </a:cubicBezTo>
                <a:cubicBezTo>
                  <a:pt x="2428055" y="816322"/>
                  <a:pt x="2432060" y="801175"/>
                  <a:pt x="2432811" y="803652"/>
                </a:cubicBezTo>
                <a:cubicBezTo>
                  <a:pt x="2434101" y="807888"/>
                  <a:pt x="2427688" y="841833"/>
                  <a:pt x="2425145" y="862463"/>
                </a:cubicBezTo>
                <a:lnTo>
                  <a:pt x="2429148" y="867262"/>
                </a:lnTo>
                <a:lnTo>
                  <a:pt x="2432670" y="870166"/>
                </a:lnTo>
                <a:cubicBezTo>
                  <a:pt x="2437736" y="851672"/>
                  <a:pt x="2443645" y="815099"/>
                  <a:pt x="2444985" y="817469"/>
                </a:cubicBezTo>
                <a:cubicBezTo>
                  <a:pt x="2446418" y="820000"/>
                  <a:pt x="2443251" y="849865"/>
                  <a:pt x="2440784" y="877101"/>
                </a:cubicBezTo>
                <a:lnTo>
                  <a:pt x="2445945" y="871357"/>
                </a:lnTo>
                <a:lnTo>
                  <a:pt x="2444921" y="881832"/>
                </a:lnTo>
                <a:cubicBezTo>
                  <a:pt x="2445742" y="882471"/>
                  <a:pt x="2446551" y="883348"/>
                  <a:pt x="2447349" y="884234"/>
                </a:cubicBezTo>
                <a:lnTo>
                  <a:pt x="2445579" y="889358"/>
                </a:lnTo>
                <a:cubicBezTo>
                  <a:pt x="2445569" y="891452"/>
                  <a:pt x="2445643" y="891808"/>
                  <a:pt x="2445765" y="892208"/>
                </a:cubicBezTo>
                <a:lnTo>
                  <a:pt x="2441316" y="898720"/>
                </a:lnTo>
                <a:cubicBezTo>
                  <a:pt x="2441101" y="899829"/>
                  <a:pt x="2440879" y="900768"/>
                  <a:pt x="2440655" y="901713"/>
                </a:cubicBezTo>
                <a:cubicBezTo>
                  <a:pt x="2443448" y="901364"/>
                  <a:pt x="2448065" y="900956"/>
                  <a:pt x="2448457" y="905141"/>
                </a:cubicBezTo>
                <a:cubicBezTo>
                  <a:pt x="2448926" y="910163"/>
                  <a:pt x="2445654" y="911605"/>
                  <a:pt x="2442999" y="928876"/>
                </a:cubicBezTo>
                <a:cubicBezTo>
                  <a:pt x="2443492" y="932783"/>
                  <a:pt x="2444014" y="937476"/>
                  <a:pt x="2444570" y="942498"/>
                </a:cubicBezTo>
                <a:cubicBezTo>
                  <a:pt x="2446408" y="944018"/>
                  <a:pt x="2448892" y="945355"/>
                  <a:pt x="2451465" y="947544"/>
                </a:cubicBezTo>
                <a:cubicBezTo>
                  <a:pt x="2457823" y="927677"/>
                  <a:pt x="2464944" y="898703"/>
                  <a:pt x="2467883" y="907343"/>
                </a:cubicBezTo>
                <a:cubicBezTo>
                  <a:pt x="2469502" y="912102"/>
                  <a:pt x="2469274" y="926335"/>
                  <a:pt x="2468440" y="943493"/>
                </a:cubicBezTo>
                <a:lnTo>
                  <a:pt x="2471291" y="935654"/>
                </a:lnTo>
                <a:lnTo>
                  <a:pt x="2472691" y="945459"/>
                </a:lnTo>
                <a:cubicBezTo>
                  <a:pt x="2472702" y="956581"/>
                  <a:pt x="2470766" y="985004"/>
                  <a:pt x="2469507" y="1012937"/>
                </a:cubicBezTo>
                <a:lnTo>
                  <a:pt x="2471796" y="1018216"/>
                </a:lnTo>
                <a:cubicBezTo>
                  <a:pt x="2470822" y="1024322"/>
                  <a:pt x="2469958" y="1025593"/>
                  <a:pt x="2468815" y="1026681"/>
                </a:cubicBezTo>
                <a:cubicBezTo>
                  <a:pt x="2468747" y="1027553"/>
                  <a:pt x="2468708" y="1028559"/>
                  <a:pt x="2468671" y="1029557"/>
                </a:cubicBezTo>
                <a:cubicBezTo>
                  <a:pt x="2469905" y="1029463"/>
                  <a:pt x="2471345" y="1029223"/>
                  <a:pt x="2472833" y="1029291"/>
                </a:cubicBezTo>
                <a:cubicBezTo>
                  <a:pt x="2477253" y="1010466"/>
                  <a:pt x="2482039" y="984314"/>
                  <a:pt x="2484513" y="989050"/>
                </a:cubicBezTo>
                <a:cubicBezTo>
                  <a:pt x="2485876" y="991661"/>
                  <a:pt x="2486044" y="1002536"/>
                  <a:pt x="2485818" y="1015982"/>
                </a:cubicBezTo>
                <a:lnTo>
                  <a:pt x="2487825" y="1008347"/>
                </a:lnTo>
                <a:lnTo>
                  <a:pt x="2489140" y="1014897"/>
                </a:lnTo>
                <a:cubicBezTo>
                  <a:pt x="2489409" y="1022990"/>
                  <a:pt x="2488669" y="1044341"/>
                  <a:pt x="2488243" y="1065141"/>
                </a:cubicBezTo>
                <a:lnTo>
                  <a:pt x="2489379" y="1070898"/>
                </a:lnTo>
                <a:lnTo>
                  <a:pt x="2489254" y="1071548"/>
                </a:lnTo>
                <a:cubicBezTo>
                  <a:pt x="2489186" y="1079924"/>
                  <a:pt x="2488762" y="1082418"/>
                  <a:pt x="2488309" y="1085119"/>
                </a:cubicBezTo>
                <a:lnTo>
                  <a:pt x="2488656" y="1098538"/>
                </a:lnTo>
                <a:cubicBezTo>
                  <a:pt x="2489200" y="1098411"/>
                  <a:pt x="2489762" y="1098305"/>
                  <a:pt x="2490329" y="1098214"/>
                </a:cubicBezTo>
                <a:cubicBezTo>
                  <a:pt x="2494706" y="1091756"/>
                  <a:pt x="2499431" y="1083023"/>
                  <a:pt x="2501919" y="1084022"/>
                </a:cubicBezTo>
                <a:lnTo>
                  <a:pt x="2503191" y="1086644"/>
                </a:lnTo>
                <a:cubicBezTo>
                  <a:pt x="2503387" y="1088038"/>
                  <a:pt x="2503388" y="1089874"/>
                  <a:pt x="2503290" y="1091925"/>
                </a:cubicBezTo>
                <a:lnTo>
                  <a:pt x="2506613" y="1091014"/>
                </a:lnTo>
                <a:lnTo>
                  <a:pt x="2505838" y="1106339"/>
                </a:lnTo>
                <a:lnTo>
                  <a:pt x="2505738" y="1110090"/>
                </a:lnTo>
                <a:lnTo>
                  <a:pt x="2506696" y="1120169"/>
                </a:lnTo>
                <a:cubicBezTo>
                  <a:pt x="2509418" y="1123765"/>
                  <a:pt x="2521884" y="1111065"/>
                  <a:pt x="2522944" y="1112586"/>
                </a:cubicBezTo>
                <a:cubicBezTo>
                  <a:pt x="2522185" y="1116353"/>
                  <a:pt x="2515969" y="1124140"/>
                  <a:pt x="2513051" y="1129299"/>
                </a:cubicBezTo>
                <a:cubicBezTo>
                  <a:pt x="2513677" y="1129795"/>
                  <a:pt x="2519471" y="1132454"/>
                  <a:pt x="2519452" y="1133961"/>
                </a:cubicBezTo>
                <a:lnTo>
                  <a:pt x="2512932" y="1138341"/>
                </a:lnTo>
                <a:lnTo>
                  <a:pt x="2512212" y="1138099"/>
                </a:lnTo>
                <a:cubicBezTo>
                  <a:pt x="2515024" y="1142281"/>
                  <a:pt x="2523988" y="1147581"/>
                  <a:pt x="2524969" y="1154622"/>
                </a:cubicBezTo>
                <a:cubicBezTo>
                  <a:pt x="2525814" y="1160689"/>
                  <a:pt x="2521380" y="1165259"/>
                  <a:pt x="2514637" y="1167673"/>
                </a:cubicBezTo>
                <a:lnTo>
                  <a:pt x="2518333" y="1174618"/>
                </a:lnTo>
                <a:cubicBezTo>
                  <a:pt x="2516819" y="1183175"/>
                  <a:pt x="2511793" y="1180812"/>
                  <a:pt x="2506837" y="1179577"/>
                </a:cubicBezTo>
                <a:lnTo>
                  <a:pt x="2508468" y="1191900"/>
                </a:lnTo>
                <a:cubicBezTo>
                  <a:pt x="2509968" y="1191167"/>
                  <a:pt x="2511189" y="1191002"/>
                  <a:pt x="2511989" y="1191557"/>
                </a:cubicBezTo>
                <a:cubicBezTo>
                  <a:pt x="2511922" y="1196082"/>
                  <a:pt x="2510992" y="1197878"/>
                  <a:pt x="2509801" y="1199815"/>
                </a:cubicBezTo>
                <a:lnTo>
                  <a:pt x="2510369" y="1203798"/>
                </a:lnTo>
                <a:cubicBezTo>
                  <a:pt x="2517406" y="1202567"/>
                  <a:pt x="2521855" y="1204070"/>
                  <a:pt x="2521106" y="1209021"/>
                </a:cubicBezTo>
                <a:lnTo>
                  <a:pt x="2513754" y="1220689"/>
                </a:lnTo>
                <a:lnTo>
                  <a:pt x="2513362" y="1221786"/>
                </a:lnTo>
                <a:cubicBezTo>
                  <a:pt x="2513368" y="1221778"/>
                  <a:pt x="2513374" y="1221778"/>
                  <a:pt x="2513381" y="1221775"/>
                </a:cubicBezTo>
                <a:lnTo>
                  <a:pt x="2525732" y="1214822"/>
                </a:lnTo>
                <a:cubicBezTo>
                  <a:pt x="2528566" y="1216735"/>
                  <a:pt x="2522490" y="1230655"/>
                  <a:pt x="2522589" y="1236410"/>
                </a:cubicBezTo>
                <a:lnTo>
                  <a:pt x="2534394" y="1231302"/>
                </a:lnTo>
                <a:cubicBezTo>
                  <a:pt x="2534382" y="1234217"/>
                  <a:pt x="2534240" y="1234550"/>
                  <a:pt x="2534074" y="1234902"/>
                </a:cubicBezTo>
                <a:lnTo>
                  <a:pt x="2530332" y="1241029"/>
                </a:lnTo>
                <a:cubicBezTo>
                  <a:pt x="2535385" y="1240118"/>
                  <a:pt x="2539131" y="1240554"/>
                  <a:pt x="2540602" y="1245352"/>
                </a:cubicBezTo>
                <a:cubicBezTo>
                  <a:pt x="2539578" y="1250413"/>
                  <a:pt x="2530570" y="1257647"/>
                  <a:pt x="2528545" y="1260276"/>
                </a:cubicBezTo>
                <a:lnTo>
                  <a:pt x="2528451" y="1261122"/>
                </a:lnTo>
                <a:lnTo>
                  <a:pt x="2534955" y="1261301"/>
                </a:lnTo>
                <a:cubicBezTo>
                  <a:pt x="2534967" y="1262287"/>
                  <a:pt x="2529148" y="1266461"/>
                  <a:pt x="2528517" y="1267048"/>
                </a:cubicBezTo>
                <a:cubicBezTo>
                  <a:pt x="2531394" y="1269233"/>
                  <a:pt x="2537522" y="1271771"/>
                  <a:pt x="2538327" y="1273973"/>
                </a:cubicBezTo>
                <a:cubicBezTo>
                  <a:pt x="2537257" y="1275420"/>
                  <a:pt x="2524847" y="1272221"/>
                  <a:pt x="2522100" y="1275728"/>
                </a:cubicBezTo>
                <a:lnTo>
                  <a:pt x="2521082" y="1282786"/>
                </a:lnTo>
                <a:lnTo>
                  <a:pt x="2522322" y="1283730"/>
                </a:lnTo>
                <a:lnTo>
                  <a:pt x="2521160" y="1285222"/>
                </a:lnTo>
                <a:lnTo>
                  <a:pt x="2521846" y="1295028"/>
                </a:lnTo>
                <a:lnTo>
                  <a:pt x="2518523" y="1295809"/>
                </a:lnTo>
                <a:cubicBezTo>
                  <a:pt x="2518608" y="1297120"/>
                  <a:pt x="2518597" y="1298336"/>
                  <a:pt x="2518393" y="1299341"/>
                </a:cubicBezTo>
                <a:lnTo>
                  <a:pt x="2517104" y="1301602"/>
                </a:lnTo>
                <a:lnTo>
                  <a:pt x="2505580" y="1297046"/>
                </a:lnTo>
                <a:cubicBezTo>
                  <a:pt x="2504091" y="1297509"/>
                  <a:pt x="2502651" y="1297896"/>
                  <a:pt x="2501416" y="1298246"/>
                </a:cubicBezTo>
                <a:cubicBezTo>
                  <a:pt x="2502182" y="1302623"/>
                  <a:pt x="2503821" y="1307505"/>
                  <a:pt x="2504610" y="1311692"/>
                </a:cubicBezTo>
                <a:lnTo>
                  <a:pt x="2510281" y="1306068"/>
                </a:lnTo>
                <a:lnTo>
                  <a:pt x="2511606" y="1309392"/>
                </a:lnTo>
                <a:cubicBezTo>
                  <a:pt x="2511996" y="1312298"/>
                  <a:pt x="2511585" y="1316502"/>
                  <a:pt x="2511034" y="1321073"/>
                </a:cubicBezTo>
                <a:cubicBezTo>
                  <a:pt x="2506618" y="1323262"/>
                  <a:pt x="2503508" y="1326146"/>
                  <a:pt x="2502092" y="1329493"/>
                </a:cubicBezTo>
                <a:lnTo>
                  <a:pt x="2505440" y="1339186"/>
                </a:lnTo>
                <a:lnTo>
                  <a:pt x="2505322" y="1341585"/>
                </a:lnTo>
                <a:cubicBezTo>
                  <a:pt x="2513974" y="1350434"/>
                  <a:pt x="2535364" y="1359350"/>
                  <a:pt x="2559367" y="1370370"/>
                </a:cubicBezTo>
                <a:lnTo>
                  <a:pt x="2550073" y="1374203"/>
                </a:lnTo>
                <a:cubicBezTo>
                  <a:pt x="2549051" y="1381928"/>
                  <a:pt x="2572416" y="1401638"/>
                  <a:pt x="2598957" y="1425570"/>
                </a:cubicBezTo>
                <a:cubicBezTo>
                  <a:pt x="2590729" y="1433522"/>
                  <a:pt x="2582463" y="1440979"/>
                  <a:pt x="2574544" y="1448137"/>
                </a:cubicBezTo>
                <a:cubicBezTo>
                  <a:pt x="2555928" y="1444294"/>
                  <a:pt x="2542989" y="1443778"/>
                  <a:pt x="2542720" y="1450724"/>
                </a:cubicBezTo>
                <a:cubicBezTo>
                  <a:pt x="2542585" y="1454245"/>
                  <a:pt x="2547409" y="1459581"/>
                  <a:pt x="2555308" y="1465841"/>
                </a:cubicBezTo>
                <a:cubicBezTo>
                  <a:pt x="2540387" y="1479502"/>
                  <a:pt x="2528446" y="1491660"/>
                  <a:pt x="2523039" y="1501351"/>
                </a:cubicBezTo>
                <a:cubicBezTo>
                  <a:pt x="2518357" y="1509738"/>
                  <a:pt x="2516108" y="1516003"/>
                  <a:pt x="2515764" y="1521482"/>
                </a:cubicBezTo>
                <a:lnTo>
                  <a:pt x="2502092" y="1529030"/>
                </a:lnTo>
                <a:lnTo>
                  <a:pt x="2505440" y="1535583"/>
                </a:lnTo>
                <a:lnTo>
                  <a:pt x="2505322" y="1537205"/>
                </a:lnTo>
                <a:cubicBezTo>
                  <a:pt x="2512009" y="1541825"/>
                  <a:pt x="2526302" y="1546475"/>
                  <a:pt x="2543531" y="1551642"/>
                </a:cubicBezTo>
                <a:cubicBezTo>
                  <a:pt x="2522011" y="1573412"/>
                  <a:pt x="2506946" y="1596395"/>
                  <a:pt x="2511141" y="1621547"/>
                </a:cubicBezTo>
                <a:cubicBezTo>
                  <a:pt x="2512691" y="1630839"/>
                  <a:pt x="2516705" y="1639173"/>
                  <a:pt x="2522632" y="1645769"/>
                </a:cubicBezTo>
                <a:lnTo>
                  <a:pt x="2515491" y="1660146"/>
                </a:lnTo>
                <a:cubicBezTo>
                  <a:pt x="2515649" y="1663515"/>
                  <a:pt x="2517979" y="1665698"/>
                  <a:pt x="2521382" y="1667417"/>
                </a:cubicBezTo>
                <a:cubicBezTo>
                  <a:pt x="2522550" y="1675707"/>
                  <a:pt x="2525243" y="1682965"/>
                  <a:pt x="2528807" y="1690467"/>
                </a:cubicBezTo>
                <a:cubicBezTo>
                  <a:pt x="2515683" y="1701733"/>
                  <a:pt x="2507994" y="1713657"/>
                  <a:pt x="2511142" y="1726406"/>
                </a:cubicBezTo>
                <a:cubicBezTo>
                  <a:pt x="2512424" y="1731602"/>
                  <a:pt x="2515394" y="1736357"/>
                  <a:pt x="2519739" y="1740143"/>
                </a:cubicBezTo>
                <a:cubicBezTo>
                  <a:pt x="2514426" y="1739385"/>
                  <a:pt x="2511173" y="1741183"/>
                  <a:pt x="2510738" y="1746036"/>
                </a:cubicBezTo>
                <a:lnTo>
                  <a:pt x="2526079" y="1776025"/>
                </a:lnTo>
                <a:cubicBezTo>
                  <a:pt x="2510626" y="1768375"/>
                  <a:pt x="2500034" y="1766823"/>
                  <a:pt x="2499225" y="1775848"/>
                </a:cubicBezTo>
                <a:cubicBezTo>
                  <a:pt x="2498683" y="1781911"/>
                  <a:pt x="2505001" y="1792961"/>
                  <a:pt x="2515016" y="1806947"/>
                </a:cubicBezTo>
                <a:cubicBezTo>
                  <a:pt x="2512519" y="1807125"/>
                  <a:pt x="2511023" y="1808387"/>
                  <a:pt x="2510739" y="1810537"/>
                </a:cubicBezTo>
                <a:lnTo>
                  <a:pt x="2526080" y="1830805"/>
                </a:lnTo>
                <a:cubicBezTo>
                  <a:pt x="2510626" y="1825635"/>
                  <a:pt x="2500034" y="1824587"/>
                  <a:pt x="2499226" y="1830686"/>
                </a:cubicBezTo>
                <a:cubicBezTo>
                  <a:pt x="2498170" y="1838673"/>
                  <a:pt x="2523173" y="1859465"/>
                  <a:pt x="2550707" y="1884886"/>
                </a:cubicBezTo>
                <a:lnTo>
                  <a:pt x="2547925" y="1887584"/>
                </a:lnTo>
                <a:cubicBezTo>
                  <a:pt x="2542614" y="1887697"/>
                  <a:pt x="2538130" y="1889034"/>
                  <a:pt x="2534852" y="1893879"/>
                </a:cubicBezTo>
                <a:lnTo>
                  <a:pt x="2524427" y="1888325"/>
                </a:lnTo>
                <a:lnTo>
                  <a:pt x="2520108" y="1907820"/>
                </a:lnTo>
                <a:cubicBezTo>
                  <a:pt x="2496105" y="1920203"/>
                  <a:pt x="2471169" y="1930700"/>
                  <a:pt x="2455503" y="1940184"/>
                </a:cubicBezTo>
                <a:cubicBezTo>
                  <a:pt x="2455567" y="1942107"/>
                  <a:pt x="2455567" y="1943925"/>
                  <a:pt x="2455104" y="1945011"/>
                </a:cubicBezTo>
                <a:lnTo>
                  <a:pt x="2454461" y="1950275"/>
                </a:lnTo>
                <a:lnTo>
                  <a:pt x="2444826" y="1947027"/>
                </a:lnTo>
                <a:cubicBezTo>
                  <a:pt x="2444324" y="1947227"/>
                  <a:pt x="2443855" y="1947539"/>
                  <a:pt x="2443420" y="1947846"/>
                </a:cubicBezTo>
                <a:lnTo>
                  <a:pt x="2440268" y="1951205"/>
                </a:lnTo>
                <a:lnTo>
                  <a:pt x="2440649" y="1953576"/>
                </a:lnTo>
                <a:lnTo>
                  <a:pt x="2440268" y="1954180"/>
                </a:lnTo>
                <a:lnTo>
                  <a:pt x="2441225" y="1962972"/>
                </a:lnTo>
                <a:lnTo>
                  <a:pt x="2440368" y="1965655"/>
                </a:lnTo>
                <a:cubicBezTo>
                  <a:pt x="2440658" y="1965839"/>
                  <a:pt x="2440955" y="1966024"/>
                  <a:pt x="2441256" y="1966185"/>
                </a:cubicBezTo>
                <a:lnTo>
                  <a:pt x="2441296" y="1971258"/>
                </a:lnTo>
                <a:lnTo>
                  <a:pt x="2440368" y="1975562"/>
                </a:lnTo>
                <a:cubicBezTo>
                  <a:pt x="2441648" y="1976767"/>
                  <a:pt x="2443044" y="1977952"/>
                  <a:pt x="2444459" y="1979176"/>
                </a:cubicBezTo>
                <a:cubicBezTo>
                  <a:pt x="2436315" y="1982420"/>
                  <a:pt x="2429413" y="1986468"/>
                  <a:pt x="2424622" y="1991454"/>
                </a:cubicBezTo>
                <a:lnTo>
                  <a:pt x="2421825" y="2008973"/>
                </a:lnTo>
                <a:lnTo>
                  <a:pt x="2417450" y="2005232"/>
                </a:lnTo>
                <a:cubicBezTo>
                  <a:pt x="2417322" y="2010396"/>
                  <a:pt x="2419682" y="2015558"/>
                  <a:pt x="2423849" y="2020432"/>
                </a:cubicBezTo>
                <a:cubicBezTo>
                  <a:pt x="2423867" y="2020410"/>
                  <a:pt x="2423887" y="2020388"/>
                  <a:pt x="2423906" y="2020367"/>
                </a:cubicBezTo>
                <a:lnTo>
                  <a:pt x="2421825" y="2039659"/>
                </a:lnTo>
                <a:lnTo>
                  <a:pt x="2417449" y="2034126"/>
                </a:lnTo>
                <a:cubicBezTo>
                  <a:pt x="2417321" y="2041765"/>
                  <a:pt x="2419682" y="2049404"/>
                  <a:pt x="2423848" y="2056616"/>
                </a:cubicBezTo>
                <a:cubicBezTo>
                  <a:pt x="2429189" y="2047414"/>
                  <a:pt x="2434479" y="2037877"/>
                  <a:pt x="2436941" y="2040345"/>
                </a:cubicBezTo>
                <a:lnTo>
                  <a:pt x="2438174" y="2045835"/>
                </a:lnTo>
                <a:cubicBezTo>
                  <a:pt x="2438230" y="2048554"/>
                  <a:pt x="2437985" y="2052021"/>
                  <a:pt x="2437590" y="2055841"/>
                </a:cubicBezTo>
                <a:lnTo>
                  <a:pt x="2441424" y="2051547"/>
                </a:lnTo>
                <a:lnTo>
                  <a:pt x="2441847" y="2055575"/>
                </a:lnTo>
                <a:lnTo>
                  <a:pt x="2439688" y="2077620"/>
                </a:lnTo>
                <a:cubicBezTo>
                  <a:pt x="2441631" y="2079948"/>
                  <a:pt x="2443666" y="2082019"/>
                  <a:pt x="2445780" y="2083972"/>
                </a:cubicBezTo>
                <a:lnTo>
                  <a:pt x="2453786" y="2071345"/>
                </a:lnTo>
                <a:lnTo>
                  <a:pt x="2455059" y="2075086"/>
                </a:lnTo>
                <a:cubicBezTo>
                  <a:pt x="2455255" y="2077083"/>
                  <a:pt x="2455255" y="2079723"/>
                  <a:pt x="2455158" y="2082662"/>
                </a:cubicBezTo>
                <a:lnTo>
                  <a:pt x="2458481" y="2081316"/>
                </a:lnTo>
                <a:lnTo>
                  <a:pt x="2458090" y="2095405"/>
                </a:lnTo>
                <a:cubicBezTo>
                  <a:pt x="2462744" y="2099524"/>
                  <a:pt x="2467602" y="2103646"/>
                  <a:pt x="2472555" y="2107593"/>
                </a:cubicBezTo>
                <a:lnTo>
                  <a:pt x="2466515" y="2111358"/>
                </a:lnTo>
                <a:lnTo>
                  <a:pt x="2470212" y="2118060"/>
                </a:lnTo>
                <a:cubicBezTo>
                  <a:pt x="2468696" y="2126367"/>
                  <a:pt x="2463671" y="2124110"/>
                  <a:pt x="2458714" y="2122954"/>
                </a:cubicBezTo>
                <a:cubicBezTo>
                  <a:pt x="2458564" y="2131493"/>
                  <a:pt x="2464532" y="2148215"/>
                  <a:pt x="2461677" y="2152789"/>
                </a:cubicBezTo>
                <a:lnTo>
                  <a:pt x="2449359" y="2150205"/>
                </a:lnTo>
                <a:cubicBezTo>
                  <a:pt x="2449353" y="2150205"/>
                  <a:pt x="2449346" y="2150209"/>
                  <a:pt x="2449339" y="2150205"/>
                </a:cubicBezTo>
                <a:lnTo>
                  <a:pt x="2449723" y="2151570"/>
                </a:lnTo>
                <a:cubicBezTo>
                  <a:pt x="2453151" y="2155121"/>
                  <a:pt x="2456498" y="2159458"/>
                  <a:pt x="2456989" y="2164193"/>
                </a:cubicBezTo>
                <a:cubicBezTo>
                  <a:pt x="2457794" y="2171947"/>
                  <a:pt x="2451902" y="2177314"/>
                  <a:pt x="2443151" y="2179732"/>
                </a:cubicBezTo>
                <a:lnTo>
                  <a:pt x="2447569" y="2188872"/>
                </a:lnTo>
                <a:cubicBezTo>
                  <a:pt x="2445235" y="2199559"/>
                  <a:pt x="2438902" y="2196088"/>
                  <a:pt x="2432607" y="2194058"/>
                </a:cubicBezTo>
                <a:cubicBezTo>
                  <a:pt x="2432011" y="2205192"/>
                  <a:pt x="2438863" y="2227652"/>
                  <a:pt x="2434988" y="2233325"/>
                </a:cubicBezTo>
                <a:cubicBezTo>
                  <a:pt x="2432614" y="2236799"/>
                  <a:pt x="2425669" y="2231688"/>
                  <a:pt x="2419329" y="2228667"/>
                </a:cubicBezTo>
                <a:cubicBezTo>
                  <a:pt x="2419320" y="2228667"/>
                  <a:pt x="2419312" y="2228667"/>
                  <a:pt x="2419303" y="2228664"/>
                </a:cubicBezTo>
                <a:lnTo>
                  <a:pt x="2420709" y="2245680"/>
                </a:lnTo>
                <a:cubicBezTo>
                  <a:pt x="2417743" y="2248588"/>
                  <a:pt x="2412532" y="2242791"/>
                  <a:pt x="2407101" y="2238404"/>
                </a:cubicBezTo>
                <a:cubicBezTo>
                  <a:pt x="2406309" y="2241735"/>
                  <a:pt x="2406004" y="2246458"/>
                  <a:pt x="2405840" y="2251472"/>
                </a:cubicBezTo>
                <a:lnTo>
                  <a:pt x="2409461" y="2258035"/>
                </a:lnTo>
                <a:lnTo>
                  <a:pt x="2405550" y="2259502"/>
                </a:lnTo>
                <a:lnTo>
                  <a:pt x="2402404" y="2277185"/>
                </a:lnTo>
                <a:cubicBezTo>
                  <a:pt x="2397848" y="2281153"/>
                  <a:pt x="2386105" y="2258354"/>
                  <a:pt x="2379767" y="2262222"/>
                </a:cubicBezTo>
                <a:lnTo>
                  <a:pt x="2378293" y="2263975"/>
                </a:lnTo>
                <a:cubicBezTo>
                  <a:pt x="2378317" y="2267028"/>
                  <a:pt x="2377977" y="2267775"/>
                  <a:pt x="2377331" y="2268546"/>
                </a:cubicBezTo>
                <a:lnTo>
                  <a:pt x="2375118" y="2270183"/>
                </a:lnTo>
                <a:lnTo>
                  <a:pt x="2372347" y="2279318"/>
                </a:lnTo>
                <a:lnTo>
                  <a:pt x="2372347" y="2314966"/>
                </a:lnTo>
                <a:lnTo>
                  <a:pt x="2432671" y="2314966"/>
                </a:lnTo>
                <a:cubicBezTo>
                  <a:pt x="2432422" y="2329332"/>
                  <a:pt x="2437021" y="2354461"/>
                  <a:pt x="2435018" y="2366464"/>
                </a:cubicBezTo>
                <a:cubicBezTo>
                  <a:pt x="2428908" y="2366331"/>
                  <a:pt x="2424329" y="2366011"/>
                  <a:pt x="2420494" y="2365621"/>
                </a:cubicBezTo>
                <a:lnTo>
                  <a:pt x="2419329" y="2364739"/>
                </a:lnTo>
                <a:cubicBezTo>
                  <a:pt x="2419320" y="2364739"/>
                  <a:pt x="2419311" y="2364739"/>
                  <a:pt x="2419303" y="2364735"/>
                </a:cubicBezTo>
                <a:lnTo>
                  <a:pt x="2419428" y="2365524"/>
                </a:lnTo>
                <a:lnTo>
                  <a:pt x="2411027" y="2364768"/>
                </a:lnTo>
                <a:cubicBezTo>
                  <a:pt x="2409900" y="2370086"/>
                  <a:pt x="2428852" y="2381691"/>
                  <a:pt x="2418869" y="2384015"/>
                </a:cubicBezTo>
                <a:cubicBezTo>
                  <a:pt x="2415863" y="2383824"/>
                  <a:pt x="2413095" y="2383637"/>
                  <a:pt x="2410539" y="2383343"/>
                </a:cubicBezTo>
                <a:lnTo>
                  <a:pt x="2407101" y="2379149"/>
                </a:lnTo>
                <a:cubicBezTo>
                  <a:pt x="2406912" y="2380323"/>
                  <a:pt x="2406751" y="2381615"/>
                  <a:pt x="2406847" y="2383046"/>
                </a:cubicBezTo>
                <a:cubicBezTo>
                  <a:pt x="2391401" y="2381991"/>
                  <a:pt x="2384284" y="2380938"/>
                  <a:pt x="2377445" y="2380065"/>
                </a:cubicBezTo>
                <a:cubicBezTo>
                  <a:pt x="2377422" y="2380065"/>
                  <a:pt x="2377404" y="2380064"/>
                  <a:pt x="2377381" y="2380063"/>
                </a:cubicBezTo>
                <a:lnTo>
                  <a:pt x="2378571" y="2380991"/>
                </a:lnTo>
                <a:cubicBezTo>
                  <a:pt x="2389899" y="2383863"/>
                  <a:pt x="2400888" y="2387212"/>
                  <a:pt x="2402209" y="2390270"/>
                </a:cubicBezTo>
                <a:lnTo>
                  <a:pt x="2372244" y="2394724"/>
                </a:lnTo>
                <a:lnTo>
                  <a:pt x="2365709" y="2394020"/>
                </a:lnTo>
                <a:cubicBezTo>
                  <a:pt x="2361231" y="2394611"/>
                  <a:pt x="2356964" y="2395411"/>
                  <a:pt x="2357729" y="2396881"/>
                </a:cubicBezTo>
                <a:cubicBezTo>
                  <a:pt x="2356627" y="2397395"/>
                  <a:pt x="2355491" y="2397392"/>
                  <a:pt x="2354327" y="2397387"/>
                </a:cubicBezTo>
                <a:lnTo>
                  <a:pt x="2354964" y="2397871"/>
                </a:lnTo>
                <a:lnTo>
                  <a:pt x="2332072" y="2406081"/>
                </a:lnTo>
                <a:cubicBezTo>
                  <a:pt x="2327262" y="2405532"/>
                  <a:pt x="2322461" y="2404926"/>
                  <a:pt x="2317666" y="2404367"/>
                </a:cubicBezTo>
                <a:cubicBezTo>
                  <a:pt x="2316935" y="2406136"/>
                  <a:pt x="2317833" y="2408470"/>
                  <a:pt x="2319342" y="2411008"/>
                </a:cubicBezTo>
                <a:cubicBezTo>
                  <a:pt x="2320037" y="2411344"/>
                  <a:pt x="2320184" y="2411680"/>
                  <a:pt x="2319996" y="2411989"/>
                </a:cubicBezTo>
                <a:lnTo>
                  <a:pt x="2320101" y="2412149"/>
                </a:lnTo>
                <a:lnTo>
                  <a:pt x="2304537" y="2428550"/>
                </a:lnTo>
                <a:cubicBezTo>
                  <a:pt x="2297822" y="2427827"/>
                  <a:pt x="2290698" y="2426695"/>
                  <a:pt x="2283473" y="2425531"/>
                </a:cubicBezTo>
                <a:cubicBezTo>
                  <a:pt x="2315196" y="2392221"/>
                  <a:pt x="2344171" y="2361898"/>
                  <a:pt x="2318448" y="2360578"/>
                </a:cubicBezTo>
                <a:cubicBezTo>
                  <a:pt x="2298167" y="2359539"/>
                  <a:pt x="2242356" y="2386531"/>
                  <a:pt x="2177235" y="2414013"/>
                </a:cubicBezTo>
                <a:cubicBezTo>
                  <a:pt x="2161320" y="2415859"/>
                  <a:pt x="2141969" y="2419081"/>
                  <a:pt x="2122676" y="2422811"/>
                </a:cubicBezTo>
                <a:cubicBezTo>
                  <a:pt x="2145581" y="2387520"/>
                  <a:pt x="2168000" y="2354368"/>
                  <a:pt x="2140656" y="2353955"/>
                </a:cubicBezTo>
                <a:cubicBezTo>
                  <a:pt x="2127048" y="2353755"/>
                  <a:pt x="2101783" y="2365905"/>
                  <a:pt x="2070252" y="2382570"/>
                </a:cubicBezTo>
                <a:lnTo>
                  <a:pt x="2066244" y="2384655"/>
                </a:lnTo>
                <a:cubicBezTo>
                  <a:pt x="2049036" y="2393602"/>
                  <a:pt x="2030306" y="2403705"/>
                  <a:pt x="2010579" y="2413827"/>
                </a:cubicBezTo>
                <a:lnTo>
                  <a:pt x="2002687" y="2391757"/>
                </a:lnTo>
                <a:cubicBezTo>
                  <a:pt x="1983492" y="2391675"/>
                  <a:pt x="1957555" y="2391039"/>
                  <a:pt x="1931384" y="2390668"/>
                </a:cubicBezTo>
                <a:cubicBezTo>
                  <a:pt x="1945681" y="2395309"/>
                  <a:pt x="1965284" y="2400061"/>
                  <a:pt x="1966697" y="2402304"/>
                </a:cubicBezTo>
                <a:cubicBezTo>
                  <a:pt x="1960288" y="2404036"/>
                  <a:pt x="1908936" y="2395415"/>
                  <a:pt x="1877728" y="2391997"/>
                </a:cubicBezTo>
                <a:lnTo>
                  <a:pt x="1870465" y="2397379"/>
                </a:lnTo>
                <a:lnTo>
                  <a:pt x="1866077" y="2402114"/>
                </a:lnTo>
                <a:cubicBezTo>
                  <a:pt x="1894053" y="2408926"/>
                  <a:pt x="1949380" y="2416868"/>
                  <a:pt x="1945794" y="2418672"/>
                </a:cubicBezTo>
                <a:cubicBezTo>
                  <a:pt x="1941966" y="2420597"/>
                  <a:pt x="1896787" y="2416339"/>
                  <a:pt x="1855582" y="2413022"/>
                </a:cubicBezTo>
                <a:lnTo>
                  <a:pt x="1864271" y="2419962"/>
                </a:lnTo>
                <a:lnTo>
                  <a:pt x="1848425" y="2418585"/>
                </a:lnTo>
                <a:cubicBezTo>
                  <a:pt x="1847458" y="2419688"/>
                  <a:pt x="1846134" y="2420776"/>
                  <a:pt x="1844794" y="2421848"/>
                </a:cubicBezTo>
                <a:lnTo>
                  <a:pt x="1843638" y="2421494"/>
                </a:lnTo>
                <a:lnTo>
                  <a:pt x="1843638" y="2321013"/>
                </a:lnTo>
                <a:lnTo>
                  <a:pt x="1787376" y="2321013"/>
                </a:lnTo>
                <a:cubicBezTo>
                  <a:pt x="1799946" y="2323202"/>
                  <a:pt x="1808993" y="2325195"/>
                  <a:pt x="1807391" y="2326597"/>
                </a:cubicBezTo>
                <a:lnTo>
                  <a:pt x="1779258" y="2328238"/>
                </a:lnTo>
                <a:lnTo>
                  <a:pt x="1736813" y="2331329"/>
                </a:lnTo>
                <a:cubicBezTo>
                  <a:pt x="1733037" y="2332446"/>
                  <a:pt x="1729004" y="2333633"/>
                  <a:pt x="1725877" y="2334715"/>
                </a:cubicBezTo>
                <a:lnTo>
                  <a:pt x="1727784" y="2336328"/>
                </a:lnTo>
                <a:lnTo>
                  <a:pt x="1736572" y="2346078"/>
                </a:lnTo>
                <a:cubicBezTo>
                  <a:pt x="1742762" y="2348165"/>
                  <a:pt x="1748821" y="2350621"/>
                  <a:pt x="1749824" y="2352962"/>
                </a:cubicBezTo>
                <a:cubicBezTo>
                  <a:pt x="1751467" y="2356799"/>
                  <a:pt x="1741125" y="2358757"/>
                  <a:pt x="1725616" y="2358980"/>
                </a:cubicBezTo>
                <a:lnTo>
                  <a:pt x="1734137" y="2367124"/>
                </a:lnTo>
                <a:cubicBezTo>
                  <a:pt x="1718519" y="2366605"/>
                  <a:pt x="1712863" y="2365599"/>
                  <a:pt x="1707234" y="2364768"/>
                </a:cubicBezTo>
                <a:cubicBezTo>
                  <a:pt x="1706471" y="2370086"/>
                  <a:pt x="1719280" y="2381693"/>
                  <a:pt x="1712532" y="2384015"/>
                </a:cubicBezTo>
                <a:cubicBezTo>
                  <a:pt x="1696187" y="2382483"/>
                  <a:pt x="1690221" y="2381140"/>
                  <a:pt x="1684539" y="2380067"/>
                </a:cubicBezTo>
                <a:cubicBezTo>
                  <a:pt x="1684522" y="2380067"/>
                  <a:pt x="1684510" y="2380065"/>
                  <a:pt x="1684495" y="2380063"/>
                </a:cubicBezTo>
                <a:lnTo>
                  <a:pt x="1685299" y="2380991"/>
                </a:lnTo>
                <a:cubicBezTo>
                  <a:pt x="1692954" y="2383864"/>
                  <a:pt x="1700381" y="2387213"/>
                  <a:pt x="1701275" y="2390271"/>
                </a:cubicBezTo>
                <a:lnTo>
                  <a:pt x="1681022" y="2394724"/>
                </a:lnTo>
                <a:lnTo>
                  <a:pt x="1676606" y="2394021"/>
                </a:lnTo>
                <a:lnTo>
                  <a:pt x="1671214" y="2396881"/>
                </a:lnTo>
                <a:cubicBezTo>
                  <a:pt x="1670471" y="2397395"/>
                  <a:pt x="1669703" y="2397393"/>
                  <a:pt x="1668915" y="2397387"/>
                </a:cubicBezTo>
                <a:lnTo>
                  <a:pt x="1669344" y="2397871"/>
                </a:lnTo>
                <a:lnTo>
                  <a:pt x="1653875" y="2406081"/>
                </a:lnTo>
                <a:cubicBezTo>
                  <a:pt x="1650624" y="2405532"/>
                  <a:pt x="1647379" y="2404927"/>
                  <a:pt x="1644139" y="2404367"/>
                </a:cubicBezTo>
                <a:cubicBezTo>
                  <a:pt x="1643645" y="2406136"/>
                  <a:pt x="1644252" y="2408471"/>
                  <a:pt x="1645272" y="2411008"/>
                </a:cubicBezTo>
                <a:cubicBezTo>
                  <a:pt x="1645740" y="2411345"/>
                  <a:pt x="1645841" y="2411681"/>
                  <a:pt x="1645713" y="2411990"/>
                </a:cubicBezTo>
                <a:lnTo>
                  <a:pt x="1645784" y="2412150"/>
                </a:lnTo>
                <a:lnTo>
                  <a:pt x="1635266" y="2428550"/>
                </a:lnTo>
                <a:cubicBezTo>
                  <a:pt x="1630728" y="2427827"/>
                  <a:pt x="1625914" y="2426695"/>
                  <a:pt x="1621029" y="2425531"/>
                </a:cubicBezTo>
                <a:cubicBezTo>
                  <a:pt x="1642468" y="2392222"/>
                  <a:pt x="1662052" y="2361899"/>
                  <a:pt x="1644667" y="2360578"/>
                </a:cubicBezTo>
                <a:cubicBezTo>
                  <a:pt x="1630961" y="2359539"/>
                  <a:pt x="1593244" y="2386531"/>
                  <a:pt x="1549233" y="2414013"/>
                </a:cubicBezTo>
                <a:cubicBezTo>
                  <a:pt x="1538478" y="2415859"/>
                  <a:pt x="1525400" y="2419081"/>
                  <a:pt x="1512362" y="2422812"/>
                </a:cubicBezTo>
                <a:cubicBezTo>
                  <a:pt x="1527841" y="2387521"/>
                  <a:pt x="1542992" y="2354368"/>
                  <a:pt x="1524513" y="2353957"/>
                </a:cubicBezTo>
                <a:cubicBezTo>
                  <a:pt x="1515317" y="2353755"/>
                  <a:pt x="1498243" y="2365907"/>
                  <a:pt x="1476933" y="2382570"/>
                </a:cubicBezTo>
                <a:lnTo>
                  <a:pt x="1474224" y="2384655"/>
                </a:lnTo>
                <a:cubicBezTo>
                  <a:pt x="1462594" y="2393602"/>
                  <a:pt x="1449936" y="2403705"/>
                  <a:pt x="1436604" y="2413827"/>
                </a:cubicBezTo>
                <a:lnTo>
                  <a:pt x="1431271" y="2391757"/>
                </a:lnTo>
                <a:cubicBezTo>
                  <a:pt x="1418298" y="2391675"/>
                  <a:pt x="1400769" y="2391039"/>
                  <a:pt x="1383083" y="2390668"/>
                </a:cubicBezTo>
                <a:cubicBezTo>
                  <a:pt x="1393995" y="2395909"/>
                  <a:pt x="1409482" y="2401293"/>
                  <a:pt x="1406949" y="2402304"/>
                </a:cubicBezTo>
                <a:cubicBezTo>
                  <a:pt x="1402618" y="2404037"/>
                  <a:pt x="1367913" y="2395415"/>
                  <a:pt x="1346821" y="2391998"/>
                </a:cubicBezTo>
                <a:lnTo>
                  <a:pt x="1341915" y="2397380"/>
                </a:lnTo>
                <a:lnTo>
                  <a:pt x="1338947" y="2402115"/>
                </a:lnTo>
                <a:cubicBezTo>
                  <a:pt x="1357855" y="2408926"/>
                  <a:pt x="1395245" y="2416870"/>
                  <a:pt x="1392823" y="2418672"/>
                </a:cubicBezTo>
                <a:cubicBezTo>
                  <a:pt x="1390234" y="2420597"/>
                  <a:pt x="1359701" y="2416339"/>
                  <a:pt x="1331857" y="2413022"/>
                </a:cubicBezTo>
                <a:lnTo>
                  <a:pt x="1337728" y="2419962"/>
                </a:lnTo>
                <a:lnTo>
                  <a:pt x="1327019" y="2418586"/>
                </a:lnTo>
                <a:cubicBezTo>
                  <a:pt x="1326366" y="2419689"/>
                  <a:pt x="1325470" y="2420776"/>
                  <a:pt x="1324563" y="2421848"/>
                </a:cubicBezTo>
                <a:lnTo>
                  <a:pt x="1319324" y="2419470"/>
                </a:lnTo>
                <a:cubicBezTo>
                  <a:pt x="1317185" y="2419455"/>
                  <a:pt x="1316821" y="2419556"/>
                  <a:pt x="1316411" y="2419720"/>
                </a:cubicBezTo>
                <a:lnTo>
                  <a:pt x="1309753" y="2413738"/>
                </a:lnTo>
                <a:cubicBezTo>
                  <a:pt x="1308619" y="2413449"/>
                  <a:pt x="1307661" y="2413152"/>
                  <a:pt x="1306694" y="2412850"/>
                </a:cubicBezTo>
                <a:cubicBezTo>
                  <a:pt x="1307049" y="2416604"/>
                  <a:pt x="1307468" y="2422812"/>
                  <a:pt x="1303189" y="2423338"/>
                </a:cubicBezTo>
                <a:cubicBezTo>
                  <a:pt x="1298055" y="2423969"/>
                  <a:pt x="1296581" y="2419572"/>
                  <a:pt x="1278922" y="2416002"/>
                </a:cubicBezTo>
                <a:cubicBezTo>
                  <a:pt x="1274928" y="2416663"/>
                  <a:pt x="1270130" y="2417364"/>
                  <a:pt x="1264995" y="2418112"/>
                </a:cubicBezTo>
                <a:cubicBezTo>
                  <a:pt x="1263442" y="2420584"/>
                  <a:pt x="1262075" y="2423923"/>
                  <a:pt x="1259837" y="2427382"/>
                </a:cubicBezTo>
                <a:cubicBezTo>
                  <a:pt x="1277610" y="2434863"/>
                  <a:pt x="1302511" y="2443127"/>
                  <a:pt x="1302541" y="2447724"/>
                </a:cubicBezTo>
                <a:lnTo>
                  <a:pt x="1300937" y="2449456"/>
                </a:lnTo>
                <a:cubicBezTo>
                  <a:pt x="1296072" y="2451633"/>
                  <a:pt x="1281520" y="2451325"/>
                  <a:pt x="1263978" y="2450206"/>
                </a:cubicBezTo>
                <a:lnTo>
                  <a:pt x="1271993" y="2454038"/>
                </a:lnTo>
                <a:lnTo>
                  <a:pt x="1261969" y="2455919"/>
                </a:lnTo>
                <a:cubicBezTo>
                  <a:pt x="1250598" y="2455935"/>
                  <a:pt x="1221539" y="2453331"/>
                  <a:pt x="1192980" y="2451638"/>
                </a:cubicBezTo>
                <a:lnTo>
                  <a:pt x="1187585" y="2454716"/>
                </a:lnTo>
                <a:cubicBezTo>
                  <a:pt x="1181342" y="2453407"/>
                  <a:pt x="1180042" y="2452247"/>
                  <a:pt x="1178931" y="2450710"/>
                </a:cubicBezTo>
                <a:cubicBezTo>
                  <a:pt x="1178039" y="2450617"/>
                  <a:pt x="1177009" y="2450565"/>
                  <a:pt x="1175990" y="2450515"/>
                </a:cubicBezTo>
                <a:cubicBezTo>
                  <a:pt x="1176086" y="2452175"/>
                  <a:pt x="1176331" y="2454110"/>
                  <a:pt x="1176262" y="2456110"/>
                </a:cubicBezTo>
                <a:cubicBezTo>
                  <a:pt x="1195507" y="2462052"/>
                  <a:pt x="1222245" y="2468488"/>
                  <a:pt x="1217403" y="2471814"/>
                </a:cubicBezTo>
                <a:cubicBezTo>
                  <a:pt x="1214734" y="2473646"/>
                  <a:pt x="1203615" y="2473873"/>
                  <a:pt x="1189868" y="2473568"/>
                </a:cubicBezTo>
                <a:lnTo>
                  <a:pt x="1197674" y="2476266"/>
                </a:lnTo>
                <a:lnTo>
                  <a:pt x="1190977" y="2478035"/>
                </a:lnTo>
                <a:cubicBezTo>
                  <a:pt x="1182703" y="2478397"/>
                  <a:pt x="1160874" y="2477401"/>
                  <a:pt x="1139608" y="2476828"/>
                </a:cubicBezTo>
                <a:lnTo>
                  <a:pt x="1133725" y="2478357"/>
                </a:lnTo>
                <a:lnTo>
                  <a:pt x="1133059" y="2478188"/>
                </a:lnTo>
                <a:cubicBezTo>
                  <a:pt x="1124496" y="2478096"/>
                  <a:pt x="1121945" y="2477525"/>
                  <a:pt x="1119185" y="2476917"/>
                </a:cubicBezTo>
                <a:lnTo>
                  <a:pt x="1105465" y="2477383"/>
                </a:lnTo>
                <a:cubicBezTo>
                  <a:pt x="1105595" y="2478116"/>
                  <a:pt x="1105704" y="2478870"/>
                  <a:pt x="1105796" y="2479634"/>
                </a:cubicBezTo>
                <a:cubicBezTo>
                  <a:pt x="1112399" y="2485518"/>
                  <a:pt x="1121328" y="2491871"/>
                  <a:pt x="1120306" y="2495215"/>
                </a:cubicBezTo>
                <a:lnTo>
                  <a:pt x="1117625" y="2496926"/>
                </a:lnTo>
                <a:cubicBezTo>
                  <a:pt x="1116199" y="2497189"/>
                  <a:pt x="1114324" y="2497189"/>
                  <a:pt x="1112226" y="2497059"/>
                </a:cubicBezTo>
                <a:lnTo>
                  <a:pt x="1113158" y="2501526"/>
                </a:lnTo>
                <a:lnTo>
                  <a:pt x="1097490" y="2500484"/>
                </a:lnTo>
                <a:lnTo>
                  <a:pt x="1093655" y="2500351"/>
                </a:lnTo>
                <a:lnTo>
                  <a:pt x="1083349" y="2501637"/>
                </a:lnTo>
                <a:cubicBezTo>
                  <a:pt x="1079673" y="2505298"/>
                  <a:pt x="1092659" y="2522056"/>
                  <a:pt x="1091103" y="2523481"/>
                </a:cubicBezTo>
                <a:cubicBezTo>
                  <a:pt x="1087251" y="2522462"/>
                  <a:pt x="1079291" y="2514105"/>
                  <a:pt x="1074016" y="2510182"/>
                </a:cubicBezTo>
                <a:cubicBezTo>
                  <a:pt x="1073510" y="2511023"/>
                  <a:pt x="1070790" y="2518814"/>
                  <a:pt x="1069249" y="2518786"/>
                </a:cubicBezTo>
                <a:cubicBezTo>
                  <a:pt x="1067709" y="2518759"/>
                  <a:pt x="1069180" y="2514801"/>
                  <a:pt x="1064772" y="2510021"/>
                </a:cubicBezTo>
                <a:lnTo>
                  <a:pt x="1065019" y="2509054"/>
                </a:lnTo>
                <a:cubicBezTo>
                  <a:pt x="1060745" y="2512833"/>
                  <a:pt x="1055325" y="2524887"/>
                  <a:pt x="1048126" y="2526205"/>
                </a:cubicBezTo>
                <a:cubicBezTo>
                  <a:pt x="1041924" y="2527340"/>
                  <a:pt x="1037252" y="2521378"/>
                  <a:pt x="1034784" y="2512315"/>
                </a:cubicBezTo>
                <a:lnTo>
                  <a:pt x="1027683" y="2517283"/>
                </a:lnTo>
                <a:cubicBezTo>
                  <a:pt x="1018935" y="2515246"/>
                  <a:pt x="1021351" y="2508490"/>
                  <a:pt x="1022614" y="2501826"/>
                </a:cubicBezTo>
                <a:lnTo>
                  <a:pt x="1010015" y="2504019"/>
                </a:lnTo>
                <a:cubicBezTo>
                  <a:pt x="1010763" y="2506037"/>
                  <a:pt x="1010933" y="2507678"/>
                  <a:pt x="1010366" y="2508753"/>
                </a:cubicBezTo>
                <a:cubicBezTo>
                  <a:pt x="1005740" y="2508664"/>
                  <a:pt x="1003904" y="2507412"/>
                  <a:pt x="1001922" y="2505811"/>
                </a:cubicBezTo>
                <a:lnTo>
                  <a:pt x="997850" y="2506576"/>
                </a:lnTo>
                <a:cubicBezTo>
                  <a:pt x="999108" y="2516036"/>
                  <a:pt x="997572" y="2522017"/>
                  <a:pt x="992510" y="2521010"/>
                </a:cubicBezTo>
                <a:cubicBezTo>
                  <a:pt x="988998" y="2520311"/>
                  <a:pt x="984535" y="2515771"/>
                  <a:pt x="980583" y="2511126"/>
                </a:cubicBezTo>
                <a:lnTo>
                  <a:pt x="979461" y="2510600"/>
                </a:lnTo>
                <a:cubicBezTo>
                  <a:pt x="979469" y="2510608"/>
                  <a:pt x="979469" y="2510617"/>
                  <a:pt x="979472" y="2510626"/>
                </a:cubicBezTo>
                <a:cubicBezTo>
                  <a:pt x="982967" y="2517398"/>
                  <a:pt x="987775" y="2524898"/>
                  <a:pt x="986580" y="2527231"/>
                </a:cubicBezTo>
                <a:cubicBezTo>
                  <a:pt x="984625" y="2531040"/>
                  <a:pt x="970392" y="2522871"/>
                  <a:pt x="964509" y="2523004"/>
                </a:cubicBezTo>
                <a:cubicBezTo>
                  <a:pt x="967451" y="2529687"/>
                  <a:pt x="971188" y="2536473"/>
                  <a:pt x="969731" y="2538876"/>
                </a:cubicBezTo>
                <a:cubicBezTo>
                  <a:pt x="966750" y="2538859"/>
                  <a:pt x="966412" y="2538668"/>
                  <a:pt x="966051" y="2538444"/>
                </a:cubicBezTo>
                <a:lnTo>
                  <a:pt x="959786" y="2533415"/>
                </a:lnTo>
                <a:cubicBezTo>
                  <a:pt x="960718" y="2540209"/>
                  <a:pt x="960272" y="2545244"/>
                  <a:pt x="955367" y="2547221"/>
                </a:cubicBezTo>
                <a:cubicBezTo>
                  <a:pt x="950193" y="2545846"/>
                  <a:pt x="942797" y="2533734"/>
                  <a:pt x="940109" y="2531011"/>
                </a:cubicBezTo>
                <a:lnTo>
                  <a:pt x="939245" y="2530885"/>
                </a:lnTo>
                <a:lnTo>
                  <a:pt x="939061" y="2539630"/>
                </a:lnTo>
                <a:cubicBezTo>
                  <a:pt x="938054" y="2539645"/>
                  <a:pt x="933786" y="2531823"/>
                  <a:pt x="933185" y="2530976"/>
                </a:cubicBezTo>
                <a:cubicBezTo>
                  <a:pt x="930951" y="2534843"/>
                  <a:pt x="928358" y="2543081"/>
                  <a:pt x="926106" y="2544163"/>
                </a:cubicBezTo>
                <a:cubicBezTo>
                  <a:pt x="924626" y="2542724"/>
                  <a:pt x="927897" y="2526040"/>
                  <a:pt x="924311" y="2522348"/>
                </a:cubicBezTo>
                <a:lnTo>
                  <a:pt x="917095" y="2520978"/>
                </a:lnTo>
                <a:lnTo>
                  <a:pt x="916130" y="2522645"/>
                </a:lnTo>
                <a:lnTo>
                  <a:pt x="914605" y="2521082"/>
                </a:lnTo>
                <a:lnTo>
                  <a:pt x="904580" y="2522005"/>
                </a:lnTo>
                <a:lnTo>
                  <a:pt x="903780" y="2517538"/>
                </a:lnTo>
                <a:cubicBezTo>
                  <a:pt x="902440" y="2517652"/>
                  <a:pt x="901198" y="2517638"/>
                  <a:pt x="900170" y="2517363"/>
                </a:cubicBezTo>
                <a:lnTo>
                  <a:pt x="897859" y="2515630"/>
                </a:lnTo>
                <a:cubicBezTo>
                  <a:pt x="896128" y="2512273"/>
                  <a:pt x="900015" y="2505980"/>
                  <a:pt x="902516" y="2500138"/>
                </a:cubicBezTo>
                <a:cubicBezTo>
                  <a:pt x="902043" y="2498135"/>
                  <a:pt x="901648" y="2496199"/>
                  <a:pt x="901289" y="2494539"/>
                </a:cubicBezTo>
                <a:cubicBezTo>
                  <a:pt x="896814" y="2495568"/>
                  <a:pt x="891823" y="2497771"/>
                  <a:pt x="887543" y="2498833"/>
                </a:cubicBezTo>
                <a:lnTo>
                  <a:pt x="893293" y="2506458"/>
                </a:lnTo>
                <a:lnTo>
                  <a:pt x="889894" y="2508238"/>
                </a:lnTo>
                <a:cubicBezTo>
                  <a:pt x="886924" y="2508762"/>
                  <a:pt x="882626" y="2508209"/>
                  <a:pt x="877951" y="2507470"/>
                </a:cubicBezTo>
                <a:cubicBezTo>
                  <a:pt x="875714" y="2501531"/>
                  <a:pt x="872764" y="2497353"/>
                  <a:pt x="869344" y="2495448"/>
                </a:cubicBezTo>
                <a:lnTo>
                  <a:pt x="859434" y="2499949"/>
                </a:lnTo>
                <a:lnTo>
                  <a:pt x="856981" y="2499790"/>
                </a:lnTo>
                <a:cubicBezTo>
                  <a:pt x="847934" y="2511422"/>
                  <a:pt x="838818" y="2540179"/>
                  <a:pt x="827551" y="2572450"/>
                </a:cubicBezTo>
                <a:lnTo>
                  <a:pt x="823633" y="2559954"/>
                </a:lnTo>
                <a:cubicBezTo>
                  <a:pt x="815736" y="2558580"/>
                  <a:pt x="795586" y="2589994"/>
                  <a:pt x="771117" y="2625676"/>
                </a:cubicBezTo>
                <a:cubicBezTo>
                  <a:pt x="762987" y="2614614"/>
                  <a:pt x="755363" y="2603502"/>
                  <a:pt x="748045" y="2592854"/>
                </a:cubicBezTo>
                <a:cubicBezTo>
                  <a:pt x="751974" y="2567826"/>
                  <a:pt x="752502" y="2550431"/>
                  <a:pt x="745399" y="2550070"/>
                </a:cubicBezTo>
                <a:cubicBezTo>
                  <a:pt x="741801" y="2549888"/>
                  <a:pt x="736346" y="2556373"/>
                  <a:pt x="729945" y="2566993"/>
                </a:cubicBezTo>
                <a:cubicBezTo>
                  <a:pt x="715979" y="2546932"/>
                  <a:pt x="703548" y="2530879"/>
                  <a:pt x="693641" y="2523609"/>
                </a:cubicBezTo>
                <a:cubicBezTo>
                  <a:pt x="685065" y="2517315"/>
                  <a:pt x="678662" y="2514292"/>
                  <a:pt x="673061" y="2513828"/>
                </a:cubicBezTo>
                <a:lnTo>
                  <a:pt x="665343" y="2495448"/>
                </a:lnTo>
                <a:lnTo>
                  <a:pt x="658644" y="2499950"/>
                </a:lnTo>
                <a:lnTo>
                  <a:pt x="656986" y="2499790"/>
                </a:lnTo>
                <a:cubicBezTo>
                  <a:pt x="652261" y="2508780"/>
                  <a:pt x="647507" y="2527996"/>
                  <a:pt x="642225" y="2551160"/>
                </a:cubicBezTo>
                <a:cubicBezTo>
                  <a:pt x="619968" y="2522227"/>
                  <a:pt x="596470" y="2501973"/>
                  <a:pt x="570756" y="2507614"/>
                </a:cubicBezTo>
                <a:cubicBezTo>
                  <a:pt x="561257" y="2509698"/>
                  <a:pt x="552735" y="2515093"/>
                  <a:pt x="545993" y="2523062"/>
                </a:cubicBezTo>
                <a:lnTo>
                  <a:pt x="531294" y="2513462"/>
                </a:lnTo>
                <a:cubicBezTo>
                  <a:pt x="527850" y="2513675"/>
                  <a:pt x="525617" y="2516807"/>
                  <a:pt x="523860" y="2521381"/>
                </a:cubicBezTo>
                <a:cubicBezTo>
                  <a:pt x="515385" y="2522953"/>
                  <a:pt x="507964" y="2526572"/>
                  <a:pt x="500294" y="2531363"/>
                </a:cubicBezTo>
                <a:cubicBezTo>
                  <a:pt x="488777" y="2513721"/>
                  <a:pt x="476585" y="2503384"/>
                  <a:pt x="463551" y="2507614"/>
                </a:cubicBezTo>
                <a:cubicBezTo>
                  <a:pt x="458239" y="2509338"/>
                  <a:pt x="453378" y="2513332"/>
                  <a:pt x="449507" y="2519172"/>
                </a:cubicBezTo>
                <a:cubicBezTo>
                  <a:pt x="450282" y="2512029"/>
                  <a:pt x="448444" y="2507656"/>
                  <a:pt x="443483" y="2507073"/>
                </a:cubicBezTo>
                <a:lnTo>
                  <a:pt x="412822" y="2527697"/>
                </a:lnTo>
                <a:cubicBezTo>
                  <a:pt x="420643" y="2506920"/>
                  <a:pt x="422230" y="2492680"/>
                  <a:pt x="413003" y="2491594"/>
                </a:cubicBezTo>
                <a:cubicBezTo>
                  <a:pt x="406805" y="2490866"/>
                  <a:pt x="395507" y="2499358"/>
                  <a:pt x="381208" y="2512823"/>
                </a:cubicBezTo>
                <a:cubicBezTo>
                  <a:pt x="381026" y="2509467"/>
                  <a:pt x="379736" y="2507455"/>
                  <a:pt x="377538" y="2507073"/>
                </a:cubicBezTo>
                <a:lnTo>
                  <a:pt x="356817" y="2527697"/>
                </a:lnTo>
                <a:cubicBezTo>
                  <a:pt x="362103" y="2506921"/>
                  <a:pt x="363174" y="2492681"/>
                  <a:pt x="356938" y="2491594"/>
                </a:cubicBezTo>
                <a:cubicBezTo>
                  <a:pt x="348772" y="2490174"/>
                  <a:pt x="327515" y="2523790"/>
                  <a:pt x="301526" y="2560809"/>
                </a:cubicBezTo>
                <a:lnTo>
                  <a:pt x="298767" y="2557067"/>
                </a:lnTo>
                <a:cubicBezTo>
                  <a:pt x="298651" y="2549926"/>
                  <a:pt x="297285" y="2543900"/>
                  <a:pt x="292331" y="2539490"/>
                </a:cubicBezTo>
                <a:lnTo>
                  <a:pt x="298010" y="2525475"/>
                </a:lnTo>
                <a:cubicBezTo>
                  <a:pt x="296299" y="2521986"/>
                  <a:pt x="290320" y="2519866"/>
                  <a:pt x="278079" y="2519670"/>
                </a:cubicBezTo>
                <a:cubicBezTo>
                  <a:pt x="265419" y="2487399"/>
                  <a:pt x="254687" y="2453874"/>
                  <a:pt x="244990" y="2432811"/>
                </a:cubicBezTo>
                <a:cubicBezTo>
                  <a:pt x="243025" y="2432898"/>
                  <a:pt x="241166" y="2432899"/>
                  <a:pt x="240056" y="2432276"/>
                </a:cubicBezTo>
                <a:lnTo>
                  <a:pt x="234675" y="2431410"/>
                </a:lnTo>
                <a:cubicBezTo>
                  <a:pt x="231409" y="2429223"/>
                  <a:pt x="234189" y="2424162"/>
                  <a:pt x="237995" y="2418456"/>
                </a:cubicBezTo>
                <a:cubicBezTo>
                  <a:pt x="237789" y="2417783"/>
                  <a:pt x="237472" y="2417152"/>
                  <a:pt x="237157" y="2416566"/>
                </a:cubicBezTo>
                <a:lnTo>
                  <a:pt x="233723" y="2412328"/>
                </a:lnTo>
                <a:lnTo>
                  <a:pt x="231298" y="2412843"/>
                </a:lnTo>
                <a:lnTo>
                  <a:pt x="230681" y="2412328"/>
                </a:lnTo>
                <a:lnTo>
                  <a:pt x="221692" y="2413615"/>
                </a:lnTo>
                <a:lnTo>
                  <a:pt x="218950" y="2412464"/>
                </a:lnTo>
                <a:cubicBezTo>
                  <a:pt x="218762" y="2412854"/>
                  <a:pt x="218573" y="2413252"/>
                  <a:pt x="218407" y="2413657"/>
                </a:cubicBezTo>
                <a:lnTo>
                  <a:pt x="213221" y="2413712"/>
                </a:lnTo>
                <a:lnTo>
                  <a:pt x="208821" y="2412463"/>
                </a:lnTo>
                <a:cubicBezTo>
                  <a:pt x="207590" y="2414186"/>
                  <a:pt x="206378" y="2416061"/>
                  <a:pt x="205126" y="2417963"/>
                </a:cubicBezTo>
                <a:cubicBezTo>
                  <a:pt x="201811" y="2407014"/>
                  <a:pt x="197672" y="2397735"/>
                  <a:pt x="192573" y="2391295"/>
                </a:cubicBezTo>
                <a:lnTo>
                  <a:pt x="174663" y="2387534"/>
                </a:lnTo>
                <a:lnTo>
                  <a:pt x="178487" y="2381652"/>
                </a:lnTo>
                <a:cubicBezTo>
                  <a:pt x="177029" y="2381605"/>
                  <a:pt x="175570" y="2381812"/>
                  <a:pt x="174211" y="2382812"/>
                </a:cubicBezTo>
                <a:cubicBezTo>
                  <a:pt x="174359" y="2368126"/>
                  <a:pt x="174621" y="2351603"/>
                  <a:pt x="174801" y="2334984"/>
                </a:cubicBezTo>
                <a:cubicBezTo>
                  <a:pt x="170903" y="2350777"/>
                  <a:pt x="166898" y="2373191"/>
                  <a:pt x="166146" y="2369525"/>
                </a:cubicBezTo>
                <a:cubicBezTo>
                  <a:pt x="164857" y="2363256"/>
                  <a:pt x="171270" y="2313027"/>
                  <a:pt x="173812" y="2282502"/>
                </a:cubicBezTo>
                <a:lnTo>
                  <a:pt x="169809" y="2275400"/>
                </a:lnTo>
                <a:lnTo>
                  <a:pt x="166287" y="2271106"/>
                </a:lnTo>
                <a:cubicBezTo>
                  <a:pt x="161221" y="2298471"/>
                  <a:pt x="155313" y="2352587"/>
                  <a:pt x="153971" y="2349079"/>
                </a:cubicBezTo>
                <a:cubicBezTo>
                  <a:pt x="152539" y="2345335"/>
                  <a:pt x="155706" y="2301144"/>
                  <a:pt x="158174" y="2260842"/>
                </a:cubicBezTo>
                <a:lnTo>
                  <a:pt x="153012" y="2269341"/>
                </a:lnTo>
                <a:lnTo>
                  <a:pt x="154036" y="2253842"/>
                </a:lnTo>
                <a:cubicBezTo>
                  <a:pt x="153215" y="2252895"/>
                  <a:pt x="152406" y="2251599"/>
                  <a:pt x="151609" y="2250290"/>
                </a:cubicBezTo>
                <a:lnTo>
                  <a:pt x="151872" y="2249159"/>
                </a:lnTo>
                <a:lnTo>
                  <a:pt x="226610" y="2249159"/>
                </a:lnTo>
                <a:lnTo>
                  <a:pt x="226610" y="2194127"/>
                </a:lnTo>
                <a:cubicBezTo>
                  <a:pt x="224982" y="2206423"/>
                  <a:pt x="223500" y="2215271"/>
                  <a:pt x="222457" y="2213706"/>
                </a:cubicBezTo>
                <a:lnTo>
                  <a:pt x="221236" y="2186187"/>
                </a:lnTo>
                <a:lnTo>
                  <a:pt x="218937" y="2144671"/>
                </a:lnTo>
                <a:cubicBezTo>
                  <a:pt x="218106" y="2140977"/>
                  <a:pt x="217223" y="2137034"/>
                  <a:pt x="216419" y="2133975"/>
                </a:cubicBezTo>
                <a:lnTo>
                  <a:pt x="215219" y="2135840"/>
                </a:lnTo>
                <a:lnTo>
                  <a:pt x="207967" y="2144436"/>
                </a:lnTo>
                <a:lnTo>
                  <a:pt x="202847" y="2157397"/>
                </a:lnTo>
                <a:cubicBezTo>
                  <a:pt x="199993" y="2159005"/>
                  <a:pt x="198536" y="2148888"/>
                  <a:pt x="198370" y="2133719"/>
                </a:cubicBezTo>
                <a:lnTo>
                  <a:pt x="192313" y="2142054"/>
                </a:lnTo>
                <a:cubicBezTo>
                  <a:pt x="192698" y="2126778"/>
                  <a:pt x="193447" y="2121245"/>
                  <a:pt x="194065" y="2115740"/>
                </a:cubicBezTo>
                <a:cubicBezTo>
                  <a:pt x="190110" y="2114993"/>
                  <a:pt x="181477" y="2127521"/>
                  <a:pt x="179749" y="2120922"/>
                </a:cubicBezTo>
                <a:cubicBezTo>
                  <a:pt x="180889" y="2104933"/>
                  <a:pt x="181888" y="2099098"/>
                  <a:pt x="182686" y="2093541"/>
                </a:cubicBezTo>
                <a:cubicBezTo>
                  <a:pt x="182686" y="2093525"/>
                  <a:pt x="182687" y="2093513"/>
                  <a:pt x="182689" y="2093499"/>
                </a:cubicBezTo>
                <a:lnTo>
                  <a:pt x="181998" y="2094284"/>
                </a:lnTo>
                <a:lnTo>
                  <a:pt x="175096" y="2109910"/>
                </a:lnTo>
                <a:lnTo>
                  <a:pt x="171784" y="2090102"/>
                </a:lnTo>
                <a:lnTo>
                  <a:pt x="172307" y="2085781"/>
                </a:lnTo>
                <a:lnTo>
                  <a:pt x="170112" y="2080058"/>
                </a:lnTo>
                <a:cubicBezTo>
                  <a:pt x="169799" y="2079024"/>
                  <a:pt x="169800" y="2078644"/>
                  <a:pt x="169802" y="2078259"/>
                </a:cubicBezTo>
                <a:lnTo>
                  <a:pt x="169443" y="2078679"/>
                </a:lnTo>
                <a:lnTo>
                  <a:pt x="163337" y="2063548"/>
                </a:lnTo>
                <a:cubicBezTo>
                  <a:pt x="163745" y="2060368"/>
                  <a:pt x="164194" y="2057195"/>
                  <a:pt x="164611" y="2054025"/>
                </a:cubicBezTo>
                <a:cubicBezTo>
                  <a:pt x="163296" y="2053542"/>
                  <a:pt x="161558" y="2054137"/>
                  <a:pt x="159671" y="2055133"/>
                </a:cubicBezTo>
                <a:cubicBezTo>
                  <a:pt x="159421" y="2055592"/>
                  <a:pt x="159171" y="2055691"/>
                  <a:pt x="158941" y="2055565"/>
                </a:cubicBezTo>
                <a:lnTo>
                  <a:pt x="158822" y="2055634"/>
                </a:lnTo>
                <a:lnTo>
                  <a:pt x="146623" y="2045347"/>
                </a:lnTo>
                <a:cubicBezTo>
                  <a:pt x="147161" y="2040908"/>
                  <a:pt x="148004" y="2036198"/>
                  <a:pt x="148869" y="2031421"/>
                </a:cubicBezTo>
                <a:cubicBezTo>
                  <a:pt x="173645" y="2052391"/>
                  <a:pt x="196199" y="2071546"/>
                  <a:pt x="197181" y="2054541"/>
                </a:cubicBezTo>
                <a:cubicBezTo>
                  <a:pt x="197955" y="2041134"/>
                  <a:pt x="177878" y="2004243"/>
                  <a:pt x="157436" y="1961196"/>
                </a:cubicBezTo>
                <a:cubicBezTo>
                  <a:pt x="156064" y="1950675"/>
                  <a:pt x="153667" y="1937885"/>
                  <a:pt x="150892" y="1925131"/>
                </a:cubicBezTo>
                <a:cubicBezTo>
                  <a:pt x="177142" y="1940273"/>
                  <a:pt x="201801" y="1955092"/>
                  <a:pt x="202107" y="1937017"/>
                </a:cubicBezTo>
                <a:cubicBezTo>
                  <a:pt x="202257" y="1928023"/>
                  <a:pt x="193218" y="1911321"/>
                  <a:pt x="180824" y="1890478"/>
                </a:cubicBezTo>
                <a:lnTo>
                  <a:pt x="179273" y="1887828"/>
                </a:lnTo>
                <a:cubicBezTo>
                  <a:pt x="172618" y="1876453"/>
                  <a:pt x="165103" y="1864072"/>
                  <a:pt x="157575" y="1851031"/>
                </a:cubicBezTo>
                <a:lnTo>
                  <a:pt x="173990" y="1845814"/>
                </a:lnTo>
                <a:cubicBezTo>
                  <a:pt x="174052" y="1833126"/>
                  <a:pt x="174525" y="1815980"/>
                  <a:pt x="174801" y="1798681"/>
                </a:cubicBezTo>
                <a:cubicBezTo>
                  <a:pt x="170902" y="1809355"/>
                  <a:pt x="166898" y="1824503"/>
                  <a:pt x="166145" y="1822025"/>
                </a:cubicBezTo>
                <a:cubicBezTo>
                  <a:pt x="164857" y="1817788"/>
                  <a:pt x="171270" y="1783844"/>
                  <a:pt x="173811" y="1763213"/>
                </a:cubicBezTo>
                <a:lnTo>
                  <a:pt x="169808" y="1758414"/>
                </a:lnTo>
                <a:lnTo>
                  <a:pt x="166286" y="1755510"/>
                </a:lnTo>
                <a:cubicBezTo>
                  <a:pt x="161221" y="1774006"/>
                  <a:pt x="155312" y="1810577"/>
                  <a:pt x="153971" y="1808209"/>
                </a:cubicBezTo>
                <a:cubicBezTo>
                  <a:pt x="152539" y="1805676"/>
                  <a:pt x="155706" y="1775811"/>
                  <a:pt x="158174" y="1748576"/>
                </a:cubicBezTo>
                <a:lnTo>
                  <a:pt x="153011" y="1754319"/>
                </a:lnTo>
                <a:lnTo>
                  <a:pt x="154035" y="1743844"/>
                </a:lnTo>
                <a:cubicBezTo>
                  <a:pt x="153214" y="1743205"/>
                  <a:pt x="152406" y="1742330"/>
                  <a:pt x="151608" y="1741443"/>
                </a:cubicBezTo>
                <a:lnTo>
                  <a:pt x="153378" y="1736318"/>
                </a:lnTo>
                <a:cubicBezTo>
                  <a:pt x="153389" y="1734225"/>
                  <a:pt x="153314" y="1733870"/>
                  <a:pt x="153192" y="1733468"/>
                </a:cubicBezTo>
                <a:lnTo>
                  <a:pt x="157641" y="1726958"/>
                </a:lnTo>
                <a:cubicBezTo>
                  <a:pt x="157856" y="1725847"/>
                  <a:pt x="158077" y="1724910"/>
                  <a:pt x="158301" y="1723963"/>
                </a:cubicBezTo>
                <a:cubicBezTo>
                  <a:pt x="155509" y="1724312"/>
                  <a:pt x="150892" y="1724721"/>
                  <a:pt x="150500" y="1720536"/>
                </a:cubicBezTo>
                <a:cubicBezTo>
                  <a:pt x="150031" y="1715513"/>
                  <a:pt x="153302" y="1714073"/>
                  <a:pt x="155957" y="1696800"/>
                </a:cubicBezTo>
                <a:cubicBezTo>
                  <a:pt x="155466" y="1692893"/>
                  <a:pt x="154943" y="1688200"/>
                  <a:pt x="154388" y="1683178"/>
                </a:cubicBezTo>
                <a:cubicBezTo>
                  <a:pt x="152549" y="1681658"/>
                  <a:pt x="150065" y="1680321"/>
                  <a:pt x="147492" y="1678134"/>
                </a:cubicBezTo>
                <a:cubicBezTo>
                  <a:pt x="141133" y="1697999"/>
                  <a:pt x="134013" y="1726973"/>
                  <a:pt x="131074" y="1718333"/>
                </a:cubicBezTo>
                <a:cubicBezTo>
                  <a:pt x="129455" y="1713575"/>
                  <a:pt x="129683" y="1699341"/>
                  <a:pt x="130516" y="1682183"/>
                </a:cubicBezTo>
                <a:lnTo>
                  <a:pt x="127666" y="1690022"/>
                </a:lnTo>
                <a:lnTo>
                  <a:pt x="126266" y="1680217"/>
                </a:lnTo>
                <a:cubicBezTo>
                  <a:pt x="126255" y="1669095"/>
                  <a:pt x="128192" y="1640672"/>
                  <a:pt x="129451" y="1612739"/>
                </a:cubicBezTo>
                <a:lnTo>
                  <a:pt x="127160" y="1607460"/>
                </a:lnTo>
                <a:cubicBezTo>
                  <a:pt x="128135" y="1601354"/>
                  <a:pt x="128998" y="1600083"/>
                  <a:pt x="130141" y="1598997"/>
                </a:cubicBezTo>
                <a:cubicBezTo>
                  <a:pt x="130210" y="1598125"/>
                  <a:pt x="130249" y="1597117"/>
                  <a:pt x="130286" y="1596119"/>
                </a:cubicBezTo>
                <a:lnTo>
                  <a:pt x="126688" y="1596350"/>
                </a:lnTo>
                <a:lnTo>
                  <a:pt x="129471" y="1585802"/>
                </a:lnTo>
                <a:cubicBezTo>
                  <a:pt x="130061" y="1588338"/>
                  <a:pt x="130611" y="1591014"/>
                  <a:pt x="131204" y="1593473"/>
                </a:cubicBezTo>
                <a:lnTo>
                  <a:pt x="133590" y="1564688"/>
                </a:lnTo>
                <a:lnTo>
                  <a:pt x="110194" y="1582440"/>
                </a:lnTo>
                <a:lnTo>
                  <a:pt x="110545" y="1567665"/>
                </a:lnTo>
                <a:lnTo>
                  <a:pt x="134098" y="1552866"/>
                </a:lnTo>
                <a:lnTo>
                  <a:pt x="134828" y="1549758"/>
                </a:lnTo>
                <a:lnTo>
                  <a:pt x="145558" y="1420326"/>
                </a:lnTo>
                <a:lnTo>
                  <a:pt x="112555" y="1285035"/>
                </a:lnTo>
                <a:lnTo>
                  <a:pt x="112563" y="1284737"/>
                </a:lnTo>
                <a:lnTo>
                  <a:pt x="155384" y="1301811"/>
                </a:lnTo>
                <a:lnTo>
                  <a:pt x="155454" y="1300965"/>
                </a:lnTo>
                <a:lnTo>
                  <a:pt x="129631" y="1285708"/>
                </a:lnTo>
                <a:lnTo>
                  <a:pt x="128172" y="1281045"/>
                </a:lnTo>
                <a:lnTo>
                  <a:pt x="126865" y="1284073"/>
                </a:lnTo>
                <a:lnTo>
                  <a:pt x="112838" y="1275787"/>
                </a:lnTo>
                <a:lnTo>
                  <a:pt x="113291" y="1260999"/>
                </a:lnTo>
                <a:lnTo>
                  <a:pt x="132588" y="1219463"/>
                </a:lnTo>
                <a:lnTo>
                  <a:pt x="131809" y="1214756"/>
                </a:lnTo>
                <a:lnTo>
                  <a:pt x="132962" y="1212114"/>
                </a:lnTo>
                <a:lnTo>
                  <a:pt x="132456" y="1206507"/>
                </a:lnTo>
                <a:lnTo>
                  <a:pt x="135029" y="1207073"/>
                </a:lnTo>
                <a:lnTo>
                  <a:pt x="124304" y="1173051"/>
                </a:lnTo>
                <a:lnTo>
                  <a:pt x="114532" y="1220460"/>
                </a:lnTo>
                <a:lnTo>
                  <a:pt x="114824" y="1210962"/>
                </a:lnTo>
                <a:lnTo>
                  <a:pt x="101620" y="1236511"/>
                </a:lnTo>
                <a:lnTo>
                  <a:pt x="101452" y="1239521"/>
                </a:lnTo>
                <a:lnTo>
                  <a:pt x="101007" y="1237697"/>
                </a:lnTo>
                <a:lnTo>
                  <a:pt x="84157" y="1270300"/>
                </a:lnTo>
                <a:lnTo>
                  <a:pt x="90651" y="1241859"/>
                </a:lnTo>
                <a:lnTo>
                  <a:pt x="98566" y="1227692"/>
                </a:lnTo>
                <a:lnTo>
                  <a:pt x="96149" y="1217783"/>
                </a:lnTo>
                <a:lnTo>
                  <a:pt x="104766" y="1180048"/>
                </a:lnTo>
                <a:lnTo>
                  <a:pt x="102504" y="1220642"/>
                </a:lnTo>
                <a:lnTo>
                  <a:pt x="115224" y="1197872"/>
                </a:lnTo>
                <a:lnTo>
                  <a:pt x="117961" y="1108484"/>
                </a:lnTo>
                <a:lnTo>
                  <a:pt x="119929" y="1113643"/>
                </a:lnTo>
                <a:lnTo>
                  <a:pt x="128672" y="1075354"/>
                </a:lnTo>
                <a:lnTo>
                  <a:pt x="143242" y="1081165"/>
                </a:lnTo>
                <a:lnTo>
                  <a:pt x="130718" y="1141929"/>
                </a:lnTo>
                <a:lnTo>
                  <a:pt x="141070" y="1169071"/>
                </a:lnTo>
                <a:lnTo>
                  <a:pt x="142290" y="1167346"/>
                </a:lnTo>
                <a:cubicBezTo>
                  <a:pt x="141812" y="1164678"/>
                  <a:pt x="139756" y="1163569"/>
                  <a:pt x="140491" y="1161019"/>
                </a:cubicBezTo>
                <a:lnTo>
                  <a:pt x="142318" y="1157878"/>
                </a:lnTo>
                <a:lnTo>
                  <a:pt x="154679" y="1149456"/>
                </a:lnTo>
                <a:cubicBezTo>
                  <a:pt x="152047" y="1148748"/>
                  <a:pt x="149683" y="1147846"/>
                  <a:pt x="148148" y="1146252"/>
                </a:cubicBezTo>
                <a:lnTo>
                  <a:pt x="147117" y="1146603"/>
                </a:lnTo>
                <a:lnTo>
                  <a:pt x="147433" y="1145089"/>
                </a:lnTo>
                <a:cubicBezTo>
                  <a:pt x="146414" y="1143963"/>
                  <a:pt x="146021" y="1142151"/>
                  <a:pt x="146415" y="1139707"/>
                </a:cubicBezTo>
                <a:lnTo>
                  <a:pt x="148258" y="1134433"/>
                </a:lnTo>
                <a:cubicBezTo>
                  <a:pt x="145607" y="1129227"/>
                  <a:pt x="143807" y="1123903"/>
                  <a:pt x="144728" y="1118927"/>
                </a:cubicBezTo>
                <a:lnTo>
                  <a:pt x="152043" y="1108586"/>
                </a:lnTo>
                <a:lnTo>
                  <a:pt x="150603" y="1109077"/>
                </a:lnTo>
                <a:lnTo>
                  <a:pt x="153305" y="1100528"/>
                </a:lnTo>
                <a:cubicBezTo>
                  <a:pt x="150349" y="1094699"/>
                  <a:pt x="147790" y="1088957"/>
                  <a:pt x="148383" y="1083214"/>
                </a:cubicBezTo>
                <a:lnTo>
                  <a:pt x="172702" y="1092913"/>
                </a:lnTo>
                <a:lnTo>
                  <a:pt x="175753" y="1056102"/>
                </a:lnTo>
                <a:lnTo>
                  <a:pt x="124537" y="1025841"/>
                </a:lnTo>
                <a:lnTo>
                  <a:pt x="120669" y="1020042"/>
                </a:lnTo>
                <a:lnTo>
                  <a:pt x="121129" y="1005005"/>
                </a:lnTo>
                <a:cubicBezTo>
                  <a:pt x="124584" y="1005570"/>
                  <a:pt x="127319" y="1004678"/>
                  <a:pt x="128450" y="1001731"/>
                </a:cubicBezTo>
                <a:cubicBezTo>
                  <a:pt x="130453" y="996507"/>
                  <a:pt x="126337" y="985945"/>
                  <a:pt x="122074" y="974160"/>
                </a:cubicBezTo>
                <a:lnTo>
                  <a:pt x="122374" y="964340"/>
                </a:lnTo>
                <a:cubicBezTo>
                  <a:pt x="131659" y="951775"/>
                  <a:pt x="142925" y="940272"/>
                  <a:pt x="143846" y="931156"/>
                </a:cubicBezTo>
                <a:cubicBezTo>
                  <a:pt x="144136" y="928295"/>
                  <a:pt x="143597" y="925765"/>
                  <a:pt x="142085" y="924503"/>
                </a:cubicBezTo>
                <a:lnTo>
                  <a:pt x="190274" y="880958"/>
                </a:lnTo>
                <a:lnTo>
                  <a:pt x="193241" y="845171"/>
                </a:lnTo>
                <a:lnTo>
                  <a:pt x="147845" y="880375"/>
                </a:lnTo>
                <a:lnTo>
                  <a:pt x="147183" y="877872"/>
                </a:lnTo>
                <a:lnTo>
                  <a:pt x="128829" y="895122"/>
                </a:lnTo>
                <a:lnTo>
                  <a:pt x="124406" y="898552"/>
                </a:lnTo>
                <a:lnTo>
                  <a:pt x="146436" y="875049"/>
                </a:lnTo>
                <a:cubicBezTo>
                  <a:pt x="144837" y="870921"/>
                  <a:pt x="141780" y="867967"/>
                  <a:pt x="138429" y="865185"/>
                </a:cubicBezTo>
                <a:lnTo>
                  <a:pt x="195885" y="813265"/>
                </a:lnTo>
                <a:lnTo>
                  <a:pt x="196361" y="807527"/>
                </a:lnTo>
                <a:lnTo>
                  <a:pt x="131652" y="857709"/>
                </a:lnTo>
                <a:lnTo>
                  <a:pt x="130046" y="857698"/>
                </a:lnTo>
                <a:cubicBezTo>
                  <a:pt x="128656" y="856582"/>
                  <a:pt x="127406" y="855273"/>
                  <a:pt x="126397" y="853682"/>
                </a:cubicBezTo>
                <a:cubicBezTo>
                  <a:pt x="134386" y="838998"/>
                  <a:pt x="143089" y="824564"/>
                  <a:pt x="142833" y="816938"/>
                </a:cubicBezTo>
                <a:cubicBezTo>
                  <a:pt x="142820" y="816572"/>
                  <a:pt x="142792" y="816216"/>
                  <a:pt x="142441" y="816281"/>
                </a:cubicBezTo>
                <a:lnTo>
                  <a:pt x="142732" y="815187"/>
                </a:lnTo>
                <a:lnTo>
                  <a:pt x="135790" y="809296"/>
                </a:lnTo>
                <a:lnTo>
                  <a:pt x="132480" y="808469"/>
                </a:lnTo>
                <a:lnTo>
                  <a:pt x="288082" y="480561"/>
                </a:lnTo>
                <a:cubicBezTo>
                  <a:pt x="292126" y="470580"/>
                  <a:pt x="294857" y="463137"/>
                  <a:pt x="294291" y="461817"/>
                </a:cubicBezTo>
                <a:cubicBezTo>
                  <a:pt x="293612" y="460237"/>
                  <a:pt x="286333" y="473119"/>
                  <a:pt x="278568" y="485832"/>
                </a:cubicBezTo>
                <a:cubicBezTo>
                  <a:pt x="277553" y="486129"/>
                  <a:pt x="276142" y="487052"/>
                  <a:pt x="274641" y="488274"/>
                </a:cubicBezTo>
                <a:cubicBezTo>
                  <a:pt x="275091" y="487099"/>
                  <a:pt x="275539" y="485928"/>
                  <a:pt x="275969" y="484739"/>
                </a:cubicBezTo>
                <a:lnTo>
                  <a:pt x="135152" y="759931"/>
                </a:lnTo>
                <a:lnTo>
                  <a:pt x="128663" y="758996"/>
                </a:lnTo>
                <a:lnTo>
                  <a:pt x="129195" y="741611"/>
                </a:lnTo>
                <a:lnTo>
                  <a:pt x="128230" y="758933"/>
                </a:lnTo>
                <a:lnTo>
                  <a:pt x="128030" y="758904"/>
                </a:lnTo>
                <a:lnTo>
                  <a:pt x="121868" y="785891"/>
                </a:lnTo>
                <a:lnTo>
                  <a:pt x="95680" y="837070"/>
                </a:lnTo>
                <a:lnTo>
                  <a:pt x="94527" y="835268"/>
                </a:lnTo>
                <a:lnTo>
                  <a:pt x="119307" y="715038"/>
                </a:lnTo>
                <a:lnTo>
                  <a:pt x="114905" y="718026"/>
                </a:lnTo>
                <a:cubicBezTo>
                  <a:pt x="116794" y="710888"/>
                  <a:pt x="118295" y="704247"/>
                  <a:pt x="118713" y="698292"/>
                </a:cubicBezTo>
                <a:cubicBezTo>
                  <a:pt x="128185" y="693878"/>
                  <a:pt x="136685" y="689590"/>
                  <a:pt x="143454" y="685493"/>
                </a:cubicBezTo>
                <a:cubicBezTo>
                  <a:pt x="143390" y="683569"/>
                  <a:pt x="143389" y="681751"/>
                  <a:pt x="143853" y="680667"/>
                </a:cubicBezTo>
                <a:lnTo>
                  <a:pt x="144496" y="675403"/>
                </a:lnTo>
                <a:lnTo>
                  <a:pt x="154132" y="678650"/>
                </a:lnTo>
                <a:cubicBezTo>
                  <a:pt x="154632" y="678449"/>
                  <a:pt x="155101" y="678138"/>
                  <a:pt x="155537" y="677831"/>
                </a:cubicBezTo>
                <a:lnTo>
                  <a:pt x="158690" y="674471"/>
                </a:lnTo>
                <a:lnTo>
                  <a:pt x="158307" y="672100"/>
                </a:lnTo>
                <a:lnTo>
                  <a:pt x="158690" y="671496"/>
                </a:lnTo>
                <a:lnTo>
                  <a:pt x="157733" y="662704"/>
                </a:lnTo>
                <a:lnTo>
                  <a:pt x="158588" y="660022"/>
                </a:lnTo>
                <a:cubicBezTo>
                  <a:pt x="158298" y="659838"/>
                  <a:pt x="158002" y="659654"/>
                  <a:pt x="157700" y="659491"/>
                </a:cubicBezTo>
                <a:lnTo>
                  <a:pt x="157660" y="654418"/>
                </a:lnTo>
                <a:lnTo>
                  <a:pt x="158589" y="650114"/>
                </a:lnTo>
                <a:cubicBezTo>
                  <a:pt x="157308" y="648911"/>
                  <a:pt x="155914" y="647725"/>
                  <a:pt x="154499" y="646501"/>
                </a:cubicBezTo>
                <a:cubicBezTo>
                  <a:pt x="162642" y="643258"/>
                  <a:pt x="169544" y="639210"/>
                  <a:pt x="174334" y="634222"/>
                </a:cubicBezTo>
                <a:lnTo>
                  <a:pt x="177132" y="616703"/>
                </a:lnTo>
                <a:lnTo>
                  <a:pt x="181507" y="620445"/>
                </a:lnTo>
                <a:cubicBezTo>
                  <a:pt x="181635" y="615281"/>
                  <a:pt x="179274" y="610119"/>
                  <a:pt x="175108" y="605244"/>
                </a:cubicBezTo>
                <a:cubicBezTo>
                  <a:pt x="175089" y="605266"/>
                  <a:pt x="175069" y="605290"/>
                  <a:pt x="175050" y="605309"/>
                </a:cubicBezTo>
                <a:lnTo>
                  <a:pt x="177132" y="586018"/>
                </a:lnTo>
                <a:lnTo>
                  <a:pt x="181507" y="591550"/>
                </a:lnTo>
                <a:cubicBezTo>
                  <a:pt x="181635" y="583911"/>
                  <a:pt x="179275" y="576272"/>
                  <a:pt x="175108" y="569061"/>
                </a:cubicBezTo>
                <a:cubicBezTo>
                  <a:pt x="169767" y="578262"/>
                  <a:pt x="164479" y="587799"/>
                  <a:pt x="162016" y="585333"/>
                </a:cubicBezTo>
                <a:lnTo>
                  <a:pt x="160783" y="579841"/>
                </a:lnTo>
                <a:cubicBezTo>
                  <a:pt x="160726" y="577122"/>
                  <a:pt x="160972" y="573655"/>
                  <a:pt x="161368" y="569835"/>
                </a:cubicBezTo>
                <a:lnTo>
                  <a:pt x="157533" y="574129"/>
                </a:lnTo>
                <a:lnTo>
                  <a:pt x="157110" y="570101"/>
                </a:lnTo>
                <a:lnTo>
                  <a:pt x="159269" y="548056"/>
                </a:lnTo>
                <a:cubicBezTo>
                  <a:pt x="157326" y="545728"/>
                  <a:pt x="155291" y="543659"/>
                  <a:pt x="153177" y="541705"/>
                </a:cubicBezTo>
                <a:lnTo>
                  <a:pt x="145171" y="554332"/>
                </a:lnTo>
                <a:lnTo>
                  <a:pt x="143898" y="550591"/>
                </a:lnTo>
                <a:lnTo>
                  <a:pt x="143888" y="549830"/>
                </a:lnTo>
                <a:lnTo>
                  <a:pt x="183527" y="380957"/>
                </a:lnTo>
                <a:lnTo>
                  <a:pt x="183594" y="380817"/>
                </a:lnTo>
                <a:cubicBezTo>
                  <a:pt x="186171" y="382236"/>
                  <a:pt x="188983" y="384952"/>
                  <a:pt x="191855" y="387273"/>
                </a:cubicBezTo>
                <a:cubicBezTo>
                  <a:pt x="192649" y="383942"/>
                  <a:pt x="192952" y="379218"/>
                  <a:pt x="193117" y="374204"/>
                </a:cubicBezTo>
                <a:lnTo>
                  <a:pt x="189684" y="367982"/>
                </a:lnTo>
                <a:lnTo>
                  <a:pt x="189922" y="367481"/>
                </a:lnTo>
                <a:lnTo>
                  <a:pt x="193406" y="366174"/>
                </a:lnTo>
                <a:lnTo>
                  <a:pt x="195124" y="356518"/>
                </a:lnTo>
                <a:lnTo>
                  <a:pt x="198668" y="349050"/>
                </a:lnTo>
                <a:cubicBezTo>
                  <a:pt x="204444" y="350649"/>
                  <a:pt x="213784" y="366754"/>
                  <a:pt x="219190" y="363455"/>
                </a:cubicBezTo>
                <a:lnTo>
                  <a:pt x="220665" y="361702"/>
                </a:lnTo>
                <a:cubicBezTo>
                  <a:pt x="220640" y="358649"/>
                  <a:pt x="220980" y="357901"/>
                  <a:pt x="221627" y="357130"/>
                </a:cubicBezTo>
                <a:lnTo>
                  <a:pt x="223839" y="355494"/>
                </a:lnTo>
                <a:lnTo>
                  <a:pt x="226610" y="346358"/>
                </a:lnTo>
                <a:lnTo>
                  <a:pt x="226610" y="310710"/>
                </a:lnTo>
                <a:lnTo>
                  <a:pt x="166286" y="310710"/>
                </a:lnTo>
                <a:cubicBezTo>
                  <a:pt x="166535" y="296345"/>
                  <a:pt x="161935" y="271215"/>
                  <a:pt x="163939" y="259212"/>
                </a:cubicBezTo>
                <a:cubicBezTo>
                  <a:pt x="170049" y="259345"/>
                  <a:pt x="174627" y="259666"/>
                  <a:pt x="178462" y="260055"/>
                </a:cubicBezTo>
                <a:lnTo>
                  <a:pt x="179628" y="260938"/>
                </a:lnTo>
                <a:cubicBezTo>
                  <a:pt x="179637" y="260938"/>
                  <a:pt x="179645" y="260938"/>
                  <a:pt x="179654" y="260942"/>
                </a:cubicBezTo>
                <a:lnTo>
                  <a:pt x="179529" y="260152"/>
                </a:lnTo>
                <a:lnTo>
                  <a:pt x="187930" y="260910"/>
                </a:lnTo>
                <a:cubicBezTo>
                  <a:pt x="189057" y="255591"/>
                  <a:pt x="170105" y="243985"/>
                  <a:pt x="180088" y="241662"/>
                </a:cubicBezTo>
                <a:cubicBezTo>
                  <a:pt x="183094" y="241852"/>
                  <a:pt x="185863" y="242040"/>
                  <a:pt x="188419" y="242333"/>
                </a:cubicBezTo>
                <a:lnTo>
                  <a:pt x="191856" y="246529"/>
                </a:lnTo>
                <a:cubicBezTo>
                  <a:pt x="192045" y="245353"/>
                  <a:pt x="192207" y="244061"/>
                  <a:pt x="192110" y="242631"/>
                </a:cubicBezTo>
                <a:cubicBezTo>
                  <a:pt x="207555" y="243685"/>
                  <a:pt x="214672" y="244738"/>
                  <a:pt x="221512" y="245611"/>
                </a:cubicBezTo>
                <a:cubicBezTo>
                  <a:pt x="221534" y="245611"/>
                  <a:pt x="221554" y="245612"/>
                  <a:pt x="221576" y="245615"/>
                </a:cubicBezTo>
                <a:lnTo>
                  <a:pt x="220385" y="244685"/>
                </a:lnTo>
                <a:cubicBezTo>
                  <a:pt x="209058" y="241813"/>
                  <a:pt x="198069" y="238464"/>
                  <a:pt x="196748" y="235406"/>
                </a:cubicBezTo>
                <a:lnTo>
                  <a:pt x="226714" y="230952"/>
                </a:lnTo>
                <a:lnTo>
                  <a:pt x="233249" y="231657"/>
                </a:lnTo>
                <a:cubicBezTo>
                  <a:pt x="237726" y="231065"/>
                  <a:pt x="241992" y="230265"/>
                  <a:pt x="241229" y="228795"/>
                </a:cubicBezTo>
                <a:cubicBezTo>
                  <a:pt x="242329" y="228282"/>
                  <a:pt x="243466" y="228284"/>
                  <a:pt x="244630" y="228289"/>
                </a:cubicBezTo>
                <a:lnTo>
                  <a:pt x="243993" y="227805"/>
                </a:lnTo>
                <a:lnTo>
                  <a:pt x="266885" y="219597"/>
                </a:lnTo>
                <a:cubicBezTo>
                  <a:pt x="271696" y="220144"/>
                  <a:pt x="276495" y="220750"/>
                  <a:pt x="281291" y="221309"/>
                </a:cubicBezTo>
                <a:cubicBezTo>
                  <a:pt x="282021" y="219540"/>
                  <a:pt x="281123" y="217206"/>
                  <a:pt x="279615" y="214668"/>
                </a:cubicBezTo>
                <a:cubicBezTo>
                  <a:pt x="278920" y="214333"/>
                  <a:pt x="278773" y="213996"/>
                  <a:pt x="278962" y="213687"/>
                </a:cubicBezTo>
                <a:lnTo>
                  <a:pt x="278857" y="213527"/>
                </a:lnTo>
                <a:lnTo>
                  <a:pt x="294420" y="197126"/>
                </a:lnTo>
                <a:cubicBezTo>
                  <a:pt x="301135" y="197849"/>
                  <a:pt x="308259" y="198981"/>
                  <a:pt x="315484" y="200147"/>
                </a:cubicBezTo>
                <a:cubicBezTo>
                  <a:pt x="283761" y="233455"/>
                  <a:pt x="254786" y="263778"/>
                  <a:pt x="280508" y="265098"/>
                </a:cubicBezTo>
                <a:cubicBezTo>
                  <a:pt x="300789" y="266137"/>
                  <a:pt x="356601" y="239146"/>
                  <a:pt x="421723" y="211663"/>
                </a:cubicBezTo>
                <a:cubicBezTo>
                  <a:pt x="437638" y="209817"/>
                  <a:pt x="456987" y="206595"/>
                  <a:pt x="476281" y="202866"/>
                </a:cubicBezTo>
                <a:cubicBezTo>
                  <a:pt x="453377" y="238157"/>
                  <a:pt x="430958" y="271310"/>
                  <a:pt x="458300" y="271721"/>
                </a:cubicBezTo>
                <a:cubicBezTo>
                  <a:pt x="471908" y="271921"/>
                  <a:pt x="497174" y="259771"/>
                  <a:pt x="528706" y="243108"/>
                </a:cubicBezTo>
                <a:lnTo>
                  <a:pt x="532714" y="241021"/>
                </a:lnTo>
                <a:cubicBezTo>
                  <a:pt x="549921" y="232076"/>
                  <a:pt x="568651" y="221971"/>
                  <a:pt x="588379" y="211850"/>
                </a:cubicBezTo>
                <a:lnTo>
                  <a:pt x="596270" y="233920"/>
                </a:lnTo>
                <a:cubicBezTo>
                  <a:pt x="615465" y="234001"/>
                  <a:pt x="641403" y="234638"/>
                  <a:pt x="667573" y="235009"/>
                </a:cubicBezTo>
                <a:cubicBezTo>
                  <a:pt x="653277" y="230368"/>
                  <a:pt x="633673" y="225615"/>
                  <a:pt x="632259" y="223372"/>
                </a:cubicBezTo>
                <a:cubicBezTo>
                  <a:pt x="638669" y="221640"/>
                  <a:pt x="690022" y="230261"/>
                  <a:pt x="721230" y="233679"/>
                </a:cubicBezTo>
                <a:lnTo>
                  <a:pt x="728491" y="228297"/>
                </a:lnTo>
                <a:lnTo>
                  <a:pt x="732881" y="223562"/>
                </a:lnTo>
                <a:cubicBezTo>
                  <a:pt x="704905" y="216752"/>
                  <a:pt x="649577" y="208808"/>
                  <a:pt x="653163" y="207005"/>
                </a:cubicBezTo>
                <a:cubicBezTo>
                  <a:pt x="656992" y="205079"/>
                  <a:pt x="702170" y="209337"/>
                  <a:pt x="743375" y="212654"/>
                </a:cubicBezTo>
                <a:lnTo>
                  <a:pt x="734685" y="205714"/>
                </a:lnTo>
                <a:lnTo>
                  <a:pt x="750531" y="207092"/>
                </a:lnTo>
                <a:cubicBezTo>
                  <a:pt x="751499" y="205988"/>
                  <a:pt x="752823" y="204900"/>
                  <a:pt x="754163" y="203828"/>
                </a:cubicBezTo>
                <a:lnTo>
                  <a:pt x="755319" y="204183"/>
                </a:lnTo>
                <a:lnTo>
                  <a:pt x="755319" y="304663"/>
                </a:lnTo>
                <a:lnTo>
                  <a:pt x="811582" y="304663"/>
                </a:lnTo>
                <a:cubicBezTo>
                  <a:pt x="799012" y="302474"/>
                  <a:pt x="789964" y="300482"/>
                  <a:pt x="791565" y="299079"/>
                </a:cubicBezTo>
                <a:lnTo>
                  <a:pt x="819699" y="297438"/>
                </a:lnTo>
                <a:lnTo>
                  <a:pt x="862144" y="294347"/>
                </a:lnTo>
                <a:cubicBezTo>
                  <a:pt x="865921" y="293230"/>
                  <a:pt x="869953" y="292043"/>
                  <a:pt x="873080" y="290961"/>
                </a:cubicBezTo>
                <a:lnTo>
                  <a:pt x="871173" y="289348"/>
                </a:lnTo>
                <a:lnTo>
                  <a:pt x="862386" y="279598"/>
                </a:lnTo>
                <a:cubicBezTo>
                  <a:pt x="856196" y="277511"/>
                  <a:pt x="850136" y="275055"/>
                  <a:pt x="849133" y="272714"/>
                </a:cubicBezTo>
                <a:cubicBezTo>
                  <a:pt x="847489" y="268877"/>
                  <a:pt x="857832" y="266919"/>
                  <a:pt x="873342" y="266697"/>
                </a:cubicBezTo>
                <a:lnTo>
                  <a:pt x="864819" y="258552"/>
                </a:lnTo>
                <a:cubicBezTo>
                  <a:pt x="880437" y="259072"/>
                  <a:pt x="886094" y="260077"/>
                  <a:pt x="891722" y="260908"/>
                </a:cubicBezTo>
                <a:cubicBezTo>
                  <a:pt x="892487" y="255591"/>
                  <a:pt x="879678" y="243985"/>
                  <a:pt x="886424" y="241661"/>
                </a:cubicBezTo>
                <a:cubicBezTo>
                  <a:pt x="902770" y="243193"/>
                  <a:pt x="908737" y="244536"/>
                  <a:pt x="914418" y="245611"/>
                </a:cubicBezTo>
                <a:cubicBezTo>
                  <a:pt x="914434" y="245611"/>
                  <a:pt x="914447" y="245612"/>
                  <a:pt x="914461" y="245613"/>
                </a:cubicBezTo>
                <a:lnTo>
                  <a:pt x="913658" y="244685"/>
                </a:lnTo>
                <a:cubicBezTo>
                  <a:pt x="906002" y="241813"/>
                  <a:pt x="898576" y="238464"/>
                  <a:pt x="897682" y="235405"/>
                </a:cubicBezTo>
                <a:lnTo>
                  <a:pt x="917934" y="230952"/>
                </a:lnTo>
                <a:lnTo>
                  <a:pt x="922351" y="231655"/>
                </a:lnTo>
                <a:lnTo>
                  <a:pt x="927744" y="228795"/>
                </a:lnTo>
                <a:cubicBezTo>
                  <a:pt x="928487" y="228282"/>
                  <a:pt x="929255" y="228283"/>
                  <a:pt x="930042" y="228289"/>
                </a:cubicBezTo>
                <a:lnTo>
                  <a:pt x="929612" y="227805"/>
                </a:lnTo>
                <a:lnTo>
                  <a:pt x="945082" y="219595"/>
                </a:lnTo>
                <a:cubicBezTo>
                  <a:pt x="948333" y="220144"/>
                  <a:pt x="951577" y="220750"/>
                  <a:pt x="954818" y="221309"/>
                </a:cubicBezTo>
                <a:cubicBezTo>
                  <a:pt x="955312" y="219540"/>
                  <a:pt x="954705" y="217206"/>
                  <a:pt x="953685" y="214668"/>
                </a:cubicBezTo>
                <a:cubicBezTo>
                  <a:pt x="953216" y="214331"/>
                  <a:pt x="953116" y="213995"/>
                  <a:pt x="953243" y="213686"/>
                </a:cubicBezTo>
                <a:lnTo>
                  <a:pt x="953172" y="213527"/>
                </a:lnTo>
                <a:lnTo>
                  <a:pt x="963691" y="197126"/>
                </a:lnTo>
                <a:cubicBezTo>
                  <a:pt x="968230" y="197849"/>
                  <a:pt x="973044" y="198981"/>
                  <a:pt x="977927" y="200145"/>
                </a:cubicBezTo>
                <a:cubicBezTo>
                  <a:pt x="956488" y="233454"/>
                  <a:pt x="936906" y="263778"/>
                  <a:pt x="954290" y="265098"/>
                </a:cubicBezTo>
                <a:cubicBezTo>
                  <a:pt x="967997" y="266137"/>
                  <a:pt x="1005713" y="239145"/>
                  <a:pt x="1049724" y="211663"/>
                </a:cubicBezTo>
                <a:cubicBezTo>
                  <a:pt x="1060480" y="209817"/>
                  <a:pt x="1073556" y="206595"/>
                  <a:pt x="1086596" y="202866"/>
                </a:cubicBezTo>
                <a:cubicBezTo>
                  <a:pt x="1071116" y="238157"/>
                  <a:pt x="1055964" y="271308"/>
                  <a:pt x="1074444" y="271721"/>
                </a:cubicBezTo>
                <a:cubicBezTo>
                  <a:pt x="1083640" y="271921"/>
                  <a:pt x="1100714" y="259769"/>
                  <a:pt x="1122024" y="243106"/>
                </a:cubicBezTo>
                <a:lnTo>
                  <a:pt x="1124732" y="241021"/>
                </a:lnTo>
                <a:cubicBezTo>
                  <a:pt x="1136363" y="232074"/>
                  <a:pt x="1149021" y="221971"/>
                  <a:pt x="1162353" y="211849"/>
                </a:cubicBezTo>
                <a:lnTo>
                  <a:pt x="1167687" y="233919"/>
                </a:lnTo>
                <a:cubicBezTo>
                  <a:pt x="1180659" y="234001"/>
                  <a:pt x="1198188" y="234638"/>
                  <a:pt x="1215874" y="235008"/>
                </a:cubicBezTo>
                <a:cubicBezTo>
                  <a:pt x="1204961" y="229767"/>
                  <a:pt x="1189476" y="224383"/>
                  <a:pt x="1192008" y="223372"/>
                </a:cubicBezTo>
                <a:cubicBezTo>
                  <a:pt x="1196340" y="221640"/>
                  <a:pt x="1231044" y="230261"/>
                  <a:pt x="1252136" y="233678"/>
                </a:cubicBezTo>
                <a:lnTo>
                  <a:pt x="1257043" y="228297"/>
                </a:lnTo>
                <a:lnTo>
                  <a:pt x="1260011" y="223561"/>
                </a:lnTo>
                <a:cubicBezTo>
                  <a:pt x="1241102" y="216751"/>
                  <a:pt x="1203712" y="208808"/>
                  <a:pt x="1206134" y="207004"/>
                </a:cubicBezTo>
                <a:cubicBezTo>
                  <a:pt x="1208723" y="205079"/>
                  <a:pt x="1239256" y="209337"/>
                  <a:pt x="1267101" y="212654"/>
                </a:cubicBezTo>
                <a:lnTo>
                  <a:pt x="1261229" y="205714"/>
                </a:lnTo>
                <a:lnTo>
                  <a:pt x="1271938" y="207090"/>
                </a:lnTo>
                <a:cubicBezTo>
                  <a:pt x="1272591" y="205988"/>
                  <a:pt x="1273487" y="204900"/>
                  <a:pt x="1274393" y="203828"/>
                </a:cubicBezTo>
                <a:lnTo>
                  <a:pt x="1279633" y="206207"/>
                </a:lnTo>
                <a:cubicBezTo>
                  <a:pt x="1281772" y="206221"/>
                  <a:pt x="1282137" y="206120"/>
                  <a:pt x="1282547" y="205957"/>
                </a:cubicBezTo>
                <a:lnTo>
                  <a:pt x="1289203" y="211938"/>
                </a:lnTo>
                <a:cubicBezTo>
                  <a:pt x="1290338" y="212227"/>
                  <a:pt x="1291297" y="212525"/>
                  <a:pt x="1292264" y="212827"/>
                </a:cubicBezTo>
                <a:cubicBezTo>
                  <a:pt x="1291907" y="209072"/>
                  <a:pt x="1291489" y="202864"/>
                  <a:pt x="1295767" y="202338"/>
                </a:cubicBezTo>
                <a:cubicBezTo>
                  <a:pt x="1300903" y="201707"/>
                  <a:pt x="1302376" y="206106"/>
                  <a:pt x="1320035" y="209676"/>
                </a:cubicBezTo>
                <a:cubicBezTo>
                  <a:pt x="1324029" y="209013"/>
                  <a:pt x="1328826" y="208312"/>
                  <a:pt x="1333962" y="207564"/>
                </a:cubicBezTo>
                <a:cubicBezTo>
                  <a:pt x="1335515" y="205093"/>
                  <a:pt x="1336881" y="201753"/>
                  <a:pt x="1339119" y="198294"/>
                </a:cubicBezTo>
                <a:cubicBezTo>
                  <a:pt x="1321347" y="190814"/>
                  <a:pt x="1296447" y="182549"/>
                  <a:pt x="1296417" y="177952"/>
                </a:cubicBezTo>
                <a:lnTo>
                  <a:pt x="1298021" y="176220"/>
                </a:lnTo>
                <a:cubicBezTo>
                  <a:pt x="1302885" y="174045"/>
                  <a:pt x="1317437" y="174351"/>
                  <a:pt x="1334979" y="175470"/>
                </a:cubicBezTo>
                <a:lnTo>
                  <a:pt x="1326964" y="171638"/>
                </a:lnTo>
                <a:lnTo>
                  <a:pt x="1336988" y="169757"/>
                </a:lnTo>
                <a:cubicBezTo>
                  <a:pt x="1348359" y="169741"/>
                  <a:pt x="1377418" y="172345"/>
                  <a:pt x="1405976" y="174038"/>
                </a:cubicBezTo>
                <a:lnTo>
                  <a:pt x="1411373" y="170960"/>
                </a:lnTo>
                <a:cubicBezTo>
                  <a:pt x="1417615" y="172271"/>
                  <a:pt x="1418915" y="173429"/>
                  <a:pt x="1420027" y="174968"/>
                </a:cubicBezTo>
                <a:cubicBezTo>
                  <a:pt x="1420918" y="175059"/>
                  <a:pt x="1421948" y="175112"/>
                  <a:pt x="1422967" y="175161"/>
                </a:cubicBezTo>
                <a:cubicBezTo>
                  <a:pt x="1422871" y="173501"/>
                  <a:pt x="1422626" y="171566"/>
                  <a:pt x="1422695" y="169566"/>
                </a:cubicBezTo>
                <a:cubicBezTo>
                  <a:pt x="1403450" y="163624"/>
                  <a:pt x="1376713" y="157188"/>
                  <a:pt x="1381554" y="153863"/>
                </a:cubicBezTo>
                <a:cubicBezTo>
                  <a:pt x="1384223" y="152030"/>
                  <a:pt x="1395343" y="151805"/>
                  <a:pt x="1409089" y="152108"/>
                </a:cubicBezTo>
                <a:lnTo>
                  <a:pt x="1401283" y="149410"/>
                </a:lnTo>
                <a:lnTo>
                  <a:pt x="1407979" y="147641"/>
                </a:lnTo>
                <a:cubicBezTo>
                  <a:pt x="1416254" y="147279"/>
                  <a:pt x="1438083" y="148275"/>
                  <a:pt x="1459348" y="148848"/>
                </a:cubicBezTo>
                <a:lnTo>
                  <a:pt x="1465233" y="147321"/>
                </a:lnTo>
                <a:lnTo>
                  <a:pt x="1465899" y="147488"/>
                </a:lnTo>
                <a:cubicBezTo>
                  <a:pt x="1474462" y="147580"/>
                  <a:pt x="1477011" y="148151"/>
                  <a:pt x="1479773" y="148759"/>
                </a:cubicBezTo>
                <a:lnTo>
                  <a:pt x="1493492" y="148293"/>
                </a:lnTo>
                <a:cubicBezTo>
                  <a:pt x="1493362" y="147560"/>
                  <a:pt x="1493253" y="146806"/>
                  <a:pt x="1493161" y="146042"/>
                </a:cubicBezTo>
                <a:cubicBezTo>
                  <a:pt x="1486559" y="140158"/>
                  <a:pt x="1477629" y="133805"/>
                  <a:pt x="1478651" y="130461"/>
                </a:cubicBezTo>
                <a:lnTo>
                  <a:pt x="1481332" y="128752"/>
                </a:lnTo>
                <a:cubicBezTo>
                  <a:pt x="1482757" y="128488"/>
                  <a:pt x="1484633" y="128487"/>
                  <a:pt x="1486730" y="128617"/>
                </a:cubicBezTo>
                <a:lnTo>
                  <a:pt x="1485799" y="124150"/>
                </a:lnTo>
                <a:lnTo>
                  <a:pt x="1501467" y="125193"/>
                </a:lnTo>
                <a:lnTo>
                  <a:pt x="1505302" y="125327"/>
                </a:lnTo>
                <a:lnTo>
                  <a:pt x="1515607" y="124039"/>
                </a:lnTo>
                <a:cubicBezTo>
                  <a:pt x="1519283" y="120378"/>
                  <a:pt x="1506298" y="103620"/>
                  <a:pt x="1507854" y="102195"/>
                </a:cubicBezTo>
                <a:cubicBezTo>
                  <a:pt x="1511705" y="103215"/>
                  <a:pt x="1519667" y="111573"/>
                  <a:pt x="1524942" y="115494"/>
                </a:cubicBezTo>
                <a:cubicBezTo>
                  <a:pt x="1525448" y="114653"/>
                  <a:pt x="1528167" y="106863"/>
                  <a:pt x="1529708" y="106890"/>
                </a:cubicBezTo>
                <a:cubicBezTo>
                  <a:pt x="1531249" y="106918"/>
                  <a:pt x="1529776" y="110875"/>
                  <a:pt x="1534185" y="115655"/>
                </a:cubicBezTo>
                <a:lnTo>
                  <a:pt x="1533938" y="116622"/>
                </a:lnTo>
                <a:cubicBezTo>
                  <a:pt x="1538213" y="112843"/>
                  <a:pt x="1543632" y="100789"/>
                  <a:pt x="1550831" y="99472"/>
                </a:cubicBezTo>
                <a:cubicBezTo>
                  <a:pt x="1557033" y="98336"/>
                  <a:pt x="1561706" y="104298"/>
                  <a:pt x="1564173" y="113361"/>
                </a:cubicBezTo>
                <a:lnTo>
                  <a:pt x="1571274" y="108393"/>
                </a:lnTo>
                <a:cubicBezTo>
                  <a:pt x="1580021" y="110430"/>
                  <a:pt x="1577605" y="117187"/>
                  <a:pt x="1576343" y="123850"/>
                </a:cubicBezTo>
                <a:lnTo>
                  <a:pt x="1588943" y="121657"/>
                </a:lnTo>
                <a:cubicBezTo>
                  <a:pt x="1588193" y="119640"/>
                  <a:pt x="1588024" y="117998"/>
                  <a:pt x="1588591" y="116923"/>
                </a:cubicBezTo>
                <a:cubicBezTo>
                  <a:pt x="1593218" y="117014"/>
                  <a:pt x="1595053" y="118264"/>
                  <a:pt x="1597036" y="119865"/>
                </a:cubicBezTo>
                <a:lnTo>
                  <a:pt x="1601107" y="119101"/>
                </a:lnTo>
                <a:cubicBezTo>
                  <a:pt x="1599849" y="109641"/>
                  <a:pt x="1601386" y="103659"/>
                  <a:pt x="1606447" y="104666"/>
                </a:cubicBezTo>
                <a:cubicBezTo>
                  <a:pt x="1609959" y="105365"/>
                  <a:pt x="1614422" y="109905"/>
                  <a:pt x="1618374" y="114550"/>
                </a:cubicBezTo>
                <a:lnTo>
                  <a:pt x="1619496" y="115077"/>
                </a:lnTo>
                <a:cubicBezTo>
                  <a:pt x="1619488" y="115068"/>
                  <a:pt x="1619488" y="115060"/>
                  <a:pt x="1619486" y="115051"/>
                </a:cubicBezTo>
                <a:cubicBezTo>
                  <a:pt x="1615990" y="108278"/>
                  <a:pt x="1611183" y="100778"/>
                  <a:pt x="1612377" y="98446"/>
                </a:cubicBezTo>
                <a:cubicBezTo>
                  <a:pt x="1614333" y="94636"/>
                  <a:pt x="1628564" y="102805"/>
                  <a:pt x="1634449" y="102672"/>
                </a:cubicBezTo>
                <a:cubicBezTo>
                  <a:pt x="1631506" y="95989"/>
                  <a:pt x="1627769" y="89203"/>
                  <a:pt x="1629226" y="86801"/>
                </a:cubicBezTo>
                <a:cubicBezTo>
                  <a:pt x="1632207" y="86817"/>
                  <a:pt x="1632546" y="87008"/>
                  <a:pt x="1632906" y="87232"/>
                </a:cubicBezTo>
                <a:lnTo>
                  <a:pt x="1639171" y="92262"/>
                </a:lnTo>
                <a:cubicBezTo>
                  <a:pt x="1638239" y="85468"/>
                  <a:pt x="1638685" y="80432"/>
                  <a:pt x="1643590" y="78455"/>
                </a:cubicBezTo>
                <a:cubicBezTo>
                  <a:pt x="1648765" y="79830"/>
                  <a:pt x="1656160" y="91942"/>
                  <a:pt x="1658848" y="94665"/>
                </a:cubicBezTo>
                <a:lnTo>
                  <a:pt x="1659713" y="94791"/>
                </a:lnTo>
                <a:lnTo>
                  <a:pt x="1659897" y="86046"/>
                </a:lnTo>
                <a:cubicBezTo>
                  <a:pt x="1660904" y="86031"/>
                  <a:pt x="1665172" y="93855"/>
                  <a:pt x="1665772" y="94700"/>
                </a:cubicBezTo>
                <a:cubicBezTo>
                  <a:pt x="1668006" y="90835"/>
                  <a:pt x="1670599" y="82596"/>
                  <a:pt x="1672852" y="81513"/>
                </a:cubicBezTo>
                <a:cubicBezTo>
                  <a:pt x="1674332" y="82952"/>
                  <a:pt x="1671060" y="99636"/>
                  <a:pt x="1674645" y="103329"/>
                </a:cubicBezTo>
                <a:lnTo>
                  <a:pt x="1681861" y="104699"/>
                </a:lnTo>
                <a:lnTo>
                  <a:pt x="1682826" y="103031"/>
                </a:lnTo>
                <a:lnTo>
                  <a:pt x="1684352" y="104594"/>
                </a:lnTo>
                <a:lnTo>
                  <a:pt x="1694377" y="103671"/>
                </a:lnTo>
                <a:lnTo>
                  <a:pt x="1695176" y="108138"/>
                </a:lnTo>
                <a:cubicBezTo>
                  <a:pt x="1696516" y="108024"/>
                  <a:pt x="1697759" y="108038"/>
                  <a:pt x="1698788" y="108313"/>
                </a:cubicBezTo>
                <a:lnTo>
                  <a:pt x="1701098" y="110046"/>
                </a:lnTo>
                <a:cubicBezTo>
                  <a:pt x="1702829" y="113403"/>
                  <a:pt x="1698943" y="119696"/>
                  <a:pt x="1696441" y="125538"/>
                </a:cubicBezTo>
                <a:cubicBezTo>
                  <a:pt x="1696914" y="127541"/>
                  <a:pt x="1697310" y="129477"/>
                  <a:pt x="1697667" y="131138"/>
                </a:cubicBezTo>
                <a:cubicBezTo>
                  <a:pt x="1702143" y="130108"/>
                  <a:pt x="1707133" y="127905"/>
                  <a:pt x="1711414" y="126844"/>
                </a:cubicBezTo>
                <a:lnTo>
                  <a:pt x="1705663" y="119220"/>
                </a:lnTo>
                <a:lnTo>
                  <a:pt x="1709063" y="117438"/>
                </a:lnTo>
                <a:cubicBezTo>
                  <a:pt x="1712034" y="116914"/>
                  <a:pt x="1716331" y="117467"/>
                  <a:pt x="1721005" y="118206"/>
                </a:cubicBezTo>
                <a:cubicBezTo>
                  <a:pt x="1723243" y="124145"/>
                  <a:pt x="1726192" y="128325"/>
                  <a:pt x="1729613" y="130228"/>
                </a:cubicBezTo>
                <a:lnTo>
                  <a:pt x="1739522" y="125727"/>
                </a:lnTo>
                <a:lnTo>
                  <a:pt x="1741976" y="125886"/>
                </a:lnTo>
                <a:cubicBezTo>
                  <a:pt x="1751023" y="114254"/>
                  <a:pt x="1760138" y="85497"/>
                  <a:pt x="1771405" y="53226"/>
                </a:cubicBezTo>
                <a:lnTo>
                  <a:pt x="1775323" y="65722"/>
                </a:lnTo>
                <a:cubicBezTo>
                  <a:pt x="1783221" y="67096"/>
                  <a:pt x="1803371" y="35682"/>
                  <a:pt x="1827839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43"/>
          <p:cNvSpPr/>
          <p:nvPr/>
        </p:nvSpPr>
        <p:spPr>
          <a:xfrm>
            <a:off x="466560" y="1892160"/>
            <a:ext cx="1283040" cy="1089000"/>
          </a:xfrm>
          <a:custGeom>
            <a:avLst/>
            <a:gdLst>
              <a:gd name="textAreaLeft" fmla="*/ 299160 w 1283040"/>
              <a:gd name="textAreaRight" fmla="*/ 983520 w 1283040"/>
              <a:gd name="textAreaTop" fmla="*/ 114480 h 1089000"/>
              <a:gd name="textAreaBottom" fmla="*/ 689760 h 1089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组合 55"/>
          <p:cNvGrpSpPr/>
          <p:nvPr/>
        </p:nvGrpSpPr>
        <p:grpSpPr>
          <a:xfrm>
            <a:off x="0" y="0"/>
            <a:ext cx="9144000" cy="5715000"/>
            <a:chOff x="0" y="0"/>
            <a:chExt cx="9144000" cy="5715000"/>
          </a:xfrm>
        </p:grpSpPr>
        <p:sp>
          <p:nvSpPr>
            <p:cNvPr id="820" name="矩形 56"/>
            <p:cNvSpPr/>
            <p:nvPr/>
          </p:nvSpPr>
          <p:spPr>
            <a:xfrm>
              <a:off x="0" y="0"/>
              <a:ext cx="5650920" cy="192060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矩形 58"/>
            <p:cNvSpPr/>
            <p:nvPr/>
          </p:nvSpPr>
          <p:spPr>
            <a:xfrm>
              <a:off x="5650920" y="0"/>
              <a:ext cx="3493080" cy="571500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矩形 59"/>
            <p:cNvSpPr/>
            <p:nvPr/>
          </p:nvSpPr>
          <p:spPr>
            <a:xfrm>
              <a:off x="0" y="1927080"/>
              <a:ext cx="5650920" cy="37879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Segoe UI"/>
                  <a:ea typeface="Segoe U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"/>
          <p:cNvPicPr/>
          <p:nvPr/>
        </p:nvPicPr>
        <p:blipFill>
          <a:blip r:embed="rId1"/>
          <a:srcRect l="0" t="0" r="27175" b="8967"/>
          <a:stretch/>
        </p:blipFill>
        <p:spPr>
          <a:xfrm>
            <a:off x="2484360" y="4680"/>
            <a:ext cx="6659640" cy="5707080"/>
          </a:xfrm>
          <a:prstGeom prst="rect">
            <a:avLst/>
          </a:prstGeom>
          <a:ln w="0">
            <a:noFill/>
          </a:ln>
        </p:spPr>
      </p:pic>
      <p:sp>
        <p:nvSpPr>
          <p:cNvPr id="824" name="矩形 1"/>
          <p:cNvSpPr/>
          <p:nvPr/>
        </p:nvSpPr>
        <p:spPr>
          <a:xfrm>
            <a:off x="1835280" y="4680"/>
            <a:ext cx="5329080" cy="57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14"/>
          <p:cNvSpPr/>
          <p:nvPr/>
        </p:nvSpPr>
        <p:spPr>
          <a:xfrm>
            <a:off x="501480" y="1057320"/>
            <a:ext cx="4359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Segoe UI"/>
                <a:ea typeface="微软雅黑"/>
              </a:rPr>
              <a:t>强调文字的</a:t>
            </a:r>
            <a:r>
              <a:rPr b="1" lang="zh-CN" sz="3200" spc="-1" strike="noStrike">
                <a:solidFill>
                  <a:srgbClr val="cc0066"/>
                </a:solidFill>
                <a:latin typeface="Segoe UI"/>
                <a:ea typeface="微软雅黑"/>
              </a:rPr>
              <a:t>图文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8"/>
          <p:cNvSpPr/>
          <p:nvPr/>
        </p:nvSpPr>
        <p:spPr>
          <a:xfrm>
            <a:off x="501480" y="1855800"/>
            <a:ext cx="4718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Segoe UI"/>
                <a:ea typeface="微软雅黑"/>
              </a:rPr>
              <a:t>好的配图也需要针对不同的版面进行恰当地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Segoe UI"/>
                <a:ea typeface="微软雅黑"/>
              </a:rPr>
              <a:t>强调的内容占页面的比例</a:t>
            </a:r>
            <a:r>
              <a:rPr b="0" lang="zh-CN" sz="1800" spc="-1" strike="noStrike">
                <a:solidFill>
                  <a:srgbClr val="cc0066"/>
                </a:solidFill>
                <a:latin typeface="Segoe UI"/>
                <a:ea typeface="微软雅黑"/>
              </a:rPr>
              <a:t>接近</a:t>
            </a:r>
            <a:r>
              <a:rPr b="0" lang="en-US" sz="1800" spc="-1" strike="noStrike">
                <a:solidFill>
                  <a:srgbClr val="0c0c0c"/>
                </a:solidFill>
                <a:latin typeface="Segoe UI"/>
                <a:ea typeface="微软雅黑"/>
              </a:rPr>
              <a:t>0.618</a:t>
            </a:r>
            <a:r>
              <a:rPr b="0" lang="zh-CN" sz="1800" spc="-1" strike="noStrike">
                <a:solidFill>
                  <a:srgbClr val="0c0c0c"/>
                </a:solidFill>
                <a:latin typeface="Segoe UI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Segoe UI"/>
                <a:ea typeface="微软雅黑"/>
              </a:rPr>
              <a:t>同样的，图片的裁剪也需要注意黄金分割，保留图片的“亮点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3"/>
          <p:cNvSpPr/>
          <p:nvPr/>
        </p:nvSpPr>
        <p:spPr>
          <a:xfrm>
            <a:off x="588960" y="1812960"/>
            <a:ext cx="3622680" cy="0"/>
          </a:xfrm>
          <a:prstGeom prst="line">
            <a:avLst/>
          </a:prstGeom>
          <a:ln w="32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rcRect l="4336" t="0" r="-140" b="8846"/>
          <a:stretch/>
        </p:blipFill>
        <p:spPr>
          <a:xfrm>
            <a:off x="-22320" y="-11160"/>
            <a:ext cx="9166320" cy="5713560"/>
          </a:xfrm>
          <a:prstGeom prst="rect">
            <a:avLst/>
          </a:prstGeom>
          <a:ln w="0">
            <a:noFill/>
          </a:ln>
        </p:spPr>
      </p:pic>
      <p:sp>
        <p:nvSpPr>
          <p:cNvPr id="829" name="矩形 24"/>
          <p:cNvSpPr/>
          <p:nvPr/>
        </p:nvSpPr>
        <p:spPr>
          <a:xfrm>
            <a:off x="5508720" y="3192480"/>
            <a:ext cx="3490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Segoe UI"/>
                <a:ea typeface="微软雅黑"/>
              </a:rPr>
              <a:t>强调图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Segoe UI"/>
                <a:ea typeface="微软雅黑"/>
              </a:rPr>
              <a:t>图文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28"/>
          <p:cNvSpPr/>
          <p:nvPr/>
        </p:nvSpPr>
        <p:spPr>
          <a:xfrm>
            <a:off x="5867280" y="4346640"/>
            <a:ext cx="2737080" cy="3708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Segoe UI"/>
                <a:ea typeface="微软雅黑"/>
              </a:rPr>
              <a:t>给文字添加区别于图片的颜色框也可以实现突出文字的效果。这种效果我认为更倾向于均衡强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172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179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186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193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49"/>
          <p:cNvGrpSpPr/>
          <p:nvPr/>
        </p:nvGrpSpPr>
        <p:grpSpPr>
          <a:xfrm>
            <a:off x="3692160" y="2022480"/>
            <a:ext cx="1443600" cy="1376280"/>
            <a:chOff x="3692160" y="2022480"/>
            <a:chExt cx="1443600" cy="1376280"/>
          </a:xfrm>
        </p:grpSpPr>
        <p:sp>
          <p:nvSpPr>
            <p:cNvPr id="200" name="任意多边形 3"/>
            <p:cNvSpPr/>
            <p:nvPr/>
          </p:nvSpPr>
          <p:spPr>
            <a:xfrm>
              <a:off x="3693240" y="2025360"/>
              <a:ext cx="1441080" cy="1364400"/>
            </a:xfrm>
            <a:custGeom>
              <a:avLst/>
              <a:gdLst>
                <a:gd name="textAreaLeft" fmla="*/ 0 w 1441080"/>
                <a:gd name="textAreaRight" fmla="*/ 1441440 w 1441080"/>
                <a:gd name="textAreaTop" fmla="*/ 0 h 1364400"/>
                <a:gd name="textAreaBottom" fmla="*/ 1364760 h 1364400"/>
              </a:gdLst>
              <a:ahLst/>
              <a:rect l="textAreaLeft" t="textAreaTop" r="textAreaRight" b="textAreaBottom"/>
              <a:pathLst>
                <a:path w="1440543" h="1364343">
                  <a:moveTo>
                    <a:pt x="718458" y="0"/>
                  </a:moveTo>
                  <a:lnTo>
                    <a:pt x="0" y="522514"/>
                  </a:lnTo>
                  <a:lnTo>
                    <a:pt x="279400" y="1364343"/>
                  </a:lnTo>
                  <a:lnTo>
                    <a:pt x="1161143" y="1364343"/>
                  </a:lnTo>
                  <a:lnTo>
                    <a:pt x="1440543" y="526143"/>
                  </a:lnTo>
                  <a:lnTo>
                    <a:pt x="718458" y="0"/>
                  </a:lnTo>
                  <a:close/>
                </a:path>
              </a:pathLst>
            </a:custGeom>
            <a:noFill/>
            <a:ln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90"/>
            <p:cNvGrpSpPr/>
            <p:nvPr/>
          </p:nvGrpSpPr>
          <p:grpSpPr>
            <a:xfrm>
              <a:off x="3692160" y="2022480"/>
              <a:ext cx="1443600" cy="1376280"/>
              <a:chOff x="3692160" y="2022480"/>
              <a:chExt cx="1443600" cy="1376280"/>
            </a:xfrm>
          </p:grpSpPr>
          <p:grpSp>
            <p:nvGrpSpPr>
              <p:cNvPr id="202" name="组合 91"/>
              <p:cNvGrpSpPr/>
              <p:nvPr/>
            </p:nvGrpSpPr>
            <p:grpSpPr>
              <a:xfrm>
                <a:off x="3692160" y="2552040"/>
                <a:ext cx="1443600" cy="0"/>
                <a:chOff x="3692160" y="2552040"/>
                <a:chExt cx="1443600" cy="0"/>
              </a:xfrm>
            </p:grpSpPr>
            <p:sp>
              <p:nvSpPr>
                <p:cNvPr id="203" name="直接连接符 108"/>
                <p:cNvSpPr/>
                <p:nvPr/>
              </p:nvSpPr>
              <p:spPr>
                <a:xfrm>
                  <a:off x="3692160" y="2552040"/>
                  <a:ext cx="551520" cy="0"/>
                </a:xfrm>
                <a:prstGeom prst="line">
                  <a:avLst/>
                </a:prstGeom>
                <a:ln w="6480">
                  <a:solidFill>
                    <a:srgbClr val="59595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直接连接符 109"/>
                <p:cNvSpPr/>
                <p:nvPr/>
              </p:nvSpPr>
              <p:spPr>
                <a:xfrm>
                  <a:off x="4243680" y="2552040"/>
                  <a:ext cx="892080" cy="0"/>
                </a:xfrm>
                <a:prstGeom prst="line">
                  <a:avLst/>
                </a:prstGeom>
                <a:ln w="6480">
                  <a:solidFill>
                    <a:srgbClr val="cc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直接连接符 110"/>
                <p:cNvSpPr/>
                <p:nvPr/>
              </p:nvSpPr>
              <p:spPr>
                <a:xfrm>
                  <a:off x="4243680" y="2552040"/>
                  <a:ext cx="336240" cy="0"/>
                </a:xfrm>
                <a:prstGeom prst="line">
                  <a:avLst/>
                </a:prstGeom>
                <a:ln w="6480">
                  <a:solidFill>
                    <a:srgbClr val="31859b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组合 92"/>
              <p:cNvGrpSpPr/>
              <p:nvPr/>
            </p:nvGrpSpPr>
            <p:grpSpPr>
              <a:xfrm>
                <a:off x="4411440" y="2025720"/>
                <a:ext cx="446040" cy="1372680"/>
                <a:chOff x="4411440" y="2025720"/>
                <a:chExt cx="446040" cy="1372680"/>
              </a:xfrm>
            </p:grpSpPr>
            <p:sp>
              <p:nvSpPr>
                <p:cNvPr id="207" name="直接连接符 105"/>
                <p:cNvSpPr/>
                <p:nvPr/>
              </p:nvSpPr>
              <p:spPr>
                <a:xfrm>
                  <a:off x="4411440" y="2025720"/>
                  <a:ext cx="170280" cy="524160"/>
                </a:xfrm>
                <a:prstGeom prst="line">
                  <a:avLst/>
                </a:prstGeom>
                <a:ln w="6480">
                  <a:solidFill>
                    <a:srgbClr val="59595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直接连接符 106"/>
                <p:cNvSpPr/>
                <p:nvPr/>
              </p:nvSpPr>
              <p:spPr>
                <a:xfrm>
                  <a:off x="4581720" y="2549880"/>
                  <a:ext cx="275760" cy="848520"/>
                </a:xfrm>
                <a:prstGeom prst="line">
                  <a:avLst/>
                </a:prstGeom>
                <a:ln w="6480">
                  <a:solidFill>
                    <a:srgbClr val="cc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直接连接符 107"/>
                <p:cNvSpPr/>
                <p:nvPr/>
              </p:nvSpPr>
              <p:spPr>
                <a:xfrm>
                  <a:off x="4581720" y="2549880"/>
                  <a:ext cx="103680" cy="319680"/>
                </a:xfrm>
                <a:prstGeom prst="line">
                  <a:avLst/>
                </a:prstGeom>
                <a:ln w="6480">
                  <a:solidFill>
                    <a:srgbClr val="31859b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组合 93"/>
              <p:cNvGrpSpPr/>
              <p:nvPr/>
            </p:nvGrpSpPr>
            <p:grpSpPr>
              <a:xfrm>
                <a:off x="3967920" y="2022480"/>
                <a:ext cx="446040" cy="1372680"/>
                <a:chOff x="3967920" y="2022480"/>
                <a:chExt cx="446040" cy="1372680"/>
              </a:xfrm>
            </p:grpSpPr>
            <p:sp>
              <p:nvSpPr>
                <p:cNvPr id="211" name="直接连接符 102"/>
                <p:cNvSpPr/>
                <p:nvPr/>
              </p:nvSpPr>
              <p:spPr>
                <a:xfrm flipV="1">
                  <a:off x="3967920" y="2871000"/>
                  <a:ext cx="170280" cy="524160"/>
                </a:xfrm>
                <a:prstGeom prst="line">
                  <a:avLst/>
                </a:prstGeom>
                <a:ln w="6480">
                  <a:solidFill>
                    <a:srgbClr val="59595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直接连接符 103"/>
                <p:cNvSpPr/>
                <p:nvPr/>
              </p:nvSpPr>
              <p:spPr>
                <a:xfrm flipV="1">
                  <a:off x="4138200" y="2022480"/>
                  <a:ext cx="275760" cy="848520"/>
                </a:xfrm>
                <a:prstGeom prst="line">
                  <a:avLst/>
                </a:prstGeom>
                <a:ln w="6480">
                  <a:solidFill>
                    <a:srgbClr val="cc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直接连接符 104"/>
                <p:cNvSpPr/>
                <p:nvPr/>
              </p:nvSpPr>
              <p:spPr>
                <a:xfrm flipV="1">
                  <a:off x="4138200" y="2551320"/>
                  <a:ext cx="103680" cy="319680"/>
                </a:xfrm>
                <a:prstGeom prst="line">
                  <a:avLst/>
                </a:prstGeom>
                <a:ln w="6480">
                  <a:solidFill>
                    <a:srgbClr val="31859b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组合 94"/>
              <p:cNvGrpSpPr/>
              <p:nvPr/>
            </p:nvGrpSpPr>
            <p:grpSpPr>
              <a:xfrm>
                <a:off x="3692160" y="2549880"/>
                <a:ext cx="1167840" cy="848880"/>
                <a:chOff x="3692160" y="2549880"/>
                <a:chExt cx="1167840" cy="848880"/>
              </a:xfrm>
            </p:grpSpPr>
            <p:sp>
              <p:nvSpPr>
                <p:cNvPr id="215" name="直接连接符 99"/>
                <p:cNvSpPr/>
                <p:nvPr/>
              </p:nvSpPr>
              <p:spPr>
                <a:xfrm flipH="1" flipV="1">
                  <a:off x="4413960" y="3074400"/>
                  <a:ext cx="446040" cy="324360"/>
                </a:xfrm>
                <a:prstGeom prst="line">
                  <a:avLst/>
                </a:prstGeom>
                <a:ln w="6480">
                  <a:solidFill>
                    <a:srgbClr val="59595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直接连接符 100"/>
                <p:cNvSpPr/>
                <p:nvPr/>
              </p:nvSpPr>
              <p:spPr>
                <a:xfrm flipH="1" flipV="1">
                  <a:off x="3692160" y="2549880"/>
                  <a:ext cx="721800" cy="524520"/>
                </a:xfrm>
                <a:prstGeom prst="line">
                  <a:avLst/>
                </a:prstGeom>
                <a:ln w="6480">
                  <a:solidFill>
                    <a:srgbClr val="cc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101"/>
                <p:cNvSpPr/>
                <p:nvPr/>
              </p:nvSpPr>
              <p:spPr>
                <a:xfrm flipH="1" flipV="1">
                  <a:off x="4141800" y="2876760"/>
                  <a:ext cx="272160" cy="197640"/>
                </a:xfrm>
                <a:prstGeom prst="line">
                  <a:avLst/>
                </a:prstGeom>
                <a:ln w="6480">
                  <a:solidFill>
                    <a:srgbClr val="31859b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组合 95"/>
              <p:cNvGrpSpPr/>
              <p:nvPr/>
            </p:nvGrpSpPr>
            <p:grpSpPr>
              <a:xfrm>
                <a:off x="3967920" y="2547000"/>
                <a:ext cx="1167840" cy="848880"/>
                <a:chOff x="3967920" y="2547000"/>
                <a:chExt cx="1167840" cy="848880"/>
              </a:xfrm>
            </p:grpSpPr>
            <p:sp>
              <p:nvSpPr>
                <p:cNvPr id="219" name="直接连接符 96"/>
                <p:cNvSpPr/>
                <p:nvPr/>
              </p:nvSpPr>
              <p:spPr>
                <a:xfrm flipH="1">
                  <a:off x="4689720" y="2547000"/>
                  <a:ext cx="446040" cy="324360"/>
                </a:xfrm>
                <a:prstGeom prst="line">
                  <a:avLst/>
                </a:prstGeom>
                <a:ln w="6480">
                  <a:solidFill>
                    <a:srgbClr val="59595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直接连接符 97"/>
                <p:cNvSpPr/>
                <p:nvPr/>
              </p:nvSpPr>
              <p:spPr>
                <a:xfrm flipH="1">
                  <a:off x="3967920" y="2871360"/>
                  <a:ext cx="721800" cy="524520"/>
                </a:xfrm>
                <a:prstGeom prst="line">
                  <a:avLst/>
                </a:prstGeom>
                <a:ln w="6480">
                  <a:solidFill>
                    <a:srgbClr val="cc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直接连接符 98"/>
                <p:cNvSpPr/>
                <p:nvPr/>
              </p:nvSpPr>
              <p:spPr>
                <a:xfrm flipH="1">
                  <a:off x="4417560" y="2871360"/>
                  <a:ext cx="272160" cy="197640"/>
                </a:xfrm>
                <a:prstGeom prst="line">
                  <a:avLst/>
                </a:prstGeom>
                <a:ln w="6480">
                  <a:solidFill>
                    <a:srgbClr val="31859b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9120" y="5364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Segoe UI"/>
              </a:rPr>
              <a:t>黄金分割</a:t>
            </a:r>
            <a:r>
              <a:rPr b="1" lang="zh-CN" sz="3600" spc="-1" strike="noStrike">
                <a:solidFill>
                  <a:srgbClr val="cccc00"/>
                </a:solidFill>
                <a:latin typeface="Segoe UI"/>
              </a:rPr>
              <a:t>三角形</a:t>
            </a:r>
            <a:endParaRPr b="1" lang="en-US" sz="3600" spc="-1" strike="noStrike">
              <a:solidFill>
                <a:srgbClr val="595959"/>
              </a:solidFill>
              <a:latin typeface="Segoe UI"/>
            </a:endParaRPr>
          </a:p>
        </p:txBody>
      </p:sp>
      <p:grpSp>
        <p:nvGrpSpPr>
          <p:cNvPr id="223" name="组合 24"/>
          <p:cNvGrpSpPr/>
          <p:nvPr/>
        </p:nvGrpSpPr>
        <p:grpSpPr>
          <a:xfrm>
            <a:off x="1476360" y="3870360"/>
            <a:ext cx="6191280" cy="1003320"/>
            <a:chOff x="1476360" y="3870360"/>
            <a:chExt cx="6191280" cy="1003320"/>
          </a:xfrm>
        </p:grpSpPr>
        <p:sp>
          <p:nvSpPr>
            <p:cNvPr id="224" name="圆角矩形 43"/>
            <p:cNvSpPr/>
            <p:nvPr/>
          </p:nvSpPr>
          <p:spPr>
            <a:xfrm>
              <a:off x="1476360" y="3870360"/>
              <a:ext cx="6191280" cy="10033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42"/>
            <p:cNvSpPr/>
            <p:nvPr/>
          </p:nvSpPr>
          <p:spPr>
            <a:xfrm>
              <a:off x="1603800" y="4009680"/>
              <a:ext cx="5936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Segoe UI"/>
                  <a:ea typeface="微软雅黑"/>
                </a:rPr>
                <a:t>利用线段上的两个黄金分割点，可以作出黄金分割三角形、正五角星、正五边形等。其中的三角形都是黄金分割三角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6"/>
          <p:cNvGrpSpPr/>
          <p:nvPr/>
        </p:nvGrpSpPr>
        <p:grpSpPr>
          <a:xfrm>
            <a:off x="1541160" y="2022480"/>
            <a:ext cx="1443600" cy="1376280"/>
            <a:chOff x="1541160" y="2022480"/>
            <a:chExt cx="1443600" cy="1376280"/>
          </a:xfrm>
        </p:grpSpPr>
        <p:grpSp>
          <p:nvGrpSpPr>
            <p:cNvPr id="227" name="组合 51"/>
            <p:cNvGrpSpPr/>
            <p:nvPr/>
          </p:nvGrpSpPr>
          <p:grpSpPr>
            <a:xfrm>
              <a:off x="1541160" y="2552040"/>
              <a:ext cx="1443600" cy="0"/>
              <a:chOff x="1541160" y="2552040"/>
              <a:chExt cx="1443600" cy="0"/>
            </a:xfrm>
          </p:grpSpPr>
          <p:sp>
            <p:nvSpPr>
              <p:cNvPr id="228" name="直接连接符 44"/>
              <p:cNvSpPr/>
              <p:nvPr/>
            </p:nvSpPr>
            <p:spPr>
              <a:xfrm>
                <a:off x="1541160" y="2552040"/>
                <a:ext cx="551520" cy="0"/>
              </a:xfrm>
              <a:prstGeom prst="line">
                <a:avLst/>
              </a:prstGeom>
              <a:ln w="64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45"/>
              <p:cNvSpPr/>
              <p:nvPr/>
            </p:nvSpPr>
            <p:spPr>
              <a:xfrm>
                <a:off x="2092680" y="2552040"/>
                <a:ext cx="892080" cy="0"/>
              </a:xfrm>
              <a:prstGeom prst="line">
                <a:avLst/>
              </a:prstGeom>
              <a:ln w="648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38"/>
              <p:cNvSpPr/>
              <p:nvPr/>
            </p:nvSpPr>
            <p:spPr>
              <a:xfrm>
                <a:off x="2092680" y="2552040"/>
                <a:ext cx="336240" cy="0"/>
              </a:xfrm>
              <a:prstGeom prst="line">
                <a:avLst/>
              </a:prstGeom>
              <a:ln w="648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52"/>
            <p:cNvGrpSpPr/>
            <p:nvPr/>
          </p:nvGrpSpPr>
          <p:grpSpPr>
            <a:xfrm>
              <a:off x="2260440" y="2025720"/>
              <a:ext cx="446040" cy="1372680"/>
              <a:chOff x="2260440" y="2025720"/>
              <a:chExt cx="446040" cy="1372680"/>
            </a:xfrm>
          </p:grpSpPr>
          <p:sp>
            <p:nvSpPr>
              <p:cNvPr id="232" name="直接连接符 53"/>
              <p:cNvSpPr/>
              <p:nvPr/>
            </p:nvSpPr>
            <p:spPr>
              <a:xfrm>
                <a:off x="2260440" y="2025720"/>
                <a:ext cx="170280" cy="524160"/>
              </a:xfrm>
              <a:prstGeom prst="line">
                <a:avLst/>
              </a:prstGeom>
              <a:ln w="64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54"/>
              <p:cNvSpPr/>
              <p:nvPr/>
            </p:nvSpPr>
            <p:spPr>
              <a:xfrm>
                <a:off x="2430720" y="2549880"/>
                <a:ext cx="275760" cy="848520"/>
              </a:xfrm>
              <a:prstGeom prst="line">
                <a:avLst/>
              </a:prstGeom>
              <a:ln w="648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55"/>
              <p:cNvSpPr/>
              <p:nvPr/>
            </p:nvSpPr>
            <p:spPr>
              <a:xfrm>
                <a:off x="2430720" y="2549880"/>
                <a:ext cx="103680" cy="319680"/>
              </a:xfrm>
              <a:prstGeom prst="line">
                <a:avLst/>
              </a:prstGeom>
              <a:ln w="648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56"/>
            <p:cNvGrpSpPr/>
            <p:nvPr/>
          </p:nvGrpSpPr>
          <p:grpSpPr>
            <a:xfrm>
              <a:off x="1816920" y="2022480"/>
              <a:ext cx="446040" cy="1372680"/>
              <a:chOff x="1816920" y="2022480"/>
              <a:chExt cx="446040" cy="1372680"/>
            </a:xfrm>
          </p:grpSpPr>
          <p:sp>
            <p:nvSpPr>
              <p:cNvPr id="236" name="直接连接符 57"/>
              <p:cNvSpPr/>
              <p:nvPr/>
            </p:nvSpPr>
            <p:spPr>
              <a:xfrm flipV="1">
                <a:off x="1816920" y="2871000"/>
                <a:ext cx="170280" cy="524160"/>
              </a:xfrm>
              <a:prstGeom prst="line">
                <a:avLst/>
              </a:prstGeom>
              <a:ln w="64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58"/>
              <p:cNvSpPr/>
              <p:nvPr/>
            </p:nvSpPr>
            <p:spPr>
              <a:xfrm flipV="1">
                <a:off x="1987200" y="2022480"/>
                <a:ext cx="275760" cy="848520"/>
              </a:xfrm>
              <a:prstGeom prst="line">
                <a:avLst/>
              </a:prstGeom>
              <a:ln w="648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59"/>
              <p:cNvSpPr/>
              <p:nvPr/>
            </p:nvSpPr>
            <p:spPr>
              <a:xfrm flipV="1">
                <a:off x="1987200" y="2551320"/>
                <a:ext cx="103680" cy="319680"/>
              </a:xfrm>
              <a:prstGeom prst="line">
                <a:avLst/>
              </a:prstGeom>
              <a:ln w="648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组合 60"/>
            <p:cNvGrpSpPr/>
            <p:nvPr/>
          </p:nvGrpSpPr>
          <p:grpSpPr>
            <a:xfrm>
              <a:off x="1541160" y="2549880"/>
              <a:ext cx="1167840" cy="848880"/>
              <a:chOff x="1541160" y="2549880"/>
              <a:chExt cx="1167840" cy="848880"/>
            </a:xfrm>
          </p:grpSpPr>
          <p:sp>
            <p:nvSpPr>
              <p:cNvPr id="240" name="直接连接符 62"/>
              <p:cNvSpPr/>
              <p:nvPr/>
            </p:nvSpPr>
            <p:spPr>
              <a:xfrm flipH="1" flipV="1">
                <a:off x="2262960" y="3074400"/>
                <a:ext cx="446040" cy="324360"/>
              </a:xfrm>
              <a:prstGeom prst="line">
                <a:avLst/>
              </a:prstGeom>
              <a:ln w="64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63"/>
              <p:cNvSpPr/>
              <p:nvPr/>
            </p:nvSpPr>
            <p:spPr>
              <a:xfrm flipH="1" flipV="1">
                <a:off x="1541160" y="2549880"/>
                <a:ext cx="721800" cy="524520"/>
              </a:xfrm>
              <a:prstGeom prst="line">
                <a:avLst/>
              </a:prstGeom>
              <a:ln w="648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64"/>
              <p:cNvSpPr/>
              <p:nvPr/>
            </p:nvSpPr>
            <p:spPr>
              <a:xfrm flipH="1" flipV="1">
                <a:off x="1990800" y="2876760"/>
                <a:ext cx="272160" cy="197640"/>
              </a:xfrm>
              <a:prstGeom prst="line">
                <a:avLst/>
              </a:prstGeom>
              <a:ln w="648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组合 65"/>
            <p:cNvGrpSpPr/>
            <p:nvPr/>
          </p:nvGrpSpPr>
          <p:grpSpPr>
            <a:xfrm>
              <a:off x="1816920" y="2547000"/>
              <a:ext cx="1167840" cy="848880"/>
              <a:chOff x="1816920" y="2547000"/>
              <a:chExt cx="1167840" cy="848880"/>
            </a:xfrm>
          </p:grpSpPr>
          <p:sp>
            <p:nvSpPr>
              <p:cNvPr id="244" name="直接连接符 66"/>
              <p:cNvSpPr/>
              <p:nvPr/>
            </p:nvSpPr>
            <p:spPr>
              <a:xfrm flipH="1">
                <a:off x="2538720" y="2547000"/>
                <a:ext cx="446040" cy="324360"/>
              </a:xfrm>
              <a:prstGeom prst="line">
                <a:avLst/>
              </a:prstGeom>
              <a:ln w="64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67"/>
              <p:cNvSpPr/>
              <p:nvPr/>
            </p:nvSpPr>
            <p:spPr>
              <a:xfrm flipH="1">
                <a:off x="1816920" y="2871360"/>
                <a:ext cx="721800" cy="524520"/>
              </a:xfrm>
              <a:prstGeom prst="line">
                <a:avLst/>
              </a:prstGeom>
              <a:ln w="648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68"/>
              <p:cNvSpPr/>
              <p:nvPr/>
            </p:nvSpPr>
            <p:spPr>
              <a:xfrm flipH="1">
                <a:off x="2266560" y="2871360"/>
                <a:ext cx="272160" cy="197640"/>
              </a:xfrm>
              <a:prstGeom prst="line">
                <a:avLst/>
              </a:prstGeom>
              <a:ln w="648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组合 23"/>
          <p:cNvGrpSpPr/>
          <p:nvPr/>
        </p:nvGrpSpPr>
        <p:grpSpPr>
          <a:xfrm>
            <a:off x="5851440" y="2209680"/>
            <a:ext cx="1800360" cy="1036800"/>
            <a:chOff x="5851440" y="2209680"/>
            <a:chExt cx="1800360" cy="1036800"/>
          </a:xfrm>
        </p:grpSpPr>
        <p:sp>
          <p:nvSpPr>
            <p:cNvPr id="248" name="任意多边形 134"/>
            <p:cNvSpPr/>
            <p:nvPr/>
          </p:nvSpPr>
          <p:spPr>
            <a:xfrm>
              <a:off x="5851440" y="2209680"/>
              <a:ext cx="672120" cy="103680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341832" h="526991">
                  <a:moveTo>
                    <a:pt x="0" y="526991"/>
                  </a:moveTo>
                  <a:lnTo>
                    <a:pt x="170916" y="0"/>
                  </a:lnTo>
                  <a:lnTo>
                    <a:pt x="341832" y="526991"/>
                  </a:lnTo>
                  <a:lnTo>
                    <a:pt x="0" y="526991"/>
                  </a:lnTo>
                  <a:close/>
                </a:path>
              </a:pathLst>
            </a:custGeom>
            <a:noFill/>
            <a:ln w="32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135"/>
            <p:cNvSpPr/>
            <p:nvPr/>
          </p:nvSpPr>
          <p:spPr>
            <a:xfrm>
              <a:off x="6223680" y="2209680"/>
              <a:ext cx="1428120" cy="1036800"/>
            </a:xfrm>
            <a:custGeom>
              <a:avLst/>
              <a:gdLst>
                <a:gd name="textAreaLeft" fmla="*/ 0 w 1428120"/>
                <a:gd name="textAreaRight" fmla="*/ 1428480 w 142812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726393" h="526991">
                  <a:moveTo>
                    <a:pt x="726393" y="526991"/>
                  </a:moveTo>
                  <a:lnTo>
                    <a:pt x="0" y="0"/>
                  </a:lnTo>
                  <a:lnTo>
                    <a:pt x="170916" y="526991"/>
                  </a:lnTo>
                  <a:lnTo>
                    <a:pt x="726393" y="526991"/>
                  </a:lnTo>
                  <a:close/>
                </a:path>
              </a:pathLst>
            </a:custGeom>
            <a:noFill/>
            <a:ln w="32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2" descr=""/>
          <p:cNvPicPr/>
          <p:nvPr/>
        </p:nvPicPr>
        <p:blipFill>
          <a:blip r:embed="rId3"/>
          <a:stretch/>
        </p:blipFill>
        <p:spPr>
          <a:xfrm>
            <a:off x="1541520" y="2502000"/>
            <a:ext cx="1439640" cy="6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矩形 12"/>
          <p:cNvSpPr/>
          <p:nvPr/>
        </p:nvSpPr>
        <p:spPr>
          <a:xfrm>
            <a:off x="750960" y="-6480"/>
            <a:ext cx="7643880" cy="57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4"/>
          <p:cNvSpPr/>
          <p:nvPr/>
        </p:nvSpPr>
        <p:spPr>
          <a:xfrm>
            <a:off x="1042920" y="1417680"/>
            <a:ext cx="28130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6c09"/>
                </a:solidFill>
                <a:latin typeface="Segoe UI"/>
                <a:ea typeface="微软雅黑"/>
              </a:rPr>
              <a:t>4</a:t>
            </a:r>
            <a:r>
              <a:rPr b="1" lang="zh-CN" sz="4400" spc="-1" strike="noStrike">
                <a:solidFill>
                  <a:srgbClr val="e36c09"/>
                </a:solidFill>
                <a:latin typeface="Segoe UI"/>
                <a:ea typeface="微软雅黑"/>
              </a:rPr>
              <a:t>：</a:t>
            </a:r>
            <a:r>
              <a:rPr b="1" lang="en-US" sz="4400" spc="-1" strike="noStrike">
                <a:solidFill>
                  <a:srgbClr val="e36c09"/>
                </a:solidFill>
                <a:latin typeface="Segoe UI"/>
                <a:ea typeface="微软雅黑"/>
              </a:rPr>
              <a:t>3 </a:t>
            </a:r>
            <a:r>
              <a:rPr b="1" lang="zh-CN" sz="2000" spc="-1" strike="noStrike">
                <a:solidFill>
                  <a:srgbClr val="7f7f7f"/>
                </a:solidFill>
                <a:latin typeface="Segoe UI"/>
                <a:ea typeface="微软雅黑"/>
              </a:rPr>
              <a:t>幻灯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5"/>
          <p:cNvSpPr/>
          <p:nvPr/>
        </p:nvSpPr>
        <p:spPr>
          <a:xfrm>
            <a:off x="1042920" y="2222640"/>
            <a:ext cx="38894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Segoe UI"/>
                <a:ea typeface="微软雅黑"/>
              </a:rPr>
              <a:t>推荐</a:t>
            </a:r>
            <a:r>
              <a:rPr b="1" lang="zh-CN" sz="1800" spc="-1" strike="noStrike">
                <a:solidFill>
                  <a:srgbClr val="e36c09"/>
                </a:solidFill>
                <a:latin typeface="Segoe UI"/>
                <a:ea typeface="微软雅黑"/>
              </a:rPr>
              <a:t>主体内容</a:t>
            </a:r>
            <a:r>
              <a:rPr b="1" lang="zh-CN" sz="1800" spc="-1" strike="noStrike">
                <a:solidFill>
                  <a:srgbClr val="7f7f7f"/>
                </a:solidFill>
                <a:latin typeface="Segoe UI"/>
                <a:ea typeface="微软雅黑"/>
              </a:rPr>
              <a:t>在黄金矩形范围内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Segoe UI"/>
                <a:ea typeface="微软雅黑"/>
              </a:rPr>
              <a:t>范围之外可用</a:t>
            </a:r>
            <a:r>
              <a:rPr b="1" lang="zh-CN" sz="1800" spc="-1" strike="noStrike">
                <a:solidFill>
                  <a:srgbClr val="e36c09"/>
                </a:solidFill>
                <a:latin typeface="Segoe UI"/>
                <a:ea typeface="微软雅黑"/>
              </a:rPr>
              <a:t>修饰性元素</a:t>
            </a:r>
            <a:r>
              <a:rPr b="1" lang="zh-CN" sz="1800" spc="-1" strike="noStrike">
                <a:solidFill>
                  <a:srgbClr val="7f7f7f"/>
                </a:solidFill>
                <a:latin typeface="Segoe UI"/>
                <a:ea typeface="微软雅黑"/>
              </a:rPr>
              <a:t>补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00000"/>
                </a:solidFill>
                <a:latin typeface="Segoe UI"/>
                <a:ea typeface="微软雅黑"/>
              </a:rPr>
              <a:t>例如标题、页脚、</a:t>
            </a:r>
            <a:r>
              <a:rPr b="1" lang="en-US" sz="1200" spc="-1" strike="noStrike">
                <a:solidFill>
                  <a:srgbClr val="c00000"/>
                </a:solidFill>
                <a:latin typeface="Segoe UI"/>
                <a:ea typeface="微软雅黑"/>
              </a:rPr>
              <a:t>logo</a:t>
            </a:r>
            <a:r>
              <a:rPr b="1" lang="zh-CN" sz="1200" spc="-1" strike="noStrike">
                <a:solidFill>
                  <a:srgbClr val="c00000"/>
                </a:solidFill>
                <a:latin typeface="Segoe UI"/>
                <a:ea typeface="微软雅黑"/>
              </a:rPr>
              <a:t>、留白、主体背景延伸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Segoe UI"/>
                <a:ea typeface="微软雅黑"/>
              </a:rPr>
              <a:t>而对于</a:t>
            </a:r>
            <a:r>
              <a:rPr b="0" lang="en-US" sz="1200" spc="-1" strike="noStrike">
                <a:solidFill>
                  <a:srgbClr val="7f7f7f"/>
                </a:solidFill>
                <a:latin typeface="Segoe UI"/>
                <a:ea typeface="微软雅黑"/>
              </a:rPr>
              <a:t>16</a:t>
            </a:r>
            <a:r>
              <a:rPr b="0" lang="zh-CN" sz="1200" spc="-1" strike="noStrike">
                <a:solidFill>
                  <a:srgbClr val="7f7f7f"/>
                </a:solidFill>
                <a:latin typeface="Segoe UI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7f7f7f"/>
                </a:solidFill>
                <a:latin typeface="Segoe UI"/>
                <a:ea typeface="微软雅黑"/>
              </a:rPr>
              <a:t>9</a:t>
            </a:r>
            <a:r>
              <a:rPr b="0" lang="zh-CN" sz="1200" spc="-1" strike="noStrike">
                <a:solidFill>
                  <a:srgbClr val="7f7f7f"/>
                </a:solidFill>
                <a:latin typeface="Segoe UI"/>
                <a:ea typeface="微软雅黑"/>
              </a:rPr>
              <a:t>或者</a:t>
            </a:r>
            <a:r>
              <a:rPr b="0" lang="en-US" sz="1200" spc="-1" strike="noStrike">
                <a:solidFill>
                  <a:srgbClr val="7f7f7f"/>
                </a:solidFill>
                <a:latin typeface="Segoe UI"/>
                <a:ea typeface="微软雅黑"/>
              </a:rPr>
              <a:t>16</a:t>
            </a:r>
            <a:r>
              <a:rPr b="0" lang="zh-CN" sz="1200" spc="-1" strike="noStrike">
                <a:solidFill>
                  <a:srgbClr val="7f7f7f"/>
                </a:solidFill>
                <a:latin typeface="Segoe UI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7f7f7f"/>
                </a:solidFill>
                <a:latin typeface="Segoe UI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7f7f7f"/>
                </a:solidFill>
                <a:latin typeface="Segoe UI"/>
                <a:ea typeface="微软雅黑"/>
              </a:rPr>
              <a:t>这样的宽屏来讲，本身比例接近黄金比例，横版标题部分简洁处理，让正文有更宽阔的空间会比较好。否则会显得整体页面拉长。这是经验之谈，仅供参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16"/>
          <p:cNvSpPr/>
          <p:nvPr/>
        </p:nvSpPr>
        <p:spPr>
          <a:xfrm>
            <a:off x="758880" y="0"/>
            <a:ext cx="7643880" cy="49536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17"/>
          <p:cNvSpPr/>
          <p:nvPr/>
        </p:nvSpPr>
        <p:spPr>
          <a:xfrm>
            <a:off x="758880" y="5226120"/>
            <a:ext cx="7643880" cy="4888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组合 2"/>
          <p:cNvGrpSpPr/>
          <p:nvPr/>
        </p:nvGrpSpPr>
        <p:grpSpPr>
          <a:xfrm>
            <a:off x="750960" y="495000"/>
            <a:ext cx="7642080" cy="4724280"/>
            <a:chOff x="750960" y="495000"/>
            <a:chExt cx="7642080" cy="4724280"/>
          </a:xfrm>
        </p:grpSpPr>
        <p:sp>
          <p:nvSpPr>
            <p:cNvPr id="837" name="矩形 4"/>
            <p:cNvSpPr/>
            <p:nvPr/>
          </p:nvSpPr>
          <p:spPr>
            <a:xfrm rot="10800000">
              <a:off x="5474160" y="2299680"/>
              <a:ext cx="2918880" cy="2919240"/>
            </a:xfrm>
            <a:prstGeom prst="rect">
              <a:avLst/>
            </a:prstGeom>
            <a:noFill/>
            <a:ln w="32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矩形 5"/>
            <p:cNvSpPr/>
            <p:nvPr/>
          </p:nvSpPr>
          <p:spPr>
            <a:xfrm rot="10800000">
              <a:off x="750960" y="495000"/>
              <a:ext cx="4723200" cy="4724280"/>
            </a:xfrm>
            <a:prstGeom prst="rect">
              <a:avLst/>
            </a:prstGeom>
            <a:noFill/>
            <a:ln w="32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矩形 6"/>
            <p:cNvSpPr/>
            <p:nvPr/>
          </p:nvSpPr>
          <p:spPr>
            <a:xfrm rot="10800000">
              <a:off x="6588720" y="495000"/>
              <a:ext cx="1804320" cy="1804320"/>
            </a:xfrm>
            <a:prstGeom prst="rect">
              <a:avLst/>
            </a:prstGeom>
            <a:noFill/>
            <a:ln w="32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矩形 7"/>
            <p:cNvSpPr/>
            <p:nvPr/>
          </p:nvSpPr>
          <p:spPr>
            <a:xfrm rot="10800000">
              <a:off x="5474520" y="495000"/>
              <a:ext cx="1114560" cy="1114560"/>
            </a:xfrm>
            <a:prstGeom prst="rect">
              <a:avLst/>
            </a:prstGeom>
            <a:noFill/>
            <a:ln w="32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矩形 8"/>
            <p:cNvSpPr/>
            <p:nvPr/>
          </p:nvSpPr>
          <p:spPr>
            <a:xfrm rot="10800000">
              <a:off x="5474520" y="1609920"/>
              <a:ext cx="689400" cy="689400"/>
            </a:xfrm>
            <a:prstGeom prst="rect">
              <a:avLst/>
            </a:prstGeom>
            <a:noFill/>
            <a:ln w="32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矩形 9"/>
            <p:cNvSpPr/>
            <p:nvPr/>
          </p:nvSpPr>
          <p:spPr>
            <a:xfrm rot="10800000">
              <a:off x="6163920" y="1874880"/>
              <a:ext cx="424800" cy="425160"/>
            </a:xfrm>
            <a:prstGeom prst="rect">
              <a:avLst/>
            </a:prstGeom>
            <a:noFill/>
            <a:ln w="32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矩形 10"/>
            <p:cNvSpPr/>
            <p:nvPr/>
          </p:nvSpPr>
          <p:spPr>
            <a:xfrm rot="10800000">
              <a:off x="6324480" y="1609920"/>
              <a:ext cx="264240" cy="264240"/>
            </a:xfrm>
            <a:prstGeom prst="rect">
              <a:avLst/>
            </a:prstGeom>
            <a:noFill/>
            <a:ln w="32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11"/>
            <p:cNvSpPr/>
            <p:nvPr/>
          </p:nvSpPr>
          <p:spPr>
            <a:xfrm rot="10800000">
              <a:off x="6163560" y="1609920"/>
              <a:ext cx="160560" cy="160560"/>
            </a:xfrm>
            <a:prstGeom prst="rect">
              <a:avLst/>
            </a:prstGeom>
            <a:noFill/>
            <a:ln w="32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846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853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860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867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矩形 1"/>
          <p:cNvSpPr/>
          <p:nvPr/>
        </p:nvSpPr>
        <p:spPr>
          <a:xfrm>
            <a:off x="2044800" y="114480"/>
            <a:ext cx="5048280" cy="5119560"/>
          </a:xfrm>
          <a:prstGeom prst="rect">
            <a:avLst/>
          </a:prstGeom>
          <a:blipFill rotWithShape="0">
            <a:blip r:embed="rId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18760" y="536400"/>
            <a:ext cx="8085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Segoe UI"/>
              </a:rPr>
              <a:t>结 语</a:t>
            </a:r>
            <a:endParaRPr b="1" lang="en-US" sz="28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539280" y="1488600"/>
            <a:ext cx="7921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e36c0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黄金分割对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设计有重要的借鉴意义，无论是模板、自由版式、图片、文字，还是表格等都可以从中受益很多。本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只谈了其简单运用。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e36c0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在设计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时，黄金比例有一个允许变化的幅度，刻意去追求完美的黄金分割，反而可能弄巧成拙。我们只要记住两点就够了：</a:t>
            </a:r>
            <a:r>
              <a:rPr b="0" lang="en-US" sz="1800" spc="-1" strike="noStrike">
                <a:solidFill>
                  <a:srgbClr val="c00000"/>
                </a:solidFill>
                <a:latin typeface="Segoe UI"/>
              </a:rPr>
              <a:t>1.</a:t>
            </a:r>
            <a:r>
              <a:rPr b="0" lang="zh-CN" sz="1800" spc="-1" strike="noStrike">
                <a:solidFill>
                  <a:srgbClr val="c00000"/>
                </a:solidFill>
                <a:latin typeface="Segoe UI"/>
              </a:rPr>
              <a:t>突出强调；</a:t>
            </a:r>
            <a:r>
              <a:rPr b="0" lang="en-US" sz="1800" spc="-1" strike="noStrike">
                <a:solidFill>
                  <a:srgbClr val="cc0066"/>
                </a:solidFill>
                <a:latin typeface="Segoe UI"/>
              </a:rPr>
              <a:t>2.</a:t>
            </a:r>
            <a:r>
              <a:rPr b="0" lang="zh-CN" sz="1800" spc="-1" strike="noStrike">
                <a:solidFill>
                  <a:srgbClr val="cc0066"/>
                </a:solidFill>
                <a:latin typeface="Segoe UI"/>
              </a:rPr>
              <a:t>看起来舒服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。做到这两点，其实已经无意中运用了黄金分割。当然我更推荐大家有意识地去运用黄金分割，让设计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更有效率。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252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259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266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273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4"/>
          <p:cNvGrpSpPr/>
          <p:nvPr/>
        </p:nvGrpSpPr>
        <p:grpSpPr>
          <a:xfrm>
            <a:off x="2317680" y="3870360"/>
            <a:ext cx="4508640" cy="657360"/>
            <a:chOff x="2317680" y="3870360"/>
            <a:chExt cx="4508640" cy="657360"/>
          </a:xfrm>
        </p:grpSpPr>
        <p:sp>
          <p:nvSpPr>
            <p:cNvPr id="280" name="圆角矩形 43"/>
            <p:cNvSpPr/>
            <p:nvPr/>
          </p:nvSpPr>
          <p:spPr>
            <a:xfrm>
              <a:off x="2317680" y="3870360"/>
              <a:ext cx="4508640" cy="657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42"/>
            <p:cNvSpPr/>
            <p:nvPr/>
          </p:nvSpPr>
          <p:spPr>
            <a:xfrm>
              <a:off x="2483280" y="4001400"/>
              <a:ext cx="42044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Segoe UI"/>
                  <a:ea typeface="微软雅黑"/>
                </a:rPr>
                <a:t>正五角星与默认五角星哪个看起来更舒服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五角星 145"/>
          <p:cNvSpPr/>
          <p:nvPr/>
        </p:nvSpPr>
        <p:spPr>
          <a:xfrm>
            <a:off x="4937040" y="1717560"/>
            <a:ext cx="1371600" cy="1371600"/>
          </a:xfrm>
          <a:custGeom>
            <a:avLst/>
            <a:gdLst/>
            <a:ahLst/>
            <a:rect l="l" t="t" r="r" b="b"/>
            <a:pathLst>
              <a:path w="1371600" h="1371600">
                <a:moveTo>
                  <a:pt x="1" y="523903"/>
                </a:moveTo>
                <a:lnTo>
                  <a:pt x="523907" y="523907"/>
                </a:lnTo>
                <a:lnTo>
                  <a:pt x="685800" y="0"/>
                </a:lnTo>
                <a:lnTo>
                  <a:pt x="847693" y="523907"/>
                </a:lnTo>
                <a:lnTo>
                  <a:pt x="1371599" y="523903"/>
                </a:lnTo>
                <a:lnTo>
                  <a:pt x="947748" y="847692"/>
                </a:lnTo>
                <a:lnTo>
                  <a:pt x="1109647" y="1371597"/>
                </a:lnTo>
                <a:lnTo>
                  <a:pt x="685800" y="1047802"/>
                </a:lnTo>
                <a:lnTo>
                  <a:pt x="261953" y="1371597"/>
                </a:lnTo>
                <a:lnTo>
                  <a:pt x="423852" y="847692"/>
                </a:lnTo>
                <a:lnTo>
                  <a:pt x="1" y="523903"/>
                </a:lnTo>
                <a:close/>
              </a:path>
            </a:pathLst>
          </a:custGeom>
          <a:noFill/>
          <a:ln w="2556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任意多边形 69"/>
          <p:cNvSpPr/>
          <p:nvPr/>
        </p:nvSpPr>
        <p:spPr>
          <a:xfrm>
            <a:off x="2849400" y="1717560"/>
            <a:ext cx="1428840" cy="137160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429656" h="1370664">
                <a:moveTo>
                  <a:pt x="0" y="526728"/>
                </a:moveTo>
                <a:lnTo>
                  <a:pt x="549045" y="526728"/>
                </a:lnTo>
                <a:lnTo>
                  <a:pt x="719393" y="0"/>
                </a:lnTo>
                <a:lnTo>
                  <a:pt x="894579" y="530942"/>
                </a:lnTo>
                <a:lnTo>
                  <a:pt x="1429656" y="530942"/>
                </a:lnTo>
                <a:lnTo>
                  <a:pt x="992667" y="848150"/>
                </a:lnTo>
                <a:lnTo>
                  <a:pt x="1161220" y="1370664"/>
                </a:lnTo>
                <a:lnTo>
                  <a:pt x="710341" y="1055875"/>
                </a:lnTo>
                <a:lnTo>
                  <a:pt x="274600" y="1370041"/>
                </a:lnTo>
                <a:lnTo>
                  <a:pt x="444870" y="849398"/>
                </a:lnTo>
                <a:lnTo>
                  <a:pt x="0" y="526728"/>
                </a:lnTo>
                <a:close/>
              </a:path>
            </a:pathLst>
          </a:custGeom>
          <a:noFill/>
          <a:ln w="2556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"/>
          <p:cNvSpPr/>
          <p:nvPr/>
        </p:nvSpPr>
        <p:spPr>
          <a:xfrm>
            <a:off x="3259440" y="3146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Segoe UI"/>
                <a:ea typeface="微软雅黑"/>
              </a:rPr>
              <a:t>正五角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71"/>
          <p:cNvSpPr/>
          <p:nvPr/>
        </p:nvSpPr>
        <p:spPr>
          <a:xfrm>
            <a:off x="5258520" y="3146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Segoe UI"/>
                <a:ea typeface="微软雅黑"/>
              </a:rPr>
              <a:t>默认五角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287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294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301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308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2"/>
          <p:cNvGrpSpPr/>
          <p:nvPr/>
        </p:nvGrpSpPr>
        <p:grpSpPr>
          <a:xfrm>
            <a:off x="2411280" y="1562040"/>
            <a:ext cx="4465800" cy="2760840"/>
            <a:chOff x="2411280" y="1562040"/>
            <a:chExt cx="4465800" cy="2760840"/>
          </a:xfrm>
        </p:grpSpPr>
        <p:sp>
          <p:nvSpPr>
            <p:cNvPr id="315" name="直接连接符 17"/>
            <p:cNvSpPr/>
            <p:nvPr/>
          </p:nvSpPr>
          <p:spPr>
            <a:xfrm>
              <a:off x="2411280" y="4321080"/>
              <a:ext cx="446544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18"/>
            <p:cNvSpPr/>
            <p:nvPr/>
          </p:nvSpPr>
          <p:spPr>
            <a:xfrm>
              <a:off x="6877080" y="1562040"/>
              <a:ext cx="0" cy="2760840"/>
            </a:xfrm>
            <a:prstGeom prst="line">
              <a:avLst/>
            </a:prstGeom>
            <a:ln w="223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21"/>
            <p:cNvSpPr/>
            <p:nvPr/>
          </p:nvSpPr>
          <p:spPr>
            <a:xfrm>
              <a:off x="2411640" y="1562040"/>
              <a:ext cx="4465440" cy="0"/>
            </a:xfrm>
            <a:prstGeom prst="line">
              <a:avLst/>
            </a:prstGeom>
            <a:ln w="2232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22"/>
            <p:cNvSpPr/>
            <p:nvPr/>
          </p:nvSpPr>
          <p:spPr>
            <a:xfrm>
              <a:off x="2417040" y="1562040"/>
              <a:ext cx="0" cy="2760840"/>
            </a:xfrm>
            <a:prstGeom prst="line">
              <a:avLst/>
            </a:prstGeom>
            <a:ln w="223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9120" y="5364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Segoe UI"/>
              </a:rPr>
              <a:t>黄金</a:t>
            </a:r>
            <a:r>
              <a:rPr b="1" lang="zh-CN" sz="3600" spc="-1" strike="noStrike">
                <a:solidFill>
                  <a:srgbClr val="cccc00"/>
                </a:solidFill>
                <a:latin typeface="Segoe UI"/>
              </a:rPr>
              <a:t>矩形</a:t>
            </a:r>
            <a:endParaRPr b="1" lang="en-US" sz="36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320" name="TextBox 10"/>
          <p:cNvSpPr/>
          <p:nvPr/>
        </p:nvSpPr>
        <p:spPr>
          <a:xfrm>
            <a:off x="3978360" y="2589120"/>
            <a:ext cx="13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egoe UI"/>
                <a:ea typeface="微软雅黑"/>
              </a:rPr>
              <a:t>短边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Segoe UI"/>
                <a:ea typeface="微软雅黑"/>
              </a:rPr>
              <a:t>长边≈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  <a:ea typeface="微软雅黑"/>
              </a:rPr>
              <a:t>0.6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3"/>
          <p:cNvGrpSpPr/>
          <p:nvPr/>
        </p:nvGrpSpPr>
        <p:grpSpPr>
          <a:xfrm>
            <a:off x="2019240" y="4457880"/>
            <a:ext cx="5145120" cy="609480"/>
            <a:chOff x="2019240" y="4457880"/>
            <a:chExt cx="5145120" cy="609480"/>
          </a:xfrm>
        </p:grpSpPr>
        <p:sp>
          <p:nvSpPr>
            <p:cNvPr id="322" name="圆角矩形 43"/>
            <p:cNvSpPr/>
            <p:nvPr/>
          </p:nvSpPr>
          <p:spPr>
            <a:xfrm>
              <a:off x="2033280" y="4457880"/>
              <a:ext cx="5116680" cy="6094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1"/>
            <p:cNvSpPr/>
            <p:nvPr/>
          </p:nvSpPr>
          <p:spPr>
            <a:xfrm>
              <a:off x="2019240" y="4536000"/>
              <a:ext cx="5145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Segoe UI"/>
                  <a:ea typeface="微软雅黑"/>
                </a:rPr>
                <a:t>我们身边的很多东西都符合这个规律，不信可以找找</a:t>
              </a:r>
              <a:r>
                <a:rPr b="0" lang="en-US" sz="1400" spc="-1" strike="noStrike">
                  <a:solidFill>
                    <a:srgbClr val="ffffff"/>
                  </a:solidFill>
                  <a:latin typeface="Segoe UI"/>
                  <a:ea typeface="微软雅黑"/>
                </a:rPr>
                <a:t>^_^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325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332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339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346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9120" y="5364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Segoe UI"/>
              </a:rPr>
              <a:t>黄金矩形</a:t>
            </a:r>
            <a:r>
              <a:rPr b="1" lang="zh-CN" sz="3600" spc="-1" strike="noStrike">
                <a:solidFill>
                  <a:srgbClr val="cccc00"/>
                </a:solidFill>
                <a:latin typeface="Segoe UI"/>
              </a:rPr>
              <a:t>深入分割</a:t>
            </a:r>
            <a:endParaRPr b="1" lang="en-US" sz="3600" spc="-1" strike="noStrike">
              <a:solidFill>
                <a:srgbClr val="595959"/>
              </a:solidFill>
              <a:latin typeface="Segoe UI"/>
            </a:endParaRPr>
          </a:p>
        </p:txBody>
      </p:sp>
      <p:grpSp>
        <p:nvGrpSpPr>
          <p:cNvPr id="353" name="组合 17"/>
          <p:cNvGrpSpPr/>
          <p:nvPr/>
        </p:nvGrpSpPr>
        <p:grpSpPr>
          <a:xfrm>
            <a:off x="1660320" y="1561680"/>
            <a:ext cx="5824800" cy="3600360"/>
            <a:chOff x="1660320" y="1561680"/>
            <a:chExt cx="5824800" cy="3600360"/>
          </a:xfrm>
        </p:grpSpPr>
        <p:grpSp>
          <p:nvGrpSpPr>
            <p:cNvPr id="354" name="组合 18"/>
            <p:cNvGrpSpPr/>
            <p:nvPr/>
          </p:nvGrpSpPr>
          <p:grpSpPr>
            <a:xfrm>
              <a:off x="1660320" y="1561680"/>
              <a:ext cx="5824440" cy="3600360"/>
              <a:chOff x="1660320" y="1561680"/>
              <a:chExt cx="5824440" cy="3600360"/>
            </a:xfrm>
          </p:grpSpPr>
          <p:sp>
            <p:nvSpPr>
              <p:cNvPr id="355" name="矩形 20"/>
              <p:cNvSpPr/>
              <p:nvPr/>
            </p:nvSpPr>
            <p:spPr>
              <a:xfrm rot="10800000">
                <a:off x="5260320" y="2937240"/>
                <a:ext cx="2224440" cy="2224800"/>
              </a:xfrm>
              <a:prstGeom prst="rect">
                <a:avLst/>
              </a:prstGeom>
              <a:noFill/>
              <a:ln w="324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矩形 21"/>
              <p:cNvSpPr/>
              <p:nvPr/>
            </p:nvSpPr>
            <p:spPr>
              <a:xfrm rot="10800000">
                <a:off x="1660320" y="1561680"/>
                <a:ext cx="3599640" cy="3600360"/>
              </a:xfrm>
              <a:prstGeom prst="rect">
                <a:avLst/>
              </a:prstGeom>
              <a:noFill/>
              <a:ln w="324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矩形 22"/>
              <p:cNvSpPr/>
              <p:nvPr/>
            </p:nvSpPr>
            <p:spPr>
              <a:xfrm rot="10800000">
                <a:off x="6109560" y="1561680"/>
                <a:ext cx="1375200" cy="1375200"/>
              </a:xfrm>
              <a:prstGeom prst="rect">
                <a:avLst/>
              </a:prstGeom>
              <a:noFill/>
              <a:ln w="324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矩形 23"/>
              <p:cNvSpPr/>
              <p:nvPr/>
            </p:nvSpPr>
            <p:spPr>
              <a:xfrm rot="10800000">
                <a:off x="5260320" y="1561680"/>
                <a:ext cx="849600" cy="849600"/>
              </a:xfrm>
              <a:prstGeom prst="rect">
                <a:avLst/>
              </a:prstGeom>
              <a:noFill/>
              <a:ln w="324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矩形 24"/>
              <p:cNvSpPr/>
              <p:nvPr/>
            </p:nvSpPr>
            <p:spPr>
              <a:xfrm rot="10800000">
                <a:off x="5260320" y="2411280"/>
                <a:ext cx="525600" cy="525600"/>
              </a:xfrm>
              <a:prstGeom prst="rect">
                <a:avLst/>
              </a:prstGeom>
              <a:noFill/>
              <a:ln w="324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矩形 25"/>
              <p:cNvSpPr/>
              <p:nvPr/>
            </p:nvSpPr>
            <p:spPr>
              <a:xfrm rot="10800000">
                <a:off x="5785560" y="2613240"/>
                <a:ext cx="324000" cy="324000"/>
              </a:xfrm>
              <a:prstGeom prst="rect">
                <a:avLst/>
              </a:prstGeom>
              <a:noFill/>
              <a:ln w="324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矩形 26"/>
              <p:cNvSpPr/>
              <p:nvPr/>
            </p:nvSpPr>
            <p:spPr>
              <a:xfrm rot="10800000">
                <a:off x="5907960" y="2411280"/>
                <a:ext cx="201600" cy="201600"/>
              </a:xfrm>
              <a:prstGeom prst="rect">
                <a:avLst/>
              </a:prstGeom>
              <a:noFill/>
              <a:ln w="324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27"/>
              <p:cNvSpPr/>
              <p:nvPr/>
            </p:nvSpPr>
            <p:spPr>
              <a:xfrm rot="10800000">
                <a:off x="5785560" y="2411280"/>
                <a:ext cx="122400" cy="122400"/>
              </a:xfrm>
              <a:prstGeom prst="rect">
                <a:avLst/>
              </a:prstGeom>
              <a:noFill/>
              <a:ln w="324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任意多边形 19"/>
            <p:cNvSpPr/>
            <p:nvPr/>
          </p:nvSpPr>
          <p:spPr>
            <a:xfrm rot="10800000">
              <a:off x="1667520" y="1566720"/>
              <a:ext cx="5817600" cy="3591000"/>
            </a:xfrm>
            <a:custGeom>
              <a:avLst/>
              <a:gdLst>
                <a:gd name="textAreaLeft" fmla="*/ 0 w 5817600"/>
                <a:gd name="textAreaRight" fmla="*/ 5817960 w 5817600"/>
                <a:gd name="textAreaTop" fmla="*/ 0 h 3591000"/>
                <a:gd name="textAreaBottom" fmla="*/ 3591360 h 3591000"/>
              </a:gdLst>
              <a:ahLst/>
              <a:rect l="textAreaLeft" t="textAreaTop" r="textAreaRight" b="textAreaBottom"/>
              <a:pathLst>
                <a:path w="9150428" h="5647897">
                  <a:moveTo>
                    <a:pt x="2670780" y="4131950"/>
                  </a:moveTo>
                  <a:cubicBezTo>
                    <a:pt x="2673276" y="4238785"/>
                    <a:pt x="2577603" y="4319050"/>
                    <a:pt x="2485490" y="4319522"/>
                  </a:cubicBezTo>
                  <a:cubicBezTo>
                    <a:pt x="2362895" y="4320535"/>
                    <a:pt x="2172157" y="4253453"/>
                    <a:pt x="2164244" y="4009512"/>
                  </a:cubicBezTo>
                  <a:cubicBezTo>
                    <a:pt x="2161679" y="3717444"/>
                    <a:pt x="2349028" y="3499356"/>
                    <a:pt x="2668501" y="3492557"/>
                  </a:cubicBezTo>
                  <a:cubicBezTo>
                    <a:pt x="3062296" y="3489502"/>
                    <a:pt x="3505570" y="3814003"/>
                    <a:pt x="3499886" y="4327011"/>
                  </a:cubicBezTo>
                  <a:cubicBezTo>
                    <a:pt x="3494202" y="4984398"/>
                    <a:pt x="2969897" y="5616480"/>
                    <a:pt x="2178041" y="5647896"/>
                  </a:cubicBezTo>
                  <a:cubicBezTo>
                    <a:pt x="1111374" y="5647229"/>
                    <a:pt x="-7133" y="5049853"/>
                    <a:pt x="34" y="3488811"/>
                  </a:cubicBezTo>
                  <a:cubicBezTo>
                    <a:pt x="-3269" y="1587662"/>
                    <a:pt x="1437405" y="1746"/>
                    <a:pt x="3508982" y="54"/>
                  </a:cubicBezTo>
                  <a:cubicBezTo>
                    <a:pt x="6855855" y="-13831"/>
                    <a:pt x="9144163" y="2686934"/>
                    <a:pt x="9150428" y="5647897"/>
                  </a:cubicBezTo>
                </a:path>
              </a:pathLst>
            </a:custGeom>
            <a:noFill/>
            <a:ln w="3240">
              <a:solidFill>
                <a:srgbClr val="0c0c0c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组合 18"/>
          <p:cNvGrpSpPr/>
          <p:nvPr/>
        </p:nvGrpSpPr>
        <p:grpSpPr>
          <a:xfrm>
            <a:off x="0" y="0"/>
            <a:ext cx="9140760" cy="0"/>
            <a:chOff x="0" y="0"/>
            <a:chExt cx="9140760" cy="0"/>
          </a:xfrm>
        </p:grpSpPr>
        <p:sp>
          <p:nvSpPr>
            <p:cNvPr id="365" name="直接连接符 8"/>
            <p:cNvSpPr/>
            <p:nvPr/>
          </p:nvSpPr>
          <p:spPr>
            <a:xfrm>
              <a:off x="0" y="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30"/>
            <p:cNvSpPr/>
            <p:nvPr/>
          </p:nvSpPr>
          <p:spPr>
            <a:xfrm>
              <a:off x="3492720" y="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33"/>
            <p:cNvSpPr/>
            <p:nvPr/>
          </p:nvSpPr>
          <p:spPr>
            <a:xfrm>
              <a:off x="5651640" y="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36"/>
            <p:cNvSpPr/>
            <p:nvPr/>
          </p:nvSpPr>
          <p:spPr>
            <a:xfrm>
              <a:off x="6985440" y="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39"/>
            <p:cNvSpPr/>
            <p:nvPr/>
          </p:nvSpPr>
          <p:spPr>
            <a:xfrm>
              <a:off x="7809120" y="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40"/>
            <p:cNvSpPr/>
            <p:nvPr/>
          </p:nvSpPr>
          <p:spPr>
            <a:xfrm>
              <a:off x="8317800" y="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42"/>
          <p:cNvGrpSpPr/>
          <p:nvPr/>
        </p:nvGrpSpPr>
        <p:grpSpPr>
          <a:xfrm>
            <a:off x="-360" y="5715000"/>
            <a:ext cx="9140760" cy="0"/>
            <a:chOff x="-360" y="5715000"/>
            <a:chExt cx="9140760" cy="0"/>
          </a:xfrm>
        </p:grpSpPr>
        <p:sp>
          <p:nvSpPr>
            <p:cNvPr id="372" name="直接连接符 43"/>
            <p:cNvSpPr/>
            <p:nvPr/>
          </p:nvSpPr>
          <p:spPr>
            <a:xfrm flipH="1">
              <a:off x="5647680" y="5715000"/>
              <a:ext cx="3492720" cy="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44"/>
            <p:cNvSpPr/>
            <p:nvPr/>
          </p:nvSpPr>
          <p:spPr>
            <a:xfrm flipH="1">
              <a:off x="3488760" y="5715000"/>
              <a:ext cx="2158920" cy="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45"/>
            <p:cNvSpPr/>
            <p:nvPr/>
          </p:nvSpPr>
          <p:spPr>
            <a:xfrm flipH="1">
              <a:off x="2154960" y="5715000"/>
              <a:ext cx="1333800" cy="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46"/>
            <p:cNvSpPr/>
            <p:nvPr/>
          </p:nvSpPr>
          <p:spPr>
            <a:xfrm flipH="1">
              <a:off x="1330200" y="5715000"/>
              <a:ext cx="824760" cy="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47"/>
            <p:cNvSpPr/>
            <p:nvPr/>
          </p:nvSpPr>
          <p:spPr>
            <a:xfrm flipH="1">
              <a:off x="822600" y="5715000"/>
              <a:ext cx="508680" cy="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48"/>
            <p:cNvSpPr/>
            <p:nvPr/>
          </p:nvSpPr>
          <p:spPr>
            <a:xfrm flipH="1">
              <a:off x="-360" y="5715000"/>
              <a:ext cx="822960" cy="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49"/>
          <p:cNvGrpSpPr/>
          <p:nvPr/>
        </p:nvGrpSpPr>
        <p:grpSpPr>
          <a:xfrm>
            <a:off x="0" y="0"/>
            <a:ext cx="0" cy="5759280"/>
            <a:chOff x="0" y="0"/>
            <a:chExt cx="0" cy="5759280"/>
          </a:xfrm>
        </p:grpSpPr>
        <p:sp>
          <p:nvSpPr>
            <p:cNvPr id="379" name="直接连接符 50"/>
            <p:cNvSpPr/>
            <p:nvPr/>
          </p:nvSpPr>
          <p:spPr>
            <a:xfrm>
              <a:off x="0" y="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51"/>
            <p:cNvSpPr/>
            <p:nvPr/>
          </p:nvSpPr>
          <p:spPr>
            <a:xfrm>
              <a:off x="0" y="220104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直接连接符 52"/>
            <p:cNvSpPr/>
            <p:nvPr/>
          </p:nvSpPr>
          <p:spPr>
            <a:xfrm>
              <a:off x="0" y="356076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直接连接符 53"/>
            <p:cNvSpPr/>
            <p:nvPr/>
          </p:nvSpPr>
          <p:spPr>
            <a:xfrm>
              <a:off x="0" y="440136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54"/>
            <p:cNvSpPr/>
            <p:nvPr/>
          </p:nvSpPr>
          <p:spPr>
            <a:xfrm>
              <a:off x="0" y="492012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55"/>
            <p:cNvSpPr/>
            <p:nvPr/>
          </p:nvSpPr>
          <p:spPr>
            <a:xfrm>
              <a:off x="0" y="524088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56"/>
          <p:cNvGrpSpPr/>
          <p:nvPr/>
        </p:nvGrpSpPr>
        <p:grpSpPr>
          <a:xfrm>
            <a:off x="9144000" y="0"/>
            <a:ext cx="0" cy="5759280"/>
            <a:chOff x="9144000" y="0"/>
            <a:chExt cx="0" cy="5759280"/>
          </a:xfrm>
        </p:grpSpPr>
        <p:sp>
          <p:nvSpPr>
            <p:cNvPr id="386" name="直接连接符 57"/>
            <p:cNvSpPr/>
            <p:nvPr/>
          </p:nvSpPr>
          <p:spPr>
            <a:xfrm flipV="1">
              <a:off x="9144000" y="3558600"/>
              <a:ext cx="0" cy="2200680"/>
            </a:xfrm>
            <a:prstGeom prst="line">
              <a:avLst/>
            </a:prstGeom>
            <a:ln w="66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直接连接符 58"/>
            <p:cNvSpPr/>
            <p:nvPr/>
          </p:nvSpPr>
          <p:spPr>
            <a:xfrm flipV="1">
              <a:off x="9144000" y="2198520"/>
              <a:ext cx="0" cy="1360080"/>
            </a:xfrm>
            <a:prstGeom prst="line">
              <a:avLst/>
            </a:prstGeom>
            <a:ln w="66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直接连接符 59"/>
            <p:cNvSpPr/>
            <p:nvPr/>
          </p:nvSpPr>
          <p:spPr>
            <a:xfrm flipV="1">
              <a:off x="9144000" y="1358280"/>
              <a:ext cx="0" cy="840240"/>
            </a:xfrm>
            <a:prstGeom prst="line">
              <a:avLst/>
            </a:prstGeom>
            <a:ln w="66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直接连接符 60"/>
            <p:cNvSpPr/>
            <p:nvPr/>
          </p:nvSpPr>
          <p:spPr>
            <a:xfrm flipV="1">
              <a:off x="9144000" y="838080"/>
              <a:ext cx="0" cy="519840"/>
            </a:xfrm>
            <a:prstGeom prst="line">
              <a:avLst/>
            </a:prstGeom>
            <a:ln w="66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61"/>
            <p:cNvSpPr/>
            <p:nvPr/>
          </p:nvSpPr>
          <p:spPr>
            <a:xfrm flipV="1">
              <a:off x="9144000" y="518760"/>
              <a:ext cx="0" cy="320400"/>
            </a:xfrm>
            <a:prstGeom prst="line">
              <a:avLst/>
            </a:prstGeom>
            <a:ln w="66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62"/>
            <p:cNvSpPr/>
            <p:nvPr/>
          </p:nvSpPr>
          <p:spPr>
            <a:xfrm flipV="1">
              <a:off x="9144000" y="0"/>
              <a:ext cx="0" cy="518400"/>
            </a:xfrm>
            <a:prstGeom prst="line">
              <a:avLst/>
            </a:prstGeom>
            <a:ln w="66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圆角矩形 114"/>
          <p:cNvSpPr/>
          <p:nvPr/>
        </p:nvSpPr>
        <p:spPr>
          <a:xfrm>
            <a:off x="606600" y="1778040"/>
            <a:ext cx="2238120" cy="2647800"/>
          </a:xfrm>
          <a:custGeom>
            <a:avLst/>
            <a:gdLst>
              <a:gd name="textAreaLeft" fmla="*/ 25560 w 2238120"/>
              <a:gd name="textAreaRight" fmla="*/ 2212560 w 2238120"/>
              <a:gd name="textAreaTop" fmla="*/ 25560 h 2647800"/>
              <a:gd name="textAreaBottom" fmla="*/ 2622240 h 2647800"/>
            </a:gdLst>
            <a:ahLst/>
            <a:rect l="textAreaLeft" t="textAreaTop" r="textAreaRight" b="textAreaBottom"/>
            <a:pathLst>
              <a:path w="21600" h="25553">
                <a:moveTo>
                  <a:pt x="849" y="0"/>
                </a:moveTo>
                <a:arcTo wR="849" hR="849" stAng="16200000" swAng="-5400000"/>
                <a:lnTo>
                  <a:pt x="0" y="24704"/>
                </a:lnTo>
                <a:arcTo wR="849" hR="849" stAng="10800000" swAng="-5400000"/>
                <a:lnTo>
                  <a:pt x="20751" y="25553"/>
                </a:lnTo>
                <a:arcTo wR="849" hR="849" stAng="5400000" swAng="-5400000"/>
                <a:lnTo>
                  <a:pt x="21600" y="849"/>
                </a:lnTo>
                <a:arcTo wR="849" hR="849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9120" y="5364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Segoe UI"/>
              </a:rPr>
              <a:t>黄金矩形的</a:t>
            </a:r>
            <a:r>
              <a:rPr b="1" lang="zh-CN" sz="3600" spc="-1" strike="noStrike">
                <a:solidFill>
                  <a:srgbClr val="cccc00"/>
                </a:solidFill>
                <a:latin typeface="Segoe UI"/>
              </a:rPr>
              <a:t>黄金分割线</a:t>
            </a:r>
            <a:endParaRPr b="1" lang="en-US" sz="36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394" name="矩形 27"/>
          <p:cNvSpPr/>
          <p:nvPr/>
        </p:nvSpPr>
        <p:spPr>
          <a:xfrm>
            <a:off x="682560" y="1874880"/>
            <a:ext cx="2089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一个黄金矩形有</a:t>
            </a:r>
            <a:r>
              <a:rPr b="0" lang="en-US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Segoe UI"/>
                <a:ea typeface="微软雅黑"/>
              </a:rPr>
              <a:t>条黄金分割线，使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39"/>
          <p:cNvSpPr/>
          <p:nvPr/>
        </p:nvSpPr>
        <p:spPr>
          <a:xfrm>
            <a:off x="822240" y="2616120"/>
            <a:ext cx="1805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39"/>
          <p:cNvSpPr/>
          <p:nvPr/>
        </p:nvSpPr>
        <p:spPr>
          <a:xfrm>
            <a:off x="822240" y="2616120"/>
            <a:ext cx="1805040" cy="720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2"/>
          <p:cNvGrpSpPr/>
          <p:nvPr/>
        </p:nvGrpSpPr>
        <p:grpSpPr>
          <a:xfrm>
            <a:off x="3132000" y="2738520"/>
            <a:ext cx="1216080" cy="752400"/>
            <a:chOff x="3132000" y="2738520"/>
            <a:chExt cx="1216080" cy="752400"/>
          </a:xfrm>
        </p:grpSpPr>
        <p:grpSp>
          <p:nvGrpSpPr>
            <p:cNvPr id="398" name="组合 66"/>
            <p:cNvGrpSpPr/>
            <p:nvPr/>
          </p:nvGrpSpPr>
          <p:grpSpPr>
            <a:xfrm>
              <a:off x="3132000" y="2738520"/>
              <a:ext cx="1216080" cy="752400"/>
              <a:chOff x="3132000" y="2738520"/>
              <a:chExt cx="1216080" cy="752400"/>
            </a:xfrm>
          </p:grpSpPr>
          <p:sp>
            <p:nvSpPr>
              <p:cNvPr id="399" name="矩形 72"/>
              <p:cNvSpPr/>
              <p:nvPr/>
            </p:nvSpPr>
            <p:spPr>
              <a:xfrm rot="10800000">
                <a:off x="3883680" y="2738520"/>
                <a:ext cx="46440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矩形 75"/>
              <p:cNvSpPr/>
              <p:nvPr/>
            </p:nvSpPr>
            <p:spPr>
              <a:xfrm rot="10800000">
                <a:off x="3132000" y="2738520"/>
                <a:ext cx="75168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矩形 115"/>
              <p:cNvSpPr/>
              <p:nvPr/>
            </p:nvSpPr>
            <p:spPr>
              <a:xfrm rot="10800000">
                <a:off x="3883680" y="3025800"/>
                <a:ext cx="464400" cy="46512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矩形 116"/>
              <p:cNvSpPr/>
              <p:nvPr/>
            </p:nvSpPr>
            <p:spPr>
              <a:xfrm rot="10800000">
                <a:off x="4060440" y="2738520"/>
                <a:ext cx="287640" cy="2880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直接连接符 122"/>
            <p:cNvSpPr/>
            <p:nvPr/>
          </p:nvSpPr>
          <p:spPr>
            <a:xfrm flipV="1">
              <a:off x="3132000" y="2740320"/>
              <a:ext cx="928440" cy="748800"/>
            </a:xfrm>
            <a:prstGeom prst="line">
              <a:avLst/>
            </a:prstGeom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23"/>
          <p:cNvGrpSpPr/>
          <p:nvPr/>
        </p:nvGrpSpPr>
        <p:grpSpPr>
          <a:xfrm>
            <a:off x="4591080" y="2738520"/>
            <a:ext cx="1216080" cy="752760"/>
            <a:chOff x="4591080" y="2738520"/>
            <a:chExt cx="1216080" cy="752760"/>
          </a:xfrm>
        </p:grpSpPr>
        <p:grpSp>
          <p:nvGrpSpPr>
            <p:cNvPr id="405" name="组合 124"/>
            <p:cNvGrpSpPr/>
            <p:nvPr/>
          </p:nvGrpSpPr>
          <p:grpSpPr>
            <a:xfrm>
              <a:off x="4591080" y="2738520"/>
              <a:ext cx="1216080" cy="752400"/>
              <a:chOff x="4591080" y="2738520"/>
              <a:chExt cx="1216080" cy="752400"/>
            </a:xfrm>
          </p:grpSpPr>
          <p:sp>
            <p:nvSpPr>
              <p:cNvPr id="406" name="矩形 126"/>
              <p:cNvSpPr/>
              <p:nvPr/>
            </p:nvSpPr>
            <p:spPr>
              <a:xfrm flipV="1" rot="10800000">
                <a:off x="5342760" y="2738520"/>
                <a:ext cx="46440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矩形 127"/>
              <p:cNvSpPr/>
              <p:nvPr/>
            </p:nvSpPr>
            <p:spPr>
              <a:xfrm flipV="1" rot="10800000">
                <a:off x="4591080" y="2738520"/>
                <a:ext cx="75168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矩形 128"/>
              <p:cNvSpPr/>
              <p:nvPr/>
            </p:nvSpPr>
            <p:spPr>
              <a:xfrm flipV="1" rot="10800000">
                <a:off x="5342760" y="2738520"/>
                <a:ext cx="464400" cy="46512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矩形 129"/>
              <p:cNvSpPr/>
              <p:nvPr/>
            </p:nvSpPr>
            <p:spPr>
              <a:xfrm flipV="1" rot="10800000">
                <a:off x="5519520" y="3202920"/>
                <a:ext cx="287640" cy="2880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直接连接符 125"/>
            <p:cNvSpPr/>
            <p:nvPr/>
          </p:nvSpPr>
          <p:spPr>
            <a:xfrm>
              <a:off x="4591080" y="2744280"/>
              <a:ext cx="928440" cy="747000"/>
            </a:xfrm>
            <a:prstGeom prst="line">
              <a:avLst/>
            </a:prstGeom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130"/>
          <p:cNvGrpSpPr/>
          <p:nvPr/>
        </p:nvGrpSpPr>
        <p:grpSpPr>
          <a:xfrm>
            <a:off x="6049800" y="2738520"/>
            <a:ext cx="1216080" cy="752400"/>
            <a:chOff x="6049800" y="2738520"/>
            <a:chExt cx="1216080" cy="752400"/>
          </a:xfrm>
        </p:grpSpPr>
        <p:grpSp>
          <p:nvGrpSpPr>
            <p:cNvPr id="412" name="组合 131"/>
            <p:cNvGrpSpPr/>
            <p:nvPr/>
          </p:nvGrpSpPr>
          <p:grpSpPr>
            <a:xfrm>
              <a:off x="6049800" y="2738520"/>
              <a:ext cx="1216080" cy="752400"/>
              <a:chOff x="6049800" y="2738520"/>
              <a:chExt cx="1216080" cy="752400"/>
            </a:xfrm>
          </p:grpSpPr>
          <p:sp>
            <p:nvSpPr>
              <p:cNvPr id="413" name="矩形 133"/>
              <p:cNvSpPr/>
              <p:nvPr/>
            </p:nvSpPr>
            <p:spPr>
              <a:xfrm flipH="1" rot="10800000">
                <a:off x="6049800" y="2738520"/>
                <a:ext cx="46440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矩形 134"/>
              <p:cNvSpPr/>
              <p:nvPr/>
            </p:nvSpPr>
            <p:spPr>
              <a:xfrm flipH="1" rot="10800000">
                <a:off x="6514200" y="2738520"/>
                <a:ext cx="75168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矩形 135"/>
              <p:cNvSpPr/>
              <p:nvPr/>
            </p:nvSpPr>
            <p:spPr>
              <a:xfrm flipH="1" rot="10800000">
                <a:off x="6049800" y="3025800"/>
                <a:ext cx="464400" cy="46512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矩形 136"/>
              <p:cNvSpPr/>
              <p:nvPr/>
            </p:nvSpPr>
            <p:spPr>
              <a:xfrm flipH="1" rot="10800000">
                <a:off x="6049440" y="2738520"/>
                <a:ext cx="287640" cy="2880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直接连接符 132"/>
            <p:cNvSpPr/>
            <p:nvPr/>
          </p:nvSpPr>
          <p:spPr>
            <a:xfrm flipH="1" flipV="1">
              <a:off x="6341400" y="2740320"/>
              <a:ext cx="924480" cy="748800"/>
            </a:xfrm>
            <a:prstGeom prst="line">
              <a:avLst/>
            </a:prstGeom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137"/>
          <p:cNvGrpSpPr/>
          <p:nvPr/>
        </p:nvGrpSpPr>
        <p:grpSpPr>
          <a:xfrm>
            <a:off x="7508880" y="2738520"/>
            <a:ext cx="1216080" cy="752400"/>
            <a:chOff x="7508880" y="2738520"/>
            <a:chExt cx="1216080" cy="752400"/>
          </a:xfrm>
        </p:grpSpPr>
        <p:grpSp>
          <p:nvGrpSpPr>
            <p:cNvPr id="419" name="组合 138"/>
            <p:cNvGrpSpPr/>
            <p:nvPr/>
          </p:nvGrpSpPr>
          <p:grpSpPr>
            <a:xfrm>
              <a:off x="7508880" y="2738520"/>
              <a:ext cx="1216080" cy="752400"/>
              <a:chOff x="7508880" y="2738520"/>
              <a:chExt cx="1216080" cy="752400"/>
            </a:xfrm>
          </p:grpSpPr>
          <p:sp>
            <p:nvSpPr>
              <p:cNvPr id="420" name="矩形 140"/>
              <p:cNvSpPr/>
              <p:nvPr/>
            </p:nvSpPr>
            <p:spPr>
              <a:xfrm flipH="1" flipV="1" rot="10800000">
                <a:off x="7508880" y="2738520"/>
                <a:ext cx="46440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矩形 141"/>
              <p:cNvSpPr/>
              <p:nvPr/>
            </p:nvSpPr>
            <p:spPr>
              <a:xfrm flipH="1" flipV="1" rot="10800000">
                <a:off x="7973280" y="2738520"/>
                <a:ext cx="75168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矩形 142"/>
              <p:cNvSpPr/>
              <p:nvPr/>
            </p:nvSpPr>
            <p:spPr>
              <a:xfrm flipH="1" flipV="1" rot="10800000">
                <a:off x="7508880" y="2738520"/>
                <a:ext cx="464400" cy="46512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矩形 143"/>
              <p:cNvSpPr/>
              <p:nvPr/>
            </p:nvSpPr>
            <p:spPr>
              <a:xfrm flipH="1" flipV="1" rot="10800000">
                <a:off x="7508520" y="3202920"/>
                <a:ext cx="287640" cy="2880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直接连接符 139"/>
            <p:cNvSpPr/>
            <p:nvPr/>
          </p:nvSpPr>
          <p:spPr>
            <a:xfrm flipH="1">
              <a:off x="7813440" y="2744640"/>
              <a:ext cx="907200" cy="730080"/>
            </a:xfrm>
            <a:prstGeom prst="line">
              <a:avLst/>
            </a:prstGeom>
            <a:ln w="1260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24"/>
          <p:cNvGrpSpPr/>
          <p:nvPr/>
        </p:nvGrpSpPr>
        <p:grpSpPr>
          <a:xfrm>
            <a:off x="6049800" y="1793880"/>
            <a:ext cx="1216080" cy="752400"/>
            <a:chOff x="6049800" y="1793880"/>
            <a:chExt cx="1216080" cy="752400"/>
          </a:xfrm>
        </p:grpSpPr>
        <p:sp>
          <p:nvSpPr>
            <p:cNvPr id="426" name="矩形 258"/>
            <p:cNvSpPr/>
            <p:nvPr/>
          </p:nvSpPr>
          <p:spPr>
            <a:xfrm flipH="1" rot="10800000">
              <a:off x="6049800" y="1793880"/>
              <a:ext cx="1216080" cy="752400"/>
            </a:xfrm>
            <a:prstGeom prst="rect">
              <a:avLst/>
            </a:prstGeom>
            <a:noFill/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直接连接符 18"/>
            <p:cNvSpPr/>
            <p:nvPr/>
          </p:nvSpPr>
          <p:spPr>
            <a:xfrm>
              <a:off x="6054120" y="2081160"/>
              <a:ext cx="1211760" cy="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21"/>
          <p:cNvGrpSpPr/>
          <p:nvPr/>
        </p:nvGrpSpPr>
        <p:grpSpPr>
          <a:xfrm>
            <a:off x="3132000" y="1793880"/>
            <a:ext cx="1216080" cy="752400"/>
            <a:chOff x="3132000" y="1793880"/>
            <a:chExt cx="1216080" cy="752400"/>
          </a:xfrm>
        </p:grpSpPr>
        <p:grpSp>
          <p:nvGrpSpPr>
            <p:cNvPr id="429" name="组合 241"/>
            <p:cNvGrpSpPr/>
            <p:nvPr/>
          </p:nvGrpSpPr>
          <p:grpSpPr>
            <a:xfrm>
              <a:off x="3132000" y="1793880"/>
              <a:ext cx="1216080" cy="752400"/>
              <a:chOff x="3132000" y="1793880"/>
              <a:chExt cx="1216080" cy="752400"/>
            </a:xfrm>
          </p:grpSpPr>
          <p:sp>
            <p:nvSpPr>
              <p:cNvPr id="430" name="矩形 243"/>
              <p:cNvSpPr/>
              <p:nvPr/>
            </p:nvSpPr>
            <p:spPr>
              <a:xfrm rot="10800000">
                <a:off x="3883680" y="1793880"/>
                <a:ext cx="46440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矩形 244"/>
              <p:cNvSpPr/>
              <p:nvPr/>
            </p:nvSpPr>
            <p:spPr>
              <a:xfrm rot="10800000">
                <a:off x="3132000" y="1793880"/>
                <a:ext cx="751680" cy="752400"/>
              </a:xfrm>
              <a:prstGeom prst="rect">
                <a:avLst/>
              </a:prstGeom>
              <a:noFill/>
              <a:ln w="1260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直接连接符 214"/>
            <p:cNvSpPr/>
            <p:nvPr/>
          </p:nvSpPr>
          <p:spPr>
            <a:xfrm>
              <a:off x="3883680" y="1793880"/>
              <a:ext cx="0" cy="74808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7"/>
          <p:cNvGrpSpPr/>
          <p:nvPr/>
        </p:nvGrpSpPr>
        <p:grpSpPr>
          <a:xfrm>
            <a:off x="3132000" y="3673440"/>
            <a:ext cx="1216080" cy="752400"/>
            <a:chOff x="3132000" y="3673440"/>
            <a:chExt cx="1216080" cy="752400"/>
          </a:xfrm>
        </p:grpSpPr>
        <p:grpSp>
          <p:nvGrpSpPr>
            <p:cNvPr id="434" name="组合 4"/>
            <p:cNvGrpSpPr/>
            <p:nvPr/>
          </p:nvGrpSpPr>
          <p:grpSpPr>
            <a:xfrm>
              <a:off x="3132000" y="3673440"/>
              <a:ext cx="1216080" cy="752400"/>
              <a:chOff x="3132000" y="3673440"/>
              <a:chExt cx="1216080" cy="752400"/>
            </a:xfrm>
          </p:grpSpPr>
          <p:grpSp>
            <p:nvGrpSpPr>
              <p:cNvPr id="435" name="组合 144"/>
              <p:cNvGrpSpPr/>
              <p:nvPr/>
            </p:nvGrpSpPr>
            <p:grpSpPr>
              <a:xfrm>
                <a:off x="3132000" y="3673440"/>
                <a:ext cx="1216080" cy="752400"/>
                <a:chOff x="3132000" y="3673440"/>
                <a:chExt cx="1216080" cy="752400"/>
              </a:xfrm>
            </p:grpSpPr>
            <p:sp>
              <p:nvSpPr>
                <p:cNvPr id="436" name="矩形 146"/>
                <p:cNvSpPr/>
                <p:nvPr/>
              </p:nvSpPr>
              <p:spPr>
                <a:xfrm rot="10800000">
                  <a:off x="3883680" y="3673440"/>
                  <a:ext cx="464400" cy="7524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矩形 147"/>
                <p:cNvSpPr/>
                <p:nvPr/>
              </p:nvSpPr>
              <p:spPr>
                <a:xfrm rot="10800000">
                  <a:off x="3132000" y="3673440"/>
                  <a:ext cx="751680" cy="7524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矩形 148"/>
                <p:cNvSpPr/>
                <p:nvPr/>
              </p:nvSpPr>
              <p:spPr>
                <a:xfrm rot="10800000">
                  <a:off x="3883680" y="3960720"/>
                  <a:ext cx="464400" cy="46512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矩形 149"/>
                <p:cNvSpPr/>
                <p:nvPr/>
              </p:nvSpPr>
              <p:spPr>
                <a:xfrm rot="10800000">
                  <a:off x="4060440" y="3673440"/>
                  <a:ext cx="287640" cy="2880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矩形 150"/>
                <p:cNvSpPr/>
                <p:nvPr/>
              </p:nvSpPr>
              <p:spPr>
                <a:xfrm rot="10800000">
                  <a:off x="3883680" y="3673440"/>
                  <a:ext cx="176760" cy="17712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直接连接符 155"/>
              <p:cNvSpPr/>
              <p:nvPr/>
            </p:nvSpPr>
            <p:spPr>
              <a:xfrm flipV="1">
                <a:off x="3132000" y="3850560"/>
                <a:ext cx="1216080" cy="575280"/>
              </a:xfrm>
              <a:prstGeom prst="line">
                <a:avLst/>
              </a:prstGeom>
              <a:ln w="1260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直接连接符 6"/>
            <p:cNvSpPr/>
            <p:nvPr/>
          </p:nvSpPr>
          <p:spPr>
            <a:xfrm>
              <a:off x="3993480" y="3850560"/>
              <a:ext cx="347760" cy="0"/>
            </a:xfrm>
            <a:prstGeom prst="line">
              <a:avLst/>
            </a:prstGeom>
            <a:ln w="1260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56"/>
          <p:cNvGrpSpPr/>
          <p:nvPr/>
        </p:nvGrpSpPr>
        <p:grpSpPr>
          <a:xfrm>
            <a:off x="4591080" y="3673440"/>
            <a:ext cx="1216080" cy="752400"/>
            <a:chOff x="4591080" y="3673440"/>
            <a:chExt cx="1216080" cy="752400"/>
          </a:xfrm>
        </p:grpSpPr>
        <p:grpSp>
          <p:nvGrpSpPr>
            <p:cNvPr id="444" name="组合 157"/>
            <p:cNvGrpSpPr/>
            <p:nvPr/>
          </p:nvGrpSpPr>
          <p:grpSpPr>
            <a:xfrm>
              <a:off x="4591080" y="3673440"/>
              <a:ext cx="1216080" cy="752400"/>
              <a:chOff x="4591080" y="3673440"/>
              <a:chExt cx="1216080" cy="752400"/>
            </a:xfrm>
          </p:grpSpPr>
          <p:grpSp>
            <p:nvGrpSpPr>
              <p:cNvPr id="445" name="组合 159"/>
              <p:cNvGrpSpPr/>
              <p:nvPr/>
            </p:nvGrpSpPr>
            <p:grpSpPr>
              <a:xfrm>
                <a:off x="4591080" y="3673440"/>
                <a:ext cx="1216080" cy="752400"/>
                <a:chOff x="4591080" y="3673440"/>
                <a:chExt cx="1216080" cy="752400"/>
              </a:xfrm>
            </p:grpSpPr>
            <p:sp>
              <p:nvSpPr>
                <p:cNvPr id="446" name="矩形 161"/>
                <p:cNvSpPr/>
                <p:nvPr/>
              </p:nvSpPr>
              <p:spPr>
                <a:xfrm flipH="1">
                  <a:off x="5342760" y="3673440"/>
                  <a:ext cx="464400" cy="7524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矩形 162"/>
                <p:cNvSpPr/>
                <p:nvPr/>
              </p:nvSpPr>
              <p:spPr>
                <a:xfrm flipH="1">
                  <a:off x="4591080" y="3673440"/>
                  <a:ext cx="751680" cy="7524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矩形 163"/>
                <p:cNvSpPr/>
                <p:nvPr/>
              </p:nvSpPr>
              <p:spPr>
                <a:xfrm flipH="1">
                  <a:off x="5342760" y="3673440"/>
                  <a:ext cx="464400" cy="46512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矩形 164"/>
                <p:cNvSpPr/>
                <p:nvPr/>
              </p:nvSpPr>
              <p:spPr>
                <a:xfrm flipH="1">
                  <a:off x="5519160" y="4137840"/>
                  <a:ext cx="287640" cy="2880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矩形 165"/>
                <p:cNvSpPr/>
                <p:nvPr/>
              </p:nvSpPr>
              <p:spPr>
                <a:xfrm flipH="1">
                  <a:off x="5342400" y="4248720"/>
                  <a:ext cx="176760" cy="17712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直接连接符 160"/>
              <p:cNvSpPr/>
              <p:nvPr/>
            </p:nvSpPr>
            <p:spPr>
              <a:xfrm>
                <a:off x="4591080" y="3673440"/>
                <a:ext cx="1216080" cy="575280"/>
              </a:xfrm>
              <a:prstGeom prst="line">
                <a:avLst/>
              </a:prstGeom>
              <a:ln w="1260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直接连接符 158"/>
            <p:cNvSpPr/>
            <p:nvPr/>
          </p:nvSpPr>
          <p:spPr>
            <a:xfrm>
              <a:off x="5452560" y="4248720"/>
              <a:ext cx="347760" cy="0"/>
            </a:xfrm>
            <a:prstGeom prst="line">
              <a:avLst/>
            </a:prstGeom>
            <a:ln w="1260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166"/>
          <p:cNvGrpSpPr/>
          <p:nvPr/>
        </p:nvGrpSpPr>
        <p:grpSpPr>
          <a:xfrm>
            <a:off x="6049800" y="3673440"/>
            <a:ext cx="1216080" cy="752400"/>
            <a:chOff x="6049800" y="3673440"/>
            <a:chExt cx="1216080" cy="752400"/>
          </a:xfrm>
        </p:grpSpPr>
        <p:grpSp>
          <p:nvGrpSpPr>
            <p:cNvPr id="454" name="组合 167"/>
            <p:cNvGrpSpPr/>
            <p:nvPr/>
          </p:nvGrpSpPr>
          <p:grpSpPr>
            <a:xfrm>
              <a:off x="6049800" y="3673440"/>
              <a:ext cx="1216080" cy="752400"/>
              <a:chOff x="6049800" y="3673440"/>
              <a:chExt cx="1216080" cy="752400"/>
            </a:xfrm>
          </p:grpSpPr>
          <p:grpSp>
            <p:nvGrpSpPr>
              <p:cNvPr id="455" name="组合 169"/>
              <p:cNvGrpSpPr/>
              <p:nvPr/>
            </p:nvGrpSpPr>
            <p:grpSpPr>
              <a:xfrm>
                <a:off x="6049800" y="3673440"/>
                <a:ext cx="1216080" cy="752400"/>
                <a:chOff x="6049800" y="3673440"/>
                <a:chExt cx="1216080" cy="752400"/>
              </a:xfrm>
            </p:grpSpPr>
            <p:sp>
              <p:nvSpPr>
                <p:cNvPr id="456" name="矩形 171"/>
                <p:cNvSpPr/>
                <p:nvPr/>
              </p:nvSpPr>
              <p:spPr>
                <a:xfrm flipH="1" rot="10800000">
                  <a:off x="6049800" y="3673440"/>
                  <a:ext cx="464400" cy="7524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矩形 172"/>
                <p:cNvSpPr/>
                <p:nvPr/>
              </p:nvSpPr>
              <p:spPr>
                <a:xfrm flipH="1" rot="10800000">
                  <a:off x="6514200" y="3673440"/>
                  <a:ext cx="751680" cy="7524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矩形 173"/>
                <p:cNvSpPr/>
                <p:nvPr/>
              </p:nvSpPr>
              <p:spPr>
                <a:xfrm flipH="1" rot="10800000">
                  <a:off x="6049800" y="3960720"/>
                  <a:ext cx="464400" cy="46512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矩形 174"/>
                <p:cNvSpPr/>
                <p:nvPr/>
              </p:nvSpPr>
              <p:spPr>
                <a:xfrm flipH="1" rot="10800000">
                  <a:off x="6049440" y="3673440"/>
                  <a:ext cx="287640" cy="2880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矩形 175"/>
                <p:cNvSpPr/>
                <p:nvPr/>
              </p:nvSpPr>
              <p:spPr>
                <a:xfrm flipH="1" rot="10800000">
                  <a:off x="6337080" y="3673440"/>
                  <a:ext cx="176760" cy="17712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直接连接符 170"/>
              <p:cNvSpPr/>
              <p:nvPr/>
            </p:nvSpPr>
            <p:spPr>
              <a:xfrm flipH="1" flipV="1">
                <a:off x="6049800" y="3850560"/>
                <a:ext cx="1216080" cy="575280"/>
              </a:xfrm>
              <a:prstGeom prst="line">
                <a:avLst/>
              </a:prstGeom>
              <a:ln w="1260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直接连接符 168"/>
            <p:cNvSpPr/>
            <p:nvPr/>
          </p:nvSpPr>
          <p:spPr>
            <a:xfrm flipH="1">
              <a:off x="6056640" y="3850560"/>
              <a:ext cx="347760" cy="0"/>
            </a:xfrm>
            <a:prstGeom prst="line">
              <a:avLst/>
            </a:prstGeom>
            <a:ln w="1260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176"/>
          <p:cNvGrpSpPr/>
          <p:nvPr/>
        </p:nvGrpSpPr>
        <p:grpSpPr>
          <a:xfrm>
            <a:off x="7508880" y="3673440"/>
            <a:ext cx="1216080" cy="752400"/>
            <a:chOff x="7508880" y="3673440"/>
            <a:chExt cx="1216080" cy="752400"/>
          </a:xfrm>
        </p:grpSpPr>
        <p:grpSp>
          <p:nvGrpSpPr>
            <p:cNvPr id="464" name="组合 177"/>
            <p:cNvGrpSpPr/>
            <p:nvPr/>
          </p:nvGrpSpPr>
          <p:grpSpPr>
            <a:xfrm>
              <a:off x="7508880" y="3673440"/>
              <a:ext cx="1216080" cy="752400"/>
              <a:chOff x="7508880" y="3673440"/>
              <a:chExt cx="1216080" cy="752400"/>
            </a:xfrm>
          </p:grpSpPr>
          <p:grpSp>
            <p:nvGrpSpPr>
              <p:cNvPr id="465" name="组合 179"/>
              <p:cNvGrpSpPr/>
              <p:nvPr/>
            </p:nvGrpSpPr>
            <p:grpSpPr>
              <a:xfrm>
                <a:off x="7508880" y="3673440"/>
                <a:ext cx="1216080" cy="752400"/>
                <a:chOff x="7508880" y="3673440"/>
                <a:chExt cx="1216080" cy="752400"/>
              </a:xfrm>
            </p:grpSpPr>
            <p:sp>
              <p:nvSpPr>
                <p:cNvPr id="466" name="矩形 181"/>
                <p:cNvSpPr/>
                <p:nvPr/>
              </p:nvSpPr>
              <p:spPr>
                <a:xfrm>
                  <a:off x="7508880" y="3673440"/>
                  <a:ext cx="464400" cy="7524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矩形 182"/>
                <p:cNvSpPr/>
                <p:nvPr/>
              </p:nvSpPr>
              <p:spPr>
                <a:xfrm>
                  <a:off x="7973280" y="3673440"/>
                  <a:ext cx="751680" cy="7524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矩形 183"/>
                <p:cNvSpPr/>
                <p:nvPr/>
              </p:nvSpPr>
              <p:spPr>
                <a:xfrm>
                  <a:off x="7508880" y="3673440"/>
                  <a:ext cx="464400" cy="46512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矩形 184"/>
                <p:cNvSpPr/>
                <p:nvPr/>
              </p:nvSpPr>
              <p:spPr>
                <a:xfrm>
                  <a:off x="7508880" y="4137840"/>
                  <a:ext cx="287640" cy="28800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矩形 185"/>
                <p:cNvSpPr/>
                <p:nvPr/>
              </p:nvSpPr>
              <p:spPr>
                <a:xfrm>
                  <a:off x="7796520" y="4248720"/>
                  <a:ext cx="176760" cy="177120"/>
                </a:xfrm>
                <a:prstGeom prst="rect">
                  <a:avLst/>
                </a:prstGeom>
                <a:noFill/>
                <a:ln w="1260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直接连接符 180"/>
              <p:cNvSpPr/>
              <p:nvPr/>
            </p:nvSpPr>
            <p:spPr>
              <a:xfrm flipH="1">
                <a:off x="7508880" y="3673440"/>
                <a:ext cx="1216080" cy="575280"/>
              </a:xfrm>
              <a:prstGeom prst="line">
                <a:avLst/>
              </a:prstGeom>
              <a:ln w="12600">
                <a:solidFill>
                  <a:srgbClr val="c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直接连接符 178"/>
            <p:cNvSpPr/>
            <p:nvPr/>
          </p:nvSpPr>
          <p:spPr>
            <a:xfrm flipH="1">
              <a:off x="7515720" y="4248720"/>
              <a:ext cx="347760" cy="0"/>
            </a:xfrm>
            <a:prstGeom prst="line">
              <a:avLst/>
            </a:prstGeom>
            <a:ln w="1260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230"/>
          <p:cNvGrpSpPr/>
          <p:nvPr/>
        </p:nvGrpSpPr>
        <p:grpSpPr>
          <a:xfrm>
            <a:off x="4591080" y="1793880"/>
            <a:ext cx="1216080" cy="752400"/>
            <a:chOff x="4591080" y="1793880"/>
            <a:chExt cx="1216080" cy="752400"/>
          </a:xfrm>
        </p:grpSpPr>
        <p:sp>
          <p:nvSpPr>
            <p:cNvPr id="474" name="矩形 251"/>
            <p:cNvSpPr/>
            <p:nvPr/>
          </p:nvSpPr>
          <p:spPr>
            <a:xfrm flipV="1" rot="10800000">
              <a:off x="4591080" y="1793880"/>
              <a:ext cx="1216080" cy="752400"/>
            </a:xfrm>
            <a:prstGeom prst="rect">
              <a:avLst/>
            </a:prstGeom>
            <a:noFill/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直接连接符 228"/>
            <p:cNvSpPr/>
            <p:nvPr/>
          </p:nvSpPr>
          <p:spPr>
            <a:xfrm>
              <a:off x="4591080" y="2259720"/>
              <a:ext cx="1216080" cy="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231"/>
          <p:cNvGrpSpPr/>
          <p:nvPr/>
        </p:nvGrpSpPr>
        <p:grpSpPr>
          <a:xfrm>
            <a:off x="7508160" y="1793880"/>
            <a:ext cx="1214280" cy="752400"/>
            <a:chOff x="7508160" y="1793880"/>
            <a:chExt cx="1214280" cy="752400"/>
          </a:xfrm>
        </p:grpSpPr>
        <p:sp>
          <p:nvSpPr>
            <p:cNvPr id="477" name="矩形 266"/>
            <p:cNvSpPr/>
            <p:nvPr/>
          </p:nvSpPr>
          <p:spPr>
            <a:xfrm flipH="1" flipV="1" rot="10800000">
              <a:off x="7507800" y="1793880"/>
              <a:ext cx="1214280" cy="752400"/>
            </a:xfrm>
            <a:prstGeom prst="rect">
              <a:avLst/>
            </a:prstGeom>
            <a:noFill/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直接连接符 229"/>
            <p:cNvSpPr/>
            <p:nvPr/>
          </p:nvSpPr>
          <p:spPr>
            <a:xfrm>
              <a:off x="7972560" y="1797480"/>
              <a:ext cx="0" cy="744840"/>
            </a:xfrm>
            <a:prstGeom prst="line">
              <a:avLst/>
            </a:prstGeom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矩形 232"/>
          <p:cNvSpPr/>
          <p:nvPr/>
        </p:nvSpPr>
        <p:spPr>
          <a:xfrm>
            <a:off x="606600" y="5089680"/>
            <a:ext cx="4736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Segoe UI"/>
                <a:ea typeface="微软雅黑"/>
              </a:rPr>
              <a:t>PS</a:t>
            </a:r>
            <a:r>
              <a:rPr b="0" lang="zh-CN" sz="1200" spc="-1" strike="noStrike">
                <a:solidFill>
                  <a:srgbClr val="c00000"/>
                </a:solidFill>
                <a:latin typeface="Segoe UI"/>
                <a:ea typeface="微软雅黑"/>
              </a:rPr>
              <a:t>：目前发现如图</a:t>
            </a:r>
            <a:r>
              <a:rPr b="0" lang="en-US" sz="1200" spc="-1" strike="noStrike">
                <a:solidFill>
                  <a:srgbClr val="c00000"/>
                </a:solidFill>
                <a:latin typeface="Segoe UI"/>
                <a:ea typeface="微软雅黑"/>
              </a:rPr>
              <a:t>12</a:t>
            </a:r>
            <a:r>
              <a:rPr b="0" lang="zh-CN" sz="1200" spc="-1" strike="noStrike">
                <a:solidFill>
                  <a:srgbClr val="c00000"/>
                </a:solidFill>
                <a:latin typeface="Segoe UI"/>
                <a:ea typeface="微软雅黑"/>
              </a:rPr>
              <a:t>条黄金分割线，如有错误，欢迎大家指正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33"/>
          <p:cNvSpPr/>
          <p:nvPr/>
        </p:nvSpPr>
        <p:spPr>
          <a:xfrm>
            <a:off x="682560" y="3324240"/>
            <a:ext cx="2089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00"/>
                </a:solidFill>
                <a:latin typeface="Segoe UI"/>
                <a:ea typeface="微软雅黑"/>
              </a:rPr>
              <a:t>其中，</a:t>
            </a:r>
            <a:r>
              <a:rPr b="0" lang="zh-CN" sz="1100" spc="-1" strike="noStrike">
                <a:solidFill>
                  <a:srgbClr val="ffffff"/>
                </a:solidFill>
                <a:latin typeface="Segoe UI"/>
                <a:ea typeface="微软雅黑"/>
              </a:rPr>
              <a:t>一条分割线将面积为</a:t>
            </a:r>
            <a:r>
              <a:rPr b="0" lang="en-US" sz="1100" spc="-1" strike="noStrike">
                <a:solidFill>
                  <a:srgbClr val="ffff00"/>
                </a:solidFill>
                <a:latin typeface="Segoe UI"/>
                <a:ea typeface="微软雅黑"/>
              </a:rPr>
              <a:t>S</a:t>
            </a:r>
            <a:r>
              <a:rPr b="0" lang="zh-CN" sz="1100" spc="-1" strike="noStrike">
                <a:solidFill>
                  <a:srgbClr val="ffffff"/>
                </a:solidFill>
                <a:latin typeface="Segoe UI"/>
                <a:ea typeface="微软雅黑"/>
              </a:rPr>
              <a:t>的黄金矩形划分为两部分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Segoe UI"/>
                <a:ea typeface="微软雅黑"/>
              </a:rPr>
              <a:t>S1</a:t>
            </a:r>
            <a:r>
              <a:rPr b="0" lang="zh-CN" sz="1100" spc="-1" strike="noStrike">
                <a:solidFill>
                  <a:srgbClr val="ffffff"/>
                </a:solidFill>
                <a:latin typeface="Segoe UI"/>
                <a:ea typeface="微软雅黑"/>
              </a:rPr>
              <a:t>为较</a:t>
            </a:r>
            <a:r>
              <a:rPr b="0" lang="zh-CN" sz="1100" spc="-1" strike="noStrike">
                <a:solidFill>
                  <a:srgbClr val="ffff00"/>
                </a:solidFill>
                <a:latin typeface="Segoe UI"/>
                <a:ea typeface="微软雅黑"/>
              </a:rPr>
              <a:t>大</a:t>
            </a:r>
            <a:r>
              <a:rPr b="0" lang="zh-CN" sz="1100" spc="-1" strike="noStrike">
                <a:solidFill>
                  <a:srgbClr val="ffffff"/>
                </a:solidFill>
                <a:latin typeface="Segoe UI"/>
                <a:ea typeface="微软雅黑"/>
              </a:rPr>
              <a:t>面积形状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Segoe UI"/>
                <a:ea typeface="微软雅黑"/>
              </a:rPr>
              <a:t>S2</a:t>
            </a:r>
            <a:r>
              <a:rPr b="0" lang="zh-CN" sz="1100" spc="-1" strike="noStrike">
                <a:solidFill>
                  <a:srgbClr val="ffffff"/>
                </a:solidFill>
                <a:latin typeface="Segoe UI"/>
                <a:ea typeface="微软雅黑"/>
              </a:rPr>
              <a:t>为较</a:t>
            </a:r>
            <a:r>
              <a:rPr b="0" lang="zh-CN" sz="1100" spc="-1" strike="noStrike">
                <a:solidFill>
                  <a:srgbClr val="ffff00"/>
                </a:solidFill>
                <a:latin typeface="Segoe UI"/>
                <a:ea typeface="微软雅黑"/>
              </a:rPr>
              <a:t>小</a:t>
            </a:r>
            <a:r>
              <a:rPr b="0" lang="zh-CN" sz="1100" spc="-1" strike="noStrike">
                <a:solidFill>
                  <a:srgbClr val="ffffff"/>
                </a:solidFill>
                <a:latin typeface="Segoe UI"/>
                <a:ea typeface="微软雅黑"/>
              </a:rPr>
              <a:t>面积形状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7:4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3Z</dcterms:modified>
  <cp:revision>37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