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225-3AB0-4565-9F8F-E9F1EEB1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2D1-565F-46D2-84ED-A07D6ED0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AC8-3C23-468C-9102-FB616371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2D2-39AF-4753-AD0D-D799567C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4EF-87B4-43BE-BBF0-627CEACA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154-48A0-44DC-994F-7F046714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FD58-CC29-44D5-9644-A0198B20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FB9-C9ED-41DD-92D8-42B47038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C3A-5CFA-4F52-B3B6-429B6A14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72F-1124-4DDF-A7F3-9A5AA6B1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849-956F-400D-B32F-39CA824A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5D1-52EF-4732-87DF-E10E1181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5DB2-7F5A-48F1-B43C-C1FE532BC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1486080"/>
            <a:ext cx="546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ccff"/>
                </a:solidFill>
                <a:latin typeface="Times New Roman"/>
              </a:rPr>
              <a:t>红酒</a:t>
            </a:r>
            <a:r>
              <a:rPr b="0" lang="zh-CN" sz="4000" spc="-1" strike="noStrike">
                <a:solidFill>
                  <a:srgbClr val="cccc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ccccff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D:\网站更新\新图素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网站更新\新图素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839-E09C-4983-8B95-485081AF305A}" type="slidenum">
              <a:t>4</a:t>
            </a:fld>
          </a:p>
        </p:txBody>
      </p:sp>
    </p:spTree>
  </p:cSld>
  <p:transition>
    <p:cover dir="rd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d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d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d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02:33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8:26Z</dcterms:modified>
  <cp:revision>123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