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92-6E12-4ADE-8283-B967B5DA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5E4-0ED8-4057-A500-2E040E6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BFB-8802-4EDC-856D-03EE1134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B07-D8ED-432E-A057-FFF99AD0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CFB-10A5-473F-88B5-3290186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118224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903120"/>
            <a:ext cx="27723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95D-7204-4EF9-9680-16BFA3C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CE7-4EE8-4E00-B7F2-9A60C17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0E4-CCA1-4FA6-A167-2ACCB33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2C4-575C-4676-A3B2-C27CFAD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7C6-3AE9-427E-9F8A-1B90A7E3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90312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F4A-0582-4BF4-ADC2-564A18F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7391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82240"/>
            <a:ext cx="420156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03120"/>
            <a:ext cx="8610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0CE-0B06-406A-933F-465E71F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9360" y="1440"/>
            <a:ext cx="7329600" cy="10702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324560" y="1440"/>
            <a:ext cx="219240" cy="107028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53360"/>
            <a:ext cx="1676520" cy="40464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88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752120" y="6540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552720"/>
            <a:ext cx="2362320" cy="2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399-A833-4BC2-8E45-6B922EADA9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286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543800" y="0"/>
            <a:ext cx="1600200" cy="1074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105520" y="0"/>
            <a:ext cx="4047840" cy="3003480"/>
          </a:xfrm>
          <a:prstGeom prst="rect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029200" y="0"/>
            <a:ext cx="4124160" cy="300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352680"/>
            <a:ext cx="5113440" cy="350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100480" y="3352680"/>
            <a:ext cx="4043520" cy="3505320"/>
          </a:xfrm>
          <a:prstGeom prst="rect">
            <a:avLst/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440" y="0"/>
            <a:ext cx="5104080" cy="3352680"/>
          </a:xfrm>
          <a:prstGeom prst="rect">
            <a:avLst/>
          </a:pr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105520" y="2997360"/>
            <a:ext cx="4038480" cy="36036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2997360"/>
            <a:ext cx="5105520" cy="36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3352680"/>
            <a:ext cx="5100480" cy="350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5099040" y="0"/>
            <a:ext cx="4044960" cy="3008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04920" y="1182240"/>
            <a:ext cx="861048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884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8.png"/><Relationship Id="rId11" Type="http://schemas.openxmlformats.org/officeDocument/2006/relationships/image" Target="../media/image21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ebd531"/>
                </a:solidFill>
                <a:latin typeface="Arial"/>
                <a:ea typeface="宋体"/>
              </a:rPr>
              <a:t>Themegallery</a:t>
            </a:r>
            <a:br>
              <a:rPr sz="25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1120" y="29185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4840" y="33526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绿色水果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表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3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6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59" name="AutoShape 7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bf6d3"/>
                </a:gs>
                <a:gs pos="100000">
                  <a:srgbClr val="ebd5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8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9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62" name="AutoShape 10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ae6da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1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2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65" name="AutoShape 13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feed6"/>
                </a:gs>
                <a:gs pos="100000">
                  <a:srgbClr val="66b1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3800520" y="4660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3800520" y="3355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3800520" y="19940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3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66b1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ebd53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ebd531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3529080" y="1871640"/>
            <a:ext cx="18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2276640" y="3981600"/>
            <a:ext cx="1823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4710240" y="40212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66b13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4a3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4a3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4a3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4a3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b4a325"/>
              </a:gs>
            </a:gsLst>
            <a:lin ang="5400000"/>
          </a:gradFill>
          <a:ln w="57240">
            <a:solidFill>
              <a:srgbClr val="ebd531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9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66b13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861840" y="4441680"/>
            <a:ext cx="201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631044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5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6" name="AutoShape 16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7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1ba"/>
                </a:gs>
                <a:gs pos="50000">
                  <a:srgbClr val="ebd531">
                    <a:alpha val="90196"/>
                  </a:srgbClr>
                </a:gs>
                <a:gs pos="100000">
                  <a:srgbClr val="f8f1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Rectangle 18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9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20" name="AutoShape 20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21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d7c3"/>
                </a:gs>
                <a:gs pos="50000">
                  <a:srgbClr val="04884e">
                    <a:alpha val="90196"/>
                  </a:srgbClr>
                </a:gs>
                <a:gs pos="100000">
                  <a:srgbClr val="aad7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22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3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24" name="AutoShape 24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4016"/>
                </a:gs>
                <a:gs pos="50000">
                  <a:srgbClr val="66b13d"/>
                </a:gs>
                <a:gs pos="100000">
                  <a:srgbClr val="25401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5be"/>
                </a:gs>
                <a:gs pos="50000">
                  <a:srgbClr val="66b13d">
                    <a:alpha val="90196"/>
                  </a:srgbClr>
                </a:gs>
                <a:gs pos="100000">
                  <a:srgbClr val="cbe5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26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27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b13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8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d5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9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Group 3"/>
          <p:cNvGrpSpPr/>
          <p:nvPr/>
        </p:nvGrpSpPr>
        <p:grpSpPr>
          <a:xfrm>
            <a:off x="2325240" y="1933560"/>
            <a:ext cx="4217400" cy="4161960"/>
            <a:chOff x="2325240" y="1933560"/>
            <a:chExt cx="4217400" cy="4161960"/>
          </a:xfrm>
        </p:grpSpPr>
        <p:sp>
          <p:nvSpPr>
            <p:cNvPr id="532" name="AutoShape 4"/>
            <p:cNvSpPr/>
            <p:nvPr/>
          </p:nvSpPr>
          <p:spPr>
            <a:xfrm rot="10800000">
              <a:off x="3816720" y="5043240"/>
              <a:ext cx="119628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>
              <a:off x="3834360" y="1933560"/>
              <a:ext cx="1196280" cy="105264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186200">
              <a:off x="5190840" y="4235760"/>
              <a:ext cx="1194120" cy="105588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3597000">
              <a:off x="5187600" y="270216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374200">
              <a:off x="2485800" y="4244400"/>
              <a:ext cx="1192320" cy="1055880"/>
            </a:xfrm>
            <a:prstGeom prst="triangle">
              <a:avLst>
                <a:gd name="adj" fmla="val 50000"/>
              </a:avLst>
            </a:prstGeom>
            <a:solidFill>
              <a:srgbClr val="ebd53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7985000">
              <a:off x="2489400" y="2697480"/>
              <a:ext cx="1194120" cy="10558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0"/>
            <p:cNvSpPr/>
            <p:nvPr/>
          </p:nvSpPr>
          <p:spPr>
            <a:xfrm>
              <a:off x="3157560" y="5429160"/>
              <a:ext cx="1186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11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5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6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7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8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9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0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1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2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3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4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5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6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b1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b13d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5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62" name="Oval 6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8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9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0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1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2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1935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Line 13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19358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5" descr="box_crom_f0001"/>
          <p:cNvPicPr/>
          <p:nvPr/>
        </p:nvPicPr>
        <p:blipFill>
          <a:blip r:embed="rId1"/>
          <a:srcRect l="37881" t="32972" r="31300" b="24512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6" descr="box_crom_f0001"/>
          <p:cNvPicPr/>
          <p:nvPr/>
        </p:nvPicPr>
        <p:blipFill>
          <a:blip r:embed="rId2"/>
          <a:srcRect l="37885" t="32874" r="31278" b="24508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7" descr="box_crom_f0001"/>
          <p:cNvPicPr/>
          <p:nvPr/>
        </p:nvPicPr>
        <p:blipFill>
          <a:blip r:embed="rId3"/>
          <a:srcRect l="37914" t="32856" r="31291" b="24491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8" descr="box_crom_f0001"/>
          <p:cNvPicPr/>
          <p:nvPr/>
        </p:nvPicPr>
        <p:blipFill>
          <a:blip r:embed="rId4"/>
          <a:srcRect l="37924" t="32840" r="31263" b="24507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9" descr="box_crom_f0001"/>
          <p:cNvPicPr/>
          <p:nvPr/>
        </p:nvPicPr>
        <p:blipFill>
          <a:blip r:embed="rId5"/>
          <a:srcRect l="37955" t="32832" r="31282" b="24509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0" descr="box_crom_f0001"/>
          <p:cNvPicPr/>
          <p:nvPr/>
        </p:nvPicPr>
        <p:blipFill>
          <a:blip r:embed="rId6"/>
          <a:srcRect l="37898" t="32860" r="31247" b="24496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1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4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5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7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8" descr="box_crom_f0001"/>
          <p:cNvPicPr/>
          <p:nvPr/>
        </p:nvPicPr>
        <p:blipFill>
          <a:blip r:embed="rId7"/>
          <a:srcRect l="37903" t="32841" r="31246" b="24507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29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0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1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4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7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3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4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5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6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9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1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2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3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4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5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6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7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8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9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66b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0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1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2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3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4" descr="box_crom_f0001"/>
          <p:cNvPicPr/>
          <p:nvPr/>
        </p:nvPicPr>
        <p:blipFill>
          <a:blip r:embed="rId8"/>
          <a:srcRect l="37890" t="32808" r="31267" b="24514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5" descr="box_crom_f0001"/>
          <p:cNvPicPr/>
          <p:nvPr/>
        </p:nvPicPr>
        <p:blipFill>
          <a:blip r:embed="rId9"/>
          <a:srcRect l="37926" t="32863" r="31250" b="24519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6" descr="box_crom_f0001"/>
          <p:cNvPicPr/>
          <p:nvPr/>
        </p:nvPicPr>
        <p:blipFill>
          <a:blip r:embed="rId10"/>
          <a:srcRect l="37885" t="32874" r="31278" b="24508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7" descr="box_crom_f0001"/>
          <p:cNvPicPr/>
          <p:nvPr/>
        </p:nvPicPr>
        <p:blipFill>
          <a:blip r:embed="rId11"/>
          <a:srcRect l="37955" t="32832" r="31282" b="24509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8" descr="box_crom_f0001"/>
          <p:cNvPicPr/>
          <p:nvPr/>
        </p:nvPicPr>
        <p:blipFill>
          <a:blip r:embed="rId12"/>
          <a:srcRect l="37971" t="32972" r="31260" b="24512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ebd531"/>
              </a:gs>
              <a:gs pos="50000">
                <a:srgbClr val="9d8e21">
                  <a:alpha val="12156"/>
                </a:srgbClr>
              </a:gs>
              <a:gs pos="100000">
                <a:srgbClr val="ebd5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66b13d"/>
              </a:gs>
              <a:gs pos="100000">
                <a:srgbClr val="417027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df3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df3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df3"/>
              </a:gs>
              <a:gs pos="100000">
                <a:srgbClr val="ebd531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rc 2"/>
          <p:cNvSpPr/>
          <p:nvPr/>
        </p:nvSpPr>
        <p:spPr>
          <a:xfrm flipH="1">
            <a:off x="2401200" y="1771560"/>
            <a:ext cx="2214360" cy="2271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solidFill>
            <a:srgbClr val="66b13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rc 3"/>
          <p:cNvSpPr/>
          <p:nvPr/>
        </p:nvSpPr>
        <p:spPr>
          <a:xfrm flipH="1" flipV="1">
            <a:off x="2413080" y="4050720"/>
            <a:ext cx="2187360" cy="21812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ebd53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4"/>
          <p:cNvSpPr/>
          <p:nvPr/>
        </p:nvSpPr>
        <p:spPr>
          <a:xfrm>
            <a:off x="4600440" y="1771560"/>
            <a:ext cx="2278080" cy="2273400"/>
          </a:xfrm>
          <a:custGeom>
            <a:avLst/>
            <a:gdLst/>
            <a:ahLst/>
            <a:rect l="l" t="t" r="r" b="b"/>
            <a:pathLst>
              <a:path fill="none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</a:path>
              <a:path stroke="0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  <a:lnTo>
                  <a:pt x="85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9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5"/>
          <p:cNvSpPr/>
          <p:nvPr/>
        </p:nvSpPr>
        <p:spPr>
          <a:xfrm flipV="1">
            <a:off x="4608360" y="4042800"/>
            <a:ext cx="2268720" cy="21891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19358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rc 6"/>
          <p:cNvSpPr/>
          <p:nvPr/>
        </p:nvSpPr>
        <p:spPr>
          <a:xfrm>
            <a:off x="4610160" y="1930320"/>
            <a:ext cx="2082600" cy="2121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b26900"/>
              </a:gs>
              <a:gs pos="100000">
                <a:srgbClr val="ff9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rc 7"/>
          <p:cNvSpPr/>
          <p:nvPr/>
        </p:nvSpPr>
        <p:spPr>
          <a:xfrm flipH="1" flipV="1">
            <a:off x="3151080" y="4004640"/>
            <a:ext cx="1463760" cy="1498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ebd531"/>
              </a:gs>
              <a:gs pos="100000">
                <a:srgbClr val="a495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rc 8"/>
          <p:cNvSpPr/>
          <p:nvPr/>
        </p:nvSpPr>
        <p:spPr>
          <a:xfrm flipV="1">
            <a:off x="4610160" y="4043520"/>
            <a:ext cx="1176120" cy="1218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c193d"/>
              </a:gs>
              <a:gs pos="100000">
                <a:srgbClr val="193583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rc 9"/>
          <p:cNvSpPr/>
          <p:nvPr/>
        </p:nvSpPr>
        <p:spPr>
          <a:xfrm flipH="1">
            <a:off x="2962440" y="2354400"/>
            <a:ext cx="1653840" cy="1697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gradFill rotWithShape="0">
            <a:gsLst>
              <a:gs pos="0">
                <a:srgbClr val="3e6c25"/>
              </a:gs>
              <a:gs pos="100000">
                <a:srgbClr val="66b13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1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2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45" name="Picture 13" descr="man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6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49" name="Picture 17" descr="man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20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53" name="Picture 21" descr="man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24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57" name="Picture 25" descr="man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28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675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7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679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ebd531"/>
                </a:gs>
                <a:gs pos="100000">
                  <a:srgbClr val="6d63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b13d"/>
                </a:gs>
                <a:gs pos="100000">
                  <a:srgbClr val="2f52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9a9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AutoShape 11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2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ebd53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3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5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b13d"/>
                </a:gs>
                <a:gs pos="50000">
                  <a:srgbClr val="dfeed6"/>
                </a:gs>
                <a:gs pos="100000">
                  <a:srgbClr val="66b13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6b13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0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d531"/>
                </a:gs>
                <a:gs pos="50000">
                  <a:srgbClr val="fbf6d3"/>
                </a:gs>
                <a:gs pos="100000">
                  <a:srgbClr val="ebd53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ebd53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5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ae6da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0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fe9c9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f9600">
                  <a:alpha val="50196"/>
                </a:srgbClr>
              </a:gs>
              <a:gs pos="50000">
                <a:srgbClr val="ffffff"/>
              </a:gs>
              <a:gs pos="100000">
                <a:srgbClr val="ff96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ebd531">
                  <a:alpha val="50196"/>
                </a:srgbClr>
              </a:gs>
              <a:gs pos="50000">
                <a:srgbClr val="ffffff"/>
              </a:gs>
              <a:gs pos="100000">
                <a:srgbClr val="ebd531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f9600">
                  <a:alpha val="50196"/>
                </a:srgbClr>
              </a:gs>
              <a:gs pos="50000">
                <a:srgbClr val="ffffff"/>
              </a:gs>
              <a:gs pos="100000">
                <a:srgbClr val="ff96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ebd531">
                  <a:alpha val="50196"/>
                </a:srgbClr>
              </a:gs>
              <a:gs pos="50000">
                <a:srgbClr val="ffffff"/>
              </a:gs>
              <a:gs pos="100000">
                <a:srgbClr val="ebd531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f9600">
                  <a:alpha val="50196"/>
                </a:srgbClr>
              </a:gs>
              <a:gs pos="50000">
                <a:srgbClr val="ffffff"/>
              </a:gs>
              <a:gs pos="100000">
                <a:srgbClr val="ff9600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8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1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2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696" name="AutoShape 13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bd531"/>
                </a:gs>
                <a:gs pos="50000">
                  <a:srgbClr val="554d12"/>
                </a:gs>
                <a:gs pos="100000">
                  <a:srgbClr val="ebd5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4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756a18"/>
                </a:gs>
                <a:gs pos="100000">
                  <a:srgbClr val="ebd5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5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699" name="AutoShape 16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8f5400"/>
                </a:gs>
                <a:gs pos="100000">
                  <a:srgbClr val="ff9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7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8f5400"/>
                </a:gs>
                <a:gs pos="100000">
                  <a:srgbClr val="ff9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8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702" name="AutoShape 19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ebd531"/>
                </a:gs>
                <a:gs pos="50000">
                  <a:srgbClr val="84771b"/>
                </a:gs>
                <a:gs pos="100000">
                  <a:srgbClr val="ebd5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20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4771b"/>
                </a:gs>
                <a:gs pos="100000">
                  <a:srgbClr val="ebd5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1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705" name="AutoShape 22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a86300"/>
                </a:gs>
                <a:gs pos="100000">
                  <a:srgbClr val="ff9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3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c37300"/>
                </a:gs>
                <a:gs pos="100000">
                  <a:srgbClr val="ff9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AutoShape 24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ebd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7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8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9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1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2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3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4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5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6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0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WordArt 2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3583"/>
                    </a:gs>
                    <a:gs pos="100000">
                      <a:srgbClr val="04884e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3583"/>
                  </a:gs>
                  <a:gs pos="100000">
                    <a:srgbClr val="04884e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5181120" y="29185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280" y="1337760"/>
            <a:ext cx="818496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488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500" spc="-1" strike="noStrike">
                <a:solidFill>
                  <a:srgbClr val="04884e"/>
                </a:solidFill>
                <a:latin typeface="Arial"/>
                <a:ea typeface="宋体"/>
              </a:rPr>
              <a:t>[View]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500" spc="-1" strike="noStrike">
                <a:solidFill>
                  <a:srgbClr val="04884e"/>
                </a:solidFill>
                <a:latin typeface="Arial"/>
                <a:ea typeface="宋体"/>
              </a:rPr>
              <a:t>[Master]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500" spc="-1" strike="noStrike">
                <a:solidFill>
                  <a:srgbClr val="04884e"/>
                </a:solidFill>
                <a:latin typeface="Arial"/>
                <a:ea typeface="宋体"/>
              </a:rPr>
              <a:t>[Slide Master]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500" spc="-1" strike="noStrike">
                <a:solidFill>
                  <a:srgbClr val="04884e"/>
                </a:solidFill>
                <a:latin typeface="Arial"/>
                <a:ea typeface="宋体"/>
              </a:rPr>
              <a:t>[Notes Master]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53020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photosclub.co.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ebd531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600"/>
              </a:gs>
              <a:gs pos="50000">
                <a:srgbClr val="ffb03e"/>
              </a:gs>
              <a:gs pos="100000">
                <a:srgbClr val="ff9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b13d"/>
              </a:gs>
              <a:gs pos="50000">
                <a:srgbClr val="8bc46c"/>
              </a:gs>
              <a:gs pos="100000">
                <a:srgbClr val="66b13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9" name="AutoShape 5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2" name="AutoShape 8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b13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b1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5" name="AutoShape 11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d53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bd5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1" name="Group 17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2" name="Oval 18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9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0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1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2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3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8" name="Oval 24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5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26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7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8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29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64" name="Group 30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5" name="Oval 31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2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3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34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5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6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1" name="Oval 37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38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39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40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41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42"/>
          <p:cNvSpPr/>
          <p:nvPr/>
        </p:nvSpPr>
        <p:spPr>
          <a:xfrm>
            <a:off x="990720" y="16002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8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0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13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14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66b13d"/>
          </a:solidFill>
          <a:ln w="9360">
            <a:solidFill>
              <a:srgbClr val="66b13d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9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96" name="Arc 21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66b13d">
              <a:alpha val="50000"/>
            </a:srgbClr>
          </a:solidFill>
          <a:ln w="9360">
            <a:solidFill>
              <a:srgbClr val="66b1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22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23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784960" y="2986560"/>
            <a:ext cx="1886040" cy="1779120"/>
            <a:chOff x="2784960" y="2986560"/>
            <a:chExt cx="1886040" cy="1779120"/>
          </a:xfrm>
        </p:grpSpPr>
        <p:sp>
          <p:nvSpPr>
            <p:cNvPr id="200" name="AutoShape 25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6"/>
            <p:cNvSpPr/>
            <p:nvPr/>
          </p:nvSpPr>
          <p:spPr>
            <a:xfrm flipV="1" rot="18694800">
              <a:off x="3393000" y="3163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7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8"/>
            <p:cNvSpPr/>
            <p:nvPr/>
          </p:nvSpPr>
          <p:spPr>
            <a:xfrm flipV="1" rot="17867400">
              <a:off x="3664080" y="33822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rc 29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8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b13d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4243320" y="1310400"/>
            <a:ext cx="1823760" cy="1508400"/>
            <a:chOff x="4243320" y="1310400"/>
            <a:chExt cx="1823760" cy="1508400"/>
          </a:xfrm>
        </p:grpSpPr>
        <p:grpSp>
          <p:nvGrpSpPr>
            <p:cNvPr id="215" name="Group 40"/>
            <p:cNvGrpSpPr/>
            <p:nvPr/>
          </p:nvGrpSpPr>
          <p:grpSpPr>
            <a:xfrm>
              <a:off x="4641480" y="1310400"/>
              <a:ext cx="1425600" cy="1508400"/>
              <a:chOff x="4641480" y="1310400"/>
              <a:chExt cx="1425600" cy="1508400"/>
            </a:xfrm>
          </p:grpSpPr>
          <p:sp>
            <p:nvSpPr>
              <p:cNvPr id="216" name="AutoShape 41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42"/>
              <p:cNvSpPr/>
              <p:nvPr/>
            </p:nvSpPr>
            <p:spPr>
              <a:xfrm flipV="1" rot="8167800">
                <a:off x="5336640" y="131760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43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44"/>
              <p:cNvSpPr/>
              <p:nvPr/>
            </p:nvSpPr>
            <p:spPr>
              <a:xfrm flipV="1" rot="7340400">
                <a:off x="5133960" y="1126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45"/>
            <p:cNvGrpSpPr/>
            <p:nvPr/>
          </p:nvGrpSpPr>
          <p:grpSpPr>
            <a:xfrm>
              <a:off x="4243320" y="1317600"/>
              <a:ext cx="1742760" cy="1050120"/>
              <a:chOff x="4243320" y="1317600"/>
              <a:chExt cx="1742760" cy="1050120"/>
            </a:xfrm>
          </p:grpSpPr>
          <p:sp>
            <p:nvSpPr>
              <p:cNvPr id="221" name="AutoShape 46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47"/>
              <p:cNvSpPr/>
              <p:nvPr/>
            </p:nvSpPr>
            <p:spPr>
              <a:xfrm flipV="1" rot="6814800">
                <a:off x="5036400" y="10544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48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49"/>
              <p:cNvSpPr/>
              <p:nvPr/>
            </p:nvSpPr>
            <p:spPr>
              <a:xfrm flipV="1" rot="5987400">
                <a:off x="4775400" y="95508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f8f1ba"/>
              </a:gs>
              <a:gs pos="100000">
                <a:srgbClr val="ebd5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2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46" name="Group 23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47" name="Oval 24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5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6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7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8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Oval 29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Object 3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55" name="Object 4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8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0" name="Oval 9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6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0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1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2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5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6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78" name="Oval 27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8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9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0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1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2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3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4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5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6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7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8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9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0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2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4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296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8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9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0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1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2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3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4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5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56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7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8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9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60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62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3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4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5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6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7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8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9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70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22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4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5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6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77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8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79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80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81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82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83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84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5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6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87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8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89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0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1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2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93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4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5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96"/>
          <p:cNvGrpSpPr/>
          <p:nvPr/>
        </p:nvGrpSpPr>
        <p:grpSpPr>
          <a:xfrm>
            <a:off x="3154320" y="4548240"/>
            <a:ext cx="610920" cy="485280"/>
            <a:chOff x="3154320" y="4548240"/>
            <a:chExt cx="610920" cy="485280"/>
          </a:xfrm>
        </p:grpSpPr>
        <p:sp>
          <p:nvSpPr>
            <p:cNvPr id="348" name="未知"/>
            <p:cNvSpPr/>
            <p:nvPr/>
          </p:nvSpPr>
          <p:spPr>
            <a:xfrm flipH="1">
              <a:off x="3154320" y="4646880"/>
              <a:ext cx="300960" cy="3855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8"/>
            <p:cNvSpPr/>
            <p:nvPr/>
          </p:nvSpPr>
          <p:spPr>
            <a:xfrm flipH="1">
              <a:off x="3262680" y="4548240"/>
              <a:ext cx="802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未知"/>
            <p:cNvGrpSpPr/>
            <p:nvPr/>
          </p:nvGrpSpPr>
          <p:grpSpPr>
            <a:xfrm>
              <a:off x="3455280" y="4645080"/>
              <a:ext cx="309960" cy="388440"/>
              <a:chOff x="3455280" y="4645080"/>
              <a:chExt cx="309960" cy="388440"/>
            </a:xfrm>
          </p:grpSpPr>
          <p:pic>
            <p:nvPicPr>
              <p:cNvPr id="351" name="未知" descr="circuler_11"/>
              <p:cNvPicPr/>
              <p:nvPr/>
            </p:nvPicPr>
            <p:blipFill>
              <a:blip r:embed="rId3"/>
              <a:stretch/>
            </p:blipFill>
            <p:spPr>
              <a:xfrm>
                <a:off x="3455280" y="4645080"/>
                <a:ext cx="309960" cy="38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463560" y="4653720"/>
                <a:ext cx="288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Oval 100"/>
            <p:cNvGrpSpPr/>
            <p:nvPr/>
          </p:nvGrpSpPr>
          <p:grpSpPr>
            <a:xfrm>
              <a:off x="3563640" y="4553640"/>
              <a:ext cx="94680" cy="115200"/>
              <a:chOff x="3563640" y="4553640"/>
              <a:chExt cx="94680" cy="115200"/>
            </a:xfrm>
          </p:grpSpPr>
          <p:pic>
            <p:nvPicPr>
              <p:cNvPr id="354" name="Oval 10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563640" y="4553640"/>
                <a:ext cx="9468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3582720" y="4574520"/>
                <a:ext cx="53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Group 101"/>
          <p:cNvGrpSpPr/>
          <p:nvPr/>
        </p:nvGrpSpPr>
        <p:grpSpPr>
          <a:xfrm>
            <a:off x="7794360" y="4545000"/>
            <a:ext cx="622080" cy="477360"/>
            <a:chOff x="7794360" y="4545000"/>
            <a:chExt cx="622080" cy="477360"/>
          </a:xfrm>
        </p:grpSpPr>
        <p:sp>
          <p:nvSpPr>
            <p:cNvPr id="357" name="未知"/>
            <p:cNvSpPr/>
            <p:nvPr/>
          </p:nvSpPr>
          <p:spPr>
            <a:xfrm flipH="1">
              <a:off x="7794000" y="4641120"/>
              <a:ext cx="306360" cy="3758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 flipH="1">
              <a:off x="7905240" y="4545000"/>
              <a:ext cx="81720" cy="98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未知"/>
            <p:cNvGrpSpPr/>
            <p:nvPr/>
          </p:nvGrpSpPr>
          <p:grpSpPr>
            <a:xfrm>
              <a:off x="8106840" y="4643640"/>
              <a:ext cx="309600" cy="378720"/>
              <a:chOff x="8106840" y="4643640"/>
              <a:chExt cx="309600" cy="378720"/>
            </a:xfrm>
          </p:grpSpPr>
          <p:pic>
            <p:nvPicPr>
              <p:cNvPr id="360" name="未知" descr="circuler_11"/>
              <p:cNvPicPr/>
              <p:nvPr/>
            </p:nvPicPr>
            <p:blipFill>
              <a:blip r:embed="rId5"/>
              <a:stretch/>
            </p:blipFill>
            <p:spPr>
              <a:xfrm>
                <a:off x="8106840" y="4643640"/>
                <a:ext cx="30960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8110080" y="4647600"/>
                <a:ext cx="292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Oval 105"/>
            <p:cNvGrpSpPr/>
            <p:nvPr/>
          </p:nvGrpSpPr>
          <p:grpSpPr>
            <a:xfrm>
              <a:off x="8214480" y="4552920"/>
              <a:ext cx="95400" cy="108360"/>
              <a:chOff x="8214480" y="4552920"/>
              <a:chExt cx="95400" cy="108360"/>
            </a:xfrm>
          </p:grpSpPr>
          <p:pic>
            <p:nvPicPr>
              <p:cNvPr id="363" name="Oval 10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8214480" y="4552920"/>
                <a:ext cx="9540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8230680" y="4570200"/>
                <a:ext cx="547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Group 106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66" name="Group 107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7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13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73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19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79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25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85" name="Group 126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86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32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92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8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8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2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 rot="18900000">
            <a:off x="3225600" y="2619000"/>
            <a:ext cx="2454120" cy="2454120"/>
          </a:xfrm>
          <a:custGeom>
            <a:avLst/>
            <a:gdLst>
              <a:gd name="textAreaLeft" fmla="*/ 613440 w 2454120"/>
              <a:gd name="textAreaRight" fmla="*/ 1840680 w 24541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10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12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14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ebd53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16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19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 rot="5400000">
              <a:off x="3030840" y="23166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 flipV="1" rot="16200000">
              <a:off x="303444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7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5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7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3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45" name="Group 44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46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3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