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041-2FA3-4757-B2A7-3F9F501F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542-0A54-4272-B8B8-C6FA4899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49E64-83B4-4A94-A353-2334A8EE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680FC-8C5E-4E8A-87B0-FA897526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8481D-B992-4509-A529-DCDC54A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D46BB-8F1C-45CC-A86C-04EECB2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C2B32-D722-4C35-92CE-EAC460F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9D8CE-1C70-42A3-81E0-1AF77D4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BE097-FB16-4E09-8C7D-554CBBC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7F028-2623-431E-BB5D-C453E638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C57AB-40C5-4664-B954-26683E08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91EDF-E531-4EAF-AB8E-E91B95CC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065-744F-4775-B71E-9BC436AE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7992-FDF5-406F-93D3-5A41EE07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A4A7E-AE80-413C-A605-52D93224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70F93-9126-4814-A12A-13B52B40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D6F51-2904-48DE-B972-8212FDDE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EF1A4-7393-4A87-BD7D-CBCE1CA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31639-6966-4672-9803-B3A9169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AE8ED-2C49-457E-B4DC-CEF8B08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D0CAB-9E71-4852-8FD4-C2DA353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CE4F3-9B38-4CB3-8C21-595A2E3E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2B1A9-8A8E-4340-B3BA-06AF1B8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974-6594-42EE-84DF-C4CAB030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5C583-29A5-4C43-9BAA-7895D26A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96C4D-6A9E-4052-9A4F-E93A82F9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7AC52-C8E3-4441-9CE8-91A19D0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6444F-5A05-4585-B844-5E0B7C41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DBCB-A3DF-4CFA-8BE6-F4B07821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644D-1600-481A-B7E0-6D6F4512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E9FFD-3630-4817-A92F-B9E1E771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D2261-28C0-4E81-8DEE-9FCDD8B6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7CA6-1835-460E-9697-8F4C275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5DC26-305C-4AD0-8823-E6E83DB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1964-DCE3-4CE9-B790-2257E34A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DD40B-D1F5-4B4F-8770-F2C8F73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B84A7-5CAC-480C-A5A1-1C5EC55A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1DDC-BC67-424C-9282-7D77FB56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9E9A-5FE6-490C-B6D6-BE27E8EF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262B6-7BA1-4A01-8CB0-A086223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05CD0-101F-4CE3-8FBA-8F132718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8B92B-E76A-4773-8DC6-DDAB752B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9AFC8-5399-4185-8423-A78DC75B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D1CAA-3329-430D-B07D-E672550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6AEBF-F0B2-4811-824F-2A68C85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F50-DB02-4881-A6B5-9107A851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CA75D-C8E3-46BB-9CA8-74F8029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687C-C4B3-4620-93DC-3D84ABC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B38CC-BA05-403D-9E7C-E07C3E70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C4B8B-1DD6-463D-82DC-CB0D31AA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35437-8360-4DFC-A53E-B86680AA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3E58B-05BD-4553-A384-AAE31C4C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6B97F-E871-40CD-AEE9-D999503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90864-B18F-4A1D-AEC0-016C3178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C2FA0-310A-4855-B843-24312D7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EE680-020C-4A1E-8C4E-D2A04C5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C656-3365-4145-957F-BBCB2B66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D91EB-0942-4155-A313-FFFFCE09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BADA6-F63C-42ED-B015-1040FC3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8F81E-9D1A-4F82-A883-AB9F1BE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3A1E0-F127-494A-9E00-40585EA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C88D6-F942-4B90-AE60-4A239F7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E2DBD-F9B7-4D7D-B72B-EC3945D6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47866-9124-43B4-BE1D-8947DEC5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AD1F-A634-4B3D-907F-34D07633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648-BA4E-4FC3-9E4D-4FC78BB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E7B8-24A8-4F26-AE5E-2DFE66BF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1105-9264-4842-AB93-B62A3B0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306-043A-4DB0-8C01-74A7D0F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9AF4-7A97-41B5-975B-17B4A2F5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7F00-939A-40F3-B2B4-70C80E29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547A-E377-43A6-AB72-32E31557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FCF9-8DC9-4B7F-8CDE-FF0DC778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EAED-3768-4313-8C77-3FD5EA9D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C01C-0A05-4E80-8B3C-0E399557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9A5F-D2AC-4DDF-A16A-7A4FE96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7E96-0AFC-48A7-AE36-335100F4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8A5F-7AEA-4D8C-BFD6-B12F6F2F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2EB8-4BD2-44AA-8EF9-475C355E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4B4-B03A-40E3-BD00-087BF4B1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089D-409A-4939-8B56-BD8EC1D2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1F94-1129-479C-9E6C-36F984B4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68C4-4F81-411C-B946-8FC04C7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08A8-443A-4F20-85BB-774C5B2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3AF1-2726-435D-9708-08C8C8C2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BB86-349C-438D-8222-5823C371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D0D4-1632-471C-A249-CE016259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4EEF-3CEA-4609-A3EB-7C073D77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9DD4-E44E-400B-B258-B016708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E0E6-971C-44A6-918E-07C93C61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6B1-2978-4A83-A31E-2713C7B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524D-67C9-459E-B585-6BD94C7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D834-492C-465F-A374-EA9CE14B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2434-24D7-436C-B92A-B6973D30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170D-75C0-4148-83A9-3F3BFF1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4CEF-6FCE-454F-945F-34965BA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1628-6584-46C5-BB5B-991D61A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6803-FBBC-4E0C-BD3E-F1E979F7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7410-6301-42DB-A7EE-AA23F5A2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0859-73B1-4FA2-AB38-15049925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6829-BE31-4516-A3FA-A42EBF3F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28F-E784-4B28-8270-FAF56964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923E-BC00-4ACA-87C0-DE3B6D47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95CA-94A5-488D-A702-187B54C7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27B6-84C8-47FE-98AE-AB38BAE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2C9B-AA63-4DA2-9D77-A1341B7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EDC9-3E03-478A-9297-AEF0C6D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166B-3100-426B-83D0-D612D8D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1F03-DF31-48EE-8F11-636C633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ACFF-EB4A-4C5E-A7A8-518F2B6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44AF6-3284-4C67-9644-6A0F8F5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14BF7-E55B-4ACB-BAC7-1B5EDABD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232-3ADB-4B86-A5D2-2F774E96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9596-6E1D-46F2-BCCF-B73DF4BD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F9975-66D7-4536-BB61-C29D74CF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37BB-FC89-493C-A068-5F9BB082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C06DC-9409-44B9-BD29-AC88173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C7A2-7E6B-4014-A47B-91656457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848B3-1537-4031-BDFD-ED0EF90C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4CDC-B9EC-4BA2-A405-D6CA1C08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CBAA-0140-4BC3-A571-3B94FEE9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CF2DD-A6F9-416C-8BBC-B5655D4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AC4E-2A63-4CE6-B107-7834BE6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A7B-A525-4FAA-948E-DEFD5AD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AC011-FD8B-4852-8A77-A3B547D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3709B-E7C4-45A1-9C02-28D60063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361E-D7F3-45C2-AEA4-D1018772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D762-CE0D-4982-9720-001BE873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6CA1A-8644-48C6-8CAE-29D2C2E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7782-FF33-4D92-AA3D-F61504A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E03C-1FC1-4090-99C6-7DCC618B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254A-F3B6-4AE1-9D8F-2166A5CF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161A6-4889-4D6B-B935-F9D6FAB7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6750-B2AC-4FB5-AA96-C5FF8724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DAA-25B4-45E0-A659-E889E725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00B0-9B8D-4D3A-9008-7DC4643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BC9E2-38CD-462C-AA1F-4D3B1851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3D7D-33BB-4EBF-B00A-90B11C3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0486F-E3DF-4240-900B-85645E5A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C96E9-EF82-4284-B69B-6292C145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A670-5EE0-477B-BAD6-E2538072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C103E-53DC-4D71-84E3-7A7B21A1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F19E-A172-4597-BB06-24ADF64A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F8A1-96A8-4A5E-8F8D-0BB4476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26EF4-AE87-4976-A72A-76480716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FDB-BB72-47E1-8914-AAE59E0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F2085-8485-4A22-B691-53D3B91C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974BF-650D-4149-80E6-766CB4D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77E8-B015-4B2D-A677-638FC9AC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1C27A-5BB3-4A99-930A-F070787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5B057-A54B-4DD9-821B-2F642365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39DC4-EF61-4A57-AB0F-D5EA36FD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E18E-7495-4230-97BC-D6A38A5A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22E0B-769C-45C3-A908-2AA599F4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7C864-0F55-494D-8BFE-9A9BBDC8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9C958-4282-4C9B-9F16-00742B5A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F8A-361F-4C88-905C-A9AAE4BDB3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B4A-6607-468E-B03B-13E6F3A088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D48-5F59-4A0A-BB31-83E503AD36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28A-98AC-4462-AC65-4ED3851B92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CCE6-E283-4A0C-96F8-070F3A1057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270-D787-44C2-8970-EA3B6A1B30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30FF-F22D-4F56-A352-5C99B23245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607-13B3-4C3C-B75D-A712DA71AE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05C-8784-44B0-94C9-B0695E6B81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603D-301C-4C2D-BB9E-CBFBE3B92F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C82B-9325-4B9C-AF95-4FCFA8595F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26DE-AF9C-4962-A724-9E32030C77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B70-3D29-4EF3-8803-E6691E2F4F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1F1E-7ACC-49F0-8F42-9CD9432219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72AE-3D88-408F-B91A-9503CF2E18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5FC-A217-46B3-81E5-56436AD0DB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347-6625-4624-AA40-EBA1400F20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A912-6F50-4A96-AC62-9FDAFC535D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4C83-D474-485F-94FB-300EDFFBFCA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8912-7284-48A5-9EE0-1E1AA3FD2A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77F6-B74F-4F0A-9D0B-47EC335433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9728-328C-41F5-B461-13B42872F8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F2DC-A544-4FC3-A43E-3822641D66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8450-8775-40A5-B2DD-11C2295BE9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DAE5-3251-4834-A063-B1FDA88136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49FF-FA4A-4C22-A94F-2A3E420390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D:\桌面\三维效果箭头.png"/>
          <p:cNvPicPr/>
          <p:nvPr/>
        </p:nvPicPr>
        <p:blipFill>
          <a:blip r:embed="rId2"/>
          <a:srcRect l="0" t="0" r="0" b="17538"/>
          <a:stretch/>
        </p:blipFill>
        <p:spPr>
          <a:xfrm>
            <a:off x="2000160" y="1206360"/>
            <a:ext cx="5033880" cy="36957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1"/>
          <p:cNvSpPr/>
          <p:nvPr/>
        </p:nvSpPr>
        <p:spPr>
          <a:xfrm flipH="1">
            <a:off x="6189120" y="51865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1"/>
          <p:cNvSpPr/>
          <p:nvPr/>
        </p:nvSpPr>
        <p:spPr>
          <a:xfrm flipH="1">
            <a:off x="6000840" y="4800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1"/>
          <p:cNvSpPr/>
          <p:nvPr/>
        </p:nvSpPr>
        <p:spPr>
          <a:xfrm flipH="1">
            <a:off x="6189120" y="5413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 flipH="1">
            <a:off x="6189120" y="5656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60"/>
          <p:cNvSpPr/>
          <p:nvPr/>
        </p:nvSpPr>
        <p:spPr>
          <a:xfrm>
            <a:off x="6189840" y="5102280"/>
            <a:ext cx="2298600" cy="4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1"/>
          <p:cNvSpPr/>
          <p:nvPr/>
        </p:nvSpPr>
        <p:spPr>
          <a:xfrm flipH="1">
            <a:off x="7308000" y="518652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1"/>
          <p:cNvSpPr/>
          <p:nvPr/>
        </p:nvSpPr>
        <p:spPr>
          <a:xfrm flipH="1">
            <a:off x="7308000" y="541332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 flipH="1">
            <a:off x="7308000" y="565632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4"/>
          <p:cNvSpPr/>
          <p:nvPr/>
        </p:nvSpPr>
        <p:spPr>
          <a:xfrm flipH="1">
            <a:off x="523080" y="5202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1"/>
          <p:cNvSpPr/>
          <p:nvPr/>
        </p:nvSpPr>
        <p:spPr>
          <a:xfrm flipH="1">
            <a:off x="1409760" y="48164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1"/>
          <p:cNvSpPr/>
          <p:nvPr/>
        </p:nvSpPr>
        <p:spPr>
          <a:xfrm flipH="1">
            <a:off x="523080" y="5429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1"/>
          <p:cNvSpPr/>
          <p:nvPr/>
        </p:nvSpPr>
        <p:spPr>
          <a:xfrm flipH="1">
            <a:off x="523080" y="5672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03"/>
          <p:cNvSpPr/>
          <p:nvPr/>
        </p:nvSpPr>
        <p:spPr>
          <a:xfrm>
            <a:off x="523800" y="5118120"/>
            <a:ext cx="2298600" cy="46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1"/>
          <p:cNvSpPr/>
          <p:nvPr/>
        </p:nvSpPr>
        <p:spPr>
          <a:xfrm flipH="1">
            <a:off x="1642320" y="5202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1"/>
          <p:cNvSpPr/>
          <p:nvPr/>
        </p:nvSpPr>
        <p:spPr>
          <a:xfrm flipH="1">
            <a:off x="1642320" y="5429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1"/>
          <p:cNvSpPr/>
          <p:nvPr/>
        </p:nvSpPr>
        <p:spPr>
          <a:xfrm flipH="1">
            <a:off x="1642320" y="5672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10"/>
          <p:cNvSpPr/>
          <p:nvPr/>
        </p:nvSpPr>
        <p:spPr>
          <a:xfrm>
            <a:off x="2428920" y="4616280"/>
            <a:ext cx="4214880" cy="87660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"/>
          <p:cNvSpPr/>
          <p:nvPr/>
        </p:nvSpPr>
        <p:spPr>
          <a:xfrm>
            <a:off x="871200" y="-27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环绕箭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0:54:30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