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E2B7-B915-4F09-A21D-DF7CDA684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0280" y="1639800"/>
            <a:ext cx="79599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0280" y="3983400"/>
            <a:ext cx="79599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E9A5-1411-41B1-A4E2-D8A302A8E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0280" y="1639800"/>
            <a:ext cx="3884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9440" y="1639800"/>
            <a:ext cx="3884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0280" y="3983400"/>
            <a:ext cx="3884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9440" y="3983400"/>
            <a:ext cx="3884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C2CA-4ADB-406B-87D4-3DAE2710F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0280" y="1639800"/>
            <a:ext cx="25628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1640" y="1639800"/>
            <a:ext cx="25628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3000" y="1639800"/>
            <a:ext cx="25628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0280" y="3983400"/>
            <a:ext cx="25628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1640" y="3983400"/>
            <a:ext cx="25628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3000" y="3983400"/>
            <a:ext cx="25628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F62E-0EE4-4F3A-95E0-6473C4288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20280" y="1639800"/>
            <a:ext cx="795996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D54C-3E40-4042-A9BF-97D9B7D22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0280" y="1639800"/>
            <a:ext cx="79599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9692-67AE-4645-A069-1665F4F0B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0280" y="1639800"/>
            <a:ext cx="3884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9440" y="1639800"/>
            <a:ext cx="3884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BD2D-437E-4E08-BC4D-4D62FAE2E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96CB-3F86-485C-AB02-BBF6FD8FE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678040" y="590040"/>
            <a:ext cx="58327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831D-7DD0-46B1-822D-C66A39E7F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0280" y="1639800"/>
            <a:ext cx="3884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9440" y="1639800"/>
            <a:ext cx="3884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0280" y="3983400"/>
            <a:ext cx="3884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D6F3-990D-429E-ACE2-AB4A17B9A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0280" y="1639800"/>
            <a:ext cx="3884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9440" y="1639800"/>
            <a:ext cx="3884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9440" y="3983400"/>
            <a:ext cx="3884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1A9A-22F0-4FE3-A9B5-6B4EF65EA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0280" y="1639800"/>
            <a:ext cx="3884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9440" y="1639800"/>
            <a:ext cx="3884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0280" y="3983400"/>
            <a:ext cx="79599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1340-CA7D-4662-B3A9-52572DF94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0280" y="1639800"/>
            <a:ext cx="79599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64b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0938883-CCD8-488B-8595-46DF04D4D8F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B63AC88-C401-4D36-8280-6D44033E4CF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4992840" y="3691080"/>
            <a:ext cx="2903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884840" y="2090880"/>
            <a:ext cx="2464920" cy="1043640"/>
            <a:chOff x="4884840" y="2090880"/>
            <a:chExt cx="2464920" cy="1043640"/>
          </a:xfrm>
        </p:grpSpPr>
        <p:sp>
          <p:nvSpPr>
            <p:cNvPr id="44" name="WordArt 5"/>
            <p:cNvSpPr txBox="1"/>
            <p:nvPr/>
          </p:nvSpPr>
          <p:spPr>
            <a:xfrm>
              <a:off x="4884840" y="2090880"/>
              <a:ext cx="2464920" cy="60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f7f7f7"/>
                      </a:gs>
                      <a:gs pos="100000">
                        <a:srgbClr val="dddddd"/>
                      </a:gs>
                    </a:gsLst>
                    <a:lin ang="8100000"/>
                  </a:gradFill>
                  <a:latin typeface="黑体"/>
                </a:rPr>
                <a:t>祖国你好！</a:t>
              </a:r>
              <a:endParaRPr b="1" i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7f7f7"/>
                    </a:gs>
                    <a:gs pos="100000">
                      <a:srgbClr val="dddddd"/>
                    </a:gs>
                  </a:gsLst>
                  <a:lin ang="8100000"/>
                </a:gradFill>
                <a:latin typeface="黑体"/>
                <a:ea typeface="黑体"/>
              </a:endParaRPr>
            </a:p>
          </p:txBody>
        </p:sp>
        <p:sp>
          <p:nvSpPr>
            <p:cNvPr id="45" name="WordArt 6"/>
            <p:cNvSpPr txBox="1"/>
            <p:nvPr/>
          </p:nvSpPr>
          <p:spPr>
            <a:xfrm>
              <a:off x="2419920" y="2311200"/>
              <a:ext cx="2464920" cy="41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000000">
                          <a:alpha val="0"/>
                        </a:srgbClr>
                      </a:gs>
                      <a:gs pos="100000">
                        <a:srgbClr val="f8f8f8">
                          <a:alpha val="18039"/>
                        </a:srgbClr>
                      </a:gs>
                    </a:gsLst>
                    <a:lin ang="5400000"/>
                  </a:gradFill>
                  <a:latin typeface="黑体"/>
                </a:rPr>
                <a:t>谢谢观赏</a:t>
              </a:r>
              <a:endParaRPr b="1" i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0"/>
                      </a:srgbClr>
                    </a:gs>
                    <a:gs pos="100000">
                      <a:srgbClr val="f8f8f8">
                        <a:alpha val="18039"/>
                      </a:srgbClr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63520" y="62103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cc33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76960" y="296712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Arial"/>
              </a:rPr>
              <a:t>红色动态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i="1" lang="zh-CN" sz="36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33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3861-EB1F-4C83-BB7F-7EA5145029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5:13Z</dcterms:modified>
  <cp:revision>15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