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8DB-0FD0-4C2A-97F3-325DE303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BB3-0F60-4689-8CA1-943B53FD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977-9C1B-4B70-9CBD-0504A7C1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363-63FA-488C-ACEA-099E4870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2D604-AFD3-4ED6-A0CB-34410733F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4B37A-20CC-465C-A642-492F5BE4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72802-1105-4B01-AA6B-3352312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9FCB7-C688-42DA-823F-A841B52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E779F-7881-40F4-8D8E-751B7196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9DC93-24FC-4702-9A65-8C3222B5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71CE4-E7BF-4B46-968C-85794767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CAC-7F25-47D3-B896-C2725CCC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D7259-F4B7-46B4-B998-500B8A27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73BEB-56DC-41AA-BCCF-E91B6D7B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C67CA-B7B9-4FB0-B38C-6478A2A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A2589-31B8-4CA6-9875-BC811682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B8D93-F0D9-4C95-8F73-53EBCE454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F25-8D66-4A64-AF75-1805E8CD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805-B915-47B0-8318-D74B76C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0DF-A04E-4960-8328-35969C34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50E-1968-4F45-A88E-0694C087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AE8-5922-4B4D-A497-020B972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50B-5D44-4AFF-8D1A-7F409CC8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061-2200-4B61-90A1-7E74E8A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23888">
                  <a:alpha val="60000"/>
                </a:srgbClr>
              </a:gs>
              <a:gs pos="50000">
                <a:srgbClr val="000409">
                  <a:alpha val="60000"/>
                </a:srgbClr>
              </a:gs>
              <a:gs pos="100000">
                <a:srgbClr val="023888">
                  <a:alpha val="6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23888">
                  <a:alpha val="79215"/>
                </a:srgbClr>
              </a:gs>
              <a:gs pos="50000">
                <a:srgbClr val="000409">
                  <a:alpha val="80000"/>
                </a:srgbClr>
              </a:gs>
              <a:gs pos="100000">
                <a:srgbClr val="023888">
                  <a:alpha val="7921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bar_1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6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566-AC32-4E13-A72C-90C0E15228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ar_1"/>
          <p:cNvPicPr/>
          <p:nvPr/>
        </p:nvPicPr>
        <p:blipFill>
          <a:blip r:embed="rId3"/>
          <a:stretch/>
        </p:blipFill>
        <p:spPr>
          <a:xfrm>
            <a:off x="0" y="1981080"/>
            <a:ext cx="70102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D0A-91B2-4DD5-AAA9-12CF2762C482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73915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化学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1" lang="en-US" sz="40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werPoint2002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Object 5" descr=""/>
          <p:cNvPicPr/>
          <p:nvPr/>
        </p:nvPicPr>
        <p:blipFill>
          <a:blip r:embed="rId2"/>
          <a:stretch/>
        </p:blipFill>
        <p:spPr>
          <a:xfrm>
            <a:off x="1490760" y="1852560"/>
            <a:ext cx="60865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66" name="未知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8793ed"/>
                </a:gs>
                <a:gs pos="100000">
                  <a:srgbClr val="3e44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793ed"/>
                </a:gs>
                <a:gs pos="100000">
                  <a:srgbClr val="545c9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86e2f"/>
                </a:gs>
                <a:gs pos="50000">
                  <a:srgbClr val="5ab14b"/>
                </a:gs>
                <a:gs pos="100000">
                  <a:srgbClr val="386e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eba22b"/>
                </a:gs>
                <a:gs pos="100000">
                  <a:srgbClr val="6d4b1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183f7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H="1">
              <a:off x="873000" y="5599440"/>
              <a:ext cx="1657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3184560" y="2440080"/>
              <a:ext cx="183816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a5d4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5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bec4f5"/>
                </a:gs>
                <a:gs pos="50000">
                  <a:srgbClr val="8793ed"/>
                </a:gs>
                <a:gs pos="100000">
                  <a:srgbClr val="bec4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6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a5d49d"/>
                </a:gs>
                <a:gs pos="50000">
                  <a:srgbClr val="5ab14b"/>
                </a:gs>
                <a:gs pos="100000">
                  <a:srgbClr val="a5d4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eba22b"/>
                </a:gs>
                <a:gs pos="100000">
                  <a:srgbClr val="6445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28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f4cc8b"/>
                </a:gs>
                <a:gs pos="50000">
                  <a:srgbClr val="eba22b"/>
                </a:gs>
                <a:gs pos="100000">
                  <a:srgbClr val="f4cc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29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8eb7ee"/>
                </a:gs>
                <a:gs pos="50000">
                  <a:srgbClr val="2f7adf"/>
                </a:gs>
                <a:gs pos="100000">
                  <a:srgbClr val="8eb7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Text Box 3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9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10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03" name="Oval 11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2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Oval 13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ffffff"/>
              </a:gs>
              <a:gs pos="100000">
                <a:srgbClr val="8793e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e446e"/>
              </a:gs>
              <a:gs pos="100000">
                <a:srgbClr val="8793ed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495080"/>
              </a:gs>
              <a:gs pos="100000">
                <a:srgbClr val="8793e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8793ed">
                  <a:alpha val="0"/>
                </a:srgbClr>
              </a:gs>
              <a:gs pos="100000">
                <a:srgbClr val="565d9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0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21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29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22" name="Oval 30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31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Group 32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25" name="Oval 33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34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35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28" name="Oval 36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37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38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31" name="Oval 39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40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41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34" name="Oval 42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43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Text Box 4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62120" y="2057400"/>
          <a:ext cx="7315200" cy="344808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4240"/>
                <a:gridCol w="1931760"/>
                <a:gridCol w="338400"/>
                <a:gridCol w="1795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Text Box 6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1244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1278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1295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295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989000" y="2192400"/>
            <a:ext cx="642960" cy="642960"/>
            <a:chOff x="1989000" y="2192400"/>
            <a:chExt cx="642960" cy="642960"/>
          </a:xfrm>
        </p:grpSpPr>
        <p:sp>
          <p:nvSpPr>
            <p:cNvPr id="348" name="Oval 8"/>
            <p:cNvSpPr/>
            <p:nvPr/>
          </p:nvSpPr>
          <p:spPr>
            <a:xfrm>
              <a:off x="198900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99548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200340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00988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204372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2129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244520" y="2954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59691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60022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0199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8"/>
          <p:cNvSpPr/>
          <p:nvPr/>
        </p:nvSpPr>
        <p:spPr>
          <a:xfrm>
            <a:off x="60199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Group 19"/>
          <p:cNvGrpSpPr/>
          <p:nvPr/>
        </p:nvGrpSpPr>
        <p:grpSpPr>
          <a:xfrm>
            <a:off x="6713640" y="2192400"/>
            <a:ext cx="642960" cy="642960"/>
            <a:chOff x="6713640" y="2192400"/>
            <a:chExt cx="642960" cy="642960"/>
          </a:xfrm>
        </p:grpSpPr>
        <p:sp>
          <p:nvSpPr>
            <p:cNvPr id="360" name="Oval 20"/>
            <p:cNvSpPr/>
            <p:nvPr/>
          </p:nvSpPr>
          <p:spPr>
            <a:xfrm>
              <a:off x="67136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21"/>
            <p:cNvSpPr/>
            <p:nvPr/>
          </p:nvSpPr>
          <p:spPr>
            <a:xfrm>
              <a:off x="67201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2"/>
            <p:cNvSpPr/>
            <p:nvPr/>
          </p:nvSpPr>
          <p:spPr>
            <a:xfrm>
              <a:off x="672804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3"/>
            <p:cNvSpPr/>
            <p:nvPr/>
          </p:nvSpPr>
          <p:spPr>
            <a:xfrm>
              <a:off x="67345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4"/>
            <p:cNvSpPr/>
            <p:nvPr/>
          </p:nvSpPr>
          <p:spPr>
            <a:xfrm>
              <a:off x="67683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Text Box 25"/>
          <p:cNvSpPr/>
          <p:nvPr/>
        </p:nvSpPr>
        <p:spPr>
          <a:xfrm>
            <a:off x="68536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045120" y="2954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27"/>
          <p:cNvSpPr/>
          <p:nvPr/>
        </p:nvSpPr>
        <p:spPr>
          <a:xfrm>
            <a:off x="3606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28"/>
          <p:cNvSpPr/>
          <p:nvPr/>
        </p:nvSpPr>
        <p:spPr>
          <a:xfrm>
            <a:off x="3639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29"/>
          <p:cNvSpPr/>
          <p:nvPr/>
        </p:nvSpPr>
        <p:spPr>
          <a:xfrm>
            <a:off x="3657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30"/>
          <p:cNvSpPr/>
          <p:nvPr/>
        </p:nvSpPr>
        <p:spPr>
          <a:xfrm>
            <a:off x="3657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31"/>
          <p:cNvSpPr/>
          <p:nvPr/>
        </p:nvSpPr>
        <p:spPr>
          <a:xfrm>
            <a:off x="435132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32"/>
          <p:cNvSpPr/>
          <p:nvPr/>
        </p:nvSpPr>
        <p:spPr>
          <a:xfrm>
            <a:off x="4357800" y="2197080"/>
            <a:ext cx="62208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436572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34"/>
          <p:cNvSpPr/>
          <p:nvPr/>
        </p:nvSpPr>
        <p:spPr>
          <a:xfrm>
            <a:off x="4371840" y="220680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4406760" y="2222640"/>
            <a:ext cx="513000" cy="46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4491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3683160" y="2954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0" y="3205080"/>
            <a:ext cx="9143640" cy="147240"/>
            <a:chOff x="0" y="3205080"/>
            <a:chExt cx="9143640" cy="147240"/>
          </a:xfrm>
        </p:grpSpPr>
        <p:sp>
          <p:nvSpPr>
            <p:cNvPr id="380" name="Rectangle 4"/>
            <p:cNvSpPr/>
            <p:nvPr/>
          </p:nvSpPr>
          <p:spPr>
            <a:xfrm>
              <a:off x="0" y="3205080"/>
              <a:ext cx="9143640" cy="39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0" y="3245040"/>
              <a:ext cx="9143640" cy="10728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4938840" y="3495960"/>
            <a:ext cx="1512360" cy="2383560"/>
            <a:chOff x="4938840" y="3495960"/>
            <a:chExt cx="1512360" cy="2383560"/>
          </a:xfrm>
        </p:grpSpPr>
        <p:grpSp>
          <p:nvGrpSpPr>
            <p:cNvPr id="383" name="Group 7"/>
            <p:cNvGrpSpPr/>
            <p:nvPr/>
          </p:nvGrpSpPr>
          <p:grpSpPr>
            <a:xfrm>
              <a:off x="4938840" y="3654360"/>
              <a:ext cx="1401480" cy="2225160"/>
              <a:chOff x="4938840" y="3654360"/>
              <a:chExt cx="1401480" cy="2225160"/>
            </a:xfrm>
          </p:grpSpPr>
          <p:sp>
            <p:nvSpPr>
              <p:cNvPr id="384" name="未知"/>
              <p:cNvSpPr/>
              <p:nvPr/>
            </p:nvSpPr>
            <p:spPr>
              <a:xfrm rot="3876600">
                <a:off x="4524840" y="4520160"/>
                <a:ext cx="222912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rot="3876600">
                <a:off x="5864400" y="53823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10"/>
            <p:cNvGrpSpPr/>
            <p:nvPr/>
          </p:nvGrpSpPr>
          <p:grpSpPr>
            <a:xfrm>
              <a:off x="5375880" y="3495960"/>
              <a:ext cx="1075320" cy="1707840"/>
              <a:chOff x="5375880" y="3495960"/>
              <a:chExt cx="1075320" cy="1707840"/>
            </a:xfrm>
          </p:grpSpPr>
          <p:sp>
            <p:nvSpPr>
              <p:cNvPr id="387" name="未知"/>
              <p:cNvSpPr/>
              <p:nvPr/>
            </p:nvSpPr>
            <p:spPr>
              <a:xfrm flipV="1" rot="3876600">
                <a:off x="5058000" y="4160520"/>
                <a:ext cx="171072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V="1" rot="3876600">
                <a:off x="6070680" y="4829400"/>
                <a:ext cx="26892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Group 13"/>
          <p:cNvGrpSpPr/>
          <p:nvPr/>
        </p:nvGrpSpPr>
        <p:grpSpPr>
          <a:xfrm>
            <a:off x="4521240" y="2673360"/>
            <a:ext cx="1271520" cy="1282680"/>
            <a:chOff x="4521240" y="2673360"/>
            <a:chExt cx="1271520" cy="1282680"/>
          </a:xfrm>
        </p:grpSpPr>
        <p:sp>
          <p:nvSpPr>
            <p:cNvPr id="390" name="Oval 14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5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6"/>
            <p:cNvSpPr/>
            <p:nvPr/>
          </p:nvSpPr>
          <p:spPr>
            <a:xfrm>
              <a:off x="4605480" y="275652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7"/>
            <p:cNvSpPr/>
            <p:nvPr/>
          </p:nvSpPr>
          <p:spPr>
            <a:xfrm>
              <a:off x="4605480" y="275940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8"/>
            <p:cNvSpPr/>
            <p:nvPr/>
          </p:nvSpPr>
          <p:spPr>
            <a:xfrm>
              <a:off x="4659840" y="2813400"/>
              <a:ext cx="993600" cy="10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4675320" y="2828880"/>
              <a:ext cx="963000" cy="972720"/>
              <a:chOff x="4675320" y="2828880"/>
              <a:chExt cx="963000" cy="972720"/>
            </a:xfrm>
          </p:grpSpPr>
          <p:sp>
            <p:nvSpPr>
              <p:cNvPr id="396" name="Oval 20"/>
              <p:cNvSpPr/>
              <p:nvPr/>
            </p:nvSpPr>
            <p:spPr>
              <a:xfrm>
                <a:off x="4675320" y="2828880"/>
                <a:ext cx="963000" cy="972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1"/>
              <p:cNvSpPr/>
              <p:nvPr/>
            </p:nvSpPr>
            <p:spPr>
              <a:xfrm>
                <a:off x="4687560" y="2834280"/>
                <a:ext cx="939960" cy="948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2"/>
              <p:cNvSpPr/>
              <p:nvPr/>
            </p:nvSpPr>
            <p:spPr>
              <a:xfrm>
                <a:off x="4697640" y="2843640"/>
                <a:ext cx="893880" cy="886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3"/>
              <p:cNvSpPr/>
              <p:nvPr/>
            </p:nvSpPr>
            <p:spPr>
              <a:xfrm>
                <a:off x="4749840" y="2868480"/>
                <a:ext cx="794520" cy="719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24"/>
          <p:cNvGrpSpPr/>
          <p:nvPr/>
        </p:nvGrpSpPr>
        <p:grpSpPr>
          <a:xfrm>
            <a:off x="6910560" y="3561120"/>
            <a:ext cx="1512360" cy="2383200"/>
            <a:chOff x="6910560" y="3561120"/>
            <a:chExt cx="1512360" cy="2383200"/>
          </a:xfrm>
        </p:grpSpPr>
        <p:grpSp>
          <p:nvGrpSpPr>
            <p:cNvPr id="401" name="Group 25"/>
            <p:cNvGrpSpPr/>
            <p:nvPr/>
          </p:nvGrpSpPr>
          <p:grpSpPr>
            <a:xfrm>
              <a:off x="6910560" y="3719520"/>
              <a:ext cx="1401480" cy="2224800"/>
              <a:chOff x="6910560" y="3719520"/>
              <a:chExt cx="1401480" cy="2224800"/>
            </a:xfrm>
          </p:grpSpPr>
          <p:sp>
            <p:nvSpPr>
              <p:cNvPr id="402" name="未知"/>
              <p:cNvSpPr/>
              <p:nvPr/>
            </p:nvSpPr>
            <p:spPr>
              <a:xfrm rot="3876600">
                <a:off x="6496560" y="458532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rot="3876600">
                <a:off x="7836120" y="54471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"/>
            <p:cNvGrpSpPr/>
            <p:nvPr/>
          </p:nvGrpSpPr>
          <p:grpSpPr>
            <a:xfrm>
              <a:off x="7347960" y="3561120"/>
              <a:ext cx="1074960" cy="1707480"/>
              <a:chOff x="7347960" y="3561120"/>
              <a:chExt cx="1074960" cy="1707480"/>
            </a:xfrm>
          </p:grpSpPr>
          <p:sp>
            <p:nvSpPr>
              <p:cNvPr id="405" name="未知"/>
              <p:cNvSpPr/>
              <p:nvPr/>
            </p:nvSpPr>
            <p:spPr>
              <a:xfrm flipV="1" rot="3876600">
                <a:off x="7030080" y="422496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 flipV="1" rot="3876600">
                <a:off x="8042400" y="48942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Oval 31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2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3"/>
          <p:cNvSpPr/>
          <p:nvPr/>
        </p:nvSpPr>
        <p:spPr>
          <a:xfrm>
            <a:off x="6402240" y="26319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4"/>
          <p:cNvSpPr/>
          <p:nvPr/>
        </p:nvSpPr>
        <p:spPr>
          <a:xfrm>
            <a:off x="6404040" y="26352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6469200" y="27003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Group 36"/>
          <p:cNvGrpSpPr/>
          <p:nvPr/>
        </p:nvGrpSpPr>
        <p:grpSpPr>
          <a:xfrm>
            <a:off x="6486480" y="2719440"/>
            <a:ext cx="1158840" cy="1165320"/>
            <a:chOff x="6486480" y="2719440"/>
            <a:chExt cx="1158840" cy="1165320"/>
          </a:xfrm>
        </p:grpSpPr>
        <p:sp>
          <p:nvSpPr>
            <p:cNvPr id="413" name="Oval 37"/>
            <p:cNvSpPr/>
            <p:nvPr/>
          </p:nvSpPr>
          <p:spPr>
            <a:xfrm>
              <a:off x="6486480" y="27194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38"/>
            <p:cNvSpPr/>
            <p:nvPr/>
          </p:nvSpPr>
          <p:spPr>
            <a:xfrm>
              <a:off x="6501240" y="2725920"/>
              <a:ext cx="113076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39"/>
            <p:cNvSpPr/>
            <p:nvPr/>
          </p:nvSpPr>
          <p:spPr>
            <a:xfrm>
              <a:off x="6513120" y="27370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40"/>
            <p:cNvSpPr/>
            <p:nvPr/>
          </p:nvSpPr>
          <p:spPr>
            <a:xfrm>
              <a:off x="6576120" y="27666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41"/>
          <p:cNvGrpSpPr/>
          <p:nvPr/>
        </p:nvGrpSpPr>
        <p:grpSpPr>
          <a:xfrm>
            <a:off x="3131280" y="3496320"/>
            <a:ext cx="1510920" cy="2382840"/>
            <a:chOff x="3131280" y="3496320"/>
            <a:chExt cx="1510920" cy="2382840"/>
          </a:xfrm>
        </p:grpSpPr>
        <p:grpSp>
          <p:nvGrpSpPr>
            <p:cNvPr id="418" name="Group 42"/>
            <p:cNvGrpSpPr/>
            <p:nvPr/>
          </p:nvGrpSpPr>
          <p:grpSpPr>
            <a:xfrm>
              <a:off x="3131280" y="3654360"/>
              <a:ext cx="1400400" cy="2224800"/>
              <a:chOff x="3131280" y="3654360"/>
              <a:chExt cx="1400400" cy="2224800"/>
            </a:xfrm>
          </p:grpSpPr>
          <p:sp>
            <p:nvSpPr>
              <p:cNvPr id="419" name="未知"/>
              <p:cNvSpPr/>
              <p:nvPr/>
            </p:nvSpPr>
            <p:spPr>
              <a:xfrm rot="3876600">
                <a:off x="2716920" y="4520520"/>
                <a:ext cx="2229120" cy="4921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3876600">
                <a:off x="405612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45"/>
            <p:cNvGrpSpPr/>
            <p:nvPr/>
          </p:nvGrpSpPr>
          <p:grpSpPr>
            <a:xfrm>
              <a:off x="3567240" y="3496320"/>
              <a:ext cx="1074960" cy="1707480"/>
              <a:chOff x="3567240" y="3496320"/>
              <a:chExt cx="1074960" cy="1707480"/>
            </a:xfrm>
          </p:grpSpPr>
          <p:sp>
            <p:nvSpPr>
              <p:cNvPr id="422" name="未知"/>
              <p:cNvSpPr/>
              <p:nvPr/>
            </p:nvSpPr>
            <p:spPr>
              <a:xfrm flipV="1" rot="3876600">
                <a:off x="324900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flipV="1" rot="3876600">
                <a:off x="4261680" y="4829760"/>
                <a:ext cx="268920" cy="3092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48"/>
          <p:cNvGrpSpPr/>
          <p:nvPr/>
        </p:nvGrpSpPr>
        <p:grpSpPr>
          <a:xfrm>
            <a:off x="2711520" y="2673360"/>
            <a:ext cx="1271520" cy="1282680"/>
            <a:chOff x="2711520" y="2673360"/>
            <a:chExt cx="1271520" cy="1282680"/>
          </a:xfrm>
        </p:grpSpPr>
        <p:sp>
          <p:nvSpPr>
            <p:cNvPr id="425" name="Oval 49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50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51"/>
            <p:cNvSpPr/>
            <p:nvPr/>
          </p:nvSpPr>
          <p:spPr>
            <a:xfrm>
              <a:off x="2795760" y="275652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52"/>
            <p:cNvSpPr/>
            <p:nvPr/>
          </p:nvSpPr>
          <p:spPr>
            <a:xfrm>
              <a:off x="2795760" y="275940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53"/>
            <p:cNvSpPr/>
            <p:nvPr/>
          </p:nvSpPr>
          <p:spPr>
            <a:xfrm>
              <a:off x="2850120" y="2813400"/>
              <a:ext cx="993600" cy="10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54"/>
            <p:cNvGrpSpPr/>
            <p:nvPr/>
          </p:nvGrpSpPr>
          <p:grpSpPr>
            <a:xfrm>
              <a:off x="2865600" y="2828880"/>
              <a:ext cx="963000" cy="972720"/>
              <a:chOff x="2865600" y="2828880"/>
              <a:chExt cx="963000" cy="972720"/>
            </a:xfrm>
          </p:grpSpPr>
          <p:sp>
            <p:nvSpPr>
              <p:cNvPr id="431" name="Oval 55"/>
              <p:cNvSpPr/>
              <p:nvPr/>
            </p:nvSpPr>
            <p:spPr>
              <a:xfrm>
                <a:off x="2865600" y="2828880"/>
                <a:ext cx="963000" cy="972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Oval 56"/>
              <p:cNvSpPr/>
              <p:nvPr/>
            </p:nvSpPr>
            <p:spPr>
              <a:xfrm>
                <a:off x="2877840" y="2834280"/>
                <a:ext cx="939960" cy="948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57"/>
              <p:cNvSpPr/>
              <p:nvPr/>
            </p:nvSpPr>
            <p:spPr>
              <a:xfrm>
                <a:off x="2887920" y="2843640"/>
                <a:ext cx="893880" cy="886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58"/>
              <p:cNvSpPr/>
              <p:nvPr/>
            </p:nvSpPr>
            <p:spPr>
              <a:xfrm>
                <a:off x="2940120" y="2868480"/>
                <a:ext cx="794520" cy="719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Group 59"/>
          <p:cNvGrpSpPr/>
          <p:nvPr/>
        </p:nvGrpSpPr>
        <p:grpSpPr>
          <a:xfrm>
            <a:off x="1380240" y="3496320"/>
            <a:ext cx="1510920" cy="2382840"/>
            <a:chOff x="1380240" y="3496320"/>
            <a:chExt cx="1510920" cy="2382840"/>
          </a:xfrm>
        </p:grpSpPr>
        <p:grpSp>
          <p:nvGrpSpPr>
            <p:cNvPr id="436" name="Group 60"/>
            <p:cNvGrpSpPr/>
            <p:nvPr/>
          </p:nvGrpSpPr>
          <p:grpSpPr>
            <a:xfrm>
              <a:off x="1380240" y="3654360"/>
              <a:ext cx="1400400" cy="2224800"/>
              <a:chOff x="1380240" y="3654360"/>
              <a:chExt cx="1400400" cy="2224800"/>
            </a:xfrm>
          </p:grpSpPr>
          <p:sp>
            <p:nvSpPr>
              <p:cNvPr id="437" name="未知"/>
              <p:cNvSpPr/>
              <p:nvPr/>
            </p:nvSpPr>
            <p:spPr>
              <a:xfrm rot="3876600">
                <a:off x="965880" y="4520520"/>
                <a:ext cx="2229120" cy="4921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3876600">
                <a:off x="230508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63"/>
            <p:cNvGrpSpPr/>
            <p:nvPr/>
          </p:nvGrpSpPr>
          <p:grpSpPr>
            <a:xfrm>
              <a:off x="1816200" y="3496320"/>
              <a:ext cx="1074960" cy="1707480"/>
              <a:chOff x="1816200" y="3496320"/>
              <a:chExt cx="1074960" cy="1707480"/>
            </a:xfrm>
          </p:grpSpPr>
          <p:sp>
            <p:nvSpPr>
              <p:cNvPr id="440" name="未知"/>
              <p:cNvSpPr/>
              <p:nvPr/>
            </p:nvSpPr>
            <p:spPr>
              <a:xfrm flipV="1" rot="3876600">
                <a:off x="149796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flipV="1" rot="3876600">
                <a:off x="2510640" y="4829760"/>
                <a:ext cx="268920" cy="3092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Group 66"/>
          <p:cNvGrpSpPr/>
          <p:nvPr/>
        </p:nvGrpSpPr>
        <p:grpSpPr>
          <a:xfrm>
            <a:off x="960480" y="2673360"/>
            <a:ext cx="1271520" cy="1282680"/>
            <a:chOff x="960480" y="2673360"/>
            <a:chExt cx="1271520" cy="1282680"/>
          </a:xfrm>
        </p:grpSpPr>
        <p:sp>
          <p:nvSpPr>
            <p:cNvPr id="443" name="Oval 67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68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69"/>
            <p:cNvSpPr/>
            <p:nvPr/>
          </p:nvSpPr>
          <p:spPr>
            <a:xfrm>
              <a:off x="1044720" y="275652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0"/>
            <p:cNvSpPr/>
            <p:nvPr/>
          </p:nvSpPr>
          <p:spPr>
            <a:xfrm>
              <a:off x="1044720" y="275940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71"/>
            <p:cNvSpPr/>
            <p:nvPr/>
          </p:nvSpPr>
          <p:spPr>
            <a:xfrm>
              <a:off x="1099080" y="2813400"/>
              <a:ext cx="993600" cy="10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Group 72"/>
            <p:cNvGrpSpPr/>
            <p:nvPr/>
          </p:nvGrpSpPr>
          <p:grpSpPr>
            <a:xfrm>
              <a:off x="1114560" y="2828880"/>
              <a:ext cx="963000" cy="972720"/>
              <a:chOff x="1114560" y="2828880"/>
              <a:chExt cx="963000" cy="972720"/>
            </a:xfrm>
          </p:grpSpPr>
          <p:sp>
            <p:nvSpPr>
              <p:cNvPr id="449" name="Oval 73"/>
              <p:cNvSpPr/>
              <p:nvPr/>
            </p:nvSpPr>
            <p:spPr>
              <a:xfrm>
                <a:off x="1114560" y="2828880"/>
                <a:ext cx="963000" cy="972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74"/>
              <p:cNvSpPr/>
              <p:nvPr/>
            </p:nvSpPr>
            <p:spPr>
              <a:xfrm>
                <a:off x="1126800" y="2834280"/>
                <a:ext cx="939960" cy="948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75"/>
              <p:cNvSpPr/>
              <p:nvPr/>
            </p:nvSpPr>
            <p:spPr>
              <a:xfrm>
                <a:off x="1136880" y="2843640"/>
                <a:ext cx="893880" cy="886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76"/>
              <p:cNvSpPr/>
              <p:nvPr/>
            </p:nvSpPr>
            <p:spPr>
              <a:xfrm>
                <a:off x="1189080" y="2868480"/>
                <a:ext cx="794520" cy="719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Text Box 77"/>
          <p:cNvSpPr/>
          <p:nvPr/>
        </p:nvSpPr>
        <p:spPr>
          <a:xfrm rot="3925800">
            <a:off x="13312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78"/>
          <p:cNvSpPr/>
          <p:nvPr/>
        </p:nvSpPr>
        <p:spPr>
          <a:xfrm rot="3925800">
            <a:off x="1794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79"/>
          <p:cNvSpPr/>
          <p:nvPr/>
        </p:nvSpPr>
        <p:spPr>
          <a:xfrm rot="3925800">
            <a:off x="3080880" y="4461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80"/>
          <p:cNvSpPr/>
          <p:nvPr/>
        </p:nvSpPr>
        <p:spPr>
          <a:xfrm rot="3925800">
            <a:off x="3540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81"/>
          <p:cNvSpPr/>
          <p:nvPr/>
        </p:nvSpPr>
        <p:spPr>
          <a:xfrm rot="3925800">
            <a:off x="4898520" y="44632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82"/>
          <p:cNvSpPr/>
          <p:nvPr/>
        </p:nvSpPr>
        <p:spPr>
          <a:xfrm rot="3925800">
            <a:off x="5360040" y="4189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3"/>
          <p:cNvSpPr/>
          <p:nvPr/>
        </p:nvSpPr>
        <p:spPr>
          <a:xfrm rot="3925800">
            <a:off x="6854400" y="4604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84"/>
          <p:cNvSpPr/>
          <p:nvPr/>
        </p:nvSpPr>
        <p:spPr>
          <a:xfrm rot="3925800">
            <a:off x="7312680" y="4333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85"/>
          <p:cNvSpPr/>
          <p:nvPr/>
        </p:nvSpPr>
        <p:spPr>
          <a:xfrm>
            <a:off x="12510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86"/>
          <p:cNvSpPr/>
          <p:nvPr/>
        </p:nvSpPr>
        <p:spPr>
          <a:xfrm>
            <a:off x="300996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47592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88"/>
          <p:cNvSpPr/>
          <p:nvPr/>
        </p:nvSpPr>
        <p:spPr>
          <a:xfrm>
            <a:off x="6572520" y="1981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5" name="AutoShape 89"/>
          <p:cNvCxnSpPr>
            <a:stCxn id="461" idx="3"/>
            <a:endCxn id="462" idx="1"/>
          </p:cNvCxnSpPr>
          <p:nvPr/>
        </p:nvCxnSpPr>
        <p:spPr>
          <a:xfrm>
            <a:off x="1987560" y="2204640"/>
            <a:ext cx="991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6" name="AutoShape 90"/>
          <p:cNvCxnSpPr>
            <a:stCxn id="462" idx="3"/>
            <a:endCxn id="463" idx="1"/>
          </p:cNvCxnSpPr>
          <p:nvPr/>
        </p:nvCxnSpPr>
        <p:spPr>
          <a:xfrm>
            <a:off x="3746160" y="2204640"/>
            <a:ext cx="981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7" name="AutoShape 91"/>
          <p:cNvCxnSpPr>
            <a:stCxn id="463" idx="3"/>
            <a:endCxn id="464" idx="1"/>
          </p:cNvCxnSpPr>
          <p:nvPr/>
        </p:nvCxnSpPr>
        <p:spPr>
          <a:xfrm>
            <a:off x="5495400" y="2204640"/>
            <a:ext cx="988200" cy="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8" name="Text Box 92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93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471" name="Group 3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472" name="AutoShape 4"/>
            <p:cNvSpPr/>
            <p:nvPr/>
          </p:nvSpPr>
          <p:spPr>
            <a:xfrm>
              <a:off x="5552280" y="280188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2f7ad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AutoShape 5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ab14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793e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AutoShape 7"/>
            <p:cNvSpPr/>
            <p:nvPr/>
          </p:nvSpPr>
          <p:spPr>
            <a:xfrm>
              <a:off x="128340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8793e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AutoShape 8"/>
            <p:cNvSpPr/>
            <p:nvPr/>
          </p:nvSpPr>
          <p:spPr>
            <a:xfrm>
              <a:off x="348588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5ab14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AutoShape 9"/>
            <p:cNvSpPr/>
            <p:nvPr/>
          </p:nvSpPr>
          <p:spPr>
            <a:xfrm>
              <a:off x="569736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2f7ad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Text Box 1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7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86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9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88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11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12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13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Rectangle 14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Group 15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494" name="Oval 16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17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19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Rectangle 20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21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500" name="Oval 22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23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5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Rectangle 26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35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6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516" name="Group 3"/>
          <p:cNvGrpSpPr/>
          <p:nvPr/>
        </p:nvGrpSpPr>
        <p:grpSpPr>
          <a:xfrm>
            <a:off x="1066680" y="1828800"/>
            <a:ext cx="6781680" cy="4006440"/>
            <a:chOff x="1066680" y="1828800"/>
            <a:chExt cx="6781680" cy="4006440"/>
          </a:xfrm>
        </p:grpSpPr>
        <p:sp>
          <p:nvSpPr>
            <p:cNvPr id="517" name="AutoShape 4"/>
            <p:cNvSpPr/>
            <p:nvPr/>
          </p:nvSpPr>
          <p:spPr>
            <a:xfrm>
              <a:off x="106668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8" name="Object 5" descr=""/>
            <p:cNvPicPr/>
            <p:nvPr/>
          </p:nvPicPr>
          <p:blipFill>
            <a:blip r:embed="rId2"/>
            <a:stretch/>
          </p:blipFill>
          <p:spPr>
            <a:xfrm>
              <a:off x="1251360" y="244512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AutoShape 6"/>
            <p:cNvSpPr/>
            <p:nvPr/>
          </p:nvSpPr>
          <p:spPr>
            <a:xfrm>
              <a:off x="1374840" y="182880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b76dc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7"/>
            <p:cNvSpPr/>
            <p:nvPr/>
          </p:nvSpPr>
          <p:spPr>
            <a:xfrm>
              <a:off x="149832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AutoShape 8"/>
            <p:cNvSpPr/>
            <p:nvPr/>
          </p:nvSpPr>
          <p:spPr>
            <a:xfrm>
              <a:off x="384120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9"/>
            <p:cNvSpPr/>
            <p:nvPr/>
          </p:nvSpPr>
          <p:spPr>
            <a:xfrm>
              <a:off x="451908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3" name="Object 10" descr=""/>
            <p:cNvPicPr/>
            <p:nvPr/>
          </p:nvPicPr>
          <p:blipFill>
            <a:blip r:embed="rId3"/>
            <a:stretch/>
          </p:blipFill>
          <p:spPr>
            <a:xfrm>
              <a:off x="4704120" y="244512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AutoShape 11"/>
            <p:cNvSpPr/>
            <p:nvPr/>
          </p:nvSpPr>
          <p:spPr>
            <a:xfrm>
              <a:off x="482760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a1dc"/>
                </a:gs>
                <a:gs pos="100000">
                  <a:srgbClr val="0633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2"/>
            <p:cNvSpPr/>
            <p:nvPr/>
          </p:nvSpPr>
          <p:spPr>
            <a:xfrm>
              <a:off x="495072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3"/>
            <p:cNvSpPr/>
            <p:nvPr/>
          </p:nvSpPr>
          <p:spPr>
            <a:xfrm>
              <a:off x="729360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02388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rc 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未知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98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rc 1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/>
            <a:ahLst/>
            <a:rect l="l" t="t" r="r" b="b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未知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Oval 2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23888"/>
              </a:gs>
              <a:gs pos="100000">
                <a:srgbClr val="011a3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未知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3" name="AutoShape 7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8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5a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9"/>
          <p:cNvSpPr/>
          <p:nvPr/>
        </p:nvSpPr>
        <p:spPr>
          <a:xfrm>
            <a:off x="3012480" y="19051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1928880" y="2819520"/>
            <a:ext cx="5081040" cy="568080"/>
            <a:chOff x="1928880" y="2819520"/>
            <a:chExt cx="5081040" cy="568080"/>
          </a:xfrm>
        </p:grpSpPr>
        <p:sp>
          <p:nvSpPr>
            <p:cNvPr id="97" name="Line 11"/>
            <p:cNvSpPr/>
            <p:nvPr/>
          </p:nvSpPr>
          <p:spPr>
            <a:xfrm>
              <a:off x="2209680" y="32734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Group 12"/>
            <p:cNvGrpSpPr/>
            <p:nvPr/>
          </p:nvGrpSpPr>
          <p:grpSpPr>
            <a:xfrm>
              <a:off x="1928880" y="3129480"/>
              <a:ext cx="258480" cy="258120"/>
              <a:chOff x="1928880" y="3129480"/>
              <a:chExt cx="258480" cy="258120"/>
            </a:xfrm>
          </p:grpSpPr>
          <p:sp>
            <p:nvSpPr>
              <p:cNvPr id="99" name="AutoShape 13"/>
              <p:cNvSpPr/>
              <p:nvPr/>
            </p:nvSpPr>
            <p:spPr>
              <a:xfrm rot="2700000">
                <a:off x="1966680" y="3167280"/>
                <a:ext cx="182520" cy="182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14"/>
              <p:cNvSpPr/>
              <p:nvPr/>
            </p:nvSpPr>
            <p:spPr>
              <a:xfrm flipH="1" rot="18900000">
                <a:off x="1965960" y="3167280"/>
                <a:ext cx="182880" cy="18216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Text Box 15"/>
            <p:cNvSpPr/>
            <p:nvPr/>
          </p:nvSpPr>
          <p:spPr>
            <a:xfrm>
              <a:off x="3012120" y="28195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16"/>
          <p:cNvGrpSpPr/>
          <p:nvPr/>
        </p:nvGrpSpPr>
        <p:grpSpPr>
          <a:xfrm>
            <a:off x="1928880" y="3736800"/>
            <a:ext cx="5081040" cy="568080"/>
            <a:chOff x="1928880" y="3736800"/>
            <a:chExt cx="5081040" cy="568080"/>
          </a:xfrm>
        </p:grpSpPr>
        <p:sp>
          <p:nvSpPr>
            <p:cNvPr id="103" name="Line 17"/>
            <p:cNvSpPr/>
            <p:nvPr/>
          </p:nvSpPr>
          <p:spPr>
            <a:xfrm>
              <a:off x="2209680" y="419076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Group 18"/>
            <p:cNvGrpSpPr/>
            <p:nvPr/>
          </p:nvGrpSpPr>
          <p:grpSpPr>
            <a:xfrm>
              <a:off x="1928880" y="4046760"/>
              <a:ext cx="258480" cy="258120"/>
              <a:chOff x="1928880" y="4046760"/>
              <a:chExt cx="258480" cy="258120"/>
            </a:xfrm>
          </p:grpSpPr>
          <p:sp>
            <p:nvSpPr>
              <p:cNvPr id="105" name="AutoShape 19"/>
              <p:cNvSpPr/>
              <p:nvPr/>
            </p:nvSpPr>
            <p:spPr>
              <a:xfrm rot="2700000">
                <a:off x="1966680" y="4084560"/>
                <a:ext cx="182520" cy="182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 flipH="1" rot="18900000">
                <a:off x="1965960" y="4084560"/>
                <a:ext cx="182880" cy="182160"/>
              </a:xfrm>
              <a:prstGeom prst="rtTriangle">
                <a:avLst/>
              </a:prstGeom>
              <a:solidFill>
                <a:srgbClr val="5a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Text Box 21"/>
            <p:cNvSpPr/>
            <p:nvPr/>
          </p:nvSpPr>
          <p:spPr>
            <a:xfrm>
              <a:off x="3012120" y="373680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1928880" y="4648320"/>
            <a:ext cx="5081040" cy="568080"/>
            <a:chOff x="1928880" y="4648320"/>
            <a:chExt cx="5081040" cy="568080"/>
          </a:xfrm>
        </p:grpSpPr>
        <p:sp>
          <p:nvSpPr>
            <p:cNvPr id="109" name="Line 23"/>
            <p:cNvSpPr/>
            <p:nvPr/>
          </p:nvSpPr>
          <p:spPr>
            <a:xfrm>
              <a:off x="2209680" y="51022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24"/>
            <p:cNvGrpSpPr/>
            <p:nvPr/>
          </p:nvGrpSpPr>
          <p:grpSpPr>
            <a:xfrm>
              <a:off x="1928880" y="4958280"/>
              <a:ext cx="258480" cy="258120"/>
              <a:chOff x="1928880" y="4958280"/>
              <a:chExt cx="258480" cy="258120"/>
            </a:xfrm>
          </p:grpSpPr>
          <p:sp>
            <p:nvSpPr>
              <p:cNvPr id="111" name="AutoShape 25"/>
              <p:cNvSpPr/>
              <p:nvPr/>
            </p:nvSpPr>
            <p:spPr>
              <a:xfrm rot="2700000">
                <a:off x="1966680" y="4996080"/>
                <a:ext cx="182520" cy="182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26"/>
              <p:cNvSpPr/>
              <p:nvPr/>
            </p:nvSpPr>
            <p:spPr>
              <a:xfrm flipH="1" rot="18900000">
                <a:off x="1965960" y="4996080"/>
                <a:ext cx="182880" cy="18216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Text Box 27"/>
            <p:cNvSpPr/>
            <p:nvPr/>
          </p:nvSpPr>
          <p:spPr>
            <a:xfrm>
              <a:off x="3012120" y="46483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2"/>
          <p:cNvSpPr txBox="1"/>
          <p:nvPr/>
        </p:nvSpPr>
        <p:spPr>
          <a:xfrm>
            <a:off x="4572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2388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23888"/>
                  </a:gs>
                  <a:gs pos="100000">
                    <a:srgbClr val="2f7ad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609480" y="2819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3885840" y="493776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888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1B694-A5EB-4906-A77D-9AD802849C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93960"/>
            <a:ext cx="792468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20" name="未知"/>
            <p:cNvSpPr/>
            <p:nvPr/>
          </p:nvSpPr>
          <p:spPr>
            <a:xfrm>
              <a:off x="1320840" y="2155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0d297"/>
                </a:gs>
                <a:gs pos="50000">
                  <a:srgbClr val="5ab14b"/>
                </a:gs>
                <a:gs pos="100000">
                  <a:srgbClr val="a0d2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6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23" name="未知"/>
            <p:cNvSpPr/>
            <p:nvPr/>
          </p:nvSpPr>
          <p:spPr>
            <a:xfrm>
              <a:off x="1320840" y="3298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bac1f5"/>
                </a:gs>
                <a:gs pos="50000">
                  <a:srgbClr val="8793ed"/>
                </a:gs>
                <a:gs pos="100000">
                  <a:srgbClr val="bac1f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9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26" name="未知"/>
            <p:cNvSpPr/>
            <p:nvPr/>
          </p:nvSpPr>
          <p:spPr>
            <a:xfrm>
              <a:off x="1320840" y="4441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b9e9fa"/>
                </a:gs>
                <a:gs pos="50000">
                  <a:srgbClr val="85d9f7"/>
                </a:gs>
                <a:gs pos="100000">
                  <a:srgbClr val="b9e9f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29" name="未知"/>
            <p:cNvSpPr/>
            <p:nvPr/>
          </p:nvSpPr>
          <p:spPr>
            <a:xfrm>
              <a:off x="1320840" y="5584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3c985"/>
                </a:gs>
                <a:gs pos="50000">
                  <a:srgbClr val="eba22b"/>
                </a:gs>
                <a:gs pos="100000">
                  <a:srgbClr val="f3c98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1" name="AutoShape 15"/>
          <p:cNvCxnSpPr>
            <a:stCxn id="120" idx="28"/>
            <a:endCxn id="124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AutoShape 16"/>
          <p:cNvCxnSpPr>
            <a:stCxn id="123" idx="28"/>
            <a:endCxn id="127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AutoShape 17"/>
          <p:cNvCxnSpPr>
            <a:stCxn id="126" idx="28"/>
            <a:endCxn id="130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4" name="Line 18"/>
          <p:cNvSpPr/>
          <p:nvPr/>
        </p:nvSpPr>
        <p:spPr>
          <a:xfrm>
            <a:off x="2133720" y="25909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2133720" y="49561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616200" y="1752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3616200" y="2895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3616200" y="4038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3616200" y="5181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53881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530680" y="3584520"/>
            <a:ext cx="19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2193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309680" y="358920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3181320" y="33051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ddf9"/>
              </a:gs>
              <a:gs pos="100000">
                <a:srgbClr val="8793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 flipH="1">
            <a:off x="4733280" y="33019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flipH="1">
            <a:off x="4738680" y="33051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6c6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3016080" y="1752480"/>
            <a:ext cx="2827440" cy="1528200"/>
            <a:chOff x="3016080" y="1752480"/>
            <a:chExt cx="2827440" cy="1528200"/>
          </a:xfrm>
        </p:grpSpPr>
        <p:grpSp>
          <p:nvGrpSpPr>
            <p:cNvPr id="152" name="Group 11"/>
            <p:cNvGrpSpPr/>
            <p:nvPr/>
          </p:nvGrpSpPr>
          <p:grpSpPr>
            <a:xfrm>
              <a:off x="3016080" y="1888560"/>
              <a:ext cx="2827440" cy="1392120"/>
              <a:chOff x="3016080" y="1888560"/>
              <a:chExt cx="2827440" cy="1392120"/>
            </a:xfrm>
          </p:grpSpPr>
          <p:sp>
            <p:nvSpPr>
              <p:cNvPr id="153" name="Oval 12"/>
              <p:cNvSpPr/>
              <p:nvPr/>
            </p:nvSpPr>
            <p:spPr>
              <a:xfrm>
                <a:off x="3047040" y="19328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416a78"/>
                  </a:gs>
                  <a:gs pos="100000">
                    <a:srgbClr val="85d9f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3016080" y="188856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85d9f7"/>
                  </a:gs>
                  <a:gs pos="100000">
                    <a:srgbClr val="c9eef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Oval 14"/>
            <p:cNvSpPr/>
            <p:nvPr/>
          </p:nvSpPr>
          <p:spPr>
            <a:xfrm>
              <a:off x="3148920" y="1752480"/>
              <a:ext cx="2530800" cy="12801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3182040" y="1760040"/>
              <a:ext cx="2469960" cy="1248840"/>
            </a:xfrm>
            <a:prstGeom prst="ellipse">
              <a:avLst/>
            </a:prstGeom>
            <a:gradFill rotWithShape="0">
              <a:gsLst>
                <a:gs pos="0">
                  <a:srgbClr val="c5e4c0"/>
                </a:gs>
                <a:gs pos="100000">
                  <a:srgbClr val="5ab14b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3207240" y="1771920"/>
              <a:ext cx="2350080" cy="116676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c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3331440" y="1797840"/>
              <a:ext cx="2068560" cy="9457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8"/>
          <p:cNvSpPr/>
          <p:nvPr/>
        </p:nvSpPr>
        <p:spPr>
          <a:xfrm>
            <a:off x="3770280" y="1943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9144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4120" y="3505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173" name="Oval 13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4"/>
            <p:cNvSpPr/>
            <p:nvPr/>
          </p:nvSpPr>
          <p:spPr>
            <a:xfrm>
              <a:off x="1267200" y="341172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5"/>
            <p:cNvSpPr/>
            <p:nvPr/>
          </p:nvSpPr>
          <p:spPr>
            <a:xfrm>
              <a:off x="1280160" y="342504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6"/>
            <p:cNvSpPr/>
            <p:nvPr/>
          </p:nvSpPr>
          <p:spPr>
            <a:xfrm>
              <a:off x="1351800" y="346176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7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Oval 18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9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20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21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24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26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27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3589200" y="40528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589200" y="3548160"/>
            <a:ext cx="1584360" cy="57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589200" y="30430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084560" y="326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084560" y="376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084560" y="4270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2940120" y="2827440"/>
            <a:ext cx="504720" cy="19447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67676">
                  <a:alpha val="1215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1066680" y="2322360"/>
            <a:ext cx="1729080" cy="295452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05">
                <a:moveTo>
                  <a:pt x="3600" y="0"/>
                </a:moveTo>
                <a:arcTo wR="3600" hR="3600" stAng="16200000" swAng="-5400000"/>
                <a:lnTo>
                  <a:pt x="0" y="33305"/>
                </a:lnTo>
                <a:arcTo wR="3600" hR="3600" stAng="10800000" swAng="-5400000"/>
                <a:lnTo>
                  <a:pt x="18000" y="36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13832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5967360" y="2322360"/>
            <a:ext cx="1728720" cy="2954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13">
                <a:moveTo>
                  <a:pt x="3600" y="0"/>
                </a:moveTo>
                <a:arcTo wR="3600" hR="3600" stAng="16200000" swAng="-5400000"/>
                <a:lnTo>
                  <a:pt x="0" y="33313"/>
                </a:lnTo>
                <a:arcTo wR="3600" hR="3600" stAng="10800000" swAng="-5400000"/>
                <a:lnTo>
                  <a:pt x="18000" y="36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03900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5321160" y="2827440"/>
            <a:ext cx="501840" cy="19447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3124080" y="1828800"/>
            <a:ext cx="2595600" cy="50472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8793ed"/>
              </a:gs>
              <a:gs pos="50000">
                <a:srgbClr val="3e446e"/>
              </a:gs>
              <a:gs pos="100000">
                <a:srgbClr val="8793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3557520" y="2467080"/>
            <a:ext cx="1657440" cy="5047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062240" y="1967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154320" y="5276880"/>
            <a:ext cx="2594160" cy="576360"/>
          </a:xfrm>
          <a:prstGeom prst="can">
            <a:avLst>
              <a:gd name="adj" fmla="val 32032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4062240" y="5495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3537000" y="4700520"/>
            <a:ext cx="1658880" cy="4968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fffff">
                  <a:alpha val="1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304920" y="1676520"/>
            <a:ext cx="5867280" cy="4495680"/>
          </a:xfrm>
          <a:prstGeom prst="rightArrow">
            <a:avLst>
              <a:gd name="adj1" fmla="val 79306"/>
              <a:gd name="adj2" fmla="val 32325"/>
            </a:avLst>
          </a:prstGeom>
          <a:gradFill rotWithShape="0">
            <a:gsLst>
              <a:gs pos="0">
                <a:srgbClr val="2f7adf"/>
              </a:gs>
              <a:gs pos="100000">
                <a:srgbClr val="0238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50000">
                <a:srgbClr val="376c2e"/>
              </a:gs>
              <a:gs pos="100000">
                <a:srgbClr val="5ab14b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793ed"/>
              </a:gs>
              <a:gs pos="50000">
                <a:srgbClr val="525990"/>
              </a:gs>
              <a:gs pos="100000">
                <a:srgbClr val="8793ed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ba22b"/>
              </a:gs>
              <a:gs pos="50000">
                <a:srgbClr val="8f621a"/>
              </a:gs>
              <a:gs pos="100000">
                <a:srgbClr val="eba22b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2941560" y="3119400"/>
            <a:ext cx="474840" cy="546120"/>
          </a:xfrm>
          <a:custGeom>
            <a:avLst/>
            <a:gdLst>
              <a:gd name="textAreaLeft" fmla="*/ 0 w 474840"/>
              <a:gd name="textAreaRight" fmla="*/ 475200 w 474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5508720" y="3119400"/>
            <a:ext cx="474480" cy="546120"/>
          </a:xfrm>
          <a:custGeom>
            <a:avLst/>
            <a:gdLst>
              <a:gd name="textAreaLeft" fmla="*/ 0 w 474480"/>
              <a:gd name="textAreaRight" fmla="*/ 474840 w 4744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8793e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ffffff"/>
              </a:gs>
              <a:gs pos="100000">
                <a:srgbClr val="8793e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793ed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6181560" y="250200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495080"/>
              </a:gs>
              <a:gs pos="100000">
                <a:srgbClr val="8793e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6211800" y="2513160"/>
            <a:ext cx="1762200" cy="1779480"/>
          </a:xfrm>
          <a:prstGeom prst="ellipse">
            <a:avLst/>
          </a:prstGeom>
          <a:gradFill rotWithShape="0">
            <a:gsLst>
              <a:gs pos="0">
                <a:srgbClr val="8793ed">
                  <a:alpha val="0"/>
                </a:srgbClr>
              </a:gs>
              <a:gs pos="100000">
                <a:srgbClr val="565d9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6276960" y="2590920"/>
            <a:ext cx="15876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eba22b"/>
              </a:gs>
              <a:gs pos="50000">
                <a:srgbClr val="ffffff"/>
              </a:gs>
              <a:gs pos="100000">
                <a:srgbClr val="eba22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eba22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1047600" y="2495520"/>
            <a:ext cx="1762200" cy="1781280"/>
          </a:xfrm>
          <a:prstGeom prst="ellipse">
            <a:avLst/>
          </a:prstGeom>
          <a:gradFill rotWithShape="0">
            <a:gsLst>
              <a:gs pos="0">
                <a:srgbClr val="eba22b"/>
              </a:gs>
              <a:gs pos="50000">
                <a:srgbClr val="7f5817"/>
              </a:gs>
              <a:gs pos="100000">
                <a:srgbClr val="eba22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1047600" y="2498760"/>
            <a:ext cx="1764000" cy="1781280"/>
          </a:xfrm>
          <a:prstGeom prst="ellipse">
            <a:avLst/>
          </a:prstGeom>
          <a:gradFill rotWithShape="0">
            <a:gsLst>
              <a:gs pos="0">
                <a:srgbClr val="eba22b">
                  <a:alpha val="0"/>
                </a:srgbClr>
              </a:gs>
              <a:gs pos="100000">
                <a:srgbClr val="9567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1135080" y="2584440"/>
            <a:ext cx="1585800" cy="1603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15"/>
          <p:cNvGrpSpPr/>
          <p:nvPr/>
        </p:nvGrpSpPr>
        <p:grpSpPr>
          <a:xfrm>
            <a:off x="1160640" y="2608200"/>
            <a:ext cx="1535040" cy="1552680"/>
            <a:chOff x="1160640" y="2608200"/>
            <a:chExt cx="1535040" cy="1552680"/>
          </a:xfrm>
        </p:grpSpPr>
        <p:sp>
          <p:nvSpPr>
            <p:cNvPr id="233" name="Oval 16"/>
            <p:cNvSpPr/>
            <p:nvPr/>
          </p:nvSpPr>
          <p:spPr>
            <a:xfrm>
              <a:off x="1160640" y="2608200"/>
              <a:ext cx="15350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7"/>
            <p:cNvSpPr/>
            <p:nvPr/>
          </p:nvSpPr>
          <p:spPr>
            <a:xfrm>
              <a:off x="1180080" y="2616840"/>
              <a:ext cx="149796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8"/>
            <p:cNvSpPr/>
            <p:nvPr/>
          </p:nvSpPr>
          <p:spPr>
            <a:xfrm>
              <a:off x="1195920" y="2631600"/>
              <a:ext cx="14245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9"/>
            <p:cNvSpPr/>
            <p:nvPr/>
          </p:nvSpPr>
          <p:spPr>
            <a:xfrm>
              <a:off x="127944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Oval 20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ffffff"/>
              </a:gs>
              <a:gs pos="100000">
                <a:srgbClr val="5ab1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2a5223"/>
              </a:gs>
              <a:gs pos="100000">
                <a:srgbClr val="5ab14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22"/>
          <p:cNvSpPr/>
          <p:nvPr/>
        </p:nvSpPr>
        <p:spPr>
          <a:xfrm>
            <a:off x="3614760" y="2502000"/>
            <a:ext cx="1763640" cy="178092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316029"/>
              </a:gs>
              <a:gs pos="100000">
                <a:srgbClr val="5ab14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23"/>
          <p:cNvSpPr/>
          <p:nvPr/>
        </p:nvSpPr>
        <p:spPr>
          <a:xfrm>
            <a:off x="3616200" y="250524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970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3703680" y="2590920"/>
            <a:ext cx="15858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3728880" y="2608200"/>
            <a:ext cx="1535400" cy="1552680"/>
            <a:chOff x="3728880" y="2608200"/>
            <a:chExt cx="1535400" cy="1552680"/>
          </a:xfrm>
        </p:grpSpPr>
        <p:sp>
          <p:nvSpPr>
            <p:cNvPr id="243" name="Oval 26"/>
            <p:cNvSpPr/>
            <p:nvPr/>
          </p:nvSpPr>
          <p:spPr>
            <a:xfrm>
              <a:off x="3728880" y="2608200"/>
              <a:ext cx="153540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3748320" y="2616840"/>
              <a:ext cx="14983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8"/>
            <p:cNvSpPr/>
            <p:nvPr/>
          </p:nvSpPr>
          <p:spPr>
            <a:xfrm>
              <a:off x="3764160" y="2631600"/>
              <a:ext cx="142488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9"/>
            <p:cNvSpPr/>
            <p:nvPr/>
          </p:nvSpPr>
          <p:spPr>
            <a:xfrm>
              <a:off x="384768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Group 30"/>
          <p:cNvGrpSpPr/>
          <p:nvPr/>
        </p:nvGrpSpPr>
        <p:grpSpPr>
          <a:xfrm>
            <a:off x="6305400" y="2608200"/>
            <a:ext cx="1536840" cy="1552680"/>
            <a:chOff x="6305400" y="2608200"/>
            <a:chExt cx="1536840" cy="1552680"/>
          </a:xfrm>
        </p:grpSpPr>
        <p:sp>
          <p:nvSpPr>
            <p:cNvPr id="248" name="Oval 31"/>
            <p:cNvSpPr/>
            <p:nvPr/>
          </p:nvSpPr>
          <p:spPr>
            <a:xfrm>
              <a:off x="6305400" y="2608200"/>
              <a:ext cx="15368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32"/>
            <p:cNvSpPr/>
            <p:nvPr/>
          </p:nvSpPr>
          <p:spPr>
            <a:xfrm>
              <a:off x="6324840" y="2616840"/>
              <a:ext cx="149976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3"/>
            <p:cNvSpPr/>
            <p:nvPr/>
          </p:nvSpPr>
          <p:spPr>
            <a:xfrm>
              <a:off x="6340680" y="2631600"/>
              <a:ext cx="14263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34"/>
            <p:cNvSpPr/>
            <p:nvPr/>
          </p:nvSpPr>
          <p:spPr>
            <a:xfrm>
              <a:off x="6424200" y="2671200"/>
              <a:ext cx="126792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AutoShape 35"/>
          <p:cNvSpPr/>
          <p:nvPr/>
        </p:nvSpPr>
        <p:spPr>
          <a:xfrm>
            <a:off x="96048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36"/>
          <p:cNvSpPr/>
          <p:nvPr/>
        </p:nvSpPr>
        <p:spPr>
          <a:xfrm>
            <a:off x="352584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37"/>
          <p:cNvSpPr/>
          <p:nvPr/>
        </p:nvSpPr>
        <p:spPr>
          <a:xfrm>
            <a:off x="6108840" y="4768920"/>
            <a:ext cx="193176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1544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11912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6692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6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