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676-C9C1-402B-862B-10C6887F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83C-B5DD-4CBF-892A-A4AA46A2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AF8-6F64-47C8-B2D5-4B256E56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A1D-4A53-4475-846B-AA690D87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935-9829-4EB9-B5F4-52776FAB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C91-FFC1-455F-9465-61A3EB7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08C-99A6-4F5A-858A-CA6DC6B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AD3-C3E4-43AA-8A46-7D596DF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2C4-4708-44CA-A7ED-9B880B0E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23F-D553-4731-8164-33D1F38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4C7-A57C-404D-A7C0-C2BB8D4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BAD-BEDC-47D1-AC5C-E1E01EE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932040"/>
            <a:ext cx="10080720" cy="323640"/>
          </a:xfrm>
          <a:prstGeom prst="rect">
            <a:avLst/>
          </a:prstGeom>
          <a:gradFill rotWithShape="0">
            <a:gsLst>
              <a:gs pos="0">
                <a:srgbClr val="87dad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9CA2-ED4F-45D5-B4CD-963629FA3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658960" y="0"/>
            <a:ext cx="7421760" cy="942840"/>
          </a:xfrm>
          <a:prstGeom prst="rect">
            <a:avLst/>
          </a:prstGeom>
          <a:solidFill>
            <a:srgbClr val="87dada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rcRect l="0" t="0" r="0" b="53142"/>
          <a:stretch/>
        </p:blipFill>
        <p:spPr>
          <a:xfrm>
            <a:off x="0" y="0"/>
            <a:ext cx="2664000" cy="936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6659640"/>
            <a:ext cx="1008072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cc5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wmf"/><Relationship Id="rId11" Type="http://schemas.openxmlformats.org/officeDocument/2006/relationships/image" Target="../media/image23.png"/><Relationship Id="rId12" Type="http://schemas.openxmlformats.org/officeDocument/2006/relationships/image" Target="../media/image26.png"/><Relationship Id="rId13" Type="http://schemas.openxmlformats.org/officeDocument/2006/relationships/image" Target="../media/image25.wmf"/><Relationship Id="rId14" Type="http://schemas.openxmlformats.org/officeDocument/2006/relationships/image" Target="../media/image23.png"/><Relationship Id="rId15" Type="http://schemas.openxmlformats.org/officeDocument/2006/relationships/image" Target="../media/image26.png"/><Relationship Id="rId16" Type="http://schemas.openxmlformats.org/officeDocument/2006/relationships/image" Target="../media/image25.wmf"/><Relationship Id="rId17" Type="http://schemas.openxmlformats.org/officeDocument/2006/relationships/image" Target="../media/image23.png"/><Relationship Id="rId18" Type="http://schemas.openxmlformats.org/officeDocument/2006/relationships/image" Target="../media/image26.png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"/>
          <p:cNvGrpSpPr/>
          <p:nvPr/>
        </p:nvGrpSpPr>
        <p:grpSpPr>
          <a:xfrm>
            <a:off x="0" y="3170160"/>
            <a:ext cx="10082160" cy="1365480"/>
            <a:chOff x="0" y="3170160"/>
            <a:chExt cx="10082160" cy="1365480"/>
          </a:xfrm>
        </p:grpSpPr>
        <p:pic>
          <p:nvPicPr>
            <p:cNvPr id="46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3171240"/>
              <a:ext cx="100821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3170160"/>
              <a:ext cx="1008072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280" y="3492000"/>
            <a:ext cx="957744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黑体"/>
              </a:rPr>
              <a:t>TITL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201080" y="2411280"/>
            <a:ext cx="24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Arial"/>
                <a:ea typeface="宋体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330200" y="4692600"/>
            <a:ext cx="28814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360" y="7164360"/>
            <a:ext cx="5079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07880" y="396720"/>
            <a:ext cx="4061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学类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368360" y="1619280"/>
            <a:ext cx="2698920" cy="3774600"/>
            <a:chOff x="1368360" y="1619280"/>
            <a:chExt cx="2698920" cy="3774600"/>
          </a:xfrm>
        </p:grpSpPr>
        <p:sp>
          <p:nvSpPr>
            <p:cNvPr id="290" name="AutoShape 3"/>
            <p:cNvSpPr/>
            <p:nvPr/>
          </p:nvSpPr>
          <p:spPr>
            <a:xfrm>
              <a:off x="1368360" y="1619280"/>
              <a:ext cx="2698920" cy="2894760"/>
            </a:xfrm>
            <a:custGeom>
              <a:avLst/>
              <a:gdLst>
                <a:gd name="textAreaLeft" fmla="*/ 138240 w 2698920"/>
                <a:gd name="textAreaRight" fmla="*/ 2560680 w 2698920"/>
                <a:gd name="textAreaTop" fmla="*/ 138240 h 2894760"/>
                <a:gd name="textAreaBottom" fmla="*/ 2756520 h 2894760"/>
              </a:gdLst>
              <a:ahLst/>
              <a:rect l="textAreaLeft" t="textAreaTop" r="textAreaRight" b="textAreaBottom"/>
              <a:pathLst>
                <a:path w="21600" h="23167">
                  <a:moveTo>
                    <a:pt x="3782" y="0"/>
                  </a:moveTo>
                  <a:arcTo wR="3782" hR="3782" stAng="16200000" swAng="-5400000"/>
                  <a:lnTo>
                    <a:pt x="0" y="19385"/>
                  </a:lnTo>
                  <a:arcTo wR="3782" hR="3782" stAng="10800000" swAng="-5400000"/>
                  <a:lnTo>
                    <a:pt x="17818" y="2316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4"/>
            <p:cNvSpPr/>
            <p:nvPr/>
          </p:nvSpPr>
          <p:spPr>
            <a:xfrm>
              <a:off x="1419840" y="1619280"/>
              <a:ext cx="2619360" cy="2840760"/>
            </a:xfrm>
            <a:custGeom>
              <a:avLst/>
              <a:gdLst>
                <a:gd name="textAreaLeft" fmla="*/ 127800 w 2619360"/>
                <a:gd name="textAreaRight" fmla="*/ 2491560 w 2619360"/>
                <a:gd name="textAreaTop" fmla="*/ 127800 h 2840760"/>
                <a:gd name="textAreaBottom" fmla="*/ 2712960 h 2840760"/>
              </a:gdLst>
              <a:ahLst/>
              <a:rect l="textAreaLeft" t="textAreaTop" r="textAreaRight" b="textAreaBottom"/>
              <a:pathLst>
                <a:path w="21600" h="23425">
                  <a:moveTo>
                    <a:pt x="3600" y="0"/>
                  </a:moveTo>
                  <a:arcTo wR="3600" hR="3600" stAng="16200000" swAng="-5400000"/>
                  <a:lnTo>
                    <a:pt x="0" y="19825"/>
                  </a:lnTo>
                  <a:arcTo wR="3600" hR="3600" stAng="10800000" swAng="-5400000"/>
                  <a:lnTo>
                    <a:pt x="18000" y="23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1456560" y="3720240"/>
              <a:ext cx="2582280" cy="71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f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6"/>
            <p:cNvSpPr/>
            <p:nvPr/>
          </p:nvSpPr>
          <p:spPr>
            <a:xfrm>
              <a:off x="1427760" y="1652040"/>
              <a:ext cx="2581200" cy="71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7"/>
            <p:cNvSpPr/>
            <p:nvPr/>
          </p:nvSpPr>
          <p:spPr>
            <a:xfrm>
              <a:off x="1368360" y="4510080"/>
              <a:ext cx="2698920" cy="8838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4490c4">
                    <a:alpha val="50196"/>
                  </a:srgbClr>
                </a:gs>
                <a:gs pos="100000">
                  <a:srgbClr val="1f435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8"/>
            <p:cNvSpPr/>
            <p:nvPr/>
          </p:nvSpPr>
          <p:spPr>
            <a:xfrm>
              <a:off x="1456560" y="4563360"/>
              <a:ext cx="2582280" cy="71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4fc">
                    <a:alpha val="50196"/>
                  </a:srgbClr>
                </a:gs>
                <a:gs pos="100000">
                  <a:srgbClr val="99ddf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519200" y="285228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34"/>
          <p:cNvSpPr/>
          <p:nvPr/>
        </p:nvSpPr>
        <p:spPr>
          <a:xfrm>
            <a:off x="2664000" y="250920"/>
            <a:ext cx="496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"/>
          <p:cNvGrpSpPr/>
          <p:nvPr/>
        </p:nvGrpSpPr>
        <p:grpSpPr>
          <a:xfrm>
            <a:off x="3494160" y="2944800"/>
            <a:ext cx="3259440" cy="2813040"/>
            <a:chOff x="3494160" y="2944800"/>
            <a:chExt cx="3259440" cy="2813040"/>
          </a:xfrm>
        </p:grpSpPr>
        <p:sp>
          <p:nvSpPr>
            <p:cNvPr id="299" name="AutoShape 12"/>
            <p:cNvSpPr/>
            <p:nvPr/>
          </p:nvSpPr>
          <p:spPr>
            <a:xfrm rot="5400000">
              <a:off x="4825800" y="4462560"/>
              <a:ext cx="539640" cy="205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7058"/>
                  </a:srgbClr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Oval 13"/>
            <p:cNvGrpSpPr/>
            <p:nvPr/>
          </p:nvGrpSpPr>
          <p:grpSpPr>
            <a:xfrm>
              <a:off x="3999240" y="5291280"/>
              <a:ext cx="2266920" cy="146160"/>
              <a:chOff x="3999240" y="5291280"/>
              <a:chExt cx="2266920" cy="146160"/>
            </a:xfrm>
          </p:grpSpPr>
          <p:pic>
            <p:nvPicPr>
              <p:cNvPr id="301" name="Ova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999240" y="5291280"/>
                <a:ext cx="22669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4329720" y="5312160"/>
                <a:ext cx="160344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3494160" y="2944800"/>
              <a:ext cx="3259440" cy="2602080"/>
              <a:chOff x="3494160" y="2944800"/>
              <a:chExt cx="3259440" cy="2602080"/>
            </a:xfrm>
          </p:grpSpPr>
          <p:sp>
            <p:nvSpPr>
              <p:cNvPr id="304" name="AutoShape 15"/>
              <p:cNvSpPr/>
              <p:nvPr/>
            </p:nvSpPr>
            <p:spPr>
              <a:xfrm rot="16200000">
                <a:off x="4988880" y="4487040"/>
                <a:ext cx="218520" cy="1633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16"/>
              <p:cNvSpPr/>
              <p:nvPr/>
            </p:nvSpPr>
            <p:spPr>
              <a:xfrm rot="20694600">
                <a:off x="3745080" y="3449160"/>
                <a:ext cx="771120" cy="20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440" y="3100"/>
                      <a:pt x="17280" y="5080"/>
                      <a:pt x="17280" y="10800"/>
                    </a:cubicBezTo>
                    <a:cubicBezTo>
                      <a:pt x="17280" y="16520"/>
                      <a:pt x="19440" y="185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7"/>
              <p:cNvSpPr/>
              <p:nvPr/>
            </p:nvSpPr>
            <p:spPr>
              <a:xfrm>
                <a:off x="4166280" y="3403080"/>
                <a:ext cx="1890360" cy="1960920"/>
              </a:xfrm>
              <a:custGeom>
                <a:avLst/>
                <a:gdLst>
                  <a:gd name="textAreaLeft" fmla="*/ 475560 w 1890360"/>
                  <a:gd name="textAreaRight" fmla="*/ 1414800 w 1890360"/>
                  <a:gd name="textAreaTop" fmla="*/ 492480 h 1960920"/>
                  <a:gd name="textAreaBottom" fmla="*/ 1468440 h 196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277" y="21600"/>
                    </a:lnTo>
                    <a:lnTo>
                      <a:pt x="1432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8"/>
              <p:cNvSpPr/>
              <p:nvPr/>
            </p:nvSpPr>
            <p:spPr>
              <a:xfrm rot="11727600">
                <a:off x="5724720" y="3449160"/>
                <a:ext cx="771840" cy="20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440" y="3100"/>
                      <a:pt x="17280" y="5080"/>
                      <a:pt x="17280" y="10800"/>
                    </a:cubicBezTo>
                    <a:cubicBezTo>
                      <a:pt x="17280" y="16520"/>
                      <a:pt x="19440" y="185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 rot="20608200">
                <a:off x="4185360" y="3434760"/>
                <a:ext cx="549720" cy="194364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 rot="946200">
                <a:off x="5470920" y="3373200"/>
                <a:ext cx="549720" cy="201960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1"/>
              <p:cNvSpPr/>
              <p:nvPr/>
            </p:nvSpPr>
            <p:spPr>
              <a:xfrm>
                <a:off x="4185360" y="3341880"/>
                <a:ext cx="1871280" cy="154440"/>
              </a:xfrm>
              <a:prstGeom prst="ellipse">
                <a:avLst/>
              </a:prstGeom>
              <a:gradFill rotWithShape="0">
                <a:gsLst>
                  <a:gs pos="0">
                    <a:srgbClr val="00ac00"/>
                  </a:gs>
                  <a:gs pos="100000">
                    <a:srgbClr val="45c2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22"/>
              <p:cNvSpPr/>
              <p:nvPr/>
            </p:nvSpPr>
            <p:spPr>
              <a:xfrm rot="20994000">
                <a:off x="3799080" y="3542400"/>
                <a:ext cx="623160" cy="1877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beffbe"/>
                  </a:gs>
                </a:gsLst>
                <a:lin ang="1140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23"/>
              <p:cNvSpPr/>
              <p:nvPr/>
            </p:nvSpPr>
            <p:spPr>
              <a:xfrm rot="11629800">
                <a:off x="5724720" y="3431520"/>
                <a:ext cx="790920" cy="2025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beffbe"/>
                  </a:gs>
                </a:gsLst>
                <a:lin ang="2077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24"/>
              <p:cNvSpPr/>
              <p:nvPr/>
            </p:nvSpPr>
            <p:spPr>
              <a:xfrm rot="1092600">
                <a:off x="5094720" y="2950920"/>
                <a:ext cx="125280" cy="527400"/>
              </a:xfrm>
              <a:custGeom>
                <a:avLst/>
                <a:gdLst>
                  <a:gd name="textAreaLeft" fmla="*/ 38160 w 125280"/>
                  <a:gd name="textAreaRight" fmla="*/ 86040 w 125280"/>
                  <a:gd name="textAreaTop" fmla="*/ 73800 h 527400"/>
                  <a:gd name="textAreaBottom" fmla="*/ 453600 h 52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219" y="2662"/>
                      <a:pt x="14837" y="5080"/>
                      <a:pt x="14837" y="10800"/>
                    </a:cubicBezTo>
                    <a:cubicBezTo>
                      <a:pt x="14837" y="16520"/>
                      <a:pt x="18219" y="1893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f6a45"/>
                  </a:gs>
                  <a:gs pos="100000">
                    <a:srgbClr val="663300"/>
                  </a:gs>
                </a:gsLst>
                <a:lin ang="970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5"/>
              <p:cNvSpPr/>
              <p:nvPr/>
            </p:nvSpPr>
            <p:spPr>
              <a:xfrm>
                <a:off x="4754520" y="3387960"/>
                <a:ext cx="716400" cy="108360"/>
              </a:xfrm>
              <a:prstGeom prst="ellipse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7dcb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6"/>
          <p:cNvGrpSpPr/>
          <p:nvPr/>
        </p:nvGrpSpPr>
        <p:grpSpPr>
          <a:xfrm>
            <a:off x="6372360" y="2664000"/>
            <a:ext cx="2698200" cy="3772800"/>
            <a:chOff x="6372360" y="2664000"/>
            <a:chExt cx="2698200" cy="3772800"/>
          </a:xfrm>
        </p:grpSpPr>
        <p:grpSp>
          <p:nvGrpSpPr>
            <p:cNvPr id="316" name="Group 27"/>
            <p:cNvGrpSpPr/>
            <p:nvPr/>
          </p:nvGrpSpPr>
          <p:grpSpPr>
            <a:xfrm>
              <a:off x="6372360" y="2664000"/>
              <a:ext cx="2698200" cy="3772800"/>
              <a:chOff x="6372360" y="2664000"/>
              <a:chExt cx="2698200" cy="3772800"/>
            </a:xfrm>
          </p:grpSpPr>
          <p:sp>
            <p:nvSpPr>
              <p:cNvPr id="317" name="AutoShape 28"/>
              <p:cNvSpPr/>
              <p:nvPr/>
            </p:nvSpPr>
            <p:spPr>
              <a:xfrm>
                <a:off x="6372360" y="2664000"/>
                <a:ext cx="2698200" cy="2891160"/>
              </a:xfrm>
              <a:custGeom>
                <a:avLst/>
                <a:gdLst>
                  <a:gd name="textAreaLeft" fmla="*/ 138240 w 2698200"/>
                  <a:gd name="textAreaRight" fmla="*/ 2559960 w 2698200"/>
                  <a:gd name="textAreaTop" fmla="*/ 138240 h 2891160"/>
                  <a:gd name="textAreaBottom" fmla="*/ 2752920 h 2891160"/>
                </a:gdLst>
                <a:ahLst/>
                <a:rect l="textAreaLeft" t="textAreaTop" r="textAreaRight" b="textAreaBottom"/>
                <a:pathLst>
                  <a:path w="21600" h="23145">
                    <a:moveTo>
                      <a:pt x="3782" y="0"/>
                    </a:moveTo>
                    <a:arcTo wR="3782" hR="3782" stAng="16200000" swAng="-5400000"/>
                    <a:lnTo>
                      <a:pt x="0" y="19363"/>
                    </a:lnTo>
                    <a:arcTo wR="3782" hR="3782" stAng="10800000" swAng="-5400000"/>
                    <a:lnTo>
                      <a:pt x="17818" y="2314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993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29"/>
              <p:cNvSpPr/>
              <p:nvPr/>
            </p:nvSpPr>
            <p:spPr>
              <a:xfrm>
                <a:off x="6399720" y="2680200"/>
                <a:ext cx="2619000" cy="2835000"/>
              </a:xfrm>
              <a:custGeom>
                <a:avLst/>
                <a:gdLst>
                  <a:gd name="textAreaLeft" fmla="*/ 127800 w 2619000"/>
                  <a:gd name="textAreaRight" fmla="*/ 2491200 w 2619000"/>
                  <a:gd name="textAreaTop" fmla="*/ 127800 h 2835000"/>
                  <a:gd name="textAreaBottom" fmla="*/ 2707200 h 2835000"/>
                </a:gdLst>
                <a:ahLst/>
                <a:rect l="textAreaLeft" t="textAreaTop" r="textAreaRight" b="textAreaBottom"/>
                <a:pathLst>
                  <a:path w="21600" h="23381">
                    <a:moveTo>
                      <a:pt x="3600" y="0"/>
                    </a:moveTo>
                    <a:arcTo wR="3600" hR="3600" stAng="16200000" swAng="-5400000"/>
                    <a:lnTo>
                      <a:pt x="0" y="19781"/>
                    </a:lnTo>
                    <a:arcTo wR="3600" hR="3600" stAng="10800000" swAng="-5400000"/>
                    <a:lnTo>
                      <a:pt x="18000" y="233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30"/>
              <p:cNvSpPr/>
              <p:nvPr/>
            </p:nvSpPr>
            <p:spPr>
              <a:xfrm>
                <a:off x="6399720" y="4782600"/>
                <a:ext cx="2581920" cy="716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b3ff">
                      <a:alpha val="0"/>
                    </a:srgbClr>
                  </a:gs>
                  <a:gs pos="100000">
                    <a:srgbClr val="bcb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31"/>
              <p:cNvSpPr/>
              <p:nvPr/>
            </p:nvSpPr>
            <p:spPr>
              <a:xfrm>
                <a:off x="6409440" y="2702520"/>
                <a:ext cx="2581920" cy="716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eee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2"/>
              <p:cNvSpPr/>
              <p:nvPr/>
            </p:nvSpPr>
            <p:spPr>
              <a:xfrm>
                <a:off x="6372360" y="5555160"/>
                <a:ext cx="2698200" cy="88164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33ff">
                      <a:alpha val="50196"/>
                    </a:srgbClr>
                  </a:gs>
                  <a:gs pos="100000">
                    <a:srgbClr val="4718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3"/>
              <p:cNvSpPr/>
              <p:nvPr/>
            </p:nvSpPr>
            <p:spPr>
              <a:xfrm>
                <a:off x="6409440" y="5589000"/>
                <a:ext cx="2581920" cy="716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e4ff">
                      <a:alpha val="50196"/>
                    </a:srgbClr>
                  </a:gs>
                  <a:gs pos="100000">
                    <a:srgbClr val="afa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34"/>
            <p:cNvSpPr/>
            <p:nvPr/>
          </p:nvSpPr>
          <p:spPr>
            <a:xfrm>
              <a:off x="6702840" y="3795840"/>
              <a:ext cx="2039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7201080" y="4175280"/>
            <a:ext cx="2447640" cy="17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99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goals</a:t>
            </a:r>
            <a:endParaRPr b="1" lang="en-US" sz="5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99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5110200" y="3635280"/>
            <a:ext cx="1942920" cy="2340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40000"/>
              <a:gd name="textAreaBottom" fmla="*/ 2340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3670200" y="3635280"/>
            <a:ext cx="1943280" cy="234000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2340000"/>
              <a:gd name="textAreaBottom" fmla="*/ 2340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232000" y="3635280"/>
            <a:ext cx="1943280" cy="234000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2340000"/>
              <a:gd name="textAreaBottom" fmla="*/ 2340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c1d4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2844720" y="25092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195640" y="5940360"/>
            <a:ext cx="4394160" cy="647640"/>
          </a:xfrm>
          <a:prstGeom prst="parallelogram">
            <a:avLst>
              <a:gd name="adj" fmla="val 3213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64600" dir="472516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936720" y="3635280"/>
            <a:ext cx="1763640" cy="2951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1c1c"/>
              </a:gs>
              <a:gs pos="100000">
                <a:srgbClr val="808080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406880" y="4427640"/>
            <a:ext cx="5202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2956320" y="4319640"/>
            <a:ext cx="520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4467600" y="4319640"/>
            <a:ext cx="520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943960" y="4356000"/>
            <a:ext cx="520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52720" y="6048360"/>
            <a:ext cx="1116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5184720" y="1871640"/>
            <a:ext cx="1258560" cy="1258560"/>
            <a:chOff x="5184720" y="1871640"/>
            <a:chExt cx="1258560" cy="1258560"/>
          </a:xfrm>
        </p:grpSpPr>
        <p:grpSp>
          <p:nvGrpSpPr>
            <p:cNvPr id="337" name="Group 15"/>
            <p:cNvGrpSpPr/>
            <p:nvPr/>
          </p:nvGrpSpPr>
          <p:grpSpPr>
            <a:xfrm>
              <a:off x="5184720" y="1871640"/>
              <a:ext cx="1258560" cy="1258560"/>
              <a:chOff x="5184720" y="1871640"/>
              <a:chExt cx="1258560" cy="1258560"/>
            </a:xfrm>
          </p:grpSpPr>
          <p:sp>
            <p:nvSpPr>
              <p:cNvPr id="338" name="Oval 16"/>
              <p:cNvSpPr/>
              <p:nvPr/>
            </p:nvSpPr>
            <p:spPr>
              <a:xfrm>
                <a:off x="5184720" y="1913760"/>
                <a:ext cx="1258560" cy="1216440"/>
              </a:xfrm>
              <a:prstGeom prst="ellipse">
                <a:avLst/>
              </a:prstGeom>
              <a:solidFill>
                <a:srgbClr val="00d0be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9" name="Picture 17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5291280" y="1871640"/>
                <a:ext cx="1038240" cy="101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0" name="Rectangle 18"/>
            <p:cNvSpPr/>
            <p:nvPr/>
          </p:nvSpPr>
          <p:spPr>
            <a:xfrm>
              <a:off x="5399640" y="23580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9"/>
          <p:cNvGrpSpPr/>
          <p:nvPr/>
        </p:nvGrpSpPr>
        <p:grpSpPr>
          <a:xfrm>
            <a:off x="863640" y="1870200"/>
            <a:ext cx="1258560" cy="1258560"/>
            <a:chOff x="863640" y="1870200"/>
            <a:chExt cx="1258560" cy="1258560"/>
          </a:xfrm>
        </p:grpSpPr>
        <p:grpSp>
          <p:nvGrpSpPr>
            <p:cNvPr id="342" name="Group 20"/>
            <p:cNvGrpSpPr/>
            <p:nvPr/>
          </p:nvGrpSpPr>
          <p:grpSpPr>
            <a:xfrm>
              <a:off x="863640" y="1870200"/>
              <a:ext cx="1258560" cy="1258560"/>
              <a:chOff x="863640" y="1870200"/>
              <a:chExt cx="1258560" cy="125856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863640" y="1912320"/>
                <a:ext cx="1258560" cy="1216440"/>
              </a:xfrm>
              <a:prstGeom prst="ellipse">
                <a:avLst/>
              </a:prstGeom>
              <a:solidFill>
                <a:srgbClr val="0066f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4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970200" y="1870200"/>
                <a:ext cx="1038240" cy="101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Rectangle 23"/>
            <p:cNvSpPr/>
            <p:nvPr/>
          </p:nvSpPr>
          <p:spPr>
            <a:xfrm>
              <a:off x="1078560" y="23058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4"/>
          <p:cNvGrpSpPr/>
          <p:nvPr/>
        </p:nvGrpSpPr>
        <p:grpSpPr>
          <a:xfrm>
            <a:off x="3745080" y="1871640"/>
            <a:ext cx="1258200" cy="1258560"/>
            <a:chOff x="3745080" y="1871640"/>
            <a:chExt cx="1258200" cy="1258560"/>
          </a:xfrm>
        </p:grpSpPr>
        <p:grpSp>
          <p:nvGrpSpPr>
            <p:cNvPr id="347" name="Group 25"/>
            <p:cNvGrpSpPr/>
            <p:nvPr/>
          </p:nvGrpSpPr>
          <p:grpSpPr>
            <a:xfrm>
              <a:off x="3745080" y="1871640"/>
              <a:ext cx="1258200" cy="1258560"/>
              <a:chOff x="3745080" y="1871640"/>
              <a:chExt cx="1258200" cy="1258560"/>
            </a:xfrm>
          </p:grpSpPr>
          <p:sp>
            <p:nvSpPr>
              <p:cNvPr id="348" name="Oval 26"/>
              <p:cNvSpPr/>
              <p:nvPr/>
            </p:nvSpPr>
            <p:spPr>
              <a:xfrm>
                <a:off x="3745080" y="1913760"/>
                <a:ext cx="1258200" cy="1216440"/>
              </a:xfrm>
              <a:prstGeom prst="ellipse">
                <a:avLst/>
              </a:prstGeom>
              <a:solidFill>
                <a:srgbClr val="ff8d3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9" name="Picture 27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3851640" y="1871640"/>
                <a:ext cx="1038240" cy="101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0" name="Rectangle 28"/>
            <p:cNvSpPr/>
            <p:nvPr/>
          </p:nvSpPr>
          <p:spPr>
            <a:xfrm>
              <a:off x="3959640" y="23580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9"/>
          <p:cNvGrpSpPr/>
          <p:nvPr/>
        </p:nvGrpSpPr>
        <p:grpSpPr>
          <a:xfrm>
            <a:off x="2303640" y="1871640"/>
            <a:ext cx="1258200" cy="1258560"/>
            <a:chOff x="2303640" y="1871640"/>
            <a:chExt cx="1258200" cy="1258560"/>
          </a:xfrm>
        </p:grpSpPr>
        <p:grpSp>
          <p:nvGrpSpPr>
            <p:cNvPr id="352" name="Group 30"/>
            <p:cNvGrpSpPr/>
            <p:nvPr/>
          </p:nvGrpSpPr>
          <p:grpSpPr>
            <a:xfrm>
              <a:off x="2303640" y="1871640"/>
              <a:ext cx="1258200" cy="1258560"/>
              <a:chOff x="2303640" y="1871640"/>
              <a:chExt cx="1258200" cy="1258560"/>
            </a:xfrm>
          </p:grpSpPr>
          <p:sp>
            <p:nvSpPr>
              <p:cNvPr id="353" name="Oval 31"/>
              <p:cNvSpPr/>
              <p:nvPr/>
            </p:nvSpPr>
            <p:spPr>
              <a:xfrm>
                <a:off x="2303640" y="1913760"/>
                <a:ext cx="1258200" cy="1216440"/>
              </a:xfrm>
              <a:prstGeom prst="ellipse">
                <a:avLst/>
              </a:prstGeom>
              <a:solidFill>
                <a:srgbClr val="9966f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3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410200" y="1871640"/>
                <a:ext cx="1038240" cy="101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5" name="Rectangle 33"/>
            <p:cNvSpPr/>
            <p:nvPr/>
          </p:nvSpPr>
          <p:spPr>
            <a:xfrm>
              <a:off x="2518200" y="23580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4"/>
          <p:cNvSpPr/>
          <p:nvPr/>
        </p:nvSpPr>
        <p:spPr>
          <a:xfrm>
            <a:off x="2411280" y="25092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708360" y="3492360"/>
            <a:ext cx="2447640" cy="2447280"/>
            <a:chOff x="3708360" y="3492360"/>
            <a:chExt cx="2447640" cy="2447280"/>
          </a:xfrm>
        </p:grpSpPr>
        <p:grpSp>
          <p:nvGrpSpPr>
            <p:cNvPr id="358" name="Group 4"/>
            <p:cNvGrpSpPr/>
            <p:nvPr/>
          </p:nvGrpSpPr>
          <p:grpSpPr>
            <a:xfrm>
              <a:off x="3708360" y="3492360"/>
              <a:ext cx="2447640" cy="2447280"/>
              <a:chOff x="3708360" y="3492360"/>
              <a:chExt cx="2447640" cy="2447280"/>
            </a:xfrm>
          </p:grpSpPr>
          <p:sp>
            <p:nvSpPr>
              <p:cNvPr id="359" name="Oval 5"/>
              <p:cNvSpPr/>
              <p:nvPr/>
            </p:nvSpPr>
            <p:spPr>
              <a:xfrm>
                <a:off x="3708360" y="3574440"/>
                <a:ext cx="2447640" cy="2365200"/>
              </a:xfrm>
              <a:prstGeom prst="ellipse">
                <a:avLst/>
              </a:prstGeom>
              <a:solidFill>
                <a:srgbClr val="0066f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0" name="Picture 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3916080" y="3492360"/>
                <a:ext cx="2019600" cy="1976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1" name="Rectangle 7"/>
            <p:cNvSpPr/>
            <p:nvPr/>
          </p:nvSpPr>
          <p:spPr>
            <a:xfrm>
              <a:off x="4394520" y="453528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Arc 8"/>
          <p:cNvSpPr/>
          <p:nvPr/>
        </p:nvSpPr>
        <p:spPr>
          <a:xfrm flipH="1" rot="21429600">
            <a:off x="2817720" y="3095640"/>
            <a:ext cx="2413080" cy="2085840"/>
          </a:xfrm>
          <a:custGeom>
            <a:avLst/>
            <a:gdLst/>
            <a:ahLst/>
            <a:rect l="l" t="t" r="r" b="b"/>
            <a:pathLst>
              <a:path fill="none" w="21600" h="20440">
                <a:moveTo>
                  <a:pt x="13422" y="-1"/>
                </a:moveTo>
                <a:cubicBezTo>
                  <a:pt x="18588" y="4096"/>
                  <a:pt x="21600" y="10329"/>
                  <a:pt x="21600" y="16923"/>
                </a:cubicBezTo>
                <a:cubicBezTo>
                  <a:pt x="21600" y="18101"/>
                  <a:pt x="21503" y="19277"/>
                  <a:pt x="21311" y="20439"/>
                </a:cubicBezTo>
              </a:path>
              <a:path stroke="0" w="21600" h="20440">
                <a:moveTo>
                  <a:pt x="13422" y="-1"/>
                </a:moveTo>
                <a:cubicBezTo>
                  <a:pt x="18588" y="4096"/>
                  <a:pt x="21600" y="10329"/>
                  <a:pt x="21600" y="16923"/>
                </a:cubicBezTo>
                <a:cubicBezTo>
                  <a:pt x="21600" y="18101"/>
                  <a:pt x="21503" y="19277"/>
                  <a:pt x="21311" y="20439"/>
                </a:cubicBezTo>
                <a:lnTo>
                  <a:pt x="0" y="16923"/>
                </a:lnTo>
                <a:lnTo>
                  <a:pt x="13422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9"/>
          <p:cNvSpPr/>
          <p:nvPr/>
        </p:nvSpPr>
        <p:spPr>
          <a:xfrm flipH="1" rot="7522800">
            <a:off x="4968000" y="3665160"/>
            <a:ext cx="2367000" cy="1960560"/>
          </a:xfrm>
          <a:custGeom>
            <a:avLst/>
            <a:gdLst/>
            <a:ahLst/>
            <a:rect l="l" t="t" r="r" b="b"/>
            <a:pathLst>
              <a:path fill="none" w="21188" h="19218">
                <a:moveTo>
                  <a:pt x="9860" y="0"/>
                </a:moveTo>
                <a:cubicBezTo>
                  <a:pt x="15733" y="3013"/>
                  <a:pt x="19905" y="8546"/>
                  <a:pt x="21188" y="15020"/>
                </a:cubicBezTo>
              </a:path>
              <a:path stroke="0" w="21188" h="19218">
                <a:moveTo>
                  <a:pt x="9860" y="0"/>
                </a:moveTo>
                <a:cubicBezTo>
                  <a:pt x="15733" y="3013"/>
                  <a:pt x="19905" y="8546"/>
                  <a:pt x="21188" y="15020"/>
                </a:cubicBezTo>
                <a:lnTo>
                  <a:pt x="0" y="19218"/>
                </a:lnTo>
                <a:lnTo>
                  <a:pt x="986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10"/>
          <p:cNvSpPr/>
          <p:nvPr/>
        </p:nvSpPr>
        <p:spPr>
          <a:xfrm flipV="1">
            <a:off x="1836720" y="3671280"/>
            <a:ext cx="1270080" cy="485640"/>
          </a:xfrm>
          <a:custGeom>
            <a:avLst/>
            <a:gdLst/>
            <a:ahLst/>
            <a:rect l="l" t="t" r="r" b="b"/>
            <a:pathLst>
              <a:path fill="none" w="21173" h="20858">
                <a:moveTo>
                  <a:pt x="5613" y="0"/>
                </a:moveTo>
                <a:cubicBezTo>
                  <a:pt x="13525" y="2129"/>
                  <a:pt x="19551" y="8552"/>
                  <a:pt x="21172" y="16583"/>
                </a:cubicBezTo>
              </a:path>
              <a:path stroke="0" w="21173" h="20858">
                <a:moveTo>
                  <a:pt x="5613" y="0"/>
                </a:moveTo>
                <a:cubicBezTo>
                  <a:pt x="13525" y="2129"/>
                  <a:pt x="19551" y="8552"/>
                  <a:pt x="21172" y="16583"/>
                </a:cubicBezTo>
                <a:lnTo>
                  <a:pt x="0" y="20858"/>
                </a:lnTo>
                <a:lnTo>
                  <a:pt x="5613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11"/>
          <p:cNvSpPr/>
          <p:nvPr/>
        </p:nvSpPr>
        <p:spPr>
          <a:xfrm flipH="1" rot="19795800">
            <a:off x="6588000" y="3095280"/>
            <a:ext cx="1070280" cy="738000"/>
          </a:xfrm>
          <a:custGeom>
            <a:avLst/>
            <a:gdLst/>
            <a:ahLst/>
            <a:rect l="l" t="t" r="r" b="b"/>
            <a:pathLst>
              <a:path fill="none" w="21173" h="20858">
                <a:moveTo>
                  <a:pt x="5613" y="0"/>
                </a:moveTo>
                <a:cubicBezTo>
                  <a:pt x="13525" y="2129"/>
                  <a:pt x="19551" y="8552"/>
                  <a:pt x="21172" y="16583"/>
                </a:cubicBezTo>
              </a:path>
              <a:path stroke="0" w="21173" h="20858">
                <a:moveTo>
                  <a:pt x="5613" y="0"/>
                </a:moveTo>
                <a:cubicBezTo>
                  <a:pt x="13525" y="2129"/>
                  <a:pt x="19551" y="8552"/>
                  <a:pt x="21172" y="16583"/>
                </a:cubicBezTo>
                <a:lnTo>
                  <a:pt x="0" y="20858"/>
                </a:lnTo>
                <a:lnTo>
                  <a:pt x="5613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2"/>
          <p:cNvGrpSpPr/>
          <p:nvPr/>
        </p:nvGrpSpPr>
        <p:grpSpPr>
          <a:xfrm>
            <a:off x="863640" y="1871640"/>
            <a:ext cx="1258560" cy="1258560"/>
            <a:chOff x="863640" y="1871640"/>
            <a:chExt cx="1258560" cy="1258560"/>
          </a:xfrm>
        </p:grpSpPr>
        <p:grpSp>
          <p:nvGrpSpPr>
            <p:cNvPr id="367" name="Group 13"/>
            <p:cNvGrpSpPr/>
            <p:nvPr/>
          </p:nvGrpSpPr>
          <p:grpSpPr>
            <a:xfrm>
              <a:off x="863640" y="1871640"/>
              <a:ext cx="1258560" cy="1258560"/>
              <a:chOff x="863640" y="1871640"/>
              <a:chExt cx="1258560" cy="1258560"/>
            </a:xfrm>
          </p:grpSpPr>
          <p:sp>
            <p:nvSpPr>
              <p:cNvPr id="368" name="Oval 14"/>
              <p:cNvSpPr/>
              <p:nvPr/>
            </p:nvSpPr>
            <p:spPr>
              <a:xfrm>
                <a:off x="863640" y="1913760"/>
                <a:ext cx="1258560" cy="1216440"/>
              </a:xfrm>
              <a:prstGeom prst="ellipse">
                <a:avLst/>
              </a:prstGeom>
              <a:solidFill>
                <a:srgbClr val="0066f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9" name="Picture 15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970200" y="1871640"/>
                <a:ext cx="1038240" cy="101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16"/>
            <p:cNvSpPr/>
            <p:nvPr/>
          </p:nvSpPr>
          <p:spPr>
            <a:xfrm>
              <a:off x="1078560" y="23072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AutoShape 17"/>
          <p:cNvSpPr/>
          <p:nvPr/>
        </p:nvSpPr>
        <p:spPr>
          <a:xfrm>
            <a:off x="3780000" y="5688000"/>
            <a:ext cx="2052360" cy="792000"/>
          </a:xfrm>
          <a:custGeom>
            <a:avLst/>
            <a:gdLst>
              <a:gd name="textAreaLeft" fmla="*/ 320400 w 2052360"/>
              <a:gd name="textAreaRight" fmla="*/ 1796040 w 2052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1234E-007 7.56303E-007 L 0.33927 0.29538 E">
                                      <p:cBhvr>
                                        <p:cTn id="463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5653080" y="270036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9" y="10800"/>
                </a:moveTo>
                <a:cubicBezTo>
                  <a:pt x="1029" y="16196"/>
                  <a:pt x="5404" y="20571"/>
                  <a:pt x="10800" y="20571"/>
                </a:cubicBezTo>
                <a:cubicBezTo>
                  <a:pt x="16196" y="20571"/>
                  <a:pt x="20571" y="16196"/>
                  <a:pt x="20571" y="10800"/>
                </a:cubicBezTo>
                <a:cubicBezTo>
                  <a:pt x="20571" y="5404"/>
                  <a:pt x="16196" y="1029"/>
                  <a:pt x="10800" y="1029"/>
                </a:cubicBezTo>
                <a:cubicBezTo>
                  <a:pt x="5404" y="1029"/>
                  <a:pt x="1029" y="5404"/>
                  <a:pt x="1029" y="10800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7d7de5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016000" y="2700360"/>
            <a:ext cx="2519640" cy="2519280"/>
          </a:xfrm>
          <a:custGeom>
            <a:avLst/>
            <a:gdLst>
              <a:gd name="textAreaLeft" fmla="*/ 369000 w 2519640"/>
              <a:gd name="textAreaRight" fmla="*/ 2150640 w 251964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9" y="10800"/>
                </a:moveTo>
                <a:cubicBezTo>
                  <a:pt x="1029" y="16196"/>
                  <a:pt x="5404" y="20571"/>
                  <a:pt x="10800" y="20571"/>
                </a:cubicBezTo>
                <a:cubicBezTo>
                  <a:pt x="16196" y="20571"/>
                  <a:pt x="20571" y="16196"/>
                  <a:pt x="20571" y="10800"/>
                </a:cubicBezTo>
                <a:cubicBezTo>
                  <a:pt x="20571" y="5404"/>
                  <a:pt x="16196" y="1029"/>
                  <a:pt x="10800" y="1029"/>
                </a:cubicBezTo>
                <a:cubicBezTo>
                  <a:pt x="5404" y="1029"/>
                  <a:pt x="1029" y="5404"/>
                  <a:pt x="1029" y="10800"/>
                </a:cubicBezTo>
                <a:close/>
              </a:path>
            </a:pathLst>
          </a:custGeom>
          <a:gradFill rotWithShape="0">
            <a:gsLst>
              <a:gs pos="0">
                <a:srgbClr val="00918e"/>
              </a:gs>
              <a:gs pos="100000">
                <a:srgbClr val="7dc7c5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2664000" y="250920"/>
            <a:ext cx="496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3745080" y="1871640"/>
            <a:ext cx="1356480" cy="1356480"/>
            <a:chOff x="3745080" y="1871640"/>
            <a:chExt cx="1356480" cy="1356480"/>
          </a:xfrm>
        </p:grpSpPr>
        <p:grpSp>
          <p:nvGrpSpPr>
            <p:cNvPr id="376" name="Group 6"/>
            <p:cNvGrpSpPr/>
            <p:nvPr/>
          </p:nvGrpSpPr>
          <p:grpSpPr>
            <a:xfrm>
              <a:off x="3745080" y="1871640"/>
              <a:ext cx="1356480" cy="1356480"/>
              <a:chOff x="3745080" y="1871640"/>
              <a:chExt cx="1356480" cy="1356480"/>
            </a:xfrm>
          </p:grpSpPr>
          <p:sp>
            <p:nvSpPr>
              <p:cNvPr id="377" name="Oval 7"/>
              <p:cNvSpPr/>
              <p:nvPr/>
            </p:nvSpPr>
            <p:spPr>
              <a:xfrm>
                <a:off x="3745080" y="1917000"/>
                <a:ext cx="1356480" cy="1311120"/>
              </a:xfrm>
              <a:prstGeom prst="ellipse">
                <a:avLst/>
              </a:prstGeom>
              <a:solidFill>
                <a:srgbClr val="ff8d3f"/>
              </a:solidFill>
              <a:ln w="6336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Picture 8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3859920" y="1871640"/>
                <a:ext cx="1119600" cy="109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Rectangle 9"/>
            <p:cNvSpPr/>
            <p:nvPr/>
          </p:nvSpPr>
          <p:spPr>
            <a:xfrm>
              <a:off x="3907080" y="23227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ste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AutoShape 10"/>
          <p:cNvSpPr/>
          <p:nvPr/>
        </p:nvSpPr>
        <p:spPr>
          <a:xfrm>
            <a:off x="3708360" y="3274920"/>
            <a:ext cx="2514600" cy="1220760"/>
          </a:xfrm>
          <a:prstGeom prst="roundRect">
            <a:avLst>
              <a:gd name="adj" fmla="val 13264"/>
            </a:avLst>
          </a:prstGeom>
          <a:gradFill rotWithShape="0">
            <a:gsLst>
              <a:gs pos="0">
                <a:srgbClr val="ff8d3f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780000" y="3564000"/>
            <a:ext cx="242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Arial"/>
                <a:ea typeface="黑体"/>
              </a:rPr>
              <a:t>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2411280" y="2266920"/>
            <a:ext cx="1079640" cy="1042560"/>
            <a:chOff x="2411280" y="2266920"/>
            <a:chExt cx="1079640" cy="1042560"/>
          </a:xfrm>
        </p:grpSpPr>
        <p:grpSp>
          <p:nvGrpSpPr>
            <p:cNvPr id="383" name="Group 13"/>
            <p:cNvGrpSpPr/>
            <p:nvPr/>
          </p:nvGrpSpPr>
          <p:grpSpPr>
            <a:xfrm>
              <a:off x="2411280" y="2266920"/>
              <a:ext cx="1044720" cy="1042560"/>
              <a:chOff x="2411280" y="2266920"/>
              <a:chExt cx="1044720" cy="1042560"/>
            </a:xfrm>
          </p:grpSpPr>
          <p:grpSp>
            <p:nvGrpSpPr>
              <p:cNvPr id="384" name="Group 14"/>
              <p:cNvGrpSpPr/>
              <p:nvPr/>
            </p:nvGrpSpPr>
            <p:grpSpPr>
              <a:xfrm>
                <a:off x="2411280" y="2266920"/>
                <a:ext cx="1044720" cy="1042560"/>
                <a:chOff x="2411280" y="2266920"/>
                <a:chExt cx="1044720" cy="1042560"/>
              </a:xfrm>
            </p:grpSpPr>
            <p:pic>
              <p:nvPicPr>
                <p:cNvPr id="385" name="Picture 15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11280" y="2266920"/>
                  <a:ext cx="104472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6" name="Oval 16"/>
                <p:cNvGrpSpPr/>
                <p:nvPr/>
              </p:nvGrpSpPr>
              <p:grpSpPr>
                <a:xfrm>
                  <a:off x="2414160" y="2267640"/>
                  <a:ext cx="1036800" cy="1041840"/>
                  <a:chOff x="2414160" y="2267640"/>
                  <a:chExt cx="1036800" cy="1041840"/>
                </a:xfrm>
              </p:grpSpPr>
              <p:pic>
                <p:nvPicPr>
                  <p:cNvPr id="387" name="Oval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4160" y="2267640"/>
                    <a:ext cx="1036800" cy="10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>
                    <a:off x="2563560" y="2419560"/>
                    <a:ext cx="734040" cy="737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89" name="Picture 17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2515320" y="2277000"/>
                <a:ext cx="82512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Text Box 18"/>
            <p:cNvSpPr/>
            <p:nvPr/>
          </p:nvSpPr>
          <p:spPr>
            <a:xfrm>
              <a:off x="2430360" y="253044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9"/>
          <p:cNvGrpSpPr/>
          <p:nvPr/>
        </p:nvGrpSpPr>
        <p:grpSpPr>
          <a:xfrm>
            <a:off x="1511280" y="3348000"/>
            <a:ext cx="1069560" cy="1042920"/>
            <a:chOff x="1511280" y="3348000"/>
            <a:chExt cx="1069560" cy="1042920"/>
          </a:xfrm>
        </p:grpSpPr>
        <p:grpSp>
          <p:nvGrpSpPr>
            <p:cNvPr id="392" name="Group 20"/>
            <p:cNvGrpSpPr/>
            <p:nvPr/>
          </p:nvGrpSpPr>
          <p:grpSpPr>
            <a:xfrm>
              <a:off x="1536840" y="3348000"/>
              <a:ext cx="1044000" cy="1042920"/>
              <a:chOff x="1536840" y="3348000"/>
              <a:chExt cx="1044000" cy="1042920"/>
            </a:xfrm>
          </p:grpSpPr>
          <p:grpSp>
            <p:nvGrpSpPr>
              <p:cNvPr id="393" name="Group 21"/>
              <p:cNvGrpSpPr/>
              <p:nvPr/>
            </p:nvGrpSpPr>
            <p:grpSpPr>
              <a:xfrm>
                <a:off x="1536840" y="3348000"/>
                <a:ext cx="1044000" cy="1042920"/>
                <a:chOff x="1536840" y="3348000"/>
                <a:chExt cx="1044000" cy="1042920"/>
              </a:xfrm>
            </p:grpSpPr>
            <p:pic>
              <p:nvPicPr>
                <p:cNvPr id="394" name="Picture 22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37560" y="3348720"/>
                  <a:ext cx="1043280" cy="1040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5" name="Oval 23"/>
                <p:cNvGrpSpPr/>
                <p:nvPr/>
              </p:nvGrpSpPr>
              <p:grpSpPr>
                <a:xfrm>
                  <a:off x="1536840" y="3348000"/>
                  <a:ext cx="1035360" cy="1042920"/>
                  <a:chOff x="1536840" y="3348000"/>
                  <a:chExt cx="1035360" cy="1042920"/>
                </a:xfrm>
              </p:grpSpPr>
              <p:pic>
                <p:nvPicPr>
                  <p:cNvPr id="396" name="Oval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6840" y="3348000"/>
                    <a:ext cx="1035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7" name=""/>
                  <p:cNvSpPr/>
                  <p:nvPr/>
                </p:nvSpPr>
                <p:spPr>
                  <a:xfrm>
                    <a:off x="1689120" y="3502080"/>
                    <a:ext cx="732960" cy="73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98" name="Picture 2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640880" y="3358080"/>
                <a:ext cx="82476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9" name="Text Box 25"/>
            <p:cNvSpPr/>
            <p:nvPr/>
          </p:nvSpPr>
          <p:spPr>
            <a:xfrm>
              <a:off x="1511280" y="361620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6"/>
          <p:cNvGrpSpPr/>
          <p:nvPr/>
        </p:nvGrpSpPr>
        <p:grpSpPr>
          <a:xfrm>
            <a:off x="2160720" y="4535640"/>
            <a:ext cx="1224000" cy="1042920"/>
            <a:chOff x="2160720" y="4535640"/>
            <a:chExt cx="1224000" cy="1042920"/>
          </a:xfrm>
        </p:grpSpPr>
        <p:grpSp>
          <p:nvGrpSpPr>
            <p:cNvPr id="401" name="Group 27"/>
            <p:cNvGrpSpPr/>
            <p:nvPr/>
          </p:nvGrpSpPr>
          <p:grpSpPr>
            <a:xfrm>
              <a:off x="2259000" y="4535640"/>
              <a:ext cx="1044720" cy="1042920"/>
              <a:chOff x="2259000" y="4535640"/>
              <a:chExt cx="1044720" cy="1042920"/>
            </a:xfrm>
          </p:grpSpPr>
          <p:grpSp>
            <p:nvGrpSpPr>
              <p:cNvPr id="402" name="Group 28"/>
              <p:cNvGrpSpPr/>
              <p:nvPr/>
            </p:nvGrpSpPr>
            <p:grpSpPr>
              <a:xfrm>
                <a:off x="2259000" y="4535640"/>
                <a:ext cx="1044720" cy="1042920"/>
                <a:chOff x="2259000" y="4535640"/>
                <a:chExt cx="1044720" cy="1042920"/>
              </a:xfrm>
            </p:grpSpPr>
            <p:pic>
              <p:nvPicPr>
                <p:cNvPr id="403" name="Picture 29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259000" y="4535640"/>
                  <a:ext cx="1044720" cy="1040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4" name="Oval 30"/>
                <p:cNvGrpSpPr/>
                <p:nvPr/>
              </p:nvGrpSpPr>
              <p:grpSpPr>
                <a:xfrm>
                  <a:off x="2261880" y="4535640"/>
                  <a:ext cx="1036800" cy="1042920"/>
                  <a:chOff x="2261880" y="4535640"/>
                  <a:chExt cx="1036800" cy="1042920"/>
                </a:xfrm>
              </p:grpSpPr>
              <p:pic>
                <p:nvPicPr>
                  <p:cNvPr id="405" name="Oval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1880" y="4535640"/>
                    <a:ext cx="10368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6" name=""/>
                  <p:cNvSpPr/>
                  <p:nvPr/>
                </p:nvSpPr>
                <p:spPr>
                  <a:xfrm>
                    <a:off x="2411280" y="4688280"/>
                    <a:ext cx="734040" cy="73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07" name="Picture 31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363040" y="4545720"/>
                <a:ext cx="82512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8" name="Text Box 32"/>
            <p:cNvSpPr/>
            <p:nvPr/>
          </p:nvSpPr>
          <p:spPr>
            <a:xfrm>
              <a:off x="2160720" y="4805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3"/>
          <p:cNvGrpSpPr/>
          <p:nvPr/>
        </p:nvGrpSpPr>
        <p:grpSpPr>
          <a:xfrm>
            <a:off x="6912000" y="2195640"/>
            <a:ext cx="1069920" cy="1042920"/>
            <a:chOff x="6912000" y="2195640"/>
            <a:chExt cx="1069920" cy="1042920"/>
          </a:xfrm>
        </p:grpSpPr>
        <p:grpSp>
          <p:nvGrpSpPr>
            <p:cNvPr id="410" name="Group 34"/>
            <p:cNvGrpSpPr/>
            <p:nvPr/>
          </p:nvGrpSpPr>
          <p:grpSpPr>
            <a:xfrm>
              <a:off x="6912000" y="2195640"/>
              <a:ext cx="1042920" cy="1042920"/>
              <a:chOff x="6912000" y="2195640"/>
              <a:chExt cx="1042920" cy="1042920"/>
            </a:xfrm>
          </p:grpSpPr>
          <p:grpSp>
            <p:nvGrpSpPr>
              <p:cNvPr id="411" name="Group 35"/>
              <p:cNvGrpSpPr/>
              <p:nvPr/>
            </p:nvGrpSpPr>
            <p:grpSpPr>
              <a:xfrm>
                <a:off x="6912000" y="2195640"/>
                <a:ext cx="1042920" cy="1042920"/>
                <a:chOff x="6912000" y="2195640"/>
                <a:chExt cx="1042920" cy="1042920"/>
              </a:xfrm>
            </p:grpSpPr>
            <p:pic>
              <p:nvPicPr>
                <p:cNvPr id="412" name="Picture 36" descr="circuler_1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912000" y="2196360"/>
                  <a:ext cx="1042920" cy="1040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13" name="Oval 37"/>
                <p:cNvGrpSpPr/>
                <p:nvPr/>
              </p:nvGrpSpPr>
              <p:grpSpPr>
                <a:xfrm>
                  <a:off x="6912720" y="2195640"/>
                  <a:ext cx="1035720" cy="1042920"/>
                  <a:chOff x="6912720" y="2195640"/>
                  <a:chExt cx="1035720" cy="1042920"/>
                </a:xfrm>
              </p:grpSpPr>
              <p:pic>
                <p:nvPicPr>
                  <p:cNvPr id="414" name="Oval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12720" y="2195640"/>
                    <a:ext cx="10357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" name=""/>
                  <p:cNvSpPr/>
                  <p:nvPr/>
                </p:nvSpPr>
                <p:spPr>
                  <a:xfrm>
                    <a:off x="7063200" y="2349360"/>
                    <a:ext cx="732240" cy="73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16" name="Picture 38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016040" y="2205720"/>
                <a:ext cx="82368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Text Box 39"/>
            <p:cNvSpPr/>
            <p:nvPr/>
          </p:nvSpPr>
          <p:spPr>
            <a:xfrm>
              <a:off x="6921360" y="245772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0"/>
          <p:cNvGrpSpPr/>
          <p:nvPr/>
        </p:nvGrpSpPr>
        <p:grpSpPr>
          <a:xfrm>
            <a:off x="7632720" y="3348000"/>
            <a:ext cx="1068480" cy="1042920"/>
            <a:chOff x="7632720" y="3348000"/>
            <a:chExt cx="1068480" cy="1042920"/>
          </a:xfrm>
        </p:grpSpPr>
        <p:grpSp>
          <p:nvGrpSpPr>
            <p:cNvPr id="419" name="Group 41"/>
            <p:cNvGrpSpPr/>
            <p:nvPr/>
          </p:nvGrpSpPr>
          <p:grpSpPr>
            <a:xfrm>
              <a:off x="7632720" y="3348000"/>
              <a:ext cx="1042560" cy="1042920"/>
              <a:chOff x="7632720" y="3348000"/>
              <a:chExt cx="1042560" cy="1042920"/>
            </a:xfrm>
          </p:grpSpPr>
          <p:grpSp>
            <p:nvGrpSpPr>
              <p:cNvPr id="420" name="Group 42"/>
              <p:cNvGrpSpPr/>
              <p:nvPr/>
            </p:nvGrpSpPr>
            <p:grpSpPr>
              <a:xfrm>
                <a:off x="7632720" y="3348000"/>
                <a:ext cx="1042560" cy="1042920"/>
                <a:chOff x="7632720" y="3348000"/>
                <a:chExt cx="1042560" cy="1042920"/>
              </a:xfrm>
            </p:grpSpPr>
            <p:pic>
              <p:nvPicPr>
                <p:cNvPr id="421" name="Picture 43" descr="circuler_1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633440" y="3348720"/>
                  <a:ext cx="1041840" cy="1040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22" name="Oval 44"/>
                <p:cNvGrpSpPr/>
                <p:nvPr/>
              </p:nvGrpSpPr>
              <p:grpSpPr>
                <a:xfrm>
                  <a:off x="7632720" y="3348000"/>
                  <a:ext cx="1035000" cy="1042920"/>
                  <a:chOff x="7632720" y="3348000"/>
                  <a:chExt cx="1035000" cy="1042920"/>
                </a:xfrm>
              </p:grpSpPr>
              <p:pic>
                <p:nvPicPr>
                  <p:cNvPr id="423" name="Oval 4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32720" y="3348000"/>
                    <a:ext cx="103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" name=""/>
                  <p:cNvSpPr/>
                  <p:nvPr/>
                </p:nvSpPr>
                <p:spPr>
                  <a:xfrm>
                    <a:off x="7784640" y="3502080"/>
                    <a:ext cx="731520" cy="73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25" name="Picture 45" descr="Picture2"/>
              <p:cNvPicPr/>
              <p:nvPr/>
            </p:nvPicPr>
            <p:blipFill>
              <a:blip r:embed="rId16"/>
              <a:stretch/>
            </p:blipFill>
            <p:spPr>
              <a:xfrm>
                <a:off x="7736760" y="3358080"/>
                <a:ext cx="82368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Text Box 46"/>
            <p:cNvSpPr/>
            <p:nvPr/>
          </p:nvSpPr>
          <p:spPr>
            <a:xfrm>
              <a:off x="7640640" y="361008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7"/>
          <p:cNvGrpSpPr/>
          <p:nvPr/>
        </p:nvGrpSpPr>
        <p:grpSpPr>
          <a:xfrm>
            <a:off x="6912000" y="4608360"/>
            <a:ext cx="1208160" cy="1042920"/>
            <a:chOff x="6912000" y="4608360"/>
            <a:chExt cx="1208160" cy="1042920"/>
          </a:xfrm>
        </p:grpSpPr>
        <p:grpSp>
          <p:nvGrpSpPr>
            <p:cNvPr id="428" name="Group 48"/>
            <p:cNvGrpSpPr/>
            <p:nvPr/>
          </p:nvGrpSpPr>
          <p:grpSpPr>
            <a:xfrm>
              <a:off x="7002360" y="4608360"/>
              <a:ext cx="1043280" cy="1042920"/>
              <a:chOff x="7002360" y="4608360"/>
              <a:chExt cx="1043280" cy="1042920"/>
            </a:xfrm>
          </p:grpSpPr>
          <p:grpSp>
            <p:nvGrpSpPr>
              <p:cNvPr id="429" name="Group 49"/>
              <p:cNvGrpSpPr/>
              <p:nvPr/>
            </p:nvGrpSpPr>
            <p:grpSpPr>
              <a:xfrm>
                <a:off x="7002360" y="4608360"/>
                <a:ext cx="1043280" cy="1042920"/>
                <a:chOff x="7002360" y="4608360"/>
                <a:chExt cx="1043280" cy="1042920"/>
              </a:xfrm>
            </p:grpSpPr>
            <p:pic>
              <p:nvPicPr>
                <p:cNvPr id="430" name="Picture 50" descr="circuler_1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002360" y="4608360"/>
                  <a:ext cx="1043280" cy="1040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1" name="Oval 51"/>
                <p:cNvGrpSpPr/>
                <p:nvPr/>
              </p:nvGrpSpPr>
              <p:grpSpPr>
                <a:xfrm>
                  <a:off x="7004160" y="4608360"/>
                  <a:ext cx="1036080" cy="1042920"/>
                  <a:chOff x="7004160" y="4608360"/>
                  <a:chExt cx="1036080" cy="1042920"/>
                </a:xfrm>
              </p:grpSpPr>
              <p:pic>
                <p:nvPicPr>
                  <p:cNvPr id="432" name="Oval 5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04160" y="4608360"/>
                    <a:ext cx="10360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7153920" y="4761000"/>
                    <a:ext cx="732600" cy="73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34" name="Picture 52" descr="Picture2"/>
              <p:cNvPicPr/>
              <p:nvPr/>
            </p:nvPicPr>
            <p:blipFill>
              <a:blip r:embed="rId19"/>
              <a:stretch/>
            </p:blipFill>
            <p:spPr>
              <a:xfrm>
                <a:off x="7106400" y="4618440"/>
                <a:ext cx="82404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Text Box 53"/>
            <p:cNvSpPr/>
            <p:nvPr/>
          </p:nvSpPr>
          <p:spPr>
            <a:xfrm>
              <a:off x="6912000" y="4852800"/>
              <a:ext cx="12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-714240"/>
            <a:ext cx="10080720" cy="71280"/>
            <a:chOff x="0" y="-714240"/>
            <a:chExt cx="10080720" cy="71280"/>
          </a:xfrm>
        </p:grpSpPr>
        <p:sp>
          <p:nvSpPr>
            <p:cNvPr id="437" name="Rectangle 3"/>
            <p:cNvSpPr/>
            <p:nvPr/>
          </p:nvSpPr>
          <p:spPr>
            <a:xfrm>
              <a:off x="0" y="-714240"/>
              <a:ext cx="10080720" cy="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"/>
            <p:cNvSpPr/>
            <p:nvPr/>
          </p:nvSpPr>
          <p:spPr>
            <a:xfrm>
              <a:off x="0" y="-642960"/>
              <a:ext cx="100807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"/>
          <p:cNvGrpSpPr/>
          <p:nvPr/>
        </p:nvGrpSpPr>
        <p:grpSpPr>
          <a:xfrm>
            <a:off x="6840360" y="-752400"/>
            <a:ext cx="2124000" cy="1120680"/>
            <a:chOff x="6840360" y="-752400"/>
            <a:chExt cx="2124000" cy="1120680"/>
          </a:xfrm>
        </p:grpSpPr>
        <p:sp>
          <p:nvSpPr>
            <p:cNvPr id="440" name="AutoShape 6"/>
            <p:cNvSpPr/>
            <p:nvPr/>
          </p:nvSpPr>
          <p:spPr>
            <a:xfrm>
              <a:off x="7795440" y="-752400"/>
              <a:ext cx="211320" cy="285840"/>
            </a:xfrm>
            <a:custGeom>
              <a:avLst/>
              <a:gdLst>
                <a:gd name="textAreaLeft" fmla="*/ 31680 w 211320"/>
                <a:gd name="textAreaRight" fmla="*/ 179640 w 211320"/>
                <a:gd name="textAreaTop" fmla="*/ 42480 h 285840"/>
                <a:gd name="textAreaBottom" fmla="*/ 24336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364" y="10800"/>
                  </a:moveTo>
                  <a:cubicBezTo>
                    <a:pt x="4364" y="14355"/>
                    <a:pt x="7245" y="17236"/>
                    <a:pt x="10800" y="17236"/>
                  </a:cubicBezTo>
                  <a:cubicBezTo>
                    <a:pt x="14355" y="17236"/>
                    <a:pt x="17236" y="14355"/>
                    <a:pt x="17236" y="10800"/>
                  </a:cubicBezTo>
                  <a:cubicBezTo>
                    <a:pt x="17236" y="7245"/>
                    <a:pt x="14355" y="4364"/>
                    <a:pt x="10800" y="4364"/>
                  </a:cubicBezTo>
                  <a:cubicBezTo>
                    <a:pt x="7245" y="4364"/>
                    <a:pt x="4364" y="7245"/>
                    <a:pt x="436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7902000" y="-573840"/>
              <a:ext cx="0" cy="180000"/>
            </a:xfrm>
            <a:prstGeom prst="line">
              <a:avLst/>
            </a:prstGeom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6840360" y="-393480"/>
              <a:ext cx="21240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cc"/>
                </a:gs>
                <a:gs pos="100000">
                  <a:srgbClr val="ffffff"/>
                </a:gs>
              </a:gsLst>
              <a:lin ang="13500000"/>
            </a:gradFill>
            <a:ln w="31680">
              <a:solidFill>
                <a:srgbClr val="4747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2"/>
          <p:cNvSpPr/>
          <p:nvPr/>
        </p:nvSpPr>
        <p:spPr>
          <a:xfrm>
            <a:off x="2952720" y="3132000"/>
            <a:ext cx="2205000" cy="7192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6600cc"/>
              </a:gs>
              <a:gs pos="100000">
                <a:srgbClr val="ccecff"/>
              </a:gs>
            </a:gsLst>
            <a:lin ang="5400000"/>
          </a:gradFill>
          <a:ln w="288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0"/>
          <p:cNvGrpSpPr/>
          <p:nvPr/>
        </p:nvGrpSpPr>
        <p:grpSpPr>
          <a:xfrm>
            <a:off x="2952720" y="3924360"/>
            <a:ext cx="2274840" cy="972720"/>
            <a:chOff x="2952720" y="3924360"/>
            <a:chExt cx="2274840" cy="972720"/>
          </a:xfrm>
        </p:grpSpPr>
        <p:sp>
          <p:nvSpPr>
            <p:cNvPr id="445" name="AutoShape 11"/>
            <p:cNvSpPr/>
            <p:nvPr/>
          </p:nvSpPr>
          <p:spPr>
            <a:xfrm>
              <a:off x="2970000" y="3924360"/>
              <a:ext cx="2214000" cy="70920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ccecff"/>
                </a:gs>
              </a:gsLst>
              <a:lin ang="5400000"/>
            </a:gradFill>
            <a:ln w="288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12" descr=""/>
            <p:cNvPicPr/>
            <p:nvPr/>
          </p:nvPicPr>
          <p:blipFill>
            <a:blip r:embed="rId1"/>
            <a:stretch/>
          </p:blipFill>
          <p:spPr>
            <a:xfrm>
              <a:off x="2952720" y="4643280"/>
              <a:ext cx="227484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AutoShape 2"/>
          <p:cNvSpPr/>
          <p:nvPr/>
        </p:nvSpPr>
        <p:spPr>
          <a:xfrm>
            <a:off x="2952720" y="2303640"/>
            <a:ext cx="2205000" cy="7189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6600cc"/>
              </a:gs>
              <a:gs pos="100000">
                <a:srgbClr val="ccecff"/>
              </a:gs>
            </a:gsLst>
            <a:lin ang="5400000"/>
          </a:gradFill>
          <a:ln w="288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"/>
          <p:cNvSpPr/>
          <p:nvPr/>
        </p:nvSpPr>
        <p:spPr>
          <a:xfrm>
            <a:off x="2952720" y="1511280"/>
            <a:ext cx="2205000" cy="7192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6600cc"/>
              </a:gs>
              <a:gs pos="100000">
                <a:srgbClr val="ccecff"/>
              </a:gs>
            </a:gsLst>
            <a:lin ang="5400000"/>
          </a:gradFill>
          <a:ln w="288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>
            <a:off x="2736720" y="1727280"/>
            <a:ext cx="90720" cy="2835360"/>
          </a:xfrm>
          <a:custGeom>
            <a:avLst/>
            <a:gdLst>
              <a:gd name="textAreaLeft" fmla="*/ 57960 w 90720"/>
              <a:gd name="textAreaRight" fmla="*/ 91080 w 90720"/>
              <a:gd name="textAreaTop" fmla="*/ 73800 h 2835360"/>
              <a:gd name="textAreaBottom" fmla="*/ 2761560 h 28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807"/>
                </a:lnTo>
                <a:cubicBezTo>
                  <a:pt x="10800" y="6707"/>
                  <a:pt x="5400" y="7607"/>
                  <a:pt x="0" y="7607"/>
                </a:cubicBezTo>
                <a:cubicBezTo>
                  <a:pt x="5400" y="7607"/>
                  <a:pt x="10800" y="8507"/>
                  <a:pt x="10800" y="94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1440000" y="2438280"/>
            <a:ext cx="1485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440000" y="3294000"/>
            <a:ext cx="152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8"/>
          <p:cNvSpPr/>
          <p:nvPr/>
        </p:nvSpPr>
        <p:spPr>
          <a:xfrm>
            <a:off x="2754360" y="1727280"/>
            <a:ext cx="90360" cy="2835360"/>
          </a:xfrm>
          <a:custGeom>
            <a:avLst/>
            <a:gdLst>
              <a:gd name="textAreaLeft" fmla="*/ 57960 w 90360"/>
              <a:gd name="textAreaRight" fmla="*/ 90720 w 90360"/>
              <a:gd name="textAreaTop" fmla="*/ 73800 h 2835360"/>
              <a:gd name="textAreaBottom" fmla="*/ 2761560 h 28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2386"/>
                </a:lnTo>
                <a:cubicBezTo>
                  <a:pt x="10800" y="13286"/>
                  <a:pt x="5400" y="14186"/>
                  <a:pt x="0" y="14186"/>
                </a:cubicBezTo>
                <a:cubicBezTo>
                  <a:pt x="5400" y="14186"/>
                  <a:pt x="10800" y="15086"/>
                  <a:pt x="10800" y="1598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-249120" y="2930400"/>
            <a:ext cx="194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0"/>
          <p:cNvSpPr/>
          <p:nvPr/>
        </p:nvSpPr>
        <p:spPr>
          <a:xfrm>
            <a:off x="1511280" y="2852640"/>
            <a:ext cx="144360" cy="66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7280 h 665280"/>
              <a:gd name="textAreaBottom" fmla="*/ 648000 h 66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1"/>
          <p:cNvGrpSpPr/>
          <p:nvPr/>
        </p:nvGrpSpPr>
        <p:grpSpPr>
          <a:xfrm>
            <a:off x="5397480" y="3924360"/>
            <a:ext cx="2274840" cy="972720"/>
            <a:chOff x="5397480" y="3924360"/>
            <a:chExt cx="2274840" cy="972720"/>
          </a:xfrm>
        </p:grpSpPr>
        <p:sp>
          <p:nvSpPr>
            <p:cNvPr id="456" name="AutoShape 11"/>
            <p:cNvSpPr/>
            <p:nvPr/>
          </p:nvSpPr>
          <p:spPr>
            <a:xfrm>
              <a:off x="5414760" y="3924360"/>
              <a:ext cx="2214000" cy="70920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0000cc"/>
                </a:gs>
                <a:gs pos="100000">
                  <a:srgbClr val="ccffff"/>
                </a:gs>
              </a:gsLst>
              <a:lin ang="5400000"/>
            </a:gradFill>
            <a:ln w="28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Picture 12" descr=""/>
            <p:cNvPicPr/>
            <p:nvPr/>
          </p:nvPicPr>
          <p:blipFill>
            <a:blip r:embed="rId2"/>
            <a:stretch/>
          </p:blipFill>
          <p:spPr>
            <a:xfrm>
              <a:off x="5397480" y="4643280"/>
              <a:ext cx="227484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AutoShape 2"/>
          <p:cNvSpPr/>
          <p:nvPr/>
        </p:nvSpPr>
        <p:spPr>
          <a:xfrm>
            <a:off x="5397480" y="3130560"/>
            <a:ext cx="2205000" cy="7192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000cc"/>
              </a:gs>
              <a:gs pos="100000">
                <a:srgbClr val="ccffff"/>
              </a:gs>
            </a:gsLst>
            <a:lin ang="5400000"/>
          </a:gradFill>
          <a:ln w="28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"/>
          <p:cNvSpPr/>
          <p:nvPr/>
        </p:nvSpPr>
        <p:spPr>
          <a:xfrm>
            <a:off x="5397480" y="2303640"/>
            <a:ext cx="2205000" cy="7189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000cc"/>
              </a:gs>
              <a:gs pos="100000">
                <a:srgbClr val="ccffff"/>
              </a:gs>
            </a:gsLst>
            <a:lin ang="5400000"/>
          </a:gradFill>
          <a:ln w="28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"/>
          <p:cNvSpPr/>
          <p:nvPr/>
        </p:nvSpPr>
        <p:spPr>
          <a:xfrm>
            <a:off x="5400720" y="1511280"/>
            <a:ext cx="2205000" cy="7192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000cc"/>
              </a:gs>
              <a:gs pos="100000">
                <a:srgbClr val="ccffff"/>
              </a:gs>
            </a:gsLst>
            <a:lin ang="5400000"/>
          </a:gradFill>
          <a:ln w="28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7"/>
          <p:cNvSpPr/>
          <p:nvPr/>
        </p:nvSpPr>
        <p:spPr>
          <a:xfrm>
            <a:off x="7632720" y="1871640"/>
            <a:ext cx="181080" cy="2475000"/>
          </a:xfrm>
          <a:custGeom>
            <a:avLst/>
            <a:gdLst>
              <a:gd name="textAreaLeft" fmla="*/ 0 w 181080"/>
              <a:gd name="textAreaRight" fmla="*/ 65520 w 181080"/>
              <a:gd name="textAreaTop" fmla="*/ 64440 h 2475000"/>
              <a:gd name="textAreaBottom" fmla="*/ 2410560 h 24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8"/>
          <p:cNvSpPr/>
          <p:nvPr/>
        </p:nvSpPr>
        <p:spPr>
          <a:xfrm>
            <a:off x="7669080" y="2879640"/>
            <a:ext cx="2016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9"/>
          <p:cNvSpPr/>
          <p:nvPr/>
        </p:nvSpPr>
        <p:spPr>
          <a:xfrm>
            <a:off x="6329520" y="4716360"/>
            <a:ext cx="690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0"/>
          <p:cNvSpPr/>
          <p:nvPr/>
        </p:nvSpPr>
        <p:spPr>
          <a:xfrm flipV="1">
            <a:off x="2879640" y="5651280"/>
            <a:ext cx="0" cy="360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1"/>
          <p:cNvSpPr/>
          <p:nvPr/>
        </p:nvSpPr>
        <p:spPr>
          <a:xfrm flipV="1">
            <a:off x="7704000" y="5651280"/>
            <a:ext cx="0" cy="360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2844720" y="6012000"/>
            <a:ext cx="4894200" cy="0"/>
          </a:xfrm>
          <a:prstGeom prst="line">
            <a:avLst/>
          </a:prstGeom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3"/>
          <p:cNvSpPr/>
          <p:nvPr/>
        </p:nvSpPr>
        <p:spPr>
          <a:xfrm>
            <a:off x="5292720" y="1332000"/>
            <a:ext cx="0" cy="493236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4"/>
          <p:cNvSpPr/>
          <p:nvPr/>
        </p:nvSpPr>
        <p:spPr>
          <a:xfrm>
            <a:off x="3492360" y="6156360"/>
            <a:ext cx="3598920" cy="8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5"/>
          <p:cNvSpPr/>
          <p:nvPr/>
        </p:nvSpPr>
        <p:spPr>
          <a:xfrm>
            <a:off x="3816360" y="6264360"/>
            <a:ext cx="2952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6"/>
          <p:cNvSpPr/>
          <p:nvPr/>
        </p:nvSpPr>
        <p:spPr>
          <a:xfrm>
            <a:off x="0" y="792000"/>
            <a:ext cx="5364000" cy="6767640"/>
          </a:xfrm>
          <a:prstGeom prst="rect">
            <a:avLst/>
          </a:prstGeom>
          <a:gradFill rotWithShape="0">
            <a:gsLst>
              <a:gs pos="0">
                <a:srgbClr val="33cccc">
                  <a:alpha val="6000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7"/>
          <p:cNvGrpSpPr/>
          <p:nvPr/>
        </p:nvGrpSpPr>
        <p:grpSpPr>
          <a:xfrm>
            <a:off x="36360" y="-1830240"/>
            <a:ext cx="10080720" cy="35280"/>
            <a:chOff x="36360" y="-1830240"/>
            <a:chExt cx="10080720" cy="35280"/>
          </a:xfrm>
        </p:grpSpPr>
        <p:sp>
          <p:nvSpPr>
            <p:cNvPr id="472" name="Rectangle 38"/>
            <p:cNvSpPr/>
            <p:nvPr/>
          </p:nvSpPr>
          <p:spPr>
            <a:xfrm>
              <a:off x="36360" y="-1830240"/>
              <a:ext cx="10080720" cy="34920"/>
            </a:xfrm>
            <a:prstGeom prst="rect">
              <a:avLst/>
            </a:prstGeom>
            <a:gradFill rotWithShape="0">
              <a:gsLst>
                <a:gs pos="0">
                  <a:srgbClr val="8ee8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9"/>
            <p:cNvSpPr/>
            <p:nvPr/>
          </p:nvSpPr>
          <p:spPr>
            <a:xfrm>
              <a:off x="36360" y="-1794960"/>
              <a:ext cx="100807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1620720" y="-1940040"/>
            <a:ext cx="2249640" cy="1125720"/>
            <a:chOff x="1620720" y="-1940040"/>
            <a:chExt cx="2249640" cy="1125720"/>
          </a:xfrm>
        </p:grpSpPr>
        <p:sp>
          <p:nvSpPr>
            <p:cNvPr id="475" name="AutoShape 41"/>
            <p:cNvSpPr/>
            <p:nvPr/>
          </p:nvSpPr>
          <p:spPr>
            <a:xfrm>
              <a:off x="2655720" y="-1940040"/>
              <a:ext cx="179280" cy="287280"/>
            </a:xfrm>
            <a:custGeom>
              <a:avLst/>
              <a:gdLst>
                <a:gd name="textAreaLeft" fmla="*/ 27000 w 179280"/>
                <a:gd name="textAreaRight" fmla="*/ 152280 w 179280"/>
                <a:gd name="textAreaTop" fmla="*/ 42840 h 287280"/>
                <a:gd name="textAreaBottom" fmla="*/ 244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364" y="10800"/>
                  </a:moveTo>
                  <a:cubicBezTo>
                    <a:pt x="4364" y="14355"/>
                    <a:pt x="7245" y="17236"/>
                    <a:pt x="10800" y="17236"/>
                  </a:cubicBezTo>
                  <a:cubicBezTo>
                    <a:pt x="14355" y="17236"/>
                    <a:pt x="17236" y="14355"/>
                    <a:pt x="17236" y="10800"/>
                  </a:cubicBezTo>
                  <a:cubicBezTo>
                    <a:pt x="17236" y="7245"/>
                    <a:pt x="14355" y="4364"/>
                    <a:pt x="10800" y="4364"/>
                  </a:cubicBezTo>
                  <a:cubicBezTo>
                    <a:pt x="7245" y="4364"/>
                    <a:pt x="4364" y="7245"/>
                    <a:pt x="436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2"/>
            <p:cNvSpPr/>
            <p:nvPr/>
          </p:nvSpPr>
          <p:spPr>
            <a:xfrm>
              <a:off x="2746080" y="-1760400"/>
              <a:ext cx="0" cy="181080"/>
            </a:xfrm>
            <a:prstGeom prst="line">
              <a:avLst/>
            </a:prstGeom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43"/>
            <p:cNvSpPr/>
            <p:nvPr/>
          </p:nvSpPr>
          <p:spPr>
            <a:xfrm>
              <a:off x="1620720" y="-1579320"/>
              <a:ext cx="2249640" cy="76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cc"/>
                </a:gs>
                <a:gs pos="100000">
                  <a:srgbClr val="ffffff"/>
                </a:gs>
              </a:gsLst>
              <a:lin ang="13500000"/>
            </a:gradFill>
            <a:ln w="31680">
              <a:solidFill>
                <a:srgbClr val="4747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4"/>
          <p:cNvGrpSpPr/>
          <p:nvPr/>
        </p:nvGrpSpPr>
        <p:grpSpPr>
          <a:xfrm>
            <a:off x="0" y="0"/>
            <a:ext cx="10080720" cy="1255680"/>
            <a:chOff x="0" y="0"/>
            <a:chExt cx="10080720" cy="1255680"/>
          </a:xfrm>
        </p:grpSpPr>
        <p:sp>
          <p:nvSpPr>
            <p:cNvPr id="479" name="Rectangle 45"/>
            <p:cNvSpPr/>
            <p:nvPr/>
          </p:nvSpPr>
          <p:spPr>
            <a:xfrm>
              <a:off x="0" y="932040"/>
              <a:ext cx="10080720" cy="323640"/>
            </a:xfrm>
            <a:prstGeom prst="rect">
              <a:avLst/>
            </a:prstGeom>
            <a:gradFill rotWithShape="0">
              <a:gsLst>
                <a:gs pos="0">
                  <a:srgbClr val="87dada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6"/>
            <p:cNvSpPr/>
            <p:nvPr/>
          </p:nvSpPr>
          <p:spPr>
            <a:xfrm>
              <a:off x="2658960" y="0"/>
              <a:ext cx="7421760" cy="942840"/>
            </a:xfrm>
            <a:prstGeom prst="rect">
              <a:avLst/>
            </a:prstGeom>
            <a:solidFill>
              <a:srgbClr val="87dada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7" descr="图片1"/>
            <p:cNvPicPr/>
            <p:nvPr/>
          </p:nvPicPr>
          <p:blipFill>
            <a:blip r:embed="rId3"/>
            <a:srcRect l="0" t="0" r="0" b="53142"/>
            <a:stretch/>
          </p:blipFill>
          <p:spPr>
            <a:xfrm>
              <a:off x="0" y="0"/>
              <a:ext cx="266400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Text Box 34"/>
          <p:cNvSpPr/>
          <p:nvPr/>
        </p:nvSpPr>
        <p:spPr>
          <a:xfrm>
            <a:off x="2736720" y="12708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0.0019 L -2.56927E-006 0.38299 E">
                                      <p:cBhvr>
                                        <p:cTn id="56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181E-006 0.00483 L -2.24181E-006 0.37962 E">
                                      <p:cBhvr>
                                        <p:cTn id="569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0.37816 L -2.56927E-006 0.48782 E">
                                      <p:cBhvr>
                                        <p:cTn id="577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181E-006 0.37479 L -2.24181E-006 0.48445 E">
                                      <p:cBhvr>
                                        <p:cTn id="579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0.48781 L -2.56927E-006 0.59726 E">
                                      <p:cBhvr>
                                        <p:cTn id="587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181E-006 0.48445 L -2.24181E-006 0.59391 E">
                                      <p:cBhvr>
                                        <p:cTn id="589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0.59076 L -2.56927E-006 0.70021 E">
                                      <p:cBhvr>
                                        <p:cTn id="597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181E-006 0.59874 L -2.24181E-006 0.69874 E">
                                      <p:cBhvr>
                                        <p:cTn id="599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3426E-006 0.69874 L -0.48205 0.69706 E">
                                      <p:cBhvr>
                                        <p:cTn id="642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0.00484 L -2.56927E-006 0.53614 E">
                                      <p:cBhvr>
                                        <p:cTn id="648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738E-006 0.00651 L 3.1738E-006 0.53529 E">
                                      <p:cBhvr>
                                        <p:cTn id="650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2 0.54097 L -0.00362 0.64097 E">
                                      <p:cBhvr>
                                        <p:cTn id="65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67E-006 0.54012 L 2.267E-006 0.64012 E">
                                      <p:cBhvr>
                                        <p:cTn id="660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2 0.64265 L -0.00362 0.74748 E">
                                      <p:cBhvr>
                                        <p:cTn id="66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67E-006 0.64475 L 2.267E-006 0.74958 E">
                                      <p:cBhvr>
                                        <p:cTn id="670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2 0.75211 L -0.00362 0.85232 E">
                                      <p:cBhvr>
                                        <p:cTn id="67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67E-006 0.7542 L 2.267E-006 0.85441 E">
                                      <p:cBhvr>
                                        <p:cTn id="680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67E-006 0.85273 L 0.48835 0.85441 E">
                                      <p:cBhvr>
                                        <p:cTn id="703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 rot="10800000">
            <a:off x="0" y="3995280"/>
            <a:ext cx="10080720" cy="35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cc5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 rot="10800000">
            <a:off x="1079280" y="2663280"/>
            <a:ext cx="7916760" cy="610920"/>
          </a:xfrm>
          <a:prstGeom prst="rect">
            <a:avLst/>
          </a:prstGeom>
          <a:gradFill rotWithShape="0">
            <a:gsLst>
              <a:gs pos="0">
                <a:srgbClr val="dcf4eb"/>
              </a:gs>
              <a:gs pos="100000">
                <a:srgbClr val="83d8b9"/>
              </a:gs>
            </a:gsLst>
            <a:lin ang="2700000"/>
          </a:gradFill>
          <a:ln w="2844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 rot="10800000">
            <a:off x="1079280" y="3742920"/>
            <a:ext cx="7916760" cy="611280"/>
          </a:xfrm>
          <a:prstGeom prst="rect">
            <a:avLst/>
          </a:prstGeom>
          <a:gradFill rotWithShape="0">
            <a:gsLst>
              <a:gs pos="0">
                <a:srgbClr val="dcf4eb"/>
              </a:gs>
              <a:gs pos="100000">
                <a:srgbClr val="83d8b9"/>
              </a:gs>
            </a:gsLst>
            <a:lin ang="2700000"/>
          </a:gradFill>
          <a:ln w="2844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 rot="10800000">
            <a:off x="1079280" y="1584000"/>
            <a:ext cx="7916760" cy="611280"/>
          </a:xfrm>
          <a:prstGeom prst="rect">
            <a:avLst/>
          </a:prstGeom>
          <a:gradFill rotWithShape="0">
            <a:gsLst>
              <a:gs pos="0">
                <a:srgbClr val="dcf4eb"/>
              </a:gs>
              <a:gs pos="100000">
                <a:srgbClr val="83d8b9"/>
              </a:gs>
            </a:gsLst>
            <a:lin ang="2700000"/>
          </a:gradFill>
          <a:ln w="2844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 rot="5400000">
            <a:off x="2898720" y="1494000"/>
            <a:ext cx="1008000" cy="900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06" y="0"/>
                </a:lnTo>
                <a:lnTo>
                  <a:pt x="21600" y="10800"/>
                </a:lnTo>
                <a:lnTo>
                  <a:pt x="172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8100000"/>
          </a:gradFill>
          <a:ln w="3168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924360" y="1692360"/>
            <a:ext cx="471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959280" y="2771640"/>
            <a:ext cx="471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3959280" y="3851280"/>
            <a:ext cx="49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 rot="10800000">
            <a:off x="1079280" y="4824000"/>
            <a:ext cx="7916760" cy="611280"/>
          </a:xfrm>
          <a:prstGeom prst="rect">
            <a:avLst/>
          </a:prstGeom>
          <a:gradFill rotWithShape="0">
            <a:gsLst>
              <a:gs pos="0">
                <a:srgbClr val="dcf4eb"/>
              </a:gs>
              <a:gs pos="100000">
                <a:srgbClr val="83d8b9"/>
              </a:gs>
            </a:gsLst>
            <a:lin ang="2700000"/>
          </a:gradFill>
          <a:ln w="2844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 rot="10800000">
            <a:off x="1079280" y="5904000"/>
            <a:ext cx="7916760" cy="611280"/>
          </a:xfrm>
          <a:prstGeom prst="rect">
            <a:avLst/>
          </a:prstGeom>
          <a:gradFill rotWithShape="0">
            <a:gsLst>
              <a:gs pos="0">
                <a:srgbClr val="dcf4eb"/>
              </a:gs>
              <a:gs pos="100000">
                <a:srgbClr val="83d8b9"/>
              </a:gs>
            </a:gsLst>
            <a:lin ang="2700000"/>
          </a:gradFill>
          <a:ln w="2844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 rot="5400000">
            <a:off x="2841480" y="3617640"/>
            <a:ext cx="1150920" cy="900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83" y="0"/>
                </a:lnTo>
                <a:lnTo>
                  <a:pt x="21600" y="10800"/>
                </a:lnTo>
                <a:lnTo>
                  <a:pt x="17383" y="21600"/>
                </a:lnTo>
                <a:lnTo>
                  <a:pt x="0" y="21600"/>
                </a:lnTo>
                <a:lnTo>
                  <a:pt x="4217" y="10800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660066"/>
              </a:gs>
            </a:gsLst>
            <a:lin ang="8100000"/>
          </a:gradFill>
          <a:ln w="3168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2827080" y="2500200"/>
            <a:ext cx="1150920" cy="900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83" y="0"/>
                </a:lnTo>
                <a:lnTo>
                  <a:pt x="21600" y="10800"/>
                </a:lnTo>
                <a:lnTo>
                  <a:pt x="17383" y="21600"/>
                </a:lnTo>
                <a:lnTo>
                  <a:pt x="0" y="21600"/>
                </a:lnTo>
                <a:lnTo>
                  <a:pt x="4217" y="108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0066"/>
              </a:gs>
            </a:gsLst>
            <a:lin ang="8100000"/>
          </a:gradFill>
          <a:ln w="3168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4"/>
          <p:cNvSpPr/>
          <p:nvPr/>
        </p:nvSpPr>
        <p:spPr>
          <a:xfrm rot="5400000">
            <a:off x="2841480" y="5776920"/>
            <a:ext cx="1150920" cy="900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83" y="0"/>
                </a:lnTo>
                <a:lnTo>
                  <a:pt x="21600" y="10800"/>
                </a:lnTo>
                <a:lnTo>
                  <a:pt x="17383" y="21600"/>
                </a:lnTo>
                <a:lnTo>
                  <a:pt x="0" y="21600"/>
                </a:lnTo>
                <a:lnTo>
                  <a:pt x="4217" y="10800"/>
                </a:lnTo>
                <a:close/>
              </a:path>
            </a:pathLst>
          </a:custGeom>
          <a:gradFill rotWithShape="0">
            <a:gsLst>
              <a:gs pos="0">
                <a:srgbClr val="00a6a2"/>
              </a:gs>
              <a:gs pos="100000">
                <a:srgbClr val="003366"/>
              </a:gs>
            </a:gsLst>
            <a:lin ang="8100000"/>
          </a:gradFill>
          <a:ln w="3168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5"/>
          <p:cNvSpPr/>
          <p:nvPr/>
        </p:nvSpPr>
        <p:spPr>
          <a:xfrm rot="5400000">
            <a:off x="2841480" y="4697280"/>
            <a:ext cx="1150920" cy="900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83" y="0"/>
                </a:lnTo>
                <a:lnTo>
                  <a:pt x="21600" y="10800"/>
                </a:lnTo>
                <a:lnTo>
                  <a:pt x="17383" y="21600"/>
                </a:lnTo>
                <a:lnTo>
                  <a:pt x="0" y="21600"/>
                </a:lnTo>
                <a:lnTo>
                  <a:pt x="4217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990000"/>
              </a:gs>
            </a:gsLst>
            <a:lin ang="8100000"/>
          </a:gradFill>
          <a:ln w="31680">
            <a:solidFill>
              <a:srgbClr val="6dd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025640" y="1763640"/>
            <a:ext cx="221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1025640" y="2827440"/>
            <a:ext cx="221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060560" y="3908520"/>
            <a:ext cx="221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060560" y="5003640"/>
            <a:ext cx="221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060560" y="6067440"/>
            <a:ext cx="221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3168720" y="1601640"/>
            <a:ext cx="4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3168720" y="2682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3168720" y="3762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3168720" y="4842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5"/>
          <p:cNvSpPr/>
          <p:nvPr/>
        </p:nvSpPr>
        <p:spPr>
          <a:xfrm>
            <a:off x="3168720" y="5975280"/>
            <a:ext cx="4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6"/>
          <p:cNvSpPr/>
          <p:nvPr/>
        </p:nvSpPr>
        <p:spPr>
          <a:xfrm>
            <a:off x="3924360" y="4932360"/>
            <a:ext cx="543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7"/>
          <p:cNvSpPr/>
          <p:nvPr/>
        </p:nvSpPr>
        <p:spPr>
          <a:xfrm>
            <a:off x="3924360" y="5977080"/>
            <a:ext cx="270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2664000" y="250920"/>
            <a:ext cx="496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727280" y="1511280"/>
            <a:ext cx="2879640" cy="4335480"/>
            <a:chOff x="1727280" y="1511280"/>
            <a:chExt cx="2879640" cy="4335480"/>
          </a:xfrm>
        </p:grpSpPr>
        <p:sp>
          <p:nvSpPr>
            <p:cNvPr id="511" name="AutoShape 3"/>
            <p:cNvSpPr/>
            <p:nvPr/>
          </p:nvSpPr>
          <p:spPr>
            <a:xfrm>
              <a:off x="1727280" y="1832040"/>
              <a:ext cx="2879640" cy="3089160"/>
            </a:xfrm>
            <a:custGeom>
              <a:avLst/>
              <a:gdLst>
                <a:gd name="textAreaLeft" fmla="*/ 147600 w 2879640"/>
                <a:gd name="textAreaRight" fmla="*/ 2732040 w 2879640"/>
                <a:gd name="textAreaTop" fmla="*/ 147600 h 3089160"/>
                <a:gd name="textAreaBottom" fmla="*/ 2941560 h 3089160"/>
              </a:gdLst>
              <a:ahLst/>
              <a:rect l="textAreaLeft" t="textAreaTop" r="textAreaRight" b="textAreaBottom"/>
              <a:pathLst>
                <a:path w="21600" h="23171">
                  <a:moveTo>
                    <a:pt x="3782" y="0"/>
                  </a:moveTo>
                  <a:arcTo wR="3782" hR="3782" stAng="16200000" swAng="-5400000"/>
                  <a:lnTo>
                    <a:pt x="0" y="19389"/>
                  </a:lnTo>
                  <a:arcTo wR="3782" hR="3782" stAng="10800000" swAng="-5400000"/>
                  <a:lnTo>
                    <a:pt x="17818" y="2317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1789200" y="1832040"/>
              <a:ext cx="2795760" cy="3029040"/>
            </a:xfrm>
            <a:custGeom>
              <a:avLst/>
              <a:gdLst>
                <a:gd name="textAreaLeft" fmla="*/ 136440 w 2795760"/>
                <a:gd name="textAreaRight" fmla="*/ 2659320 w 2795760"/>
                <a:gd name="textAreaTop" fmla="*/ 136440 h 3029040"/>
                <a:gd name="textAreaBottom" fmla="*/ 2892600 h 3029040"/>
              </a:gdLst>
              <a:ahLst/>
              <a:rect l="textAreaLeft" t="textAreaTop" r="textAreaRight" b="textAreaBottom"/>
              <a:pathLst>
                <a:path w="21600" h="23402">
                  <a:moveTo>
                    <a:pt x="3600" y="0"/>
                  </a:moveTo>
                  <a:arcTo wR="3600" hR="3600" stAng="16200000" swAng="-5400000"/>
                  <a:lnTo>
                    <a:pt x="0" y="19802"/>
                  </a:lnTo>
                  <a:arcTo wR="3600" hR="3600" stAng="10800000" swAng="-5400000"/>
                  <a:lnTo>
                    <a:pt x="18000" y="234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789200" y="4071960"/>
              <a:ext cx="2755800" cy="763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bbbb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798560" y="1909800"/>
              <a:ext cx="2756160" cy="763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e5e5"/>
                </a:gs>
                <a:gs pos="100000">
                  <a:srgbClr val="b2b2b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1727280" y="4903920"/>
              <a:ext cx="2879640" cy="942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1818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1789200" y="4968720"/>
              <a:ext cx="2755800" cy="76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eaea">
                    <a:alpha val="50196"/>
                  </a:srgbClr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9"/>
            <p:cNvGrpSpPr/>
            <p:nvPr/>
          </p:nvGrpSpPr>
          <p:grpSpPr>
            <a:xfrm>
              <a:off x="2718000" y="1511280"/>
              <a:ext cx="852480" cy="693720"/>
              <a:chOff x="2718000" y="1511280"/>
              <a:chExt cx="852480" cy="693720"/>
            </a:xfrm>
          </p:grpSpPr>
          <p:sp>
            <p:nvSpPr>
              <p:cNvPr id="518" name="Oval 10"/>
              <p:cNvSpPr/>
              <p:nvPr/>
            </p:nvSpPr>
            <p:spPr>
              <a:xfrm>
                <a:off x="2718000" y="1511280"/>
                <a:ext cx="852480" cy="693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2726640" y="1516320"/>
                <a:ext cx="824400" cy="671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>
                <a:off x="2737080" y="1520640"/>
                <a:ext cx="805320" cy="655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2745720" y="1526760"/>
                <a:ext cx="765720" cy="611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4"/>
              <p:cNvSpPr/>
              <p:nvPr/>
            </p:nvSpPr>
            <p:spPr>
              <a:xfrm>
                <a:off x="2790360" y="1543320"/>
                <a:ext cx="680040" cy="49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15"/>
            <p:cNvSpPr/>
            <p:nvPr/>
          </p:nvSpPr>
          <p:spPr>
            <a:xfrm>
              <a:off x="2941200" y="158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6"/>
            <p:cNvSpPr/>
            <p:nvPr/>
          </p:nvSpPr>
          <p:spPr>
            <a:xfrm>
              <a:off x="1979640" y="2998440"/>
              <a:ext cx="2433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7"/>
          <p:cNvGrpSpPr/>
          <p:nvPr/>
        </p:nvGrpSpPr>
        <p:grpSpPr>
          <a:xfrm>
            <a:off x="4608360" y="1150920"/>
            <a:ext cx="1619280" cy="2438280"/>
            <a:chOff x="4608360" y="1150920"/>
            <a:chExt cx="1619280" cy="2438280"/>
          </a:xfrm>
        </p:grpSpPr>
        <p:grpSp>
          <p:nvGrpSpPr>
            <p:cNvPr id="526" name="Group 18"/>
            <p:cNvGrpSpPr/>
            <p:nvPr/>
          </p:nvGrpSpPr>
          <p:grpSpPr>
            <a:xfrm>
              <a:off x="4608360" y="1150920"/>
              <a:ext cx="1619280" cy="2438280"/>
              <a:chOff x="4608360" y="1150920"/>
              <a:chExt cx="1619280" cy="2438280"/>
            </a:xfrm>
          </p:grpSpPr>
          <p:sp>
            <p:nvSpPr>
              <p:cNvPr id="527" name="AutoShape 19"/>
              <p:cNvSpPr/>
              <p:nvPr/>
            </p:nvSpPr>
            <p:spPr>
              <a:xfrm>
                <a:off x="4608360" y="1332000"/>
                <a:ext cx="1619280" cy="1736640"/>
              </a:xfrm>
              <a:custGeom>
                <a:avLst/>
                <a:gdLst>
                  <a:gd name="textAreaLeft" fmla="*/ 82800 w 1619280"/>
                  <a:gd name="textAreaRight" fmla="*/ 1536480 w 1619280"/>
                  <a:gd name="textAreaTop" fmla="*/ 82800 h 1736640"/>
                  <a:gd name="textAreaBottom" fmla="*/ 1653840 h 1736640"/>
                </a:gdLst>
                <a:ahLst/>
                <a:rect l="textAreaLeft" t="textAreaTop" r="textAreaRight" b="textAreaBottom"/>
                <a:pathLst>
                  <a:path w="21600" h="23165">
                    <a:moveTo>
                      <a:pt x="3782" y="0"/>
                    </a:moveTo>
                    <a:arcTo wR="3782" hR="3782" stAng="16200000" swAng="-5400000"/>
                    <a:lnTo>
                      <a:pt x="0" y="19383"/>
                    </a:lnTo>
                    <a:arcTo wR="3782" hR="3782" stAng="10800000" swAng="-5400000"/>
                    <a:lnTo>
                      <a:pt x="17818" y="2316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5f5f5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20"/>
              <p:cNvSpPr/>
              <p:nvPr/>
            </p:nvSpPr>
            <p:spPr>
              <a:xfrm>
                <a:off x="4643280" y="1332000"/>
                <a:ext cx="1571760" cy="170316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703160"/>
                  <a:gd name="textAreaBottom" fmla="*/ 1626480 h 1703160"/>
                </a:gdLst>
                <a:ahLst/>
                <a:rect l="textAreaLeft" t="textAreaTop" r="textAreaRight" b="textAreaBottom"/>
                <a:pathLst>
                  <a:path w="21600" h="23405">
                    <a:moveTo>
                      <a:pt x="3600" y="0"/>
                    </a:moveTo>
                    <a:arcTo wR="3600" hR="3600" stAng="16200000" swAng="-5400000"/>
                    <a:lnTo>
                      <a:pt x="0" y="19805"/>
                    </a:lnTo>
                    <a:arcTo wR="3600" hR="3600" stAng="10800000" swAng="-5400000"/>
                    <a:lnTo>
                      <a:pt x="18000" y="234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7777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21"/>
              <p:cNvSpPr/>
              <p:nvPr/>
            </p:nvSpPr>
            <p:spPr>
              <a:xfrm>
                <a:off x="4643280" y="2590920"/>
                <a:ext cx="1549440" cy="43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2b2b2">
                      <a:alpha val="0"/>
                    </a:srgbClr>
                  </a:gs>
                  <a:gs pos="100000">
                    <a:srgbClr val="bbbb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22"/>
              <p:cNvSpPr/>
              <p:nvPr/>
            </p:nvSpPr>
            <p:spPr>
              <a:xfrm>
                <a:off x="4643280" y="1366920"/>
                <a:ext cx="1549440" cy="43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5e5e5"/>
                  </a:gs>
                  <a:gs pos="100000">
                    <a:srgbClr val="b2b2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4608360" y="3058920"/>
                <a:ext cx="1619280" cy="5302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18181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643280" y="3095640"/>
                <a:ext cx="1549440" cy="43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aea">
                      <a:alpha val="50196"/>
                    </a:srgbClr>
                  </a:gs>
                  <a:gs pos="100000">
                    <a:srgbClr val="c0c0c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25"/>
              <p:cNvGrpSpPr/>
              <p:nvPr/>
            </p:nvGrpSpPr>
            <p:grpSpPr>
              <a:xfrm>
                <a:off x="5165640" y="1150920"/>
                <a:ext cx="479520" cy="390600"/>
                <a:chOff x="5165640" y="1150920"/>
                <a:chExt cx="479520" cy="390600"/>
              </a:xfrm>
            </p:grpSpPr>
            <p:sp>
              <p:nvSpPr>
                <p:cNvPr id="534" name="Oval 26"/>
                <p:cNvSpPr/>
                <p:nvPr/>
              </p:nvSpPr>
              <p:spPr>
                <a:xfrm>
                  <a:off x="5165640" y="1150920"/>
                  <a:ext cx="479520" cy="390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27"/>
                <p:cNvSpPr/>
                <p:nvPr/>
              </p:nvSpPr>
              <p:spPr>
                <a:xfrm>
                  <a:off x="5170680" y="1153800"/>
                  <a:ext cx="463680" cy="3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28"/>
                <p:cNvSpPr/>
                <p:nvPr/>
              </p:nvSpPr>
              <p:spPr>
                <a:xfrm>
                  <a:off x="5176080" y="1155960"/>
                  <a:ext cx="452880" cy="36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29"/>
                <p:cNvSpPr/>
                <p:nvPr/>
              </p:nvSpPr>
              <p:spPr>
                <a:xfrm>
                  <a:off x="5181120" y="1159560"/>
                  <a:ext cx="430560" cy="34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30"/>
                <p:cNvSpPr/>
                <p:nvPr/>
              </p:nvSpPr>
              <p:spPr>
                <a:xfrm>
                  <a:off x="5206320" y="1168920"/>
                  <a:ext cx="382680" cy="28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Text Box 31"/>
              <p:cNvSpPr/>
              <p:nvPr/>
            </p:nvSpPr>
            <p:spPr>
              <a:xfrm>
                <a:off x="5243760" y="1162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Rectangle 32"/>
            <p:cNvSpPr/>
            <p:nvPr/>
          </p:nvSpPr>
          <p:spPr>
            <a:xfrm>
              <a:off x="4752720" y="2074320"/>
              <a:ext cx="1368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3"/>
          <p:cNvGrpSpPr/>
          <p:nvPr/>
        </p:nvGrpSpPr>
        <p:grpSpPr>
          <a:xfrm>
            <a:off x="5435640" y="1871640"/>
            <a:ext cx="1628640" cy="2447640"/>
            <a:chOff x="5435640" y="1871640"/>
            <a:chExt cx="1628640" cy="2447640"/>
          </a:xfrm>
        </p:grpSpPr>
        <p:grpSp>
          <p:nvGrpSpPr>
            <p:cNvPr id="542" name="Group 34"/>
            <p:cNvGrpSpPr/>
            <p:nvPr/>
          </p:nvGrpSpPr>
          <p:grpSpPr>
            <a:xfrm>
              <a:off x="5435640" y="1871640"/>
              <a:ext cx="1619280" cy="2447640"/>
              <a:chOff x="5435640" y="1871640"/>
              <a:chExt cx="1619280" cy="2447640"/>
            </a:xfrm>
          </p:grpSpPr>
          <p:sp>
            <p:nvSpPr>
              <p:cNvPr id="543" name="AutoShape 35"/>
              <p:cNvSpPr/>
              <p:nvPr/>
            </p:nvSpPr>
            <p:spPr>
              <a:xfrm>
                <a:off x="5435640" y="2063160"/>
                <a:ext cx="1619280" cy="1735560"/>
              </a:xfrm>
              <a:custGeom>
                <a:avLst/>
                <a:gdLst>
                  <a:gd name="textAreaLeft" fmla="*/ 82800 w 1619280"/>
                  <a:gd name="textAreaRight" fmla="*/ 1536480 w 1619280"/>
                  <a:gd name="textAreaTop" fmla="*/ 82800 h 1735560"/>
                  <a:gd name="textAreaBottom" fmla="*/ 1652760 h 1735560"/>
                </a:gdLst>
                <a:ahLst/>
                <a:rect l="textAreaLeft" t="textAreaTop" r="textAreaRight" b="textAreaBottom"/>
                <a:pathLst>
                  <a:path w="21600" h="23151">
                    <a:moveTo>
                      <a:pt x="3782" y="0"/>
                    </a:moveTo>
                    <a:arcTo wR="3782" hR="3782" stAng="16200000" swAng="-5400000"/>
                    <a:lnTo>
                      <a:pt x="0" y="19369"/>
                    </a:lnTo>
                    <a:arcTo wR="3782" hR="3782" stAng="10800000" swAng="-5400000"/>
                    <a:lnTo>
                      <a:pt x="17818" y="23151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a96"/>
                  </a:gs>
                  <a:gs pos="100000">
                    <a:srgbClr val="00b0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36"/>
              <p:cNvSpPr/>
              <p:nvPr/>
            </p:nvSpPr>
            <p:spPr>
              <a:xfrm>
                <a:off x="5472000" y="2063160"/>
                <a:ext cx="1571760" cy="170172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701720"/>
                  <a:gd name="textAreaBottom" fmla="*/ 1625040 h 1701720"/>
                </a:gdLst>
                <a:ahLst/>
                <a:rect l="textAreaLeft" t="textAreaTop" r="textAreaRight" b="textAreaBottom"/>
                <a:pathLst>
                  <a:path w="21600" h="23386">
                    <a:moveTo>
                      <a:pt x="3600" y="0"/>
                    </a:moveTo>
                    <a:arcTo wR="3600" hR="3600" stAng="16200000" swAng="-5400000"/>
                    <a:lnTo>
                      <a:pt x="0" y="19786"/>
                    </a:lnTo>
                    <a:arcTo wR="3600" hR="3600" stAng="10800000" swAng="-5400000"/>
                    <a:lnTo>
                      <a:pt x="18000" y="233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ffcc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37"/>
              <p:cNvSpPr/>
              <p:nvPr/>
            </p:nvSpPr>
            <p:spPr>
              <a:xfrm>
                <a:off x="5462640" y="3315600"/>
                <a:ext cx="1549440" cy="42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ffcc">
                      <a:alpha val="0"/>
                    </a:srgbClr>
                  </a:gs>
                  <a:gs pos="100000">
                    <a:srgbClr val="79ff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38"/>
              <p:cNvSpPr/>
              <p:nvPr/>
            </p:nvSpPr>
            <p:spPr>
              <a:xfrm>
                <a:off x="5462640" y="2085840"/>
                <a:ext cx="154944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ffee"/>
                  </a:gs>
                  <a:gs pos="100000">
                    <a:srgbClr val="99ff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39"/>
              <p:cNvSpPr/>
              <p:nvPr/>
            </p:nvSpPr>
            <p:spPr>
              <a:xfrm>
                <a:off x="5435640" y="3790800"/>
                <a:ext cx="1619280" cy="528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008582">
                      <a:alpha val="50196"/>
                    </a:srgbClr>
                  </a:gs>
                  <a:gs pos="100000">
                    <a:srgbClr val="003e3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40"/>
              <p:cNvSpPr/>
              <p:nvPr/>
            </p:nvSpPr>
            <p:spPr>
              <a:xfrm>
                <a:off x="5462640" y="3812040"/>
                <a:ext cx="1549440" cy="42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ee">
                      <a:alpha val="50196"/>
                    </a:srgbClr>
                  </a:gs>
                  <a:gs pos="100000">
                    <a:srgbClr val="66ff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Group 41"/>
              <p:cNvGrpSpPr/>
              <p:nvPr/>
            </p:nvGrpSpPr>
            <p:grpSpPr>
              <a:xfrm>
                <a:off x="5992920" y="1871640"/>
                <a:ext cx="480960" cy="390240"/>
                <a:chOff x="5992920" y="1871640"/>
                <a:chExt cx="480960" cy="390240"/>
              </a:xfrm>
            </p:grpSpPr>
            <p:sp>
              <p:nvSpPr>
                <p:cNvPr id="550" name="Oval 42"/>
                <p:cNvSpPr/>
                <p:nvPr/>
              </p:nvSpPr>
              <p:spPr>
                <a:xfrm>
                  <a:off x="5992920" y="1871640"/>
                  <a:ext cx="480960" cy="390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43"/>
                <p:cNvSpPr/>
                <p:nvPr/>
              </p:nvSpPr>
              <p:spPr>
                <a:xfrm>
                  <a:off x="5997960" y="1874520"/>
                  <a:ext cx="465120" cy="3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Oval 44"/>
                <p:cNvSpPr/>
                <p:nvPr/>
              </p:nvSpPr>
              <p:spPr>
                <a:xfrm>
                  <a:off x="6003360" y="1876680"/>
                  <a:ext cx="454320" cy="36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45"/>
                <p:cNvSpPr/>
                <p:nvPr/>
              </p:nvSpPr>
              <p:spPr>
                <a:xfrm>
                  <a:off x="6008760" y="1880280"/>
                  <a:ext cx="432000" cy="34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46"/>
                <p:cNvSpPr/>
                <p:nvPr/>
              </p:nvSpPr>
              <p:spPr>
                <a:xfrm>
                  <a:off x="6033600" y="1889640"/>
                  <a:ext cx="383760" cy="27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Text Box 47"/>
              <p:cNvSpPr/>
              <p:nvPr/>
            </p:nvSpPr>
            <p:spPr>
              <a:xfrm>
                <a:off x="6074280" y="1903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48"/>
            <p:cNvSpPr/>
            <p:nvPr/>
          </p:nvSpPr>
          <p:spPr>
            <a:xfrm>
              <a:off x="5470560" y="2814120"/>
              <a:ext cx="15937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9"/>
          <p:cNvGrpSpPr/>
          <p:nvPr/>
        </p:nvGrpSpPr>
        <p:grpSpPr>
          <a:xfrm>
            <a:off x="6227640" y="2627280"/>
            <a:ext cx="1574640" cy="2447640"/>
            <a:chOff x="6227640" y="2627280"/>
            <a:chExt cx="1574640" cy="2447640"/>
          </a:xfrm>
        </p:grpSpPr>
        <p:grpSp>
          <p:nvGrpSpPr>
            <p:cNvPr id="558" name="Group 50"/>
            <p:cNvGrpSpPr/>
            <p:nvPr/>
          </p:nvGrpSpPr>
          <p:grpSpPr>
            <a:xfrm>
              <a:off x="6254640" y="2627280"/>
              <a:ext cx="1515960" cy="2447640"/>
              <a:chOff x="6254640" y="2627280"/>
              <a:chExt cx="1515960" cy="2447640"/>
            </a:xfrm>
          </p:grpSpPr>
          <p:sp>
            <p:nvSpPr>
              <p:cNvPr id="559" name="AutoShape 51"/>
              <p:cNvSpPr/>
              <p:nvPr/>
            </p:nvSpPr>
            <p:spPr>
              <a:xfrm>
                <a:off x="6254640" y="2816280"/>
                <a:ext cx="1515960" cy="1737720"/>
              </a:xfrm>
              <a:custGeom>
                <a:avLst/>
                <a:gdLst>
                  <a:gd name="textAreaLeft" fmla="*/ 77760 w 1515960"/>
                  <a:gd name="textAreaRight" fmla="*/ 1438200 w 1515960"/>
                  <a:gd name="textAreaTop" fmla="*/ 77760 h 1737720"/>
                  <a:gd name="textAreaBottom" fmla="*/ 1659960 h 1737720"/>
                </a:gdLst>
                <a:ahLst/>
                <a:rect l="textAreaLeft" t="textAreaTop" r="textAreaRight" b="textAreaBottom"/>
                <a:pathLst>
                  <a:path w="21600" h="24759">
                    <a:moveTo>
                      <a:pt x="3782" y="0"/>
                    </a:moveTo>
                    <a:arcTo wR="3782" hR="3782" stAng="16200000" swAng="-5400000"/>
                    <a:lnTo>
                      <a:pt x="0" y="20977"/>
                    </a:lnTo>
                    <a:arcTo wR="3782" hR="3782" stAng="10800000" swAng="-5400000"/>
                    <a:lnTo>
                      <a:pt x="17818" y="24759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7415"/>
                  </a:gs>
                  <a:gs pos="100000">
                    <a:srgbClr val="e65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52"/>
              <p:cNvSpPr/>
              <p:nvPr/>
            </p:nvSpPr>
            <p:spPr>
              <a:xfrm>
                <a:off x="6279840" y="2816280"/>
                <a:ext cx="1471320" cy="1703880"/>
              </a:xfrm>
              <a:custGeom>
                <a:avLst/>
                <a:gdLst>
                  <a:gd name="textAreaLeft" fmla="*/ 71640 w 1471320"/>
                  <a:gd name="textAreaRight" fmla="*/ 1399680 w 1471320"/>
                  <a:gd name="textAreaTop" fmla="*/ 71640 h 1703880"/>
                  <a:gd name="textAreaBottom" fmla="*/ 1632240 h 1703880"/>
                </a:gdLst>
                <a:ahLst/>
                <a:rect l="textAreaLeft" t="textAreaTop" r="textAreaRight" b="textAreaBottom"/>
                <a:pathLst>
                  <a:path w="21600" h="25013">
                    <a:moveTo>
                      <a:pt x="3600" y="0"/>
                    </a:moveTo>
                    <a:arcTo wR="3600" hR="3600" stAng="16200000" swAng="-5400000"/>
                    <a:lnTo>
                      <a:pt x="0" y="21413"/>
                    </a:lnTo>
                    <a:arcTo wR="3600" hR="3600" stAng="10800000" swAng="-5400000"/>
                    <a:lnTo>
                      <a:pt x="18000" y="250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c8a3"/>
                  </a:gs>
                  <a:gs pos="100000">
                    <a:srgbClr val="ff88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53"/>
              <p:cNvSpPr/>
              <p:nvPr/>
            </p:nvSpPr>
            <p:spPr>
              <a:xfrm>
                <a:off x="6279840" y="4095360"/>
                <a:ext cx="14504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ba7">
                      <a:alpha val="0"/>
                    </a:srgbClr>
                  </a:gs>
                  <a:gs pos="100000">
                    <a:srgbClr val="ffd1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54"/>
              <p:cNvSpPr/>
              <p:nvPr/>
            </p:nvSpPr>
            <p:spPr>
              <a:xfrm>
                <a:off x="6279840" y="2840400"/>
                <a:ext cx="1450440" cy="43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eee2"/>
                  </a:gs>
                  <a:gs pos="100000">
                    <a:srgbClr val="ffcba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55"/>
              <p:cNvSpPr/>
              <p:nvPr/>
            </p:nvSpPr>
            <p:spPr>
              <a:xfrm>
                <a:off x="6254640" y="4545720"/>
                <a:ext cx="1515960" cy="52920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ff6600">
                      <a:alpha val="50196"/>
                    </a:srgbClr>
                  </a:gs>
                  <a:gs pos="100000">
                    <a:srgbClr val="762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56"/>
              <p:cNvSpPr/>
              <p:nvPr/>
            </p:nvSpPr>
            <p:spPr>
              <a:xfrm>
                <a:off x="6279840" y="4569840"/>
                <a:ext cx="1450440" cy="43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5e0">
                      <a:alpha val="50196"/>
                    </a:srgbClr>
                  </a:gs>
                  <a:gs pos="100000">
                    <a:srgbClr val="ffe0a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7"/>
              <p:cNvGrpSpPr/>
              <p:nvPr/>
            </p:nvGrpSpPr>
            <p:grpSpPr>
              <a:xfrm>
                <a:off x="6776280" y="2627280"/>
                <a:ext cx="450000" cy="390600"/>
                <a:chOff x="6776280" y="2627280"/>
                <a:chExt cx="450000" cy="390600"/>
              </a:xfrm>
            </p:grpSpPr>
            <p:sp>
              <p:nvSpPr>
                <p:cNvPr id="566" name="Oval 58"/>
                <p:cNvSpPr/>
                <p:nvPr/>
              </p:nvSpPr>
              <p:spPr>
                <a:xfrm>
                  <a:off x="6776280" y="2627280"/>
                  <a:ext cx="450000" cy="390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9"/>
                <p:cNvSpPr/>
                <p:nvPr/>
              </p:nvSpPr>
              <p:spPr>
                <a:xfrm>
                  <a:off x="6780960" y="2630160"/>
                  <a:ext cx="435240" cy="3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0"/>
                <p:cNvSpPr/>
                <p:nvPr/>
              </p:nvSpPr>
              <p:spPr>
                <a:xfrm>
                  <a:off x="6786360" y="2632320"/>
                  <a:ext cx="425160" cy="36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1"/>
                <p:cNvSpPr/>
                <p:nvPr/>
              </p:nvSpPr>
              <p:spPr>
                <a:xfrm>
                  <a:off x="6791040" y="2635920"/>
                  <a:ext cx="404280" cy="34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2"/>
                <p:cNvSpPr/>
                <p:nvPr/>
              </p:nvSpPr>
              <p:spPr>
                <a:xfrm>
                  <a:off x="6814440" y="2645280"/>
                  <a:ext cx="358920" cy="28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63"/>
              <p:cNvSpPr/>
              <p:nvPr/>
            </p:nvSpPr>
            <p:spPr>
              <a:xfrm>
                <a:off x="6843600" y="2658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Rectangle 64"/>
            <p:cNvSpPr/>
            <p:nvPr/>
          </p:nvSpPr>
          <p:spPr>
            <a:xfrm>
              <a:off x="6227640" y="3571560"/>
              <a:ext cx="15746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65"/>
          <p:cNvGrpSpPr/>
          <p:nvPr/>
        </p:nvGrpSpPr>
        <p:grpSpPr>
          <a:xfrm>
            <a:off x="6985080" y="3384720"/>
            <a:ext cx="1585800" cy="2447280"/>
            <a:chOff x="6985080" y="3384720"/>
            <a:chExt cx="1585800" cy="2447280"/>
          </a:xfrm>
        </p:grpSpPr>
        <p:grpSp>
          <p:nvGrpSpPr>
            <p:cNvPr id="574" name="Group 66"/>
            <p:cNvGrpSpPr/>
            <p:nvPr/>
          </p:nvGrpSpPr>
          <p:grpSpPr>
            <a:xfrm>
              <a:off x="7020000" y="3384720"/>
              <a:ext cx="1486080" cy="2447280"/>
              <a:chOff x="7020000" y="3384720"/>
              <a:chExt cx="1486080" cy="2447280"/>
            </a:xfrm>
          </p:grpSpPr>
          <p:sp>
            <p:nvSpPr>
              <p:cNvPr id="575" name="AutoShape 67"/>
              <p:cNvSpPr/>
              <p:nvPr/>
            </p:nvSpPr>
            <p:spPr>
              <a:xfrm>
                <a:off x="7020000" y="3556440"/>
                <a:ext cx="1486080" cy="1743120"/>
              </a:xfrm>
              <a:custGeom>
                <a:avLst/>
                <a:gdLst>
                  <a:gd name="textAreaLeft" fmla="*/ 75960 w 1486080"/>
                  <a:gd name="textAreaRight" fmla="*/ 1410120 w 1486080"/>
                  <a:gd name="textAreaTop" fmla="*/ 75960 h 1743120"/>
                  <a:gd name="textAreaBottom" fmla="*/ 1667160 h 1743120"/>
                </a:gdLst>
                <a:ahLst/>
                <a:rect l="textAreaLeft" t="textAreaTop" r="textAreaRight" b="textAreaBottom"/>
                <a:pathLst>
                  <a:path w="21600" h="25335">
                    <a:moveTo>
                      <a:pt x="3782" y="0"/>
                    </a:moveTo>
                    <a:arcTo wR="3782" hR="3782" stAng="16200000" swAng="-5400000"/>
                    <a:lnTo>
                      <a:pt x="0" y="21553"/>
                    </a:lnTo>
                    <a:arcTo wR="3782" hR="3782" stAng="10800000" swAng="-5400000"/>
                    <a:lnTo>
                      <a:pt x="17818" y="2533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993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68"/>
              <p:cNvSpPr/>
              <p:nvPr/>
            </p:nvSpPr>
            <p:spPr>
              <a:xfrm>
                <a:off x="7053120" y="3566160"/>
                <a:ext cx="1442160" cy="1709640"/>
              </a:xfrm>
              <a:custGeom>
                <a:avLst/>
                <a:gdLst>
                  <a:gd name="textAreaLeft" fmla="*/ 70200 w 1442160"/>
                  <a:gd name="textAreaRight" fmla="*/ 1371960 w 1442160"/>
                  <a:gd name="textAreaTop" fmla="*/ 70200 h 1709640"/>
                  <a:gd name="textAreaBottom" fmla="*/ 1639440 h 1709640"/>
                </a:gdLst>
                <a:ahLst/>
                <a:rect l="textAreaLeft" t="textAreaTop" r="textAreaRight" b="textAreaBottom"/>
                <a:pathLst>
                  <a:path w="21600" h="25605">
                    <a:moveTo>
                      <a:pt x="3600" y="0"/>
                    </a:moveTo>
                    <a:arcTo wR="3600" hR="3600" stAng="16200000" swAng="-5400000"/>
                    <a:lnTo>
                      <a:pt x="0" y="22005"/>
                    </a:lnTo>
                    <a:arcTo wR="3600" hR="3600" stAng="10800000" swAng="-5400000"/>
                    <a:lnTo>
                      <a:pt x="18000" y="256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69"/>
              <p:cNvSpPr/>
              <p:nvPr/>
            </p:nvSpPr>
            <p:spPr>
              <a:xfrm>
                <a:off x="7053120" y="4830120"/>
                <a:ext cx="142200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b3ff">
                      <a:alpha val="0"/>
                    </a:srgbClr>
                  </a:gs>
                  <a:gs pos="100000">
                    <a:srgbClr val="bcb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70"/>
              <p:cNvSpPr/>
              <p:nvPr/>
            </p:nvSpPr>
            <p:spPr>
              <a:xfrm>
                <a:off x="7053120" y="3601440"/>
                <a:ext cx="142200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eee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71"/>
              <p:cNvSpPr/>
              <p:nvPr/>
            </p:nvSpPr>
            <p:spPr>
              <a:xfrm>
                <a:off x="7020000" y="5299920"/>
                <a:ext cx="1486080" cy="5320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33ff">
                      <a:alpha val="50196"/>
                    </a:srgbClr>
                  </a:gs>
                  <a:gs pos="100000">
                    <a:srgbClr val="4718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72"/>
              <p:cNvSpPr/>
              <p:nvPr/>
            </p:nvSpPr>
            <p:spPr>
              <a:xfrm>
                <a:off x="7053120" y="5336640"/>
                <a:ext cx="142200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e4ff">
                      <a:alpha val="50196"/>
                    </a:srgbClr>
                  </a:gs>
                  <a:gs pos="100000">
                    <a:srgbClr val="afa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Group 73"/>
              <p:cNvGrpSpPr/>
              <p:nvPr/>
            </p:nvGrpSpPr>
            <p:grpSpPr>
              <a:xfrm>
                <a:off x="7531200" y="3384720"/>
                <a:ext cx="439920" cy="392040"/>
                <a:chOff x="7531200" y="3384720"/>
                <a:chExt cx="439920" cy="392040"/>
              </a:xfrm>
            </p:grpSpPr>
            <p:sp>
              <p:nvSpPr>
                <p:cNvPr id="582" name="Oval 74"/>
                <p:cNvSpPr/>
                <p:nvPr/>
              </p:nvSpPr>
              <p:spPr>
                <a:xfrm>
                  <a:off x="7531200" y="3384720"/>
                  <a:ext cx="439920" cy="3920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75"/>
                <p:cNvSpPr/>
                <p:nvPr/>
              </p:nvSpPr>
              <p:spPr>
                <a:xfrm>
                  <a:off x="7535520" y="3387600"/>
                  <a:ext cx="425520" cy="37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76"/>
                <p:cNvSpPr/>
                <p:nvPr/>
              </p:nvSpPr>
              <p:spPr>
                <a:xfrm>
                  <a:off x="7540920" y="3389760"/>
                  <a:ext cx="41544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77"/>
                <p:cNvSpPr/>
                <p:nvPr/>
              </p:nvSpPr>
              <p:spPr>
                <a:xfrm>
                  <a:off x="7545600" y="3393360"/>
                  <a:ext cx="395280" cy="34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Oval 78"/>
                <p:cNvSpPr/>
                <p:nvPr/>
              </p:nvSpPr>
              <p:spPr>
                <a:xfrm>
                  <a:off x="7568640" y="3402720"/>
                  <a:ext cx="351000" cy="28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Text Box 79"/>
              <p:cNvSpPr/>
              <p:nvPr/>
            </p:nvSpPr>
            <p:spPr>
              <a:xfrm>
                <a:off x="7590240" y="3395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80"/>
            <p:cNvSpPr/>
            <p:nvPr/>
          </p:nvSpPr>
          <p:spPr>
            <a:xfrm>
              <a:off x="6985080" y="4275720"/>
              <a:ext cx="15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81"/>
          <p:cNvGrpSpPr/>
          <p:nvPr/>
        </p:nvGrpSpPr>
        <p:grpSpPr>
          <a:xfrm>
            <a:off x="7777080" y="4103640"/>
            <a:ext cx="1619280" cy="2448000"/>
            <a:chOff x="7777080" y="4103640"/>
            <a:chExt cx="1619280" cy="2448000"/>
          </a:xfrm>
        </p:grpSpPr>
        <p:grpSp>
          <p:nvGrpSpPr>
            <p:cNvPr id="590" name="Group 82"/>
            <p:cNvGrpSpPr/>
            <p:nvPr/>
          </p:nvGrpSpPr>
          <p:grpSpPr>
            <a:xfrm>
              <a:off x="7777080" y="4103640"/>
              <a:ext cx="1619280" cy="2448000"/>
              <a:chOff x="7777080" y="4103640"/>
              <a:chExt cx="1619280" cy="2448000"/>
            </a:xfrm>
          </p:grpSpPr>
          <p:sp>
            <p:nvSpPr>
              <p:cNvPr id="591" name="AutoShape 83"/>
              <p:cNvSpPr/>
              <p:nvPr/>
            </p:nvSpPr>
            <p:spPr>
              <a:xfrm>
                <a:off x="7777080" y="4294080"/>
                <a:ext cx="1619280" cy="1736640"/>
              </a:xfrm>
              <a:custGeom>
                <a:avLst/>
                <a:gdLst>
                  <a:gd name="textAreaLeft" fmla="*/ 82800 w 1619280"/>
                  <a:gd name="textAreaRight" fmla="*/ 1536480 w 1619280"/>
                  <a:gd name="textAreaTop" fmla="*/ 82800 h 1736640"/>
                  <a:gd name="textAreaBottom" fmla="*/ 1653840 h 1736640"/>
                </a:gdLst>
                <a:ahLst/>
                <a:rect l="textAreaLeft" t="textAreaTop" r="textAreaRight" b="textAreaBottom"/>
                <a:pathLst>
                  <a:path w="21600" h="23165">
                    <a:moveTo>
                      <a:pt x="3782" y="0"/>
                    </a:moveTo>
                    <a:arcTo wR="3782" hR="3782" stAng="16200000" swAng="-5400000"/>
                    <a:lnTo>
                      <a:pt x="0" y="19383"/>
                    </a:lnTo>
                    <a:arcTo wR="3782" hR="3782" stAng="10800000" swAng="-5400000"/>
                    <a:lnTo>
                      <a:pt x="17818" y="2316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84"/>
              <p:cNvSpPr/>
              <p:nvPr/>
            </p:nvSpPr>
            <p:spPr>
              <a:xfrm>
                <a:off x="7804080" y="4294080"/>
                <a:ext cx="1571760" cy="170352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703520"/>
                  <a:gd name="textAreaBottom" fmla="*/ 1626840 h 1703520"/>
                </a:gdLst>
                <a:ahLst/>
                <a:rect l="textAreaLeft" t="textAreaTop" r="textAreaRight" b="textAreaBottom"/>
                <a:pathLst>
                  <a:path w="21600" h="23410">
                    <a:moveTo>
                      <a:pt x="3600" y="0"/>
                    </a:moveTo>
                    <a:arcTo wR="3600" hR="3600" stAng="16200000" swAng="-5400000"/>
                    <a:lnTo>
                      <a:pt x="0" y="19810"/>
                    </a:lnTo>
                    <a:arcTo wR="3600" hR="3600" stAng="10800000" swAng="-5400000"/>
                    <a:lnTo>
                      <a:pt x="18000" y="234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85"/>
              <p:cNvSpPr/>
              <p:nvPr/>
            </p:nvSpPr>
            <p:spPr>
              <a:xfrm>
                <a:off x="7815240" y="5554440"/>
                <a:ext cx="1549440" cy="43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86"/>
              <p:cNvSpPr/>
              <p:nvPr/>
            </p:nvSpPr>
            <p:spPr>
              <a:xfrm>
                <a:off x="7815240" y="4313160"/>
                <a:ext cx="1549440" cy="43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utoShape 87"/>
              <p:cNvSpPr/>
              <p:nvPr/>
            </p:nvSpPr>
            <p:spPr>
              <a:xfrm>
                <a:off x="7777080" y="6021360"/>
                <a:ext cx="1619280" cy="5302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4490c4">
                      <a:alpha val="50196"/>
                    </a:srgbClr>
                  </a:gs>
                  <a:gs pos="100000">
                    <a:srgbClr val="1f435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88"/>
              <p:cNvSpPr/>
              <p:nvPr/>
            </p:nvSpPr>
            <p:spPr>
              <a:xfrm>
                <a:off x="7804080" y="6046920"/>
                <a:ext cx="1549440" cy="43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f4fc">
                      <a:alpha val="50196"/>
                    </a:srgbClr>
                  </a:gs>
                  <a:gs pos="100000">
                    <a:srgbClr val="99ddf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89"/>
              <p:cNvGrpSpPr/>
              <p:nvPr/>
            </p:nvGrpSpPr>
            <p:grpSpPr>
              <a:xfrm>
                <a:off x="8334360" y="4103640"/>
                <a:ext cx="479520" cy="390600"/>
                <a:chOff x="8334360" y="4103640"/>
                <a:chExt cx="479520" cy="390600"/>
              </a:xfrm>
            </p:grpSpPr>
            <p:sp>
              <p:nvSpPr>
                <p:cNvPr id="598" name="Oval 90"/>
                <p:cNvSpPr/>
                <p:nvPr/>
              </p:nvSpPr>
              <p:spPr>
                <a:xfrm>
                  <a:off x="8334360" y="4103640"/>
                  <a:ext cx="479520" cy="390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91"/>
                <p:cNvSpPr/>
                <p:nvPr/>
              </p:nvSpPr>
              <p:spPr>
                <a:xfrm>
                  <a:off x="8339400" y="4106520"/>
                  <a:ext cx="463680" cy="3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92"/>
                <p:cNvSpPr/>
                <p:nvPr/>
              </p:nvSpPr>
              <p:spPr>
                <a:xfrm>
                  <a:off x="8344800" y="4108680"/>
                  <a:ext cx="452880" cy="36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93"/>
                <p:cNvSpPr/>
                <p:nvPr/>
              </p:nvSpPr>
              <p:spPr>
                <a:xfrm>
                  <a:off x="8349840" y="4112280"/>
                  <a:ext cx="430560" cy="34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94"/>
                <p:cNvSpPr/>
                <p:nvPr/>
              </p:nvSpPr>
              <p:spPr>
                <a:xfrm>
                  <a:off x="8375040" y="4121640"/>
                  <a:ext cx="382680" cy="28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Text Box 95"/>
              <p:cNvSpPr/>
              <p:nvPr/>
            </p:nvSpPr>
            <p:spPr>
              <a:xfrm>
                <a:off x="8412480" y="4114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Rectangle 96"/>
            <p:cNvSpPr/>
            <p:nvPr/>
          </p:nvSpPr>
          <p:spPr>
            <a:xfrm>
              <a:off x="7885080" y="4968360"/>
              <a:ext cx="15112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97"/>
          <p:cNvGrpSpPr/>
          <p:nvPr/>
        </p:nvGrpSpPr>
        <p:grpSpPr>
          <a:xfrm>
            <a:off x="2016000" y="1871640"/>
            <a:ext cx="2916360" cy="4354560"/>
            <a:chOff x="2016000" y="1871640"/>
            <a:chExt cx="2916360" cy="4354560"/>
          </a:xfrm>
        </p:grpSpPr>
        <p:sp>
          <p:nvSpPr>
            <p:cNvPr id="606" name="AutoShape 98"/>
            <p:cNvSpPr/>
            <p:nvPr/>
          </p:nvSpPr>
          <p:spPr>
            <a:xfrm>
              <a:off x="2016000" y="2212920"/>
              <a:ext cx="2862360" cy="3087720"/>
            </a:xfrm>
            <a:custGeom>
              <a:avLst/>
              <a:gdLst>
                <a:gd name="textAreaLeft" fmla="*/ 146520 w 2862360"/>
                <a:gd name="textAreaRight" fmla="*/ 2715840 w 2862360"/>
                <a:gd name="textAreaTop" fmla="*/ 146520 h 3087720"/>
                <a:gd name="textAreaBottom" fmla="*/ 2941200 h 3087720"/>
              </a:gdLst>
              <a:ahLst/>
              <a:rect l="textAreaLeft" t="textAreaTop" r="textAreaRight" b="textAreaBottom"/>
              <a:pathLst>
                <a:path w="21600" h="23300">
                  <a:moveTo>
                    <a:pt x="3782" y="0"/>
                  </a:moveTo>
                  <a:arcTo wR="3782" hR="3782" stAng="16200000" swAng="-5400000"/>
                  <a:lnTo>
                    <a:pt x="0" y="19518"/>
                  </a:lnTo>
                  <a:arcTo wR="3782" hR="3782" stAng="10800000" swAng="-5400000"/>
                  <a:lnTo>
                    <a:pt x="17818" y="2330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009a96"/>
                </a:gs>
                <a:gs pos="100000">
                  <a:srgbClr val="00b0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99"/>
            <p:cNvSpPr/>
            <p:nvPr/>
          </p:nvSpPr>
          <p:spPr>
            <a:xfrm>
              <a:off x="2081160" y="2212920"/>
              <a:ext cx="2778120" cy="3027240"/>
            </a:xfrm>
            <a:custGeom>
              <a:avLst/>
              <a:gdLst>
                <a:gd name="textAreaLeft" fmla="*/ 135360 w 2778120"/>
                <a:gd name="textAreaRight" fmla="*/ 2642760 w 2778120"/>
                <a:gd name="textAreaTop" fmla="*/ 135360 h 3027240"/>
                <a:gd name="textAreaBottom" fmla="*/ 2891880 h 302724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00"/>
            <p:cNvSpPr/>
            <p:nvPr/>
          </p:nvSpPr>
          <p:spPr>
            <a:xfrm>
              <a:off x="2063520" y="4440240"/>
              <a:ext cx="2738520" cy="76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ffcc">
                    <a:alpha val="0"/>
                  </a:srgbClr>
                </a:gs>
                <a:gs pos="100000">
                  <a:srgbClr val="79ff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01"/>
            <p:cNvSpPr/>
            <p:nvPr/>
          </p:nvSpPr>
          <p:spPr>
            <a:xfrm>
              <a:off x="2063520" y="2252520"/>
              <a:ext cx="2738520" cy="76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fee"/>
                </a:gs>
                <a:gs pos="100000">
                  <a:srgbClr val="99ff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02"/>
            <p:cNvSpPr/>
            <p:nvPr/>
          </p:nvSpPr>
          <p:spPr>
            <a:xfrm>
              <a:off x="2016000" y="5284800"/>
              <a:ext cx="2862360" cy="941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008582">
                    <a:alpha val="50196"/>
                  </a:srgbClr>
                </a:gs>
                <a:gs pos="100000">
                  <a:srgbClr val="003e3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03"/>
            <p:cNvSpPr/>
            <p:nvPr/>
          </p:nvSpPr>
          <p:spPr>
            <a:xfrm>
              <a:off x="2063520" y="5322960"/>
              <a:ext cx="2738520" cy="76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ffee">
                    <a:alpha val="50196"/>
                  </a:srgbClr>
                </a:gs>
                <a:gs pos="100000">
                  <a:srgbClr val="66ff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04"/>
            <p:cNvGrpSpPr/>
            <p:nvPr/>
          </p:nvGrpSpPr>
          <p:grpSpPr>
            <a:xfrm>
              <a:off x="3000240" y="1871640"/>
              <a:ext cx="851040" cy="693720"/>
              <a:chOff x="3000240" y="1871640"/>
              <a:chExt cx="851040" cy="693720"/>
            </a:xfrm>
          </p:grpSpPr>
          <p:sp>
            <p:nvSpPr>
              <p:cNvPr id="613" name="Oval 105"/>
              <p:cNvSpPr/>
              <p:nvPr/>
            </p:nvSpPr>
            <p:spPr>
              <a:xfrm>
                <a:off x="3000240" y="1871640"/>
                <a:ext cx="851040" cy="693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06"/>
              <p:cNvSpPr/>
              <p:nvPr/>
            </p:nvSpPr>
            <p:spPr>
              <a:xfrm>
                <a:off x="3008880" y="1876680"/>
                <a:ext cx="822960" cy="671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07"/>
              <p:cNvSpPr/>
              <p:nvPr/>
            </p:nvSpPr>
            <p:spPr>
              <a:xfrm>
                <a:off x="3018960" y="1881000"/>
                <a:ext cx="803880" cy="655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08"/>
              <p:cNvSpPr/>
              <p:nvPr/>
            </p:nvSpPr>
            <p:spPr>
              <a:xfrm>
                <a:off x="3027960" y="1887120"/>
                <a:ext cx="764280" cy="611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09"/>
              <p:cNvSpPr/>
              <p:nvPr/>
            </p:nvSpPr>
            <p:spPr>
              <a:xfrm>
                <a:off x="3072600" y="1903680"/>
                <a:ext cx="678960" cy="49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Text Box 110"/>
            <p:cNvSpPr/>
            <p:nvPr/>
          </p:nvSpPr>
          <p:spPr>
            <a:xfrm>
              <a:off x="3226680" y="1968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1"/>
            <p:cNvSpPr/>
            <p:nvPr/>
          </p:nvSpPr>
          <p:spPr>
            <a:xfrm>
              <a:off x="2114280" y="3456360"/>
              <a:ext cx="2818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12"/>
          <p:cNvGrpSpPr/>
          <p:nvPr/>
        </p:nvGrpSpPr>
        <p:grpSpPr>
          <a:xfrm>
            <a:off x="2303640" y="2374920"/>
            <a:ext cx="2697120" cy="4079880"/>
            <a:chOff x="2303640" y="2374920"/>
            <a:chExt cx="2697120" cy="4079880"/>
          </a:xfrm>
        </p:grpSpPr>
        <p:sp>
          <p:nvSpPr>
            <p:cNvPr id="621" name="AutoShape 113"/>
            <p:cNvSpPr/>
            <p:nvPr/>
          </p:nvSpPr>
          <p:spPr>
            <a:xfrm>
              <a:off x="2303640" y="2691000"/>
              <a:ext cx="2697120" cy="2895480"/>
            </a:xfrm>
            <a:custGeom>
              <a:avLst/>
              <a:gdLst>
                <a:gd name="textAreaLeft" fmla="*/ 138240 w 2697120"/>
                <a:gd name="textAreaRight" fmla="*/ 2558880 w 2697120"/>
                <a:gd name="textAreaTop" fmla="*/ 138240 h 2895480"/>
                <a:gd name="textAreaBottom" fmla="*/ 2757240 h 2895480"/>
              </a:gdLst>
              <a:ahLst/>
              <a:rect l="textAreaLeft" t="textAreaTop" r="textAreaRight" b="textAreaBottom"/>
              <a:pathLst>
                <a:path w="21600" h="23188">
                  <a:moveTo>
                    <a:pt x="3782" y="0"/>
                  </a:moveTo>
                  <a:arcTo wR="3782" hR="3782" stAng="16200000" swAng="-5400000"/>
                  <a:lnTo>
                    <a:pt x="0" y="19406"/>
                  </a:lnTo>
                  <a:arcTo wR="3782" hR="3782" stAng="10800000" swAng="-5400000"/>
                  <a:lnTo>
                    <a:pt x="17818" y="2318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ff7415"/>
                </a:gs>
                <a:gs pos="100000">
                  <a:srgbClr val="e65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114"/>
            <p:cNvSpPr/>
            <p:nvPr/>
          </p:nvSpPr>
          <p:spPr>
            <a:xfrm>
              <a:off x="2347920" y="2691000"/>
              <a:ext cx="2617920" cy="2840040"/>
            </a:xfrm>
            <a:custGeom>
              <a:avLst/>
              <a:gdLst>
                <a:gd name="textAreaLeft" fmla="*/ 127800 w 2617920"/>
                <a:gd name="textAreaRight" fmla="*/ 2490120 w 2617920"/>
                <a:gd name="textAreaTop" fmla="*/ 127800 h 2840040"/>
                <a:gd name="textAreaBottom" fmla="*/ 2712240 h 2840040"/>
              </a:gdLst>
              <a:ahLst/>
              <a:rect l="textAreaLeft" t="textAreaTop" r="textAreaRight" b="textAreaBottom"/>
              <a:pathLst>
                <a:path w="21600" h="23432">
                  <a:moveTo>
                    <a:pt x="3600" y="0"/>
                  </a:moveTo>
                  <a:arcTo wR="3600" hR="3600" stAng="16200000" swAng="-5400000"/>
                  <a:lnTo>
                    <a:pt x="0" y="19832"/>
                  </a:lnTo>
                  <a:arcTo wR="3600" hR="3600" stAng="10800000" swAng="-5400000"/>
                  <a:lnTo>
                    <a:pt x="18000" y="23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8a3"/>
                </a:gs>
                <a:gs pos="100000">
                  <a:srgbClr val="ff88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115"/>
            <p:cNvSpPr/>
            <p:nvPr/>
          </p:nvSpPr>
          <p:spPr>
            <a:xfrm>
              <a:off x="2347920" y="4822920"/>
              <a:ext cx="2581560" cy="71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ba7">
                    <a:alpha val="0"/>
                  </a:srgbClr>
                </a:gs>
                <a:gs pos="100000">
                  <a:srgbClr val="ffd1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116"/>
            <p:cNvSpPr/>
            <p:nvPr/>
          </p:nvSpPr>
          <p:spPr>
            <a:xfrm>
              <a:off x="2347920" y="2730600"/>
              <a:ext cx="2581560" cy="71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eee2"/>
                </a:gs>
                <a:gs pos="100000">
                  <a:srgbClr val="ffcba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117"/>
            <p:cNvSpPr/>
            <p:nvPr/>
          </p:nvSpPr>
          <p:spPr>
            <a:xfrm>
              <a:off x="2303640" y="5572080"/>
              <a:ext cx="2697120" cy="8827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762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118"/>
            <p:cNvSpPr/>
            <p:nvPr/>
          </p:nvSpPr>
          <p:spPr>
            <a:xfrm>
              <a:off x="2347920" y="5611680"/>
              <a:ext cx="2581560" cy="71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5e0">
                    <a:alpha val="50196"/>
                  </a:srgbClr>
                </a:gs>
                <a:gs pos="100000">
                  <a:srgbClr val="ffe0a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119"/>
            <p:cNvGrpSpPr/>
            <p:nvPr/>
          </p:nvGrpSpPr>
          <p:grpSpPr>
            <a:xfrm>
              <a:off x="3232440" y="2374920"/>
              <a:ext cx="799920" cy="652320"/>
              <a:chOff x="3232440" y="2374920"/>
              <a:chExt cx="799920" cy="652320"/>
            </a:xfrm>
          </p:grpSpPr>
          <p:sp>
            <p:nvSpPr>
              <p:cNvPr id="628" name="Oval 120"/>
              <p:cNvSpPr/>
              <p:nvPr/>
            </p:nvSpPr>
            <p:spPr>
              <a:xfrm>
                <a:off x="3232440" y="2374920"/>
                <a:ext cx="799920" cy="652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121"/>
              <p:cNvSpPr/>
              <p:nvPr/>
            </p:nvSpPr>
            <p:spPr>
              <a:xfrm>
                <a:off x="3240720" y="2379600"/>
                <a:ext cx="773640" cy="63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122"/>
              <p:cNvSpPr/>
              <p:nvPr/>
            </p:nvSpPr>
            <p:spPr>
              <a:xfrm>
                <a:off x="3250080" y="2383560"/>
                <a:ext cx="755640" cy="61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123"/>
              <p:cNvSpPr/>
              <p:nvPr/>
            </p:nvSpPr>
            <p:spPr>
              <a:xfrm>
                <a:off x="3258720" y="2389320"/>
                <a:ext cx="718200" cy="574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124"/>
              <p:cNvSpPr/>
              <p:nvPr/>
            </p:nvSpPr>
            <p:spPr>
              <a:xfrm>
                <a:off x="3300480" y="2405160"/>
                <a:ext cx="638280" cy="46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Text Box 125"/>
            <p:cNvSpPr/>
            <p:nvPr/>
          </p:nvSpPr>
          <p:spPr>
            <a:xfrm>
              <a:off x="3437280" y="243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26"/>
            <p:cNvSpPr/>
            <p:nvPr/>
          </p:nvSpPr>
          <p:spPr>
            <a:xfrm>
              <a:off x="2448000" y="3959640"/>
              <a:ext cx="2448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27"/>
          <p:cNvGrpSpPr/>
          <p:nvPr/>
        </p:nvGrpSpPr>
        <p:grpSpPr>
          <a:xfrm>
            <a:off x="2664000" y="2735280"/>
            <a:ext cx="2819160" cy="4354560"/>
            <a:chOff x="2664000" y="2735280"/>
            <a:chExt cx="2819160" cy="4354560"/>
          </a:xfrm>
        </p:grpSpPr>
        <p:sp>
          <p:nvSpPr>
            <p:cNvPr id="636" name="AutoShape 128"/>
            <p:cNvSpPr/>
            <p:nvPr/>
          </p:nvSpPr>
          <p:spPr>
            <a:xfrm>
              <a:off x="2664000" y="3041640"/>
              <a:ext cx="2642760" cy="3102120"/>
            </a:xfrm>
            <a:custGeom>
              <a:avLst/>
              <a:gdLst>
                <a:gd name="textAreaLeft" fmla="*/ 135360 w 2642760"/>
                <a:gd name="textAreaRight" fmla="*/ 2507400 w 2642760"/>
                <a:gd name="textAreaTop" fmla="*/ 135360 h 3102120"/>
                <a:gd name="textAreaBottom" fmla="*/ 2966760 h 3102120"/>
              </a:gdLst>
              <a:ahLst/>
              <a:rect l="textAreaLeft" t="textAreaTop" r="textAreaRight" b="textAreaBottom"/>
              <a:pathLst>
                <a:path w="21600" h="25354">
                  <a:moveTo>
                    <a:pt x="3782" y="0"/>
                  </a:moveTo>
                  <a:arcTo wR="3782" hR="3782" stAng="16200000" swAng="-5400000"/>
                  <a:lnTo>
                    <a:pt x="0" y="21572"/>
                  </a:lnTo>
                  <a:arcTo wR="3782" hR="3782" stAng="10800000" swAng="-5400000"/>
                  <a:lnTo>
                    <a:pt x="17818" y="2535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93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29"/>
            <p:cNvSpPr/>
            <p:nvPr/>
          </p:nvSpPr>
          <p:spPr>
            <a:xfrm>
              <a:off x="2724120" y="3059280"/>
              <a:ext cx="2565000" cy="3041640"/>
            </a:xfrm>
            <a:custGeom>
              <a:avLst/>
              <a:gdLst>
                <a:gd name="textAreaLeft" fmla="*/ 124920 w 2565000"/>
                <a:gd name="textAreaRight" fmla="*/ 2440080 w 2565000"/>
                <a:gd name="textAreaTop" fmla="*/ 124920 h 3041640"/>
                <a:gd name="textAreaBottom" fmla="*/ 2916720 h 3041640"/>
              </a:gdLst>
              <a:ahLst/>
              <a:rect l="textAreaLeft" t="textAreaTop" r="textAreaRight" b="textAreaBottom"/>
              <a:pathLst>
                <a:path w="21600" h="25613">
                  <a:moveTo>
                    <a:pt x="3600" y="0"/>
                  </a:moveTo>
                  <a:arcTo wR="3600" hR="3600" stAng="16200000" swAng="-5400000"/>
                  <a:lnTo>
                    <a:pt x="0" y="22013"/>
                  </a:lnTo>
                  <a:arcTo wR="3600" hR="3600" stAng="10800000" swAng="-5400000"/>
                  <a:lnTo>
                    <a:pt x="18000" y="256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30"/>
            <p:cNvSpPr/>
            <p:nvPr/>
          </p:nvSpPr>
          <p:spPr>
            <a:xfrm>
              <a:off x="2724120" y="5307120"/>
              <a:ext cx="2528280" cy="76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3b3ff">
                    <a:alpha val="0"/>
                  </a:srgbClr>
                </a:gs>
                <a:gs pos="100000">
                  <a:srgbClr val="bcb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31"/>
            <p:cNvSpPr/>
            <p:nvPr/>
          </p:nvSpPr>
          <p:spPr>
            <a:xfrm>
              <a:off x="2724120" y="3121200"/>
              <a:ext cx="2528280" cy="76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ee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132"/>
            <p:cNvSpPr/>
            <p:nvPr/>
          </p:nvSpPr>
          <p:spPr>
            <a:xfrm>
              <a:off x="2664000" y="6143760"/>
              <a:ext cx="2642760" cy="94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4718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133"/>
            <p:cNvSpPr/>
            <p:nvPr/>
          </p:nvSpPr>
          <p:spPr>
            <a:xfrm>
              <a:off x="2724120" y="6208560"/>
              <a:ext cx="2528280" cy="76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e4ff">
                    <a:alpha val="50196"/>
                  </a:srgbClr>
                </a:gs>
                <a:gs pos="100000">
                  <a:srgbClr val="afa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4"/>
            <p:cNvGrpSpPr/>
            <p:nvPr/>
          </p:nvGrpSpPr>
          <p:grpSpPr>
            <a:xfrm>
              <a:off x="3573360" y="2735280"/>
              <a:ext cx="782280" cy="698400"/>
              <a:chOff x="3573360" y="2735280"/>
              <a:chExt cx="782280" cy="698400"/>
            </a:xfrm>
          </p:grpSpPr>
          <p:sp>
            <p:nvSpPr>
              <p:cNvPr id="643" name="Oval 135"/>
              <p:cNvSpPr/>
              <p:nvPr/>
            </p:nvSpPr>
            <p:spPr>
              <a:xfrm>
                <a:off x="3573360" y="2735280"/>
                <a:ext cx="782280" cy="698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136"/>
              <p:cNvSpPr/>
              <p:nvPr/>
            </p:nvSpPr>
            <p:spPr>
              <a:xfrm>
                <a:off x="3581280" y="2740320"/>
                <a:ext cx="756360" cy="676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137"/>
              <p:cNvSpPr/>
              <p:nvPr/>
            </p:nvSpPr>
            <p:spPr>
              <a:xfrm>
                <a:off x="3590640" y="2744640"/>
                <a:ext cx="739080" cy="65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38"/>
              <p:cNvSpPr/>
              <p:nvPr/>
            </p:nvSpPr>
            <p:spPr>
              <a:xfrm>
                <a:off x="3598920" y="2750760"/>
                <a:ext cx="702360" cy="615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39"/>
              <p:cNvSpPr/>
              <p:nvPr/>
            </p:nvSpPr>
            <p:spPr>
              <a:xfrm>
                <a:off x="3639960" y="2767680"/>
                <a:ext cx="624240" cy="50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140"/>
            <p:cNvSpPr/>
            <p:nvPr/>
          </p:nvSpPr>
          <p:spPr>
            <a:xfrm>
              <a:off x="3761640" y="2833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41"/>
            <p:cNvSpPr/>
            <p:nvPr/>
          </p:nvSpPr>
          <p:spPr>
            <a:xfrm>
              <a:off x="2664000" y="4494960"/>
              <a:ext cx="2819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42"/>
          <p:cNvGrpSpPr/>
          <p:nvPr/>
        </p:nvGrpSpPr>
        <p:grpSpPr>
          <a:xfrm>
            <a:off x="2987640" y="3205080"/>
            <a:ext cx="2879640" cy="4354560"/>
            <a:chOff x="2987640" y="3205080"/>
            <a:chExt cx="2879640" cy="4354560"/>
          </a:xfrm>
        </p:grpSpPr>
        <p:sp>
          <p:nvSpPr>
            <p:cNvPr id="651" name="AutoShape 143"/>
            <p:cNvSpPr/>
            <p:nvPr/>
          </p:nvSpPr>
          <p:spPr>
            <a:xfrm>
              <a:off x="2987640" y="3531960"/>
              <a:ext cx="2879640" cy="3089520"/>
            </a:xfrm>
            <a:custGeom>
              <a:avLst/>
              <a:gdLst>
                <a:gd name="textAreaLeft" fmla="*/ 147600 w 2879640"/>
                <a:gd name="textAreaRight" fmla="*/ 2732040 w 2879640"/>
                <a:gd name="textAreaTop" fmla="*/ 147600 h 3089520"/>
                <a:gd name="textAreaBottom" fmla="*/ 2941920 h 3089520"/>
              </a:gdLst>
              <a:ahLst/>
              <a:rect l="textAreaLeft" t="textAreaTop" r="textAreaRight" b="textAreaBottom"/>
              <a:pathLst>
                <a:path w="21600" h="23174">
                  <a:moveTo>
                    <a:pt x="3782" y="0"/>
                  </a:moveTo>
                  <a:arcTo wR="3782" hR="3782" stAng="16200000" swAng="-5400000"/>
                  <a:lnTo>
                    <a:pt x="0" y="19392"/>
                  </a:lnTo>
                  <a:arcTo wR="3782" hR="3782" stAng="10800000" swAng="-5400000"/>
                  <a:lnTo>
                    <a:pt x="17818" y="2317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44"/>
            <p:cNvSpPr/>
            <p:nvPr/>
          </p:nvSpPr>
          <p:spPr>
            <a:xfrm>
              <a:off x="3035160" y="3543120"/>
              <a:ext cx="2795760" cy="3030480"/>
            </a:xfrm>
            <a:custGeom>
              <a:avLst/>
              <a:gdLst>
                <a:gd name="textAreaLeft" fmla="*/ 136440 w 2795760"/>
                <a:gd name="textAreaRight" fmla="*/ 2659320 w 2795760"/>
                <a:gd name="textAreaTop" fmla="*/ 136440 h 3030480"/>
                <a:gd name="textAreaBottom" fmla="*/ 2894040 h 3030480"/>
              </a:gdLst>
              <a:ahLst/>
              <a:rect l="textAreaLeft" t="textAreaTop" r="textAreaRight" b="textAreaBottom"/>
              <a:pathLst>
                <a:path w="21600" h="23413">
                  <a:moveTo>
                    <a:pt x="3600" y="0"/>
                  </a:moveTo>
                  <a:arcTo wR="3600" hR="3600" stAng="16200000" swAng="-5400000"/>
                  <a:lnTo>
                    <a:pt x="0" y="19813"/>
                  </a:lnTo>
                  <a:arcTo wR="3600" hR="3600" stAng="10800000" swAng="-5400000"/>
                  <a:lnTo>
                    <a:pt x="18000" y="23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45"/>
            <p:cNvSpPr/>
            <p:nvPr/>
          </p:nvSpPr>
          <p:spPr>
            <a:xfrm>
              <a:off x="3056040" y="5786280"/>
              <a:ext cx="2754000" cy="76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f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146"/>
            <p:cNvSpPr/>
            <p:nvPr/>
          </p:nvSpPr>
          <p:spPr>
            <a:xfrm>
              <a:off x="3058920" y="3566880"/>
              <a:ext cx="2754360" cy="76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47"/>
            <p:cNvSpPr/>
            <p:nvPr/>
          </p:nvSpPr>
          <p:spPr>
            <a:xfrm>
              <a:off x="2987640" y="6616440"/>
              <a:ext cx="2879640" cy="943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4490c4">
                    <a:alpha val="50196"/>
                  </a:srgbClr>
                </a:gs>
                <a:gs pos="100000">
                  <a:srgbClr val="1f435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48"/>
            <p:cNvSpPr/>
            <p:nvPr/>
          </p:nvSpPr>
          <p:spPr>
            <a:xfrm>
              <a:off x="3035160" y="6661080"/>
              <a:ext cx="2756160" cy="76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4fc">
                    <a:alpha val="50196"/>
                  </a:srgbClr>
                </a:gs>
                <a:gs pos="100000">
                  <a:srgbClr val="99ddf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149"/>
            <p:cNvGrpSpPr/>
            <p:nvPr/>
          </p:nvGrpSpPr>
          <p:grpSpPr>
            <a:xfrm>
              <a:off x="3978360" y="3205080"/>
              <a:ext cx="852480" cy="693720"/>
              <a:chOff x="3978360" y="3205080"/>
              <a:chExt cx="852480" cy="693720"/>
            </a:xfrm>
          </p:grpSpPr>
          <p:sp>
            <p:nvSpPr>
              <p:cNvPr id="658" name="Oval 150"/>
              <p:cNvSpPr/>
              <p:nvPr/>
            </p:nvSpPr>
            <p:spPr>
              <a:xfrm>
                <a:off x="3978360" y="3205080"/>
                <a:ext cx="852480" cy="693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151"/>
              <p:cNvSpPr/>
              <p:nvPr/>
            </p:nvSpPr>
            <p:spPr>
              <a:xfrm>
                <a:off x="3987000" y="3210120"/>
                <a:ext cx="824400" cy="671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52"/>
              <p:cNvSpPr/>
              <p:nvPr/>
            </p:nvSpPr>
            <p:spPr>
              <a:xfrm>
                <a:off x="3997440" y="3214440"/>
                <a:ext cx="805320" cy="655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53"/>
              <p:cNvSpPr/>
              <p:nvPr/>
            </p:nvSpPr>
            <p:spPr>
              <a:xfrm>
                <a:off x="4006080" y="3220560"/>
                <a:ext cx="765720" cy="611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54"/>
              <p:cNvSpPr/>
              <p:nvPr/>
            </p:nvSpPr>
            <p:spPr>
              <a:xfrm>
                <a:off x="4050720" y="3237120"/>
                <a:ext cx="680040" cy="49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155"/>
            <p:cNvSpPr/>
            <p:nvPr/>
          </p:nvSpPr>
          <p:spPr>
            <a:xfrm>
              <a:off x="4203000" y="327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56"/>
            <p:cNvSpPr/>
            <p:nvPr/>
          </p:nvSpPr>
          <p:spPr>
            <a:xfrm>
              <a:off x="3216240" y="4752360"/>
              <a:ext cx="2579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34"/>
          <p:cNvSpPr/>
          <p:nvPr/>
        </p:nvSpPr>
        <p:spPr>
          <a:xfrm>
            <a:off x="2664000" y="250920"/>
            <a:ext cx="496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073E-006 -4.70588E-006 L 0.22151 -0.20567 E">
                                      <p:cBhvr>
                                        <p:cTn id="781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56171E-006 -4.28571E-006 L 0.26968 -0.18802 E">
                                      <p:cBhvr>
                                        <p:cTn id="80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6927E-006 1.76471E-006 L 0.32856 -0.14307 E">
                                      <p:cBhvr>
                                        <p:cTn id="825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1814E-006 -1.51261E-006 L 0.37484 -0.05231 E">
                                      <p:cBhvr>
                                        <p:cTn id="847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073E-006 -2.85714E-006 L 0.42145 -0.00672 E">
                                      <p:cBhvr>
                                        <p:cTn id="869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54912E-007 -2.43697E-006 L -0.34997 0.12374 E">
                                      <p:cBhvr>
                                        <p:cTn id="885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8589E-006 -3.86555E-006 L -0.28416 0.23824 E">
                                      <p:cBhvr>
                                        <p:cTn id="88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0202E-006 -3.86555E-006 L -0.20655 -0.07626 E">
                                      <p:cBhvr>
                                        <p:cTn id="889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4861E-006 -0.00483 L -0.13617 0.03593 E">
                                      <p:cBhvr>
                                        <p:cTn id="891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272E-006 -2.18487E-006 L -0.06786 -0.26722 E">
                                      <p:cBhvr>
                                        <p:cTn id="893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755640" y="3348360"/>
            <a:ext cx="8683560" cy="974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  <a:ea typeface="宋体"/>
              </a:rPr>
              <a:t>Thank you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3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7FF-76C3-422F-B49B-F26F0852D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2517840" y="251928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211640" y="2305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1712880" y="2467080"/>
            <a:ext cx="158760" cy="2347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517840" y="324180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211640" y="3025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1712880" y="3206880"/>
            <a:ext cx="158760" cy="23472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2517840" y="395280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211640" y="3745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1712880" y="3936960"/>
            <a:ext cx="158760" cy="235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3311640" y="179280"/>
            <a:ext cx="38401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目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2517840" y="180036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492360" y="1584360"/>
            <a:ext cx="32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1712880" y="1763640"/>
            <a:ext cx="158760" cy="235080"/>
          </a:xfrm>
          <a:prstGeom prst="ellipse">
            <a:avLst/>
          </a:prstGeom>
          <a:solidFill>
            <a:srgbClr val="00808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2517840" y="467820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211640" y="446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1712880" y="4643280"/>
            <a:ext cx="158760" cy="23508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2517840" y="539892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4211640" y="518472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1712880" y="5346720"/>
            <a:ext cx="158760" cy="2350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2521080" y="6113520"/>
            <a:ext cx="5398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83d8b9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564000" y="5904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1712880" y="6066000"/>
            <a:ext cx="158760" cy="234720"/>
          </a:xfrm>
          <a:prstGeom prst="ellipse">
            <a:avLst/>
          </a:prstGeom>
          <a:solidFill>
            <a:srgbClr val="008080"/>
          </a:soli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2087640" y="3203640"/>
            <a:ext cx="6489720" cy="1297800"/>
            <a:chOff x="2087640" y="3203640"/>
            <a:chExt cx="6489720" cy="1297800"/>
          </a:xfrm>
        </p:grpSpPr>
        <p:grpSp>
          <p:nvGrpSpPr>
            <p:cNvPr id="76" name="Group 3"/>
            <p:cNvGrpSpPr/>
            <p:nvPr/>
          </p:nvGrpSpPr>
          <p:grpSpPr>
            <a:xfrm>
              <a:off x="2087640" y="3680280"/>
              <a:ext cx="6489720" cy="821160"/>
              <a:chOff x="2087640" y="3680280"/>
              <a:chExt cx="6489720" cy="821160"/>
            </a:xfrm>
          </p:grpSpPr>
          <p:sp>
            <p:nvSpPr>
              <p:cNvPr id="77" name="AutoShape 28"/>
              <p:cNvSpPr/>
              <p:nvPr/>
            </p:nvSpPr>
            <p:spPr>
              <a:xfrm>
                <a:off x="2147760" y="3680280"/>
                <a:ext cx="6356520" cy="52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7640" y="4221000"/>
                <a:ext cx="6489720" cy="28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Group 6"/>
            <p:cNvGrpSpPr/>
            <p:nvPr/>
          </p:nvGrpSpPr>
          <p:grpSpPr>
            <a:xfrm>
              <a:off x="2632320" y="3203640"/>
              <a:ext cx="764640" cy="876600"/>
              <a:chOff x="2632320" y="3203640"/>
              <a:chExt cx="764640" cy="876600"/>
            </a:xfrm>
          </p:grpSpPr>
          <p:sp>
            <p:nvSpPr>
              <p:cNvPr id="80" name="Oval 31"/>
              <p:cNvSpPr/>
              <p:nvPr/>
            </p:nvSpPr>
            <p:spPr>
              <a:xfrm>
                <a:off x="2632320" y="3203640"/>
                <a:ext cx="749160" cy="75276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3400" y="3206880"/>
                <a:ext cx="763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Oval 33"/>
              <p:cNvSpPr/>
              <p:nvPr/>
            </p:nvSpPr>
            <p:spPr>
              <a:xfrm>
                <a:off x="2743200" y="398196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10"/>
          <p:cNvGrpSpPr/>
          <p:nvPr/>
        </p:nvGrpSpPr>
        <p:grpSpPr>
          <a:xfrm>
            <a:off x="3744360" y="2916360"/>
            <a:ext cx="3888360" cy="1152000"/>
            <a:chOff x="3744360" y="2916360"/>
            <a:chExt cx="3888360" cy="1152000"/>
          </a:xfrm>
        </p:grpSpPr>
        <p:sp>
          <p:nvSpPr>
            <p:cNvPr id="84" name="WordArt 32"/>
            <p:cNvSpPr txBox="1"/>
            <p:nvPr/>
          </p:nvSpPr>
          <p:spPr>
            <a:xfrm>
              <a:off x="3745080" y="2916360"/>
              <a:ext cx="3887640" cy="79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0186" dir="4303641" blurRad="0" rotWithShape="0">
                      <a:srgbClr val="4d4d4d">
                        <a:alpha val="77000"/>
                      </a:srgbClr>
                    </a:outerShdw>
                  </a:effectLst>
                  <a:latin typeface="黑体"/>
                </a:rPr>
                <a:t>TEXT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85" name="WordArt 33"/>
            <p:cNvSpPr txBox="1"/>
            <p:nvPr/>
          </p:nvSpPr>
          <p:spPr>
            <a:xfrm rot="10800000">
              <a:off x="3744000" y="3684240"/>
              <a:ext cx="3887640" cy="38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777777">
                          <a:alpha val="20000"/>
                        </a:srgbClr>
                      </a:gs>
                      <a:gs pos="100000">
                        <a:srgbClr val="333333"/>
                      </a:gs>
                    </a:gsLst>
                    <a:lin ang="2700000"/>
                  </a:gra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黑体"/>
                </a:rPr>
                <a:t>TEXT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777777">
                        <a:alpha val="20000"/>
                      </a:srgbClr>
                    </a:gs>
                    <a:gs pos="100000">
                      <a:srgbClr val="333333"/>
                    </a:gs>
                  </a:gsLst>
                  <a:lin ang="27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4210200" y="719280"/>
            <a:ext cx="1890720" cy="883800"/>
            <a:chOff x="-4210200" y="719280"/>
            <a:chExt cx="1890720" cy="883800"/>
          </a:xfrm>
        </p:grpSpPr>
        <p:sp>
          <p:nvSpPr>
            <p:cNvPr id="87" name="Freeform 2"/>
            <p:cNvSpPr/>
            <p:nvPr/>
          </p:nvSpPr>
          <p:spPr>
            <a:xfrm>
              <a:off x="-4208760" y="719280"/>
              <a:ext cx="1889280" cy="693720"/>
            </a:xfrm>
            <a:custGeom>
              <a:avLst/>
              <a:gdLst/>
              <a:ahLst/>
              <a:rect l="l" t="t" r="r" b="b"/>
              <a:pathLst>
                <a:path w="5251" h="1931">
                  <a:moveTo>
                    <a:pt x="0" y="540"/>
                  </a:moveTo>
                  <a:lnTo>
                    <a:pt x="1475" y="0"/>
                  </a:lnTo>
                  <a:lnTo>
                    <a:pt x="5250" y="1040"/>
                  </a:lnTo>
                  <a:lnTo>
                    <a:pt x="2970" y="1930"/>
                  </a:lnTo>
                  <a:lnTo>
                    <a:pt x="0" y="54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-4210200" y="910800"/>
              <a:ext cx="1070640" cy="692280"/>
            </a:xfrm>
            <a:custGeom>
              <a:avLst/>
              <a:gdLst/>
              <a:ahLst/>
              <a:rect l="l" t="t" r="r" b="b"/>
              <a:pathLst>
                <a:path w="2976" h="1925">
                  <a:moveTo>
                    <a:pt x="0" y="519"/>
                  </a:moveTo>
                  <a:lnTo>
                    <a:pt x="1" y="0"/>
                  </a:lnTo>
                  <a:lnTo>
                    <a:pt x="2975" y="1394"/>
                  </a:lnTo>
                  <a:lnTo>
                    <a:pt x="2975" y="1924"/>
                  </a:lnTo>
                  <a:lnTo>
                    <a:pt x="0" y="519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-3142440" y="1092960"/>
              <a:ext cx="818280" cy="510120"/>
            </a:xfrm>
            <a:custGeom>
              <a:avLst/>
              <a:gdLst/>
              <a:ahLst/>
              <a:rect l="l" t="t" r="r" b="b"/>
              <a:pathLst>
                <a:path w="2276" h="1421">
                  <a:moveTo>
                    <a:pt x="0" y="1420"/>
                  </a:moveTo>
                  <a:lnTo>
                    <a:pt x="0" y="890"/>
                  </a:lnTo>
                  <a:lnTo>
                    <a:pt x="2275" y="0"/>
                  </a:lnTo>
                  <a:lnTo>
                    <a:pt x="2275" y="465"/>
                  </a:lnTo>
                  <a:lnTo>
                    <a:pt x="0" y="142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-3705120" y="863640"/>
            <a:ext cx="2020680" cy="996480"/>
            <a:chOff x="-3705120" y="863640"/>
            <a:chExt cx="2020680" cy="996480"/>
          </a:xfrm>
        </p:grpSpPr>
        <p:sp>
          <p:nvSpPr>
            <p:cNvPr id="91" name="Freeform 10"/>
            <p:cNvSpPr/>
            <p:nvPr/>
          </p:nvSpPr>
          <p:spPr>
            <a:xfrm>
              <a:off x="-3705120" y="863640"/>
              <a:ext cx="2020680" cy="803160"/>
            </a:xfrm>
            <a:custGeom>
              <a:avLst/>
              <a:gdLst/>
              <a:ahLst/>
              <a:rect l="l" t="t" r="r" b="b"/>
              <a:pathLst>
                <a:path w="5621" h="2236">
                  <a:moveTo>
                    <a:pt x="0" y="910"/>
                  </a:moveTo>
                  <a:lnTo>
                    <a:pt x="2255" y="0"/>
                  </a:lnTo>
                  <a:lnTo>
                    <a:pt x="5620" y="1000"/>
                  </a:lnTo>
                  <a:lnTo>
                    <a:pt x="2905" y="2235"/>
                  </a:lnTo>
                  <a:lnTo>
                    <a:pt x="0" y="91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-3705120" y="1189800"/>
              <a:ext cx="1047600" cy="670320"/>
            </a:xfrm>
            <a:custGeom>
              <a:avLst/>
              <a:gdLst/>
              <a:ahLst/>
              <a:rect l="l" t="t" r="r" b="b"/>
              <a:pathLst>
                <a:path w="2916" h="1866">
                  <a:moveTo>
                    <a:pt x="0" y="505"/>
                  </a:moveTo>
                  <a:lnTo>
                    <a:pt x="0" y="0"/>
                  </a:lnTo>
                  <a:lnTo>
                    <a:pt x="2910" y="1325"/>
                  </a:lnTo>
                  <a:lnTo>
                    <a:pt x="2915" y="1865"/>
                  </a:lnTo>
                  <a:lnTo>
                    <a:pt x="0" y="505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-2660400" y="1223280"/>
              <a:ext cx="974520" cy="636840"/>
            </a:xfrm>
            <a:custGeom>
              <a:avLst/>
              <a:gdLst/>
              <a:ahLst/>
              <a:rect l="l" t="t" r="r" b="b"/>
              <a:pathLst>
                <a:path w="2711" h="1771">
                  <a:moveTo>
                    <a:pt x="10" y="1770"/>
                  </a:moveTo>
                  <a:lnTo>
                    <a:pt x="0" y="1235"/>
                  </a:lnTo>
                  <a:lnTo>
                    <a:pt x="2710" y="0"/>
                  </a:lnTo>
                  <a:lnTo>
                    <a:pt x="2705" y="465"/>
                  </a:lnTo>
                  <a:lnTo>
                    <a:pt x="10" y="177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-3236760" y="1116000"/>
            <a:ext cx="2355840" cy="1158480"/>
            <a:chOff x="-3236760" y="1116000"/>
            <a:chExt cx="2355840" cy="1158480"/>
          </a:xfrm>
        </p:grpSpPr>
        <p:sp>
          <p:nvSpPr>
            <p:cNvPr id="95" name="Freeform 14"/>
            <p:cNvSpPr/>
            <p:nvPr/>
          </p:nvSpPr>
          <p:spPr>
            <a:xfrm>
              <a:off x="-3236760" y="1116000"/>
              <a:ext cx="2355840" cy="950760"/>
            </a:xfrm>
            <a:custGeom>
              <a:avLst/>
              <a:gdLst/>
              <a:ahLst/>
              <a:rect l="l" t="t" r="r" b="b"/>
              <a:pathLst>
                <a:path w="6551" h="2646">
                  <a:moveTo>
                    <a:pt x="0" y="1170"/>
                  </a:moveTo>
                  <a:lnTo>
                    <a:pt x="3170" y="0"/>
                  </a:lnTo>
                  <a:lnTo>
                    <a:pt x="6550" y="1130"/>
                  </a:lnTo>
                  <a:lnTo>
                    <a:pt x="3040" y="2645"/>
                  </a:lnTo>
                  <a:lnTo>
                    <a:pt x="0" y="1170"/>
                  </a:lnTo>
                </a:path>
              </a:pathLst>
            </a:custGeom>
            <a:gradFill rotWithShape="0">
              <a:gsLst>
                <a:gs pos="0">
                  <a:srgbClr val="5800da"/>
                </a:gs>
                <a:gs pos="100000">
                  <a:srgbClr val="c9c9ff"/>
                </a:gs>
              </a:gsLst>
              <a:lin ang="5400000"/>
            </a:gradFill>
            <a:ln w="28800">
              <a:solidFill>
                <a:srgbClr val="86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-2147760" y="1521720"/>
              <a:ext cx="1265040" cy="752760"/>
            </a:xfrm>
            <a:custGeom>
              <a:avLst/>
              <a:gdLst/>
              <a:ahLst/>
              <a:rect l="l" t="t" r="r" b="b"/>
              <a:pathLst>
                <a:path w="3517" h="2096">
                  <a:moveTo>
                    <a:pt x="0" y="2095"/>
                  </a:moveTo>
                  <a:lnTo>
                    <a:pt x="1" y="1505"/>
                  </a:lnTo>
                  <a:lnTo>
                    <a:pt x="3516" y="0"/>
                  </a:lnTo>
                  <a:lnTo>
                    <a:pt x="3515" y="515"/>
                  </a:lnTo>
                  <a:lnTo>
                    <a:pt x="0" y="2095"/>
                  </a:lnTo>
                </a:path>
              </a:pathLst>
            </a:custGeom>
            <a:gradFill rotWithShape="0">
              <a:gsLst>
                <a:gs pos="0">
                  <a:srgbClr val="5800da"/>
                </a:gs>
                <a:gs pos="100000">
                  <a:srgbClr val="c9c9ff"/>
                </a:gs>
              </a:gsLst>
              <a:lin ang="5400000"/>
            </a:gradFill>
            <a:ln w="28800">
              <a:solidFill>
                <a:srgbClr val="86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-3236760" y="1536120"/>
              <a:ext cx="1088640" cy="738360"/>
            </a:xfrm>
            <a:custGeom>
              <a:avLst/>
              <a:gdLst/>
              <a:ahLst/>
              <a:rect l="l" t="t" r="r" b="b"/>
              <a:pathLst>
                <a:path w="3031" h="2056">
                  <a:moveTo>
                    <a:pt x="0" y="545"/>
                  </a:moveTo>
                  <a:lnTo>
                    <a:pt x="0" y="0"/>
                  </a:lnTo>
                  <a:lnTo>
                    <a:pt x="3030" y="1475"/>
                  </a:lnTo>
                  <a:lnTo>
                    <a:pt x="3030" y="2055"/>
                  </a:lnTo>
                  <a:lnTo>
                    <a:pt x="0" y="545"/>
                  </a:lnTo>
                </a:path>
              </a:pathLst>
            </a:custGeom>
            <a:gradFill rotWithShape="0">
              <a:gsLst>
                <a:gs pos="0">
                  <a:srgbClr val="5800da"/>
                </a:gs>
                <a:gs pos="100000">
                  <a:srgbClr val="c9c9ff"/>
                </a:gs>
              </a:gsLst>
              <a:lin ang="5400000"/>
            </a:gradFill>
            <a:ln w="28800">
              <a:solidFill>
                <a:srgbClr val="86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-5686560" y="0"/>
            <a:ext cx="5446800" cy="2666520"/>
            <a:chOff x="-5686560" y="0"/>
            <a:chExt cx="5446800" cy="2666520"/>
          </a:xfrm>
        </p:grpSpPr>
        <p:sp>
          <p:nvSpPr>
            <p:cNvPr id="99" name="Freeform 18"/>
            <p:cNvSpPr/>
            <p:nvPr/>
          </p:nvSpPr>
          <p:spPr>
            <a:xfrm>
              <a:off x="-4406040" y="1234080"/>
              <a:ext cx="296280" cy="371160"/>
            </a:xfrm>
            <a:custGeom>
              <a:avLst/>
              <a:gdLst/>
              <a:ahLst/>
              <a:rect l="l" t="t" r="r" b="b"/>
              <a:pathLst>
                <a:path w="825" h="1031">
                  <a:moveTo>
                    <a:pt x="0" y="620"/>
                  </a:moveTo>
                  <a:lnTo>
                    <a:pt x="4" y="0"/>
                  </a:lnTo>
                  <a:lnTo>
                    <a:pt x="824" y="450"/>
                  </a:lnTo>
                  <a:lnTo>
                    <a:pt x="824" y="103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-5686560" y="0"/>
              <a:ext cx="5446800" cy="2246040"/>
            </a:xfrm>
            <a:custGeom>
              <a:avLst/>
              <a:gdLst/>
              <a:ahLst/>
              <a:rect l="l" t="t" r="r" b="b"/>
              <a:pathLst>
                <a:path w="15137" h="6246">
                  <a:moveTo>
                    <a:pt x="11581" y="0"/>
                  </a:moveTo>
                  <a:lnTo>
                    <a:pt x="15136" y="6245"/>
                  </a:lnTo>
                  <a:lnTo>
                    <a:pt x="0" y="6243"/>
                  </a:lnTo>
                  <a:lnTo>
                    <a:pt x="4381" y="3860"/>
                  </a:lnTo>
                  <a:lnTo>
                    <a:pt x="3556" y="3425"/>
                  </a:lnTo>
                  <a:lnTo>
                    <a:pt x="7721" y="1170"/>
                  </a:lnTo>
                  <a:lnTo>
                    <a:pt x="8631" y="1560"/>
                  </a:lnTo>
                  <a:lnTo>
                    <a:pt x="11581" y="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-5677200" y="2247840"/>
              <a:ext cx="5430960" cy="418680"/>
            </a:xfrm>
            <a:prstGeom prst="rect">
              <a:avLst/>
            </a:prstGeom>
            <a:gradFill rotWithShape="0">
              <a:gsLst>
                <a:gs pos="0">
                  <a:srgbClr val="9bdeff"/>
                </a:gs>
                <a:gs pos="100000">
                  <a:srgbClr val="3399ff"/>
                </a:gs>
              </a:gsLst>
              <a:lin ang="10800000"/>
            </a:gradFill>
            <a:ln w="288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1"/>
          <p:cNvSpPr/>
          <p:nvPr/>
        </p:nvSpPr>
        <p:spPr>
          <a:xfrm>
            <a:off x="3699000" y="1835280"/>
            <a:ext cx="1186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6553080" y="1979640"/>
            <a:ext cx="3095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宋体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0" y="4067280"/>
            <a:ext cx="2448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endCxn id="102" idx="1"/>
          </p:cNvCxnSpPr>
          <p:nvPr/>
        </p:nvCxnSpPr>
        <p:spPr>
          <a:xfrm flipV="1">
            <a:off x="2787480" y="2077200"/>
            <a:ext cx="9122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AutoShape 26"/>
          <p:cNvCxnSpPr>
            <a:stCxn id="104" idx="3"/>
          </p:cNvCxnSpPr>
          <p:nvPr/>
        </p:nvCxnSpPr>
        <p:spPr>
          <a:xfrm flipV="1">
            <a:off x="2448000" y="3830040"/>
            <a:ext cx="79128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AutoShape 28"/>
          <p:cNvCxnSpPr/>
          <p:nvPr/>
        </p:nvCxnSpPr>
        <p:spPr>
          <a:xfrm flipH="1">
            <a:off x="5687640" y="2339640"/>
            <a:ext cx="937440" cy="81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AutoShape 29"/>
          <p:cNvCxnSpPr>
            <a:endCxn id="109" idx="3"/>
          </p:cNvCxnSpPr>
          <p:nvPr/>
        </p:nvCxnSpPr>
        <p:spPr>
          <a:xfrm flipH="1">
            <a:off x="3449160" y="5370480"/>
            <a:ext cx="2160000" cy="89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Text Box 30"/>
          <p:cNvSpPr/>
          <p:nvPr/>
        </p:nvSpPr>
        <p:spPr>
          <a:xfrm>
            <a:off x="647640" y="6019920"/>
            <a:ext cx="2801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6"/>
          <p:cNvGrpSpPr/>
          <p:nvPr/>
        </p:nvGrpSpPr>
        <p:grpSpPr>
          <a:xfrm>
            <a:off x="4823640" y="2700360"/>
            <a:ext cx="792720" cy="1618560"/>
            <a:chOff x="4823640" y="2700360"/>
            <a:chExt cx="792720" cy="1618560"/>
          </a:xfrm>
        </p:grpSpPr>
        <p:sp>
          <p:nvSpPr>
            <p:cNvPr id="111" name="WordArt 32"/>
            <p:cNvSpPr txBox="1"/>
            <p:nvPr/>
          </p:nvSpPr>
          <p:spPr>
            <a:xfrm>
              <a:off x="4848120" y="2700360"/>
              <a:ext cx="768240" cy="134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19080">
                    <a:solidFill>
                      <a:srgbClr val="9682ff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3</a:t>
              </a:r>
              <a:endParaRPr b="1" lang="en-US" sz="1800" spc="1" strike="noStrike">
                <a:ln w="19080">
                  <a:solidFill>
                    <a:srgbClr val="9682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2" name="WordArt 33"/>
            <p:cNvSpPr txBox="1"/>
            <p:nvPr/>
          </p:nvSpPr>
          <p:spPr>
            <a:xfrm rot="10800000">
              <a:off x="4823280" y="4019040"/>
              <a:ext cx="767880" cy="2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9360">
                    <a:solidFill>
                      <a:srgbClr val="777777"/>
                    </a:solidFill>
                    <a:miter/>
                  </a:ln>
                  <a:gradFill rotWithShape="0">
                    <a:gsLst>
                      <a:gs pos="0">
                        <a:srgbClr val="c0c0c0">
                          <a:alpha val="20000"/>
                        </a:srgbClr>
                      </a:gs>
                      <a:gs pos="100000">
                        <a:srgbClr val="4d4d4d"/>
                      </a:gs>
                    </a:gsLst>
                    <a:lin ang="2700000"/>
                  </a:gra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3</a:t>
              </a:r>
              <a:endParaRPr b="0" lang="en-US" sz="1800" spc="-1" strike="noStrike">
                <a:ln w="9360">
                  <a:solidFill>
                    <a:srgbClr val="777777"/>
                  </a:solidFill>
                  <a:miter/>
                </a:ln>
                <a:gradFill rotWithShape="0">
                  <a:gsLst>
                    <a:gs pos="0">
                      <a:srgbClr val="c0c0c0">
                        <a:alpha val="20000"/>
                      </a:srgbClr>
                    </a:gs>
                    <a:gs pos="100000">
                      <a:srgbClr val="4d4d4d"/>
                    </a:gs>
                  </a:gsLst>
                  <a:lin ang="27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13" name="Text Box 34"/>
          <p:cNvSpPr/>
          <p:nvPr/>
        </p:nvSpPr>
        <p:spPr>
          <a:xfrm>
            <a:off x="2879640" y="23508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2195640" y="2700360"/>
            <a:ext cx="252360" cy="646920"/>
            <a:chOff x="2195640" y="2700360"/>
            <a:chExt cx="252360" cy="646920"/>
          </a:xfrm>
        </p:grpSpPr>
        <p:sp>
          <p:nvSpPr>
            <p:cNvPr id="115" name="WordArt 32"/>
            <p:cNvSpPr txBox="1"/>
            <p:nvPr/>
          </p:nvSpPr>
          <p:spPr>
            <a:xfrm>
              <a:off x="2203200" y="2700360"/>
              <a:ext cx="24480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333333"/>
                  </a:soli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solidFill>
                  <a:srgbClr val="333333"/>
                </a:soli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6" name="WordArt 33"/>
            <p:cNvSpPr txBox="1"/>
            <p:nvPr/>
          </p:nvSpPr>
          <p:spPr>
            <a:xfrm rot="10800000">
              <a:off x="2195640" y="3227400"/>
              <a:ext cx="244800" cy="11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969696">
                          <a:alpha val="20000"/>
                        </a:srgbClr>
                      </a:gs>
                      <a:gs pos="100000">
                        <a:srgbClr val="4d4d4d"/>
                      </a:gs>
                    </a:gsLst>
                    <a:lin ang="2700000"/>
                  </a:gra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69696">
                        <a:alpha val="20000"/>
                      </a:srgbClr>
                    </a:gs>
                    <a:gs pos="100000">
                      <a:srgbClr val="4d4d4d"/>
                    </a:gs>
                  </a:gsLst>
                  <a:lin ang="27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17" name="Group 33"/>
          <p:cNvGrpSpPr/>
          <p:nvPr/>
        </p:nvGrpSpPr>
        <p:grpSpPr>
          <a:xfrm>
            <a:off x="3455280" y="3132000"/>
            <a:ext cx="324720" cy="719280"/>
            <a:chOff x="3455280" y="3132000"/>
            <a:chExt cx="324720" cy="719280"/>
          </a:xfrm>
        </p:grpSpPr>
        <p:sp>
          <p:nvSpPr>
            <p:cNvPr id="118" name="WordArt 32"/>
            <p:cNvSpPr txBox="1"/>
            <p:nvPr/>
          </p:nvSpPr>
          <p:spPr>
            <a:xfrm>
              <a:off x="3465720" y="3132000"/>
              <a:ext cx="314280" cy="59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1c1c1c"/>
                  </a:soli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2</a:t>
              </a:r>
              <a:endParaRPr b="0" lang="en-US" sz="1800" spc="-1" strike="noStrike">
                <a:ln w="0">
                  <a:noFill/>
                </a:ln>
                <a:solidFill>
                  <a:srgbClr val="1c1c1c"/>
                </a:soli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9" name="WordArt 33"/>
            <p:cNvSpPr txBox="1"/>
            <p:nvPr/>
          </p:nvSpPr>
          <p:spPr>
            <a:xfrm rot="10800000">
              <a:off x="3454920" y="3718080"/>
              <a:ext cx="314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777777">
                          <a:alpha val="20000"/>
                        </a:srgbClr>
                      </a:gs>
                      <a:gs pos="100000">
                        <a:srgbClr val="292929"/>
                      </a:gs>
                    </a:gsLst>
                    <a:lin ang="2700000"/>
                  </a:gra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Arial Black"/>
                </a:rPr>
                <a:t>2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777777">
                        <a:alpha val="20000"/>
                      </a:srgbClr>
                    </a:gs>
                    <a:gs pos="100000">
                      <a:srgbClr val="292929"/>
                    </a:gs>
                  </a:gsLst>
                  <a:lin ang="27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0265E-006 -2.48531E-006 L 0.5564 0.30353 E">
                                      <p:cBhvr>
                                        <p:cTn id="6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5224E-006 -7.55668E-007 L 0.62838 0.33879 E">
                                      <p:cBhvr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7 -0.00021 L 0.68702 0.36134 E">
                                      <p:cBhvr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82 0.02351 L 0.94455 0.49014 E">
                                      <p:cBhvr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699 0.36125 L 0.71912 0.32326 E">
                                      <p:cBhvr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044720" y="2087640"/>
            <a:ext cx="1912320" cy="3605040"/>
            <a:chOff x="1044720" y="2087640"/>
            <a:chExt cx="1912320" cy="3605040"/>
          </a:xfrm>
        </p:grpSpPr>
        <p:sp>
          <p:nvSpPr>
            <p:cNvPr id="121" name="未知"/>
            <p:cNvSpPr/>
            <p:nvPr/>
          </p:nvSpPr>
          <p:spPr>
            <a:xfrm flipV="1">
              <a:off x="1337760" y="381636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ff964f"/>
            </a:solidFill>
            <a:ln w="0">
              <a:noFill/>
            </a:ln>
            <a:effectLst>
              <a:outerShdw dist="17819" dir="27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rot="16200000">
              <a:off x="1761840" y="2878560"/>
              <a:ext cx="478080" cy="1912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ff964f"/>
            </a:solidFill>
            <a:ln w="0">
              <a:noFill/>
            </a:ln>
            <a:effectLst>
              <a:outerShdw dist="17819" dir="27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1327320" y="208764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ff964f"/>
            </a:solidFill>
            <a:ln w="0">
              <a:noFill/>
            </a:ln>
            <a:effectLst>
              <a:outerShdw dist="17819" dir="27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6"/>
          <p:cNvSpPr/>
          <p:nvPr/>
        </p:nvSpPr>
        <p:spPr>
          <a:xfrm>
            <a:off x="3635280" y="3240000"/>
            <a:ext cx="545796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76d62">
                  <a:alpha val="0"/>
                </a:srgbClr>
              </a:gs>
              <a:gs pos="100000">
                <a:srgbClr val="99eb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672000" y="4751280"/>
            <a:ext cx="5422680" cy="131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a5876">
                  <a:alpha val="0"/>
                </a:srgbClr>
              </a:gs>
              <a:gs pos="100000">
                <a:srgbClr val="7db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635280" y="1763640"/>
            <a:ext cx="545796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e4776">
                  <a:alpha val="0"/>
                </a:srgbClr>
              </a:gs>
              <a:gs pos="100000">
                <a:srgbClr val="cc99ff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503600" y="3692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476600" y="5234040"/>
            <a:ext cx="376560" cy="347760"/>
          </a:xfrm>
          <a:prstGeom prst="rightArrow">
            <a:avLst>
              <a:gd name="adj1" fmla="val 50000"/>
              <a:gd name="adj2" fmla="val 45117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84520" y="2197080"/>
            <a:ext cx="376560" cy="344520"/>
          </a:xfrm>
          <a:prstGeom prst="rightArrow">
            <a:avLst>
              <a:gd name="adj1" fmla="val 50000"/>
              <a:gd name="adj2" fmla="val 45541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3024360" y="1727280"/>
            <a:ext cx="1664640" cy="4322160"/>
            <a:chOff x="3024360" y="1727280"/>
            <a:chExt cx="1664640" cy="4322160"/>
          </a:xfrm>
        </p:grpSpPr>
        <p:sp>
          <p:nvSpPr>
            <p:cNvPr id="131" name="AutoShape 13"/>
            <p:cNvSpPr/>
            <p:nvPr/>
          </p:nvSpPr>
          <p:spPr>
            <a:xfrm>
              <a:off x="3024360" y="1727280"/>
              <a:ext cx="1628280" cy="12981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66ff"/>
                </a:gs>
                <a:gs pos="100000">
                  <a:srgbClr val="6b47b2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095280" y="1800000"/>
              <a:ext cx="811080" cy="6487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0"/>
                  </a:srgbClr>
                </a:gs>
                <a:gs pos="50000">
                  <a:srgbClr val="e6e6ff"/>
                </a:gs>
                <a:gs pos="100000">
                  <a:srgbClr val="cc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>
              <a:off x="3060360" y="3239640"/>
              <a:ext cx="1628640" cy="1298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未知"/>
            <p:cNvGrpSpPr/>
            <p:nvPr/>
          </p:nvGrpSpPr>
          <p:grpSpPr>
            <a:xfrm>
              <a:off x="3108240" y="3303360"/>
              <a:ext cx="804240" cy="639360"/>
              <a:chOff x="3108240" y="3303360"/>
              <a:chExt cx="804240" cy="639360"/>
            </a:xfrm>
          </p:grpSpPr>
          <p:pic>
            <p:nvPicPr>
              <p:cNvPr id="13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8600" y="3305160"/>
                <a:ext cx="797760" cy="6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108240" y="3303360"/>
                <a:ext cx="804240" cy="6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AutoShape 17"/>
            <p:cNvSpPr/>
            <p:nvPr/>
          </p:nvSpPr>
          <p:spPr>
            <a:xfrm>
              <a:off x="3024360" y="4751280"/>
              <a:ext cx="1628280" cy="1298160"/>
            </a:xfrm>
            <a:prstGeom prst="roundRect">
              <a:avLst>
                <a:gd name="adj" fmla="val 11921"/>
              </a:avLst>
            </a:prstGeom>
            <a:solidFill>
              <a:srgbClr val="3399ff"/>
            </a:soli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未知"/>
            <p:cNvGrpSpPr/>
            <p:nvPr/>
          </p:nvGrpSpPr>
          <p:grpSpPr>
            <a:xfrm>
              <a:off x="3090600" y="4816080"/>
              <a:ext cx="804600" cy="639360"/>
              <a:chOff x="3090600" y="4816080"/>
              <a:chExt cx="804600" cy="639360"/>
            </a:xfrm>
          </p:grpSpPr>
          <p:pic>
            <p:nvPicPr>
              <p:cNvPr id="139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1680" y="4816800"/>
                <a:ext cx="798120" cy="6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090600" y="4816080"/>
                <a:ext cx="804600" cy="6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Text Box 19"/>
          <p:cNvSpPr/>
          <p:nvPr/>
        </p:nvSpPr>
        <p:spPr>
          <a:xfrm>
            <a:off x="4896000" y="2158920"/>
            <a:ext cx="39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4894200" y="338472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4894200" y="5040360"/>
            <a:ext cx="45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468360" y="2916360"/>
            <a:ext cx="1882800" cy="1879560"/>
            <a:chOff x="468360" y="2916360"/>
            <a:chExt cx="1882800" cy="1879560"/>
          </a:xfrm>
        </p:grpSpPr>
        <p:pic>
          <p:nvPicPr>
            <p:cNvPr id="145" name="Picture 23" descr="YG_circle001"/>
            <p:cNvPicPr/>
            <p:nvPr/>
          </p:nvPicPr>
          <p:blipFill>
            <a:blip r:embed="rId3"/>
            <a:stretch/>
          </p:blipFill>
          <p:spPr>
            <a:xfrm>
              <a:off x="468360" y="2916360"/>
              <a:ext cx="188280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4"/>
            <p:cNvSpPr/>
            <p:nvPr/>
          </p:nvSpPr>
          <p:spPr>
            <a:xfrm>
              <a:off x="936720" y="3419640"/>
              <a:ext cx="100800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25"/>
          <p:cNvSpPr/>
          <p:nvPr/>
        </p:nvSpPr>
        <p:spPr>
          <a:xfrm>
            <a:off x="3024360" y="212400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24360" y="363528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3024360" y="514836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2844720" y="25092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292929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7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700"/>
                            </p:stCondLst>
                            <p:childTnLst>
                              <p:par>
                                <p:cTn id="1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2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44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44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9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527280" y="3995640"/>
            <a:ext cx="3527640" cy="792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32000" y="3203640"/>
            <a:ext cx="3527640" cy="792000"/>
          </a:xfrm>
          <a:prstGeom prst="rect">
            <a:avLst/>
          </a:prstGeom>
          <a:gradFill rotWithShape="0">
            <a:gsLst>
              <a:gs pos="0">
                <a:srgbClr val="4400a8"/>
              </a:gs>
              <a:gs pos="100000">
                <a:srgbClr val="9966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3168720" y="2050920"/>
            <a:ext cx="3886200" cy="38862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4068720" y="2987640"/>
            <a:ext cx="2142360" cy="2129040"/>
            <a:chOff x="4068720" y="2987640"/>
            <a:chExt cx="2142360" cy="2129040"/>
          </a:xfrm>
        </p:grpSpPr>
        <p:sp>
          <p:nvSpPr>
            <p:cNvPr id="155" name="Rectangle 6"/>
            <p:cNvSpPr/>
            <p:nvPr/>
          </p:nvSpPr>
          <p:spPr>
            <a:xfrm>
              <a:off x="4286160" y="358452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7"/>
            <p:cNvGrpSpPr/>
            <p:nvPr/>
          </p:nvGrpSpPr>
          <p:grpSpPr>
            <a:xfrm>
              <a:off x="4103640" y="2987640"/>
              <a:ext cx="2091600" cy="2129040"/>
              <a:chOff x="4103640" y="2987640"/>
              <a:chExt cx="2091600" cy="2129040"/>
            </a:xfrm>
          </p:grpSpPr>
          <p:pic>
            <p:nvPicPr>
              <p:cNvPr id="157" name="Picture 8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4103640" y="2987640"/>
                <a:ext cx="2004840" cy="202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Oval 9"/>
              <p:cNvSpPr/>
              <p:nvPr/>
            </p:nvSpPr>
            <p:spPr>
              <a:xfrm>
                <a:off x="4103640" y="2987640"/>
                <a:ext cx="2017440" cy="2029320"/>
              </a:xfrm>
              <a:prstGeom prst="ellipse">
                <a:avLst/>
              </a:prstGeom>
              <a:solidFill>
                <a:srgbClr val="ffc800">
                  <a:alpha val="50000"/>
                </a:srgbClr>
              </a:solidFill>
              <a:ln w="1908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9" name="Picture 10" descr="light_shadow1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4123080" y="3071880"/>
                <a:ext cx="1477800" cy="1266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0" name="Group 11"/>
              <p:cNvGrpSpPr/>
              <p:nvPr/>
            </p:nvGrpSpPr>
            <p:grpSpPr>
              <a:xfrm>
                <a:off x="4758480" y="3805200"/>
                <a:ext cx="1436760" cy="1311480"/>
                <a:chOff x="4758480" y="3805200"/>
                <a:chExt cx="1436760" cy="1311480"/>
              </a:xfrm>
            </p:grpSpPr>
            <p:grpSp>
              <p:nvGrpSpPr>
                <p:cNvPr id="161" name="Group 12"/>
                <p:cNvGrpSpPr/>
                <p:nvPr/>
              </p:nvGrpSpPr>
              <p:grpSpPr>
                <a:xfrm>
                  <a:off x="5089680" y="3805200"/>
                  <a:ext cx="1105560" cy="1298160"/>
                  <a:chOff x="5089680" y="3805200"/>
                  <a:chExt cx="1105560" cy="1298160"/>
                </a:xfrm>
              </p:grpSpPr>
              <p:sp>
                <p:nvSpPr>
                  <p:cNvPr id="162" name="AutoShape 13"/>
                  <p:cNvSpPr/>
                  <p:nvPr/>
                </p:nvSpPr>
                <p:spPr>
                  <a:xfrm flipH="1" flipV="1" rot="1528800">
                    <a:off x="5705640" y="3808440"/>
                    <a:ext cx="262080" cy="10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4"/>
                  <p:cNvSpPr/>
                  <p:nvPr/>
                </p:nvSpPr>
                <p:spPr>
                  <a:xfrm flipH="1" flipV="1" rot="2344200">
                    <a:off x="5622120" y="3967920"/>
                    <a:ext cx="262080" cy="10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5"/>
                  <p:cNvSpPr/>
                  <p:nvPr/>
                </p:nvSpPr>
                <p:spPr>
                  <a:xfrm flipH="1" flipV="1" rot="2640000">
                    <a:off x="5552640" y="4045320"/>
                    <a:ext cx="262080" cy="10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16"/>
                  <p:cNvSpPr/>
                  <p:nvPr/>
                </p:nvSpPr>
                <p:spPr>
                  <a:xfrm flipH="1" flipV="1" rot="3172200">
                    <a:off x="5467320" y="4134240"/>
                    <a:ext cx="261720" cy="10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17"/>
                <p:cNvGrpSpPr/>
                <p:nvPr/>
              </p:nvGrpSpPr>
              <p:grpSpPr>
                <a:xfrm>
                  <a:off x="4758480" y="4162320"/>
                  <a:ext cx="1388520" cy="954360"/>
                  <a:chOff x="4758480" y="4162320"/>
                  <a:chExt cx="1388520" cy="954360"/>
                </a:xfrm>
              </p:grpSpPr>
              <p:sp>
                <p:nvSpPr>
                  <p:cNvPr id="167" name="AutoShape 18"/>
                  <p:cNvSpPr/>
                  <p:nvPr/>
                </p:nvSpPr>
                <p:spPr>
                  <a:xfrm flipH="1" flipV="1" rot="2881800">
                    <a:off x="5525640" y="4081680"/>
                    <a:ext cx="263520" cy="10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9"/>
                  <p:cNvSpPr/>
                  <p:nvPr/>
                </p:nvSpPr>
                <p:spPr>
                  <a:xfrm flipH="1" flipV="1" rot="3697200">
                    <a:off x="5388120" y="4196880"/>
                    <a:ext cx="263520" cy="10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20"/>
                  <p:cNvSpPr/>
                  <p:nvPr/>
                </p:nvSpPr>
                <p:spPr>
                  <a:xfrm flipH="1" flipV="1" rot="3993000">
                    <a:off x="5294160" y="4242240"/>
                    <a:ext cx="263520" cy="10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21"/>
                  <p:cNvSpPr/>
                  <p:nvPr/>
                </p:nvSpPr>
                <p:spPr>
                  <a:xfrm flipH="1" flipV="1" rot="4525200">
                    <a:off x="5181480" y="4290480"/>
                    <a:ext cx="263520" cy="10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1" name="Group 22"/>
            <p:cNvGrpSpPr/>
            <p:nvPr/>
          </p:nvGrpSpPr>
          <p:grpSpPr>
            <a:xfrm>
              <a:off x="4947480" y="3866040"/>
              <a:ext cx="1263600" cy="1152720"/>
              <a:chOff x="4947480" y="3866040"/>
              <a:chExt cx="1263600" cy="1152720"/>
            </a:xfrm>
          </p:grpSpPr>
          <p:grpSp>
            <p:nvGrpSpPr>
              <p:cNvPr id="172" name="Group 23"/>
              <p:cNvGrpSpPr/>
              <p:nvPr/>
            </p:nvGrpSpPr>
            <p:grpSpPr>
              <a:xfrm>
                <a:off x="5238360" y="3866040"/>
                <a:ext cx="972720" cy="1141920"/>
                <a:chOff x="5238360" y="3866040"/>
                <a:chExt cx="972720" cy="1141920"/>
              </a:xfrm>
            </p:grpSpPr>
            <p:sp>
              <p:nvSpPr>
                <p:cNvPr id="173" name="AutoShape 24"/>
                <p:cNvSpPr/>
                <p:nvPr/>
              </p:nvSpPr>
              <p:spPr>
                <a:xfrm flipH="1" flipV="1" rot="1528800">
                  <a:off x="5780880" y="3868920"/>
                  <a:ext cx="230040" cy="94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25"/>
                <p:cNvSpPr/>
                <p:nvPr/>
              </p:nvSpPr>
              <p:spPr>
                <a:xfrm flipH="1" flipV="1" rot="2344200">
                  <a:off x="5707440" y="4009320"/>
                  <a:ext cx="230040" cy="94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26"/>
                <p:cNvSpPr/>
                <p:nvPr/>
              </p:nvSpPr>
              <p:spPr>
                <a:xfrm flipH="1" flipV="1" rot="2640000">
                  <a:off x="5645880" y="4077000"/>
                  <a:ext cx="230040" cy="94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27"/>
                <p:cNvSpPr/>
                <p:nvPr/>
              </p:nvSpPr>
              <p:spPr>
                <a:xfrm flipH="1" flipV="1" rot="3172200">
                  <a:off x="5570280" y="4155840"/>
                  <a:ext cx="230040" cy="94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28"/>
              <p:cNvGrpSpPr/>
              <p:nvPr/>
            </p:nvGrpSpPr>
            <p:grpSpPr>
              <a:xfrm>
                <a:off x="4947480" y="4181040"/>
                <a:ext cx="1221480" cy="837720"/>
                <a:chOff x="4947480" y="4181040"/>
                <a:chExt cx="1221480" cy="837720"/>
              </a:xfrm>
            </p:grpSpPr>
            <p:sp>
              <p:nvSpPr>
                <p:cNvPr id="178" name="AutoShape 29"/>
                <p:cNvSpPr/>
                <p:nvPr/>
              </p:nvSpPr>
              <p:spPr>
                <a:xfrm flipH="1" flipV="1" rot="2881800">
                  <a:off x="5623560" y="4109400"/>
                  <a:ext cx="231120" cy="94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30"/>
                <p:cNvSpPr/>
                <p:nvPr/>
              </p:nvSpPr>
              <p:spPr>
                <a:xfrm flipH="1" flipV="1" rot="3697200">
                  <a:off x="5501880" y="4210920"/>
                  <a:ext cx="231120" cy="94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31"/>
                <p:cNvSpPr/>
                <p:nvPr/>
              </p:nvSpPr>
              <p:spPr>
                <a:xfrm flipH="1" flipV="1" rot="3993000">
                  <a:off x="5419440" y="4249800"/>
                  <a:ext cx="231120" cy="94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32"/>
                <p:cNvSpPr/>
                <p:nvPr/>
              </p:nvSpPr>
              <p:spPr>
                <a:xfrm flipH="1" flipV="1" rot="4525200">
                  <a:off x="5320080" y="4293000"/>
                  <a:ext cx="231120" cy="94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Rectangle 33"/>
            <p:cNvSpPr/>
            <p:nvPr/>
          </p:nvSpPr>
          <p:spPr>
            <a:xfrm>
              <a:off x="4068720" y="3600360"/>
              <a:ext cx="21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EX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34"/>
          <p:cNvSpPr/>
          <p:nvPr/>
        </p:nvSpPr>
        <p:spPr>
          <a:xfrm>
            <a:off x="3311640" y="2195640"/>
            <a:ext cx="3598920" cy="35985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598560"/>
              <a:gd name="textAreaBottom" fmla="*/ 1286640 h 3598560"/>
            </a:gdLst>
            <a:ahLst/>
            <a:rect l="textAreaLeft" t="textAreaTop" r="textAreaRight" b="textAreaBottom"/>
            <a:pathLst>
              <a:path w="21600" h="10809">
                <a:moveTo>
                  <a:pt x="4812" y="10805"/>
                </a:moveTo>
                <a:cubicBezTo>
                  <a:pt x="4812" y="10803"/>
                  <a:pt x="4812" y="10801"/>
                  <a:pt x="4812" y="10800"/>
                </a:cubicBezTo>
                <a:cubicBezTo>
                  <a:pt x="4812" y="7492"/>
                  <a:pt x="7492" y="4812"/>
                  <a:pt x="10800" y="4812"/>
                </a:cubicBezTo>
                <a:cubicBezTo>
                  <a:pt x="14107" y="4812"/>
                  <a:pt x="16788" y="7492"/>
                  <a:pt x="16788" y="10800"/>
                </a:cubicBezTo>
                <a:cubicBezTo>
                  <a:pt x="16788" y="10801"/>
                  <a:pt x="16787" y="10803"/>
                  <a:pt x="16787" y="10805"/>
                </a:cubicBezTo>
                <a:lnTo>
                  <a:pt x="21599" y="10809"/>
                </a:lnTo>
                <a:cubicBezTo>
                  <a:pt x="21599" y="10806"/>
                  <a:pt x="21600" y="1080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03"/>
                  <a:pt x="0" y="10806"/>
                  <a:pt x="0" y="10809"/>
                </a:cubicBezTo>
                <a:lnTo>
                  <a:pt x="4812" y="1080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5"/>
          <p:cNvSpPr/>
          <p:nvPr/>
        </p:nvSpPr>
        <p:spPr>
          <a:xfrm rot="10800000">
            <a:off x="3311280" y="2195640"/>
            <a:ext cx="3598920" cy="35985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598560"/>
              <a:gd name="textAreaBottom" fmla="*/ 1286640 h 3598560"/>
            </a:gdLst>
            <a:ahLst/>
            <a:rect l="textAreaLeft" t="textAreaTop" r="textAreaRight" b="textAreaBottom"/>
            <a:pathLst>
              <a:path w="21600" h="10809">
                <a:moveTo>
                  <a:pt x="4812" y="10805"/>
                </a:moveTo>
                <a:cubicBezTo>
                  <a:pt x="4812" y="10803"/>
                  <a:pt x="4812" y="10801"/>
                  <a:pt x="4812" y="10800"/>
                </a:cubicBezTo>
                <a:cubicBezTo>
                  <a:pt x="4812" y="7492"/>
                  <a:pt x="7492" y="4812"/>
                  <a:pt x="10800" y="4812"/>
                </a:cubicBezTo>
                <a:cubicBezTo>
                  <a:pt x="14107" y="4812"/>
                  <a:pt x="16788" y="7492"/>
                  <a:pt x="16788" y="10800"/>
                </a:cubicBezTo>
                <a:cubicBezTo>
                  <a:pt x="16788" y="10801"/>
                  <a:pt x="16787" y="10803"/>
                  <a:pt x="16787" y="10805"/>
                </a:cubicBezTo>
                <a:lnTo>
                  <a:pt x="21599" y="10809"/>
                </a:lnTo>
                <a:cubicBezTo>
                  <a:pt x="21599" y="10806"/>
                  <a:pt x="21600" y="1080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03"/>
                  <a:pt x="0" y="10806"/>
                  <a:pt x="0" y="10809"/>
                </a:cubicBezTo>
                <a:lnTo>
                  <a:pt x="4812" y="1080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6"/>
          <p:cNvSpPr/>
          <p:nvPr/>
        </p:nvSpPr>
        <p:spPr>
          <a:xfrm>
            <a:off x="3672000" y="2556000"/>
            <a:ext cx="2879640" cy="2879640"/>
          </a:xfrm>
          <a:custGeom>
            <a:avLst/>
            <a:gdLst>
              <a:gd name="textAreaLeft" fmla="*/ 421560 w 2879640"/>
              <a:gd name="textAreaRight" fmla="*/ 2458080 w 2879640"/>
              <a:gd name="textAreaTop" fmla="*/ 421560 h 2879640"/>
              <a:gd name="textAreaBottom" fmla="*/ 24580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251" y="10800"/>
                </a:moveTo>
                <a:cubicBezTo>
                  <a:pt x="3251" y="14969"/>
                  <a:pt x="6631" y="18349"/>
                  <a:pt x="10800" y="18349"/>
                </a:cubicBezTo>
                <a:cubicBezTo>
                  <a:pt x="14969" y="18349"/>
                  <a:pt x="18349" y="14969"/>
                  <a:pt x="18349" y="10800"/>
                </a:cubicBezTo>
                <a:cubicBezTo>
                  <a:pt x="18349" y="6631"/>
                  <a:pt x="14969" y="3251"/>
                  <a:pt x="10800" y="3251"/>
                </a:cubicBezTo>
                <a:cubicBezTo>
                  <a:pt x="6631" y="3251"/>
                  <a:pt x="3251" y="6631"/>
                  <a:pt x="3251" y="10800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1152360" y="3348000"/>
            <a:ext cx="9367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黑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8101080" y="4211640"/>
            <a:ext cx="1116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黑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204120" y="2089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宋体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2879640" y="23508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292929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6684480" y="5256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宋体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0624E-006 -6.21327E-007 L -0.3108 0.00021 E">
                                      <p:cBhvr>
                                        <p:cTn id="226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4102E-006 -4.53401E-006 L 0.30734 0.00021 E">
                                      <p:cBhvr>
                                        <p:cTn id="228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2016000" y="3274920"/>
            <a:ext cx="6489720" cy="1297800"/>
            <a:chOff x="2016000" y="3274920"/>
            <a:chExt cx="6489720" cy="1297800"/>
          </a:xfrm>
        </p:grpSpPr>
        <p:grpSp>
          <p:nvGrpSpPr>
            <p:cNvPr id="192" name="Group 3"/>
            <p:cNvGrpSpPr/>
            <p:nvPr/>
          </p:nvGrpSpPr>
          <p:grpSpPr>
            <a:xfrm>
              <a:off x="2016000" y="3751560"/>
              <a:ext cx="6489720" cy="821160"/>
              <a:chOff x="2016000" y="3751560"/>
              <a:chExt cx="6489720" cy="821160"/>
            </a:xfrm>
          </p:grpSpPr>
          <p:sp>
            <p:nvSpPr>
              <p:cNvPr id="193" name="AutoShape 28"/>
              <p:cNvSpPr/>
              <p:nvPr/>
            </p:nvSpPr>
            <p:spPr>
              <a:xfrm>
                <a:off x="2076120" y="3751560"/>
                <a:ext cx="6356520" cy="52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2016000" y="4292280"/>
                <a:ext cx="6489720" cy="28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Group 6"/>
            <p:cNvGrpSpPr/>
            <p:nvPr/>
          </p:nvGrpSpPr>
          <p:grpSpPr>
            <a:xfrm>
              <a:off x="2560680" y="3274920"/>
              <a:ext cx="764640" cy="876600"/>
              <a:chOff x="2560680" y="3274920"/>
              <a:chExt cx="764640" cy="876600"/>
            </a:xfrm>
          </p:grpSpPr>
          <p:sp>
            <p:nvSpPr>
              <p:cNvPr id="196" name="Oval 31"/>
              <p:cNvSpPr/>
              <p:nvPr/>
            </p:nvSpPr>
            <p:spPr>
              <a:xfrm>
                <a:off x="2560680" y="3274920"/>
                <a:ext cx="749160" cy="75276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61760" y="3278160"/>
                <a:ext cx="763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33"/>
              <p:cNvSpPr/>
              <p:nvPr/>
            </p:nvSpPr>
            <p:spPr>
              <a:xfrm>
                <a:off x="2671560" y="405324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Group 10"/>
          <p:cNvGrpSpPr/>
          <p:nvPr/>
        </p:nvGrpSpPr>
        <p:grpSpPr>
          <a:xfrm>
            <a:off x="4103640" y="2987640"/>
            <a:ext cx="2664000" cy="1152000"/>
            <a:chOff x="4103640" y="2987640"/>
            <a:chExt cx="2664000" cy="1152000"/>
          </a:xfrm>
        </p:grpSpPr>
        <p:sp>
          <p:nvSpPr>
            <p:cNvPr id="200" name="WordArt 32"/>
            <p:cNvSpPr txBox="1"/>
            <p:nvPr/>
          </p:nvSpPr>
          <p:spPr>
            <a:xfrm>
              <a:off x="4103640" y="2987640"/>
              <a:ext cx="266400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0186" dir="4303641" blurRad="0" rotWithShape="0">
                      <a:srgbClr val="4d4d4d">
                        <a:alpha val="77000"/>
                      </a:srgbClr>
                    </a:outerShdw>
                  </a:effectLst>
                  <a:latin typeface="黑体"/>
                </a:rPr>
                <a:t>TEXT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01" name="WordArt 33"/>
            <p:cNvSpPr txBox="1"/>
            <p:nvPr/>
          </p:nvSpPr>
          <p:spPr>
            <a:xfrm rot="10800000">
              <a:off x="4103640" y="3755520"/>
              <a:ext cx="2664000" cy="38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969696">
                          <a:alpha val="20000"/>
                        </a:srgbClr>
                      </a:gs>
                      <a:gs pos="100000">
                        <a:srgbClr val="4d4d4d"/>
                      </a:gs>
                    </a:gsLst>
                    <a:lin ang="2700000"/>
                  </a:gradFill>
                  <a:effectLst>
                    <a:outerShdw dist="38183" dir="2700000" blurRad="0" rotWithShape="0">
                      <a:srgbClr val="000000">
                        <a:alpha val="42000"/>
                      </a:srgbClr>
                    </a:outerShdw>
                  </a:effectLst>
                  <a:latin typeface="黑体"/>
                </a:rPr>
                <a:t>TEXT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69696">
                        <a:alpha val="20000"/>
                      </a:srgbClr>
                    </a:gs>
                    <a:gs pos="100000">
                      <a:srgbClr val="4d4d4d"/>
                    </a:gs>
                  </a:gsLst>
                  <a:lin ang="27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900000" y="1619280"/>
            <a:ext cx="3894120" cy="21924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95640" y="2016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黑体"/>
              </a:rPr>
              <a:t>T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184720" y="1619280"/>
            <a:ext cx="4037040" cy="2192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292720" y="2016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900000" y="4427640"/>
            <a:ext cx="3894120" cy="2192400"/>
          </a:xfrm>
          <a:prstGeom prst="rect">
            <a:avLst/>
          </a:prstGeom>
          <a:gradFill rotWithShape="0">
            <a:gsLst>
              <a:gs pos="0">
                <a:srgbClr val="165a58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203640" y="6012000"/>
            <a:ext cx="12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211720" y="4435560"/>
            <a:ext cx="4041720" cy="2178000"/>
          </a:xfrm>
          <a:prstGeom prst="rect">
            <a:avLst/>
          </a:prstGeom>
          <a:gradFill rotWithShape="0">
            <a:gsLst>
              <a:gs pos="0">
                <a:srgbClr val="4400a8"/>
              </a:gs>
              <a:gs pos="100000">
                <a:srgbClr val="939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45080" y="601200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062000" y="45720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042920" y="1727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128000" y="180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7201080" y="4751280"/>
            <a:ext cx="18144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4"/>
          <p:cNvGrpSpPr/>
          <p:nvPr/>
        </p:nvGrpSpPr>
        <p:grpSpPr>
          <a:xfrm>
            <a:off x="4140360" y="3240000"/>
            <a:ext cx="1758600" cy="1864440"/>
            <a:chOff x="4140360" y="3240000"/>
            <a:chExt cx="1758600" cy="1864440"/>
          </a:xfrm>
        </p:grpSpPr>
        <p:pic>
          <p:nvPicPr>
            <p:cNvPr id="215" name="Picture 15" descr="circuler_1"/>
            <p:cNvPicPr/>
            <p:nvPr/>
          </p:nvPicPr>
          <p:blipFill>
            <a:blip r:embed="rId1"/>
            <a:stretch/>
          </p:blipFill>
          <p:spPr>
            <a:xfrm>
              <a:off x="4164840" y="3259800"/>
              <a:ext cx="1715040" cy="17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6" name="Oval 16"/>
            <p:cNvGrpSpPr/>
            <p:nvPr/>
          </p:nvGrpSpPr>
          <p:grpSpPr>
            <a:xfrm>
              <a:off x="4140360" y="3240000"/>
              <a:ext cx="1758600" cy="1820520"/>
              <a:chOff x="4140360" y="3240000"/>
              <a:chExt cx="1758600" cy="1820520"/>
            </a:xfrm>
          </p:grpSpPr>
          <p:pic>
            <p:nvPicPr>
              <p:cNvPr id="217" name="Oval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3240000"/>
                <a:ext cx="1758600" cy="18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4414320" y="3520080"/>
                <a:ext cx="12042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未知"/>
            <p:cNvSpPr/>
            <p:nvPr/>
          </p:nvSpPr>
          <p:spPr>
            <a:xfrm>
              <a:off x="4341960" y="3295440"/>
              <a:ext cx="1338120" cy="6145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8"/>
            <p:cNvGrpSpPr/>
            <p:nvPr/>
          </p:nvGrpSpPr>
          <p:grpSpPr>
            <a:xfrm>
              <a:off x="4282920" y="4500720"/>
              <a:ext cx="1512360" cy="603720"/>
              <a:chOff x="4282920" y="4500720"/>
              <a:chExt cx="1512360" cy="603720"/>
            </a:xfrm>
          </p:grpSpPr>
          <p:grpSp>
            <p:nvGrpSpPr>
              <p:cNvPr id="221" name="Group 19"/>
              <p:cNvGrpSpPr/>
              <p:nvPr/>
            </p:nvGrpSpPr>
            <p:grpSpPr>
              <a:xfrm>
                <a:off x="4549320" y="4500720"/>
                <a:ext cx="1245960" cy="575640"/>
                <a:chOff x="4549320" y="4500720"/>
                <a:chExt cx="1245960" cy="575640"/>
              </a:xfrm>
            </p:grpSpPr>
            <p:sp>
              <p:nvSpPr>
                <p:cNvPr id="222" name="AutoShape 20"/>
                <p:cNvSpPr/>
                <p:nvPr/>
              </p:nvSpPr>
              <p:spPr>
                <a:xfrm flipH="1" flipV="1" rot="3964800">
                  <a:off x="5221440" y="4336560"/>
                  <a:ext cx="228960" cy="90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21"/>
                <p:cNvSpPr/>
                <p:nvPr/>
              </p:nvSpPr>
              <p:spPr>
                <a:xfrm flipH="1" flipV="1" rot="4780200">
                  <a:off x="5081760" y="4392360"/>
                  <a:ext cx="228960" cy="90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22"/>
                <p:cNvSpPr/>
                <p:nvPr/>
              </p:nvSpPr>
              <p:spPr>
                <a:xfrm flipH="1" flipV="1" rot="5076000">
                  <a:off x="4996080" y="4403160"/>
                  <a:ext cx="228960" cy="90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23"/>
                <p:cNvSpPr/>
                <p:nvPr/>
              </p:nvSpPr>
              <p:spPr>
                <a:xfrm flipH="1" flipV="1" rot="5608200">
                  <a:off x="4891680" y="4411080"/>
                  <a:ext cx="228960" cy="90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4"/>
              <p:cNvGrpSpPr/>
              <p:nvPr/>
            </p:nvGrpSpPr>
            <p:grpSpPr>
              <a:xfrm>
                <a:off x="4282920" y="4502160"/>
                <a:ext cx="1242720" cy="602280"/>
                <a:chOff x="4282920" y="4502160"/>
                <a:chExt cx="1242720" cy="602280"/>
              </a:xfrm>
            </p:grpSpPr>
            <p:sp>
              <p:nvSpPr>
                <p:cNvPr id="227" name="AutoShape 25"/>
                <p:cNvSpPr/>
                <p:nvPr/>
              </p:nvSpPr>
              <p:spPr>
                <a:xfrm flipH="1" flipV="1" rot="5317800">
                  <a:off x="4956480" y="4410360"/>
                  <a:ext cx="230040" cy="90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26"/>
                <p:cNvSpPr/>
                <p:nvPr/>
              </p:nvSpPr>
              <p:spPr>
                <a:xfrm flipH="1" flipV="1" rot="6133800">
                  <a:off x="4806360" y="4407480"/>
                  <a:ext cx="229680" cy="90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27"/>
                <p:cNvSpPr/>
                <p:nvPr/>
              </p:nvSpPr>
              <p:spPr>
                <a:xfrm flipH="1" flipV="1" rot="6429000">
                  <a:off x="4722840" y="4383360"/>
                  <a:ext cx="230040" cy="90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28"/>
                <p:cNvSpPr/>
                <p:nvPr/>
              </p:nvSpPr>
              <p:spPr>
                <a:xfrm flipH="1" flipV="1" rot="6961200">
                  <a:off x="4623120" y="4351680"/>
                  <a:ext cx="230040" cy="90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1" name="WordArt 29"/>
          <p:cNvSpPr txBox="1"/>
          <p:nvPr/>
        </p:nvSpPr>
        <p:spPr>
          <a:xfrm>
            <a:off x="4427640" y="3419640"/>
            <a:ext cx="1190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goal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2" name="Picture 30" descr="232"/>
          <p:cNvPicPr/>
          <p:nvPr/>
        </p:nvPicPr>
        <p:blipFill>
          <a:blip r:embed="rId3"/>
          <a:stretch/>
        </p:blipFill>
        <p:spPr>
          <a:xfrm>
            <a:off x="3276720" y="4824360"/>
            <a:ext cx="1176120" cy="1028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1"/>
          <p:cNvGrpSpPr/>
          <p:nvPr/>
        </p:nvGrpSpPr>
        <p:grpSpPr>
          <a:xfrm>
            <a:off x="5412960" y="2777040"/>
            <a:ext cx="1255320" cy="718560"/>
            <a:chOff x="5412960" y="2777040"/>
            <a:chExt cx="1255320" cy="718560"/>
          </a:xfrm>
        </p:grpSpPr>
        <p:sp>
          <p:nvSpPr>
            <p:cNvPr id="234" name="AutoShape 32"/>
            <p:cNvSpPr/>
            <p:nvPr/>
          </p:nvSpPr>
          <p:spPr>
            <a:xfrm rot="838800">
              <a:off x="6464160" y="3108960"/>
              <a:ext cx="18432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33"/>
            <p:cNvSpPr/>
            <p:nvPr/>
          </p:nvSpPr>
          <p:spPr>
            <a:xfrm rot="838800">
              <a:off x="5874120" y="3291840"/>
              <a:ext cx="18396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6387840" y="3039120"/>
              <a:ext cx="110160" cy="11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 flipH="1">
              <a:off x="5991480" y="3164760"/>
              <a:ext cx="35640" cy="142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36"/>
            <p:cNvSpPr/>
            <p:nvPr/>
          </p:nvSpPr>
          <p:spPr>
            <a:xfrm rot="838800">
              <a:off x="6234480" y="2912400"/>
              <a:ext cx="18396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 flipV="1">
              <a:off x="6125760" y="3017880"/>
              <a:ext cx="127800" cy="56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8"/>
            <p:cNvSpPr/>
            <p:nvPr/>
          </p:nvSpPr>
          <p:spPr>
            <a:xfrm rot="838800">
              <a:off x="5945760" y="3005280"/>
              <a:ext cx="18396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9"/>
            <p:cNvSpPr/>
            <p:nvPr/>
          </p:nvSpPr>
          <p:spPr>
            <a:xfrm>
              <a:off x="5872320" y="2923200"/>
              <a:ext cx="98280" cy="1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40"/>
            <p:cNvSpPr/>
            <p:nvPr/>
          </p:nvSpPr>
          <p:spPr>
            <a:xfrm rot="838800">
              <a:off x="5718600" y="2796480"/>
              <a:ext cx="18432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1"/>
            <p:cNvSpPr/>
            <p:nvPr/>
          </p:nvSpPr>
          <p:spPr>
            <a:xfrm flipV="1">
              <a:off x="5589000" y="2899440"/>
              <a:ext cx="137160" cy="4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2"/>
            <p:cNvSpPr/>
            <p:nvPr/>
          </p:nvSpPr>
          <p:spPr>
            <a:xfrm rot="838800">
              <a:off x="5432400" y="2877480"/>
              <a:ext cx="183960" cy="1843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3"/>
          <p:cNvGrpSpPr/>
          <p:nvPr/>
        </p:nvGrpSpPr>
        <p:grpSpPr>
          <a:xfrm>
            <a:off x="3059280" y="2806560"/>
            <a:ext cx="1485360" cy="837000"/>
            <a:chOff x="3059280" y="2806560"/>
            <a:chExt cx="1485360" cy="837000"/>
          </a:xfrm>
        </p:grpSpPr>
        <p:sp>
          <p:nvSpPr>
            <p:cNvPr id="246" name="AutoShape 44"/>
            <p:cNvSpPr/>
            <p:nvPr/>
          </p:nvSpPr>
          <p:spPr>
            <a:xfrm rot="9328800">
              <a:off x="3095640" y="3382560"/>
              <a:ext cx="225360" cy="223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5"/>
            <p:cNvSpPr/>
            <p:nvPr/>
          </p:nvSpPr>
          <p:spPr>
            <a:xfrm flipH="1">
              <a:off x="3272400" y="3216240"/>
              <a:ext cx="131760" cy="224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46"/>
            <p:cNvSpPr/>
            <p:nvPr/>
          </p:nvSpPr>
          <p:spPr>
            <a:xfrm rot="9328800">
              <a:off x="3365640" y="3031920"/>
              <a:ext cx="225360" cy="223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47"/>
            <p:cNvSpPr/>
            <p:nvPr/>
          </p:nvSpPr>
          <p:spPr>
            <a:xfrm rot="16921200">
              <a:off x="3573360" y="2856960"/>
              <a:ext cx="268200" cy="300240"/>
            </a:xfrm>
            <a:custGeom>
              <a:avLst/>
              <a:gdLst/>
              <a:ahLst/>
              <a:rect l="l" t="t" r="r" b="b"/>
              <a:pathLst>
                <a:path fill="none" w="21600" h="21646">
                  <a:moveTo>
                    <a:pt x="1894" y="0"/>
                  </a:moveTo>
                  <a:cubicBezTo>
                    <a:pt x="13046" y="982"/>
                    <a:pt x="21600" y="10322"/>
                    <a:pt x="21600" y="21517"/>
                  </a:cubicBezTo>
                  <a:cubicBezTo>
                    <a:pt x="21600" y="21559"/>
                    <a:pt x="21599" y="21602"/>
                    <a:pt x="21599" y="21645"/>
                  </a:cubicBezTo>
                </a:path>
                <a:path stroke="0" w="21600" h="21646">
                  <a:moveTo>
                    <a:pt x="1894" y="0"/>
                  </a:moveTo>
                  <a:cubicBezTo>
                    <a:pt x="13046" y="982"/>
                    <a:pt x="21600" y="10322"/>
                    <a:pt x="21600" y="21517"/>
                  </a:cubicBezTo>
                  <a:cubicBezTo>
                    <a:pt x="21600" y="21559"/>
                    <a:pt x="21599" y="21602"/>
                    <a:pt x="21599" y="21645"/>
                  </a:cubicBezTo>
                  <a:lnTo>
                    <a:pt x="0" y="21517"/>
                  </a:lnTo>
                  <a:lnTo>
                    <a:pt x="1894" y="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8"/>
            <p:cNvSpPr/>
            <p:nvPr/>
          </p:nvSpPr>
          <p:spPr>
            <a:xfrm>
              <a:off x="4013640" y="2945520"/>
              <a:ext cx="321840" cy="1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9"/>
            <p:cNvSpPr/>
            <p:nvPr/>
          </p:nvSpPr>
          <p:spPr>
            <a:xfrm rot="9328800">
              <a:off x="4282560" y="2843280"/>
              <a:ext cx="225720" cy="223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50"/>
            <p:cNvSpPr/>
            <p:nvPr/>
          </p:nvSpPr>
          <p:spPr>
            <a:xfrm rot="5899200">
              <a:off x="3609360" y="2927160"/>
              <a:ext cx="252360" cy="287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51"/>
            <p:cNvSpPr/>
            <p:nvPr/>
          </p:nvSpPr>
          <p:spPr>
            <a:xfrm rot="9328800">
              <a:off x="3816360" y="2842920"/>
              <a:ext cx="225360" cy="223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Object 52" descr=""/>
          <p:cNvPicPr/>
          <p:nvPr/>
        </p:nvPicPr>
        <p:blipFill>
          <a:blip r:embed="rId4"/>
          <a:stretch/>
        </p:blipFill>
        <p:spPr>
          <a:xfrm>
            <a:off x="5580000" y="4824360"/>
            <a:ext cx="992160" cy="995400"/>
          </a:xfrm>
          <a:prstGeom prst="rect">
            <a:avLst/>
          </a:prstGeom>
          <a:ln w="0">
            <a:noFill/>
          </a:ln>
        </p:spPr>
      </p:pic>
      <p:sp>
        <p:nvSpPr>
          <p:cNvPr id="255" name="Line 53"/>
          <p:cNvSpPr/>
          <p:nvPr/>
        </p:nvSpPr>
        <p:spPr>
          <a:xfrm flipV="1">
            <a:off x="6192720" y="4680000"/>
            <a:ext cx="468360" cy="1008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2879640" y="235080"/>
            <a:ext cx="4969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3672000" y="3203640"/>
            <a:ext cx="1547280" cy="1512360"/>
            <a:chOff x="3672000" y="3203640"/>
            <a:chExt cx="1547280" cy="1512360"/>
          </a:xfrm>
        </p:grpSpPr>
        <p:sp>
          <p:nvSpPr>
            <p:cNvPr id="258" name="未知"/>
            <p:cNvSpPr/>
            <p:nvPr/>
          </p:nvSpPr>
          <p:spPr>
            <a:xfrm>
              <a:off x="3672000" y="3203640"/>
              <a:ext cx="1547280" cy="1512360"/>
            </a:xfrm>
            <a:custGeom>
              <a:avLst/>
              <a:gdLst/>
              <a:ahLst/>
              <a:rect l="l" t="t" r="r" b="b"/>
              <a:pathLst>
                <a:path w="3200" h="3413">
                  <a:moveTo>
                    <a:pt x="3072" y="0"/>
                  </a:moveTo>
                  <a:lnTo>
                    <a:pt x="0" y="0"/>
                  </a:lnTo>
                  <a:cubicBezTo>
                    <a:pt x="0" y="1885"/>
                    <a:pt x="1432" y="3413"/>
                    <a:pt x="3200" y="3413"/>
                  </a:cubicBezTo>
                  <a:cubicBezTo>
                    <a:pt x="3200" y="3413"/>
                    <a:pt x="3200" y="3413"/>
                    <a:pt x="3200" y="3413"/>
                  </a:cubicBezTo>
                  <a:lnTo>
                    <a:pt x="3200" y="3413"/>
                  </a:lnTo>
                  <a:lnTo>
                    <a:pt x="3200" y="136"/>
                  </a:lnTo>
                  <a:cubicBezTo>
                    <a:pt x="3129" y="136"/>
                    <a:pt x="3072" y="75"/>
                    <a:pt x="3072" y="0"/>
                  </a:cubicBezTo>
                  <a:cubicBezTo>
                    <a:pt x="3072" y="0"/>
                    <a:pt x="3072" y="0"/>
                    <a:pt x="3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4"/>
            <p:cNvSpPr/>
            <p:nvPr/>
          </p:nvSpPr>
          <p:spPr>
            <a:xfrm>
              <a:off x="3944880" y="3680280"/>
              <a:ext cx="91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5"/>
          <p:cNvGrpSpPr/>
          <p:nvPr/>
        </p:nvGrpSpPr>
        <p:grpSpPr>
          <a:xfrm>
            <a:off x="3672000" y="1619280"/>
            <a:ext cx="1545840" cy="1512360"/>
            <a:chOff x="3672000" y="1619280"/>
            <a:chExt cx="1545840" cy="1512360"/>
          </a:xfrm>
        </p:grpSpPr>
        <p:sp>
          <p:nvSpPr>
            <p:cNvPr id="261" name="未知"/>
            <p:cNvSpPr/>
            <p:nvPr/>
          </p:nvSpPr>
          <p:spPr>
            <a:xfrm>
              <a:off x="3672000" y="1619280"/>
              <a:ext cx="1545840" cy="1512360"/>
            </a:xfrm>
            <a:custGeom>
              <a:avLst/>
              <a:gdLst/>
              <a:ahLst/>
              <a:rect l="l" t="t" r="r" b="b"/>
              <a:pathLst>
                <a:path w="3200" h="3414">
                  <a:moveTo>
                    <a:pt x="3200" y="3277"/>
                  </a:moveTo>
                  <a:lnTo>
                    <a:pt x="3200" y="0"/>
                  </a:lnTo>
                  <a:cubicBezTo>
                    <a:pt x="1432" y="0"/>
                    <a:pt x="0" y="1529"/>
                    <a:pt x="0" y="3414"/>
                  </a:cubicBezTo>
                  <a:cubicBezTo>
                    <a:pt x="0" y="3414"/>
                    <a:pt x="0" y="3414"/>
                    <a:pt x="0" y="3414"/>
                  </a:cubicBezTo>
                  <a:lnTo>
                    <a:pt x="0" y="3414"/>
                  </a:lnTo>
                  <a:lnTo>
                    <a:pt x="3072" y="3414"/>
                  </a:lnTo>
                  <a:cubicBezTo>
                    <a:pt x="3072" y="3338"/>
                    <a:pt x="3129" y="3277"/>
                    <a:pt x="3200" y="3277"/>
                  </a:cubicBezTo>
                  <a:cubicBezTo>
                    <a:pt x="3200" y="3277"/>
                    <a:pt x="3200" y="3277"/>
                    <a:pt x="3200" y="3277"/>
                  </a:cubicBezTo>
                  <a:close/>
                </a:path>
              </a:pathLst>
            </a:custGeom>
            <a:gradFill rotWithShape="0">
              <a:gsLst>
                <a:gs pos="0">
                  <a:srgbClr val="8029ff"/>
                </a:gs>
                <a:gs pos="100000">
                  <a:srgbClr val="3b13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3942720" y="2074320"/>
              <a:ext cx="96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未知"/>
          <p:cNvSpPr/>
          <p:nvPr/>
        </p:nvSpPr>
        <p:spPr>
          <a:xfrm>
            <a:off x="5364000" y="1620720"/>
            <a:ext cx="1511640" cy="15112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603b"/>
              </a:gs>
              <a:gs pos="100000">
                <a:srgbClr val="762c1b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5364000" y="3203640"/>
            <a:ext cx="1512720" cy="1512360"/>
            <a:chOff x="5364000" y="3203640"/>
            <a:chExt cx="1512720" cy="1512360"/>
          </a:xfrm>
        </p:grpSpPr>
        <p:sp>
          <p:nvSpPr>
            <p:cNvPr id="265" name="未知"/>
            <p:cNvSpPr/>
            <p:nvPr/>
          </p:nvSpPr>
          <p:spPr>
            <a:xfrm>
              <a:off x="5364000" y="3203640"/>
              <a:ext cx="1512720" cy="1512360"/>
            </a:xfrm>
            <a:custGeom>
              <a:avLst/>
              <a:gdLst/>
              <a:ahLst/>
              <a:rect l="l" t="t" r="r" b="b"/>
              <a:pathLst>
                <a:path w="3200" h="3413">
                  <a:moveTo>
                    <a:pt x="0" y="136"/>
                  </a:moveTo>
                  <a:lnTo>
                    <a:pt x="0" y="3413"/>
                  </a:lnTo>
                  <a:cubicBezTo>
                    <a:pt x="1767" y="3413"/>
                    <a:pt x="3200" y="1885"/>
                    <a:pt x="3200" y="0"/>
                  </a:cubicBezTo>
                  <a:cubicBezTo>
                    <a:pt x="3200" y="0"/>
                    <a:pt x="3200" y="0"/>
                    <a:pt x="3200" y="0"/>
                  </a:cubicBezTo>
                  <a:lnTo>
                    <a:pt x="3200" y="0"/>
                  </a:lnTo>
                  <a:lnTo>
                    <a:pt x="128" y="0"/>
                  </a:lnTo>
                  <a:cubicBezTo>
                    <a:pt x="128" y="75"/>
                    <a:pt x="7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494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5665680" y="3658680"/>
              <a:ext cx="114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2"/>
          <p:cNvSpPr/>
          <p:nvPr/>
        </p:nvSpPr>
        <p:spPr>
          <a:xfrm>
            <a:off x="5616720" y="2062080"/>
            <a:ext cx="102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4572000" y="2448000"/>
            <a:ext cx="1440000" cy="14396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753080" y="2849400"/>
            <a:ext cx="10429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EX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5"/>
          <p:cNvGrpSpPr/>
          <p:nvPr/>
        </p:nvGrpSpPr>
        <p:grpSpPr>
          <a:xfrm>
            <a:off x="611280" y="2060640"/>
            <a:ext cx="2771640" cy="2736720"/>
            <a:chOff x="611280" y="2060640"/>
            <a:chExt cx="2771640" cy="2736720"/>
          </a:xfrm>
        </p:grpSpPr>
        <p:sp>
          <p:nvSpPr>
            <p:cNvPr id="271" name="AutoShape 16"/>
            <p:cNvSpPr/>
            <p:nvPr/>
          </p:nvSpPr>
          <p:spPr>
            <a:xfrm>
              <a:off x="611280" y="2060640"/>
              <a:ext cx="2664000" cy="2736720"/>
            </a:xfrm>
            <a:custGeom>
              <a:avLst/>
              <a:gdLst>
                <a:gd name="textAreaLeft" fmla="*/ 129960 w 2664000"/>
                <a:gd name="textAreaRight" fmla="*/ 2534040 w 2664000"/>
                <a:gd name="textAreaTop" fmla="*/ 129960 h 2736720"/>
                <a:gd name="textAreaBottom" fmla="*/ 2606760 h 2736720"/>
              </a:gdLst>
              <a:ahLst/>
              <a:rect l="textAreaLeft" t="textAreaTop" r="textAreaRight" b="textAreaBottom"/>
              <a:pathLst>
                <a:path w="21600" h="22190">
                  <a:moveTo>
                    <a:pt x="3600" y="0"/>
                  </a:moveTo>
                  <a:arcTo wR="3600" hR="3600" stAng="16200000" swAng="-5400000"/>
                  <a:lnTo>
                    <a:pt x="0" y="18590"/>
                  </a:lnTo>
                  <a:arcTo wR="3600" hR="3600" stAng="10800000" swAng="-5400000"/>
                  <a:lnTo>
                    <a:pt x="18000" y="221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7abf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7"/>
            <p:cNvSpPr/>
            <p:nvPr/>
          </p:nvSpPr>
          <p:spPr>
            <a:xfrm>
              <a:off x="790560" y="2108160"/>
              <a:ext cx="2268720" cy="34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7a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613080" y="2608920"/>
              <a:ext cx="9579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611280" y="3575520"/>
              <a:ext cx="2771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0"/>
          <p:cNvGrpSpPr/>
          <p:nvPr/>
        </p:nvGrpSpPr>
        <p:grpSpPr>
          <a:xfrm>
            <a:off x="4932360" y="5759280"/>
            <a:ext cx="3600000" cy="1134360"/>
            <a:chOff x="4932360" y="5759280"/>
            <a:chExt cx="3600000" cy="1134360"/>
          </a:xfrm>
        </p:grpSpPr>
        <p:sp>
          <p:nvSpPr>
            <p:cNvPr id="276" name="AutoShape 21"/>
            <p:cNvSpPr/>
            <p:nvPr/>
          </p:nvSpPr>
          <p:spPr>
            <a:xfrm>
              <a:off x="4932360" y="5759280"/>
              <a:ext cx="3600000" cy="9363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2"/>
            <p:cNvSpPr/>
            <p:nvPr/>
          </p:nvSpPr>
          <p:spPr>
            <a:xfrm>
              <a:off x="5079600" y="5795640"/>
              <a:ext cx="3305520" cy="13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4969440" y="6119280"/>
              <a:ext cx="176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7610760" y="6120000"/>
              <a:ext cx="8132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6401880" y="6336360"/>
              <a:ext cx="1249200" cy="0"/>
            </a:xfrm>
            <a:prstGeom prst="line">
              <a:avLst/>
            </a:prstGeom>
            <a:ln w="6336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6"/>
          <p:cNvGrpSpPr/>
          <p:nvPr/>
        </p:nvGrpSpPr>
        <p:grpSpPr>
          <a:xfrm>
            <a:off x="7345440" y="934920"/>
            <a:ext cx="2122560" cy="3025800"/>
            <a:chOff x="7345440" y="934920"/>
            <a:chExt cx="2122560" cy="3025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7345440" y="1584360"/>
              <a:ext cx="2122560" cy="2376360"/>
              <a:chOff x="7345440" y="1584360"/>
              <a:chExt cx="2122560" cy="2376360"/>
            </a:xfrm>
          </p:grpSpPr>
          <p:sp>
            <p:nvSpPr>
              <p:cNvPr id="283" name="AutoShape 28"/>
              <p:cNvSpPr/>
              <p:nvPr/>
            </p:nvSpPr>
            <p:spPr>
              <a:xfrm>
                <a:off x="7345440" y="1584360"/>
                <a:ext cx="2122560" cy="2376360"/>
              </a:xfrm>
              <a:custGeom>
                <a:avLst/>
                <a:gdLst>
                  <a:gd name="textAreaLeft" fmla="*/ 103320 w 2122560"/>
                  <a:gd name="textAreaRight" fmla="*/ 2019240 w 2122560"/>
                  <a:gd name="textAreaTop" fmla="*/ 103320 h 2376360"/>
                  <a:gd name="textAreaBottom" fmla="*/ 2273040 h 2376360"/>
                </a:gdLst>
                <a:ahLst/>
                <a:rect l="textAreaLeft" t="textAreaTop" r="textAreaRight" b="textAreaBottom"/>
                <a:pathLst>
                  <a:path w="21600" h="24182">
                    <a:moveTo>
                      <a:pt x="3600" y="0"/>
                    </a:moveTo>
                    <a:arcTo wR="3600" hR="3600" stAng="16200000" swAng="-5400000"/>
                    <a:lnTo>
                      <a:pt x="0" y="20582"/>
                    </a:lnTo>
                    <a:arcTo wR="3600" hR="3600" stAng="10800000" swAng="-5400000"/>
                    <a:lnTo>
                      <a:pt x="18000" y="2418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cc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9"/>
              <p:cNvSpPr/>
              <p:nvPr/>
            </p:nvSpPr>
            <p:spPr>
              <a:xfrm>
                <a:off x="7489800" y="1619280"/>
                <a:ext cx="1835280" cy="32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30"/>
            <p:cNvSpPr/>
            <p:nvPr/>
          </p:nvSpPr>
          <p:spPr>
            <a:xfrm>
              <a:off x="7669440" y="934920"/>
              <a:ext cx="1547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1"/>
            <p:cNvSpPr/>
            <p:nvPr/>
          </p:nvSpPr>
          <p:spPr>
            <a:xfrm>
              <a:off x="8425080" y="2303280"/>
              <a:ext cx="0" cy="112572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32"/>
          <p:cNvSpPr/>
          <p:nvPr/>
        </p:nvSpPr>
        <p:spPr>
          <a:xfrm>
            <a:off x="4645080" y="2627280"/>
            <a:ext cx="1260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4"/>
          <p:cNvSpPr/>
          <p:nvPr/>
        </p:nvSpPr>
        <p:spPr>
          <a:xfrm>
            <a:off x="2664000" y="235080"/>
            <a:ext cx="496872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82E-006 4.28571E-006 L -0.11414 -0.09034 E">
                                      <p:cBhvr>
                                        <p:cTn id="3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13 -0.09034 L -0.00708 -0.00462 E">
                                      <p:cBhvr>
                                        <p:cTn id="358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39E-006 4.20168E-007 L 0.12516 0.14769 E">
                                      <p:cBhvr>
                                        <p:cTn id="36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54 0.14286 L 0.00016 4.20168E-007 E">
                                      <p:cBhvr>
                                        <p:cTn id="36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82E-006 4.20168E-007 L -0.0392 0.2145 E">
                                      <p:cBhvr>
                                        <p:cTn id="37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 0.21449 L -0.00708 0.00483 E">
                                      <p:cBhvr>
                                        <p:cTn id="38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6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6Z</dcterms:modified>
  <cp:revision>6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License">
    <vt:lpwstr>&lt;a href="http://templates.services.openoffice.org/bsd-license"&gt;BSD&lt;/a&gt;</vt:lpwstr>
  </property>
</Properties>
</file>