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01A-F911-4057-AA3D-6C8D2EED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72E-A1CD-4FFA-A941-0C6DB0CD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A2E-2222-433F-AD7C-B72BF1B5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EF0-BD1C-4F06-AA18-75AAE8CA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FE53-D824-4A7A-879E-C38158E7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677-1024-4A99-8759-2D8FF12C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BA08-69CD-43E4-926E-34F3EF3B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A1B-5420-424A-8CBB-183FC1F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078-8B72-43E1-84D6-210DB0C2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39A-3F7A-45E1-BCBD-71FB7EC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9CD-C70F-4A0F-A885-550B6B2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032-DE52-4F33-BFCE-40C84DA7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449F-9426-4182-8D71-926D762F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D017-8611-4243-8424-A06D7AC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2409-1294-4A77-9595-D2BB184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91F7-D5B4-430F-8BA8-3B62413F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C59-CCB0-42B8-B32F-2F0AC3D8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C4F-6320-41B1-82BA-B6BCAE5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AEE-8DA0-4E8D-9505-7C100F1B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6FF-1638-4B58-A6D4-7E18B7F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516-7687-4E99-9FDF-B4BBBB7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D1A-9F3D-4A25-B469-D04B8B8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64A-DF19-4E8F-9225-EBA753B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41760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5AE-3958-4D81-B4EC-C4B037B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1bcee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 rot="895200">
              <a:off x="7339680" y="6401880"/>
              <a:ext cx="1067400" cy="1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56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044-E65C-47BF-BA24-EDFFBE1F2A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-453960" y="4343400"/>
            <a:ext cx="2587680" cy="2743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c5b6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4" name="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1bcee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29292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5450040" cy="6858000"/>
            <a:chOff x="0" y="0"/>
            <a:chExt cx="5450040" cy="68580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rcRect l="33020" t="5556" r="0" b="0"/>
            <a:stretch/>
          </p:blipFill>
          <p:spPr>
            <a:xfrm>
              <a:off x="0" y="533520"/>
              <a:ext cx="5450040" cy="632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200400" y="0"/>
              <a:ext cx="190512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de3a5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1bcee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5600" y="55548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2840" y="2057040"/>
            <a:ext cx="624852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647B-4349-4630-9B20-24C338A2F7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image" Target="../media/image8.png"/><Relationship Id="rId15" Type="http://schemas.openxmlformats.org/officeDocument/2006/relationships/image" Target="../media/image9.wmf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1080" y="2057040"/>
            <a:ext cx="881064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化妆品美容类</a:t>
            </a:r>
            <a:r>
              <a:rPr b="1" lang="en-US" sz="4000" spc="-1" strike="noStrike">
                <a:solidFill>
                  <a:srgbClr val="66006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模板完整版打包下载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11800" y="2639880"/>
            <a:ext cx="333360" cy="320760"/>
            <a:chOff x="5311800" y="2639880"/>
            <a:chExt cx="333360" cy="3207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311800" y="263988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11800" y="263988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5345280" y="264312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 rot="692400">
            <a:off x="2036160" y="2523240"/>
            <a:ext cx="465372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73360" y="5791320"/>
            <a:ext cx="3580920" cy="914400"/>
            <a:chOff x="2673360" y="5791320"/>
            <a:chExt cx="3580920" cy="914400"/>
          </a:xfrm>
        </p:grpSpPr>
        <p:pic>
          <p:nvPicPr>
            <p:cNvPr id="116" name="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2673360" y="6377400"/>
              <a:ext cx="358092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2674800" y="5791320"/>
              <a:ext cx="3554280" cy="787320"/>
              <a:chOff x="2674800" y="5791320"/>
              <a:chExt cx="3554280" cy="787320"/>
            </a:xfrm>
          </p:grpSpPr>
          <p:sp>
            <p:nvSpPr>
              <p:cNvPr id="118" name=""/>
              <p:cNvSpPr/>
              <p:nvPr/>
            </p:nvSpPr>
            <p:spPr>
              <a:xfrm>
                <a:off x="2685600" y="5791320"/>
                <a:ext cx="354348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74800" y="5791320"/>
                <a:ext cx="355428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未知"/>
          <p:cNvSpPr/>
          <p:nvPr/>
        </p:nvSpPr>
        <p:spPr>
          <a:xfrm>
            <a:off x="3822840" y="1447920"/>
            <a:ext cx="219996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d1bcee"/>
              </a:gs>
              <a:gs pos="100000">
                <a:srgbClr val="6056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330720" y="2209680"/>
            <a:ext cx="409320" cy="393840"/>
            <a:chOff x="3330720" y="2209680"/>
            <a:chExt cx="409320" cy="39384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3330720" y="2209680"/>
              <a:ext cx="40932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30720" y="2209680"/>
              <a:ext cx="40680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3370680" y="221400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6089760" y="3279960"/>
            <a:ext cx="1072800" cy="1049040"/>
            <a:chOff x="6089760" y="3279960"/>
            <a:chExt cx="1072800" cy="104904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 rot="692400">
              <a:off x="6169320" y="3362400"/>
              <a:ext cx="91404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692400">
              <a:off x="6168960" y="3361680"/>
              <a:ext cx="907560" cy="885240"/>
            </a:xfrm>
            <a:prstGeom prst="ellipse">
              <a:avLst/>
            </a:prstGeom>
            <a:gradFill rotWithShape="0">
              <a:gsLst>
                <a:gs pos="0">
                  <a:srgbClr val="9de3a5">
                    <a:alpha val="79215"/>
                  </a:srgbClr>
                </a:gs>
                <a:gs pos="50000">
                  <a:srgbClr val="48684c"/>
                </a:gs>
                <a:gs pos="100000">
                  <a:srgbClr val="9de3a5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 rot="692400">
              <a:off x="6314400" y="337500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1768320" y="2297160"/>
            <a:ext cx="983880" cy="952200"/>
            <a:chOff x="1768320" y="2297160"/>
            <a:chExt cx="983880" cy="952200"/>
          </a:xfrm>
        </p:grpSpPr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1768320" y="229716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68320" y="229716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e6cebc">
                    <a:alpha val="80000"/>
                  </a:srgbClr>
                </a:gs>
                <a:gs pos="50000">
                  <a:srgbClr val="6a5e56"/>
                </a:gs>
                <a:gs pos="100000">
                  <a:srgbClr val="e6cebc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1866240" y="230616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2154240" y="3570120"/>
            <a:ext cx="660240" cy="632160"/>
            <a:chOff x="2154240" y="3570120"/>
            <a:chExt cx="660240" cy="632160"/>
          </a:xfrm>
        </p:grpSpPr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154240" y="3570120"/>
              <a:ext cx="660240" cy="6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154240" y="3570120"/>
              <a:ext cx="655200" cy="6321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1"/>
            <a:stretch/>
          </p:blipFill>
          <p:spPr>
            <a:xfrm>
              <a:off x="2220120" y="3576240"/>
              <a:ext cx="52164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3433680" y="3930480"/>
            <a:ext cx="1263240" cy="1222200"/>
            <a:chOff x="3433680" y="3930480"/>
            <a:chExt cx="1263240" cy="1222200"/>
          </a:xfrm>
        </p:grpSpPr>
        <p:pic>
          <p:nvPicPr>
            <p:cNvPr id="138" name="" descr=""/>
            <p:cNvPicPr/>
            <p:nvPr/>
          </p:nvPicPr>
          <p:blipFill>
            <a:blip r:embed="rId12"/>
            <a:stretch/>
          </p:blipFill>
          <p:spPr>
            <a:xfrm>
              <a:off x="3433680" y="3930480"/>
              <a:ext cx="12632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33680" y="3930480"/>
              <a:ext cx="1255320" cy="1222200"/>
            </a:xfrm>
            <a:prstGeom prst="ellipse">
              <a:avLst/>
            </a:prstGeom>
            <a:gradFill rotWithShape="0">
              <a:gsLst>
                <a:gs pos="0">
                  <a:srgbClr val="f29292">
                    <a:alpha val="80000"/>
                  </a:srgbClr>
                </a:gs>
                <a:gs pos="50000">
                  <a:srgbClr val="905757"/>
                </a:gs>
                <a:gs pos="100000">
                  <a:srgbClr val="f2929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3"/>
            <a:stretch/>
          </p:blipFill>
          <p:spPr>
            <a:xfrm>
              <a:off x="3558600" y="394200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5460840" y="4332240"/>
            <a:ext cx="660600" cy="635040"/>
            <a:chOff x="5460840" y="4332240"/>
            <a:chExt cx="660600" cy="635040"/>
          </a:xfrm>
        </p:grpSpPr>
        <p:pic>
          <p:nvPicPr>
            <p:cNvPr id="142" name="" descr=""/>
            <p:cNvPicPr/>
            <p:nvPr/>
          </p:nvPicPr>
          <p:blipFill>
            <a:blip r:embed="rId14"/>
            <a:stretch/>
          </p:blipFill>
          <p:spPr>
            <a:xfrm>
              <a:off x="5460840" y="4332240"/>
              <a:ext cx="6606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460840" y="4332240"/>
              <a:ext cx="65556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5"/>
            <a:stretch/>
          </p:blipFill>
          <p:spPr>
            <a:xfrm>
              <a:off x="5526720" y="4338360"/>
              <a:ext cx="52200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 rot="692400">
            <a:off x="2035440" y="252288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692400">
            <a:off x="2034360" y="252396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692400">
            <a:off x="2031840" y="2507760"/>
            <a:ext cx="466524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692400">
            <a:off x="2040840" y="2495520"/>
            <a:ext cx="4662720" cy="214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92400">
            <a:off x="1997280" y="2489760"/>
            <a:ext cx="466380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692400">
            <a:off x="2007360" y="248760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6200" y="2587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46800" y="43466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89200" y="3614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2732040"/>
            <a:ext cx="1746000" cy="5446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5680" y="5170320"/>
            <a:ext cx="2371680" cy="5446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1828800"/>
            <a:ext cx="1790640" cy="5446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752480"/>
            <a:ext cx="4343400" cy="152424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f29292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>
            <a:off x="1285920" y="3063960"/>
            <a:ext cx="7386480" cy="2287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f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02160" y="2773440"/>
            <a:ext cx="1131840" cy="9889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219320" y="5437080"/>
            <a:ext cx="1670040" cy="290520"/>
            <a:chOff x="1219320" y="5437080"/>
            <a:chExt cx="1670040" cy="290520"/>
          </a:xfrm>
        </p:grpSpPr>
        <p:sp>
          <p:nvSpPr>
            <p:cNvPr id="162" name=""/>
            <p:cNvSpPr/>
            <p:nvPr/>
          </p:nvSpPr>
          <p:spPr>
            <a:xfrm>
              <a:off x="1219320" y="543708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05480" y="546156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29040" y="5462640"/>
              <a:ext cx="74160" cy="23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8"/>
          <p:cNvSpPr/>
          <p:nvPr/>
        </p:nvSpPr>
        <p:spPr>
          <a:xfrm>
            <a:off x="1382760" y="5416560"/>
            <a:ext cx="136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7200" y="1828800"/>
            <a:ext cx="38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85920" y="5759280"/>
            <a:ext cx="163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3240" y="51116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4360" y="4348080"/>
            <a:ext cx="163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37280" y="3583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86000" y="4699080"/>
            <a:ext cx="1670040" cy="288720"/>
            <a:chOff x="3186000" y="4699080"/>
            <a:chExt cx="1670040" cy="288720"/>
          </a:xfrm>
        </p:grpSpPr>
        <p:sp>
          <p:nvSpPr>
            <p:cNvPr id="172" name=""/>
            <p:cNvSpPr/>
            <p:nvPr/>
          </p:nvSpPr>
          <p:spPr>
            <a:xfrm>
              <a:off x="3186000" y="4699080"/>
              <a:ext cx="1670040" cy="28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772160" y="4723560"/>
              <a:ext cx="74520" cy="24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5720" y="4724640"/>
              <a:ext cx="74160" cy="23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3359160" y="4668840"/>
            <a:ext cx="136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060880" y="3948120"/>
            <a:ext cx="1670040" cy="290520"/>
            <a:chOff x="5060880" y="3948120"/>
            <a:chExt cx="1670040" cy="290520"/>
          </a:xfrm>
        </p:grpSpPr>
        <p:sp>
          <p:nvSpPr>
            <p:cNvPr id="177" name=""/>
            <p:cNvSpPr/>
            <p:nvPr/>
          </p:nvSpPr>
          <p:spPr>
            <a:xfrm>
              <a:off x="5060880" y="394812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647040" y="397260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0600" y="3973680"/>
              <a:ext cx="74160" cy="23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8"/>
          <p:cNvSpPr/>
          <p:nvPr/>
        </p:nvSpPr>
        <p:spPr>
          <a:xfrm>
            <a:off x="5178600" y="3917880"/>
            <a:ext cx="1415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16760" y="3218040"/>
            <a:ext cx="1670040" cy="290160"/>
            <a:chOff x="7016760" y="3218040"/>
            <a:chExt cx="1670040" cy="290160"/>
          </a:xfrm>
        </p:grpSpPr>
        <p:sp>
          <p:nvSpPr>
            <p:cNvPr id="182" name=""/>
            <p:cNvSpPr/>
            <p:nvPr/>
          </p:nvSpPr>
          <p:spPr>
            <a:xfrm>
              <a:off x="7016760" y="3218040"/>
              <a:ext cx="1670040" cy="29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602920" y="324252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6480" y="3243600"/>
              <a:ext cx="74160" cy="23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8"/>
          <p:cNvSpPr/>
          <p:nvPr/>
        </p:nvSpPr>
        <p:spPr>
          <a:xfrm>
            <a:off x="7101000" y="3198960"/>
            <a:ext cx="1444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81280" y="3370320"/>
            <a:ext cx="1067040" cy="1141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162920" y="1920960"/>
            <a:ext cx="9666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905120" y="3890880"/>
            <a:ext cx="655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90720" y="3114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41960" y="17701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de3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de3a5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de3a5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48080" y="2182680"/>
            <a:ext cx="44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0160" y="289548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bc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1bcee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d1bcee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8080" y="3270240"/>
            <a:ext cx="44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1960" y="401148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6c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6cebc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e6ceb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8080" y="4424400"/>
            <a:ext cx="44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1960" y="51228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292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9292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29292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5535720"/>
            <a:ext cx="44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840" y="1537920"/>
            <a:ext cx="3882240" cy="4178880"/>
            <a:chOff x="609840" y="1537920"/>
            <a:chExt cx="3882240" cy="4178880"/>
          </a:xfrm>
        </p:grpSpPr>
        <p:sp>
          <p:nvSpPr>
            <p:cNvPr id="200" name=""/>
            <p:cNvSpPr/>
            <p:nvPr/>
          </p:nvSpPr>
          <p:spPr>
            <a:xfrm rot="279000">
              <a:off x="762120" y="1676160"/>
              <a:ext cx="3577680" cy="390168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5" y="11372"/>
                  </a:moveTo>
                  <a:arcTo wR="-7317" hR="-7317" stAng="10530997" swAng="-3693184"/>
                  <a:lnTo>
                    <a:pt x="15186" y="931"/>
                  </a:lnTo>
                  <a:arcTo wR="10800" hR="10800" stAng="-3962187" swAng="3693184"/>
                  <a:lnTo>
                    <a:pt x="24259" y="9745"/>
                  </a:lnTo>
                  <a:lnTo>
                    <a:pt x="20178" y="14520"/>
                  </a:lnTo>
                  <a:lnTo>
                    <a:pt x="15403" y="10439"/>
                  </a:lnTo>
                  <a:close/>
                </a:path>
              </a:pathLst>
            </a:custGeom>
            <a:solidFill>
              <a:srgbClr val="d1b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972600">
              <a:off x="599760" y="1838520"/>
              <a:ext cx="3901680" cy="357768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7680"/>
                <a:gd name="textAreaBottom" fmla="*/ 35780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71" y="9655"/>
                  </a:moveTo>
                  <a:arcTo wR="-7220" hR="-7220" stAng="-10252534" swAng="-3449138"/>
                  <a:lnTo>
                    <a:pt x="17976" y="2729"/>
                  </a:lnTo>
                  <a:arcTo wR="10800" hR="10800" stAng="-2901671" swAng="3449138"/>
                  <a:lnTo>
                    <a:pt x="24129" y="12941"/>
                  </a:lnTo>
                  <a:lnTo>
                    <a:pt x="18984" y="16662"/>
                  </a:lnTo>
                  <a:lnTo>
                    <a:pt x="15263" y="11517"/>
                  </a:lnTo>
                  <a:close/>
                </a:path>
              </a:pathLst>
            </a:custGeom>
            <a:solidFill>
              <a:srgbClr val="9de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762120" y="1676520"/>
              <a:ext cx="3577680" cy="390168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62" y="10457"/>
                  </a:moveTo>
                  <a:arcTo wR="-7146" hR="-7146" stAng="-10634934" swAng="-3642614"/>
                  <a:lnTo>
                    <a:pt x="16530" y="1645"/>
                  </a:lnTo>
                  <a:arcTo wR="10800" hR="10800" stAng="-3477548" swAng="3642614"/>
                  <a:lnTo>
                    <a:pt x="24284" y="11448"/>
                  </a:lnTo>
                  <a:lnTo>
                    <a:pt x="19545" y="15752"/>
                  </a:lnTo>
                  <a:lnTo>
                    <a:pt x="15241" y="11013"/>
                  </a:lnTo>
                  <a:close/>
                </a:path>
              </a:pathLst>
            </a:custGeom>
            <a:solidFill>
              <a:srgbClr val="f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600120" y="1838160"/>
              <a:ext cx="3901680" cy="357768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7680"/>
                <a:gd name="textAreaBottom" fmla="*/ 35780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88" y="10954"/>
                  </a:moveTo>
                  <a:arcTo wR="-7114" hR="-7114" stAng="10725582" swAng="-3801681"/>
                  <a:lnTo>
                    <a:pt x="15432" y="1044"/>
                  </a:lnTo>
                  <a:arcTo wR="10800" hR="10800" stAng="-3876098" swAng="3801681"/>
                  <a:lnTo>
                    <a:pt x="24297" y="10508"/>
                  </a:lnTo>
                  <a:lnTo>
                    <a:pt x="19853" y="15148"/>
                  </a:lnTo>
                  <a:lnTo>
                    <a:pt x="15213" y="10704"/>
                  </a:lnTo>
                  <a:close/>
                </a:path>
              </a:pathLst>
            </a:custGeom>
            <a:solidFill>
              <a:srgbClr val="e6c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9480" y="1542960"/>
            <a:ext cx="6381720" cy="638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43440" y="208440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800" y="131436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9de3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9480" y="20574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e3a5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43440" y="247968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43440" y="245916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10440" y="37386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e6ce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6106200">
            <a:off x="6962760" y="3596040"/>
            <a:ext cx="785880" cy="72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e6cebc"/>
              </a:gs>
              <a:gs pos="100000">
                <a:srgbClr val="6a5e56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0960" y="1481040"/>
            <a:ext cx="70740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577e5c"/>
              </a:gs>
              <a:gs pos="100000">
                <a:srgbClr val="9de3a5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73760" y="4538520"/>
            <a:ext cx="1508400" cy="10702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45115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cebc"/>
                </a:solidFill>
                <a:latin typeface="Arial"/>
                <a:ea typeface="宋体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73760" y="493380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73760" y="491328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24160" y="3157560"/>
            <a:ext cx="40356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38960" y="344664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43520" y="4665600"/>
            <a:ext cx="862200" cy="23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85040" y="17352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1b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0960" y="250524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4760" y="24782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bcee"/>
                </a:solidFill>
                <a:latin typeface="Arial"/>
                <a:ea typeface="宋体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0960" y="29005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60960" y="287964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6420960" y="1770480"/>
            <a:ext cx="521640" cy="52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897c9d"/>
              </a:gs>
              <a:gs pos="100000">
                <a:srgbClr val="d1bcee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44480" y="235584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158580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2929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 rot="3328800">
            <a:off x="2213640" y="1708560"/>
            <a:ext cx="42984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9e5f5f"/>
              </a:gs>
              <a:gs pos="100000">
                <a:srgbClr val="f29292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57320" y="23302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292"/>
                </a:solidFill>
                <a:latin typeface="Arial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44480" y="27511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44480" y="273060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323800" y="345276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17800" y="1925640"/>
            <a:ext cx="5529240" cy="2927520"/>
          </a:xfrm>
          <a:prstGeom prst="roundRect">
            <a:avLst>
              <a:gd name="adj" fmla="val 921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2771640"/>
            <a:ext cx="2360520" cy="33181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359400" y="1143000"/>
            <a:ext cx="2098800" cy="5011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grpSp>
        <p:nvGrpSpPr>
          <p:cNvPr id="238" name=""/>
          <p:cNvGrpSpPr/>
          <p:nvPr/>
        </p:nvGrpSpPr>
        <p:grpSpPr>
          <a:xfrm>
            <a:off x="4554360" y="3171960"/>
            <a:ext cx="431280" cy="423000"/>
            <a:chOff x="4554360" y="3171960"/>
            <a:chExt cx="431280" cy="423000"/>
          </a:xfrm>
        </p:grpSpPr>
        <p:grpSp>
          <p:nvGrpSpPr>
            <p:cNvPr id="239" name=""/>
            <p:cNvGrpSpPr/>
            <p:nvPr/>
          </p:nvGrpSpPr>
          <p:grpSpPr>
            <a:xfrm>
              <a:off x="4726800" y="3171960"/>
              <a:ext cx="258840" cy="423000"/>
              <a:chOff x="4726800" y="3171960"/>
              <a:chExt cx="258840" cy="423000"/>
            </a:xfrm>
          </p:grpSpPr>
          <p:sp>
            <p:nvSpPr>
              <p:cNvPr id="240" name=""/>
              <p:cNvSpPr/>
              <p:nvPr/>
            </p:nvSpPr>
            <p:spPr>
              <a:xfrm>
                <a:off x="4726800" y="3171960"/>
                <a:ext cx="8640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13200" y="3256560"/>
                <a:ext cx="8604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99240" y="3341160"/>
                <a:ext cx="8640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13200" y="3425760"/>
                <a:ext cx="8604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6800" y="3510720"/>
                <a:ext cx="8640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554360" y="3171960"/>
              <a:ext cx="258840" cy="423000"/>
              <a:chOff x="4554360" y="3171960"/>
              <a:chExt cx="258840" cy="423000"/>
            </a:xfrm>
          </p:grpSpPr>
          <p:sp>
            <p:nvSpPr>
              <p:cNvPr id="246" name=""/>
              <p:cNvSpPr/>
              <p:nvPr/>
            </p:nvSpPr>
            <p:spPr>
              <a:xfrm>
                <a:off x="4554360" y="3171960"/>
                <a:ext cx="8640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40760" y="3256560"/>
                <a:ext cx="8604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26800" y="3341160"/>
                <a:ext cx="8640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40760" y="3425760"/>
                <a:ext cx="86040" cy="846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54360" y="3510720"/>
                <a:ext cx="8640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2666880" y="4876920"/>
            <a:ext cx="44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69200" y="2514600"/>
            <a:ext cx="13525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63200" y="2514600"/>
            <a:ext cx="13525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t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2192400"/>
            <a:ext cx="9144000" cy="67788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2927520"/>
            <a:ext cx="9144000" cy="730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1969920" y="5315040"/>
            <a:ext cx="523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53568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3381480" y="172404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212400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463536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70320" y="1506600"/>
            <a:ext cx="2496960" cy="1985760"/>
            <a:chOff x="3370320" y="1506600"/>
            <a:chExt cx="2496960" cy="1985760"/>
          </a:xfrm>
        </p:grpSpPr>
        <p:sp>
          <p:nvSpPr>
            <p:cNvPr id="263" name="AutoShape 11"/>
            <p:cNvSpPr/>
            <p:nvPr/>
          </p:nvSpPr>
          <p:spPr>
            <a:xfrm>
              <a:off x="337032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6f4343"/>
                </a:gs>
                <a:gs pos="100000">
                  <a:srgbClr val="f2929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37032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112840" y="2417760"/>
            <a:ext cx="2496960" cy="1986120"/>
            <a:chOff x="2112840" y="2417760"/>
            <a:chExt cx="2496960" cy="1986120"/>
          </a:xfrm>
        </p:grpSpPr>
        <p:sp>
          <p:nvSpPr>
            <p:cNvPr id="266" name="AutoShape 14"/>
            <p:cNvSpPr/>
            <p:nvPr/>
          </p:nvSpPr>
          <p:spPr>
            <a:xfrm>
              <a:off x="211284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8684c"/>
                </a:gs>
                <a:gs pos="100000">
                  <a:srgbClr val="9de3a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11752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624560" y="2417760"/>
            <a:ext cx="2496960" cy="1986120"/>
            <a:chOff x="4624560" y="2417760"/>
            <a:chExt cx="2496960" cy="1986120"/>
          </a:xfrm>
        </p:grpSpPr>
        <p:sp>
          <p:nvSpPr>
            <p:cNvPr id="269" name="AutoShape 17"/>
            <p:cNvSpPr/>
            <p:nvPr/>
          </p:nvSpPr>
          <p:spPr>
            <a:xfrm>
              <a:off x="4624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0566d"/>
                </a:gs>
                <a:gs pos="100000">
                  <a:srgbClr val="d1bce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463572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9"/>
          <p:cNvSpPr/>
          <p:nvPr/>
        </p:nvSpPr>
        <p:spPr>
          <a:xfrm>
            <a:off x="3692520" y="2298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421000" y="3214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919760" y="3179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02040" y="3733920"/>
            <a:ext cx="1682280" cy="1551960"/>
            <a:chOff x="3902040" y="3733920"/>
            <a:chExt cx="1682280" cy="1551960"/>
          </a:xfrm>
        </p:grpSpPr>
        <p:sp>
          <p:nvSpPr>
            <p:cNvPr id="275" name="Freeform 23"/>
            <p:cNvSpPr/>
            <p:nvPr/>
          </p:nvSpPr>
          <p:spPr>
            <a:xfrm>
              <a:off x="4068360" y="492912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4518000" y="480600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5"/>
            <p:cNvSpPr/>
            <p:nvPr/>
          </p:nvSpPr>
          <p:spPr>
            <a:xfrm>
              <a:off x="4984200" y="5007240"/>
              <a:ext cx="600120" cy="2782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>
              <a:off x="3902040" y="41529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4324680" y="3733920"/>
              <a:ext cx="551520" cy="139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8"/>
            <p:cNvSpPr/>
            <p:nvPr/>
          </p:nvSpPr>
          <p:spPr>
            <a:xfrm>
              <a:off x="4829040" y="41763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c5b6"/>
            </a:gs>
            <a:gs pos="50000">
              <a:srgbClr val="fefefe"/>
            </a:gs>
            <a:gs pos="100000">
              <a:srgbClr val="fcc5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2485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1bce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D3E-ED85-446B-936A-AF72495AB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20:57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10:48:32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