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95AA-2CC9-4BBD-BC90-0A1E1DEA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C283-5D54-4029-9275-9B3B5392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0A3E-096B-4E30-AEBA-97ED5ACF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A06E-5180-4951-8A5F-6578FF40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3FCC-4F4D-4A6E-894F-22D5E976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0C8B-6B0C-4901-BB5A-FB699684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19B4-A6DB-4868-870A-C4E415E9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D284-5B2C-4EFB-A7F7-EF17E630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B16B-3049-424F-B18E-FFEDA4A9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CBE0-0C86-4D35-A2FB-FE687281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512B-0423-493A-9845-1A721AEE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B680-692F-4465-B7C5-304780B9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81D3-6C56-4372-AED9-1141883307E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5BF5-B406-4767-8589-865AE9C16C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 3" descr=""/>
          <p:cNvPicPr/>
          <p:nvPr/>
        </p:nvPicPr>
        <p:blipFill>
          <a:blip r:embed="rId16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矩形 1"/>
          <p:cNvSpPr/>
          <p:nvPr/>
        </p:nvSpPr>
        <p:spPr>
          <a:xfrm>
            <a:off x="0" y="2421000"/>
            <a:ext cx="9144000" cy="2448000"/>
          </a:xfrm>
          <a:prstGeom prst="rect">
            <a:avLst/>
          </a:prstGeom>
          <a:solidFill>
            <a:srgbClr val="938953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图片 2" descr=""/>
          <p:cNvPicPr/>
          <p:nvPr/>
        </p:nvPicPr>
        <p:blipFill>
          <a:blip r:embed="rId17"/>
          <a:stretch/>
        </p:blipFill>
        <p:spPr>
          <a:xfrm>
            <a:off x="6356520" y="1825560"/>
            <a:ext cx="2787480" cy="2754360"/>
          </a:xfrm>
          <a:prstGeom prst="rect">
            <a:avLst/>
          </a:prstGeom>
          <a:ln w="0">
            <a:noFill/>
          </a:ln>
        </p:spPr>
      </p:pic>
      <p:sp>
        <p:nvSpPr>
          <p:cNvPr id="45" name="矩形 1"/>
          <p:cNvSpPr/>
          <p:nvPr/>
        </p:nvSpPr>
        <p:spPr>
          <a:xfrm>
            <a:off x="2602800" y="438120"/>
            <a:ext cx="393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经济类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6" descr=""/>
          <p:cNvPicPr/>
          <p:nvPr/>
        </p:nvPicPr>
        <p:blipFill>
          <a:blip r:embed="rId1"/>
          <a:srcRect l="4684" t="0" r="85331" b="4154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2" descr=""/>
          <p:cNvPicPr/>
          <p:nvPr/>
        </p:nvPicPr>
        <p:blipFill>
          <a:blip r:embed="rId2"/>
          <a:stretch/>
        </p:blipFill>
        <p:spPr>
          <a:xfrm>
            <a:off x="1147680" y="-11160"/>
            <a:ext cx="7996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316080" y="260280"/>
            <a:ext cx="7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直接连接符 32"/>
          <p:cNvSpPr/>
          <p:nvPr/>
        </p:nvSpPr>
        <p:spPr>
          <a:xfrm>
            <a:off x="9769320" y="6453360"/>
            <a:ext cx="1297080" cy="1440"/>
          </a:xfrm>
          <a:prstGeom prst="line">
            <a:avLst/>
          </a:prstGeom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组合 3"/>
          <p:cNvGrpSpPr/>
          <p:nvPr/>
        </p:nvGrpSpPr>
        <p:grpSpPr>
          <a:xfrm>
            <a:off x="1610640" y="805680"/>
            <a:ext cx="7065000" cy="1432440"/>
            <a:chOff x="1610640" y="805680"/>
            <a:chExt cx="7065000" cy="1432440"/>
          </a:xfrm>
        </p:grpSpPr>
        <p:grpSp>
          <p:nvGrpSpPr>
            <p:cNvPr id="52" name="组合 50"/>
            <p:cNvGrpSpPr/>
            <p:nvPr/>
          </p:nvGrpSpPr>
          <p:grpSpPr>
            <a:xfrm>
              <a:off x="1610640" y="805680"/>
              <a:ext cx="1292400" cy="1432440"/>
              <a:chOff x="1610640" y="805680"/>
              <a:chExt cx="1292400" cy="1432440"/>
            </a:xfrm>
          </p:grpSpPr>
          <p:grpSp>
            <p:nvGrpSpPr>
              <p:cNvPr id="53" name="组合 45"/>
              <p:cNvGrpSpPr/>
              <p:nvPr/>
            </p:nvGrpSpPr>
            <p:grpSpPr>
              <a:xfrm>
                <a:off x="1610640" y="805680"/>
                <a:ext cx="1292400" cy="1432440"/>
                <a:chOff x="1610640" y="805680"/>
                <a:chExt cx="1292400" cy="1432440"/>
              </a:xfrm>
            </p:grpSpPr>
            <p:sp>
              <p:nvSpPr>
                <p:cNvPr id="54" name="矩形 7"/>
                <p:cNvSpPr/>
                <p:nvPr/>
              </p:nvSpPr>
              <p:spPr>
                <a:xfrm rot="3153000">
                  <a:off x="1291320" y="1581840"/>
                  <a:ext cx="1640160" cy="6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2f2f2"/>
                    </a:gs>
                    <a:gs pos="100000">
                      <a:srgbClr val="f2f2f2"/>
                    </a:gs>
                  </a:gsLst>
                  <a:lin ang="1845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" name="椭圆 3"/>
                <p:cNvSpPr/>
                <p:nvPr/>
              </p:nvSpPr>
              <p:spPr>
                <a:xfrm rot="3153000">
                  <a:off x="1383120" y="1503000"/>
                  <a:ext cx="1540800" cy="99360"/>
                </a:xfrm>
                <a:custGeom>
                  <a:avLst/>
                  <a:gdLst>
                    <a:gd name="textAreaLeft" fmla="*/ 0 w 1540800"/>
                    <a:gd name="textAreaRight" fmla="*/ 1541160 w 15408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5967726" h="372256">
                      <a:moveTo>
                        <a:pt x="2983863" y="0"/>
                      </a:moveTo>
                      <a:cubicBezTo>
                        <a:pt x="4505610" y="0"/>
                        <a:pt x="5763890" y="161740"/>
                        <a:pt x="5967726" y="372256"/>
                      </a:cubicBezTo>
                      <a:lnTo>
                        <a:pt x="0" y="372256"/>
                      </a:lnTo>
                      <a:cubicBezTo>
                        <a:pt x="203837" y="161740"/>
                        <a:pt x="1462116" y="0"/>
                        <a:pt x="2983863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2f2f2"/>
                    </a:gs>
                    <a:gs pos="100000">
                      <a:srgbClr val="7f7f7f"/>
                    </a:gs>
                  </a:gsLst>
                  <a:lin ang="225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" name="椭圆 6"/>
                <p:cNvSpPr/>
                <p:nvPr/>
              </p:nvSpPr>
              <p:spPr>
                <a:xfrm rot="3153000">
                  <a:off x="1960200" y="1010520"/>
                  <a:ext cx="844560" cy="664200"/>
                </a:xfrm>
                <a:custGeom>
                  <a:avLst/>
                  <a:gdLst>
                    <a:gd name="textAreaLeft" fmla="*/ 0 w 844560"/>
                    <a:gd name="textAreaRight" fmla="*/ 844920 w 844560"/>
                    <a:gd name="textAreaTop" fmla="*/ 0 h 664200"/>
                    <a:gd name="textAreaBottom" fmla="*/ 664560 h 664200"/>
                  </a:gdLst>
                  <a:ahLst/>
                  <a:rect l="textAreaLeft" t="textAreaTop" r="textAreaRight" b="textAreaBottom"/>
                  <a:pathLst>
                    <a:path w="2448272" h="1925181">
                      <a:moveTo>
                        <a:pt x="1224136" y="0"/>
                      </a:moveTo>
                      <a:cubicBezTo>
                        <a:pt x="1900208" y="0"/>
                        <a:pt x="2448272" y="548064"/>
                        <a:pt x="2448272" y="1224136"/>
                      </a:cubicBezTo>
                      <a:cubicBezTo>
                        <a:pt x="2448272" y="1485100"/>
                        <a:pt x="2366613" y="1726991"/>
                        <a:pt x="2226782" y="1925181"/>
                      </a:cubicBezTo>
                      <a:lnTo>
                        <a:pt x="221490" y="1925181"/>
                      </a:lnTo>
                      <a:cubicBezTo>
                        <a:pt x="81659" y="1726991"/>
                        <a:pt x="0" y="1485100"/>
                        <a:pt x="0" y="1224136"/>
                      </a:cubicBezTo>
                      <a:cubicBezTo>
                        <a:pt x="0" y="548064"/>
                        <a:pt x="548064" y="0"/>
                        <a:pt x="1224136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" name="椭圆 6"/>
                <p:cNvSpPr/>
                <p:nvPr/>
              </p:nvSpPr>
              <p:spPr>
                <a:xfrm rot="3153000">
                  <a:off x="1968120" y="1055160"/>
                  <a:ext cx="796680" cy="621360"/>
                </a:xfrm>
                <a:custGeom>
                  <a:avLst/>
                  <a:gdLst>
                    <a:gd name="textAreaLeft" fmla="*/ 0 w 796680"/>
                    <a:gd name="textAreaRight" fmla="*/ 797040 w 796680"/>
                    <a:gd name="textAreaTop" fmla="*/ 0 h 621360"/>
                    <a:gd name="textAreaBottom" fmla="*/ 621720 h 621360"/>
                  </a:gdLst>
                  <a:ahLst/>
                  <a:rect l="textAreaLeft" t="textAreaTop" r="textAreaRight" b="textAreaBottom"/>
                  <a:pathLst>
                    <a:path w="2448272" h="1925181">
                      <a:moveTo>
                        <a:pt x="1224136" y="0"/>
                      </a:moveTo>
                      <a:cubicBezTo>
                        <a:pt x="1900208" y="0"/>
                        <a:pt x="2448272" y="548064"/>
                        <a:pt x="2448272" y="1224136"/>
                      </a:cubicBezTo>
                      <a:cubicBezTo>
                        <a:pt x="2448272" y="1485100"/>
                        <a:pt x="2366613" y="1726991"/>
                        <a:pt x="2226782" y="1925181"/>
                      </a:cubicBezTo>
                      <a:lnTo>
                        <a:pt x="221490" y="1925181"/>
                      </a:lnTo>
                      <a:cubicBezTo>
                        <a:pt x="81659" y="1726991"/>
                        <a:pt x="0" y="1485100"/>
                        <a:pt x="0" y="1224136"/>
                      </a:cubicBezTo>
                      <a:cubicBezTo>
                        <a:pt x="0" y="548064"/>
                        <a:pt x="548064" y="0"/>
                        <a:pt x="1224136" y="0"/>
                      </a:cubicBezTo>
                      <a:close/>
                    </a:path>
                  </a:pathLst>
                </a:custGeom>
                <a:solidFill>
                  <a:srgbClr val="f58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8" name="TextBox 23"/>
              <p:cNvSpPr/>
              <p:nvPr/>
            </p:nvSpPr>
            <p:spPr>
              <a:xfrm>
                <a:off x="2088000" y="1089360"/>
                <a:ext cx="646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" name="矩形 53"/>
            <p:cNvSpPr/>
            <p:nvPr/>
          </p:nvSpPr>
          <p:spPr>
            <a:xfrm>
              <a:off x="3130920" y="1019520"/>
              <a:ext cx="55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幻灯片目录文字内容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6"/>
          <p:cNvGrpSpPr/>
          <p:nvPr/>
        </p:nvGrpSpPr>
        <p:grpSpPr>
          <a:xfrm>
            <a:off x="1611720" y="2226600"/>
            <a:ext cx="6776640" cy="1432080"/>
            <a:chOff x="1611720" y="2226600"/>
            <a:chExt cx="6776640" cy="1432080"/>
          </a:xfrm>
        </p:grpSpPr>
        <p:grpSp>
          <p:nvGrpSpPr>
            <p:cNvPr id="61" name="组合 51"/>
            <p:cNvGrpSpPr/>
            <p:nvPr/>
          </p:nvGrpSpPr>
          <p:grpSpPr>
            <a:xfrm>
              <a:off x="1611720" y="2226600"/>
              <a:ext cx="1292040" cy="1432080"/>
              <a:chOff x="1611720" y="2226600"/>
              <a:chExt cx="1292040" cy="1432080"/>
            </a:xfrm>
          </p:grpSpPr>
          <p:grpSp>
            <p:nvGrpSpPr>
              <p:cNvPr id="62" name="组合 46"/>
              <p:cNvGrpSpPr/>
              <p:nvPr/>
            </p:nvGrpSpPr>
            <p:grpSpPr>
              <a:xfrm>
                <a:off x="1611720" y="2226600"/>
                <a:ext cx="1292040" cy="1432080"/>
                <a:chOff x="1611720" y="2226600"/>
                <a:chExt cx="1292040" cy="1432080"/>
              </a:xfrm>
            </p:grpSpPr>
            <p:sp>
              <p:nvSpPr>
                <p:cNvPr id="63" name="矩形 37"/>
                <p:cNvSpPr/>
                <p:nvPr/>
              </p:nvSpPr>
              <p:spPr>
                <a:xfrm rot="3153000">
                  <a:off x="1292400" y="3002760"/>
                  <a:ext cx="1639800" cy="6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2f2f2"/>
                    </a:gs>
                    <a:gs pos="100000">
                      <a:srgbClr val="f2f2f2"/>
                    </a:gs>
                  </a:gsLst>
                  <a:lin ang="1845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" name="椭圆 3"/>
                <p:cNvSpPr/>
                <p:nvPr/>
              </p:nvSpPr>
              <p:spPr>
                <a:xfrm rot="3153000">
                  <a:off x="1384560" y="2923200"/>
                  <a:ext cx="1540440" cy="101160"/>
                </a:xfrm>
                <a:custGeom>
                  <a:avLst/>
                  <a:gdLst>
                    <a:gd name="textAreaLeft" fmla="*/ 0 w 1540440"/>
                    <a:gd name="textAreaRight" fmla="*/ 1540800 w 1540440"/>
                    <a:gd name="textAreaTop" fmla="*/ 0 h 101160"/>
                    <a:gd name="textAreaBottom" fmla="*/ 101520 h 101160"/>
                  </a:gdLst>
                  <a:ahLst/>
                  <a:rect l="textAreaLeft" t="textAreaTop" r="textAreaRight" b="textAreaBottom"/>
                  <a:pathLst>
                    <a:path w="5967726" h="372256">
                      <a:moveTo>
                        <a:pt x="2983863" y="0"/>
                      </a:moveTo>
                      <a:cubicBezTo>
                        <a:pt x="4505610" y="0"/>
                        <a:pt x="5763890" y="161740"/>
                        <a:pt x="5967726" y="372256"/>
                      </a:cubicBezTo>
                      <a:lnTo>
                        <a:pt x="0" y="372256"/>
                      </a:lnTo>
                      <a:cubicBezTo>
                        <a:pt x="203837" y="161740"/>
                        <a:pt x="1462116" y="0"/>
                        <a:pt x="2983863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2f2f2"/>
                    </a:gs>
                    <a:gs pos="100000">
                      <a:srgbClr val="7f7f7f"/>
                    </a:gs>
                  </a:gsLst>
                  <a:lin ang="225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" name="椭圆 6"/>
                <p:cNvSpPr/>
                <p:nvPr/>
              </p:nvSpPr>
              <p:spPr>
                <a:xfrm rot="3153000">
                  <a:off x="1960560" y="2431440"/>
                  <a:ext cx="844560" cy="664560"/>
                </a:xfrm>
                <a:custGeom>
                  <a:avLst/>
                  <a:gdLst>
                    <a:gd name="textAreaLeft" fmla="*/ 0 w 844560"/>
                    <a:gd name="textAreaRight" fmla="*/ 844920 w 844560"/>
                    <a:gd name="textAreaTop" fmla="*/ 0 h 664560"/>
                    <a:gd name="textAreaBottom" fmla="*/ 664920 h 664560"/>
                  </a:gdLst>
                  <a:ahLst/>
                  <a:rect l="textAreaLeft" t="textAreaTop" r="textAreaRight" b="textAreaBottom"/>
                  <a:pathLst>
                    <a:path w="2448272" h="1925181">
                      <a:moveTo>
                        <a:pt x="1224136" y="0"/>
                      </a:moveTo>
                      <a:cubicBezTo>
                        <a:pt x="1900208" y="0"/>
                        <a:pt x="2448272" y="548064"/>
                        <a:pt x="2448272" y="1224136"/>
                      </a:cubicBezTo>
                      <a:cubicBezTo>
                        <a:pt x="2448272" y="1485100"/>
                        <a:pt x="2366613" y="1726991"/>
                        <a:pt x="2226782" y="1925181"/>
                      </a:cubicBezTo>
                      <a:lnTo>
                        <a:pt x="221490" y="1925181"/>
                      </a:lnTo>
                      <a:cubicBezTo>
                        <a:pt x="81659" y="1726991"/>
                        <a:pt x="0" y="1485100"/>
                        <a:pt x="0" y="1224136"/>
                      </a:cubicBezTo>
                      <a:cubicBezTo>
                        <a:pt x="0" y="548064"/>
                        <a:pt x="548064" y="0"/>
                        <a:pt x="1224136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" name="椭圆 6"/>
                <p:cNvSpPr/>
                <p:nvPr/>
              </p:nvSpPr>
              <p:spPr>
                <a:xfrm rot="3153000">
                  <a:off x="1973520" y="2470680"/>
                  <a:ext cx="796680" cy="632160"/>
                </a:xfrm>
                <a:custGeom>
                  <a:avLst/>
                  <a:gdLst>
                    <a:gd name="textAreaLeft" fmla="*/ 0 w 796680"/>
                    <a:gd name="textAreaRight" fmla="*/ 797040 w 796680"/>
                    <a:gd name="textAreaTop" fmla="*/ 0 h 632160"/>
                    <a:gd name="textAreaBottom" fmla="*/ 632520 h 632160"/>
                  </a:gdLst>
                  <a:ahLst/>
                  <a:rect l="textAreaLeft" t="textAreaTop" r="textAreaRight" b="textAreaBottom"/>
                  <a:pathLst>
                    <a:path w="2448272" h="1925181">
                      <a:moveTo>
                        <a:pt x="1224136" y="0"/>
                      </a:moveTo>
                      <a:cubicBezTo>
                        <a:pt x="1900208" y="0"/>
                        <a:pt x="2448272" y="548064"/>
                        <a:pt x="2448272" y="1224136"/>
                      </a:cubicBezTo>
                      <a:cubicBezTo>
                        <a:pt x="2448272" y="1485100"/>
                        <a:pt x="2366613" y="1726991"/>
                        <a:pt x="2226782" y="1925181"/>
                      </a:cubicBezTo>
                      <a:lnTo>
                        <a:pt x="221490" y="1925181"/>
                      </a:lnTo>
                      <a:cubicBezTo>
                        <a:pt x="81659" y="1726991"/>
                        <a:pt x="0" y="1485100"/>
                        <a:pt x="0" y="1224136"/>
                      </a:cubicBezTo>
                      <a:cubicBezTo>
                        <a:pt x="0" y="548064"/>
                        <a:pt x="548064" y="0"/>
                        <a:pt x="1224136" y="0"/>
                      </a:cubicBezTo>
                      <a:close/>
                    </a:path>
                  </a:pathLst>
                </a:cu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7" name="TextBox 48"/>
              <p:cNvSpPr/>
              <p:nvPr/>
            </p:nvSpPr>
            <p:spPr>
              <a:xfrm>
                <a:off x="2117160" y="2508480"/>
                <a:ext cx="646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" name="矩形 54"/>
            <p:cNvSpPr/>
            <p:nvPr/>
          </p:nvSpPr>
          <p:spPr>
            <a:xfrm>
              <a:off x="3130920" y="2440440"/>
              <a:ext cx="525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幻灯片目录文字内容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组合 4"/>
          <p:cNvGrpSpPr/>
          <p:nvPr/>
        </p:nvGrpSpPr>
        <p:grpSpPr>
          <a:xfrm>
            <a:off x="1611360" y="3648960"/>
            <a:ext cx="7064280" cy="1432440"/>
            <a:chOff x="1611360" y="3648960"/>
            <a:chExt cx="7064280" cy="1432440"/>
          </a:xfrm>
        </p:grpSpPr>
        <p:grpSp>
          <p:nvGrpSpPr>
            <p:cNvPr id="70" name="组合 52"/>
            <p:cNvGrpSpPr/>
            <p:nvPr/>
          </p:nvGrpSpPr>
          <p:grpSpPr>
            <a:xfrm>
              <a:off x="1611360" y="3648960"/>
              <a:ext cx="1292400" cy="1432440"/>
              <a:chOff x="1611360" y="3648960"/>
              <a:chExt cx="1292400" cy="1432440"/>
            </a:xfrm>
          </p:grpSpPr>
          <p:grpSp>
            <p:nvGrpSpPr>
              <p:cNvPr id="71" name="组合 47"/>
              <p:cNvGrpSpPr/>
              <p:nvPr/>
            </p:nvGrpSpPr>
            <p:grpSpPr>
              <a:xfrm>
                <a:off x="1611360" y="3648960"/>
                <a:ext cx="1292400" cy="1432440"/>
                <a:chOff x="1611360" y="3648960"/>
                <a:chExt cx="1292400" cy="1432440"/>
              </a:xfrm>
            </p:grpSpPr>
            <p:sp>
              <p:nvSpPr>
                <p:cNvPr id="72" name="矩形 41"/>
                <p:cNvSpPr/>
                <p:nvPr/>
              </p:nvSpPr>
              <p:spPr>
                <a:xfrm rot="3153000">
                  <a:off x="1292040" y="4425120"/>
                  <a:ext cx="1640160" cy="6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2f2f2"/>
                    </a:gs>
                    <a:gs pos="100000">
                      <a:srgbClr val="f2f2f2"/>
                    </a:gs>
                  </a:gsLst>
                  <a:lin ang="1845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" name="椭圆 3"/>
                <p:cNvSpPr/>
                <p:nvPr/>
              </p:nvSpPr>
              <p:spPr>
                <a:xfrm rot="3153000">
                  <a:off x="1383480" y="4346280"/>
                  <a:ext cx="1540800" cy="100440"/>
                </a:xfrm>
                <a:custGeom>
                  <a:avLst/>
                  <a:gdLst>
                    <a:gd name="textAreaLeft" fmla="*/ 0 w 1540800"/>
                    <a:gd name="textAreaRight" fmla="*/ 1541160 w 1540800"/>
                    <a:gd name="textAreaTop" fmla="*/ 0 h 100440"/>
                    <a:gd name="textAreaBottom" fmla="*/ 100800 h 100440"/>
                  </a:gdLst>
                  <a:ahLst/>
                  <a:rect l="textAreaLeft" t="textAreaTop" r="textAreaRight" b="textAreaBottom"/>
                  <a:pathLst>
                    <a:path w="5967726" h="372256">
                      <a:moveTo>
                        <a:pt x="2983863" y="0"/>
                      </a:moveTo>
                      <a:cubicBezTo>
                        <a:pt x="4505610" y="0"/>
                        <a:pt x="5763890" y="161740"/>
                        <a:pt x="5967726" y="372256"/>
                      </a:cubicBezTo>
                      <a:lnTo>
                        <a:pt x="0" y="372256"/>
                      </a:lnTo>
                      <a:cubicBezTo>
                        <a:pt x="203837" y="161740"/>
                        <a:pt x="1462116" y="0"/>
                        <a:pt x="2983863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2f2f2"/>
                    </a:gs>
                    <a:gs pos="100000">
                      <a:srgbClr val="7f7f7f"/>
                    </a:gs>
                  </a:gsLst>
                  <a:lin ang="225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" name="椭圆 6"/>
                <p:cNvSpPr/>
                <p:nvPr/>
              </p:nvSpPr>
              <p:spPr>
                <a:xfrm rot="3153000">
                  <a:off x="1960560" y="3853800"/>
                  <a:ext cx="844560" cy="664560"/>
                </a:xfrm>
                <a:custGeom>
                  <a:avLst/>
                  <a:gdLst>
                    <a:gd name="textAreaLeft" fmla="*/ 0 w 844560"/>
                    <a:gd name="textAreaRight" fmla="*/ 844920 w 844560"/>
                    <a:gd name="textAreaTop" fmla="*/ 0 h 664560"/>
                    <a:gd name="textAreaBottom" fmla="*/ 664920 h 664560"/>
                  </a:gdLst>
                  <a:ahLst/>
                  <a:rect l="textAreaLeft" t="textAreaTop" r="textAreaRight" b="textAreaBottom"/>
                  <a:pathLst>
                    <a:path w="2448272" h="1925181">
                      <a:moveTo>
                        <a:pt x="1224136" y="0"/>
                      </a:moveTo>
                      <a:cubicBezTo>
                        <a:pt x="1900208" y="0"/>
                        <a:pt x="2448272" y="548064"/>
                        <a:pt x="2448272" y="1224136"/>
                      </a:cubicBezTo>
                      <a:cubicBezTo>
                        <a:pt x="2448272" y="1485100"/>
                        <a:pt x="2366613" y="1726991"/>
                        <a:pt x="2226782" y="1925181"/>
                      </a:cubicBezTo>
                      <a:lnTo>
                        <a:pt x="221490" y="1925181"/>
                      </a:lnTo>
                      <a:cubicBezTo>
                        <a:pt x="81659" y="1726991"/>
                        <a:pt x="0" y="1485100"/>
                        <a:pt x="0" y="1224136"/>
                      </a:cubicBezTo>
                      <a:cubicBezTo>
                        <a:pt x="0" y="548064"/>
                        <a:pt x="548064" y="0"/>
                        <a:pt x="1224136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5" name="椭圆 6"/>
                <p:cNvSpPr/>
                <p:nvPr/>
              </p:nvSpPr>
              <p:spPr>
                <a:xfrm rot="3153000">
                  <a:off x="1970280" y="3896280"/>
                  <a:ext cx="796680" cy="626040"/>
                </a:xfrm>
                <a:custGeom>
                  <a:avLst/>
                  <a:gdLst>
                    <a:gd name="textAreaLeft" fmla="*/ 0 w 796680"/>
                    <a:gd name="textAreaRight" fmla="*/ 797040 w 796680"/>
                    <a:gd name="textAreaTop" fmla="*/ 0 h 626040"/>
                    <a:gd name="textAreaBottom" fmla="*/ 626400 h 626040"/>
                  </a:gdLst>
                  <a:ahLst/>
                  <a:rect l="textAreaLeft" t="textAreaTop" r="textAreaRight" b="textAreaBottom"/>
                  <a:pathLst>
                    <a:path w="2448272" h="1925181">
                      <a:moveTo>
                        <a:pt x="1224136" y="0"/>
                      </a:moveTo>
                      <a:cubicBezTo>
                        <a:pt x="1900208" y="0"/>
                        <a:pt x="2448272" y="548064"/>
                        <a:pt x="2448272" y="1224136"/>
                      </a:cubicBezTo>
                      <a:cubicBezTo>
                        <a:pt x="2448272" y="1485100"/>
                        <a:pt x="2366613" y="1726991"/>
                        <a:pt x="2226782" y="1925181"/>
                      </a:cubicBezTo>
                      <a:lnTo>
                        <a:pt x="221490" y="1925181"/>
                      </a:lnTo>
                      <a:cubicBezTo>
                        <a:pt x="81659" y="1726991"/>
                        <a:pt x="0" y="1485100"/>
                        <a:pt x="0" y="1224136"/>
                      </a:cubicBezTo>
                      <a:cubicBezTo>
                        <a:pt x="0" y="548064"/>
                        <a:pt x="548064" y="0"/>
                        <a:pt x="1224136" y="0"/>
                      </a:cubicBezTo>
                      <a:close/>
                    </a:path>
                  </a:pathLst>
                </a:cu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6" name="TextBox 49"/>
              <p:cNvSpPr/>
              <p:nvPr/>
            </p:nvSpPr>
            <p:spPr>
              <a:xfrm>
                <a:off x="2112840" y="3930840"/>
                <a:ext cx="646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" name="矩形 55"/>
            <p:cNvSpPr/>
            <p:nvPr/>
          </p:nvSpPr>
          <p:spPr>
            <a:xfrm>
              <a:off x="3130920" y="3913560"/>
              <a:ext cx="55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幻灯片目录文字内容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组合 5"/>
          <p:cNvGrpSpPr/>
          <p:nvPr/>
        </p:nvGrpSpPr>
        <p:grpSpPr>
          <a:xfrm>
            <a:off x="1611360" y="5069880"/>
            <a:ext cx="6777000" cy="1432080"/>
            <a:chOff x="1611360" y="5069880"/>
            <a:chExt cx="6777000" cy="1432080"/>
          </a:xfrm>
        </p:grpSpPr>
        <p:grpSp>
          <p:nvGrpSpPr>
            <p:cNvPr id="79" name="组合 1"/>
            <p:cNvGrpSpPr/>
            <p:nvPr/>
          </p:nvGrpSpPr>
          <p:grpSpPr>
            <a:xfrm>
              <a:off x="1611360" y="5069880"/>
              <a:ext cx="1292400" cy="1432080"/>
              <a:chOff x="1611360" y="5069880"/>
              <a:chExt cx="1292400" cy="1432080"/>
            </a:xfrm>
          </p:grpSpPr>
          <p:grpSp>
            <p:nvGrpSpPr>
              <p:cNvPr id="80" name="组合 28"/>
              <p:cNvGrpSpPr/>
              <p:nvPr/>
            </p:nvGrpSpPr>
            <p:grpSpPr>
              <a:xfrm>
                <a:off x="1611360" y="5069880"/>
                <a:ext cx="1292400" cy="1432080"/>
                <a:chOff x="1611360" y="5069880"/>
                <a:chExt cx="1292400" cy="1432080"/>
              </a:xfrm>
            </p:grpSpPr>
            <p:sp>
              <p:nvSpPr>
                <p:cNvPr id="81" name="矩形 30"/>
                <p:cNvSpPr/>
                <p:nvPr/>
              </p:nvSpPr>
              <p:spPr>
                <a:xfrm rot="3153000">
                  <a:off x="1292040" y="5846040"/>
                  <a:ext cx="1639800" cy="6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2f2f2"/>
                    </a:gs>
                    <a:gs pos="100000">
                      <a:srgbClr val="f2f2f2"/>
                    </a:gs>
                  </a:gsLst>
                  <a:lin ang="1845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" name="椭圆 3"/>
                <p:cNvSpPr/>
                <p:nvPr/>
              </p:nvSpPr>
              <p:spPr>
                <a:xfrm rot="3153000">
                  <a:off x="1383840" y="5766840"/>
                  <a:ext cx="1540440" cy="100440"/>
                </a:xfrm>
                <a:custGeom>
                  <a:avLst/>
                  <a:gdLst>
                    <a:gd name="textAreaLeft" fmla="*/ 0 w 1540440"/>
                    <a:gd name="textAreaRight" fmla="*/ 1540800 w 1540440"/>
                    <a:gd name="textAreaTop" fmla="*/ 0 h 100440"/>
                    <a:gd name="textAreaBottom" fmla="*/ 100800 h 100440"/>
                  </a:gdLst>
                  <a:ahLst/>
                  <a:rect l="textAreaLeft" t="textAreaTop" r="textAreaRight" b="textAreaBottom"/>
                  <a:pathLst>
                    <a:path w="5967726" h="372256">
                      <a:moveTo>
                        <a:pt x="2983863" y="0"/>
                      </a:moveTo>
                      <a:cubicBezTo>
                        <a:pt x="4505610" y="0"/>
                        <a:pt x="5763890" y="161740"/>
                        <a:pt x="5967726" y="372256"/>
                      </a:cubicBezTo>
                      <a:lnTo>
                        <a:pt x="0" y="372256"/>
                      </a:lnTo>
                      <a:cubicBezTo>
                        <a:pt x="203837" y="161740"/>
                        <a:pt x="1462116" y="0"/>
                        <a:pt x="2983863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2f2f2"/>
                    </a:gs>
                    <a:gs pos="100000">
                      <a:srgbClr val="7f7f7f"/>
                    </a:gs>
                  </a:gsLst>
                  <a:lin ang="225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" name="椭圆 6"/>
                <p:cNvSpPr/>
                <p:nvPr/>
              </p:nvSpPr>
              <p:spPr>
                <a:xfrm rot="3153000">
                  <a:off x="1960560" y="5274720"/>
                  <a:ext cx="844560" cy="664560"/>
                </a:xfrm>
                <a:custGeom>
                  <a:avLst/>
                  <a:gdLst>
                    <a:gd name="textAreaLeft" fmla="*/ 0 w 844560"/>
                    <a:gd name="textAreaRight" fmla="*/ 844920 w 844560"/>
                    <a:gd name="textAreaTop" fmla="*/ 0 h 664560"/>
                    <a:gd name="textAreaBottom" fmla="*/ 664920 h 664560"/>
                  </a:gdLst>
                  <a:ahLst/>
                  <a:rect l="textAreaLeft" t="textAreaTop" r="textAreaRight" b="textAreaBottom"/>
                  <a:pathLst>
                    <a:path w="2448272" h="1925181">
                      <a:moveTo>
                        <a:pt x="1224136" y="0"/>
                      </a:moveTo>
                      <a:cubicBezTo>
                        <a:pt x="1900208" y="0"/>
                        <a:pt x="2448272" y="548064"/>
                        <a:pt x="2448272" y="1224136"/>
                      </a:cubicBezTo>
                      <a:cubicBezTo>
                        <a:pt x="2448272" y="1485100"/>
                        <a:pt x="2366613" y="1726991"/>
                        <a:pt x="2226782" y="1925181"/>
                      </a:cubicBezTo>
                      <a:lnTo>
                        <a:pt x="221490" y="1925181"/>
                      </a:lnTo>
                      <a:cubicBezTo>
                        <a:pt x="81659" y="1726991"/>
                        <a:pt x="0" y="1485100"/>
                        <a:pt x="0" y="1224136"/>
                      </a:cubicBezTo>
                      <a:cubicBezTo>
                        <a:pt x="0" y="548064"/>
                        <a:pt x="548064" y="0"/>
                        <a:pt x="1224136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4" name="椭圆 6"/>
                <p:cNvSpPr/>
                <p:nvPr/>
              </p:nvSpPr>
              <p:spPr>
                <a:xfrm rot="3153000">
                  <a:off x="1970280" y="5317200"/>
                  <a:ext cx="796680" cy="626040"/>
                </a:xfrm>
                <a:custGeom>
                  <a:avLst/>
                  <a:gdLst>
                    <a:gd name="textAreaLeft" fmla="*/ 0 w 796680"/>
                    <a:gd name="textAreaRight" fmla="*/ 797040 w 796680"/>
                    <a:gd name="textAreaTop" fmla="*/ 0 h 626040"/>
                    <a:gd name="textAreaBottom" fmla="*/ 626400 h 626040"/>
                  </a:gdLst>
                  <a:ahLst/>
                  <a:rect l="textAreaLeft" t="textAreaTop" r="textAreaRight" b="textAreaBottom"/>
                  <a:pathLst>
                    <a:path w="2448272" h="1925181">
                      <a:moveTo>
                        <a:pt x="1224136" y="0"/>
                      </a:moveTo>
                      <a:cubicBezTo>
                        <a:pt x="1900208" y="0"/>
                        <a:pt x="2448272" y="548064"/>
                        <a:pt x="2448272" y="1224136"/>
                      </a:cubicBezTo>
                      <a:cubicBezTo>
                        <a:pt x="2448272" y="1485100"/>
                        <a:pt x="2366613" y="1726991"/>
                        <a:pt x="2226782" y="1925181"/>
                      </a:cubicBezTo>
                      <a:lnTo>
                        <a:pt x="221490" y="1925181"/>
                      </a:lnTo>
                      <a:cubicBezTo>
                        <a:pt x="81659" y="1726991"/>
                        <a:pt x="0" y="1485100"/>
                        <a:pt x="0" y="1224136"/>
                      </a:cubicBezTo>
                      <a:cubicBezTo>
                        <a:pt x="0" y="548064"/>
                        <a:pt x="548064" y="0"/>
                        <a:pt x="1224136" y="0"/>
                      </a:cubicBezTo>
                      <a:close/>
                    </a:path>
                  </a:pathLst>
                </a:cu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5" name="TextBox 29"/>
              <p:cNvSpPr/>
              <p:nvPr/>
            </p:nvSpPr>
            <p:spPr>
              <a:xfrm>
                <a:off x="2112840" y="5351760"/>
                <a:ext cx="646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矩形 35"/>
            <p:cNvSpPr/>
            <p:nvPr/>
          </p:nvSpPr>
          <p:spPr>
            <a:xfrm>
              <a:off x="3130920" y="5334480"/>
              <a:ext cx="525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幻灯片目录文字内容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6" descr=""/>
          <p:cNvPicPr/>
          <p:nvPr/>
        </p:nvPicPr>
        <p:blipFill>
          <a:blip r:embed="rId1"/>
          <a:srcRect l="4684" t="0" r="85331" b="4154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2" descr=""/>
          <p:cNvPicPr/>
          <p:nvPr/>
        </p:nvPicPr>
        <p:blipFill>
          <a:blip r:embed="rId2"/>
          <a:stretch/>
        </p:blipFill>
        <p:spPr>
          <a:xfrm>
            <a:off x="1147680" y="-11160"/>
            <a:ext cx="79963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图表 6" descr=""/>
          <p:cNvPicPr/>
          <p:nvPr/>
        </p:nvPicPr>
        <p:blipFill>
          <a:blip r:embed="rId3"/>
          <a:stretch/>
        </p:blipFill>
        <p:spPr>
          <a:xfrm>
            <a:off x="1712880" y="1146240"/>
            <a:ext cx="6969240" cy="4565520"/>
          </a:xfrm>
          <a:prstGeom prst="rect">
            <a:avLst/>
          </a:prstGeom>
          <a:ln w="0">
            <a:noFill/>
          </a:ln>
        </p:spPr>
      </p:pic>
      <p:sp>
        <p:nvSpPr>
          <p:cNvPr id="90" name="矩形 8"/>
          <p:cNvSpPr/>
          <p:nvPr/>
        </p:nvSpPr>
        <p:spPr>
          <a:xfrm>
            <a:off x="3952080" y="476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目录文字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84040" y="115920"/>
            <a:ext cx="615960" cy="2226960"/>
          </a:xfrm>
          <a:prstGeom prst="rect">
            <a:avLst/>
          </a:prstGeom>
          <a:solidFill>
            <a:srgbClr val="ffffff">
              <a:alpha val="83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目录文字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473120" y="62326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6" descr=""/>
          <p:cNvPicPr/>
          <p:nvPr/>
        </p:nvPicPr>
        <p:blipFill>
          <a:blip r:embed="rId1"/>
          <a:srcRect l="4684" t="0" r="85331" b="4154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" descr=""/>
          <p:cNvPicPr/>
          <p:nvPr/>
        </p:nvPicPr>
        <p:blipFill>
          <a:blip r:embed="rId2"/>
          <a:stretch/>
        </p:blipFill>
        <p:spPr>
          <a:xfrm>
            <a:off x="1147680" y="-11160"/>
            <a:ext cx="79963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矩形 8"/>
          <p:cNvSpPr/>
          <p:nvPr/>
        </p:nvSpPr>
        <p:spPr>
          <a:xfrm>
            <a:off x="3951360" y="476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目录文字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图表 5" descr=""/>
          <p:cNvPicPr/>
          <p:nvPr/>
        </p:nvPicPr>
        <p:blipFill>
          <a:blip r:embed="rId3"/>
          <a:stretch/>
        </p:blipFill>
        <p:spPr>
          <a:xfrm>
            <a:off x="1425600" y="1290600"/>
            <a:ext cx="7377120" cy="468324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284040" y="115920"/>
            <a:ext cx="615960" cy="2226960"/>
          </a:xfrm>
          <a:prstGeom prst="rect">
            <a:avLst/>
          </a:prstGeom>
          <a:solidFill>
            <a:srgbClr val="ffffff">
              <a:alpha val="83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目录文字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组合 19"/>
          <p:cNvGrpSpPr/>
          <p:nvPr/>
        </p:nvGrpSpPr>
        <p:grpSpPr>
          <a:xfrm>
            <a:off x="0" y="-11160"/>
            <a:ext cx="9144000" cy="6869160"/>
            <a:chOff x="0" y="-11160"/>
            <a:chExt cx="9144000" cy="6869160"/>
          </a:xfrm>
        </p:grpSpPr>
        <p:pic>
          <p:nvPicPr>
            <p:cNvPr id="102" name="图片 20" descr=""/>
            <p:cNvPicPr/>
            <p:nvPr/>
          </p:nvPicPr>
          <p:blipFill>
            <a:blip r:embed="rId1"/>
            <a:srcRect l="4684" t="0" r="85331" b="4154"/>
            <a:stretch/>
          </p:blipFill>
          <p:spPr>
            <a:xfrm>
              <a:off x="0" y="360"/>
              <a:ext cx="114300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图片 21" descr=""/>
            <p:cNvPicPr/>
            <p:nvPr/>
          </p:nvPicPr>
          <p:blipFill>
            <a:blip r:embed="rId2"/>
            <a:stretch/>
          </p:blipFill>
          <p:spPr>
            <a:xfrm>
              <a:off x="1147680" y="-11160"/>
              <a:ext cx="7996320" cy="68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TextBox 10"/>
          <p:cNvSpPr/>
          <p:nvPr/>
        </p:nvSpPr>
        <p:spPr>
          <a:xfrm>
            <a:off x="316080" y="260280"/>
            <a:ext cx="7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微软雅黑"/>
                <a:ea typeface="微软雅黑"/>
              </a:rPr>
              <a:t>结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图片 12" descr=""/>
          <p:cNvPicPr/>
          <p:nvPr/>
        </p:nvPicPr>
        <p:blipFill>
          <a:blip r:embed="rId3"/>
          <a:srcRect l="0" t="0" r="5780" b="0"/>
          <a:stretch/>
        </p:blipFill>
        <p:spPr>
          <a:xfrm>
            <a:off x="2735280" y="574560"/>
            <a:ext cx="3456000" cy="259740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sp>
        <p:nvSpPr>
          <p:cNvPr id="106" name="TextBox 13"/>
          <p:cNvSpPr/>
          <p:nvPr/>
        </p:nvSpPr>
        <p:spPr>
          <a:xfrm>
            <a:off x="2268360" y="371628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放映结束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3132000" y="4508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看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5"/>
          <p:cNvSpPr/>
          <p:nvPr/>
        </p:nvSpPr>
        <p:spPr>
          <a:xfrm>
            <a:off x="5807160" y="5589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Kozuka Gothic Pr6N B"/>
                <a:ea typeface="Kozuka Gothic Pr6N B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8:20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4:27:23Z</dcterms:modified>
  <cp:revision>5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