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13E-25FA-49D4-AD8E-7960336D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468-68B6-452E-9E07-25489815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316-DC88-47A0-96FA-62280E02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C88F-621C-49DD-9177-CA6165D9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D77F-64F8-43CC-ABAE-4C87FC49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117-DD05-4D1B-933F-5E6777D0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E50-0D88-4BD4-93A7-17B321CA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9B7-7315-4EEA-A3BB-43597CFB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254C-8603-4B57-8DC8-FF2AA0B5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79C-615B-4AF5-BF3D-64A05D30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9729-A839-4BFB-80A0-032B8993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671-C1E3-4BA4-AB83-CF53807F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3F06-A4A7-4727-8328-76C10F6EFD8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AB7B-C721-4CB7-8B50-39120C7937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14800" y="4910040"/>
            <a:ext cx="485748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76720" y="5229360"/>
            <a:ext cx="300024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2" descr="2.png"/>
          <p:cNvPicPr/>
          <p:nvPr/>
        </p:nvPicPr>
        <p:blipFill>
          <a:blip r:embed="rId2"/>
          <a:stretch/>
        </p:blipFill>
        <p:spPr>
          <a:xfrm>
            <a:off x="3137040" y="3978360"/>
            <a:ext cx="3363840" cy="1236600"/>
          </a:xfrm>
          <a:prstGeom prst="rect">
            <a:avLst/>
          </a:prstGeom>
          <a:ln w="0">
            <a:noFill/>
          </a:ln>
        </p:spPr>
      </p:pic>
      <p:sp>
        <p:nvSpPr>
          <p:cNvPr id="45" name="矩形 12"/>
          <p:cNvSpPr/>
          <p:nvPr/>
        </p:nvSpPr>
        <p:spPr>
          <a:xfrm>
            <a:off x="206280" y="621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上凸带形 16"/>
          <p:cNvSpPr/>
          <p:nvPr/>
        </p:nvSpPr>
        <p:spPr>
          <a:xfrm>
            <a:off x="546120" y="2643120"/>
            <a:ext cx="2333520" cy="912960"/>
          </a:xfrm>
          <a:custGeom>
            <a:avLst/>
            <a:gdLst>
              <a:gd name="textAreaLeft" fmla="*/ 583200 w 2333520"/>
              <a:gd name="textAreaRight" fmla="*/ 1750320 w 2333520"/>
              <a:gd name="textAreaTop" fmla="*/ 0 h 912960"/>
              <a:gd name="textAreaBottom" fmla="*/ 798840 h 9129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145836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奖项设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上凸带形 11"/>
          <p:cNvSpPr/>
          <p:nvPr/>
        </p:nvSpPr>
        <p:spPr>
          <a:xfrm>
            <a:off x="3379680" y="2643120"/>
            <a:ext cx="2335320" cy="912960"/>
          </a:xfrm>
          <a:custGeom>
            <a:avLst/>
            <a:gdLst>
              <a:gd name="textAreaLeft" fmla="*/ 583560 w 2335320"/>
              <a:gd name="textAreaRight" fmla="*/ 1751760 w 2335320"/>
              <a:gd name="textAreaTop" fmla="*/ 0 h 912960"/>
              <a:gd name="textAreaBottom" fmla="*/ 798840 h 9129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上凸带形 12"/>
          <p:cNvSpPr/>
          <p:nvPr/>
        </p:nvSpPr>
        <p:spPr>
          <a:xfrm>
            <a:off x="6165720" y="2643120"/>
            <a:ext cx="2335320" cy="912960"/>
          </a:xfrm>
          <a:custGeom>
            <a:avLst/>
            <a:gdLst>
              <a:gd name="textAreaLeft" fmla="*/ 583560 w 2335320"/>
              <a:gd name="textAreaRight" fmla="*/ 1751760 w 2335320"/>
              <a:gd name="textAreaTop" fmla="*/ 0 h 912960"/>
              <a:gd name="textAreaBottom" fmla="*/ 798840 h 9129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3808440" y="2938320"/>
            <a:ext cx="157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体奖：颁发奖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6418440" y="2895480"/>
            <a:ext cx="201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育单项设一、二等奖各一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969840" y="2786040"/>
            <a:ext cx="157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园活动每赢一次就获得糖果或其他一些实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0" descr="4.png"/>
          <p:cNvPicPr/>
          <p:nvPr/>
        </p:nvPicPr>
        <p:blipFill>
          <a:blip r:embed="rId2"/>
          <a:stretch/>
        </p:blipFill>
        <p:spPr>
          <a:xfrm>
            <a:off x="358920" y="168120"/>
            <a:ext cx="8356320" cy="5975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1143000" y="2620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1643040" y="2500200"/>
            <a:ext cx="5929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年一度的“六一” 儿童节到了，为了增添节日氛围，让学生过得开心有意义，丰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少年儿童的学习生活，使之从中得到锻炼，让学生度过一个快乐、精彩、向上的“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”儿童节。希望通过活动，使学生人人自主地参与活动之中，在活动中陶冶情操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中获取知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;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活动中培养能力。经校领导小组研究决定，我校将举行丰富多彩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，为使活动开展得安全有序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将活动内容拟订如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5857920" y="4643280"/>
            <a:ext cx="20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特发此状，以资鼓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1165320" y="285840"/>
            <a:ext cx="41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内容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队员入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0" descr="20110603100700243.jpg"/>
          <p:cNvPicPr/>
          <p:nvPr/>
        </p:nvPicPr>
        <p:blipFill>
          <a:blip r:embed="rId2"/>
          <a:stretch/>
        </p:blipFill>
        <p:spPr>
          <a:xfrm>
            <a:off x="2000160" y="1643040"/>
            <a:ext cx="5651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圆角矩形 16"/>
          <p:cNvSpPr/>
          <p:nvPr/>
        </p:nvSpPr>
        <p:spPr>
          <a:xfrm>
            <a:off x="3286080" y="4156200"/>
            <a:ext cx="2786040" cy="428400"/>
          </a:xfrm>
          <a:prstGeom prst="roundRect">
            <a:avLst>
              <a:gd name="adj" fmla="val 16667"/>
            </a:avLst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7"/>
          <p:cNvSpPr/>
          <p:nvPr/>
        </p:nvSpPr>
        <p:spPr>
          <a:xfrm>
            <a:off x="3286080" y="472752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14"/>
          <p:cNvSpPr/>
          <p:nvPr/>
        </p:nvSpPr>
        <p:spPr>
          <a:xfrm>
            <a:off x="3286080" y="3013200"/>
            <a:ext cx="2786040" cy="428400"/>
          </a:xfrm>
          <a:prstGeom prst="roundRect">
            <a:avLst>
              <a:gd name="adj" fmla="val 16667"/>
            </a:avLst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15"/>
          <p:cNvSpPr/>
          <p:nvPr/>
        </p:nvSpPr>
        <p:spPr>
          <a:xfrm>
            <a:off x="3286080" y="358452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12"/>
          <p:cNvSpPr/>
          <p:nvPr/>
        </p:nvSpPr>
        <p:spPr>
          <a:xfrm>
            <a:off x="3286080" y="1870200"/>
            <a:ext cx="2786040" cy="428400"/>
          </a:xfrm>
          <a:prstGeom prst="roundRect">
            <a:avLst>
              <a:gd name="adj" fmla="val 16667"/>
            </a:avLst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13"/>
          <p:cNvSpPr/>
          <p:nvPr/>
        </p:nvSpPr>
        <p:spPr>
          <a:xfrm>
            <a:off x="3286080" y="2441520"/>
            <a:ext cx="2786040" cy="428760"/>
          </a:xfrm>
          <a:prstGeom prst="roundRect">
            <a:avLst>
              <a:gd name="adj" fmla="val 16667"/>
            </a:avLst>
          </a:pr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1165320" y="285840"/>
            <a:ext cx="41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内容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体育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3857760" y="1928880"/>
            <a:ext cx="200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篮球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乒乓球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拔河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赛跑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跳绳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呼啦圈比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1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73" name="组合 1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1165320" y="285840"/>
            <a:ext cx="419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内容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园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18"/>
          <p:cNvSpPr/>
          <p:nvPr/>
        </p:nvSpPr>
        <p:spPr>
          <a:xfrm>
            <a:off x="4154400" y="2790720"/>
            <a:ext cx="1417680" cy="1417680"/>
          </a:xfrm>
          <a:prstGeom prst="ellips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9"/>
          <p:cNvSpPr/>
          <p:nvPr/>
        </p:nvSpPr>
        <p:spPr>
          <a:xfrm>
            <a:off x="3429000" y="2279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钓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0"/>
          <p:cNvSpPr/>
          <p:nvPr/>
        </p:nvSpPr>
        <p:spPr>
          <a:xfrm>
            <a:off x="5357880" y="22082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蒙眼打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1"/>
          <p:cNvSpPr/>
          <p:nvPr/>
        </p:nvSpPr>
        <p:spPr>
          <a:xfrm>
            <a:off x="4572000" y="3338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套圈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2"/>
          <p:cNvSpPr/>
          <p:nvPr/>
        </p:nvSpPr>
        <p:spPr>
          <a:xfrm>
            <a:off x="5500800" y="44942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点投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3071880" y="46371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拍乒乓球步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圆角矩形 12"/>
          <p:cNvSpPr/>
          <p:nvPr/>
        </p:nvSpPr>
        <p:spPr>
          <a:xfrm>
            <a:off x="1214280" y="1778040"/>
            <a:ext cx="6858000" cy="3714840"/>
          </a:xfrm>
          <a:prstGeom prst="roundRect">
            <a:avLst>
              <a:gd name="adj" fmla="val 16667"/>
            </a:avLst>
          </a:pr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1603800" y="285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活动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1643040" y="1992240"/>
            <a:ext cx="714384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新队员入队仪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跳绳比赛：分低、中、高年级组 ，每班男女生各选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赛跑比赛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项跑：分男女生两组，且分低、中、高年级组同组比赛。每班选送男女生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力赛：分男女生两组，且分低、中、高年级组同组比赛。每班选送男女生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乒乓球比赛：每班选送男女生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拔河比赛：分低、中、高年级组，人数根据实际情况来定，男女生分组进行比赛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呼啦圈比赛：每班选送男女生各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队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篮球赛：五、六年级，只限男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6" descr="jbh0912091926be20da6b3e303464.jpg"/>
          <p:cNvPicPr/>
          <p:nvPr/>
        </p:nvPicPr>
        <p:blipFill>
          <a:blip r:embed="rId2"/>
          <a:stretch/>
        </p:blipFill>
        <p:spPr>
          <a:xfrm>
            <a:off x="2608200" y="4943520"/>
            <a:ext cx="1031760" cy="603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2" descr="1.jpg"/>
          <p:cNvPicPr/>
          <p:nvPr/>
        </p:nvPicPr>
        <p:blipFill>
          <a:blip r:embed="rId3"/>
          <a:stretch/>
        </p:blipFill>
        <p:spPr>
          <a:xfrm>
            <a:off x="2898720" y="3992400"/>
            <a:ext cx="673200" cy="9511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3" descr="2-1402240TG1504.jpg"/>
          <p:cNvPicPr/>
          <p:nvPr/>
        </p:nvPicPr>
        <p:blipFill>
          <a:blip r:embed="rId4"/>
          <a:stretch/>
        </p:blipFill>
        <p:spPr>
          <a:xfrm>
            <a:off x="2571840" y="2585880"/>
            <a:ext cx="788760" cy="7891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5" descr="13820967193.jpg"/>
          <p:cNvPicPr/>
          <p:nvPr/>
        </p:nvPicPr>
        <p:blipFill>
          <a:blip r:embed="rId5"/>
          <a:stretch/>
        </p:blipFill>
        <p:spPr>
          <a:xfrm>
            <a:off x="2722680" y="1800360"/>
            <a:ext cx="788760" cy="7887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0"/>
          <p:cNvSpPr/>
          <p:nvPr/>
        </p:nvSpPr>
        <p:spPr>
          <a:xfrm>
            <a:off x="1143000" y="1371600"/>
            <a:ext cx="19288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“跳绳”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“拔河”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“赛跑” 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“接力赛” 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“篮球赛” 的裁判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负责登记、拍照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  总负责人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11" descr="[s]1007122212d0872d62e2800ff0.jpg"/>
          <p:cNvPicPr/>
          <p:nvPr/>
        </p:nvPicPr>
        <p:blipFill>
          <a:blip r:embed="rId6"/>
          <a:stretch/>
        </p:blipFill>
        <p:spPr>
          <a:xfrm>
            <a:off x="2714760" y="1093680"/>
            <a:ext cx="601560" cy="8496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14" descr="12I2422a3Z34K7.gif"/>
          <p:cNvPicPr/>
          <p:nvPr/>
        </p:nvPicPr>
        <p:blipFill>
          <a:blip r:embed="rId7"/>
          <a:stretch/>
        </p:blipFill>
        <p:spPr>
          <a:xfrm>
            <a:off x="2928960" y="3443400"/>
            <a:ext cx="747720" cy="5238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145836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裁判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五边形 17"/>
          <p:cNvSpPr/>
          <p:nvPr/>
        </p:nvSpPr>
        <p:spPr>
          <a:xfrm>
            <a:off x="3571920" y="1300320"/>
            <a:ext cx="3857760" cy="35712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五边形 18"/>
          <p:cNvSpPr/>
          <p:nvPr/>
        </p:nvSpPr>
        <p:spPr>
          <a:xfrm flipH="1">
            <a:off x="4071960" y="2014560"/>
            <a:ext cx="3857760" cy="357120"/>
          </a:xfrm>
          <a:custGeom>
            <a:avLst/>
            <a:gdLst>
              <a:gd name="textAreaLeft" fmla="*/ 360 w 3857760"/>
              <a:gd name="textAreaRight" fmla="*/ 385848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五边形 19"/>
          <p:cNvSpPr/>
          <p:nvPr/>
        </p:nvSpPr>
        <p:spPr>
          <a:xfrm>
            <a:off x="3429000" y="2800440"/>
            <a:ext cx="3857760" cy="35712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五边形 20"/>
          <p:cNvSpPr/>
          <p:nvPr/>
        </p:nvSpPr>
        <p:spPr>
          <a:xfrm flipH="1">
            <a:off x="4071960" y="3514680"/>
            <a:ext cx="3857760" cy="357120"/>
          </a:xfrm>
          <a:custGeom>
            <a:avLst/>
            <a:gdLst>
              <a:gd name="textAreaLeft" fmla="*/ 360 w 3857760"/>
              <a:gd name="textAreaRight" fmla="*/ 385848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五边形 21"/>
          <p:cNvSpPr/>
          <p:nvPr/>
        </p:nvSpPr>
        <p:spPr>
          <a:xfrm>
            <a:off x="4286160" y="4371840"/>
            <a:ext cx="3857760" cy="35748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五边形 22"/>
          <p:cNvSpPr/>
          <p:nvPr/>
        </p:nvSpPr>
        <p:spPr>
          <a:xfrm flipH="1">
            <a:off x="3571920" y="5014800"/>
            <a:ext cx="3857760" cy="357480"/>
          </a:xfrm>
          <a:custGeom>
            <a:avLst/>
            <a:gdLst>
              <a:gd name="textAreaLeft" fmla="*/ 360 w 3857760"/>
              <a:gd name="textAreaRight" fmla="*/ 3858480 w 385776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d08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五边形 23"/>
          <p:cNvSpPr/>
          <p:nvPr/>
        </p:nvSpPr>
        <p:spPr>
          <a:xfrm>
            <a:off x="2928960" y="5657760"/>
            <a:ext cx="3857760" cy="357120"/>
          </a:xfrm>
          <a:custGeom>
            <a:avLst/>
            <a:gdLst>
              <a:gd name="textAreaLeft" fmla="*/ 0 w 3857760"/>
              <a:gd name="textAreaRight" fmla="*/ 3858120 w 38577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28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1603800" y="285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游园活动负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3643200" y="1714680"/>
            <a:ext cx="32860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钓鱼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蒙眼打球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套圈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乒乓球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手持乒乓球拍顶乒乓球步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     xx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左弧形箭头 11"/>
          <p:cNvSpPr/>
          <p:nvPr/>
        </p:nvSpPr>
        <p:spPr>
          <a:xfrm>
            <a:off x="3143160" y="1857240"/>
            <a:ext cx="428760" cy="712800"/>
          </a:xfrm>
          <a:custGeom>
            <a:avLst/>
            <a:gdLst>
              <a:gd name="textAreaLeft" fmla="*/ 57240 w 428760"/>
              <a:gd name="textAreaRight" fmla="*/ 371520 w 428760"/>
              <a:gd name="textAreaTop" fmla="*/ 137880 h 712800"/>
              <a:gd name="textAreaBottom" fmla="*/ 5212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6" stAng="-5400000" swAng="-5400000"/>
                <a:lnTo>
                  <a:pt x="0" y="11612"/>
                </a:lnTo>
                <a:arcTo wR="21600" hR="8366" stAng="10800000" swAng="-3378569"/>
                <a:lnTo>
                  <a:pt x="16200" y="21334"/>
                </a:lnTo>
                <a:lnTo>
                  <a:pt x="21600" y="18354"/>
                </a:lnTo>
                <a:lnTo>
                  <a:pt x="16200" y="14842"/>
                </a:lnTo>
                <a:lnTo>
                  <a:pt x="16200" y="16465"/>
                </a:lnTo>
                <a:arcTo wR="21600" hR="8366" stAng="7421431" swAng="3115770"/>
                <a:lnTo>
                  <a:pt x="410" y="9989"/>
                </a:lnTo>
                <a:arcTo wR="21600" hR="8366" stAng="-10537202" swAng="5137202"/>
                <a:close/>
              </a:path>
              <a:path fill="darkenLess" w="21600" h="21600">
                <a:moveTo>
                  <a:pt x="21600" y="0"/>
                </a:moveTo>
                <a:arcTo wR="21600" hR="8366" stAng="-5400000" swAng="-5400000"/>
                <a:lnTo>
                  <a:pt x="0" y="8366"/>
                </a:lnTo>
                <a:arcTo wR="21600" hR="8366" stAng="10800000" swAng="-262798"/>
                <a:lnTo>
                  <a:pt x="410" y="9989"/>
                </a:lnTo>
                <a:arcTo wR="21600" hR="8366" stAng="-10537202" swAng="5137202"/>
                <a:close/>
              </a:path>
            </a:pathLst>
          </a:custGeom>
          <a:solidFill>
            <a:srgbClr val="ad081d"/>
          </a:solidFill>
          <a:ln w="25560">
            <a:solidFill>
              <a:srgbClr val="ad0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左弧形箭头 12"/>
          <p:cNvSpPr/>
          <p:nvPr/>
        </p:nvSpPr>
        <p:spPr>
          <a:xfrm flipH="1">
            <a:off x="5428440" y="2643120"/>
            <a:ext cx="428760" cy="712800"/>
          </a:xfrm>
          <a:custGeom>
            <a:avLst/>
            <a:gdLst>
              <a:gd name="textAreaLeft" fmla="*/ 57240 w 428760"/>
              <a:gd name="textAreaRight" fmla="*/ 371520 w 428760"/>
              <a:gd name="textAreaTop" fmla="*/ 137880 h 712800"/>
              <a:gd name="textAreaBottom" fmla="*/ 5212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4" stAng="-5400000" swAng="-5400000"/>
                <a:lnTo>
                  <a:pt x="0" y="11612"/>
                </a:lnTo>
                <a:arcTo wR="21600" hR="8364" stAng="10800000" swAng="-3378189"/>
                <a:lnTo>
                  <a:pt x="16200" y="21334"/>
                </a:lnTo>
                <a:lnTo>
                  <a:pt x="21600" y="18351"/>
                </a:lnTo>
                <a:lnTo>
                  <a:pt x="16200" y="14836"/>
                </a:lnTo>
                <a:lnTo>
                  <a:pt x="16200" y="16461"/>
                </a:lnTo>
                <a:arcTo wR="21600" hR="8364" stAng="7421811" swAng="3115221"/>
                <a:lnTo>
                  <a:pt x="411" y="9988"/>
                </a:lnTo>
                <a:arcTo wR="21600" hR="8364" stAng="-10537031" swAng="5137031"/>
                <a:close/>
              </a:path>
              <a:path fill="darkenLess" w="21600" h="21600">
                <a:moveTo>
                  <a:pt x="21600" y="0"/>
                </a:moveTo>
                <a:arcTo wR="21600" hR="8364" stAng="-5400000" swAng="-5400000"/>
                <a:lnTo>
                  <a:pt x="0" y="8364"/>
                </a:lnTo>
                <a:arcTo wR="21600" hR="8364" stAng="10800000" swAng="-262969"/>
                <a:lnTo>
                  <a:pt x="411" y="9988"/>
                </a:lnTo>
                <a:arcTo wR="21600" hR="8364" stAng="-10537031" swAng="5137031"/>
                <a:close/>
              </a:path>
            </a:pathLst>
          </a:custGeom>
          <a:solidFill>
            <a:srgbClr val="2284c7"/>
          </a:solidFill>
          <a:ln w="25560">
            <a:solidFill>
              <a:srgbClr val="228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左弧形箭头 13"/>
          <p:cNvSpPr/>
          <p:nvPr/>
        </p:nvSpPr>
        <p:spPr>
          <a:xfrm>
            <a:off x="3286080" y="3359160"/>
            <a:ext cx="428760" cy="712800"/>
          </a:xfrm>
          <a:custGeom>
            <a:avLst/>
            <a:gdLst>
              <a:gd name="textAreaLeft" fmla="*/ 57240 w 428760"/>
              <a:gd name="textAreaRight" fmla="*/ 371520 w 428760"/>
              <a:gd name="textAreaTop" fmla="*/ 137880 h 712800"/>
              <a:gd name="textAreaBottom" fmla="*/ 5212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6" stAng="-5400000" swAng="-5400000"/>
                <a:lnTo>
                  <a:pt x="0" y="11612"/>
                </a:lnTo>
                <a:arcTo wR="21600" hR="8366" stAng="10800000" swAng="-3378569"/>
                <a:lnTo>
                  <a:pt x="16200" y="21334"/>
                </a:lnTo>
                <a:lnTo>
                  <a:pt x="21600" y="18354"/>
                </a:lnTo>
                <a:lnTo>
                  <a:pt x="16200" y="14842"/>
                </a:lnTo>
                <a:lnTo>
                  <a:pt x="16200" y="16465"/>
                </a:lnTo>
                <a:arcTo wR="21600" hR="8366" stAng="7421431" swAng="3115770"/>
                <a:lnTo>
                  <a:pt x="410" y="9989"/>
                </a:lnTo>
                <a:arcTo wR="21600" hR="8366" stAng="-10537202" swAng="5137202"/>
                <a:close/>
              </a:path>
              <a:path fill="darkenLess" w="21600" h="21600">
                <a:moveTo>
                  <a:pt x="21600" y="0"/>
                </a:moveTo>
                <a:arcTo wR="21600" hR="8366" stAng="-5400000" swAng="-5400000"/>
                <a:lnTo>
                  <a:pt x="0" y="8366"/>
                </a:lnTo>
                <a:arcTo wR="21600" hR="8366" stAng="10800000" swAng="-262798"/>
                <a:lnTo>
                  <a:pt x="410" y="9989"/>
                </a:lnTo>
                <a:arcTo wR="21600" hR="8366" stAng="-10537202" swAng="5137202"/>
                <a:close/>
              </a:path>
            </a:pathLst>
          </a:custGeom>
          <a:solidFill>
            <a:srgbClr val="ad081d"/>
          </a:solidFill>
          <a:ln w="25560">
            <a:solidFill>
              <a:srgbClr val="ad08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左弧形箭头 14"/>
          <p:cNvSpPr/>
          <p:nvPr/>
        </p:nvSpPr>
        <p:spPr>
          <a:xfrm flipH="1">
            <a:off x="5357880" y="4002120"/>
            <a:ext cx="428400" cy="712800"/>
          </a:xfrm>
          <a:custGeom>
            <a:avLst/>
            <a:gdLst>
              <a:gd name="textAreaLeft" fmla="*/ 57240 w 428400"/>
              <a:gd name="textAreaRight" fmla="*/ 371160 w 428400"/>
              <a:gd name="textAreaTop" fmla="*/ 137880 h 712800"/>
              <a:gd name="textAreaBottom" fmla="*/ 5212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4" stAng="-5400000" swAng="-5400000"/>
                <a:lnTo>
                  <a:pt x="0" y="11612"/>
                </a:lnTo>
                <a:arcTo wR="21600" hR="8364" stAng="10800000" swAng="-3378189"/>
                <a:lnTo>
                  <a:pt x="16200" y="21334"/>
                </a:lnTo>
                <a:lnTo>
                  <a:pt x="21600" y="18351"/>
                </a:lnTo>
                <a:lnTo>
                  <a:pt x="16200" y="14836"/>
                </a:lnTo>
                <a:lnTo>
                  <a:pt x="16200" y="16461"/>
                </a:lnTo>
                <a:arcTo wR="21600" hR="8364" stAng="7421811" swAng="3115221"/>
                <a:lnTo>
                  <a:pt x="411" y="9988"/>
                </a:lnTo>
                <a:arcTo wR="21600" hR="8364" stAng="-10537031" swAng="5137031"/>
                <a:close/>
              </a:path>
              <a:path fill="darkenLess" w="21600" h="21600">
                <a:moveTo>
                  <a:pt x="21600" y="0"/>
                </a:moveTo>
                <a:arcTo wR="21600" hR="8364" stAng="-5400000" swAng="-5400000"/>
                <a:lnTo>
                  <a:pt x="0" y="8364"/>
                </a:lnTo>
                <a:arcTo wR="21600" hR="8364" stAng="10800000" swAng="-262969"/>
                <a:lnTo>
                  <a:pt x="411" y="9988"/>
                </a:lnTo>
                <a:arcTo wR="21600" hR="8364" stAng="-10537031" swAng="5137031"/>
                <a:close/>
              </a:path>
            </a:pathLst>
          </a:custGeom>
          <a:solidFill>
            <a:srgbClr val="2284c7"/>
          </a:solidFill>
          <a:ln w="25560">
            <a:solidFill>
              <a:srgbClr val="228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145836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间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1500120" y="2000160"/>
            <a:ext cx="554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篮球赛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下午课外活动课进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6"/>
          <p:cNvSpPr/>
          <p:nvPr/>
        </p:nvSpPr>
        <p:spPr>
          <a:xfrm>
            <a:off x="2714760" y="2000160"/>
            <a:ext cx="64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乒乓球赛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下午课外活动课进行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4098960" y="2000160"/>
            <a:ext cx="830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新队员入队仪式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上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进行。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xxx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持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8"/>
          <p:cNvSpPr/>
          <p:nvPr/>
        </p:nvSpPr>
        <p:spPr>
          <a:xfrm>
            <a:off x="5456160" y="1928880"/>
            <a:ext cx="83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其它项目比赛顺序：呼啦圈、跳绳、单项跑、接力赛、拔河  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比赛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上午进行。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9"/>
          <p:cNvSpPr/>
          <p:nvPr/>
        </p:nvSpPr>
        <p:spPr>
          <a:xfrm>
            <a:off x="6858000" y="2000160"/>
            <a:ext cx="64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游园活动下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开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05:31Z</dcterms:modified>
  <cp:revision>32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