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52E-6410-459E-B4C0-35731116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C51-2CC3-49C7-8F52-3C84902D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615-FD68-4096-ABFA-41785596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354-C462-421C-8E2E-79CB982D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BEB7-6010-4BD3-A2F3-B049EB51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8140-5B97-4B07-B4BE-6016C8EF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04C1-F466-410F-BED9-A649820B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C96B-1622-4FBD-ADF1-B376D0E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2C03-DFA9-47F8-A902-36E1778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735-40A6-412E-9A26-5EF733DD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94E4-F543-4980-8DC2-02F784A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92F-40A7-40FE-9605-7E93DEEC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8555-7310-4A69-8289-A8611512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3B2-3C48-4AD6-8FA6-A561DE9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1799-37F5-4ACB-982C-6C2CAB6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FB1F-0CB8-4838-83BB-54C44BD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FB7-BC46-481A-9619-7EAF6E02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502-ABA1-47CC-8459-95DCED2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9CF-C16E-4421-8604-89B4F3C6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314-9050-456C-92E2-BD6A4AF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447-F250-4273-8B4D-2E7D0B5D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5BC-5C89-4EB8-AB9A-8D88461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08A-6E6E-4080-9E59-FF105528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ADA-EA2D-44D4-BECE-6E11473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C5A0-779B-4305-BA83-43212047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DDC0-71B3-4F08-9D77-51CCFCC0DE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752480" y="1619280"/>
            <a:ext cx="7086600" cy="4476600"/>
            <a:chOff x="1752480" y="1619280"/>
            <a:chExt cx="7086600" cy="4476600"/>
          </a:xfrm>
        </p:grpSpPr>
        <p:sp>
          <p:nvSpPr>
            <p:cNvPr id="83" name="未知"/>
            <p:cNvSpPr/>
            <p:nvPr/>
          </p:nvSpPr>
          <p:spPr>
            <a:xfrm>
              <a:off x="1752480" y="20574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2200" y="3581280"/>
              <a:ext cx="2666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876400">
              <a:off x="40021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33720" y="38289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4240" y="38386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71880" y="38545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89880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49520" y="4456080"/>
              <a:ext cx="876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826600">
              <a:off x="215892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082600" y="3448080"/>
              <a:ext cx="1371240" cy="1441080"/>
              <a:chOff x="2082600" y="3448080"/>
              <a:chExt cx="1371240" cy="1441080"/>
            </a:xfrm>
          </p:grpSpPr>
          <p:sp>
            <p:nvSpPr>
              <p:cNvPr id="93" name=""/>
              <p:cNvSpPr/>
              <p:nvPr/>
            </p:nvSpPr>
            <p:spPr>
              <a:xfrm>
                <a:off x="208260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100600" y="34563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135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85200" y="35064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62320" y="3954240"/>
                <a:ext cx="7754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9810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740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00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8116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51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2520" y="242568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47920" y="21528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70320" y="16192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79680" y="16225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616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22520" y="16477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40160" y="1843200"/>
              <a:ext cx="5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5080" y="917640"/>
            <a:ext cx="34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箭头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库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02D1-6921-41DB-8F23-76EFDE86F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02:3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55:1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