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405-7358-41FF-A5EE-A004E62E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536-924E-4368-B90D-66854F4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B04-D965-4851-BB18-7AF2410D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577-ADC4-451F-884A-33DE0EFD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78F-C8B6-4AC6-9C90-055721C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EF1-B144-4A40-9797-F490F27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3D2-DB72-4FD9-BB34-2710ECE6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A48-61D5-45A6-A7E6-A55313E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383-0A8C-415F-ADBF-C3DB29E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366-58D3-4763-9695-E83F6D2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A49-2B44-4EAC-AB85-63534F3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0BB-DC69-4F47-8737-688FDD5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F8F-CC15-44C2-9099-162B9852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图片2"/>
          <p:cNvPicPr/>
          <p:nvPr/>
        </p:nvPicPr>
        <p:blipFill>
          <a:blip r:embed="rId1"/>
          <a:stretch/>
        </p:blipFill>
        <p:spPr>
          <a:xfrm>
            <a:off x="3387600" y="1776240"/>
            <a:ext cx="2540160" cy="3130560"/>
          </a:xfrm>
          <a:prstGeom prst="rect">
            <a:avLst/>
          </a:prstGeom>
          <a:ln w="0">
            <a:noFill/>
          </a:ln>
        </p:spPr>
      </p:pic>
      <p:pic>
        <p:nvPicPr>
          <p:cNvPr id="42" name="吉祥的鄂尔多斯" descr="未标题-1副本"/>
          <p:cNvPicPr/>
          <p:nvPr/>
        </p:nvPicPr>
        <p:blipFill>
          <a:blip r:embed="rId2"/>
          <a:stretch/>
        </p:blipFill>
        <p:spPr>
          <a:xfrm>
            <a:off x="819000" y="157968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腾格里保佑" descr="C:\Documents and Settings\朝日格图\桌面\图片1.png"/>
          <p:cNvPicPr/>
          <p:nvPr/>
        </p:nvPicPr>
        <p:blipFill>
          <a:blip r:embed="rId3"/>
          <a:stretch/>
        </p:blipFill>
        <p:spPr>
          <a:xfrm>
            <a:off x="3602160" y="281160"/>
            <a:ext cx="2340000" cy="646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9960" y="6413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碧野茫茫的鄂尔多斯大草原在距内蒙古乌海市区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多公里的桌子山东麓，在这里既可以欣赏到内蒙古草原的绮丽风光，也可以到牧民家中领略鄂尔多斯蒙古民族的风情，还可以看到现代畜牧业发展的壮景。鄂尔多斯大草原属半荒漠草原，响沙湾是游人滑沙、乘骆驼游沙漠的好地方。这里以一代天骄成吉思汗陵墓而驰名。鄂尔多斯歌舞者衣着装饰华丽，这里的祭祀活动礼仪隆重，元代宫廷“诈马宴”非常独特。鄂尔多斯大草原视野面积长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4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宽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3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总面积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2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平方公里。核心区由一个蒙古大包和多个蒙古包组成的蒙古包群，其中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89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豪华蒙古包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超豪华总统套蒙古包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传统蒙古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鄂尔多斯草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49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七星湖沙漠生态旅游区这里尽是沙，奇峰耸拔，环立如障，这里全是湖，碧波涟漪，静谧秀丽。这里就是七星湖旅游区，位于鄂尔多斯市杭锦旗境内的库布齐沙漠腹地，距巴杭公路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4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距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1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国道及京兰铁路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6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距草原钢城包头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4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呼和浩特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33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北京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8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是以沙漠生态观光产品为主，集娱乐、休闲、度假、探险为一体的国家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AAA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级综合旅游区。七星湖是黄河故道的冲击湖，由于七个湖泊分布呈北斗七星状，故得名“七星湖”，因此有了“天上北斗星，地上七星湖”一说。湖中有大量的田螺，在高度缺氧时，它们被迫上岸，成了鸟类的食物，周边的绿洲草场和锁住黄沙的沙枣林带，使这里成为沙漠里的世外桃源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七星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55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银肯响沙（即响沙湾）居中国各响沙之首，被称为“响沙之王”。它位于内蒙古鄂尔多斯市达拉特旗南部，库布其沙漠的东端，北距草原钢城包头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银肯是蒙语，汉语意思是“永久”，银肯响沙陡立于罕台河谷西岸，有清泉从坡底涌出。响沙湾沙高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1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米，宽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4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米，依着滚滚沙丘，面临大川，背风向阳坡，地形呈月牙形分布，坡度为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45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度角倾斜，形成一个巨大的沙丘回音壁。沙子干燥时，游客攀着软梯，或乘坐缆车登上“银肯”沙丘顶，往下滑溜，沙丘会发出轰隆声，轻则如青蛙“呱呱”的叫声，重则像汽车、飞机轰鸣，又如惊雷贯耳，更像一曲激昂澎湃的交响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响沙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61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图片"/>
          <p:cNvSpPr/>
          <p:nvPr/>
        </p:nvSpPr>
        <p:spPr>
          <a:xfrm>
            <a:off x="5038560" y="1571760"/>
            <a:ext cx="3686400" cy="276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内容"/>
          <p:cNvSpPr/>
          <p:nvPr/>
        </p:nvSpPr>
        <p:spPr>
          <a:xfrm>
            <a:off x="5038560" y="4321080"/>
            <a:ext cx="3686400" cy="22654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鄂尔多斯”为蒙古语，汉语意为“众多的宫殿”，是成吉思汗守陵部落名称。清朝顺治六年，鄂尔多斯各旗在达拉特旗规模宏伟的王爱召会盟，形成了“伊克昭盟”，解放后，划入内蒙古自治区至今。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2001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年经国务院批准撤消伊克昭盟，成立鄂尔多斯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标题"/>
          <p:cNvSpPr/>
          <p:nvPr/>
        </p:nvSpPr>
        <p:spPr>
          <a:xfrm>
            <a:off x="5038560" y="979560"/>
            <a:ext cx="3686400" cy="59220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鄂尔多斯”由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名胜古迹"/>
          <p:cNvSpPr/>
          <p:nvPr/>
        </p:nvSpPr>
        <p:spPr>
          <a:xfrm>
            <a:off x="160200" y="979560"/>
            <a:ext cx="4470480" cy="316080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名胜古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-176040" y="1438200"/>
            <a:ext cx="2757240" cy="1282680"/>
            <a:chOff x="-176040" y="1438200"/>
            <a:chExt cx="2757240" cy="1282680"/>
          </a:xfrm>
        </p:grpSpPr>
        <p:pic>
          <p:nvPicPr>
            <p:cNvPr id="68" name="Picture 174" descr="G:\3.png"/>
            <p:cNvPicPr/>
            <p:nvPr/>
          </p:nvPicPr>
          <p:blipFill>
            <a:blip r:embed="rId2"/>
            <a:stretch/>
          </p:blipFill>
          <p:spPr>
            <a:xfrm>
              <a:off x="-176040" y="1438200"/>
              <a:ext cx="27572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7"/>
            <p:cNvSpPr/>
            <p:nvPr/>
          </p:nvSpPr>
          <p:spPr>
            <a:xfrm>
              <a:off x="1220040" y="23526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吉思汗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2989440" y="716040"/>
            <a:ext cx="1498320" cy="1443240"/>
            <a:chOff x="2989440" y="716040"/>
            <a:chExt cx="1498320" cy="1443240"/>
          </a:xfrm>
        </p:grpSpPr>
        <p:pic>
          <p:nvPicPr>
            <p:cNvPr id="71" name="Picture 175" descr="G:\2.png"/>
            <p:cNvPicPr/>
            <p:nvPr/>
          </p:nvPicPr>
          <p:blipFill>
            <a:blip r:embed="rId3"/>
            <a:stretch/>
          </p:blipFill>
          <p:spPr>
            <a:xfrm>
              <a:off x="2989440" y="716040"/>
              <a:ext cx="149832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8"/>
            <p:cNvSpPr/>
            <p:nvPr/>
          </p:nvSpPr>
          <p:spPr>
            <a:xfrm>
              <a:off x="3752640" y="1791000"/>
              <a:ext cx="59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百眼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2854440" y="2343240"/>
            <a:ext cx="2184120" cy="1787400"/>
            <a:chOff x="2854440" y="2343240"/>
            <a:chExt cx="2184120" cy="1787400"/>
          </a:xfrm>
        </p:grpSpPr>
        <p:pic>
          <p:nvPicPr>
            <p:cNvPr id="74" name="Picture 172" descr="G:\1.png"/>
            <p:cNvPicPr/>
            <p:nvPr/>
          </p:nvPicPr>
          <p:blipFill>
            <a:blip r:embed="rId4"/>
            <a:stretch/>
          </p:blipFill>
          <p:spPr>
            <a:xfrm>
              <a:off x="2854440" y="2343240"/>
              <a:ext cx="218412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9"/>
            <p:cNvSpPr/>
            <p:nvPr/>
          </p:nvSpPr>
          <p:spPr>
            <a:xfrm>
              <a:off x="4089960" y="3762360"/>
              <a:ext cx="729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准格尔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-115920" y="2820960"/>
            <a:ext cx="2755800" cy="1235160"/>
            <a:chOff x="-115920" y="2820960"/>
            <a:chExt cx="2755800" cy="1235160"/>
          </a:xfrm>
        </p:grpSpPr>
        <p:pic>
          <p:nvPicPr>
            <p:cNvPr id="77" name="Picture 173" descr="G:\4.png"/>
            <p:cNvPicPr/>
            <p:nvPr/>
          </p:nvPicPr>
          <p:blipFill>
            <a:blip r:embed="rId5"/>
            <a:stretch/>
          </p:blipFill>
          <p:spPr>
            <a:xfrm>
              <a:off x="-115920" y="2820960"/>
              <a:ext cx="27558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10"/>
            <p:cNvSpPr/>
            <p:nvPr/>
          </p:nvSpPr>
          <p:spPr>
            <a:xfrm>
              <a:off x="552240" y="36864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阿尔寨石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人文特色"/>
          <p:cNvSpPr/>
          <p:nvPr/>
        </p:nvSpPr>
        <p:spPr>
          <a:xfrm>
            <a:off x="190440" y="4357800"/>
            <a:ext cx="4470480" cy="22366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人文特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9"/>
          <p:cNvGrpSpPr/>
          <p:nvPr/>
        </p:nvGrpSpPr>
        <p:grpSpPr>
          <a:xfrm>
            <a:off x="2206440" y="4140360"/>
            <a:ext cx="2732400" cy="2546280"/>
            <a:chOff x="2206440" y="4140360"/>
            <a:chExt cx="2732400" cy="2546280"/>
          </a:xfrm>
        </p:grpSpPr>
        <p:pic>
          <p:nvPicPr>
            <p:cNvPr id="81" name="Picture 16" descr="C:\Documents and Settings\ZhaoriGetu\桌面\2.png"/>
            <p:cNvPicPr/>
            <p:nvPr/>
          </p:nvPicPr>
          <p:blipFill>
            <a:blip r:embed="rId6"/>
            <a:stretch/>
          </p:blipFill>
          <p:spPr>
            <a:xfrm>
              <a:off x="2773080" y="4140360"/>
              <a:ext cx="216576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16"/>
            <p:cNvSpPr/>
            <p:nvPr/>
          </p:nvSpPr>
          <p:spPr>
            <a:xfrm>
              <a:off x="2206440" y="518796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歌舞的海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-298440" y="4476600"/>
            <a:ext cx="3053160" cy="2546640"/>
            <a:chOff x="-298440" y="4476600"/>
            <a:chExt cx="3053160" cy="2546640"/>
          </a:xfrm>
        </p:grpSpPr>
        <p:pic>
          <p:nvPicPr>
            <p:cNvPr id="84" name="Picture 15" descr="C:\Documents and Settings\ZhaoriGetu\桌面\1.png"/>
            <p:cNvPicPr/>
            <p:nvPr/>
          </p:nvPicPr>
          <p:blipFill>
            <a:blip r:embed="rId7"/>
            <a:stretch/>
          </p:blipFill>
          <p:spPr>
            <a:xfrm>
              <a:off x="-298440" y="4476600"/>
              <a:ext cx="2161440" cy="25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17"/>
            <p:cNvSpPr/>
            <p:nvPr/>
          </p:nvSpPr>
          <p:spPr>
            <a:xfrm>
              <a:off x="1888200" y="58482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酒的故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文化历史" descr="未标题-2副本"/>
          <p:cNvPicPr/>
          <p:nvPr/>
        </p:nvPicPr>
        <p:blipFill>
          <a:blip r:embed="rId8"/>
          <a:stretch/>
        </p:blipFill>
        <p:spPr>
          <a:xfrm>
            <a:off x="312840" y="200160"/>
            <a:ext cx="2247840" cy="558720"/>
          </a:xfrm>
          <a:prstGeom prst="rect">
            <a:avLst/>
          </a:prstGeom>
          <a:ln w="0">
            <a:noFill/>
          </a:ln>
        </p:spPr>
      </p:pic>
      <p:sp>
        <p:nvSpPr>
          <p:cNvPr id="87" name="返回"/>
          <p:cNvSpPr/>
          <p:nvPr/>
        </p:nvSpPr>
        <p:spPr>
          <a:xfrm>
            <a:off x="7794720" y="200160"/>
            <a:ext cx="1122120" cy="655560"/>
          </a:xfrm>
          <a:prstGeom prst="leftArrow">
            <a:avLst>
              <a:gd name="adj1" fmla="val 67111"/>
              <a:gd name="adj2" fmla="val 49996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5D1-585C-403F-AB17-9C0398E39B11}" type="slidenum">
              <a:t>6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7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33:30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