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32EF-128A-46A5-8CED-CC9984AE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716-168F-4465-B6BF-D5CDBA00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CC8-8A48-4671-A8E0-DD2B04C7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F7E2-8690-444F-9F46-95219EC9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53CB-C958-4E57-977F-F67EBEB3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CF52-6BAD-4682-9228-66144C52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47CA-26AA-4B57-AF58-A3C33330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CB65-5928-47D7-820E-F0B7A994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4D8D-A5FE-4A19-AD6B-FB2EF818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7791-ABB4-4295-A48F-C0F537D2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AB88-B0C8-4497-9D2F-E82873D2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E90A-5F48-4CBB-B403-05BD49B9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A425-9139-4844-BE86-6B2142AC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8AAD-30DC-44FA-8669-1118A9E4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00B0-EA27-462E-B3D9-D3B78381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256A-A39B-4524-B56E-6AC927A3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1D32-F69C-4687-8B36-35DE9C1A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3C51-2DFF-41EE-A8BD-7B536E31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0F9E-BAF4-48B2-9083-ED5B31B1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92A3-47F8-417B-9BF8-8D0D19F0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4982-2A23-49E8-BF47-3B884447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6161-104A-4062-BAEE-505BF663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62BE-8ECC-4DDB-8CDE-F850E11F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98AD-BC72-48A9-B1EE-DA24BBD1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5715000"/>
          </a:xfrm>
          <a:prstGeom prst="rect">
            <a:avLst/>
          </a:prstGeom>
          <a:ln w="0">
            <a:noFill/>
          </a:ln>
        </p:spPr>
      </p:pic>
      <p:pic>
        <p:nvPicPr>
          <p:cNvPr id="1" name="图片 2" descr=""/>
          <p:cNvPicPr/>
          <p:nvPr/>
        </p:nvPicPr>
        <p:blipFill>
          <a:blip r:embed="rId3"/>
          <a:stretch/>
        </p:blipFill>
        <p:spPr>
          <a:xfrm>
            <a:off x="3240" y="0"/>
            <a:ext cx="913752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1D7B-8532-4435-BAF6-2E6CAB1A8922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D2A7-71DF-4D13-AE3C-EF01A80ABAC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8BE8-BE0F-4B81-AE04-299DEC7448FB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7E64-6FC0-4951-B18A-C842B220B9A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标题 1"/>
          <p:cNvSpPr/>
          <p:nvPr/>
        </p:nvSpPr>
        <p:spPr>
          <a:xfrm>
            <a:off x="324000" y="2857680"/>
            <a:ext cx="45003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icrosoft PowerPoint  </a:t>
            </a:r>
            <a:r>
              <a:rPr b="1" i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标题 1"/>
          <p:cNvSpPr/>
          <p:nvPr/>
        </p:nvSpPr>
        <p:spPr>
          <a:xfrm>
            <a:off x="826920" y="3362400"/>
            <a:ext cx="37864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1040" y="530208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25280" y="11811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机械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2616120" y="1201680"/>
            <a:ext cx="3994200" cy="514440"/>
            <a:chOff x="2616120" y="1201680"/>
            <a:chExt cx="3994200" cy="514440"/>
          </a:xfrm>
        </p:grpSpPr>
        <p:grpSp>
          <p:nvGrpSpPr>
            <p:cNvPr id="126" name=""/>
            <p:cNvGrpSpPr/>
            <p:nvPr/>
          </p:nvGrpSpPr>
          <p:grpSpPr>
            <a:xfrm>
              <a:off x="2616120" y="1201680"/>
              <a:ext cx="3994200" cy="514440"/>
              <a:chOff x="2616120" y="1201680"/>
              <a:chExt cx="3994200" cy="514440"/>
            </a:xfrm>
          </p:grpSpPr>
          <p:sp>
            <p:nvSpPr>
              <p:cNvPr id="127" name="矩形 12"/>
              <p:cNvSpPr/>
              <p:nvPr/>
            </p:nvSpPr>
            <p:spPr>
              <a:xfrm>
                <a:off x="2727720" y="1201680"/>
                <a:ext cx="3812400" cy="509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5a5a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圆角矩形 13"/>
              <p:cNvSpPr/>
              <p:nvPr/>
            </p:nvSpPr>
            <p:spPr>
              <a:xfrm>
                <a:off x="2617200" y="1204560"/>
                <a:ext cx="292680" cy="508680"/>
              </a:xfrm>
              <a:custGeom>
                <a:avLst/>
                <a:gdLst>
                  <a:gd name="textAreaLeft" fmla="*/ 19440 w 292680"/>
                  <a:gd name="textAreaRight" fmla="*/ 273240 w 292680"/>
                  <a:gd name="textAreaTop" fmla="*/ 19440 h 508680"/>
                  <a:gd name="textAreaBottom" fmla="*/ 489240 h 508680"/>
                </a:gdLst>
                <a:ahLst/>
                <a:rect l="textAreaLeft" t="textAreaTop" r="textAreaRight" b="textAreaBottom"/>
                <a:pathLst>
                  <a:path w="21600" h="37521">
                    <a:moveTo>
                      <a:pt x="4906" y="0"/>
                    </a:moveTo>
                    <a:arcTo wR="4906" hR="4906" stAng="16200000" swAng="-5400000"/>
                    <a:lnTo>
                      <a:pt x="0" y="32615"/>
                    </a:lnTo>
                    <a:arcTo wR="4906" hR="4906" stAng="10800000" swAng="-5400000"/>
                    <a:lnTo>
                      <a:pt x="16694" y="37521"/>
                    </a:lnTo>
                    <a:arcTo wR="4906" hR="4906" stAng="5400000" swAng="-5400000"/>
                    <a:lnTo>
                      <a:pt x="21600" y="4906"/>
                    </a:lnTo>
                    <a:arcTo wR="4906" hR="4906" stAng="0" swAng="-5400000"/>
                    <a:close/>
                  </a:path>
                </a:pathLst>
              </a:custGeom>
              <a:solidFill>
                <a:srgbClr val="447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圆角矩形 14"/>
              <p:cNvSpPr/>
              <p:nvPr/>
            </p:nvSpPr>
            <p:spPr>
              <a:xfrm>
                <a:off x="6462360" y="1204560"/>
                <a:ext cx="147960" cy="510480"/>
              </a:xfrm>
              <a:custGeom>
                <a:avLst/>
                <a:gdLst>
                  <a:gd name="textAreaLeft" fmla="*/ 18000 w 147960"/>
                  <a:gd name="textAreaRight" fmla="*/ 129960 w 147960"/>
                  <a:gd name="textAreaTop" fmla="*/ 18000 h 510480"/>
                  <a:gd name="textAreaBottom" fmla="*/ 492480 h 510480"/>
                </a:gdLst>
                <a:ahLst/>
                <a:rect l="textAreaLeft" t="textAreaTop" r="textAreaRight" b="textAreaBottom"/>
                <a:pathLst>
                  <a:path w="21600" h="74394">
                    <a:moveTo>
                      <a:pt x="8960" y="0"/>
                    </a:moveTo>
                    <a:arcTo wR="8960" hR="8960" stAng="16200000" swAng="-5400000"/>
                    <a:lnTo>
                      <a:pt x="0" y="65434"/>
                    </a:lnTo>
                    <a:arcTo wR="8960" hR="8960" stAng="10800000" swAng="-5400000"/>
                    <a:lnTo>
                      <a:pt x="12640" y="74394"/>
                    </a:lnTo>
                    <a:arcTo wR="8960" hR="8960" stAng="5400000" swAng="-5400000"/>
                    <a:lnTo>
                      <a:pt x="21600" y="8960"/>
                    </a:lnTo>
                    <a:arcTo wR="8960" hR="8960" stAng="0" swAng="-5400000"/>
                    <a:close/>
                  </a:path>
                </a:pathLst>
              </a:custGeom>
              <a:solidFill>
                <a:srgbClr val="447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圆角矩形 6"/>
              <p:cNvSpPr/>
              <p:nvPr/>
            </p:nvSpPr>
            <p:spPr>
              <a:xfrm>
                <a:off x="2616120" y="1528920"/>
                <a:ext cx="3992760" cy="187200"/>
              </a:xfrm>
              <a:prstGeom prst="pie">
                <a:avLst/>
              </a:prstGeom>
              <a:solidFill>
                <a:srgbClr val="d8d8d8">
                  <a:alpha val="3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标题 1"/>
            <p:cNvSpPr/>
            <p:nvPr/>
          </p:nvSpPr>
          <p:spPr>
            <a:xfrm>
              <a:off x="3781080" y="1316160"/>
              <a:ext cx="18594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7480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616120" y="2041560"/>
            <a:ext cx="3994200" cy="514440"/>
            <a:chOff x="2616120" y="2041560"/>
            <a:chExt cx="3994200" cy="514440"/>
          </a:xfrm>
        </p:grpSpPr>
        <p:grpSp>
          <p:nvGrpSpPr>
            <p:cNvPr id="133" name=""/>
            <p:cNvGrpSpPr/>
            <p:nvPr/>
          </p:nvGrpSpPr>
          <p:grpSpPr>
            <a:xfrm>
              <a:off x="2616120" y="2041560"/>
              <a:ext cx="3994200" cy="514440"/>
              <a:chOff x="2616120" y="2041560"/>
              <a:chExt cx="3994200" cy="514440"/>
            </a:xfrm>
          </p:grpSpPr>
          <p:sp>
            <p:nvSpPr>
              <p:cNvPr id="134" name="矩形 19"/>
              <p:cNvSpPr/>
              <p:nvPr/>
            </p:nvSpPr>
            <p:spPr>
              <a:xfrm>
                <a:off x="2727720" y="2041560"/>
                <a:ext cx="3812400" cy="509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5a5a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圆角矩形 20"/>
              <p:cNvSpPr/>
              <p:nvPr/>
            </p:nvSpPr>
            <p:spPr>
              <a:xfrm>
                <a:off x="2617200" y="2044440"/>
                <a:ext cx="292680" cy="508680"/>
              </a:xfrm>
              <a:custGeom>
                <a:avLst/>
                <a:gdLst>
                  <a:gd name="textAreaLeft" fmla="*/ 19440 w 292680"/>
                  <a:gd name="textAreaRight" fmla="*/ 273240 w 292680"/>
                  <a:gd name="textAreaTop" fmla="*/ 19440 h 508680"/>
                  <a:gd name="textAreaBottom" fmla="*/ 489240 h 508680"/>
                </a:gdLst>
                <a:ahLst/>
                <a:rect l="textAreaLeft" t="textAreaTop" r="textAreaRight" b="textAreaBottom"/>
                <a:pathLst>
                  <a:path w="21600" h="37521">
                    <a:moveTo>
                      <a:pt x="4906" y="0"/>
                    </a:moveTo>
                    <a:arcTo wR="4906" hR="4906" stAng="16200000" swAng="-5400000"/>
                    <a:lnTo>
                      <a:pt x="0" y="32615"/>
                    </a:lnTo>
                    <a:arcTo wR="4906" hR="4906" stAng="10800000" swAng="-5400000"/>
                    <a:lnTo>
                      <a:pt x="16694" y="37521"/>
                    </a:lnTo>
                    <a:arcTo wR="4906" hR="4906" stAng="5400000" swAng="-5400000"/>
                    <a:lnTo>
                      <a:pt x="21600" y="4906"/>
                    </a:lnTo>
                    <a:arcTo wR="4906" hR="4906" stAng="0" swAng="-5400000"/>
                    <a:close/>
                  </a:path>
                </a:pathLst>
              </a:custGeom>
              <a:solidFill>
                <a:srgbClr val="447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圆角矩形 21"/>
              <p:cNvSpPr/>
              <p:nvPr/>
            </p:nvSpPr>
            <p:spPr>
              <a:xfrm>
                <a:off x="6462360" y="2044440"/>
                <a:ext cx="147960" cy="510480"/>
              </a:xfrm>
              <a:custGeom>
                <a:avLst/>
                <a:gdLst>
                  <a:gd name="textAreaLeft" fmla="*/ 18000 w 147960"/>
                  <a:gd name="textAreaRight" fmla="*/ 129960 w 147960"/>
                  <a:gd name="textAreaTop" fmla="*/ 18000 h 510480"/>
                  <a:gd name="textAreaBottom" fmla="*/ 492480 h 510480"/>
                </a:gdLst>
                <a:ahLst/>
                <a:rect l="textAreaLeft" t="textAreaTop" r="textAreaRight" b="textAreaBottom"/>
                <a:pathLst>
                  <a:path w="21600" h="74394">
                    <a:moveTo>
                      <a:pt x="8960" y="0"/>
                    </a:moveTo>
                    <a:arcTo wR="8960" hR="8960" stAng="16200000" swAng="-5400000"/>
                    <a:lnTo>
                      <a:pt x="0" y="65434"/>
                    </a:lnTo>
                    <a:arcTo wR="8960" hR="8960" stAng="10800000" swAng="-5400000"/>
                    <a:lnTo>
                      <a:pt x="12640" y="74394"/>
                    </a:lnTo>
                    <a:arcTo wR="8960" hR="8960" stAng="5400000" swAng="-5400000"/>
                    <a:lnTo>
                      <a:pt x="21600" y="8960"/>
                    </a:lnTo>
                    <a:arcTo wR="8960" hR="8960" stAng="0" swAng="-5400000"/>
                    <a:close/>
                  </a:path>
                </a:pathLst>
              </a:custGeom>
              <a:solidFill>
                <a:srgbClr val="447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圆角矩形 6"/>
              <p:cNvSpPr/>
              <p:nvPr/>
            </p:nvSpPr>
            <p:spPr>
              <a:xfrm>
                <a:off x="2616120" y="2368800"/>
                <a:ext cx="3992760" cy="187200"/>
              </a:xfrm>
              <a:prstGeom prst="pie">
                <a:avLst/>
              </a:prstGeom>
              <a:solidFill>
                <a:srgbClr val="d8d8d8">
                  <a:alpha val="3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标题 1"/>
            <p:cNvSpPr/>
            <p:nvPr/>
          </p:nvSpPr>
          <p:spPr>
            <a:xfrm>
              <a:off x="3781080" y="2156040"/>
              <a:ext cx="18594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7480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616120" y="2881440"/>
            <a:ext cx="3994200" cy="514080"/>
            <a:chOff x="2616120" y="2881440"/>
            <a:chExt cx="3994200" cy="514080"/>
          </a:xfrm>
        </p:grpSpPr>
        <p:grpSp>
          <p:nvGrpSpPr>
            <p:cNvPr id="140" name=""/>
            <p:cNvGrpSpPr/>
            <p:nvPr/>
          </p:nvGrpSpPr>
          <p:grpSpPr>
            <a:xfrm>
              <a:off x="2616120" y="2881440"/>
              <a:ext cx="3994200" cy="514080"/>
              <a:chOff x="2616120" y="2881440"/>
              <a:chExt cx="3994200" cy="514080"/>
            </a:xfrm>
          </p:grpSpPr>
          <p:sp>
            <p:nvSpPr>
              <p:cNvPr id="141" name="矩形 26"/>
              <p:cNvSpPr/>
              <p:nvPr/>
            </p:nvSpPr>
            <p:spPr>
              <a:xfrm>
                <a:off x="2727720" y="2881440"/>
                <a:ext cx="3812400" cy="5094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5a5a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圆角矩形 27"/>
              <p:cNvSpPr/>
              <p:nvPr/>
            </p:nvSpPr>
            <p:spPr>
              <a:xfrm>
                <a:off x="2617200" y="2884320"/>
                <a:ext cx="292680" cy="508320"/>
              </a:xfrm>
              <a:custGeom>
                <a:avLst/>
                <a:gdLst>
                  <a:gd name="textAreaLeft" fmla="*/ 19440 w 292680"/>
                  <a:gd name="textAreaRight" fmla="*/ 273240 w 292680"/>
                  <a:gd name="textAreaTop" fmla="*/ 19440 h 508320"/>
                  <a:gd name="textAreaBottom" fmla="*/ 488880 h 508320"/>
                </a:gdLst>
                <a:ahLst/>
                <a:rect l="textAreaLeft" t="textAreaTop" r="textAreaRight" b="textAreaBottom"/>
                <a:pathLst>
                  <a:path w="21600" h="37495">
                    <a:moveTo>
                      <a:pt x="4906" y="0"/>
                    </a:moveTo>
                    <a:arcTo wR="4906" hR="4906" stAng="16200000" swAng="-5400000"/>
                    <a:lnTo>
                      <a:pt x="0" y="32589"/>
                    </a:lnTo>
                    <a:arcTo wR="4906" hR="4906" stAng="10800000" swAng="-5400000"/>
                    <a:lnTo>
                      <a:pt x="16694" y="37495"/>
                    </a:lnTo>
                    <a:arcTo wR="4906" hR="4906" stAng="5400000" swAng="-5400000"/>
                    <a:lnTo>
                      <a:pt x="21600" y="4906"/>
                    </a:lnTo>
                    <a:arcTo wR="4906" hR="4906" stAng="0" swAng="-5400000"/>
                    <a:close/>
                  </a:path>
                </a:pathLst>
              </a:custGeom>
              <a:solidFill>
                <a:srgbClr val="447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圆角矩形 28"/>
              <p:cNvSpPr/>
              <p:nvPr/>
            </p:nvSpPr>
            <p:spPr>
              <a:xfrm>
                <a:off x="6462360" y="2884320"/>
                <a:ext cx="147960" cy="510120"/>
              </a:xfrm>
              <a:custGeom>
                <a:avLst/>
                <a:gdLst>
                  <a:gd name="textAreaLeft" fmla="*/ 18000 w 147960"/>
                  <a:gd name="textAreaRight" fmla="*/ 129960 w 147960"/>
                  <a:gd name="textAreaTop" fmla="*/ 18000 h 510120"/>
                  <a:gd name="textAreaBottom" fmla="*/ 492120 h 510120"/>
                </a:gdLst>
                <a:ahLst/>
                <a:rect l="textAreaLeft" t="textAreaTop" r="textAreaRight" b="textAreaBottom"/>
                <a:pathLst>
                  <a:path w="21600" h="74342">
                    <a:moveTo>
                      <a:pt x="8960" y="0"/>
                    </a:moveTo>
                    <a:arcTo wR="8960" hR="8960" stAng="16200000" swAng="-5400000"/>
                    <a:lnTo>
                      <a:pt x="0" y="65382"/>
                    </a:lnTo>
                    <a:arcTo wR="8960" hR="8960" stAng="10800000" swAng="-5400000"/>
                    <a:lnTo>
                      <a:pt x="12640" y="74342"/>
                    </a:lnTo>
                    <a:arcTo wR="8960" hR="8960" stAng="5400000" swAng="-5400000"/>
                    <a:lnTo>
                      <a:pt x="21600" y="8960"/>
                    </a:lnTo>
                    <a:arcTo wR="8960" hR="8960" stAng="0" swAng="-5400000"/>
                    <a:close/>
                  </a:path>
                </a:pathLst>
              </a:custGeom>
              <a:solidFill>
                <a:srgbClr val="447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圆角矩形 6"/>
              <p:cNvSpPr/>
              <p:nvPr/>
            </p:nvSpPr>
            <p:spPr>
              <a:xfrm>
                <a:off x="2616120" y="3208320"/>
                <a:ext cx="3992760" cy="187200"/>
              </a:xfrm>
              <a:prstGeom prst="pie">
                <a:avLst/>
              </a:prstGeom>
              <a:solidFill>
                <a:srgbClr val="d8d8d8">
                  <a:alpha val="3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标题 1"/>
            <p:cNvSpPr/>
            <p:nvPr/>
          </p:nvSpPr>
          <p:spPr>
            <a:xfrm>
              <a:off x="3781080" y="2995920"/>
              <a:ext cx="18594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7480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616120" y="3720960"/>
            <a:ext cx="3994200" cy="514440"/>
            <a:chOff x="2616120" y="3720960"/>
            <a:chExt cx="3994200" cy="514440"/>
          </a:xfrm>
        </p:grpSpPr>
        <p:grpSp>
          <p:nvGrpSpPr>
            <p:cNvPr id="147" name=""/>
            <p:cNvGrpSpPr/>
            <p:nvPr/>
          </p:nvGrpSpPr>
          <p:grpSpPr>
            <a:xfrm>
              <a:off x="2616120" y="3720960"/>
              <a:ext cx="3994200" cy="514440"/>
              <a:chOff x="2616120" y="3720960"/>
              <a:chExt cx="3994200" cy="514440"/>
            </a:xfrm>
          </p:grpSpPr>
          <p:sp>
            <p:nvSpPr>
              <p:cNvPr id="148" name="矩形 33"/>
              <p:cNvSpPr/>
              <p:nvPr/>
            </p:nvSpPr>
            <p:spPr>
              <a:xfrm>
                <a:off x="2727720" y="3720960"/>
                <a:ext cx="3812400" cy="509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5a5a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圆角矩形 34"/>
              <p:cNvSpPr/>
              <p:nvPr/>
            </p:nvSpPr>
            <p:spPr>
              <a:xfrm>
                <a:off x="2617200" y="3723840"/>
                <a:ext cx="292680" cy="508680"/>
              </a:xfrm>
              <a:custGeom>
                <a:avLst/>
                <a:gdLst>
                  <a:gd name="textAreaLeft" fmla="*/ 19440 w 292680"/>
                  <a:gd name="textAreaRight" fmla="*/ 273240 w 292680"/>
                  <a:gd name="textAreaTop" fmla="*/ 19440 h 508680"/>
                  <a:gd name="textAreaBottom" fmla="*/ 489240 h 508680"/>
                </a:gdLst>
                <a:ahLst/>
                <a:rect l="textAreaLeft" t="textAreaTop" r="textAreaRight" b="textAreaBottom"/>
                <a:pathLst>
                  <a:path w="21600" h="37521">
                    <a:moveTo>
                      <a:pt x="4906" y="0"/>
                    </a:moveTo>
                    <a:arcTo wR="4906" hR="4906" stAng="16200000" swAng="-5400000"/>
                    <a:lnTo>
                      <a:pt x="0" y="32615"/>
                    </a:lnTo>
                    <a:arcTo wR="4906" hR="4906" stAng="10800000" swAng="-5400000"/>
                    <a:lnTo>
                      <a:pt x="16694" y="37521"/>
                    </a:lnTo>
                    <a:arcTo wR="4906" hR="4906" stAng="5400000" swAng="-5400000"/>
                    <a:lnTo>
                      <a:pt x="21600" y="4906"/>
                    </a:lnTo>
                    <a:arcTo wR="4906" hR="4906" stAng="0" swAng="-5400000"/>
                    <a:close/>
                  </a:path>
                </a:pathLst>
              </a:custGeom>
              <a:solidFill>
                <a:srgbClr val="447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圆角矩形 35"/>
              <p:cNvSpPr/>
              <p:nvPr/>
            </p:nvSpPr>
            <p:spPr>
              <a:xfrm>
                <a:off x="6462360" y="3723840"/>
                <a:ext cx="147960" cy="510480"/>
              </a:xfrm>
              <a:custGeom>
                <a:avLst/>
                <a:gdLst>
                  <a:gd name="textAreaLeft" fmla="*/ 18000 w 147960"/>
                  <a:gd name="textAreaRight" fmla="*/ 129960 w 147960"/>
                  <a:gd name="textAreaTop" fmla="*/ 18000 h 510480"/>
                  <a:gd name="textAreaBottom" fmla="*/ 492480 h 510480"/>
                </a:gdLst>
                <a:ahLst/>
                <a:rect l="textAreaLeft" t="textAreaTop" r="textAreaRight" b="textAreaBottom"/>
                <a:pathLst>
                  <a:path w="21600" h="74394">
                    <a:moveTo>
                      <a:pt x="8960" y="0"/>
                    </a:moveTo>
                    <a:arcTo wR="8960" hR="8960" stAng="16200000" swAng="-5400000"/>
                    <a:lnTo>
                      <a:pt x="0" y="65434"/>
                    </a:lnTo>
                    <a:arcTo wR="8960" hR="8960" stAng="10800000" swAng="-5400000"/>
                    <a:lnTo>
                      <a:pt x="12640" y="74394"/>
                    </a:lnTo>
                    <a:arcTo wR="8960" hR="8960" stAng="5400000" swAng="-5400000"/>
                    <a:lnTo>
                      <a:pt x="21600" y="8960"/>
                    </a:lnTo>
                    <a:arcTo wR="8960" hR="8960" stAng="0" swAng="-5400000"/>
                    <a:close/>
                  </a:path>
                </a:pathLst>
              </a:custGeom>
              <a:solidFill>
                <a:srgbClr val="447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圆角矩形 6"/>
              <p:cNvSpPr/>
              <p:nvPr/>
            </p:nvSpPr>
            <p:spPr>
              <a:xfrm>
                <a:off x="2616120" y="4048200"/>
                <a:ext cx="3992760" cy="187200"/>
              </a:xfrm>
              <a:prstGeom prst="pie">
                <a:avLst/>
              </a:prstGeom>
              <a:solidFill>
                <a:srgbClr val="d8d8d8">
                  <a:alpha val="3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标题 1"/>
            <p:cNvSpPr/>
            <p:nvPr/>
          </p:nvSpPr>
          <p:spPr>
            <a:xfrm>
              <a:off x="3781080" y="3835440"/>
              <a:ext cx="18594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7480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682560" y="76500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5E39-9989-48D3-A3A1-3C72321F19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标题 1"/>
          <p:cNvSpPr/>
          <p:nvPr/>
        </p:nvSpPr>
        <p:spPr>
          <a:xfrm>
            <a:off x="466560" y="3146400"/>
            <a:ext cx="37879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谢谢您的支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7156440" y="3487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5:3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44:13Z</dcterms:modified>
  <cp:revision>1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