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A3E9-3598-4FC6-B2B5-FA710725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84F-1532-4DBE-B1D2-C0414F8C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1B5-B08C-4B11-A622-E8F710F1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DD1-C3DD-4A83-BC7C-CE626D19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6F1B-335C-41FF-9E71-C3C9539D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CED2-88D3-41D2-AA52-E5705133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857B-1934-4A99-AA45-489DC5BA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E4E6-84CB-43B6-8906-C65B4577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24A8-4DF5-4DCD-BBD1-AED8F215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1AF8-7B52-4358-8329-CB29FAAD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467C-699F-4014-B794-4F83C545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1C1-AAC0-4F71-AC36-298B32FD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DBC7-79DF-48C0-A213-ED6B8148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D923-CC1D-4965-B112-B7979006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FDBD-AE1F-419F-A40A-6EE58CDF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F36C-A393-4228-9281-5EC85FB6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D452-093A-4540-9152-DFB8B4E4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E0A14-4BF0-4ADF-88AE-9A995A9A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83DE-4241-4A75-BCAC-F9B44E36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20DA-AF8F-48E9-A555-F4D3DA8D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0F77B-313F-4940-B1B2-8DFA6487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8105D-3445-4728-83D9-3479999F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7931-B303-40CD-94E3-CB867DD3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2E10-5242-429D-BAFD-28715A19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9EBD5-6185-4C19-A6AB-383FEB64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FF6D-364F-479C-9D2C-91621FA1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CFF3-5D61-4D84-8A3B-B6D908BB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9C05-D3F0-4648-BC4C-A50F7DC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B083-D314-4521-8494-78490656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3538-83CD-4218-8E8C-0BD7EBE9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0F8-E156-497F-BCB1-A8FF8854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161-AA98-4B97-A5C3-E43FA6FB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937-9522-471D-86E4-AF5EECBF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2DC-D37B-46AB-8595-BFD7AECF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0AB-3DDE-4FCD-A5D9-83754AF1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677-7887-442D-A3E8-D03356C1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CDE4-307A-4F43-8BE8-582334CBDF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1785960" y="2286000"/>
            <a:ext cx="7358040" cy="14288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284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6233-05CF-4C6A-BA65-CF52027E75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DC0C-847E-41D0-BD70-29D306D769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2841480" y="8366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流线汽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</a:rPr>
              <a:t>模板使用说明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内容占位符 3"/>
          <p:cNvSpPr/>
          <p:nvPr/>
        </p:nvSpPr>
        <p:spPr>
          <a:xfrm>
            <a:off x="468360" y="1125360"/>
            <a:ext cx="82296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其他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为网络搜索，版权归原作者所有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请勿用于任何形式的付费下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标题 3"/>
          <p:cNvSpPr/>
          <p:nvPr/>
        </p:nvSpPr>
        <p:spPr>
          <a:xfrm>
            <a:off x="714240" y="4518000"/>
            <a:ext cx="7786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感谢您的关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00000"/>
                </a:solidFill>
                <a:uFillTx/>
                <a:latin typeface="Verdana"/>
                <a:ea typeface="宋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5:08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2:30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