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7FB5-FDCB-4F6F-8601-6A4575D5F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E13A-88CE-4B3C-AAAE-D6BF57962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CF88-48AC-46F4-96CD-BE633BD9A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FE20-54A0-4F9B-B8E5-5D52771EE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D663-4854-47FF-B378-9F68133C3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000D-2F2D-4A6E-A573-156C06BAA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8C7D-5502-4227-A679-8DA6428E6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019D-A325-496B-A39A-74242C508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8662-5083-4FDA-A462-F7D82B29C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3E81-CE7C-439F-80F1-39F833EFA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EC2E-BC57-4703-ABDE-94ED75217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3FD7-3C83-457C-8648-C2F662525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8E32D-35F2-4E44-AC85-13923DAD7ED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2987640" y="260280"/>
            <a:ext cx="31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-36360" y="6526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85600" y="18900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简约清新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2560" y="1339920"/>
            <a:ext cx="5645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84CC-EB85-4AAD-A913-BD72C60489C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8:28:09Z</dcterms:modified>
  <cp:revision>55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