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892-7C23-495A-85B9-9ECAFB07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851-6E7D-45D1-A925-85F09E9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82F-7CCF-4FA3-877E-07A265E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735-1BA1-4C81-818A-1103BA82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104-5E41-4CA7-BC7C-2A8F5A4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603-1594-4132-B056-376E3FE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E95-67DE-4A06-8B9E-8C0E61C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BC7-8E63-4335-B303-AA2917D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864-0410-4F3C-9D65-19E30544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F87-E0F8-4F52-B5D2-3B89F11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39B-3C31-4F37-A59F-D56930EC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AC7-8194-414E-9167-1DF60376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ridgeinside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bridgetitle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BE02-F550-485B-B13A-21BA60D56C0E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Bridge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7628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建筑物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4764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7640" y="313992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92400" y="313992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47640" y="26082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83536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911760" y="2787480"/>
            <a:ext cx="826920" cy="611280"/>
          </a:xfrm>
          <a:prstGeom prst="rect">
            <a:avLst/>
          </a:prstGeom>
          <a:solidFill>
            <a:srgbClr val="b3cc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782720" y="4402080"/>
            <a:ext cx="827280" cy="61128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851200" y="4402080"/>
            <a:ext cx="826920" cy="611280"/>
          </a:xfrm>
          <a:prstGeom prst="rect">
            <a:avLst/>
          </a:prstGeom>
          <a:solidFill>
            <a:srgbClr val="2e4c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19680" y="4402080"/>
            <a:ext cx="826920" cy="611280"/>
          </a:xfrm>
          <a:prstGeom prst="rect">
            <a:avLst/>
          </a:prstGeom>
          <a:solidFill>
            <a:srgbClr val="ffab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989600" y="4402080"/>
            <a:ext cx="826920" cy="611280"/>
          </a:xfrm>
          <a:prstGeom prst="rect">
            <a:avLst/>
          </a:prstGeom>
          <a:solidFill>
            <a:srgbClr val="0091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971960" y="27874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766880" y="2787480"/>
            <a:ext cx="826920" cy="611280"/>
          </a:xfrm>
          <a:prstGeom prst="rect">
            <a:avLst/>
          </a:prstGeom>
          <a:solidFill>
            <a:srgbClr val="1e3f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4872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8674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81708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09796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92528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87280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380700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488808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6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ark_1"/>
          <p:cNvPicPr/>
          <p:nvPr/>
        </p:nvPicPr>
        <p:blipFill>
          <a:blip r:embed="rId1"/>
          <a:stretch/>
        </p:blipFill>
        <p:spPr>
          <a:xfrm>
            <a:off x="3995640" y="2960640"/>
            <a:ext cx="2454480" cy="3273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ab57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2e4c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2e4c9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solidFill>
            <a:srgbClr val="2e4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5240" y="1806480"/>
          <a:ext cx="6551640" cy="3279600"/>
        </p:xfrm>
        <a:graphic>
          <a:graphicData uri="http://schemas.openxmlformats.org/drawingml/2006/table">
            <a:tbl>
              <a:tblPr/>
              <a:tblGrid>
                <a:gridCol w="3276720"/>
                <a:gridCol w="32749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9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149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ab57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193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873680" y="1668600"/>
          <a:ext cx="2806560" cy="1614240"/>
        </p:xfrm>
        <a:graphic>
          <a:graphicData uri="http://schemas.openxmlformats.org/drawingml/2006/table">
            <a:tbl>
              <a:tblPr/>
              <a:tblGrid>
                <a:gridCol w="1403280"/>
                <a:gridCol w="14032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3cc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6Z</dcterms:modified>
  <cp:revision>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