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1B4-1502-420E-A54B-1E9E1FB5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7A4-4E0B-44BC-89CB-47280603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27F-E169-403D-9507-2D6AD853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612-CA62-480B-A5B1-0C38C50A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53F-D056-4F40-801C-488ED046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E002-4D71-4B33-A79D-EBF5274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C6F-8695-46BB-A681-B0B46645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840-A8AB-4B80-A644-739CA187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588-9D27-48D4-8229-10683C0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AF0-3AEC-4EE3-800A-724CE8D3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2A7-BBE6-45AA-823B-72835715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4D2-F0F8-4B92-BDD3-5DF441F9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Mistral"/>
              </a:defRPr>
            </a:lvl1pPr>
          </a:lstStyle>
          <a:p>
            <a:pPr marL="914400" indent="0">
              <a:buNone/>
              <a:tabLst>
                <a:tab algn="l" pos="0"/>
              </a:tabLst>
            </a:pPr>
            <a:fld id="{90C2F751-2828-483D-ADD0-726016D85E7B}" type="datetime">
              <a:rPr b="0" lang="en-US" sz="1200" spc="-1" strike="noStrike">
                <a:solidFill>
                  <a:srgbClr val="898989"/>
                </a:solidFill>
                <a:latin typeface="Mistr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en-US" sz="1200" spc="-1" strike="noStrike">
                <a:solidFill>
                  <a:srgbClr val="898989"/>
                </a:solidFill>
                <a:latin typeface="Mistral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FB1092F8-5121-40BA-A625-588831E7D3CE}" type="slidenum">
              <a:rPr b="0" lang="en-US" sz="1200" spc="-1" strike="noStrike">
                <a:solidFill>
                  <a:srgbClr val="898989"/>
                </a:solidFill>
                <a:latin typeface="Mistr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-25560"/>
            <a:ext cx="9144000" cy="688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79520" y="633240"/>
            <a:ext cx="6370560" cy="622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294000" y="939960"/>
            <a:ext cx="2519280" cy="3995640"/>
            <a:chOff x="3294000" y="939960"/>
            <a:chExt cx="2519280" cy="3995640"/>
          </a:xfrm>
        </p:grpSpPr>
        <p:sp>
          <p:nvSpPr>
            <p:cNvPr id="44" name="Rectangle 4"/>
            <p:cNvSpPr/>
            <p:nvPr/>
          </p:nvSpPr>
          <p:spPr>
            <a:xfrm>
              <a:off x="3294000" y="939960"/>
              <a:ext cx="2519280" cy="3995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3296160" y="939960"/>
              <a:ext cx="2514600" cy="25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1"/>
            <p:cNvSpPr/>
            <p:nvPr/>
          </p:nvSpPr>
          <p:spPr>
            <a:xfrm>
              <a:off x="3390480" y="939960"/>
              <a:ext cx="23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404040"/>
                  </a:solidFill>
                  <a:latin typeface="Calibri"/>
                  <a:ea typeface="MS PGothic"/>
                </a:rPr>
                <a:t>16:59</a:t>
              </a:r>
              <a:endParaRPr b="0" lang="en-US" sz="12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Mistr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Mistr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8" name=""/>
          <p:cNvSpPr/>
          <p:nvPr/>
        </p:nvSpPr>
        <p:spPr>
          <a:xfrm>
            <a:off x="2038680" y="442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stral"/>
                <a:ea typeface="宋体"/>
              </a:rPr>
              <a:t>科技感</a:t>
            </a:r>
            <a:r>
              <a:rPr b="0" lang="zh-CN" sz="4000" spc="-1" strike="noStrike">
                <a:solidFill>
                  <a:srgbClr val="000000"/>
                </a:solidFill>
                <a:latin typeface="Mistr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str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2936880"/>
            <a:ext cx="4011480" cy="39178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463400" y="3141720"/>
            <a:ext cx="2210760" cy="2516040"/>
            <a:chOff x="1463400" y="3141720"/>
            <a:chExt cx="2210760" cy="2516040"/>
          </a:xfrm>
        </p:grpSpPr>
        <p:sp>
          <p:nvSpPr>
            <p:cNvPr id="51" name="Rectangle 4"/>
            <p:cNvSpPr/>
            <p:nvPr/>
          </p:nvSpPr>
          <p:spPr>
            <a:xfrm>
              <a:off x="1763640" y="3141720"/>
              <a:ext cx="1587600" cy="251604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2"/>
            <a:stretch/>
          </p:blipFill>
          <p:spPr>
            <a:xfrm>
              <a:off x="1765080" y="3141720"/>
              <a:ext cx="158472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1"/>
            <p:cNvSpPr/>
            <p:nvPr/>
          </p:nvSpPr>
          <p:spPr>
            <a:xfrm>
              <a:off x="1463400" y="3141720"/>
              <a:ext cx="22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Calibri"/>
                  <a:ea typeface="MS PGothic"/>
                </a:rPr>
                <a:t>16:59</a:t>
              </a:r>
              <a:endParaRPr b="0" lang="en-US" sz="7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3011400" y="752400"/>
            <a:ext cx="3121200" cy="53532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222720" y="971640"/>
            <a:ext cx="2698560" cy="4248000"/>
            <a:chOff x="3222720" y="971640"/>
            <a:chExt cx="2698560" cy="4248000"/>
          </a:xfrm>
        </p:grpSpPr>
        <p:sp>
          <p:nvSpPr>
            <p:cNvPr id="56" name="Rectangle 4"/>
            <p:cNvSpPr/>
            <p:nvPr/>
          </p:nvSpPr>
          <p:spPr>
            <a:xfrm>
              <a:off x="3222720" y="971640"/>
              <a:ext cx="2698560" cy="424800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36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57" name="Picture 2" descr=""/>
            <p:cNvPicPr/>
            <p:nvPr/>
          </p:nvPicPr>
          <p:blipFill>
            <a:blip r:embed="rId2"/>
            <a:stretch/>
          </p:blipFill>
          <p:spPr>
            <a:xfrm>
              <a:off x="3225240" y="971640"/>
              <a:ext cx="269352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1"/>
            <p:cNvSpPr/>
            <p:nvPr/>
          </p:nvSpPr>
          <p:spPr>
            <a:xfrm>
              <a:off x="3409560" y="971640"/>
              <a:ext cx="2361600" cy="276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200" spc="-1" strike="noStrike">
                  <a:solidFill>
                    <a:srgbClr val="3f3f3f"/>
                  </a:solidFill>
                  <a:latin typeface="Calibri"/>
                </a:rPr>
                <a:t>16:59</a:t>
              </a:r>
              <a:endParaRPr b="0" lang="en-US" sz="12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60944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Mistr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Mistr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0" y="-25560"/>
            <a:ext cx="9144000" cy="688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0" spc="-1" strike="noStrike">
              <a:solidFill>
                <a:srgbClr val="000000"/>
              </a:solidFill>
              <a:latin typeface="Mistr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2936880"/>
            <a:ext cx="4011480" cy="391788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1463400" y="3141720"/>
            <a:ext cx="2210760" cy="2516040"/>
            <a:chOff x="1463400" y="3141720"/>
            <a:chExt cx="2210760" cy="2516040"/>
          </a:xfrm>
        </p:grpSpPr>
        <p:sp>
          <p:nvSpPr>
            <p:cNvPr id="63" name="Rectangle 4"/>
            <p:cNvSpPr/>
            <p:nvPr/>
          </p:nvSpPr>
          <p:spPr>
            <a:xfrm>
              <a:off x="1763640" y="3141720"/>
              <a:ext cx="1587600" cy="2516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Your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Messag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Here</a:t>
              </a:r>
              <a:endParaRPr b="0" lang="en-US" sz="2800" spc="-1" strike="noStrike">
                <a:solidFill>
                  <a:srgbClr val="000000"/>
                </a:solidFill>
                <a:latin typeface="Mistral"/>
              </a:endParaRPr>
            </a:p>
          </p:txBody>
        </p:sp>
        <p:pic>
          <p:nvPicPr>
            <p:cNvPr id="64" name="Picture 2" descr=""/>
            <p:cNvPicPr/>
            <p:nvPr/>
          </p:nvPicPr>
          <p:blipFill>
            <a:blip r:embed="rId3"/>
            <a:stretch/>
          </p:blipFill>
          <p:spPr>
            <a:xfrm>
              <a:off x="1765080" y="3141720"/>
              <a:ext cx="1584720" cy="1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Box 1"/>
            <p:cNvSpPr/>
            <p:nvPr/>
          </p:nvSpPr>
          <p:spPr>
            <a:xfrm>
              <a:off x="1463400" y="3141720"/>
              <a:ext cx="2210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Calibri"/>
                  <a:ea typeface="MS PGothic"/>
                </a:rPr>
                <a:t>16:59</a:t>
              </a:r>
              <a:endParaRPr b="0" lang="en-US" sz="700" spc="-1" strike="noStrike">
                <a:solidFill>
                  <a:srgbClr val="000000"/>
                </a:solidFill>
                <a:latin typeface="Mistr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Mistr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Mistr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035-8201-46C2-AF8D-84379CC14A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1:14:00Z</dcterms:created>
  <dc:creator>www.pptbz.com</dc:creator>
  <dc:description/>
  <dc:language>en-US</dc:language>
  <cp:lastModifiedBy>微软用户</cp:lastModifiedBy>
  <dcterms:modified xsi:type="dcterms:W3CDTF">2015-07-20T09:45:55Z</dcterms:modified>
  <cp:revision>13</cp:revision>
  <dc:subject/>
  <dc:title>Smartphone 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