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ADA-F127-4EC8-B1AA-CD1E1456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483-0367-4842-B48A-B7BD83D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5B5BB-77AD-4960-802C-7002655D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FA4D4-7161-4968-9C3F-78124FB6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9B6C4-2EFF-40A9-B66D-2474E863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7CA27-6D43-415A-BBDC-8C8685A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EC76A-5FF4-442C-93E8-DFA3FE7F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D1A07-268A-4A4E-9650-F0084F6B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6161E-C57A-4521-BFAF-BBFA1FF7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6091B-7855-420B-9AD6-DF9912AC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4A60F-BAC6-4741-8BED-1F348E00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03D3D-DABB-40D7-8A8B-2DA1F1AE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73E-07E0-4A35-8A3A-939FB120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32BE2-BD8D-4E20-862A-4242891D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0AD4E-7F1A-472F-8B94-7E471E16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CE5F1-FE4E-4AFA-9796-23231FC5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F4CF3-4C9D-4ED6-9BA6-09C96C81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775EC-D651-4FFA-879A-3A3FF80A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C4CD8-C43B-4015-A226-5502986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B0DEA-1E4A-44D9-A39F-C62161A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071A5-C56A-4F00-BEB8-A9276DCD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BAE4-9F15-4DCC-B8FB-B8D7FEF3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28D28-2764-4846-B152-511FFC5F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194-F6BE-4071-8586-6696724F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1A0F7-E891-4ABC-8443-5B4D95F3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1B3B8-0F71-4C58-B07D-E58AE900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E6430-6495-4EF9-95F0-D4AE0286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80442-221B-4E6C-9943-CAD28A7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E9AD5-1E66-40C5-9532-B3FF0E60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91312-C3B8-401F-B175-7D2712C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02380-91CE-493F-AED2-C0EBFBFF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E4B15-13BC-42C0-B594-11E2942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A1F5A-9F0E-454A-A373-22A3BB0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5FF61-3C8B-4E76-A9B9-7CD250E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2380-FD33-441B-9155-CBFEAB18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1D4CF-E45E-42CC-BE05-B99E4451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20ED-8183-4648-9E09-30D25BC1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688FD-0FDC-4371-A5C5-49F5B341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0AC45-29FE-4205-855F-FD12B202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97B7A-6E8B-45C5-B3E1-72FF4D18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2D369-BB45-462F-A3A9-35A172FC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F6537-6663-4A88-BD1D-7AE5D305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9906D-B549-4CE1-B32E-6EFBF60E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65F9-6E3F-4956-812A-BA063AE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6EC5E-7A8D-4495-AD6E-0770C34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1CA5-D73D-4B03-BBE6-CCFD514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AF295-5DFA-4FB3-BFF1-A14581B5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ED64A-E767-40AE-9E28-BCD6B7F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ACFE4-F30B-4BA9-AC1D-F7BD2E21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408E1-EFA5-4C1A-A6A8-697B3456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5A9EF-69AF-4D2F-A8E3-45C3E26F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EF64E-D596-4806-9E16-E8DAE45F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8661B-50DA-4C9D-9438-8BD6FB08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CFED9-A862-47EC-9359-1E00AD40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8AC4D-06EF-4376-B066-016DEE8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50F36-AA49-48BC-B130-FF02F0C0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4FC8-B4AB-4C57-90F1-55FF75BD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90AF0-3AC5-4893-B67F-E9B02E45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5BD99-61E1-442B-9580-E510ACFA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F2452-6E4D-40BB-897B-8D13E46A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2E873-4F64-46E4-8606-B39A3921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B6F121-69CD-4AA4-B5D8-471F0AAE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5FB74-B2F9-4CF0-BA89-704967A0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384CF-3D31-4EA3-AE30-17CD269D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4AB5-5277-4076-8276-A216D850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65DA-E298-4170-985E-91BF60A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2C26-CCD0-4622-8A71-48AC6A21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2517-4814-41E1-B1BE-1BCAF2C3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367-EF3D-4F5B-B176-6013F8C9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B6D0-3F43-467E-A08E-F6BCF625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AE56-EF78-4C16-B687-2AEB9B6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20FB-F6A8-4DFA-AAB8-E14289D6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0D76-DCDD-47B1-8EFE-C8A2B83D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FE51-4298-43C8-89F1-37702AF9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A72EB-4DA4-44E6-8754-7D9BF2D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7AC9-CC05-4987-A95C-D399E223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32B5-1931-4015-83AD-84A5842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A933-7BD9-42CF-83C7-F490CDB3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505E9-BDE7-46EA-97AA-998EEC2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C19-AEAB-437E-A697-BE7DDD30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74DA-CA19-457B-B11F-81989E1F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3631-6192-4282-9526-E9E0A92B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3786-CE4B-434C-87AA-413EF31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0FD0-8A85-4F22-8F09-963C48B1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59DC-07F4-4BA0-823A-F351B11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31201-99BD-4DFC-8BF9-8B3493E4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6369-CA0B-45CE-AF48-6015D8F4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1FC0D-45DD-4F0D-BBB1-A3DBCAD0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D23B-171B-4AEE-8981-D30004F6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9CAD-27E6-4F11-9425-552B28E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B1F-1447-4A48-AAE6-D00C6667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B869-6411-44B8-AB8A-BB433CC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043B-F7C4-4AFF-97A4-57AE9398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AB990-140D-478C-A872-D5A4CF8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7690B-B31A-45A1-85D7-7B6B0CE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2FB9-FFAE-4178-8834-896C9CC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04DD-8D47-4243-B5C0-1D26AC2D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60EC-3C2A-4993-A899-D25FC336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07441-C9CA-4273-A64E-E1BD54C5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0E89-9AE2-4E55-AD93-7D693DE2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5BD3C-21EB-4D8F-856B-3C9F476C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5E7D-77F6-4410-99AC-C916AC7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315A-DAA5-4A95-ABBB-C2E0B9E9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81DA3-7BF2-46AE-A2A3-E407E9DB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F07D4-0811-4AEC-9138-C4197984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517CD-29C2-4A43-81BB-AB73C3E7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DA47-351D-49A5-803B-0A41298D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963B2-C486-439D-9099-5242445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3F16F-F030-45C0-A28D-BA2C64F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C726A-F4CC-47B9-A723-BA915DD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9C6DF-5C2E-4D3E-BB0B-1BF6A541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95444-9788-414F-9B3D-C3ED5840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0B1-3CA0-4C91-83D7-46BDA43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909A-02DE-4A43-AFED-C33CAA102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371D5-B43A-4773-9EB8-9969338C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21690-42BC-4595-9D4B-457AF01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E5A5-C70D-4A98-B78E-D48DFE0A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F7C9-DFC0-4340-A51D-1DCDC10E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2CA4-3242-4F1D-B48F-7A060BCC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A2B4-B5B2-4A94-91C6-8F3FE50E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5F226-F4CB-41DF-8E66-26C890DD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92B4-98F9-40DF-AB5A-9139F0F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AEA9-D43A-4535-9FD3-4FA839DE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EF0-C1A2-4B19-B2FF-97A6080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507C-D18A-4A3B-9151-F7C62BC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C620D-3A39-4A97-B5B8-6DAFCC6A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D9EC8-78BC-43E5-8DA4-E9ED4ADB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C84AC-F336-4388-8C75-731B54C15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8DA9C-A459-483F-9E05-1A6B6C72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7649D-E48A-4555-958F-BBDDCCF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962A9-EFBC-4DA7-8C00-D7D3B07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36595-7125-4600-9D14-D63389C5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CD5E1-0B77-48CD-BDEF-4B65F872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1749E-B954-4D4C-8463-5C85B850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B47-508A-4867-ABE5-08D400B4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CC490-F717-487B-AF8A-DDB0452D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651FB-1E1D-4F3F-A80E-522925C3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74E2-53F7-4014-8B9C-DF70ACC0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72EEA-4419-4E42-A9AD-262E084A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28FD8-D06D-4F01-A0CB-880C319E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C1F7-3BDC-4136-B174-CE32460A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ADC03-B7F3-4206-9C29-BF73937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5FD10-92A7-43E7-A551-647B3A4A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36E47-71F9-4D3B-95F9-2D20DF58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924D8-C236-4C09-86F0-60633D3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8E4-EFBE-45F4-9311-29DDF02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01CF8-8D70-4D3C-B91D-55CB1B2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DABD4-C467-4A91-BA24-A3E5C923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73F59-29AD-4025-95B9-61AFBB48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C3A8C-58E5-4E83-8231-AC726B1F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11766-2CA7-486B-8B05-D5CD3996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97EE6-BA9F-4829-9BF2-7D58B9A6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856E-E611-47CC-BC10-90844531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E67F-2AAF-40D5-B9BF-870580D2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049741-FEAE-43DE-B19C-270B42CA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5B591-0201-45C5-94B5-18AA11BF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72E5-D268-4269-A2F9-045C829F38E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94DF-3846-4680-B1E0-A7B6319F8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BFF2-268E-420D-BB11-0DA5BA99E3C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EF68-7BB5-4A7A-AE13-8B4B6D9866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9E20-E919-443D-9153-A631B3DEEAD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0CD-706D-4F3C-ACEB-26C632FC3E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44C5-DCC0-4489-A2C8-E8F02413AE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0FE-5AA9-4993-8B7C-FAEDE2AFC3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0CE-13CB-495D-9FF3-3FBA1D0A43F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262F-79F2-45D8-8D67-2739694565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8131-CCA7-41C5-9DE5-916E7902C1B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4636-04D4-4236-B210-6208179B35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548E-8CC1-4225-9C4D-9A50DB103E3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84D4-FD3B-4599-99DC-0C67FF7DBC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49CB-3246-4109-9731-1C37792739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FECF-1A4A-4497-9623-DD8F33E384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01E1-81EF-4A33-9413-B634E95DEC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E9EB-844E-4C56-BA2A-6001E462CF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6B6C-CA1C-496F-B2CF-9CEFD95C15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E24D-11DF-4FC1-ACF4-11FE8D4F73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B81-121C-44CE-88F6-F46D36FD479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F4C-8B46-448D-971E-1AF08A3229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8E8-4D27-4B40-A6C0-5F6F59DBE2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F2BF-B5BA-4ED2-9CF4-AD83753610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2B01-C777-4BB7-998E-EF01B3C3E2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F3F-4AD8-408F-B04B-E11C8CBF04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"/>
          <p:cNvSpPr/>
          <p:nvPr/>
        </p:nvSpPr>
        <p:spPr>
          <a:xfrm>
            <a:off x="0" y="-12600"/>
            <a:ext cx="9144000" cy="869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"/>
          <p:cNvSpPr/>
          <p:nvPr/>
        </p:nvSpPr>
        <p:spPr>
          <a:xfrm>
            <a:off x="-6480" y="6041880"/>
            <a:ext cx="918684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2"/>
          <a:stretch/>
        </p:blipFill>
        <p:spPr>
          <a:xfrm>
            <a:off x="0" y="793800"/>
            <a:ext cx="9186840" cy="5371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6" descr=""/>
          <p:cNvPicPr/>
          <p:nvPr/>
        </p:nvPicPr>
        <p:blipFill>
          <a:blip r:embed="rId3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538" name="TextBox 8"/>
          <p:cNvSpPr/>
          <p:nvPr/>
        </p:nvSpPr>
        <p:spPr>
          <a:xfrm>
            <a:off x="3348000" y="6346800"/>
            <a:ext cx="535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2398680" y="1932120"/>
            <a:ext cx="1800" cy="3124080"/>
          </a:xfrm>
          <a:prstGeom prst="line">
            <a:avLst/>
          </a:prstGeom>
          <a:ln w="19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1530360" y="1555920"/>
            <a:ext cx="1724040" cy="482040"/>
            <a:chOff x="1530360" y="1555920"/>
            <a:chExt cx="1724040" cy="482040"/>
          </a:xfrm>
        </p:grpSpPr>
        <p:sp>
          <p:nvSpPr>
            <p:cNvPr id="542" name="Freeform 4"/>
            <p:cNvSpPr/>
            <p:nvPr/>
          </p:nvSpPr>
          <p:spPr>
            <a:xfrm>
              <a:off x="1631880" y="18334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5"/>
            <p:cNvSpPr/>
            <p:nvPr/>
          </p:nvSpPr>
          <p:spPr>
            <a:xfrm>
              <a:off x="1530360" y="1555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5e5e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6"/>
          <p:cNvGrpSpPr/>
          <p:nvPr/>
        </p:nvGrpSpPr>
        <p:grpSpPr>
          <a:xfrm>
            <a:off x="1530360" y="2698920"/>
            <a:ext cx="1724040" cy="482040"/>
            <a:chOff x="1530360" y="2698920"/>
            <a:chExt cx="1724040" cy="482040"/>
          </a:xfrm>
        </p:grpSpPr>
        <p:sp>
          <p:nvSpPr>
            <p:cNvPr id="545" name="Freeform 7"/>
            <p:cNvSpPr/>
            <p:nvPr/>
          </p:nvSpPr>
          <p:spPr>
            <a:xfrm>
              <a:off x="1631880" y="29764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8"/>
            <p:cNvSpPr/>
            <p:nvPr/>
          </p:nvSpPr>
          <p:spPr>
            <a:xfrm>
              <a:off x="1530360" y="2698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800080"/>
                </a:gs>
                <a:gs pos="100000">
                  <a:srgbClr val="c388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9"/>
          <p:cNvGrpSpPr/>
          <p:nvPr/>
        </p:nvGrpSpPr>
        <p:grpSpPr>
          <a:xfrm>
            <a:off x="1530360" y="3841920"/>
            <a:ext cx="1724040" cy="482040"/>
            <a:chOff x="1530360" y="3841920"/>
            <a:chExt cx="1724040" cy="482040"/>
          </a:xfrm>
        </p:grpSpPr>
        <p:sp>
          <p:nvSpPr>
            <p:cNvPr id="548" name="Freeform 10"/>
            <p:cNvSpPr/>
            <p:nvPr/>
          </p:nvSpPr>
          <p:spPr>
            <a:xfrm>
              <a:off x="1631880" y="41194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1"/>
            <p:cNvSpPr/>
            <p:nvPr/>
          </p:nvSpPr>
          <p:spPr>
            <a:xfrm>
              <a:off x="1530360" y="3841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d99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Group 12"/>
          <p:cNvGrpSpPr/>
          <p:nvPr/>
        </p:nvGrpSpPr>
        <p:grpSpPr>
          <a:xfrm>
            <a:off x="1530360" y="4984920"/>
            <a:ext cx="1724040" cy="482040"/>
            <a:chOff x="1530360" y="4984920"/>
            <a:chExt cx="1724040" cy="482040"/>
          </a:xfrm>
        </p:grpSpPr>
        <p:sp>
          <p:nvSpPr>
            <p:cNvPr id="551" name="Freeform 13"/>
            <p:cNvSpPr/>
            <p:nvPr/>
          </p:nvSpPr>
          <p:spPr>
            <a:xfrm>
              <a:off x="1631880" y="5262480"/>
              <a:ext cx="1520280" cy="20448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4"/>
            <p:cNvSpPr/>
            <p:nvPr/>
          </p:nvSpPr>
          <p:spPr>
            <a:xfrm>
              <a:off x="1530360" y="49849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90b0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Line 18"/>
          <p:cNvSpPr/>
          <p:nvPr/>
        </p:nvSpPr>
        <p:spPr>
          <a:xfrm>
            <a:off x="2444760" y="226836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9"/>
          <p:cNvSpPr/>
          <p:nvPr/>
        </p:nvSpPr>
        <p:spPr>
          <a:xfrm>
            <a:off x="2444760" y="351324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0"/>
          <p:cNvSpPr/>
          <p:nvPr/>
        </p:nvSpPr>
        <p:spPr>
          <a:xfrm flipV="1">
            <a:off x="2444760" y="46303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bevel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3852000" y="14302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22"/>
          <p:cNvSpPr/>
          <p:nvPr/>
        </p:nvSpPr>
        <p:spPr>
          <a:xfrm>
            <a:off x="3852000" y="25732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23"/>
          <p:cNvSpPr/>
          <p:nvPr/>
        </p:nvSpPr>
        <p:spPr>
          <a:xfrm>
            <a:off x="3852000" y="37162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24"/>
          <p:cNvSpPr/>
          <p:nvPr/>
        </p:nvSpPr>
        <p:spPr>
          <a:xfrm>
            <a:off x="3852000" y="48592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"/>
          <p:cNvSpPr/>
          <p:nvPr/>
        </p:nvSpPr>
        <p:spPr>
          <a:xfrm>
            <a:off x="2730240" y="-324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流程图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30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4:2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Presentation">
    <vt:lpwstr>锐普图表</vt:lpwstr>
  </property>
</Properties>
</file>