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F57-DAED-41B6-96B9-B5F24B9F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A2CA-46F7-433E-A2E3-F2664F1F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FA8-D602-4062-874F-CEA5BDBF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F68-9D41-42A1-98D6-D77DF302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D1787-A1D0-4C56-830C-BAD32ECA29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EB50B-740A-457D-81D4-467F04E582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759FC-8618-4994-9888-48D332A4FB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89854-9301-43C6-BAEC-7CB1084713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A631B-EDBE-4EBD-8BA2-6B43469BC7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6ABAD-5592-432E-A700-E1D32632A4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FC580-01CA-4112-A7D3-4FFC130168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F53-C87E-4D1B-B16E-92ADB8F9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A4407-EFC9-4291-BEF0-57D6D28CC1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4580D-8325-4C68-ACCF-911FAA5A12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0E0D0-642B-4183-87D8-2B8D6A58EA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E21A9-9620-4EF4-928E-38E0D1F95E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B8305-1DCA-4913-9383-074EC5E4FF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CAB64-2688-4819-BECF-9D30D18D27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4D4C5-BD0B-493C-AC83-FD4E21C20C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21625-4F5A-48B4-9326-9DCC2F1294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66C4C-2676-44D9-9C0A-90018E2955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C710D-18B9-4DEA-B8AD-E554C150E1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CF30-881F-4FF1-87F4-774D9E3C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F6179-85E4-47E6-B2AE-CF83B3AB6F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E902D-830D-4503-AE4B-83CE7A42F2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CD2CE-D8B6-4802-82AD-32702B668E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20775-3AF1-4E86-8314-A722D1C8EC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D1373-90AB-4F72-9A25-B0BC3B11F7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97E6A-03B9-4938-9EE1-9BEB88324A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B55A4-7D4D-4BDA-95EF-A5C7045C4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A47-D127-4342-A317-DA1D543B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79B2-96B3-4BFE-93AC-30F80285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6C4-916B-404A-983A-AE505393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5236-0EA5-4D85-8E05-221E7AF6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28F-225E-4B3E-8538-92750AD1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B38-FD9B-4AB2-A8CC-6122C288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nordridesign.cn/index.php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AA59-EAF1-4B54-A8ED-8C81F22A211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5"/>
          <p:cNvSpPr/>
          <p:nvPr/>
        </p:nvSpPr>
        <p:spPr>
          <a:xfrm>
            <a:off x="407808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17" descr="logo2"/>
          <p:cNvPicPr/>
          <p:nvPr/>
        </p:nvPicPr>
        <p:blipFill>
          <a:blip r:embed="rId2"/>
          <a:stretch/>
        </p:blipFill>
        <p:spPr>
          <a:xfrm>
            <a:off x="2563920" y="234792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15" name="Rectangle 18">
            <a:hlinkClick r:id="rId3"/>
          </p:cNvPr>
          <p:cNvSpPr/>
          <p:nvPr/>
        </p:nvSpPr>
        <p:spPr>
          <a:xfrm>
            <a:off x="2484360" y="206064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" descr="025_5000x4375_zcool.com.cn.jpg"/>
          <p:cNvPicPr/>
          <p:nvPr/>
        </p:nvPicPr>
        <p:blipFill>
          <a:blip r:embed="rId2"/>
          <a:stretch/>
        </p:blipFill>
        <p:spPr>
          <a:xfrm>
            <a:off x="50760" y="2214720"/>
            <a:ext cx="5307120" cy="4643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DD9F-ECB9-45AE-A02B-F7DB7BA1E84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-6480" y="4950000"/>
            <a:ext cx="1086120" cy="1914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0651-FBB9-4F46-98D2-75E6F4AFF0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172040" y="2571840"/>
            <a:ext cx="41860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572240" y="214200"/>
            <a:ext cx="1214640" cy="428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0" y="64533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55720" y="40464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领奖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4823F-5BB3-41E7-AEB3-DF9F8636EA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05:44:2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28:37Z</dcterms:modified>
  <cp:revision>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