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512F-256A-49DB-AE24-E8B147A47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A51C-461E-41BD-B781-09D69833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022A-784D-408A-995D-9DF263F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1651-DC29-4231-B6BF-4444C4F6B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FDEA-37E6-49F9-8C38-D5E993D4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5A09-91DB-48C8-A83F-4ACE2E55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E48A-11EF-4C57-9A5D-5843591C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9485-29A4-4484-BB03-3D01D04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D561D-3800-494B-AC3D-A1873817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3D563-D065-4956-9AAD-673B082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EA0A-D518-4706-9B43-8F51FFE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DECA-A34C-4B37-BEC4-963F3D7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F0192-3AA6-4BE7-8E1A-C60DC30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22165-F190-4D4D-B8B6-BC3DF8E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E1103-E420-47A2-A2DA-6F346A2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AC086-EE06-4FE1-9B22-C98FF440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4F4B-EE15-472A-BA79-A56E1C5A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8B28-45FC-4B74-85E0-E5F8AEB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E132-D2DC-4A32-8268-267D631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6D2B-8E85-4B5C-B58A-9504153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A34D-CCFB-41E4-8A62-163D5AA6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5C8E-9157-495C-A852-F4B428A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53D2-B682-41B0-BB1A-8A3BFBD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CCFE-9F75-4E07-9056-A3DB7E0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6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1440" y="685800"/>
            <a:ext cx="914256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606600" y="571680"/>
            <a:ext cx="603216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8088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456C-3900-4004-93A6-0D94E2EB531C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Line 9"/>
          <p:cNvSpPr/>
          <p:nvPr/>
        </p:nvSpPr>
        <p:spPr>
          <a:xfrm>
            <a:off x="304920" y="6477120"/>
            <a:ext cx="754380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279360" y="0"/>
            <a:ext cx="136440" cy="876240"/>
            <a:chOff x="279360" y="0"/>
            <a:chExt cx="136440" cy="876240"/>
          </a:xfrm>
        </p:grpSpPr>
        <p:sp>
          <p:nvSpPr>
            <p:cNvPr id="9" name="Rectangle 11"/>
            <p:cNvSpPr/>
            <p:nvPr/>
          </p:nvSpPr>
          <p:spPr>
            <a:xfrm>
              <a:off x="279360" y="0"/>
              <a:ext cx="136440" cy="87408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64680" y="0"/>
              <a:ext cx="46800" cy="876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5800" y="0"/>
            <a:ext cx="136800" cy="1150920"/>
            <a:chOff x="415800" y="0"/>
            <a:chExt cx="136800" cy="1150920"/>
          </a:xfrm>
        </p:grpSpPr>
        <p:sp>
          <p:nvSpPr>
            <p:cNvPr id="12" name="Rectangle 14"/>
            <p:cNvSpPr/>
            <p:nvPr/>
          </p:nvSpPr>
          <p:spPr>
            <a:xfrm>
              <a:off x="415800" y="0"/>
              <a:ext cx="136800" cy="114804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68000" y="0"/>
              <a:ext cx="8028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549360" y="0"/>
            <a:ext cx="136440" cy="1523880"/>
            <a:chOff x="549360" y="0"/>
            <a:chExt cx="136440" cy="1523880"/>
          </a:xfrm>
        </p:grpSpPr>
        <p:sp>
          <p:nvSpPr>
            <p:cNvPr id="15" name="Rectangle 17"/>
            <p:cNvSpPr/>
            <p:nvPr/>
          </p:nvSpPr>
          <p:spPr>
            <a:xfrm>
              <a:off x="549360" y="0"/>
              <a:ext cx="136440" cy="151992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34680" y="0"/>
              <a:ext cx="46800" cy="1523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600200"/>
            <a:ext cx="91425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533520" y="0"/>
            <a:ext cx="215640" cy="1860480"/>
            <a:chOff x="533520" y="0"/>
            <a:chExt cx="215640" cy="1860480"/>
          </a:xfrm>
        </p:grpSpPr>
        <p:sp>
          <p:nvSpPr>
            <p:cNvPr id="55" name="Rectangle 9"/>
            <p:cNvSpPr/>
            <p:nvPr/>
          </p:nvSpPr>
          <p:spPr>
            <a:xfrm>
              <a:off x="533520" y="0"/>
              <a:ext cx="215640" cy="1855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68160" y="0"/>
              <a:ext cx="74160" cy="18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7" name="Group 11"/>
          <p:cNvGrpSpPr/>
          <p:nvPr/>
        </p:nvGrpSpPr>
        <p:grpSpPr>
          <a:xfrm>
            <a:off x="749160" y="0"/>
            <a:ext cx="216000" cy="2444760"/>
            <a:chOff x="749160" y="0"/>
            <a:chExt cx="216000" cy="2444760"/>
          </a:xfrm>
        </p:grpSpPr>
        <p:sp>
          <p:nvSpPr>
            <p:cNvPr id="58" name="Rectangle 12"/>
            <p:cNvSpPr/>
            <p:nvPr/>
          </p:nvSpPr>
          <p:spPr>
            <a:xfrm>
              <a:off x="749160" y="0"/>
              <a:ext cx="216000" cy="243828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831600" y="0"/>
              <a:ext cx="127080" cy="2444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958680" y="0"/>
            <a:ext cx="216000" cy="3238200"/>
            <a:chOff x="958680" y="0"/>
            <a:chExt cx="216000" cy="3238200"/>
          </a:xfrm>
        </p:grpSpPr>
        <p:sp>
          <p:nvSpPr>
            <p:cNvPr id="61" name="Rectangle 15"/>
            <p:cNvSpPr/>
            <p:nvPr/>
          </p:nvSpPr>
          <p:spPr>
            <a:xfrm>
              <a:off x="958680" y="0"/>
              <a:ext cx="216000" cy="322956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1093680" y="0"/>
              <a:ext cx="74520" cy="3238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FAB-773B-4A7C-9DA4-8462B82AF9E0}" type="slidenum">
              <a:rPr b="0" lang="ko-KR" sz="10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ower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84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173373"/>
                </a:solidFill>
                <a:latin typeface="Verdana"/>
                <a:ea typeface="Gulim"/>
              </a:rPr>
              <a:t>蓝色建筑</a:t>
            </a:r>
            <a:r>
              <a:rPr b="1" lang="zh-CN" sz="4000" spc="-1" strike="noStrike">
                <a:solidFill>
                  <a:srgbClr val="173373"/>
                </a:solidFill>
                <a:latin typeface="楷体"/>
                <a:ea typeface="楷体"/>
              </a:rPr>
              <a:t>PPT</a:t>
            </a:r>
            <a:r>
              <a:rPr b="0" lang="ko-KR" sz="4000" spc="-1" strike="noStrike">
                <a:solidFill>
                  <a:srgbClr val="173373"/>
                </a:solidFill>
                <a:latin typeface="Verdana"/>
                <a:ea typeface="Gulim"/>
              </a:rPr>
              <a:t>模板完整版打包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Verdana"/>
                <a:ea typeface="Gulim"/>
              </a:rPr>
              <a:t>3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Gulim"/>
              </a:rPr>
              <a:t>D Pie Char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Gulim"/>
              </a:rPr>
              <a:t>A. Products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217" name="AutoShape 7"/>
          <p:cNvCxnSpPr>
            <a:stCxn id="216" idx="1"/>
            <a:endCxn id="218" idx="3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219" name="AutoShape 8"/>
          <p:cNvCxnSpPr>
            <a:stCxn id="215" idx="1"/>
            <a:endCxn id="220" idx="3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221" name="Group 9"/>
          <p:cNvGrpSpPr/>
          <p:nvPr/>
        </p:nvGrpSpPr>
        <p:grpSpPr>
          <a:xfrm>
            <a:off x="533520" y="2286360"/>
            <a:ext cx="2804760" cy="2804400"/>
            <a:chOff x="533520" y="2286360"/>
            <a:chExt cx="2804760" cy="2804400"/>
          </a:xfrm>
        </p:grpSpPr>
        <p:pic>
          <p:nvPicPr>
            <p:cNvPr id="222" name="Picture 10" descr="circuler_1"/>
            <p:cNvPicPr/>
            <p:nvPr/>
          </p:nvPicPr>
          <p:blipFill>
            <a:blip r:embed="rId2"/>
            <a:stretch/>
          </p:blipFill>
          <p:spPr>
            <a:xfrm>
              <a:off x="533520" y="2306520"/>
              <a:ext cx="269856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rc 11"/>
            <p:cNvSpPr/>
            <p:nvPr/>
          </p:nvSpPr>
          <p:spPr>
            <a:xfrm flipH="1" flipV="1" rot="5400000">
              <a:off x="-78120" y="2919960"/>
              <a:ext cx="2598480" cy="13712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357d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4" name="Arc 12"/>
            <p:cNvSpPr/>
            <p:nvPr/>
          </p:nvSpPr>
          <p:spPr>
            <a:xfrm flipH="1" flipV="1" rot="16490400">
              <a:off x="1056240" y="2852640"/>
              <a:ext cx="2673000" cy="167004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lnTo>
                    <a:pt x="66" y="23297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761760" y="31428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981080" y="36014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27" name="Group 15"/>
            <p:cNvGrpSpPr/>
            <p:nvPr/>
          </p:nvGrpSpPr>
          <p:grpSpPr>
            <a:xfrm>
              <a:off x="1430640" y="3252960"/>
              <a:ext cx="1901520" cy="1734120"/>
              <a:chOff x="1430640" y="3252960"/>
              <a:chExt cx="1901520" cy="1734120"/>
            </a:xfrm>
          </p:grpSpPr>
          <p:grpSp>
            <p:nvGrpSpPr>
              <p:cNvPr id="228" name="Group 16"/>
              <p:cNvGrpSpPr/>
              <p:nvPr/>
            </p:nvGrpSpPr>
            <p:grpSpPr>
              <a:xfrm>
                <a:off x="1869480" y="3252960"/>
                <a:ext cx="1462680" cy="1717560"/>
                <a:chOff x="1869480" y="3252960"/>
                <a:chExt cx="1462680" cy="1717560"/>
              </a:xfrm>
            </p:grpSpPr>
            <p:sp>
              <p:nvSpPr>
                <p:cNvPr id="229" name="AutoShape 17"/>
                <p:cNvSpPr/>
                <p:nvPr/>
              </p:nvSpPr>
              <p:spPr>
                <a:xfrm flipH="1" flipV="1" rot="1528800">
                  <a:off x="2684160" y="325800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18"/>
                <p:cNvSpPr/>
                <p:nvPr/>
              </p:nvSpPr>
              <p:spPr>
                <a:xfrm flipH="1" flipV="1" rot="2344200">
                  <a:off x="2574000" y="346860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19"/>
                <p:cNvSpPr/>
                <p:nvPr/>
              </p:nvSpPr>
              <p:spPr>
                <a:xfrm flipH="1" flipV="1" rot="2640000">
                  <a:off x="2482560" y="3570120"/>
                  <a:ext cx="3474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20"/>
                <p:cNvSpPr/>
                <p:nvPr/>
              </p:nvSpPr>
              <p:spPr>
                <a:xfrm flipH="1" flipV="1" rot="3172200">
                  <a:off x="2368800" y="3688200"/>
                  <a:ext cx="3470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21"/>
              <p:cNvGrpSpPr/>
              <p:nvPr/>
            </p:nvGrpSpPr>
            <p:grpSpPr>
              <a:xfrm>
                <a:off x="1430640" y="3725640"/>
                <a:ext cx="1838160" cy="1261440"/>
                <a:chOff x="1430640" y="3725640"/>
                <a:chExt cx="1838160" cy="1261440"/>
              </a:xfrm>
            </p:grpSpPr>
            <p:sp>
              <p:nvSpPr>
                <p:cNvPr id="234" name="AutoShape 22"/>
                <p:cNvSpPr/>
                <p:nvPr/>
              </p:nvSpPr>
              <p:spPr>
                <a:xfrm flipH="1" flipV="1" rot="2881800">
                  <a:off x="2447280" y="361908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23"/>
                <p:cNvSpPr/>
                <p:nvPr/>
              </p:nvSpPr>
              <p:spPr>
                <a:xfrm flipH="1" flipV="1" rot="3697200">
                  <a:off x="2263680" y="377100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24"/>
                <p:cNvSpPr/>
                <p:nvPr/>
              </p:nvSpPr>
              <p:spPr>
                <a:xfrm flipH="1" flipV="1" rot="3993000">
                  <a:off x="2140200" y="382932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25"/>
                <p:cNvSpPr/>
                <p:nvPr/>
              </p:nvSpPr>
              <p:spPr>
                <a:xfrm flipH="1" flipV="1" rot="4525200">
                  <a:off x="1989720" y="3895200"/>
                  <a:ext cx="3492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26"/>
          <p:cNvGrpSpPr/>
          <p:nvPr/>
        </p:nvGrpSpPr>
        <p:grpSpPr>
          <a:xfrm>
            <a:off x="3352680" y="2198880"/>
            <a:ext cx="2910960" cy="2892960"/>
            <a:chOff x="3352680" y="2198880"/>
            <a:chExt cx="2910960" cy="2892960"/>
          </a:xfrm>
        </p:grpSpPr>
        <p:pic>
          <p:nvPicPr>
            <p:cNvPr id="239" name="Picture 27" descr="circuler_1"/>
            <p:cNvPicPr/>
            <p:nvPr/>
          </p:nvPicPr>
          <p:blipFill>
            <a:blip r:embed="rId3"/>
            <a:stretch/>
          </p:blipFill>
          <p:spPr>
            <a:xfrm>
              <a:off x="3352680" y="2306880"/>
              <a:ext cx="2710080" cy="26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rc 28"/>
            <p:cNvSpPr/>
            <p:nvPr/>
          </p:nvSpPr>
          <p:spPr>
            <a:xfrm flipH="1" flipV="1" rot="5400000">
              <a:off x="2745360" y="2909880"/>
              <a:ext cx="2598120" cy="137736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357d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1" name="Arc 29"/>
            <p:cNvSpPr/>
            <p:nvPr/>
          </p:nvSpPr>
          <p:spPr>
            <a:xfrm flipH="1" flipV="1" rot="16490400">
              <a:off x="4446720" y="3462120"/>
              <a:ext cx="1446120" cy="167688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a3b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0" name="Arc 30"/>
            <p:cNvSpPr/>
            <p:nvPr/>
          </p:nvSpPr>
          <p:spPr>
            <a:xfrm flipH="1" flipV="1" rot="11090400">
              <a:off x="4772160" y="2379600"/>
              <a:ext cx="804960" cy="130752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2" name="Arc 31"/>
            <p:cNvSpPr/>
            <p:nvPr/>
          </p:nvSpPr>
          <p:spPr>
            <a:xfrm flipH="1" flipV="1" rot="13924200">
              <a:off x="4883760" y="2794320"/>
              <a:ext cx="1054080" cy="13399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lnTo>
                    <a:pt x="-1" y="3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18" name="Arc 32"/>
            <p:cNvSpPr/>
            <p:nvPr/>
          </p:nvSpPr>
          <p:spPr>
            <a:xfrm flipH="1" flipV="1" rot="9746400">
              <a:off x="4512240" y="2283120"/>
              <a:ext cx="758520" cy="127296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lnTo>
                    <a:pt x="6630" y="0"/>
                  </a:lnTo>
                  <a:close/>
                </a:path>
              </a:pathLst>
            </a:custGeom>
            <a:solidFill>
              <a:srgbClr val="776d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3553560" y="3219840"/>
              <a:ext cx="107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4701240" y="3907800"/>
              <a:ext cx="107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007240" y="3143160"/>
              <a:ext cx="107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46" name="Group 36"/>
            <p:cNvGrpSpPr/>
            <p:nvPr/>
          </p:nvGrpSpPr>
          <p:grpSpPr>
            <a:xfrm>
              <a:off x="4257720" y="3252960"/>
              <a:ext cx="1904040" cy="1735200"/>
              <a:chOff x="4257720" y="3252960"/>
              <a:chExt cx="1904040" cy="1735200"/>
            </a:xfrm>
          </p:grpSpPr>
          <p:grpSp>
            <p:nvGrpSpPr>
              <p:cNvPr id="247" name="Group 37"/>
              <p:cNvGrpSpPr/>
              <p:nvPr/>
            </p:nvGrpSpPr>
            <p:grpSpPr>
              <a:xfrm>
                <a:off x="4696920" y="3252960"/>
                <a:ext cx="1464840" cy="1717920"/>
                <a:chOff x="4696920" y="3252960"/>
                <a:chExt cx="1464840" cy="1717920"/>
              </a:xfrm>
            </p:grpSpPr>
            <p:sp>
              <p:nvSpPr>
                <p:cNvPr id="248" name="AutoShape 38"/>
                <p:cNvSpPr/>
                <p:nvPr/>
              </p:nvSpPr>
              <p:spPr>
                <a:xfrm flipH="1" flipV="1" rot="1528800">
                  <a:off x="5511960" y="32580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39"/>
                <p:cNvSpPr/>
                <p:nvPr/>
              </p:nvSpPr>
              <p:spPr>
                <a:xfrm flipH="1" flipV="1" rot="2344200">
                  <a:off x="5402160" y="34686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40"/>
                <p:cNvSpPr/>
                <p:nvPr/>
              </p:nvSpPr>
              <p:spPr>
                <a:xfrm flipH="1" flipV="1" rot="2640000">
                  <a:off x="5310000" y="357048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41"/>
                <p:cNvSpPr/>
                <p:nvPr/>
              </p:nvSpPr>
              <p:spPr>
                <a:xfrm flipH="1" flipV="1" rot="3172200">
                  <a:off x="5195520" y="3688200"/>
                  <a:ext cx="348840" cy="142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42"/>
              <p:cNvGrpSpPr/>
              <p:nvPr/>
            </p:nvGrpSpPr>
            <p:grpSpPr>
              <a:xfrm>
                <a:off x="4257720" y="3726000"/>
                <a:ext cx="1839240" cy="1262160"/>
                <a:chOff x="4257720" y="3726000"/>
                <a:chExt cx="1839240" cy="1262160"/>
              </a:xfrm>
            </p:grpSpPr>
            <p:sp>
              <p:nvSpPr>
                <p:cNvPr id="253" name="AutoShape 43"/>
                <p:cNvSpPr/>
                <p:nvPr/>
              </p:nvSpPr>
              <p:spPr>
                <a:xfrm flipH="1" flipV="1" rot="2881800">
                  <a:off x="5273640" y="361944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4" name="AutoShape 44"/>
                <p:cNvSpPr/>
                <p:nvPr/>
              </p:nvSpPr>
              <p:spPr>
                <a:xfrm flipH="1" flipV="1" rot="3697200">
                  <a:off x="5090760" y="377172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45"/>
                <p:cNvSpPr/>
                <p:nvPr/>
              </p:nvSpPr>
              <p:spPr>
                <a:xfrm flipH="1" flipV="1" rot="3993000">
                  <a:off x="4966920" y="3829680"/>
                  <a:ext cx="35100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46"/>
                <p:cNvSpPr/>
                <p:nvPr/>
              </p:nvSpPr>
              <p:spPr>
                <a:xfrm flipH="1" flipV="1" rot="4525200">
                  <a:off x="4816800" y="3895200"/>
                  <a:ext cx="350640" cy="142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AutoShape 47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Text Box 48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Gulim"/>
              </a:rPr>
              <a:t>B. Products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AutoShape 49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57d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57da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57da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AutoShape 51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467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AutoShape 52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76d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76dc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776dc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3" name="AutoShape 53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a3b2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a3b2c5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a3b2c5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905040" y="187956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ee9e6e">
                  <a:alpha val="90196"/>
                </a:srgbClr>
              </a:gs>
              <a:gs pos="50000">
                <a:srgbClr val="e4671a"/>
              </a:gs>
              <a:gs pos="100000">
                <a:srgbClr val="ee9e6e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46360" y="187956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546360" y="1806480"/>
            <a:ext cx="2109960" cy="515880"/>
          </a:xfrm>
          <a:prstGeom prst="rect">
            <a:avLst/>
          </a:prstGeom>
          <a:gradFill rotWithShape="0">
            <a:gsLst>
              <a:gs pos="0">
                <a:srgbClr val="659cb7"/>
              </a:gs>
              <a:gs pos="50000">
                <a:srgbClr val="357da1"/>
              </a:gs>
              <a:gs pos="100000">
                <a:srgbClr val="659c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 rot="5400000">
            <a:off x="6083640" y="1973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f2b590">
                  <a:alpha val="90196"/>
                </a:srgbClr>
              </a:gs>
              <a:gs pos="50000">
                <a:srgbClr val="e4671a"/>
              </a:gs>
              <a:gs pos="100000">
                <a:srgbClr val="f2b590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78680" y="1806480"/>
            <a:ext cx="2119320" cy="515880"/>
          </a:xfrm>
          <a:prstGeom prst="rect">
            <a:avLst/>
          </a:prstGeom>
          <a:gradFill rotWithShape="0">
            <a:gsLst>
              <a:gs pos="0">
                <a:srgbClr val="bb5415"/>
              </a:gs>
              <a:gs pos="50000">
                <a:srgbClr val="e4671a"/>
              </a:gs>
              <a:gs pos="100000">
                <a:srgbClr val="bb541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 flipH="1">
            <a:off x="3240000" y="440064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ee9e6e">
                  <a:alpha val="90196"/>
                </a:srgbClr>
              </a:gs>
              <a:gs pos="50000">
                <a:srgbClr val="e4671a"/>
              </a:gs>
              <a:gs pos="100000">
                <a:srgbClr val="ee9e6e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567240" y="4245120"/>
            <a:ext cx="2112840" cy="515880"/>
          </a:xfrm>
          <a:prstGeom prst="rect">
            <a:avLst/>
          </a:prstGeom>
          <a:gradFill rotWithShape="0">
            <a:gsLst>
              <a:gs pos="0">
                <a:srgbClr val="c85a17"/>
              </a:gs>
              <a:gs pos="50000">
                <a:srgbClr val="e4671a"/>
              </a:gs>
              <a:gs pos="100000">
                <a:srgbClr val="c85a1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 flipH="1">
            <a:off x="5851440" y="440064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6181560" y="4254480"/>
            <a:ext cx="2119320" cy="515880"/>
          </a:xfrm>
          <a:prstGeom prst="rect">
            <a:avLst/>
          </a:prstGeom>
          <a:gradFill rotWithShape="0">
            <a:gsLst>
              <a:gs pos="0">
                <a:srgbClr val="659cb7"/>
              </a:gs>
              <a:gs pos="50000">
                <a:srgbClr val="357da1"/>
              </a:gs>
              <a:gs pos="100000">
                <a:srgbClr val="659c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903240" y="1806480"/>
            <a:ext cx="2114640" cy="515880"/>
          </a:xfrm>
          <a:prstGeom prst="rect">
            <a:avLst/>
          </a:prstGeom>
          <a:gradFill rotWithShape="0">
            <a:gsLst>
              <a:gs pos="0">
                <a:srgbClr val="c85a17"/>
              </a:gs>
              <a:gs pos="50000">
                <a:srgbClr val="e4671a"/>
              </a:gs>
              <a:gs pos="100000">
                <a:srgbClr val="c85a1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107280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367956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6330600" y="18558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740040" y="43210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6330600" y="43210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838080" y="454356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373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88596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54348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6162840" y="243828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6162840" y="4903920"/>
            <a:ext cx="20732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562200" y="4903920"/>
            <a:ext cx="207360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4397400" y="1758960"/>
            <a:ext cx="2385720" cy="2095200"/>
            <a:chOff x="4397400" y="1758960"/>
            <a:chExt cx="2385720" cy="2095200"/>
          </a:xfrm>
        </p:grpSpPr>
        <p:sp>
          <p:nvSpPr>
            <p:cNvPr id="298" name="AutoShape 4"/>
            <p:cNvSpPr/>
            <p:nvPr/>
          </p:nvSpPr>
          <p:spPr>
            <a:xfrm>
              <a:off x="4397400" y="2102040"/>
              <a:ext cx="2369520" cy="1752120"/>
            </a:xfrm>
            <a:prstGeom prst="diamond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9" name="AutoShape 5"/>
            <p:cNvSpPr/>
            <p:nvPr/>
          </p:nvSpPr>
          <p:spPr>
            <a:xfrm>
              <a:off x="4398480" y="1916280"/>
              <a:ext cx="2369880" cy="1751760"/>
            </a:xfrm>
            <a:prstGeom prst="diamond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0" name="AutoShape 6"/>
            <p:cNvSpPr/>
            <p:nvPr/>
          </p:nvSpPr>
          <p:spPr>
            <a:xfrm>
              <a:off x="4413600" y="1758960"/>
              <a:ext cx="2369520" cy="1752120"/>
            </a:xfrm>
            <a:prstGeom prst="diamond">
              <a:avLst/>
            </a:prstGeom>
            <a:gradFill rotWithShape="0">
              <a:gsLst>
                <a:gs pos="0">
                  <a:srgbClr val="a965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01" name="Group 7"/>
          <p:cNvGrpSpPr/>
          <p:nvPr/>
        </p:nvGrpSpPr>
        <p:grpSpPr>
          <a:xfrm>
            <a:off x="2033640" y="1752480"/>
            <a:ext cx="2385720" cy="2082600"/>
            <a:chOff x="2033640" y="1752480"/>
            <a:chExt cx="2385720" cy="2082600"/>
          </a:xfrm>
        </p:grpSpPr>
        <p:sp>
          <p:nvSpPr>
            <p:cNvPr id="302" name="AutoShape 8"/>
            <p:cNvSpPr/>
            <p:nvPr/>
          </p:nvSpPr>
          <p:spPr>
            <a:xfrm>
              <a:off x="2033640" y="2082600"/>
              <a:ext cx="2369520" cy="1752480"/>
            </a:xfrm>
            <a:prstGeom prst="diamond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3" name="AutoShape 9"/>
            <p:cNvSpPr/>
            <p:nvPr/>
          </p:nvSpPr>
          <p:spPr>
            <a:xfrm>
              <a:off x="2034720" y="1909800"/>
              <a:ext cx="2369880" cy="175212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4" name="AutoShape 10"/>
            <p:cNvSpPr/>
            <p:nvPr/>
          </p:nvSpPr>
          <p:spPr>
            <a:xfrm>
              <a:off x="2049840" y="1752480"/>
              <a:ext cx="2369520" cy="1752480"/>
            </a:xfrm>
            <a:prstGeom prst="diamond">
              <a:avLst/>
            </a:prstGeom>
            <a:gradFill rotWithShape="0">
              <a:gsLst>
                <a:gs pos="0">
                  <a:srgbClr val="393956"/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380880" y="2114640"/>
            <a:ext cx="8153280" cy="3828960"/>
            <a:chOff x="380880" y="2114640"/>
            <a:chExt cx="8153280" cy="3828960"/>
          </a:xfrm>
        </p:grpSpPr>
        <p:grpSp>
          <p:nvGrpSpPr>
            <p:cNvPr id="306" name="Group 12"/>
            <p:cNvGrpSpPr/>
            <p:nvPr/>
          </p:nvGrpSpPr>
          <p:grpSpPr>
            <a:xfrm>
              <a:off x="3990960" y="2249640"/>
              <a:ext cx="771480" cy="687240"/>
              <a:chOff x="3990960" y="2249640"/>
              <a:chExt cx="771480" cy="687240"/>
            </a:xfrm>
          </p:grpSpPr>
          <p:sp>
            <p:nvSpPr>
              <p:cNvPr id="307" name="AutoShape 13"/>
              <p:cNvSpPr/>
              <p:nvPr/>
            </p:nvSpPr>
            <p:spPr>
              <a:xfrm>
                <a:off x="3990960" y="236772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8" name="AutoShape 14"/>
              <p:cNvSpPr/>
              <p:nvPr/>
            </p:nvSpPr>
            <p:spPr>
              <a:xfrm>
                <a:off x="3990960" y="231048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9" name="AutoShape 15"/>
              <p:cNvSpPr/>
              <p:nvPr/>
            </p:nvSpPr>
            <p:spPr>
              <a:xfrm>
                <a:off x="3990960" y="224964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10" name="Rectangle 16"/>
            <p:cNvSpPr/>
            <p:nvPr/>
          </p:nvSpPr>
          <p:spPr>
            <a:xfrm>
              <a:off x="2707560" y="26114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1" name="Rectangle 17"/>
            <p:cNvSpPr/>
            <p:nvPr/>
          </p:nvSpPr>
          <p:spPr>
            <a:xfrm>
              <a:off x="5061960" y="26114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2" name="Rectangle 18"/>
            <p:cNvSpPr/>
            <p:nvPr/>
          </p:nvSpPr>
          <p:spPr>
            <a:xfrm>
              <a:off x="4023360" y="37180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373"/>
                  </a:solidFill>
                  <a:latin typeface="Arial"/>
                  <a:ea typeface="Gulim"/>
                </a:rPr>
                <a:t>Title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3" name="Oval 19"/>
            <p:cNvSpPr/>
            <p:nvPr/>
          </p:nvSpPr>
          <p:spPr>
            <a:xfrm>
              <a:off x="3082680" y="215424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4" name="Text Box 20"/>
            <p:cNvSpPr/>
            <p:nvPr/>
          </p:nvSpPr>
          <p:spPr>
            <a:xfrm>
              <a:off x="3124800" y="218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A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5" name="Oval 21"/>
            <p:cNvSpPr/>
            <p:nvPr/>
          </p:nvSpPr>
          <p:spPr>
            <a:xfrm>
              <a:off x="5445000" y="2154240"/>
              <a:ext cx="48276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6" name="Text Box 22"/>
            <p:cNvSpPr/>
            <p:nvPr/>
          </p:nvSpPr>
          <p:spPr>
            <a:xfrm>
              <a:off x="5491440" y="2192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B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17" name="Group 23"/>
            <p:cNvGrpSpPr/>
            <p:nvPr/>
          </p:nvGrpSpPr>
          <p:grpSpPr>
            <a:xfrm>
              <a:off x="5614920" y="3559320"/>
              <a:ext cx="771480" cy="689040"/>
              <a:chOff x="5614920" y="3559320"/>
              <a:chExt cx="771480" cy="689040"/>
            </a:xfrm>
          </p:grpSpPr>
          <p:sp>
            <p:nvSpPr>
              <p:cNvPr id="318" name="AutoShape 24"/>
              <p:cNvSpPr/>
              <p:nvPr/>
            </p:nvSpPr>
            <p:spPr>
              <a:xfrm>
                <a:off x="5614920" y="367776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19" name="AutoShape 25"/>
              <p:cNvSpPr/>
              <p:nvPr/>
            </p:nvSpPr>
            <p:spPr>
              <a:xfrm>
                <a:off x="5614920" y="362016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0" name="AutoShape 26"/>
              <p:cNvSpPr/>
              <p:nvPr/>
            </p:nvSpPr>
            <p:spPr>
              <a:xfrm>
                <a:off x="5614920" y="355932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7"/>
            <p:cNvGrpSpPr/>
            <p:nvPr/>
          </p:nvGrpSpPr>
          <p:grpSpPr>
            <a:xfrm>
              <a:off x="4397400" y="3854520"/>
              <a:ext cx="2385360" cy="2089080"/>
              <a:chOff x="4397400" y="3854520"/>
              <a:chExt cx="2385360" cy="2089080"/>
            </a:xfrm>
          </p:grpSpPr>
          <p:sp>
            <p:nvSpPr>
              <p:cNvPr id="322" name="AutoShape 28"/>
              <p:cNvSpPr/>
              <p:nvPr/>
            </p:nvSpPr>
            <p:spPr>
              <a:xfrm>
                <a:off x="4397400" y="4190400"/>
                <a:ext cx="236916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3" name="AutoShape 29"/>
              <p:cNvSpPr/>
              <p:nvPr/>
            </p:nvSpPr>
            <p:spPr>
              <a:xfrm>
                <a:off x="4398480" y="40208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24" name="AutoShape 30"/>
              <p:cNvSpPr/>
              <p:nvPr/>
            </p:nvSpPr>
            <p:spPr>
              <a:xfrm>
                <a:off x="4413600" y="3854520"/>
                <a:ext cx="236916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25" name="Rectangle 31"/>
            <p:cNvSpPr/>
            <p:nvPr/>
          </p:nvSpPr>
          <p:spPr>
            <a:xfrm>
              <a:off x="5068080" y="46879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6" name="Oval 32"/>
            <p:cNvSpPr/>
            <p:nvPr/>
          </p:nvSpPr>
          <p:spPr>
            <a:xfrm>
              <a:off x="5432400" y="4210200"/>
              <a:ext cx="48096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7" name="Text Box 33"/>
            <p:cNvSpPr/>
            <p:nvPr/>
          </p:nvSpPr>
          <p:spPr>
            <a:xfrm>
              <a:off x="5486760" y="424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D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28" name="Group 34"/>
            <p:cNvGrpSpPr/>
            <p:nvPr/>
          </p:nvGrpSpPr>
          <p:grpSpPr>
            <a:xfrm>
              <a:off x="2457360" y="3606840"/>
              <a:ext cx="771480" cy="687240"/>
              <a:chOff x="2457360" y="3606840"/>
              <a:chExt cx="771480" cy="687240"/>
            </a:xfrm>
          </p:grpSpPr>
          <p:sp>
            <p:nvSpPr>
              <p:cNvPr id="329" name="AutoShape 35"/>
              <p:cNvSpPr/>
              <p:nvPr/>
            </p:nvSpPr>
            <p:spPr>
              <a:xfrm>
                <a:off x="2457360" y="372492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0" name="AutoShape 36"/>
              <p:cNvSpPr/>
              <p:nvPr/>
            </p:nvSpPr>
            <p:spPr>
              <a:xfrm>
                <a:off x="2457360" y="366768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>
                <a:off x="2457360" y="360684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38"/>
            <p:cNvGrpSpPr/>
            <p:nvPr/>
          </p:nvGrpSpPr>
          <p:grpSpPr>
            <a:xfrm>
              <a:off x="2031840" y="3851280"/>
              <a:ext cx="2385720" cy="2080800"/>
              <a:chOff x="2031840" y="3851280"/>
              <a:chExt cx="2385720" cy="2080800"/>
            </a:xfrm>
          </p:grpSpPr>
          <p:sp>
            <p:nvSpPr>
              <p:cNvPr id="333" name="AutoShape 39"/>
              <p:cNvSpPr/>
              <p:nvPr/>
            </p:nvSpPr>
            <p:spPr>
              <a:xfrm>
                <a:off x="2031840" y="41788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4" name="AutoShape 40"/>
              <p:cNvSpPr/>
              <p:nvPr/>
            </p:nvSpPr>
            <p:spPr>
              <a:xfrm>
                <a:off x="2032920" y="400860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5" name="AutoShape 41"/>
              <p:cNvSpPr/>
              <p:nvPr/>
            </p:nvSpPr>
            <p:spPr>
              <a:xfrm>
                <a:off x="2048040" y="385128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36" name="Rectangle 42"/>
            <p:cNvSpPr/>
            <p:nvPr/>
          </p:nvSpPr>
          <p:spPr>
            <a:xfrm>
              <a:off x="2715480" y="468792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Add your 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 in here</a:t>
              </a:r>
              <a:endParaRPr b="0" lang="en-US" sz="1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7" name="Oval 43"/>
            <p:cNvSpPr/>
            <p:nvPr/>
          </p:nvSpPr>
          <p:spPr>
            <a:xfrm>
              <a:off x="3082680" y="421020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8" name="Text Box 44"/>
            <p:cNvSpPr/>
            <p:nvPr/>
          </p:nvSpPr>
          <p:spPr>
            <a:xfrm>
              <a:off x="3129480" y="4253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Gulim"/>
                </a:rPr>
                <a:t>C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39" name="Group 45"/>
            <p:cNvGrpSpPr/>
            <p:nvPr/>
          </p:nvGrpSpPr>
          <p:grpSpPr>
            <a:xfrm>
              <a:off x="3990960" y="4959360"/>
              <a:ext cx="771480" cy="689040"/>
              <a:chOff x="3990960" y="4959360"/>
              <a:chExt cx="771480" cy="689040"/>
            </a:xfrm>
          </p:grpSpPr>
          <p:sp>
            <p:nvSpPr>
              <p:cNvPr id="340" name="AutoShape 46"/>
              <p:cNvSpPr/>
              <p:nvPr/>
            </p:nvSpPr>
            <p:spPr>
              <a:xfrm>
                <a:off x="3990960" y="50778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41" name="AutoShape 47"/>
              <p:cNvSpPr/>
              <p:nvPr/>
            </p:nvSpPr>
            <p:spPr>
              <a:xfrm>
                <a:off x="3990960" y="50202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42" name="AutoShape 48"/>
              <p:cNvSpPr/>
              <p:nvPr/>
            </p:nvSpPr>
            <p:spPr>
              <a:xfrm>
                <a:off x="3990960" y="49593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343" name="Text Box 49"/>
            <p:cNvSpPr/>
            <p:nvPr/>
          </p:nvSpPr>
          <p:spPr>
            <a:xfrm>
              <a:off x="6435720" y="21146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4" name="Text Box 50"/>
            <p:cNvSpPr/>
            <p:nvPr/>
          </p:nvSpPr>
          <p:spPr>
            <a:xfrm>
              <a:off x="6507000" y="417060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5" name="Text Box 51"/>
            <p:cNvSpPr/>
            <p:nvPr/>
          </p:nvSpPr>
          <p:spPr>
            <a:xfrm>
              <a:off x="380880" y="216396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6" name="Text Box 52"/>
            <p:cNvSpPr/>
            <p:nvPr/>
          </p:nvSpPr>
          <p:spPr>
            <a:xfrm>
              <a:off x="390240" y="43182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  <a:ea typeface="Gulim"/>
                </a:rPr>
                <a:t>Add your text in here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776d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21D1D-794C-4E8F-8940-FA94B85508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Oval 3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2" name="Oval 4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467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357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776d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3419640" y="3468600"/>
            <a:ext cx="185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c4a06"/>
                </a:solidFill>
                <a:latin typeface="Arial"/>
                <a:ea typeface="Gulim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Your text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Gulim"/>
              </a:rPr>
              <a:t>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57da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57da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76dc1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776dc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133720" y="220968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3259"/>
              </a:gs>
              <a:gs pos="50000">
                <a:srgbClr val="776dc1"/>
              </a:gs>
              <a:gs pos="100000">
                <a:srgbClr val="3732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828800" y="2090880"/>
            <a:ext cx="685800" cy="685800"/>
          </a:xfrm>
          <a:prstGeom prst="diamond">
            <a:avLst/>
          </a:prstGeom>
          <a:solidFill>
            <a:srgbClr val="776dc1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984680" y="21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133720" y="304812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300c"/>
              </a:gs>
              <a:gs pos="50000">
                <a:srgbClr val="e4671a"/>
              </a:gs>
              <a:gs pos="100000">
                <a:srgbClr val="6a300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1828800" y="2928960"/>
            <a:ext cx="685800" cy="685800"/>
          </a:xfrm>
          <a:prstGeom prst="diamond">
            <a:avLst/>
          </a:prstGeom>
          <a:solidFill>
            <a:srgbClr val="e4671a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666880" y="3103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984680" y="302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133720" y="3886200"/>
            <a:ext cx="4952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3a4b"/>
              </a:gs>
              <a:gs pos="50000">
                <a:srgbClr val="357da1"/>
              </a:gs>
              <a:gs pos="100000">
                <a:srgbClr val="193a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828800" y="3767040"/>
            <a:ext cx="685800" cy="685800"/>
          </a:xfrm>
          <a:prstGeom prst="diamond">
            <a:avLst/>
          </a:prstGeom>
          <a:solidFill>
            <a:srgbClr val="357da1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984680" y="386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2131920" y="4767120"/>
            <a:ext cx="49532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b525b"/>
              </a:gs>
              <a:gs pos="50000">
                <a:srgbClr val="a3b2c5"/>
              </a:gs>
              <a:gs pos="100000">
                <a:srgbClr val="4b52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1827360" y="4648320"/>
            <a:ext cx="685800" cy="685800"/>
          </a:xfrm>
          <a:prstGeom prst="diamond">
            <a:avLst/>
          </a:prstGeom>
          <a:solidFill>
            <a:srgbClr val="a3b2c5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173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1983240" y="4746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>
            <a:off x="1828800" y="16765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57da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57da1"/>
                  </a:gs>
                </a:gsLst>
                <a:lin ang="5400000"/>
              </a:gradFill>
              <a:effectLst>
                <a:outerShdw dist="40186" dir="1096358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294920" y="1062000"/>
            <a:ext cx="74120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800" spc="-1" strike="noStrike">
              <a:solidFill>
                <a:srgbClr val="173373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0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Add your text in her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a3b2c5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57da1"/>
              </a:gs>
              <a:gs pos="100000">
                <a:srgbClr val="72a4b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7953f"/>
              </a:gs>
              <a:gs pos="100000">
                <a:srgbClr val="e8bd5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6dc1"/>
              </a:gs>
              <a:gs pos="100000">
                <a:srgbClr val="a099d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Add Your Tex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32" name="Group 7"/>
          <p:cNvGrpSpPr/>
          <p:nvPr/>
        </p:nvGrpSpPr>
        <p:grpSpPr>
          <a:xfrm>
            <a:off x="6095880" y="2176560"/>
            <a:ext cx="2285640" cy="3309840"/>
            <a:chOff x="6095880" y="2176560"/>
            <a:chExt cx="2285640" cy="3309840"/>
          </a:xfrm>
        </p:grpSpPr>
        <p:sp>
          <p:nvSpPr>
            <p:cNvPr id="133" name="AutoShape 8"/>
            <p:cNvSpPr/>
            <p:nvPr/>
          </p:nvSpPr>
          <p:spPr>
            <a:xfrm>
              <a:off x="6095880" y="217656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4671a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6190560" y="221472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467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35" name="Text Box 10"/>
          <p:cNvSpPr/>
          <p:nvPr/>
        </p:nvSpPr>
        <p:spPr>
          <a:xfrm>
            <a:off x="6400800" y="309096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137" name="Oval 12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3" name="Oval 18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147" name="Oval 22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157" name="Oval 32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9" name="Oval 34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Oval 35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Oval 36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3" name="Oval 38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Oval 39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5" name="Oval 40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357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2724120" y="470376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263680" y="326376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2b590"/>
              </a:gs>
              <a:gs pos="100000">
                <a:srgbClr val="e4671a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764320" y="2583000"/>
            <a:ext cx="2458800" cy="2764440"/>
            <a:chOff x="5764320" y="2583000"/>
            <a:chExt cx="2458800" cy="2764440"/>
          </a:xfrm>
        </p:grpSpPr>
        <p:sp>
          <p:nvSpPr>
            <p:cNvPr id="175" name="AutoShape 11"/>
            <p:cNvSpPr/>
            <p:nvPr/>
          </p:nvSpPr>
          <p:spPr>
            <a:xfrm rot="5400000">
              <a:off x="5614200" y="2732760"/>
              <a:ext cx="2758680" cy="2458800"/>
            </a:xfrm>
            <a:custGeom>
              <a:avLst/>
              <a:gdLst>
                <a:gd name="textAreaLeft" fmla="*/ 0 w 2758680"/>
                <a:gd name="textAreaRight" fmla="*/ 2759040 w 275868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11529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6608520" y="2597040"/>
              <a:ext cx="651960" cy="46692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7" name="AutoShape 13"/>
            <p:cNvSpPr/>
            <p:nvPr/>
          </p:nvSpPr>
          <p:spPr>
            <a:xfrm rot="10800000">
              <a:off x="6638400" y="4880520"/>
              <a:ext cx="497880" cy="4669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78" name="AutoShape 14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923040" y="2585880"/>
            <a:ext cx="2459160" cy="2766600"/>
            <a:chOff x="923040" y="2585880"/>
            <a:chExt cx="2459160" cy="2766600"/>
          </a:xfrm>
        </p:grpSpPr>
        <p:sp>
          <p:nvSpPr>
            <p:cNvPr id="180" name="AutoShape 16"/>
            <p:cNvSpPr/>
            <p:nvPr/>
          </p:nvSpPr>
          <p:spPr>
            <a:xfrm flipH="1" rot="16200000">
              <a:off x="774720" y="2733480"/>
              <a:ext cx="2754720" cy="2459160"/>
            </a:xfrm>
            <a:custGeom>
              <a:avLst/>
              <a:gdLst>
                <a:gd name="textAreaLeft" fmla="*/ 360 w 2754720"/>
                <a:gd name="textAreaRight" fmla="*/ 2755440 w 27547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12114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1" name="AutoShape 17"/>
            <p:cNvSpPr/>
            <p:nvPr/>
          </p:nvSpPr>
          <p:spPr>
            <a:xfrm>
              <a:off x="2038320" y="2599920"/>
              <a:ext cx="652320" cy="4662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2" name="AutoShape 18"/>
            <p:cNvSpPr/>
            <p:nvPr/>
          </p:nvSpPr>
          <p:spPr>
            <a:xfrm rot="10800000">
              <a:off x="2019240" y="4886280"/>
              <a:ext cx="792000" cy="4662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83" name="Rectangle 19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Gulim"/>
              </a:rPr>
              <a:t>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Gulim"/>
              </a:rPr>
              <a:t>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3164040" y="3657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04920" y="160020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solidFill>
            <a:srgbClr val="ffffff">
              <a:alpha val="50000"/>
            </a:srgbClr>
          </a:soli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73373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e4671a"/>
                </a:solidFill>
                <a:latin typeface="Arial"/>
                <a:ea typeface="Gulim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Gulim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197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eff3"/>
                </a:gs>
                <a:gs pos="100000">
                  <a:srgbClr val="a3b2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99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200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2e0f2"/>
                </a:gs>
                <a:gs pos="100000">
                  <a:srgbClr val="776d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203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9dfcf"/>
                </a:gs>
                <a:gs pos="100000">
                  <a:srgbClr val="e467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05" name="Text Box 15"/>
          <p:cNvSpPr/>
          <p:nvPr/>
        </p:nvSpPr>
        <p:spPr>
          <a:xfrm>
            <a:off x="4191120" y="4660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191120" y="3355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4191120" y="199404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57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