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4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11.jpeg" ContentType="image/jpeg"/>
  <Override PartName="/ppt/media/image28.jpeg" ContentType="image/jpeg"/>
  <Override PartName="/ppt/media/image8.png" ContentType="image/png"/>
  <Override PartName="/ppt/media/image14.jpeg" ContentType="image/jpeg"/>
  <Override PartName="/ppt/media/image41.jpeg" ContentType="image/jpeg"/>
  <Override PartName="/ppt/media/image10.png" ContentType="image/png"/>
  <Override PartName="/ppt/media/image1.jpeg" ContentType="image/jpeg"/>
  <Override PartName="/ppt/media/image21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50.png" ContentType="image/png"/>
  <Override PartName="/ppt/media/image26.jpeg" ContentType="image/jpeg"/>
  <Override PartName="/ppt/media/image4.jpeg" ContentType="image/jpeg"/>
  <Override PartName="/ppt/media/image57.png" ContentType="image/png"/>
  <Override PartName="/ppt/media/image2.jpeg" ContentType="image/jpeg"/>
  <Override PartName="/ppt/media/hammer.wav" ContentType="audio/x-wav"/>
  <Override PartName="/ppt/media/image16.jpeg" ContentType="image/jpeg"/>
  <Override PartName="/ppt/media/image39.gif" ContentType="image/gif"/>
  <Override PartName="/ppt/media/image59.png" ContentType="image/png"/>
  <Override PartName="/ppt/media/image24.jpeg" ContentType="image/jpeg"/>
  <Override PartName="/ppt/media/image56.jpeg" ContentType="image/jpeg"/>
  <Override PartName="/ppt/media/image29.png" ContentType="image/png"/>
  <Override PartName="/ppt/media/image36.gif" ContentType="image/gif"/>
  <Override PartName="/ppt/media/image42.jpeg" ContentType="image/jpeg"/>
  <Override PartName="/ppt/media/image19.jpeg" ContentType="image/jpeg"/>
  <Override PartName="/ppt/media/image12.gif" ContentType="image/gif"/>
  <Override PartName="/ppt/media/image17.jpeg" ContentType="image/jpeg"/>
  <Override PartName="/ppt/media/image20.jpeg" ContentType="image/jpeg"/>
  <Override PartName="/ppt/media/image15.jpeg" ContentType="image/jpeg"/>
  <Override PartName="/ppt/media/image22.jpeg" ContentType="image/jpeg"/>
  <Override PartName="/ppt/media/cashreg.wav" ContentType="audio/x-wav"/>
  <Override PartName="/ppt/media/image25.jpeg" ContentType="image/jpeg"/>
  <Override PartName="/ppt/media/image7.png" ContentType="image/png"/>
  <Override PartName="/ppt/media/image37.png" ContentType="image/png"/>
  <Override PartName="/ppt/media/image3.jpeg" ContentType="image/jpeg"/>
  <Override PartName="/ppt/media/image30.png" ContentType="image/png"/>
  <Override PartName="/ppt/media/image55.jpeg" ContentType="image/jpeg"/>
  <Override PartName="/ppt/media/image9.png" ContentType="image/png"/>
  <Override PartName="/ppt/media/image18.gif" ContentType="image/gif"/>
  <Override PartName="/ppt/media/image13.jpeg" ContentType="image/jpeg"/>
  <Override PartName="/ppt/media/image40.jpeg" ContentType="image/jpeg"/>
  <Override PartName="/ppt/media/image51.gif" ContentType="image/gif"/>
  <Override PartName="/ppt/media/image32.jpeg" ContentType="image/jpeg"/>
  <Override PartName="/ppt/media/image33.jpeg" ContentType="image/jpeg"/>
  <Override PartName="/ppt/media/image31.gif" ContentType="image/gif"/>
  <Override PartName="/ppt/media/image34.png" ContentType="image/png"/>
  <Override PartName="/ppt/media/image38.jpeg" ContentType="image/jpeg"/>
  <Override PartName="/ppt/media/image43.jpeg" ContentType="image/jpeg"/>
  <Override PartName="/ppt/media/image35.gif" ContentType="image/gif"/>
  <Override PartName="/ppt/media/image44.jpeg" ContentType="image/jpeg"/>
  <Override PartName="/ppt/media/image58.png" ContentType="image/png"/>
  <Override PartName="/ppt/media/image46.jpeg" ContentType="image/jpeg"/>
  <Override PartName="/ppt/media/image47.jpeg" ContentType="image/jpeg"/>
  <Override PartName="/ppt/media/image45.jpeg" ContentType="image/jpeg"/>
  <Override PartName="/ppt/media/image48.png" ContentType="image/png"/>
  <Override PartName="/ppt/media/type.wav" ContentType="audio/x-wav"/>
  <Override PartName="/ppt/media/suction.wav" ContentType="audio/x-wav"/>
  <Override PartName="/ppt/media/image4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785E-A8C6-4466-8758-497AC3256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C603-7E24-4ABA-91ED-26F80DB5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5B254-761A-4572-9196-A4674ABE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F4EA4-F605-41BC-A7F8-DA498489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B958C-6854-4657-86FE-CC36CDA5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24883-825E-4C52-ACCF-31686FD5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F7DF6-E7C3-4F23-8FDD-B091B3A0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78956-0211-4C1F-AED3-6DDF4F89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6BB76A-5A42-4223-9F5A-A464AAC2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E0679-A7B2-43ED-B1C1-8740354FB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6876F-7A59-4328-AC1D-E1F53DFDD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D78C0-2BD1-47B6-B02A-5C8B0D80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AC97-234D-4326-98A7-B30A2A7EA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F58B87-3011-4090-B109-570BD06E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8EEFFA-E563-4306-84D4-7A164C1B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70FA6-E89E-45B0-A84F-D84891F7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0F215-705B-4A18-B597-57FC584D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790F0F-97AA-4657-973D-279500D0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E4F733-7299-4DB1-A934-98F4C5A3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CE1822-5EBA-432D-8F32-02C3E3FD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378D7F-3645-4931-A883-C994753A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81275-5EBE-4518-ABBB-AF015225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FAB509-FC9A-4780-94C2-0629E0E5E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D1A0-157A-472A-BDE4-C99F11B7B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F26A7-0026-4547-8BA6-46AC83DBB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C25D1-72F2-4866-B661-258DBBE97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3C830-6CCA-4EFF-A9C7-60227F66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EA11E-0853-445C-9DEB-685EA358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C860C-A462-4096-AA83-C25F9AAE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54B90-599A-4BD0-9BF1-15FF0C0B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CC454-A4A5-463E-B9D2-42A6BD62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E7655-5402-405A-BB70-B7C3EF25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37D27-5193-43C4-9752-C34C40E5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35FF5-526D-40A9-9A6C-B4DA8DA7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E857-B14E-4584-9A34-7B4D22F9F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CAC91-C0E2-4CE1-8855-B614E7B6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97369-FA5A-48F5-B1BF-CC6757BB6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941DD-2734-4193-AA05-A6DBBE23A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D34043-F95A-479B-B614-29107225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140ED9-C599-444B-8891-810CD560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6008A8-8D06-4FC0-A843-1A56B53E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FCFF8D-9C85-461C-8238-A62BA306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31902A-C3A7-4B0F-A0B6-A585BE25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3D4F5D-44C6-41D9-8A67-BE2A7173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C0A17-32F4-4631-ABD0-D2E40966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34B3-8DE3-4E6C-93FD-EC592FA2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F9EF0F-D524-4276-A960-FD0920F6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76A413-80B7-4A8E-B31A-7B65179D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828C47-C956-44C4-907E-317E5538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3A0B9F-93B1-4916-B6E5-0D4E6FD92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A120BF-FF0F-4A9B-AB09-CF698E1C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C1E3A4-1CCE-4B5B-8613-CFA5A1276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33D300-B093-42E4-BF4D-D40A7903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74F12B-A60E-41B1-844F-619D792B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5332D1-3001-4174-8C21-A57FD792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E196AC-85FE-4C71-9189-6E1B6E8D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DED9-7139-4397-BF56-05CEA403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F41EAC-177E-4111-806A-7E475A2C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270D9C-3E70-4E30-994F-35A27CDD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4B1025-E62C-4339-A787-5ECCAFE0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543D6F-917E-4EE9-A7D7-A034A53B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67D91E-B7CF-4F4E-A889-F508CB36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47860A-0FD3-49C4-A15F-13C24E01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AD038D-768E-478C-A04F-FA7EFD2FC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A720-7784-4644-9C29-CBDA916D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0FA2-FE87-4A7E-9A9B-F8EBE3D2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93E6-1A75-4C3A-A1AB-0746CB9B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276C-CC88-4BEC-8337-8D127490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C016-C07E-44F8-B9DD-1CF3532A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2C1E-2D4A-4EB2-8985-DFAF3A49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2AEC-D5E7-407A-BC4C-8ACC5E74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3932-6DFB-4EE7-82FA-D70CB485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FACF-D40F-4178-84C2-888DF92C2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E08D-E521-4652-9FE5-F596D15ED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18B19-01B6-4653-8D06-AC0FCEC6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C5415-FB78-4F93-8B4C-47F2AAEC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3C52D-D9FA-4EF9-99A7-7988B767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1086E-7EA6-4B90-BD2F-27E09733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78915-960E-40C1-BFFA-53FC49BB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BD27-7100-4517-9813-7D70F3B9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FF88D-185C-4583-A7E0-C6C3E21A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A9C87-192F-4D32-B44E-B9D9AFBF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88355-1A0C-4E4B-8FFB-6D0477FB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C182B-6386-4DAB-8A0A-BFB0EF03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B5E71-CB07-4957-8C79-BDE650A6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AFF0C-8A4B-466B-A507-BEF158AD7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5F66A-A156-4681-A6D1-D255C6272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C6984-59EB-4083-AC96-C41BDAF30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F2DC1-6C57-496D-8BAB-C8146689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BE1A9-CB8D-4473-9A56-D9DAFA7F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4178-6BD5-4BFD-A13F-5796D014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432AA-B1D5-473D-9519-DCD2CBDA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F8B3D-DB01-4ED2-B25C-5245504E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10008-A5F5-4918-BDE2-52085A3F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49F2A-46B4-4BC5-A4A2-8CA42DF9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C6E04-6696-4F48-A418-5BEA4D6E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FE63C-7C32-40E1-B5C3-9FC3630F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B5758-A663-434E-A6B3-6BDBE5BB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3F197-44D0-4A88-93CB-652D48822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4866D-B1C5-4EBC-A9BD-87CA2C0E1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B5FA4-6AE1-4D85-B3A6-74740299E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785C-D397-43DB-BA2C-EA0B7774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40CA0-3104-4D92-BA08-0CD801BB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7FE5D-1F26-450F-939E-AB00044A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729BA-A4CD-408E-8C1D-12DE2399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02EF7-A0E9-48CE-A737-C78FD5F5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0EF9A-6DA1-4A5F-B655-9F35A2B1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3D349-F8D6-48CB-8B9F-17658B5F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0379B-2ED6-43DD-A1D0-4A2C0C79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98786-078E-4942-B32F-B32546DB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C03AA-8E72-4EB7-B2AC-6388401A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9266A-4FAC-489B-A031-5045411DC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A60F-DF61-4A9A-87CC-652565AB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40676-44F9-4148-BDF4-4E18F0493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0B10D-4577-4F63-B9D4-17994C2C2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B4C23-3FBF-4100-8B62-A99B97FE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2D27C-C4A5-46A8-BAB7-503ED00E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5E854-4F75-4465-9C5E-0A2D6FD1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1F351-9FA2-4CE4-9709-8AEA7570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B4D94-800E-4C42-87D7-B746916D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BD0D4-CB44-41F7-9636-808BBA5A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D5ABB-060F-4B20-983F-B322848C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2703F-E9F5-4302-B75D-7855516F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731D-B6A9-48F8-9264-110D80C5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87383-0B0A-4EE5-9936-C5F33057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DC7FF-4A63-450B-AA0A-7B0720BE4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355CD-FE34-4D95-9281-CBB891713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23E22-BAB2-416C-9F00-8A56DFEF0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C7353-76B4-48FC-A31A-26A857F3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5314D-22D1-4342-8404-D2A3C344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7203E-E0DF-4D0E-8732-F05FA1BF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6A0BF-1CD1-4719-818E-17755DC2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04BC2-65B9-4A6B-A473-FEE3DD08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50D28-0DF6-424F-9499-52ECBBDA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8B05-FA5B-4FF5-9D81-B04B0E58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D98C4-0F89-443E-A74E-76896D32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07AE4-0DAD-4A69-AD7D-A9531741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5A997-9EC6-4F31-A431-D5B6E5A9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27798-8BDD-4C9D-99B6-B983DB5A6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203CD-F44A-474F-A671-22C7C3EAC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4C563-F2B6-4D54-9C3D-B8F659366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40F05-AA5E-4493-B496-4A593A27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D40AE-4F24-4101-9B9F-C3FD0B1A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87B15-DA6B-4FE6-BF19-CEF6D208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9D2EE-B567-4132-B9AB-4975353D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35CB-CD09-4732-9594-4BC46E97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0CEB8-ECAA-4446-AB63-EED1CBAF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D1D2B-1CB0-404A-968E-9E49AF56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14419-5009-4B7A-A11B-D7570D77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6F8D1-01D8-4598-8478-0EA98CA4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134D2-B32A-49D0-9C95-C349ABA6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86311-DD2B-4C73-96E3-B96A60F04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428AD-8B11-400A-8DD2-49472FB47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17C23F-8BCE-46AC-8F80-EEA8A288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8315E-228B-4E08-8C24-0D8AB559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0C934-6575-4012-9B4B-BEFC7F49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B64E-46F1-4123-AABB-2B4B2AFF0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spcBef>
                <a:spcPts val="3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>
              <a:spcBef>
                <a:spcPts val="3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BB95-59E3-4890-94E1-22467F0DB0D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spcBef>
                <a:spcPts val="3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>
              <a:spcBef>
                <a:spcPts val="3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F095-8CC6-4BBA-9E1B-76E82450968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spcBef>
                <a:spcPts val="3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>
              <a:spcBef>
                <a:spcPts val="3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B282-4AAE-4B4D-9CD1-BED80321142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spcBef>
                <a:spcPts val="3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>
              <a:spcBef>
                <a:spcPts val="3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8473-2F4F-4DAA-AFD9-AF9A4681041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E17E-7DB3-474C-8ADC-56F2FF95D12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spcBef>
                <a:spcPts val="3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>
              <a:spcBef>
                <a:spcPts val="3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AEBA-B835-4FA6-BFF2-56DAB71240A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spcBef>
                <a:spcPts val="3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>
              <a:spcBef>
                <a:spcPts val="3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055C-7C1E-4880-AA35-17F678934AE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spcBef>
                <a:spcPts val="3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>
              <a:spcBef>
                <a:spcPts val="3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24F9-95FD-437E-A36F-92CAB5AFD22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spcBef>
                <a:spcPts val="3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>
              <a:spcBef>
                <a:spcPts val="3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1454-DCB1-4C49-8633-D2B23BBB83F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spcBef>
                <a:spcPts val="3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>
              <a:spcBef>
                <a:spcPts val="3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410A-77AE-4E64-B10A-2BD99253241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spcBef>
                <a:spcPts val="3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>
              <a:spcBef>
                <a:spcPts val="3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A89D-0529-4F67-A3D4-E6059971FFF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spcBef>
                <a:spcPts val="3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>
              <a:spcBef>
                <a:spcPts val="3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96A1-3A11-433A-99FB-8A81F602095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kepu.ac.cn/gb/earth/arctic/creature/crt10401b_pic.html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image" Target="../media/image31.gif"/><Relationship Id="rId7" Type="http://schemas.openxmlformats.org/officeDocument/2006/relationships/image" Target="../media/image31.gif"/><Relationship Id="rId8" Type="http://schemas.openxmlformats.org/officeDocument/2006/relationships/image" Target="../media/image31.gif"/><Relationship Id="rId9" Type="http://schemas.openxmlformats.org/officeDocument/2006/relationships/image" Target="../media/image31.gif"/><Relationship Id="rId10" Type="http://schemas.openxmlformats.org/officeDocument/2006/relationships/image" Target="../media/image31.gif"/><Relationship Id="rId11" Type="http://schemas.openxmlformats.org/officeDocument/2006/relationships/image" Target="../media/image31.gif"/><Relationship Id="rId12" Type="http://schemas.openxmlformats.org/officeDocument/2006/relationships/image" Target="../media/image31.gif"/><Relationship Id="rId13" Type="http://schemas.openxmlformats.org/officeDocument/2006/relationships/image" Target="../media/image31.gif"/><Relationship Id="rId14" Type="http://schemas.openxmlformats.org/officeDocument/2006/relationships/image" Target="../media/image31.gif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5.gif"/><Relationship Id="rId3" Type="http://schemas.openxmlformats.org/officeDocument/2006/relationships/image" Target="../media/image36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" Target="slide33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" Target="slide26.xml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image" Target="../media/image42.jpeg"/><Relationship Id="rId4" Type="http://schemas.openxmlformats.org/officeDocument/2006/relationships/image" Target="../media/image42.jpeg"/><Relationship Id="rId5" Type="http://schemas.openxmlformats.org/officeDocument/2006/relationships/image" Target="../media/image42.jpeg"/><Relationship Id="rId6" Type="http://schemas.openxmlformats.org/officeDocument/2006/relationships/image" Target="../media/image42.jpeg"/><Relationship Id="rId7" Type="http://schemas.openxmlformats.org/officeDocument/2006/relationships/image" Target="../media/image42.jpeg"/><Relationship Id="rId8" Type="http://schemas.openxmlformats.org/officeDocument/2006/relationships/image" Target="../media/image42.jpeg"/><Relationship Id="rId9" Type="http://schemas.openxmlformats.org/officeDocument/2006/relationships/image" Target="../media/image42.jpeg"/><Relationship Id="rId10" Type="http://schemas.openxmlformats.org/officeDocument/2006/relationships/image" Target="../media/image42.jpeg"/><Relationship Id="rId11" Type="http://schemas.openxmlformats.org/officeDocument/2006/relationships/image" Target="../media/image42.jpeg"/><Relationship Id="rId12" Type="http://schemas.openxmlformats.org/officeDocument/2006/relationships/image" Target="../media/image42.jpeg"/><Relationship Id="rId13" Type="http://schemas.openxmlformats.org/officeDocument/2006/relationships/image" Target="../media/image42.jpeg"/><Relationship Id="rId14" Type="http://schemas.openxmlformats.org/officeDocument/2006/relationships/image" Target="../media/image42.jpeg"/><Relationship Id="rId15" Type="http://schemas.openxmlformats.org/officeDocument/2006/relationships/image" Target="../media/image43.jpeg"/><Relationship Id="rId16" Type="http://schemas.openxmlformats.org/officeDocument/2006/relationships/image" Target="../media/image43.jpeg"/><Relationship Id="rId17" Type="http://schemas.openxmlformats.org/officeDocument/2006/relationships/image" Target="../media/image43.jpeg"/><Relationship Id="rId18" Type="http://schemas.openxmlformats.org/officeDocument/2006/relationships/image" Target="../media/image43.jpeg"/><Relationship Id="rId19" Type="http://schemas.openxmlformats.org/officeDocument/2006/relationships/image" Target="../media/image43.jpeg"/><Relationship Id="rId20" Type="http://schemas.openxmlformats.org/officeDocument/2006/relationships/image" Target="../media/image43.jpeg"/><Relationship Id="rId21" Type="http://schemas.openxmlformats.org/officeDocument/2006/relationships/image" Target="../media/image43.jpeg"/><Relationship Id="rId22" Type="http://schemas.openxmlformats.org/officeDocument/2006/relationships/image" Target="../media/image43.jpeg"/><Relationship Id="rId23" Type="http://schemas.openxmlformats.org/officeDocument/2006/relationships/image" Target="../media/image43.jpeg"/><Relationship Id="rId24" Type="http://schemas.openxmlformats.org/officeDocument/2006/relationships/image" Target="../media/image43.jpeg"/><Relationship Id="rId25" Type="http://schemas.openxmlformats.org/officeDocument/2006/relationships/image" Target="../media/image43.jpeg"/><Relationship Id="rId26" Type="http://schemas.openxmlformats.org/officeDocument/2006/relationships/image" Target="../media/image43.jpeg"/><Relationship Id="rId27" Type="http://schemas.openxmlformats.org/officeDocument/2006/relationships/image" Target="../media/image43.jpeg"/><Relationship Id="rId28" Type="http://schemas.openxmlformats.org/officeDocument/2006/relationships/image" Target="../media/image43.jpeg"/><Relationship Id="rId29" Type="http://schemas.openxmlformats.org/officeDocument/2006/relationships/image" Target="../media/image43.jpeg"/><Relationship Id="rId30" Type="http://schemas.openxmlformats.org/officeDocument/2006/relationships/image" Target="../media/image43.jpeg"/><Relationship Id="rId31" Type="http://schemas.openxmlformats.org/officeDocument/2006/relationships/image" Target="../media/image43.jpeg"/><Relationship Id="rId32" Type="http://schemas.openxmlformats.org/officeDocument/2006/relationships/image" Target="../media/image43.jpeg"/><Relationship Id="rId33" Type="http://schemas.openxmlformats.org/officeDocument/2006/relationships/image" Target="../media/image43.jpeg"/><Relationship Id="rId34" Type="http://schemas.openxmlformats.org/officeDocument/2006/relationships/image" Target="../media/image43.jpeg"/><Relationship Id="rId35" Type="http://schemas.openxmlformats.org/officeDocument/2006/relationships/image" Target="../media/image43.jpeg"/><Relationship Id="rId36" Type="http://schemas.openxmlformats.org/officeDocument/2006/relationships/image" Target="../media/image43.jpeg"/><Relationship Id="rId37" Type="http://schemas.openxmlformats.org/officeDocument/2006/relationships/image" Target="../media/image43.jpeg"/><Relationship Id="rId38" Type="http://schemas.openxmlformats.org/officeDocument/2006/relationships/image" Target="../media/image43.jpeg"/><Relationship Id="rId39" Type="http://schemas.openxmlformats.org/officeDocument/2006/relationships/image" Target="../media/image43.jpeg"/><Relationship Id="rId40" Type="http://schemas.openxmlformats.org/officeDocument/2006/relationships/image" Target="../media/image43.jpeg"/><Relationship Id="rId41" Type="http://schemas.openxmlformats.org/officeDocument/2006/relationships/image" Target="../media/image43.jpeg"/><Relationship Id="rId42" Type="http://schemas.openxmlformats.org/officeDocument/2006/relationships/image" Target="../media/image43.jpeg"/><Relationship Id="rId43" Type="http://schemas.openxmlformats.org/officeDocument/2006/relationships/image" Target="../media/image43.jpeg"/><Relationship Id="rId44" Type="http://schemas.openxmlformats.org/officeDocument/2006/relationships/image" Target="../media/image43.jpeg"/><Relationship Id="rId45" Type="http://schemas.openxmlformats.org/officeDocument/2006/relationships/image" Target="../media/image43.jpeg"/><Relationship Id="rId46" Type="http://schemas.openxmlformats.org/officeDocument/2006/relationships/image" Target="../media/image43.jpeg"/><Relationship Id="rId47" Type="http://schemas.openxmlformats.org/officeDocument/2006/relationships/image" Target="../media/image43.jpeg"/><Relationship Id="rId48" Type="http://schemas.openxmlformats.org/officeDocument/2006/relationships/image" Target="../media/image43.jpeg"/><Relationship Id="rId49" Type="http://schemas.openxmlformats.org/officeDocument/2006/relationships/image" Target="../media/image43.jpeg"/><Relationship Id="rId50" Type="http://schemas.openxmlformats.org/officeDocument/2006/relationships/image" Target="../media/image43.jpeg"/><Relationship Id="rId51" Type="http://schemas.openxmlformats.org/officeDocument/2006/relationships/image" Target="../media/image43.jpeg"/><Relationship Id="rId52" Type="http://schemas.openxmlformats.org/officeDocument/2006/relationships/image" Target="../media/image43.jpeg"/><Relationship Id="rId53" Type="http://schemas.openxmlformats.org/officeDocument/2006/relationships/image" Target="../media/image43.jpeg"/><Relationship Id="rId54" Type="http://schemas.openxmlformats.org/officeDocument/2006/relationships/image" Target="../media/image43.jpeg"/><Relationship Id="rId55" Type="http://schemas.openxmlformats.org/officeDocument/2006/relationships/image" Target="../media/image43.jpeg"/><Relationship Id="rId56" Type="http://schemas.openxmlformats.org/officeDocument/2006/relationships/image" Target="../media/image43.jpeg"/><Relationship Id="rId57" Type="http://schemas.openxmlformats.org/officeDocument/2006/relationships/image" Target="../media/image43.jpeg"/><Relationship Id="rId58" Type="http://schemas.openxmlformats.org/officeDocument/2006/relationships/image" Target="../media/image43.jpeg"/><Relationship Id="rId59" Type="http://schemas.openxmlformats.org/officeDocument/2006/relationships/image" Target="../media/image43.jpeg"/><Relationship Id="rId60" Type="http://schemas.openxmlformats.org/officeDocument/2006/relationships/image" Target="../media/image43.jpeg"/><Relationship Id="rId61" Type="http://schemas.openxmlformats.org/officeDocument/2006/relationships/image" Target="../media/image43.jpeg"/><Relationship Id="rId62" Type="http://schemas.openxmlformats.org/officeDocument/2006/relationships/image" Target="../media/image43.jpeg"/><Relationship Id="rId63" Type="http://schemas.openxmlformats.org/officeDocument/2006/relationships/image" Target="../media/image43.jpeg"/><Relationship Id="rId64" Type="http://schemas.openxmlformats.org/officeDocument/2006/relationships/image" Target="../media/image43.jpeg"/><Relationship Id="rId65" Type="http://schemas.openxmlformats.org/officeDocument/2006/relationships/image" Target="../media/image43.jpeg"/><Relationship Id="rId66" Type="http://schemas.openxmlformats.org/officeDocument/2006/relationships/image" Target="../media/image43.jpeg"/><Relationship Id="rId67" Type="http://schemas.openxmlformats.org/officeDocument/2006/relationships/image" Target="../media/image43.jpeg"/><Relationship Id="rId68" Type="http://schemas.openxmlformats.org/officeDocument/2006/relationships/image" Target="../media/image43.jpeg"/><Relationship Id="rId69" Type="http://schemas.openxmlformats.org/officeDocument/2006/relationships/image" Target="../media/image43.jpeg"/><Relationship Id="rId70" Type="http://schemas.openxmlformats.org/officeDocument/2006/relationships/image" Target="../media/image43.jpeg"/><Relationship Id="rId71" Type="http://schemas.openxmlformats.org/officeDocument/2006/relationships/image" Target="../media/image43.jpeg"/><Relationship Id="rId72" Type="http://schemas.openxmlformats.org/officeDocument/2006/relationships/image" Target="../media/image43.jpeg"/><Relationship Id="rId73" Type="http://schemas.openxmlformats.org/officeDocument/2006/relationships/image" Target="../media/image43.jpeg"/><Relationship Id="rId74" Type="http://schemas.openxmlformats.org/officeDocument/2006/relationships/image" Target="../media/image43.jpeg"/><Relationship Id="rId75" Type="http://schemas.openxmlformats.org/officeDocument/2006/relationships/image" Target="../media/image43.jpeg"/><Relationship Id="rId76" Type="http://schemas.openxmlformats.org/officeDocument/2006/relationships/image" Target="../media/image43.jpeg"/><Relationship Id="rId77" Type="http://schemas.openxmlformats.org/officeDocument/2006/relationships/image" Target="../media/image43.jpeg"/><Relationship Id="rId78" Type="http://schemas.openxmlformats.org/officeDocument/2006/relationships/image" Target="../media/image43.jpeg"/><Relationship Id="rId79" Type="http://schemas.openxmlformats.org/officeDocument/2006/relationships/image" Target="../media/image43.jpeg"/><Relationship Id="rId80" Type="http://schemas.openxmlformats.org/officeDocument/2006/relationships/image" Target="../media/image43.jpeg"/><Relationship Id="rId81" Type="http://schemas.openxmlformats.org/officeDocument/2006/relationships/image" Target="../media/image43.jpeg"/><Relationship Id="rId82" Type="http://schemas.openxmlformats.org/officeDocument/2006/relationships/image" Target="../media/image43.jpeg"/><Relationship Id="rId83" Type="http://schemas.openxmlformats.org/officeDocument/2006/relationships/image" Target="../media/image43.jpeg"/><Relationship Id="rId84" Type="http://schemas.openxmlformats.org/officeDocument/2006/relationships/image" Target="../media/image43.jpeg"/><Relationship Id="rId85" Type="http://schemas.openxmlformats.org/officeDocument/2006/relationships/image" Target="../media/image43.jpeg"/><Relationship Id="rId86" Type="http://schemas.openxmlformats.org/officeDocument/2006/relationships/image" Target="../media/image43.jpeg"/><Relationship Id="rId87" Type="http://schemas.openxmlformats.org/officeDocument/2006/relationships/image" Target="../media/image9.png"/><Relationship Id="rId8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audio" Target="../media/hammer.wav"/><Relationship Id="rId3" Type="http://schemas.openxmlformats.org/officeDocument/2006/relationships/audio" Target="../media/type.wav"/><Relationship Id="rId4" Type="http://schemas.openxmlformats.org/officeDocument/2006/relationships/audio" Target="../media/cashreg.wav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image" Target="../media/image50.png"/><Relationship Id="rId4" Type="http://schemas.openxmlformats.org/officeDocument/2006/relationships/image" Target="../media/image50.png"/><Relationship Id="rId5" Type="http://schemas.openxmlformats.org/officeDocument/2006/relationships/image" Target="../media/image50.png"/><Relationship Id="rId6" Type="http://schemas.openxmlformats.org/officeDocument/2006/relationships/image" Target="../media/image50.png"/><Relationship Id="rId7" Type="http://schemas.openxmlformats.org/officeDocument/2006/relationships/image" Target="../media/image51.gif"/><Relationship Id="rId8" Type="http://schemas.openxmlformats.org/officeDocument/2006/relationships/image" Target="../media/image39.gif"/><Relationship Id="rId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4" descr="crt10401_pi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6" descr="pol002_03_pic"/>
          <p:cNvPicPr/>
          <p:nvPr/>
        </p:nvPicPr>
        <p:blipFill>
          <a:blip r:embed="rId3"/>
          <a:stretch/>
        </p:blipFill>
        <p:spPr>
          <a:xfrm>
            <a:off x="2411280" y="0"/>
            <a:ext cx="6732720" cy="68580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7" descr="pol002_04_pic"/>
          <p:cNvPicPr/>
          <p:nvPr/>
        </p:nvPicPr>
        <p:blipFill>
          <a:blip r:embed="rId4"/>
          <a:stretch/>
        </p:blipFill>
        <p:spPr>
          <a:xfrm>
            <a:off x="2411280" y="0"/>
            <a:ext cx="6732720" cy="68580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8" descr="030334-06"/>
          <p:cNvPicPr/>
          <p:nvPr/>
        </p:nvPicPr>
        <p:blipFill>
          <a:blip r:embed="rId5"/>
          <a:stretch/>
        </p:blipFill>
        <p:spPr>
          <a:xfrm>
            <a:off x="2411280" y="0"/>
            <a:ext cx="6732720" cy="68580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9" descr="北极旅鼠10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260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38" name="矩形 1"/>
          <p:cNvSpPr/>
          <p:nvPr/>
        </p:nvSpPr>
        <p:spPr>
          <a:xfrm>
            <a:off x="1422720" y="1125360"/>
            <a:ext cx="501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旅鼠之谜完整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9"/>
          <p:cNvSpPr/>
          <p:nvPr/>
        </p:nvSpPr>
        <p:spPr>
          <a:xfrm>
            <a:off x="158760" y="6453360"/>
            <a:ext cx="309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1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4001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1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4" descr="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8" name="WordArt 5"/>
          <p:cNvSpPr txBox="1"/>
          <p:nvPr/>
        </p:nvSpPr>
        <p:spPr>
          <a:xfrm>
            <a:off x="6012000" y="260280"/>
            <a:ext cx="28000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9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美丽的北极光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3" descr="photo-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WordArt 4"/>
          <p:cNvSpPr txBox="1"/>
          <p:nvPr/>
        </p:nvSpPr>
        <p:spPr>
          <a:xfrm>
            <a:off x="6659640" y="189000"/>
            <a:ext cx="18669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午夜太阳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393720" y="1599840"/>
            <a:ext cx="194148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4" descr="009"/>
          <p:cNvPicPr/>
          <p:nvPr/>
        </p:nvPicPr>
        <p:blipFill>
          <a:blip r:embed="rId1"/>
          <a:stretch/>
        </p:blipFill>
        <p:spPr>
          <a:xfrm>
            <a:off x="0" y="0"/>
            <a:ext cx="2700360" cy="35002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5" descr="028%2B"/>
          <p:cNvPicPr/>
          <p:nvPr/>
        </p:nvPicPr>
        <p:blipFill>
          <a:blip r:embed="rId2"/>
          <a:stretch/>
        </p:blipFill>
        <p:spPr>
          <a:xfrm>
            <a:off x="6983280" y="3573360"/>
            <a:ext cx="2160720" cy="32846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8" descr="035%2B"/>
          <p:cNvPicPr/>
          <p:nvPr/>
        </p:nvPicPr>
        <p:blipFill>
          <a:blip r:embed="rId3"/>
          <a:stretch/>
        </p:blipFill>
        <p:spPr>
          <a:xfrm>
            <a:off x="2700360" y="0"/>
            <a:ext cx="3600360" cy="350028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9" descr="042%2B"/>
          <p:cNvPicPr/>
          <p:nvPr/>
        </p:nvPicPr>
        <p:blipFill>
          <a:blip r:embed="rId4"/>
          <a:srcRect l="0" t="19157" r="31422" b="11954"/>
          <a:stretch/>
        </p:blipFill>
        <p:spPr>
          <a:xfrm>
            <a:off x="6300720" y="0"/>
            <a:ext cx="2843280" cy="357336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10"/>
          <p:cNvSpPr/>
          <p:nvPr/>
        </p:nvSpPr>
        <p:spPr>
          <a:xfrm>
            <a:off x="468360" y="436572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众多的北极动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11" descr="img_104300a1"/>
          <p:cNvPicPr/>
          <p:nvPr/>
        </p:nvPicPr>
        <p:blipFill>
          <a:blip r:embed="rId5"/>
          <a:stretch/>
        </p:blipFill>
        <p:spPr>
          <a:xfrm>
            <a:off x="4932360" y="3473280"/>
            <a:ext cx="2519280" cy="3384720"/>
          </a:xfrm>
          <a:prstGeom prst="rect">
            <a:avLst/>
          </a:prstGeom>
          <a:ln w="0">
            <a:noFill/>
          </a:ln>
        </p:spPr>
      </p:pic>
      <p:sp>
        <p:nvSpPr>
          <p:cNvPr id="600" name="AutoShape 12"/>
          <p:cNvSpPr/>
          <p:nvPr/>
        </p:nvSpPr>
        <p:spPr>
          <a:xfrm>
            <a:off x="7451640" y="630864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5990" y="8406"/>
                </a:moveTo>
                <a:lnTo>
                  <a:pt x="10420" y="8406"/>
                </a:lnTo>
                <a:lnTo>
                  <a:pt x="14842" y="3794"/>
                </a:lnTo>
                <a:lnTo>
                  <a:pt x="14842" y="17806"/>
                </a:lnTo>
                <a:lnTo>
                  <a:pt x="10420" y="13194"/>
                </a:lnTo>
                <a:lnTo>
                  <a:pt x="5990" y="13194"/>
                </a:lnTo>
                <a:close/>
              </a:path>
              <a:path fill="darken" w="25994" h="21600">
                <a:moveTo>
                  <a:pt x="16496" y="10800"/>
                </a:moveTo>
                <a:lnTo>
                  <a:pt x="20003" y="10800"/>
                </a:lnTo>
              </a:path>
              <a:path fill="darken" w="25994" h="21600">
                <a:moveTo>
                  <a:pt x="16496" y="8406"/>
                </a:moveTo>
                <a:lnTo>
                  <a:pt x="20003" y="5639"/>
                </a:lnTo>
              </a:path>
              <a:path fill="darken" w="25994" h="21600">
                <a:moveTo>
                  <a:pt x="16496" y="13194"/>
                </a:moveTo>
                <a:lnTo>
                  <a:pt x="20003" y="15961"/>
                </a:ln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64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67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70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73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76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79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4" descr="无标题"/>
          <p:cNvPicPr/>
          <p:nvPr/>
        </p:nvPicPr>
        <p:blipFill>
          <a:blip r:embed="rId1"/>
          <a:stretch/>
        </p:blipFill>
        <p:spPr>
          <a:xfrm>
            <a:off x="2124000" y="0"/>
            <a:ext cx="6408720" cy="6858000"/>
          </a:xfrm>
          <a:prstGeom prst="rect">
            <a:avLst/>
          </a:prstGeom>
          <a:ln w="0">
            <a:noFill/>
          </a:ln>
        </p:spPr>
      </p:pic>
      <p:sp>
        <p:nvSpPr>
          <p:cNvPr id="604" name="AutoShape 5"/>
          <p:cNvSpPr/>
          <p:nvPr/>
        </p:nvSpPr>
        <p:spPr>
          <a:xfrm>
            <a:off x="0" y="0"/>
            <a:ext cx="3672000" cy="1413000"/>
          </a:xfrm>
          <a:prstGeom prst="cloudCallout">
            <a:avLst>
              <a:gd name="adj1" fmla="val 23495"/>
              <a:gd name="adj2" fmla="val 785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539640" y="189000"/>
            <a:ext cx="259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此地无老虎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我才是大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WordArt 7"/>
          <p:cNvSpPr txBox="1"/>
          <p:nvPr/>
        </p:nvSpPr>
        <p:spPr>
          <a:xfrm rot="5400000">
            <a:off x="-541080" y="3861720"/>
            <a:ext cx="352908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>
                      <a:alpha val="79000"/>
                    </a:srgbClr>
                  </a:outerShdw>
                </a:effectLst>
                <a:latin typeface="宋体"/>
              </a:rPr>
              <a:t>雪地霸主：北极熊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b2b2b2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07" name="Picture 8" descr="BEARB"/>
          <p:cNvPicPr/>
          <p:nvPr/>
        </p:nvPicPr>
        <p:blipFill>
          <a:blip r:embed="rId2"/>
          <a:stretch/>
        </p:blipFill>
        <p:spPr>
          <a:xfrm>
            <a:off x="5076720" y="6191280"/>
            <a:ext cx="762120" cy="6667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9" descr="BEARB"/>
          <p:cNvPicPr/>
          <p:nvPr/>
        </p:nvPicPr>
        <p:blipFill>
          <a:blip r:embed="rId3"/>
          <a:stretch/>
        </p:blipFill>
        <p:spPr>
          <a:xfrm>
            <a:off x="4427640" y="6191280"/>
            <a:ext cx="761760" cy="6667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0" descr="BEARB"/>
          <p:cNvPicPr/>
          <p:nvPr/>
        </p:nvPicPr>
        <p:blipFill>
          <a:blip r:embed="rId4"/>
          <a:stretch/>
        </p:blipFill>
        <p:spPr>
          <a:xfrm>
            <a:off x="3708360" y="6191280"/>
            <a:ext cx="762120" cy="66672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11" descr="BEARB"/>
          <p:cNvPicPr/>
          <p:nvPr/>
        </p:nvPicPr>
        <p:blipFill>
          <a:blip r:embed="rId5"/>
          <a:stretch/>
        </p:blipFill>
        <p:spPr>
          <a:xfrm>
            <a:off x="2987640" y="6191280"/>
            <a:ext cx="762120" cy="66672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12" descr="BEARB"/>
          <p:cNvPicPr/>
          <p:nvPr/>
        </p:nvPicPr>
        <p:blipFill>
          <a:blip r:embed="rId6"/>
          <a:stretch/>
        </p:blipFill>
        <p:spPr>
          <a:xfrm>
            <a:off x="2268360" y="6191280"/>
            <a:ext cx="762120" cy="6667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13" descr="BEARB"/>
          <p:cNvPicPr/>
          <p:nvPr/>
        </p:nvPicPr>
        <p:blipFill>
          <a:blip r:embed="rId7"/>
          <a:stretch/>
        </p:blipFill>
        <p:spPr>
          <a:xfrm>
            <a:off x="1547640" y="6191280"/>
            <a:ext cx="762120" cy="66672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14" descr="BEARB"/>
          <p:cNvPicPr/>
          <p:nvPr/>
        </p:nvPicPr>
        <p:blipFill>
          <a:blip r:embed="rId8"/>
          <a:stretch/>
        </p:blipFill>
        <p:spPr>
          <a:xfrm>
            <a:off x="826920" y="6191280"/>
            <a:ext cx="762120" cy="66672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15" descr="BEARB"/>
          <p:cNvPicPr/>
          <p:nvPr/>
        </p:nvPicPr>
        <p:blipFill>
          <a:blip r:embed="rId9"/>
          <a:stretch/>
        </p:blipFill>
        <p:spPr>
          <a:xfrm>
            <a:off x="826920" y="1557360"/>
            <a:ext cx="762120" cy="66672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16" descr="BEARB"/>
          <p:cNvPicPr/>
          <p:nvPr/>
        </p:nvPicPr>
        <p:blipFill>
          <a:blip r:embed="rId10"/>
          <a:stretch/>
        </p:blipFill>
        <p:spPr>
          <a:xfrm>
            <a:off x="179280" y="6191280"/>
            <a:ext cx="762120" cy="6667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17" descr="BEARB"/>
          <p:cNvPicPr/>
          <p:nvPr/>
        </p:nvPicPr>
        <p:blipFill>
          <a:blip r:embed="rId11"/>
          <a:stretch/>
        </p:blipFill>
        <p:spPr>
          <a:xfrm>
            <a:off x="7956720" y="6191280"/>
            <a:ext cx="761760" cy="6667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18" descr="BEARB"/>
          <p:cNvPicPr/>
          <p:nvPr/>
        </p:nvPicPr>
        <p:blipFill>
          <a:blip r:embed="rId12"/>
          <a:stretch/>
        </p:blipFill>
        <p:spPr>
          <a:xfrm>
            <a:off x="7236000" y="6191280"/>
            <a:ext cx="761760" cy="6667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19" descr="BEARB"/>
          <p:cNvPicPr/>
          <p:nvPr/>
        </p:nvPicPr>
        <p:blipFill>
          <a:blip r:embed="rId13"/>
          <a:stretch/>
        </p:blipFill>
        <p:spPr>
          <a:xfrm>
            <a:off x="6516720" y="6191280"/>
            <a:ext cx="762120" cy="66672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20" descr="BEARB"/>
          <p:cNvPicPr/>
          <p:nvPr/>
        </p:nvPicPr>
        <p:blipFill>
          <a:blip r:embed="rId14"/>
          <a:stretch/>
        </p:blipFill>
        <p:spPr>
          <a:xfrm>
            <a:off x="5796000" y="6191280"/>
            <a:ext cx="762120" cy="666720"/>
          </a:xfrm>
          <a:prstGeom prst="rect">
            <a:avLst/>
          </a:prstGeom>
          <a:ln w="0">
            <a:noFill/>
          </a:ln>
        </p:spPr>
      </p:pic>
      <p:sp>
        <p:nvSpPr>
          <p:cNvPr id="620" name="WordArt 21"/>
          <p:cNvSpPr txBox="1"/>
          <p:nvPr/>
        </p:nvSpPr>
        <p:spPr>
          <a:xfrm rot="5400000">
            <a:off x="7054560" y="2097000"/>
            <a:ext cx="32670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旅鼠的主要天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4" descr="bj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4" name="WordArt 5"/>
          <p:cNvSpPr txBox="1"/>
          <p:nvPr/>
        </p:nvSpPr>
        <p:spPr>
          <a:xfrm rot="5400000">
            <a:off x="106560" y="4293360"/>
            <a:ext cx="143964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9000"/>
                    </a:srgbClr>
                  </a:outerShdw>
                </a:effectLst>
                <a:latin typeface="宋体"/>
              </a:rPr>
              <a:t>海豹</a:t>
            </a:r>
            <a:endParaRPr b="1" i="1" lang="en-US" sz="6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25" name="Text Box 6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3" descr="bj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8" name="WordArt 4" descr=""/>
          <p:cNvPicPr/>
          <p:nvPr/>
        </p:nvPicPr>
        <p:blipFill>
          <a:blip r:embed="rId2"/>
          <a:stretch/>
        </p:blipFill>
        <p:spPr>
          <a:xfrm>
            <a:off x="609480" y="195120"/>
            <a:ext cx="2176560" cy="171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1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3" descr="042%2B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631" name="AutoShape 4"/>
          <p:cNvSpPr/>
          <p:nvPr/>
        </p:nvSpPr>
        <p:spPr>
          <a:xfrm>
            <a:off x="7885080" y="630864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5990" y="8406"/>
                </a:moveTo>
                <a:lnTo>
                  <a:pt x="10420" y="8406"/>
                </a:lnTo>
                <a:lnTo>
                  <a:pt x="14842" y="3794"/>
                </a:lnTo>
                <a:lnTo>
                  <a:pt x="14842" y="17806"/>
                </a:lnTo>
                <a:lnTo>
                  <a:pt x="10420" y="13194"/>
                </a:lnTo>
                <a:lnTo>
                  <a:pt x="5990" y="13194"/>
                </a:lnTo>
                <a:close/>
              </a:path>
              <a:path fill="darken" w="25994" h="21600">
                <a:moveTo>
                  <a:pt x="16496" y="10800"/>
                </a:moveTo>
                <a:lnTo>
                  <a:pt x="20003" y="10800"/>
                </a:lnTo>
              </a:path>
              <a:path fill="darken" w="25994" h="21600">
                <a:moveTo>
                  <a:pt x="16496" y="8406"/>
                </a:moveTo>
                <a:lnTo>
                  <a:pt x="20003" y="5639"/>
                </a:lnTo>
              </a:path>
              <a:path fill="darken" w="25994" h="21600">
                <a:moveTo>
                  <a:pt x="16496" y="13194"/>
                </a:moveTo>
                <a:lnTo>
                  <a:pt x="20003" y="15961"/>
                </a:ln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3" descr="nth20203b_pic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634" name="AutoShape 4"/>
          <p:cNvSpPr/>
          <p:nvPr/>
        </p:nvSpPr>
        <p:spPr>
          <a:xfrm>
            <a:off x="863640" y="0"/>
            <a:ext cx="8280360" cy="1700280"/>
          </a:xfrm>
          <a:prstGeom prst="cloudCallout">
            <a:avLst>
              <a:gd name="adj1" fmla="val 37421"/>
              <a:gd name="adj2" fmla="val 121055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与这些霸主，绅士相比，我们旅鼠实在貌不惊人。但我们延续生命的能力，为了种族生存的惊天动地的壮举，在北极动物圈内，谁能与我们相比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5" descr="question"/>
          <p:cNvPicPr/>
          <p:nvPr/>
        </p:nvPicPr>
        <p:blipFill>
          <a:blip r:embed="rId2"/>
          <a:stretch/>
        </p:blipFill>
        <p:spPr>
          <a:xfrm>
            <a:off x="7740720" y="-387360"/>
            <a:ext cx="257040" cy="190512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6" descr="q6"/>
          <p:cNvPicPr/>
          <p:nvPr/>
        </p:nvPicPr>
        <p:blipFill>
          <a:blip r:embed="rId3"/>
          <a:stretch/>
        </p:blipFill>
        <p:spPr>
          <a:xfrm>
            <a:off x="8244000" y="404640"/>
            <a:ext cx="304560" cy="6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2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5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5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5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3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810240" cy="411480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/>
          </p:nvPr>
        </p:nvSpPr>
        <p:spPr>
          <a:xfrm>
            <a:off x="4427280" y="764640"/>
            <a:ext cx="4033800" cy="45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国家地震局地质研究所研究员，享受政府特殊津贴的有突出贡献的科学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998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年，位梦华第六次进入北极考察，成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第一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北极越冬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的中国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科学家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WordArt 5"/>
          <p:cNvSpPr txBox="1"/>
          <p:nvPr/>
        </p:nvSpPr>
        <p:spPr>
          <a:xfrm>
            <a:off x="533520" y="608040"/>
            <a:ext cx="365760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作者：位梦华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40" name="Line 6"/>
          <p:cNvSpPr/>
          <p:nvPr/>
        </p:nvSpPr>
        <p:spPr>
          <a:xfrm>
            <a:off x="5003640" y="530064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7">
            <a:hlinkClick r:id="rId2" action="ppaction://hlinksldjump"/>
          </p:cNvPr>
          <p:cNvSpPr/>
          <p:nvPr/>
        </p:nvSpPr>
        <p:spPr>
          <a:xfrm>
            <a:off x="7772400" y="62485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7493"/>
                </a:moveTo>
                <a:lnTo>
                  <a:pt x="14053" y="7493"/>
                </a:lnTo>
                <a:lnTo>
                  <a:pt x="14053" y="12828"/>
                </a:lnTo>
                <a:cubicBezTo>
                  <a:pt x="14053" y="13751"/>
                  <a:pt x="14853" y="14482"/>
                  <a:pt x="15889" y="14482"/>
                </a:cubicBezTo>
                <a:lnTo>
                  <a:pt x="17552" y="14482"/>
                </a:lnTo>
                <a:cubicBezTo>
                  <a:pt x="18587" y="14482"/>
                  <a:pt x="19388" y="13751"/>
                  <a:pt x="19388" y="12828"/>
                </a:cubicBezTo>
                <a:lnTo>
                  <a:pt x="19388" y="7493"/>
                </a:lnTo>
                <a:lnTo>
                  <a:pt x="17552" y="7493"/>
                </a:lnTo>
                <a:lnTo>
                  <a:pt x="21059" y="3985"/>
                </a:lnTo>
                <a:lnTo>
                  <a:pt x="24732" y="7493"/>
                </a:lnTo>
                <a:lnTo>
                  <a:pt x="22896" y="7493"/>
                </a:lnTo>
                <a:lnTo>
                  <a:pt x="22896" y="12828"/>
                </a:lnTo>
                <a:cubicBezTo>
                  <a:pt x="22896" y="15596"/>
                  <a:pt x="20319" y="18155"/>
                  <a:pt x="17552" y="18155"/>
                </a:cubicBezTo>
                <a:lnTo>
                  <a:pt x="15889" y="18155"/>
                </a:lnTo>
                <a:cubicBezTo>
                  <a:pt x="13121" y="18155"/>
                  <a:pt x="10545" y="15596"/>
                  <a:pt x="10545" y="12828"/>
                </a:cubicBez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4"/>
          <p:cNvSpPr/>
          <p:nvPr/>
        </p:nvSpPr>
        <p:spPr>
          <a:xfrm>
            <a:off x="179280" y="29520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黑体"/>
              </a:rPr>
              <a:t>鼠”字成语知多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395280" y="1844640"/>
            <a:ext cx="10441080" cy="39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贼眉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鼠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眼　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鼠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目寸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胆小如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鼠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　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鼠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肚鸡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抱头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鼠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窜　投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鼠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忌器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            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隶书"/>
              </a:rPr>
              <a:t>…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WordArt 6"/>
          <p:cNvSpPr txBox="1"/>
          <p:nvPr/>
        </p:nvSpPr>
        <p:spPr>
          <a:xfrm>
            <a:off x="7740720" y="260280"/>
            <a:ext cx="936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？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2"/>
          <p:cNvSpPr/>
          <p:nvPr/>
        </p:nvSpPr>
        <p:spPr>
          <a:xfrm>
            <a:off x="1042920" y="1268280"/>
            <a:ext cx="7848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．给下列蓝字注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媲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美          挑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衅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迷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惘          笃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信　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啮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齿          滑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稽</a:t>
            </a: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徘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徊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    逃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/>
          </p:nvPr>
        </p:nvSpPr>
        <p:spPr>
          <a:xfrm>
            <a:off x="2627280" y="2060280"/>
            <a:ext cx="54720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pì)                     (xìn)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wǎng)                  (dǔ)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nìe)                     (jī)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huái)                (cuàn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筛选信息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：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归纳北极旅鼠的奥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提示：（文中标志性的文句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这还只是旅鼠的第一大奥秘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这就是旅鼠的第二个难解之迷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这就是旅鼠的第三大奥秘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3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3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300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300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300"/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WordArt 4"/>
          <p:cNvSpPr txBox="1"/>
          <p:nvPr/>
        </p:nvSpPr>
        <p:spPr>
          <a:xfrm>
            <a:off x="762120" y="1066680"/>
            <a:ext cx="3429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整体感知课文：</a:t>
            </a:r>
            <a:endParaRPr b="1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50" name="WordArt 5"/>
          <p:cNvSpPr txBox="1"/>
          <p:nvPr/>
        </p:nvSpPr>
        <p:spPr>
          <a:xfrm>
            <a:off x="1403280" y="2708280"/>
            <a:ext cx="6264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5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黑体"/>
              </a:rPr>
              <a:t>概括旅鼠三大奥秘</a:t>
            </a:r>
            <a:endParaRPr b="1" lang="en-US" sz="60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651" name="Picture 6" descr="小破孩儿"/>
          <p:cNvPicPr/>
          <p:nvPr/>
        </p:nvPicPr>
        <p:blipFill>
          <a:blip r:embed="rId1"/>
          <a:stretch/>
        </p:blipFill>
        <p:spPr>
          <a:xfrm>
            <a:off x="7315200" y="50227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北极旅鼠12"/>
          <p:cNvPicPr/>
          <p:nvPr/>
        </p:nvPicPr>
        <p:blipFill>
          <a:blip r:embed="rId1"/>
          <a:stretch/>
        </p:blipFill>
        <p:spPr>
          <a:xfrm>
            <a:off x="179280" y="3641760"/>
            <a:ext cx="4176720" cy="2744640"/>
          </a:xfrm>
          <a:prstGeom prst="rect">
            <a:avLst/>
          </a:prstGeom>
          <a:ln w="7632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4716360" cy="11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第一大奥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10"/>
          <p:cNvSpPr/>
          <p:nvPr/>
        </p:nvSpPr>
        <p:spPr>
          <a:xfrm>
            <a:off x="4500720" y="333360"/>
            <a:ext cx="576072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隶书"/>
                <a:ea typeface="隶书"/>
              </a:rPr>
              <a:t>繁殖力惊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11">
            <a:hlinkClick r:id="rId2" action="ppaction://hlinksldjump"/>
          </p:cNvPr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13"/>
          <p:cNvSpPr/>
          <p:nvPr/>
        </p:nvSpPr>
        <p:spPr>
          <a:xfrm>
            <a:off x="611280" y="1916280"/>
            <a:ext cx="77724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旅鼠的繁殖能力惊人，为动物世界之最。一对旅鼠，一年就有近百万后代。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14" descr="北极旅鼠10"/>
          <p:cNvPicPr/>
          <p:nvPr/>
        </p:nvPicPr>
        <p:blipFill>
          <a:blip r:embed="rId3"/>
          <a:stretch/>
        </p:blipFill>
        <p:spPr>
          <a:xfrm>
            <a:off x="4932360" y="3500280"/>
            <a:ext cx="3816360" cy="2992680"/>
          </a:xfrm>
          <a:prstGeom prst="rect">
            <a:avLst/>
          </a:prstGeom>
          <a:ln w="1260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Group 4"/>
          <p:cNvGrpSpPr/>
          <p:nvPr/>
        </p:nvGrpSpPr>
        <p:grpSpPr>
          <a:xfrm>
            <a:off x="3833640" y="1523880"/>
            <a:ext cx="1565280" cy="1154160"/>
            <a:chOff x="3833640" y="1523880"/>
            <a:chExt cx="1565280" cy="1154160"/>
          </a:xfrm>
        </p:grpSpPr>
        <p:pic>
          <p:nvPicPr>
            <p:cNvPr id="659" name="Picture 5" descr="what"/>
            <p:cNvPicPr/>
            <p:nvPr/>
          </p:nvPicPr>
          <p:blipFill>
            <a:blip r:embed="rId1"/>
            <a:stretch/>
          </p:blipFill>
          <p:spPr>
            <a:xfrm>
              <a:off x="3833640" y="1523880"/>
              <a:ext cx="52236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Text Box 6"/>
            <p:cNvSpPr/>
            <p:nvPr/>
          </p:nvSpPr>
          <p:spPr>
            <a:xfrm>
              <a:off x="4419000" y="16239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 Box 7"/>
            <p:cNvSpPr/>
            <p:nvPr/>
          </p:nvSpPr>
          <p:spPr>
            <a:xfrm>
              <a:off x="4285080" y="2057400"/>
              <a:ext cx="66780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=&g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2" name="Picture 8" descr="what"/>
            <p:cNvPicPr/>
            <p:nvPr/>
          </p:nvPicPr>
          <p:blipFill>
            <a:blip r:embed="rId2"/>
            <a:stretch/>
          </p:blipFill>
          <p:spPr>
            <a:xfrm>
              <a:off x="4876560" y="1523880"/>
              <a:ext cx="52236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3" name="Group 9"/>
          <p:cNvGrpSpPr/>
          <p:nvPr/>
        </p:nvGrpSpPr>
        <p:grpSpPr>
          <a:xfrm>
            <a:off x="1077840" y="2743200"/>
            <a:ext cx="7151760" cy="685800"/>
            <a:chOff x="1077840" y="2743200"/>
            <a:chExt cx="7151760" cy="685800"/>
          </a:xfrm>
        </p:grpSpPr>
        <p:pic>
          <p:nvPicPr>
            <p:cNvPr id="664" name="Picture 10" descr="what"/>
            <p:cNvPicPr/>
            <p:nvPr/>
          </p:nvPicPr>
          <p:blipFill>
            <a:blip r:embed="rId3"/>
            <a:stretch/>
          </p:blipFill>
          <p:spPr>
            <a:xfrm>
              <a:off x="1077840" y="2743200"/>
              <a:ext cx="5223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5" name="Picture 11" descr="what"/>
            <p:cNvPicPr/>
            <p:nvPr/>
          </p:nvPicPr>
          <p:blipFill>
            <a:blip r:embed="rId4"/>
            <a:stretch/>
          </p:blipFill>
          <p:spPr>
            <a:xfrm>
              <a:off x="1666800" y="2743200"/>
              <a:ext cx="5223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6" name="Picture 12" descr="what"/>
            <p:cNvPicPr/>
            <p:nvPr/>
          </p:nvPicPr>
          <p:blipFill>
            <a:blip r:embed="rId5"/>
            <a:stretch/>
          </p:blipFill>
          <p:spPr>
            <a:xfrm>
              <a:off x="2276280" y="2743200"/>
              <a:ext cx="5223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Picture 13" descr="what"/>
            <p:cNvPicPr/>
            <p:nvPr/>
          </p:nvPicPr>
          <p:blipFill>
            <a:blip r:embed="rId6"/>
            <a:stretch/>
          </p:blipFill>
          <p:spPr>
            <a:xfrm>
              <a:off x="2863800" y="2743200"/>
              <a:ext cx="5223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14" descr="what"/>
            <p:cNvPicPr/>
            <p:nvPr/>
          </p:nvPicPr>
          <p:blipFill>
            <a:blip r:embed="rId7"/>
            <a:stretch/>
          </p:blipFill>
          <p:spPr>
            <a:xfrm>
              <a:off x="3495600" y="2743200"/>
              <a:ext cx="5223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9" name="Picture 15" descr="what"/>
            <p:cNvPicPr/>
            <p:nvPr/>
          </p:nvPicPr>
          <p:blipFill>
            <a:blip r:embed="rId8"/>
            <a:stretch/>
          </p:blipFill>
          <p:spPr>
            <a:xfrm>
              <a:off x="4083120" y="2743200"/>
              <a:ext cx="5220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" name="Picture 16" descr="what"/>
            <p:cNvPicPr/>
            <p:nvPr/>
          </p:nvPicPr>
          <p:blipFill>
            <a:blip r:embed="rId9"/>
            <a:stretch/>
          </p:blipFill>
          <p:spPr>
            <a:xfrm>
              <a:off x="4692600" y="2743200"/>
              <a:ext cx="5223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17" descr="what"/>
            <p:cNvPicPr/>
            <p:nvPr/>
          </p:nvPicPr>
          <p:blipFill>
            <a:blip r:embed="rId10"/>
            <a:stretch/>
          </p:blipFill>
          <p:spPr>
            <a:xfrm>
              <a:off x="5302080" y="2743200"/>
              <a:ext cx="5223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18" descr="what"/>
            <p:cNvPicPr/>
            <p:nvPr/>
          </p:nvPicPr>
          <p:blipFill>
            <a:blip r:embed="rId11"/>
            <a:stretch/>
          </p:blipFill>
          <p:spPr>
            <a:xfrm>
              <a:off x="5911920" y="2743200"/>
              <a:ext cx="5220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19" descr="what"/>
            <p:cNvPicPr/>
            <p:nvPr/>
          </p:nvPicPr>
          <p:blipFill>
            <a:blip r:embed="rId12"/>
            <a:stretch/>
          </p:blipFill>
          <p:spPr>
            <a:xfrm>
              <a:off x="6510240" y="2743200"/>
              <a:ext cx="5223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20" descr="what"/>
            <p:cNvPicPr/>
            <p:nvPr/>
          </p:nvPicPr>
          <p:blipFill>
            <a:blip r:embed="rId13"/>
            <a:stretch/>
          </p:blipFill>
          <p:spPr>
            <a:xfrm>
              <a:off x="7097760" y="2743200"/>
              <a:ext cx="5220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5" name="Picture 21" descr="what"/>
            <p:cNvPicPr/>
            <p:nvPr/>
          </p:nvPicPr>
          <p:blipFill>
            <a:blip r:embed="rId14"/>
            <a:stretch/>
          </p:blipFill>
          <p:spPr>
            <a:xfrm>
              <a:off x="7707240" y="2743200"/>
              <a:ext cx="52236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6" name="Group 22"/>
          <p:cNvGrpSpPr/>
          <p:nvPr/>
        </p:nvGrpSpPr>
        <p:grpSpPr>
          <a:xfrm>
            <a:off x="1066680" y="4114800"/>
            <a:ext cx="7148520" cy="1143000"/>
            <a:chOff x="1066680" y="4114800"/>
            <a:chExt cx="7148520" cy="1143000"/>
          </a:xfrm>
        </p:grpSpPr>
        <p:grpSp>
          <p:nvGrpSpPr>
            <p:cNvPr id="677" name="Group 23"/>
            <p:cNvGrpSpPr/>
            <p:nvPr/>
          </p:nvGrpSpPr>
          <p:grpSpPr>
            <a:xfrm>
              <a:off x="1066680" y="4114800"/>
              <a:ext cx="1052640" cy="1143000"/>
              <a:chOff x="1066680" y="4114800"/>
              <a:chExt cx="1052640" cy="1143000"/>
            </a:xfrm>
          </p:grpSpPr>
          <p:pic>
            <p:nvPicPr>
              <p:cNvPr id="678" name="Picture 24" descr="what"/>
              <p:cNvPicPr/>
              <p:nvPr/>
            </p:nvPicPr>
            <p:blipFill>
              <a:blip r:embed="rId15"/>
              <a:stretch/>
            </p:blipFill>
            <p:spPr>
              <a:xfrm>
                <a:off x="1066680" y="41148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9" name="Picture 25" descr="what"/>
              <p:cNvPicPr/>
              <p:nvPr/>
            </p:nvPicPr>
            <p:blipFill>
              <a:blip r:embed="rId16"/>
              <a:stretch/>
            </p:blipFill>
            <p:spPr>
              <a:xfrm>
                <a:off x="1447560" y="41148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0" name="Picture 26" descr="what"/>
              <p:cNvPicPr/>
              <p:nvPr/>
            </p:nvPicPr>
            <p:blipFill>
              <a:blip r:embed="rId17"/>
              <a:stretch/>
            </p:blipFill>
            <p:spPr>
              <a:xfrm>
                <a:off x="1828800" y="41148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1" name="Picture 27" descr="what"/>
              <p:cNvPicPr/>
              <p:nvPr/>
            </p:nvPicPr>
            <p:blipFill>
              <a:blip r:embed="rId18"/>
              <a:stretch/>
            </p:blipFill>
            <p:spPr>
              <a:xfrm>
                <a:off x="1066680" y="441288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2" name="Picture 28" descr="what"/>
              <p:cNvPicPr/>
              <p:nvPr/>
            </p:nvPicPr>
            <p:blipFill>
              <a:blip r:embed="rId19"/>
              <a:stretch/>
            </p:blipFill>
            <p:spPr>
              <a:xfrm>
                <a:off x="1447560" y="441288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3" name="Picture 29" descr="what"/>
              <p:cNvPicPr/>
              <p:nvPr/>
            </p:nvPicPr>
            <p:blipFill>
              <a:blip r:embed="rId20"/>
              <a:stretch/>
            </p:blipFill>
            <p:spPr>
              <a:xfrm>
                <a:off x="1828800" y="441288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4" name="Picture 30" descr="what"/>
              <p:cNvPicPr/>
              <p:nvPr/>
            </p:nvPicPr>
            <p:blipFill>
              <a:blip r:embed="rId21"/>
              <a:stretch/>
            </p:blipFill>
            <p:spPr>
              <a:xfrm>
                <a:off x="1066680" y="471096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5" name="Picture 31" descr="what"/>
              <p:cNvPicPr/>
              <p:nvPr/>
            </p:nvPicPr>
            <p:blipFill>
              <a:blip r:embed="rId22"/>
              <a:stretch/>
            </p:blipFill>
            <p:spPr>
              <a:xfrm>
                <a:off x="1447560" y="471096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6" name="Picture 32" descr="what"/>
              <p:cNvPicPr/>
              <p:nvPr/>
            </p:nvPicPr>
            <p:blipFill>
              <a:blip r:embed="rId23"/>
              <a:stretch/>
            </p:blipFill>
            <p:spPr>
              <a:xfrm>
                <a:off x="1828800" y="471096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7" name="Picture 33" descr="what"/>
              <p:cNvPicPr/>
              <p:nvPr/>
            </p:nvPicPr>
            <p:blipFill>
              <a:blip r:embed="rId24"/>
              <a:stretch/>
            </p:blipFill>
            <p:spPr>
              <a:xfrm>
                <a:off x="1066680" y="50094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8" name="Picture 34" descr="what"/>
              <p:cNvPicPr/>
              <p:nvPr/>
            </p:nvPicPr>
            <p:blipFill>
              <a:blip r:embed="rId25"/>
              <a:stretch/>
            </p:blipFill>
            <p:spPr>
              <a:xfrm>
                <a:off x="1447560" y="50094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9" name="Picture 35" descr="what"/>
              <p:cNvPicPr/>
              <p:nvPr/>
            </p:nvPicPr>
            <p:blipFill>
              <a:blip r:embed="rId26"/>
              <a:stretch/>
            </p:blipFill>
            <p:spPr>
              <a:xfrm>
                <a:off x="1828800" y="50094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0" name="Group 36"/>
            <p:cNvGrpSpPr/>
            <p:nvPr/>
          </p:nvGrpSpPr>
          <p:grpSpPr>
            <a:xfrm>
              <a:off x="2286000" y="4114800"/>
              <a:ext cx="1051920" cy="1143000"/>
              <a:chOff x="2286000" y="4114800"/>
              <a:chExt cx="1051920" cy="1143000"/>
            </a:xfrm>
          </p:grpSpPr>
          <p:pic>
            <p:nvPicPr>
              <p:cNvPr id="691" name="Picture 37" descr="what"/>
              <p:cNvPicPr/>
              <p:nvPr/>
            </p:nvPicPr>
            <p:blipFill>
              <a:blip r:embed="rId27"/>
              <a:stretch/>
            </p:blipFill>
            <p:spPr>
              <a:xfrm>
                <a:off x="2286000" y="411480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2" name="Picture 38" descr="what"/>
              <p:cNvPicPr/>
              <p:nvPr/>
            </p:nvPicPr>
            <p:blipFill>
              <a:blip r:embed="rId28"/>
              <a:stretch/>
            </p:blipFill>
            <p:spPr>
              <a:xfrm>
                <a:off x="2666520" y="411480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3" name="Picture 39" descr="what"/>
              <p:cNvPicPr/>
              <p:nvPr/>
            </p:nvPicPr>
            <p:blipFill>
              <a:blip r:embed="rId29"/>
              <a:stretch/>
            </p:blipFill>
            <p:spPr>
              <a:xfrm>
                <a:off x="3047760" y="411480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4" name="Picture 40" descr="what"/>
              <p:cNvPicPr/>
              <p:nvPr/>
            </p:nvPicPr>
            <p:blipFill>
              <a:blip r:embed="rId30"/>
              <a:stretch/>
            </p:blipFill>
            <p:spPr>
              <a:xfrm>
                <a:off x="2286000" y="441288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5" name="Picture 41" descr="what"/>
              <p:cNvPicPr/>
              <p:nvPr/>
            </p:nvPicPr>
            <p:blipFill>
              <a:blip r:embed="rId31"/>
              <a:stretch/>
            </p:blipFill>
            <p:spPr>
              <a:xfrm>
                <a:off x="2666520" y="441288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6" name="Picture 42" descr="what"/>
              <p:cNvPicPr/>
              <p:nvPr/>
            </p:nvPicPr>
            <p:blipFill>
              <a:blip r:embed="rId32"/>
              <a:stretch/>
            </p:blipFill>
            <p:spPr>
              <a:xfrm>
                <a:off x="3047760" y="441288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7" name="Picture 43" descr="what"/>
              <p:cNvPicPr/>
              <p:nvPr/>
            </p:nvPicPr>
            <p:blipFill>
              <a:blip r:embed="rId33"/>
              <a:stretch/>
            </p:blipFill>
            <p:spPr>
              <a:xfrm>
                <a:off x="2286000" y="471096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8" name="Picture 44" descr="what"/>
              <p:cNvPicPr/>
              <p:nvPr/>
            </p:nvPicPr>
            <p:blipFill>
              <a:blip r:embed="rId34"/>
              <a:stretch/>
            </p:blipFill>
            <p:spPr>
              <a:xfrm>
                <a:off x="2666520" y="471096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9" name="Picture 45" descr="what"/>
              <p:cNvPicPr/>
              <p:nvPr/>
            </p:nvPicPr>
            <p:blipFill>
              <a:blip r:embed="rId35"/>
              <a:stretch/>
            </p:blipFill>
            <p:spPr>
              <a:xfrm>
                <a:off x="3047760" y="471096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0" name="Picture 46" descr="what"/>
              <p:cNvPicPr/>
              <p:nvPr/>
            </p:nvPicPr>
            <p:blipFill>
              <a:blip r:embed="rId36"/>
              <a:stretch/>
            </p:blipFill>
            <p:spPr>
              <a:xfrm>
                <a:off x="2286000" y="500940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1" name="Picture 47" descr="what"/>
              <p:cNvPicPr/>
              <p:nvPr/>
            </p:nvPicPr>
            <p:blipFill>
              <a:blip r:embed="rId37"/>
              <a:stretch/>
            </p:blipFill>
            <p:spPr>
              <a:xfrm>
                <a:off x="2666520" y="500940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2" name="Picture 48" descr="what"/>
              <p:cNvPicPr/>
              <p:nvPr/>
            </p:nvPicPr>
            <p:blipFill>
              <a:blip r:embed="rId38"/>
              <a:stretch/>
            </p:blipFill>
            <p:spPr>
              <a:xfrm>
                <a:off x="3047760" y="500940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03" name="Group 49"/>
            <p:cNvGrpSpPr/>
            <p:nvPr/>
          </p:nvGrpSpPr>
          <p:grpSpPr>
            <a:xfrm>
              <a:off x="3504960" y="4114800"/>
              <a:ext cx="1052640" cy="1143000"/>
              <a:chOff x="3504960" y="4114800"/>
              <a:chExt cx="1052640" cy="1143000"/>
            </a:xfrm>
          </p:grpSpPr>
          <p:pic>
            <p:nvPicPr>
              <p:cNvPr id="704" name="Picture 50" descr="what"/>
              <p:cNvPicPr/>
              <p:nvPr/>
            </p:nvPicPr>
            <p:blipFill>
              <a:blip r:embed="rId39"/>
              <a:stretch/>
            </p:blipFill>
            <p:spPr>
              <a:xfrm>
                <a:off x="3504960" y="41148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5" name="Picture 51" descr="what"/>
              <p:cNvPicPr/>
              <p:nvPr/>
            </p:nvPicPr>
            <p:blipFill>
              <a:blip r:embed="rId40"/>
              <a:stretch/>
            </p:blipFill>
            <p:spPr>
              <a:xfrm>
                <a:off x="3885840" y="41148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6" name="Picture 52" descr="what"/>
              <p:cNvPicPr/>
              <p:nvPr/>
            </p:nvPicPr>
            <p:blipFill>
              <a:blip r:embed="rId41"/>
              <a:stretch/>
            </p:blipFill>
            <p:spPr>
              <a:xfrm>
                <a:off x="4267080" y="41148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7" name="Picture 53" descr="what"/>
              <p:cNvPicPr/>
              <p:nvPr/>
            </p:nvPicPr>
            <p:blipFill>
              <a:blip r:embed="rId42"/>
              <a:stretch/>
            </p:blipFill>
            <p:spPr>
              <a:xfrm>
                <a:off x="3504960" y="441288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8" name="Picture 54" descr="what"/>
              <p:cNvPicPr/>
              <p:nvPr/>
            </p:nvPicPr>
            <p:blipFill>
              <a:blip r:embed="rId43"/>
              <a:stretch/>
            </p:blipFill>
            <p:spPr>
              <a:xfrm>
                <a:off x="3885840" y="441288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9" name="Picture 55" descr="what"/>
              <p:cNvPicPr/>
              <p:nvPr/>
            </p:nvPicPr>
            <p:blipFill>
              <a:blip r:embed="rId44"/>
              <a:stretch/>
            </p:blipFill>
            <p:spPr>
              <a:xfrm>
                <a:off x="4267080" y="441288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0" name="Picture 56" descr="what"/>
              <p:cNvPicPr/>
              <p:nvPr/>
            </p:nvPicPr>
            <p:blipFill>
              <a:blip r:embed="rId45"/>
              <a:stretch/>
            </p:blipFill>
            <p:spPr>
              <a:xfrm>
                <a:off x="3504960" y="471096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1" name="Picture 57" descr="what"/>
              <p:cNvPicPr/>
              <p:nvPr/>
            </p:nvPicPr>
            <p:blipFill>
              <a:blip r:embed="rId46"/>
              <a:stretch/>
            </p:blipFill>
            <p:spPr>
              <a:xfrm>
                <a:off x="3885840" y="471096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2" name="Picture 58" descr="what"/>
              <p:cNvPicPr/>
              <p:nvPr/>
            </p:nvPicPr>
            <p:blipFill>
              <a:blip r:embed="rId47"/>
              <a:stretch/>
            </p:blipFill>
            <p:spPr>
              <a:xfrm>
                <a:off x="4267080" y="471096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3" name="Picture 59" descr="what"/>
              <p:cNvPicPr/>
              <p:nvPr/>
            </p:nvPicPr>
            <p:blipFill>
              <a:blip r:embed="rId48"/>
              <a:stretch/>
            </p:blipFill>
            <p:spPr>
              <a:xfrm>
                <a:off x="3504960" y="50094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4" name="Picture 60" descr="what"/>
              <p:cNvPicPr/>
              <p:nvPr/>
            </p:nvPicPr>
            <p:blipFill>
              <a:blip r:embed="rId49"/>
              <a:stretch/>
            </p:blipFill>
            <p:spPr>
              <a:xfrm>
                <a:off x="3885840" y="50094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5" name="Picture 61" descr="what"/>
              <p:cNvPicPr/>
              <p:nvPr/>
            </p:nvPicPr>
            <p:blipFill>
              <a:blip r:embed="rId50"/>
              <a:stretch/>
            </p:blipFill>
            <p:spPr>
              <a:xfrm>
                <a:off x="4267080" y="50094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16" name="Group 62"/>
            <p:cNvGrpSpPr/>
            <p:nvPr/>
          </p:nvGrpSpPr>
          <p:grpSpPr>
            <a:xfrm>
              <a:off x="4724280" y="4114800"/>
              <a:ext cx="1052640" cy="1143000"/>
              <a:chOff x="4724280" y="4114800"/>
              <a:chExt cx="1052640" cy="1143000"/>
            </a:xfrm>
          </p:grpSpPr>
          <p:pic>
            <p:nvPicPr>
              <p:cNvPr id="717" name="Picture 63" descr="what"/>
              <p:cNvPicPr/>
              <p:nvPr/>
            </p:nvPicPr>
            <p:blipFill>
              <a:blip r:embed="rId51"/>
              <a:stretch/>
            </p:blipFill>
            <p:spPr>
              <a:xfrm>
                <a:off x="4724280" y="41148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8" name="Picture 64" descr="what"/>
              <p:cNvPicPr/>
              <p:nvPr/>
            </p:nvPicPr>
            <p:blipFill>
              <a:blip r:embed="rId52"/>
              <a:stretch/>
            </p:blipFill>
            <p:spPr>
              <a:xfrm>
                <a:off x="5105160" y="41148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9" name="Picture 65" descr="what"/>
              <p:cNvPicPr/>
              <p:nvPr/>
            </p:nvPicPr>
            <p:blipFill>
              <a:blip r:embed="rId53"/>
              <a:stretch/>
            </p:blipFill>
            <p:spPr>
              <a:xfrm>
                <a:off x="5486400" y="41148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0" name="Picture 66" descr="what"/>
              <p:cNvPicPr/>
              <p:nvPr/>
            </p:nvPicPr>
            <p:blipFill>
              <a:blip r:embed="rId54"/>
              <a:stretch/>
            </p:blipFill>
            <p:spPr>
              <a:xfrm>
                <a:off x="4724280" y="441288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1" name="Picture 67" descr="what"/>
              <p:cNvPicPr/>
              <p:nvPr/>
            </p:nvPicPr>
            <p:blipFill>
              <a:blip r:embed="rId55"/>
              <a:stretch/>
            </p:blipFill>
            <p:spPr>
              <a:xfrm>
                <a:off x="5105160" y="441288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2" name="Picture 68" descr="what"/>
              <p:cNvPicPr/>
              <p:nvPr/>
            </p:nvPicPr>
            <p:blipFill>
              <a:blip r:embed="rId56"/>
              <a:stretch/>
            </p:blipFill>
            <p:spPr>
              <a:xfrm>
                <a:off x="5486400" y="441288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3" name="Picture 69" descr="what"/>
              <p:cNvPicPr/>
              <p:nvPr/>
            </p:nvPicPr>
            <p:blipFill>
              <a:blip r:embed="rId57"/>
              <a:stretch/>
            </p:blipFill>
            <p:spPr>
              <a:xfrm>
                <a:off x="4724280" y="471096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4" name="Picture 70" descr="what"/>
              <p:cNvPicPr/>
              <p:nvPr/>
            </p:nvPicPr>
            <p:blipFill>
              <a:blip r:embed="rId58"/>
              <a:stretch/>
            </p:blipFill>
            <p:spPr>
              <a:xfrm>
                <a:off x="5105160" y="471096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5" name="Picture 71" descr="what"/>
              <p:cNvPicPr/>
              <p:nvPr/>
            </p:nvPicPr>
            <p:blipFill>
              <a:blip r:embed="rId59"/>
              <a:stretch/>
            </p:blipFill>
            <p:spPr>
              <a:xfrm>
                <a:off x="5486400" y="471096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6" name="Picture 72" descr="what"/>
              <p:cNvPicPr/>
              <p:nvPr/>
            </p:nvPicPr>
            <p:blipFill>
              <a:blip r:embed="rId60"/>
              <a:stretch/>
            </p:blipFill>
            <p:spPr>
              <a:xfrm>
                <a:off x="4724280" y="50094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7" name="Picture 73" descr="what"/>
              <p:cNvPicPr/>
              <p:nvPr/>
            </p:nvPicPr>
            <p:blipFill>
              <a:blip r:embed="rId61"/>
              <a:stretch/>
            </p:blipFill>
            <p:spPr>
              <a:xfrm>
                <a:off x="5105160" y="50094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8" name="Picture 74" descr="what"/>
              <p:cNvPicPr/>
              <p:nvPr/>
            </p:nvPicPr>
            <p:blipFill>
              <a:blip r:embed="rId62"/>
              <a:stretch/>
            </p:blipFill>
            <p:spPr>
              <a:xfrm>
                <a:off x="5486400" y="50094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29" name="Group 75"/>
            <p:cNvGrpSpPr/>
            <p:nvPr/>
          </p:nvGrpSpPr>
          <p:grpSpPr>
            <a:xfrm>
              <a:off x="5943600" y="4114800"/>
              <a:ext cx="1051920" cy="1143000"/>
              <a:chOff x="5943600" y="4114800"/>
              <a:chExt cx="1051920" cy="1143000"/>
            </a:xfrm>
          </p:grpSpPr>
          <p:pic>
            <p:nvPicPr>
              <p:cNvPr id="730" name="Picture 76" descr="what"/>
              <p:cNvPicPr/>
              <p:nvPr/>
            </p:nvPicPr>
            <p:blipFill>
              <a:blip r:embed="rId63"/>
              <a:stretch/>
            </p:blipFill>
            <p:spPr>
              <a:xfrm>
                <a:off x="5943600" y="411480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1" name="Picture 77" descr="what"/>
              <p:cNvPicPr/>
              <p:nvPr/>
            </p:nvPicPr>
            <p:blipFill>
              <a:blip r:embed="rId64"/>
              <a:stretch/>
            </p:blipFill>
            <p:spPr>
              <a:xfrm>
                <a:off x="6324120" y="411480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2" name="Picture 78" descr="what"/>
              <p:cNvPicPr/>
              <p:nvPr/>
            </p:nvPicPr>
            <p:blipFill>
              <a:blip r:embed="rId65"/>
              <a:stretch/>
            </p:blipFill>
            <p:spPr>
              <a:xfrm>
                <a:off x="6705360" y="411480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3" name="Picture 79" descr="what"/>
              <p:cNvPicPr/>
              <p:nvPr/>
            </p:nvPicPr>
            <p:blipFill>
              <a:blip r:embed="rId66"/>
              <a:stretch/>
            </p:blipFill>
            <p:spPr>
              <a:xfrm>
                <a:off x="5943600" y="441288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4" name="Picture 80" descr="what"/>
              <p:cNvPicPr/>
              <p:nvPr/>
            </p:nvPicPr>
            <p:blipFill>
              <a:blip r:embed="rId67"/>
              <a:stretch/>
            </p:blipFill>
            <p:spPr>
              <a:xfrm>
                <a:off x="6324120" y="441288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5" name="Picture 81" descr="what"/>
              <p:cNvPicPr/>
              <p:nvPr/>
            </p:nvPicPr>
            <p:blipFill>
              <a:blip r:embed="rId68"/>
              <a:stretch/>
            </p:blipFill>
            <p:spPr>
              <a:xfrm>
                <a:off x="6705360" y="441288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6" name="Picture 82" descr="what"/>
              <p:cNvPicPr/>
              <p:nvPr/>
            </p:nvPicPr>
            <p:blipFill>
              <a:blip r:embed="rId69"/>
              <a:stretch/>
            </p:blipFill>
            <p:spPr>
              <a:xfrm>
                <a:off x="5943600" y="471096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7" name="Picture 83" descr="what"/>
              <p:cNvPicPr/>
              <p:nvPr/>
            </p:nvPicPr>
            <p:blipFill>
              <a:blip r:embed="rId70"/>
              <a:stretch/>
            </p:blipFill>
            <p:spPr>
              <a:xfrm>
                <a:off x="6324120" y="471096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8" name="Picture 84" descr="what"/>
              <p:cNvPicPr/>
              <p:nvPr/>
            </p:nvPicPr>
            <p:blipFill>
              <a:blip r:embed="rId71"/>
              <a:stretch/>
            </p:blipFill>
            <p:spPr>
              <a:xfrm>
                <a:off x="6705360" y="471096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9" name="Picture 85" descr="what"/>
              <p:cNvPicPr/>
              <p:nvPr/>
            </p:nvPicPr>
            <p:blipFill>
              <a:blip r:embed="rId72"/>
              <a:stretch/>
            </p:blipFill>
            <p:spPr>
              <a:xfrm>
                <a:off x="5943600" y="500940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0" name="Picture 86" descr="what"/>
              <p:cNvPicPr/>
              <p:nvPr/>
            </p:nvPicPr>
            <p:blipFill>
              <a:blip r:embed="rId73"/>
              <a:stretch/>
            </p:blipFill>
            <p:spPr>
              <a:xfrm>
                <a:off x="6324120" y="500940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1" name="Picture 87" descr="what"/>
              <p:cNvPicPr/>
              <p:nvPr/>
            </p:nvPicPr>
            <p:blipFill>
              <a:blip r:embed="rId74"/>
              <a:stretch/>
            </p:blipFill>
            <p:spPr>
              <a:xfrm>
                <a:off x="6705360" y="5009400"/>
                <a:ext cx="290160" cy="248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2" name="Group 88"/>
            <p:cNvGrpSpPr/>
            <p:nvPr/>
          </p:nvGrpSpPr>
          <p:grpSpPr>
            <a:xfrm>
              <a:off x="7162560" y="4114800"/>
              <a:ext cx="1052640" cy="1143000"/>
              <a:chOff x="7162560" y="4114800"/>
              <a:chExt cx="1052640" cy="1143000"/>
            </a:xfrm>
          </p:grpSpPr>
          <p:pic>
            <p:nvPicPr>
              <p:cNvPr id="743" name="Picture 89" descr="what"/>
              <p:cNvPicPr/>
              <p:nvPr/>
            </p:nvPicPr>
            <p:blipFill>
              <a:blip r:embed="rId75"/>
              <a:stretch/>
            </p:blipFill>
            <p:spPr>
              <a:xfrm>
                <a:off x="7162560" y="41148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4" name="Picture 90" descr="what"/>
              <p:cNvPicPr/>
              <p:nvPr/>
            </p:nvPicPr>
            <p:blipFill>
              <a:blip r:embed="rId76"/>
              <a:stretch/>
            </p:blipFill>
            <p:spPr>
              <a:xfrm>
                <a:off x="7543440" y="41148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5" name="Picture 91" descr="what"/>
              <p:cNvPicPr/>
              <p:nvPr/>
            </p:nvPicPr>
            <p:blipFill>
              <a:blip r:embed="rId77"/>
              <a:stretch/>
            </p:blipFill>
            <p:spPr>
              <a:xfrm>
                <a:off x="7924680" y="41148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6" name="Picture 92" descr="what"/>
              <p:cNvPicPr/>
              <p:nvPr/>
            </p:nvPicPr>
            <p:blipFill>
              <a:blip r:embed="rId78"/>
              <a:stretch/>
            </p:blipFill>
            <p:spPr>
              <a:xfrm>
                <a:off x="7162560" y="441288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7" name="Picture 93" descr="what"/>
              <p:cNvPicPr/>
              <p:nvPr/>
            </p:nvPicPr>
            <p:blipFill>
              <a:blip r:embed="rId79"/>
              <a:stretch/>
            </p:blipFill>
            <p:spPr>
              <a:xfrm>
                <a:off x="7543440" y="441288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8" name="Picture 94" descr="what"/>
              <p:cNvPicPr/>
              <p:nvPr/>
            </p:nvPicPr>
            <p:blipFill>
              <a:blip r:embed="rId80"/>
              <a:stretch/>
            </p:blipFill>
            <p:spPr>
              <a:xfrm>
                <a:off x="7924680" y="441288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9" name="Picture 95" descr="what"/>
              <p:cNvPicPr/>
              <p:nvPr/>
            </p:nvPicPr>
            <p:blipFill>
              <a:blip r:embed="rId81"/>
              <a:stretch/>
            </p:blipFill>
            <p:spPr>
              <a:xfrm>
                <a:off x="7162560" y="471096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0" name="Picture 96" descr="what"/>
              <p:cNvPicPr/>
              <p:nvPr/>
            </p:nvPicPr>
            <p:blipFill>
              <a:blip r:embed="rId82"/>
              <a:stretch/>
            </p:blipFill>
            <p:spPr>
              <a:xfrm>
                <a:off x="7543440" y="471096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1" name="Picture 97" descr="what"/>
              <p:cNvPicPr/>
              <p:nvPr/>
            </p:nvPicPr>
            <p:blipFill>
              <a:blip r:embed="rId83"/>
              <a:stretch/>
            </p:blipFill>
            <p:spPr>
              <a:xfrm>
                <a:off x="7924680" y="471096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2" name="Picture 98" descr="what"/>
              <p:cNvPicPr/>
              <p:nvPr/>
            </p:nvPicPr>
            <p:blipFill>
              <a:blip r:embed="rId84"/>
              <a:stretch/>
            </p:blipFill>
            <p:spPr>
              <a:xfrm>
                <a:off x="7162560" y="50094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3" name="Picture 99" descr="what"/>
              <p:cNvPicPr/>
              <p:nvPr/>
            </p:nvPicPr>
            <p:blipFill>
              <a:blip r:embed="rId85"/>
              <a:stretch/>
            </p:blipFill>
            <p:spPr>
              <a:xfrm>
                <a:off x="7543440" y="50094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4" name="Picture 100" descr="what"/>
              <p:cNvPicPr/>
              <p:nvPr/>
            </p:nvPicPr>
            <p:blipFill>
              <a:blip r:embed="rId86"/>
              <a:stretch/>
            </p:blipFill>
            <p:spPr>
              <a:xfrm>
                <a:off x="7924680" y="5009400"/>
                <a:ext cx="290520" cy="248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55" name="Text Box 101"/>
          <p:cNvSpPr/>
          <p:nvPr/>
        </p:nvSpPr>
        <p:spPr>
          <a:xfrm>
            <a:off x="755640" y="5589720"/>
            <a:ext cx="78487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　　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繁殖能力惊人，为动物世界之最。一对旅鼠，一年有过百万后代。密度达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250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只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/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公顷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Group 102"/>
          <p:cNvGrpSpPr/>
          <p:nvPr/>
        </p:nvGrpSpPr>
        <p:grpSpPr>
          <a:xfrm>
            <a:off x="1219320" y="3505320"/>
            <a:ext cx="6781680" cy="599400"/>
            <a:chOff x="1219320" y="3505320"/>
            <a:chExt cx="6781680" cy="599400"/>
          </a:xfrm>
        </p:grpSpPr>
        <p:sp>
          <p:nvSpPr>
            <p:cNvPr id="757" name="Text Box 103"/>
            <p:cNvSpPr/>
            <p:nvPr/>
          </p:nvSpPr>
          <p:spPr>
            <a:xfrm>
              <a:off x="1275480" y="3547080"/>
              <a:ext cx="667800" cy="5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5050"/>
                  </a:solidFill>
                  <a:latin typeface="Times New Roman"/>
                  <a:ea typeface="Times New Roman"/>
                </a:rPr>
                <a:t>=&g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Text Box 104"/>
            <p:cNvSpPr/>
            <p:nvPr/>
          </p:nvSpPr>
          <p:spPr>
            <a:xfrm>
              <a:off x="2418480" y="3547080"/>
              <a:ext cx="667800" cy="5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5050"/>
                  </a:solidFill>
                  <a:latin typeface="Times New Roman"/>
                  <a:ea typeface="Times New Roman"/>
                </a:rPr>
                <a:t>=&g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Text Box 105"/>
            <p:cNvSpPr/>
            <p:nvPr/>
          </p:nvSpPr>
          <p:spPr>
            <a:xfrm>
              <a:off x="3637800" y="3547080"/>
              <a:ext cx="667800" cy="5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5050"/>
                  </a:solidFill>
                  <a:latin typeface="Times New Roman"/>
                  <a:ea typeface="Times New Roman"/>
                </a:rPr>
                <a:t>=&g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Text Box 106"/>
            <p:cNvSpPr/>
            <p:nvPr/>
          </p:nvSpPr>
          <p:spPr>
            <a:xfrm>
              <a:off x="4933080" y="3547080"/>
              <a:ext cx="667800" cy="5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5050"/>
                  </a:solidFill>
                  <a:latin typeface="Times New Roman"/>
                  <a:ea typeface="Times New Roman"/>
                </a:rPr>
                <a:t>=&g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Text Box 107"/>
            <p:cNvSpPr/>
            <p:nvPr/>
          </p:nvSpPr>
          <p:spPr>
            <a:xfrm>
              <a:off x="6076080" y="3547080"/>
              <a:ext cx="667800" cy="5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5050"/>
                  </a:solidFill>
                  <a:latin typeface="Times New Roman"/>
                  <a:ea typeface="Times New Roman"/>
                </a:rPr>
                <a:t>=&g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108"/>
            <p:cNvSpPr/>
            <p:nvPr/>
          </p:nvSpPr>
          <p:spPr>
            <a:xfrm>
              <a:off x="7295400" y="3547080"/>
              <a:ext cx="667800" cy="5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5050"/>
                  </a:solidFill>
                  <a:latin typeface="Times New Roman"/>
                  <a:ea typeface="Times New Roman"/>
                </a:rPr>
                <a:t>=&g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AutoShape 109"/>
            <p:cNvSpPr/>
            <p:nvPr/>
          </p:nvSpPr>
          <p:spPr>
            <a:xfrm rot="16200000">
              <a:off x="1573560" y="3150720"/>
              <a:ext cx="53280" cy="762120"/>
            </a:xfrm>
            <a:custGeom>
              <a:avLst/>
              <a:gdLst>
                <a:gd name="textAreaLeft" fmla="*/ 34200 w 53280"/>
                <a:gd name="textAreaRight" fmla="*/ 53640 w 5328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ff505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bbe0e3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AutoShape 110"/>
            <p:cNvSpPr/>
            <p:nvPr/>
          </p:nvSpPr>
          <p:spPr>
            <a:xfrm rot="16200000">
              <a:off x="2716560" y="3150720"/>
              <a:ext cx="53280" cy="762120"/>
            </a:xfrm>
            <a:custGeom>
              <a:avLst/>
              <a:gdLst>
                <a:gd name="textAreaLeft" fmla="*/ 34200 w 53280"/>
                <a:gd name="textAreaRight" fmla="*/ 53640 w 5328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ff505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bbe0e3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AutoShape 111"/>
            <p:cNvSpPr/>
            <p:nvPr/>
          </p:nvSpPr>
          <p:spPr>
            <a:xfrm rot="16200000">
              <a:off x="3935880" y="3151080"/>
              <a:ext cx="53280" cy="761760"/>
            </a:xfrm>
            <a:custGeom>
              <a:avLst/>
              <a:gdLst>
                <a:gd name="textAreaLeft" fmla="*/ 34200 w 53280"/>
                <a:gd name="textAreaRight" fmla="*/ 53640 w 5328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ff505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bbe0e3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AutoShape 112"/>
            <p:cNvSpPr/>
            <p:nvPr/>
          </p:nvSpPr>
          <p:spPr>
            <a:xfrm rot="16200000">
              <a:off x="5231160" y="3150720"/>
              <a:ext cx="53280" cy="762120"/>
            </a:xfrm>
            <a:custGeom>
              <a:avLst/>
              <a:gdLst>
                <a:gd name="textAreaLeft" fmla="*/ 34200 w 53280"/>
                <a:gd name="textAreaRight" fmla="*/ 53640 w 5328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ff505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bbe0e3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AutoShape 113"/>
            <p:cNvSpPr/>
            <p:nvPr/>
          </p:nvSpPr>
          <p:spPr>
            <a:xfrm rot="16200000">
              <a:off x="6366600" y="3160080"/>
              <a:ext cx="68400" cy="762120"/>
            </a:xfrm>
            <a:custGeom>
              <a:avLst/>
              <a:gdLst>
                <a:gd name="textAreaLeft" fmla="*/ 43920 w 68400"/>
                <a:gd name="textAreaRight" fmla="*/ 68760 w 684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ff505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bbe0e3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AutoShape 114"/>
            <p:cNvSpPr/>
            <p:nvPr/>
          </p:nvSpPr>
          <p:spPr>
            <a:xfrm rot="16200000">
              <a:off x="7593480" y="3151080"/>
              <a:ext cx="53280" cy="761760"/>
            </a:xfrm>
            <a:custGeom>
              <a:avLst/>
              <a:gdLst>
                <a:gd name="textAreaLeft" fmla="*/ 34200 w 53280"/>
                <a:gd name="textAreaRight" fmla="*/ 53640 w 5328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ff505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bbe0e3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9" name="Picture 115" descr="01"/>
          <p:cNvPicPr/>
          <p:nvPr/>
        </p:nvPicPr>
        <p:blipFill>
          <a:blip r:embed="rId87"/>
          <a:stretch/>
        </p:blipFill>
        <p:spPr>
          <a:xfrm>
            <a:off x="609480" y="955800"/>
            <a:ext cx="212580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Picture 4" descr="变成橘红色的旅鼠1"/>
          <p:cNvPicPr/>
          <p:nvPr/>
        </p:nvPicPr>
        <p:blipFill>
          <a:blip r:embed="rId1"/>
          <a:srcRect l="0" t="8446" r="0" b="11296"/>
          <a:stretch/>
        </p:blipFill>
        <p:spPr>
          <a:xfrm>
            <a:off x="179280" y="2852640"/>
            <a:ext cx="4095720" cy="3240360"/>
          </a:xfrm>
          <a:prstGeom prst="rect">
            <a:avLst/>
          </a:prstGeom>
          <a:ln w="3816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71" name="Picture 5" descr="变成橘红色的旅鼠2"/>
          <p:cNvPicPr/>
          <p:nvPr/>
        </p:nvPicPr>
        <p:blipFill>
          <a:blip r:embed="rId2"/>
          <a:stretch/>
        </p:blipFill>
        <p:spPr>
          <a:xfrm>
            <a:off x="4788000" y="2852640"/>
            <a:ext cx="4140000" cy="3240360"/>
          </a:xfrm>
          <a:prstGeom prst="rect">
            <a:avLst/>
          </a:prstGeom>
          <a:ln w="3816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72" name="Rectangle 6"/>
          <p:cNvSpPr/>
          <p:nvPr/>
        </p:nvSpPr>
        <p:spPr>
          <a:xfrm>
            <a:off x="0" y="0"/>
            <a:ext cx="44276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第二大奥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7"/>
          <p:cNvSpPr/>
          <p:nvPr/>
        </p:nvSpPr>
        <p:spPr>
          <a:xfrm>
            <a:off x="4356000" y="-27000"/>
            <a:ext cx="4392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自杀定数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8"/>
          <p:cNvSpPr/>
          <p:nvPr/>
        </p:nvSpPr>
        <p:spPr>
          <a:xfrm>
            <a:off x="0" y="105264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自杀方式：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①停止进食；②挑衅天敌；③改变毛色，吸引天敌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9"/>
          <p:cNvSpPr/>
          <p:nvPr/>
        </p:nvSpPr>
        <p:spPr>
          <a:xfrm>
            <a:off x="1752480" y="623736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毛色变成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橘红色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的旅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AutoShape 10"/>
          <p:cNvSpPr/>
          <p:nvPr/>
        </p:nvSpPr>
        <p:spPr>
          <a:xfrm>
            <a:off x="8604360" y="6291360"/>
            <a:ext cx="539640" cy="566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66640"/>
              <a:gd name="textAreaBottom" fmla="*/ 531720 h 566640"/>
            </a:gdLst>
            <a:ahLst/>
            <a:rect l="textAreaLeft" t="textAreaTop" r="textAreaRight" b="textAreaBottom"/>
            <a:pathLst>
              <a:path w="21600" h="22680">
                <a:moveTo>
                  <a:pt x="0" y="0"/>
                </a:moveTo>
                <a:lnTo>
                  <a:pt x="21600" y="0"/>
                </a:lnTo>
                <a:lnTo>
                  <a:pt x="21600" y="22680"/>
                </a:lnTo>
                <a:lnTo>
                  <a:pt x="0" y="22680"/>
                </a:lnTo>
                <a:close/>
              </a:path>
              <a:path fill="lightenLess" w="21600" h="226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80">
                <a:moveTo>
                  <a:pt x="21600" y="0"/>
                </a:moveTo>
                <a:lnTo>
                  <a:pt x="21600" y="22680"/>
                </a:lnTo>
                <a:lnTo>
                  <a:pt x="20200" y="21280"/>
                </a:lnTo>
                <a:lnTo>
                  <a:pt x="20200" y="1400"/>
                </a:lnTo>
                <a:close/>
              </a:path>
              <a:path fill="darkenLess" w="21600" h="22680">
                <a:moveTo>
                  <a:pt x="21600" y="22680"/>
                </a:moveTo>
                <a:lnTo>
                  <a:pt x="0" y="22680"/>
                </a:lnTo>
                <a:lnTo>
                  <a:pt x="1400" y="21280"/>
                </a:lnTo>
                <a:lnTo>
                  <a:pt x="20200" y="21280"/>
                </a:lnTo>
                <a:close/>
              </a:path>
              <a:path fill="lighten" w="21600" h="22680">
                <a:moveTo>
                  <a:pt x="0" y="226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8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4" descr="漫画《聪明的旅鼠》"/>
          <p:cNvPicPr/>
          <p:nvPr/>
        </p:nvPicPr>
        <p:blipFill>
          <a:blip r:embed="rId1"/>
          <a:stretch/>
        </p:blipFill>
        <p:spPr>
          <a:xfrm>
            <a:off x="2666880" y="1371600"/>
            <a:ext cx="6477120" cy="5486400"/>
          </a:xfrm>
          <a:prstGeom prst="rect">
            <a:avLst/>
          </a:prstGeom>
          <a:ln w="7632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78" name="Rectangle 5"/>
          <p:cNvSpPr/>
          <p:nvPr/>
        </p:nvSpPr>
        <p:spPr>
          <a:xfrm>
            <a:off x="1509840" y="-387360"/>
            <a:ext cx="104616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三大奥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6"/>
          <p:cNvSpPr/>
          <p:nvPr/>
        </p:nvSpPr>
        <p:spPr>
          <a:xfrm>
            <a:off x="468360" y="2276640"/>
            <a:ext cx="9349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华文新魏"/>
                <a:ea typeface="华文新魏"/>
              </a:rPr>
              <a:t>死亡大迁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7">
            <a:hlinkClick r:id="" action="ppaction://hlinkshowjump?jump=previousslide"/>
          </p:cNvPr>
          <p:cNvSpPr/>
          <p:nvPr/>
        </p:nvSpPr>
        <p:spPr>
          <a:xfrm>
            <a:off x="8604360" y="6165720"/>
            <a:ext cx="539640" cy="538200"/>
          </a:xfrm>
          <a:custGeom>
            <a:avLst/>
            <a:gdLst>
              <a:gd name="textAreaLeft" fmla="*/ 34560 w 539640"/>
              <a:gd name="textAreaRight" fmla="*/ 505080 w 539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1658" h="21600">
                <a:moveTo>
                  <a:pt x="0" y="0"/>
                </a:moveTo>
                <a:lnTo>
                  <a:pt x="21658" y="0"/>
                </a:lnTo>
                <a:lnTo>
                  <a:pt x="21658" y="21600"/>
                </a:lnTo>
                <a:lnTo>
                  <a:pt x="0" y="21600"/>
                </a:lnTo>
                <a:close/>
              </a:path>
              <a:path fill="lightenLess" w="21658" h="21600">
                <a:moveTo>
                  <a:pt x="0" y="0"/>
                </a:moveTo>
                <a:lnTo>
                  <a:pt x="21658" y="0"/>
                </a:lnTo>
                <a:lnTo>
                  <a:pt x="20258" y="1400"/>
                </a:lnTo>
                <a:lnTo>
                  <a:pt x="1400" y="1400"/>
                </a:lnTo>
                <a:close/>
              </a:path>
              <a:path fill="darken" w="21658" h="21600">
                <a:moveTo>
                  <a:pt x="21658" y="0"/>
                </a:moveTo>
                <a:lnTo>
                  <a:pt x="21658" y="21600"/>
                </a:lnTo>
                <a:lnTo>
                  <a:pt x="20258" y="20200"/>
                </a:lnTo>
                <a:lnTo>
                  <a:pt x="20258" y="1400"/>
                </a:lnTo>
                <a:close/>
              </a:path>
              <a:path fill="darkenLess" w="21658" h="21600">
                <a:moveTo>
                  <a:pt x="21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8" y="20200"/>
                </a:lnTo>
                <a:close/>
              </a:path>
              <a:path fill="lighten" w="21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三大奥秘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死亡大迁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876920" y="1218960"/>
            <a:ext cx="39621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数百万旅鼠汇成浩浩荡荡的队伍，奔向大海，葬身大海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Picture 4" descr="旅鼠集体跳崖"/>
          <p:cNvPicPr/>
          <p:nvPr/>
        </p:nvPicPr>
        <p:blipFill>
          <a:blip r:embed="rId1"/>
          <a:stretch/>
        </p:blipFill>
        <p:spPr>
          <a:xfrm>
            <a:off x="380880" y="1219320"/>
            <a:ext cx="3657600" cy="5400720"/>
          </a:xfrm>
          <a:prstGeom prst="rect">
            <a:avLst/>
          </a:prstGeom>
          <a:ln w="7632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84" name="Picture 5" descr="漫画《聪明的旅鼠》"/>
          <p:cNvPicPr/>
          <p:nvPr/>
        </p:nvPicPr>
        <p:blipFill>
          <a:blip r:embed="rId2"/>
          <a:stretch/>
        </p:blipFill>
        <p:spPr>
          <a:xfrm>
            <a:off x="4648320" y="3733920"/>
            <a:ext cx="4086000" cy="2863800"/>
          </a:xfrm>
          <a:prstGeom prst="rect">
            <a:avLst/>
          </a:prstGeom>
          <a:ln w="7632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4"/>
          <p:cNvSpPr/>
          <p:nvPr/>
        </p:nvSpPr>
        <p:spPr>
          <a:xfrm>
            <a:off x="108000" y="790560"/>
            <a:ext cx="8209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旅鼠的三大奥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5"/>
          <p:cNvSpPr/>
          <p:nvPr/>
        </p:nvSpPr>
        <p:spPr>
          <a:xfrm>
            <a:off x="0" y="2131920"/>
            <a:ext cx="86756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隶书"/>
                <a:ea typeface="隶书"/>
              </a:rPr>
              <a:t>1.</a:t>
            </a:r>
            <a:r>
              <a:rPr b="1" lang="zh-CN" sz="6000" spc="-1" strike="noStrike">
                <a:solidFill>
                  <a:srgbClr val="0000ff"/>
                </a:solidFill>
                <a:latin typeface="隶书"/>
                <a:ea typeface="隶书"/>
              </a:rPr>
              <a:t>繁殖力惊人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隶书"/>
                <a:ea typeface="隶书"/>
              </a:rPr>
              <a:t>2.</a:t>
            </a:r>
            <a:r>
              <a:rPr b="1" lang="zh-CN" sz="6000" spc="-1" strike="noStrike">
                <a:solidFill>
                  <a:srgbClr val="0000ff"/>
                </a:solidFill>
                <a:latin typeface="隶书"/>
                <a:ea typeface="隶书"/>
              </a:rPr>
              <a:t>自杀定数量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隶书"/>
                <a:ea typeface="隶书"/>
              </a:rPr>
              <a:t>3.</a:t>
            </a:r>
            <a:r>
              <a:rPr b="1" lang="zh-CN" sz="6000" spc="-1" strike="noStrike">
                <a:solidFill>
                  <a:srgbClr val="0000ff"/>
                </a:solidFill>
                <a:latin typeface="隶书"/>
                <a:ea typeface="隶书"/>
              </a:rPr>
              <a:t>死亡大迁移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Picture 2" descr="水晶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8" name="Rectangle 3"/>
          <p:cNvSpPr/>
          <p:nvPr/>
        </p:nvSpPr>
        <p:spPr>
          <a:xfrm>
            <a:off x="380880" y="6858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文中多次写到“我”听了丹尼斯介绍之后的反应，找出对“我”的反应描写的词语，思考一下“我”的反应在文中起到什么作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4"/>
          <p:cNvSpPr/>
          <p:nvPr/>
        </p:nvSpPr>
        <p:spPr>
          <a:xfrm>
            <a:off x="503640" y="3305160"/>
            <a:ext cx="12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提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1908000" y="330660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怀疑  惊讶  迷惘  猜测   疑惑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6"/>
          <p:cNvSpPr/>
          <p:nvPr/>
        </p:nvSpPr>
        <p:spPr>
          <a:xfrm>
            <a:off x="2124000" y="437184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推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7"/>
          <p:cNvSpPr/>
          <p:nvPr/>
        </p:nvSpPr>
        <p:spPr>
          <a:xfrm>
            <a:off x="974880" y="4363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utoShape 8"/>
          <p:cNvSpPr/>
          <p:nvPr/>
        </p:nvSpPr>
        <p:spPr>
          <a:xfrm flipV="1">
            <a:off x="2362320" y="4952880"/>
            <a:ext cx="1066680" cy="609840"/>
          </a:xfrm>
          <a:prstGeom prst="rightArrow">
            <a:avLst>
              <a:gd name="adj1" fmla="val 50000"/>
              <a:gd name="adj2" fmla="val 437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9"/>
          <p:cNvSpPr/>
          <p:nvPr/>
        </p:nvSpPr>
        <p:spPr>
          <a:xfrm>
            <a:off x="4196520" y="48448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情节的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矩形 8"/>
          <p:cNvSpPr/>
          <p:nvPr/>
        </p:nvSpPr>
        <p:spPr>
          <a:xfrm>
            <a:off x="7093080" y="234144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2463480" y="1606680"/>
            <a:ext cx="115596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北极旅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1369440" y="2346480"/>
            <a:ext cx="350964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旅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一种极普通、可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小动物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年居住在北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灰黑。体形椭圆，四肢短小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普通老鼠要小一些，最大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，尾巴粗短，耳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小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眼闪着胆怯的光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被逼得走投无路时，它也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勃然大怒，奋力反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Object 6"/>
          <p:cNvGraphicFramePr/>
          <p:nvPr/>
        </p:nvGraphicFramePr>
        <p:xfrm>
          <a:off x="6012000" y="1557360"/>
          <a:ext cx="2881080" cy="46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1557360"/>
                    <a:ext cx="288108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8" name="Picture 8" descr="01"/>
          <p:cNvPicPr/>
          <p:nvPr/>
        </p:nvPicPr>
        <p:blipFill>
          <a:blip r:embed="rId3"/>
          <a:stretch/>
        </p:blipFill>
        <p:spPr>
          <a:xfrm>
            <a:off x="609480" y="955800"/>
            <a:ext cx="212580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4"/>
          <p:cNvSpPr/>
          <p:nvPr/>
        </p:nvSpPr>
        <p:spPr>
          <a:xfrm>
            <a:off x="0" y="1811520"/>
            <a:ext cx="9144000" cy="14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思考：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作者写作本文只是向人们介绍旅鼠的奥秘吗？你认为作者写作本文的意图是什么？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4005360"/>
            <a:ext cx="91440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5700" spc="-1" strike="noStrike">
                <a:solidFill>
                  <a:srgbClr val="0000ff"/>
                </a:solidFill>
                <a:latin typeface="Arial"/>
                <a:ea typeface="黑体"/>
              </a:rPr>
              <a:t>如果人类也毫无节制地繁衍下去，也许有一天不得不走旅鼠的道路。”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6"/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Picture 7" descr="03"/>
          <p:cNvPicPr/>
          <p:nvPr/>
        </p:nvPicPr>
        <p:blipFill>
          <a:blip r:embed="rId1"/>
          <a:stretch/>
        </p:blipFill>
        <p:spPr>
          <a:xfrm>
            <a:off x="609480" y="636480"/>
            <a:ext cx="3602160" cy="81144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6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4"/>
          <p:cNvSpPr/>
          <p:nvPr/>
        </p:nvSpPr>
        <p:spPr>
          <a:xfrm>
            <a:off x="2195640" y="981000"/>
            <a:ext cx="6948360" cy="19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黑体"/>
              </a:rPr>
              <a:t>控制人口增长，与环境协调发展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5"/>
          <p:cNvSpPr/>
          <p:nvPr/>
        </p:nvSpPr>
        <p:spPr>
          <a:xfrm>
            <a:off x="0" y="1341360"/>
            <a:ext cx="2484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主题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7"/>
          <p:cNvSpPr/>
          <p:nvPr/>
        </p:nvSpPr>
        <p:spPr>
          <a:xfrm>
            <a:off x="0" y="364500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300" spc="-1" strike="noStrike">
                <a:solidFill>
                  <a:srgbClr val="000000"/>
                </a:solidFill>
                <a:latin typeface="Times New Roman"/>
                <a:ea typeface="隶书"/>
              </a:rPr>
              <a:t>你从文中获得哪些启发？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4"/>
          <p:cNvSpPr/>
          <p:nvPr/>
        </p:nvSpPr>
        <p:spPr>
          <a:xfrm>
            <a:off x="250920" y="1125360"/>
            <a:ext cx="8893080" cy="431964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人类应控制人口增长，以求和谐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２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自然界还有许多奥秘等待着我们去探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３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科学研究要不断调整研究方法和思维方式。只有创新研究方法和思维方式才能解开大自然之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自然界本身具有调节机制，一旦打破生态平衡，就出现向新的平衡转化的新趋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57243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探究文体及写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1029"/>
          <p:cNvSpPr/>
          <p:nvPr/>
        </p:nvSpPr>
        <p:spPr>
          <a:xfrm flipH="1">
            <a:off x="1042200" y="2276640"/>
            <a:ext cx="2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1036"/>
          <p:cNvSpPr/>
          <p:nvPr/>
        </p:nvSpPr>
        <p:spPr>
          <a:xfrm>
            <a:off x="2268360" y="1557360"/>
            <a:ext cx="6048720" cy="48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时间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地点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人物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事情的起因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事情的经过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事情的结果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AutoShape 1037"/>
          <p:cNvSpPr/>
          <p:nvPr/>
        </p:nvSpPr>
        <p:spPr>
          <a:xfrm>
            <a:off x="1547640" y="1557360"/>
            <a:ext cx="648000" cy="4680000"/>
          </a:xfrm>
          <a:custGeom>
            <a:avLst/>
            <a:gdLst>
              <a:gd name="textAreaLeft" fmla="*/ 414000 w 648000"/>
              <a:gd name="textAreaRight" fmla="*/ 648000 w 648000"/>
              <a:gd name="textAreaTop" fmla="*/ 122040 h 4680000"/>
              <a:gd name="textAreaBottom" fmla="*/ 455796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4"/>
          <p:cNvSpPr/>
          <p:nvPr/>
        </p:nvSpPr>
        <p:spPr>
          <a:xfrm>
            <a:off x="152280" y="1981080"/>
            <a:ext cx="327672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时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地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人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事情的起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事情的经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事情的结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5"/>
          <p:cNvSpPr/>
          <p:nvPr/>
        </p:nvSpPr>
        <p:spPr>
          <a:xfrm>
            <a:off x="1752480" y="19051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有一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6"/>
          <p:cNvSpPr/>
          <p:nvPr/>
        </p:nvSpPr>
        <p:spPr>
          <a:xfrm>
            <a:off x="1676520" y="25146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巴罗附近的爱斯基摩人村落遗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7"/>
          <p:cNvSpPr/>
          <p:nvPr/>
        </p:nvSpPr>
        <p:spPr>
          <a:xfrm>
            <a:off x="1600200" y="32004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我”和丹尼斯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•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马洛拉斯先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8"/>
          <p:cNvSpPr/>
          <p:nvPr/>
        </p:nvSpPr>
        <p:spPr>
          <a:xfrm>
            <a:off x="2819520" y="380988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我”捉到一只旅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9"/>
          <p:cNvSpPr/>
          <p:nvPr/>
        </p:nvSpPr>
        <p:spPr>
          <a:xfrm>
            <a:off x="2743200" y="44956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我”听丹尼斯讲述旅鼠的三大奥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10"/>
          <p:cNvSpPr/>
          <p:nvPr/>
        </p:nvSpPr>
        <p:spPr>
          <a:xfrm>
            <a:off x="2819520" y="518148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丹尼斯就旅鼠奇特的行为发表了他的感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Picture 11" descr="熊"/>
          <p:cNvPicPr/>
          <p:nvPr/>
        </p:nvPicPr>
        <p:blipFill>
          <a:blip r:embed="rId7"/>
          <a:stretch/>
        </p:blipFill>
        <p:spPr>
          <a:xfrm>
            <a:off x="611280" y="260280"/>
            <a:ext cx="1371600" cy="129240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2" descr="小破孩儿"/>
          <p:cNvPicPr/>
          <p:nvPr/>
        </p:nvPicPr>
        <p:blipFill>
          <a:blip r:embed="rId8"/>
          <a:stretch/>
        </p:blipFill>
        <p:spPr>
          <a:xfrm>
            <a:off x="7315200" y="5029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817" name="WordArt 13"/>
          <p:cNvSpPr txBox="1"/>
          <p:nvPr/>
        </p:nvSpPr>
        <p:spPr>
          <a:xfrm>
            <a:off x="4716360" y="476280"/>
            <a:ext cx="3529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讲故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WordArt 4"/>
          <p:cNvSpPr txBox="1"/>
          <p:nvPr/>
        </p:nvSpPr>
        <p:spPr>
          <a:xfrm>
            <a:off x="1295280" y="533520"/>
            <a:ext cx="5181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说明的内容：</a:t>
            </a:r>
            <a:endParaRPr b="0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19" name="Text Box 5"/>
          <p:cNvSpPr/>
          <p:nvPr/>
        </p:nvSpPr>
        <p:spPr>
          <a:xfrm>
            <a:off x="468360" y="2565360"/>
            <a:ext cx="807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如把丹尼斯讲述旅鼠三大奥秘的话筛选出来，连接起来，是一篇完整地介绍旅鼠知识的说明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16"/>
          <p:cNvSpPr/>
          <p:nvPr/>
        </p:nvSpPr>
        <p:spPr>
          <a:xfrm>
            <a:off x="0" y="982800"/>
            <a:ext cx="9144000" cy="25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300" spc="-1" strike="noStrike">
                <a:solidFill>
                  <a:srgbClr val="000000"/>
                </a:solidFill>
                <a:latin typeface="Arial"/>
                <a:ea typeface="隶书"/>
              </a:rPr>
              <a:t>写作特点：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300" spc="-1" strike="noStrike">
                <a:solidFill>
                  <a:srgbClr val="000000"/>
                </a:solidFill>
                <a:latin typeface="Arial"/>
                <a:ea typeface="隶书"/>
              </a:rPr>
              <a:t>记叙和说明相结合，使文章知识性和趣味性兼有。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0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WordArt 2"/>
          <p:cNvSpPr txBox="1"/>
          <p:nvPr/>
        </p:nvSpPr>
        <p:spPr>
          <a:xfrm>
            <a:off x="2627280" y="774720"/>
            <a:ext cx="449568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对话的方式：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22" name="Text Box 3"/>
          <p:cNvSpPr/>
          <p:nvPr/>
        </p:nvSpPr>
        <p:spPr>
          <a:xfrm>
            <a:off x="304920" y="192708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通篇几乎都是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我与丹尼斯的对话，既通俗又亲切。我不仅是忠实而专心的听者，而且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我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的心理活动和语言也有作用，有问有答，反复解开疑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对话的形式生动有趣，故事性强，让人既长知识，又有兴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4"/>
          <p:cNvSpPr/>
          <p:nvPr/>
        </p:nvSpPr>
        <p:spPr>
          <a:xfrm>
            <a:off x="179280" y="981000"/>
            <a:ext cx="86266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隶书"/>
                <a:ea typeface="隶书"/>
              </a:rPr>
              <a:t>你还知道哪些有趣的动、植物现象</a:t>
            </a:r>
            <a:r>
              <a:rPr b="1" i="1" lang="en-US" sz="12000" spc="-1" strike="noStrike">
                <a:solidFill>
                  <a:srgbClr val="ff0000"/>
                </a:solidFill>
                <a:latin typeface="隶书"/>
                <a:ea typeface="隶书"/>
              </a:rPr>
              <a:t>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3352680" y="1225440"/>
            <a:ext cx="251460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走路的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5"/>
          <p:cNvSpPr/>
          <p:nvPr/>
        </p:nvSpPr>
        <p:spPr>
          <a:xfrm>
            <a:off x="2215440" y="1981080"/>
            <a:ext cx="4642920" cy="44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南美洲生长着一种即有趣又奇特的植物，名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卷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每当气候干旱，严重缺水的时候，它会自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根从土壤里拨出来，摇身一变，让整个身体卷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一个圆球状。又轻又圆，只要稍有一点儿风，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随风在地面上滚动。一旦滚到水分充足的地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球就迅速的打开，恢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庐山真面目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根重新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钻到土壤里，暂时安居下来。如果，它又感到水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足，住得不称心如意时，它又继续的拨起根来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过旅游的生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卷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是这样旅游着，有水就住下，无水就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，所以难怪有人称它是植物王国中的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旅游者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WordArt 6"/>
          <p:cNvSpPr txBox="1"/>
          <p:nvPr/>
        </p:nvSpPr>
        <p:spPr>
          <a:xfrm rot="5400000">
            <a:off x="382680" y="-2520"/>
            <a:ext cx="1143000" cy="1605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谜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4" descr="01"/>
          <p:cNvPicPr/>
          <p:nvPr/>
        </p:nvPicPr>
        <p:blipFill>
          <a:blip r:embed="rId1"/>
          <a:stretch/>
        </p:blipFill>
        <p:spPr>
          <a:xfrm>
            <a:off x="609480" y="955800"/>
            <a:ext cx="2125800" cy="49212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5"/>
          <p:cNvSpPr/>
          <p:nvPr/>
        </p:nvSpPr>
        <p:spPr>
          <a:xfrm>
            <a:off x="1258920" y="1989000"/>
            <a:ext cx="33843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旅鼠的食量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惊人，一顿可吃相当于自身重量两倍的食物，而且食性广，草根、草茎和苔藓之类几乎所有的北极植物均在其食谱之列，它一年可吃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斤的食物，因此，人们戏称旅鼠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肥胖忙碌的收割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1" name="Object 6"/>
          <p:cNvGraphicFramePr/>
          <p:nvPr/>
        </p:nvGraphicFramePr>
        <p:xfrm>
          <a:off x="4932360" y="1628640"/>
          <a:ext cx="350532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32360" y="1628640"/>
                    <a:ext cx="35053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Text Box 8"/>
          <p:cNvSpPr/>
          <p:nvPr/>
        </p:nvSpPr>
        <p:spPr>
          <a:xfrm>
            <a:off x="5003640" y="602136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警觉地注视周围的动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Picture 5" descr="u=2913767207,441121934&amp;gp=1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828" name="Text Box 6"/>
          <p:cNvSpPr/>
          <p:nvPr/>
        </p:nvSpPr>
        <p:spPr>
          <a:xfrm>
            <a:off x="4572000" y="31680"/>
            <a:ext cx="457200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会走路的树　　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隶书"/>
              </a:rPr>
              <a:t>卷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Picture 8" descr="u=1812478640,4412140&amp;gp=4"/>
          <p:cNvPicPr/>
          <p:nvPr/>
        </p:nvPicPr>
        <p:blipFill>
          <a:blip r:embed="rId2"/>
          <a:stretch/>
        </p:blipFill>
        <p:spPr>
          <a:xfrm>
            <a:off x="4643280" y="2349360"/>
            <a:ext cx="450072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WordArt 4"/>
          <p:cNvSpPr txBox="1"/>
          <p:nvPr/>
        </p:nvSpPr>
        <p:spPr>
          <a:xfrm rot="5400000">
            <a:off x="382680" y="-2520"/>
            <a:ext cx="1143000" cy="1605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谜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831" name="Text Box 5"/>
          <p:cNvSpPr/>
          <p:nvPr/>
        </p:nvSpPr>
        <p:spPr>
          <a:xfrm>
            <a:off x="3945240" y="1295280"/>
            <a:ext cx="91224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吃人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2106360" y="1981080"/>
            <a:ext cx="515484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非洲马达加斯加的地方，有一种会吃人的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的形状象一棵巨大的菠萝，高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尺，树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呈圆筒状，枝条如蛇样，因此当地人称它为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蛇树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种树极为敏感，当鸟儿落在它的枝条上，很快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被它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抓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不见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国植物学家里斯尔曾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亲身感受到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树的威力：他无意中一只手碰到树枝时。手很快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被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缠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结果费了很大力气才挣脱出来，但手背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被拉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掉一大快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6"/>
          <p:cNvSpPr/>
          <p:nvPr/>
        </p:nvSpPr>
        <p:spPr>
          <a:xfrm>
            <a:off x="5823720" y="1125360"/>
            <a:ext cx="31885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吃人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隶书"/>
              </a:rPr>
              <a:t>　蛇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Picture 7" descr="sticksofireTOP"/>
          <p:cNvPicPr/>
          <p:nvPr/>
        </p:nvPicPr>
        <p:blipFill>
          <a:blip r:embed="rId1"/>
          <a:stretch/>
        </p:blipFill>
        <p:spPr>
          <a:xfrm>
            <a:off x="611280" y="404640"/>
            <a:ext cx="583236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0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WordArt 4"/>
          <p:cNvSpPr txBox="1"/>
          <p:nvPr/>
        </p:nvSpPr>
        <p:spPr>
          <a:xfrm rot="5400000">
            <a:off x="382680" y="-2520"/>
            <a:ext cx="1143000" cy="1605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谜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836" name="Text Box 5"/>
          <p:cNvSpPr/>
          <p:nvPr/>
        </p:nvSpPr>
        <p:spPr>
          <a:xfrm>
            <a:off x="3675600" y="1295280"/>
            <a:ext cx="140004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光 棍 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6"/>
          <p:cNvSpPr/>
          <p:nvPr/>
        </p:nvSpPr>
        <p:spPr>
          <a:xfrm>
            <a:off x="762120" y="1828800"/>
            <a:ext cx="769608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一种树，不论全年任何季节，都呈现光秃秃的形象，不要以为这是枯树，实际上它是生机蓬勃的，这种树名叫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光棍树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产于非洲的沙漠地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   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来非洲的荒漠地带气候炎热干燥，长期无雨，光棍树便适应这种自然环境，没有叶子，便减少蒸腾，节省水分，用绿色的茎与条代替叶的功能，而叶就在这情况下退化了。这种光棍树也有自我保护作用，使一些吃叶的动物见到光秃秃的枝桠而不去光顾，减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被动物吃掉的机会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   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实，这种光棍树的嫩枝正常地代替叶子，进行光合作用，通过吸取阳光的营养来壮强自己。那些</a:t>
            </a:r>
            <a:r>
              <a:rPr b="1" lang="zh-CN" sz="2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看似枯萎的枝干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其实正是</a:t>
            </a:r>
            <a:r>
              <a:rPr b="1" lang="zh-CN" sz="2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生机蓬勃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Text Box 11"/>
          <p:cNvSpPr/>
          <p:nvPr/>
        </p:nvSpPr>
        <p:spPr>
          <a:xfrm>
            <a:off x="7097040" y="981000"/>
            <a:ext cx="139932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lvl="2" marL="91440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隶书"/>
              </a:rPr>
              <a:t>光棍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12" descr="bigtree"/>
          <p:cNvPicPr/>
          <p:nvPr/>
        </p:nvPicPr>
        <p:blipFill>
          <a:blip r:embed="rId1"/>
          <a:stretch/>
        </p:blipFill>
        <p:spPr>
          <a:xfrm>
            <a:off x="468360" y="189000"/>
            <a:ext cx="55609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2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Text Box 2"/>
          <p:cNvSpPr/>
          <p:nvPr/>
        </p:nvSpPr>
        <p:spPr>
          <a:xfrm>
            <a:off x="533520" y="1628640"/>
            <a:ext cx="861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北美阿拉斯加的茫茫荒野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长着一种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狐狸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以鼠为生，是老鼠的天敌。但它们对老鼠的捕食也并非无所节制，当鼠群减少、狐群增加而严重威胁鼠群的繁衍的时候，狐狸们便会采取行动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限制种群的发展：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一部分成员会聚在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起，疯狂地、不间歇地跳舞，夜以继日，直至力竭气绝而死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3"/>
          <p:cNvSpPr/>
          <p:nvPr/>
        </p:nvSpPr>
        <p:spPr>
          <a:xfrm>
            <a:off x="3323880" y="609480"/>
            <a:ext cx="42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北美阿拉斯加狐狸自杀之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WordArt 4"/>
          <p:cNvSpPr txBox="1"/>
          <p:nvPr/>
        </p:nvSpPr>
        <p:spPr>
          <a:xfrm rot="5400000">
            <a:off x="382680" y="-2520"/>
            <a:ext cx="1143000" cy="1605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谜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843" name="Text Box 5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Text Box 2"/>
          <p:cNvSpPr/>
          <p:nvPr/>
        </p:nvSpPr>
        <p:spPr>
          <a:xfrm>
            <a:off x="457200" y="20574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黄山猕猴</a:t>
            </a:r>
            <a:r>
              <a:rPr b="1" lang="zh-CN" sz="3600" spc="-1" strike="noStrike">
                <a:solidFill>
                  <a:srgbClr val="333300"/>
                </a:solidFill>
                <a:latin typeface="宋体"/>
              </a:rPr>
              <a:t>每一族群一般维持在</a:t>
            </a:r>
            <a:r>
              <a:rPr b="1" lang="en-US" sz="3600" spc="-1" strike="noStrike">
                <a:solidFill>
                  <a:srgbClr val="333300"/>
                </a:solidFill>
                <a:latin typeface="宋体"/>
              </a:rPr>
              <a:t>28</a:t>
            </a:r>
            <a:r>
              <a:rPr b="1" lang="zh-CN" sz="3600" spc="-1" strike="noStrike">
                <a:solidFill>
                  <a:srgbClr val="333300"/>
                </a:solidFill>
                <a:latin typeface="宋体"/>
              </a:rPr>
              <a:t>只左右，这是族群最佳生活状态的临界点，族群成员以生命来维护这一状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每当族群数量超出，年纪较大的猴子就会毅然决然地选择坠崖而亡。</a:t>
            </a:r>
            <a:br>
              <a:rPr sz="3600"/>
            </a:br>
            <a:br>
              <a:rPr sz="1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WordArt 3"/>
          <p:cNvSpPr txBox="1"/>
          <p:nvPr/>
        </p:nvSpPr>
        <p:spPr>
          <a:xfrm rot="5400000">
            <a:off x="382680" y="-2520"/>
            <a:ext cx="1143000" cy="1605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谜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846" name="Text Box 4"/>
          <p:cNvSpPr/>
          <p:nvPr/>
        </p:nvSpPr>
        <p:spPr>
          <a:xfrm>
            <a:off x="3333960" y="68580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黄山猕猴自杀之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4" descr="1088973_9198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0" name="WordArt 5" descr=""/>
          <p:cNvPicPr/>
          <p:nvPr/>
        </p:nvPicPr>
        <p:blipFill>
          <a:blip r:embed="rId2"/>
          <a:stretch/>
        </p:blipFill>
        <p:spPr>
          <a:xfrm>
            <a:off x="1042920" y="311040"/>
            <a:ext cx="1968480" cy="968400"/>
          </a:xfrm>
          <a:prstGeom prst="rect">
            <a:avLst/>
          </a:prstGeom>
          <a:ln w="0">
            <a:noFill/>
          </a:ln>
        </p:spPr>
      </p:pic>
      <p:pic>
        <p:nvPicPr>
          <p:cNvPr id="851" name="WordArt 6" descr=""/>
          <p:cNvPicPr/>
          <p:nvPr/>
        </p:nvPicPr>
        <p:blipFill>
          <a:blip r:embed="rId3"/>
          <a:stretch/>
        </p:blipFill>
        <p:spPr>
          <a:xfrm>
            <a:off x="4065480" y="981000"/>
            <a:ext cx="2901960" cy="1049400"/>
          </a:xfrm>
          <a:prstGeom prst="rect">
            <a:avLst/>
          </a:prstGeom>
          <a:ln w="0">
            <a:noFill/>
          </a:ln>
        </p:spPr>
      </p:pic>
      <p:pic>
        <p:nvPicPr>
          <p:cNvPr id="852" name="WordArt 7" descr=""/>
          <p:cNvPicPr/>
          <p:nvPr/>
        </p:nvPicPr>
        <p:blipFill>
          <a:blip r:embed="rId4"/>
          <a:stretch/>
        </p:blipFill>
        <p:spPr>
          <a:xfrm>
            <a:off x="2773440" y="3687840"/>
            <a:ext cx="3371760" cy="1103400"/>
          </a:xfrm>
          <a:prstGeom prst="rect">
            <a:avLst/>
          </a:prstGeom>
          <a:ln w="0">
            <a:noFill/>
          </a:ln>
        </p:spPr>
      </p:pic>
      <p:sp>
        <p:nvSpPr>
          <p:cNvPr id="853" name="Text Box 8"/>
          <p:cNvSpPr/>
          <p:nvPr/>
        </p:nvSpPr>
        <p:spPr>
          <a:xfrm>
            <a:off x="2050920" y="5734080"/>
            <a:ext cx="403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9"/>
          <p:cNvSpPr/>
          <p:nvPr/>
        </p:nvSpPr>
        <p:spPr>
          <a:xfrm>
            <a:off x="1979640" y="6237360"/>
            <a:ext cx="504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0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3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75"/>
                            </p:stCondLst>
                            <p:childTnLst>
                              <p:par>
                                <p:cTn id="620" nodeType="afterEffect" fill="hold" presetClass="entr" presetID="3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623" nodeType="afterEffect" fill="hold" presetClass="entr" presetID="3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225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62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/>
          </p:nvPr>
        </p:nvSpPr>
        <p:spPr>
          <a:xfrm>
            <a:off x="457200" y="1928880"/>
            <a:ext cx="822960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一篇介绍动物奇异现象的文章，试着运用本文的写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采用 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之谜”的方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WordArt 3"/>
          <p:cNvSpPr txBox="1"/>
          <p:nvPr/>
        </p:nvSpPr>
        <p:spPr>
          <a:xfrm>
            <a:off x="762120" y="457200"/>
            <a:ext cx="38862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拓展延伸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857" name="Picture 4" descr="小破孩儿"/>
          <p:cNvPicPr/>
          <p:nvPr/>
        </p:nvPicPr>
        <p:blipFill>
          <a:blip r:embed="rId1"/>
          <a:stretch/>
        </p:blipFill>
        <p:spPr>
          <a:xfrm>
            <a:off x="7315200" y="50227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858" name="Text Box 5"/>
          <p:cNvSpPr/>
          <p:nvPr/>
        </p:nvSpPr>
        <p:spPr>
          <a:xfrm>
            <a:off x="1100160" y="612612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4" descr="01"/>
          <p:cNvPicPr/>
          <p:nvPr/>
        </p:nvPicPr>
        <p:blipFill>
          <a:blip r:embed="rId1"/>
          <a:stretch/>
        </p:blipFill>
        <p:spPr>
          <a:xfrm>
            <a:off x="609480" y="955800"/>
            <a:ext cx="2125800" cy="49212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5"/>
          <p:cNvSpPr/>
          <p:nvPr/>
        </p:nvSpPr>
        <p:spPr>
          <a:xfrm>
            <a:off x="914400" y="1679400"/>
            <a:ext cx="33526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旅鼠的天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颇多，像猫头鹰、贼鸥、雪鹗、北极狐、北极熊等均以旅鼠为食。一对雪鹗和它们的子女一天就可吃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旅鼠。甚至于草食性的驯鹿，也会对旅鼠大开杀戒，用蹄将其踩死，然后吃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6"/>
          <p:cNvGraphicFramePr/>
          <p:nvPr/>
        </p:nvGraphicFramePr>
        <p:xfrm>
          <a:off x="4859280" y="1989000"/>
          <a:ext cx="350532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1989000"/>
                    <a:ext cx="35053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4" descr="2003111910718349"/>
          <p:cNvPicPr/>
          <p:nvPr/>
        </p:nvPicPr>
        <p:blipFill>
          <a:blip r:embed="rId1"/>
          <a:stretch/>
        </p:blipFill>
        <p:spPr>
          <a:xfrm>
            <a:off x="0" y="92160"/>
            <a:ext cx="9144000" cy="676584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5"/>
          <p:cNvSpPr/>
          <p:nvPr/>
        </p:nvSpPr>
        <p:spPr>
          <a:xfrm>
            <a:off x="468360" y="692280"/>
            <a:ext cx="799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地球的北极，面积约四千多万平方公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6"/>
          <p:cNvSpPr/>
          <p:nvPr/>
        </p:nvSpPr>
        <p:spPr>
          <a:xfrm>
            <a:off x="2124000" y="1413000"/>
            <a:ext cx="4392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人口却只有二百多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WordArt 7"/>
          <p:cNvSpPr txBox="1"/>
          <p:nvPr/>
        </p:nvSpPr>
        <p:spPr>
          <a:xfrm rot="5400000">
            <a:off x="6048360" y="3897360"/>
            <a:ext cx="385776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>
                      <a:alpha val="79000"/>
                    </a:srgbClr>
                  </a:outerShdw>
                </a:effectLst>
                <a:latin typeface="宋体"/>
              </a:rPr>
              <a:t>旅鼠的故乡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b2b2b2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64" name="Picture 8" descr="LRED"/>
          <p:cNvPicPr/>
          <p:nvPr/>
        </p:nvPicPr>
        <p:blipFill>
          <a:blip r:embed="rId2"/>
          <a:stretch/>
        </p:blipFill>
        <p:spPr>
          <a:xfrm>
            <a:off x="6300720" y="3500280"/>
            <a:ext cx="1095480" cy="27468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9" descr=""/>
          <p:cNvPicPr/>
          <p:nvPr/>
        </p:nvPicPr>
        <p:blipFill>
          <a:blip r:embed="rId3"/>
          <a:stretch/>
        </p:blipFill>
        <p:spPr>
          <a:xfrm>
            <a:off x="3348000" y="2565360"/>
            <a:ext cx="244800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511 -0.36162 C 0.36025 -0.3637 0.35556 -0.36579 0.3507 -0.36787 C 0.34914 -0.36856 0.34601 -0.36995 0.34601 -0.36995 C 0.30782 -0.36787 0.27136 -0.37157 0.23334 -0.37411 C 0.21285 -0.38382 0.19948 -0.37943 0.17275 -0.38058 C 0.15382 -0.38891 0.1158 -0.38567 0.09844 -0.38683 C 0.07674 -0.38821 0.05504 -0.39122 0.03334 -0.3933 C 0.00435 -0.40255 0.0316 -0.39469 -0.04132 -0.3933 C -0.0948 -0.39237 -0.14827 -0.39191 -0.20157 -0.39122 C -0.21771 -0.3896 -0.23178 -0.38567 -0.24775 -0.38266 C -0.25539 -0.37573 -0.27153 -0.37203 -0.28108 -0.36995 C -0.2875 -0.3644 -0.29341 -0.36093 -0.3 -0.35515 C -0.30608 -0.34983 -0.30903 -0.33896 -0.31441 -0.33203 C -0.3165 -0.3207 -0.32084 -0.30636 -0.32709 -0.29804 C -0.32987 -0.28694 -0.33178 -0.26821 -0.3382 -0.26012 C -0.3408 -0.24995 -0.34167 -0.23816 -0.34775 -0.23053 C -0.35139 -0.21041 -0.34601 -0.23122 -0.354 -0.21781 C -0.35504 -0.21596 -0.35469 -0.21318 -0.35556 -0.21133 C -0.35643 -0.20972 -0.35782 -0.20856 -0.35886 -0.20717 C -0.35938 -0.20509 -0.35973 -0.20301 -0.36042 -0.20093 C -0.36129 -0.19862 -0.36285 -0.19677 -0.36355 -0.19446 C -0.3665 -0.18498 -0.36702 -0.17573 -0.37153 -0.16694 C -0.37431 -0.15561 -0.37605 -0.14498 -0.38108 -0.13527 C -0.38316 -0.11792 -0.38768 -0.10105 -0.39219 -0.08463 C -0.39827 -0.02752 -0.39948 0.08046 -0.38421 0.14381 C -0.38195 0.16531 -0.37917 0.19144 -0.36667 0.20716 C -0.36303 0.23237 -0.34619 0.26011 -0.33178 0.27699 C -0.31823 0.29271 -0.30643 0.31075 -0.29219 0.32554 C -0.28369 0.33456 -0.28282 0.33387 -0.2731 0.33826 C -0.27292 0.33826 -0.26372 0.34219 -0.26355 0.34242 C -0.25886 0.34658 -0.25625 0.35075 -0.25087 0.35306 C -0.24983 0.35514 -0.24931 0.35791 -0.24775 0.3593 C -0.24497 0.36161 -0.2382 0.36346 -0.2382 0.36346 C -0.23716 0.36485 -0.23629 0.36693 -0.2349 0.36786 C -0.23195 0.36994 -0.22553 0.37202 -0.22553 0.37202 C -0.2198 0.37919 -0.22362 0.37549 -0.21268 0.38057 C -0.21094 0.3815 -0.20973 0.38381 -0.20799 0.38473 C -0.20209 0.3882 -0.19375 0.39121 -0.18733 0.39306 C -0.1816 0.39468 -0.17553 0.39491 -0.16997 0.39745 C -0.15747 0.403 -0.1448 0.40739 -0.13178 0.41017 C -0.11546 0.41734 -0.09323 0.41549 -0.07778 0.41641 C -0.02744 0.41572 0.08316 0.43375 0.15053 0.40369 C 0.16129 0.39028 0.14532 0.40994 0.15851 0.39537 C 0.16789 0.38497 0.17344 0.37109 0.18542 0.36578 C 0.18768 0.35768 0.19237 0.35421 0.19514 0.34658 C 0.19862 0.33734 0.20244 0.32462 0.20782 0.31699 C 0.21129 0.30381 0.21737 0.29225 0.22066 0.27907 C 0.22396 0.26612 0.2257 0.24647 0.23334 0.23676 C 0.23542 0.22566 0.23785 0.20485 0.24445 0.19653 C 0.24775 0.18289 0.25105 0.17063 0.25712 0.15861 C 0.26303 0.13387 0.27066 0.11052 0.27448 0.08462 C 0.27396 0.06196 0.27379 0.03953 0.27292 0.01687 C 0.27292 0.01687 0.27084 -0.00209 0.2698 -0.00417 C 0.26754 -0.00879 0.25799 -0.01157 0.25556 -0.01272 C 0.25244 -0.01411 0.24601 -0.01688 0.24601 -0.01688 C 0.20869 -0.01596 0.1731 -0.01758 0.13629 -0.01064 C 0.129 -0.00417 0.11511 -0.00024 0.10626 1.50289E-006 C 0.07084 0.00069 0.03525 1.50289E-006 5E-006 1.50289E-006 E">
                                      <p:cBhvr>
                                        <p:cTn id="87" dur="50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bj3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bj25"/>
          <p:cNvPicPr/>
          <p:nvPr/>
        </p:nvPicPr>
        <p:blipFill>
          <a:blip r:embed="rId2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12_18510_1"/>
          <p:cNvPicPr/>
          <p:nvPr/>
        </p:nvPicPr>
        <p:blipFill>
          <a:blip r:embed="rId3"/>
          <a:stretch/>
        </p:blipFill>
        <p:spPr>
          <a:xfrm>
            <a:off x="2411280" y="1557360"/>
            <a:ext cx="6408720" cy="4949640"/>
          </a:xfrm>
          <a:prstGeom prst="rect">
            <a:avLst/>
          </a:prstGeom>
          <a:ln w="0">
            <a:noFill/>
          </a:ln>
        </p:spPr>
      </p:pic>
      <p:sp>
        <p:nvSpPr>
          <p:cNvPr id="571" name="WordArt 7"/>
          <p:cNvSpPr txBox="1"/>
          <p:nvPr/>
        </p:nvSpPr>
        <p:spPr>
          <a:xfrm>
            <a:off x="6877080" y="83664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北极草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572" name="Picture 8" descr="12_18510_3"/>
          <p:cNvPicPr/>
          <p:nvPr/>
        </p:nvPicPr>
        <p:blipFill>
          <a:blip r:embed="rId4"/>
          <a:stretch/>
        </p:blipFill>
        <p:spPr>
          <a:xfrm>
            <a:off x="0" y="260280"/>
            <a:ext cx="3924360" cy="244800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9" descr="gif056"/>
          <p:cNvPicPr/>
          <p:nvPr/>
        </p:nvPicPr>
        <p:blipFill>
          <a:blip r:embed="rId5"/>
          <a:stretch/>
        </p:blipFill>
        <p:spPr>
          <a:xfrm>
            <a:off x="1835280" y="6165720"/>
            <a:ext cx="720720" cy="52416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10"/>
          <p:cNvSpPr/>
          <p:nvPr/>
        </p:nvSpPr>
        <p:spPr>
          <a:xfrm>
            <a:off x="1692360" y="6237360"/>
            <a:ext cx="504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99cc00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1"/>
          <p:cNvSpPr/>
          <p:nvPr/>
        </p:nvSpPr>
        <p:spPr>
          <a:xfrm>
            <a:off x="1908000" y="6237360"/>
            <a:ext cx="505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6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3" descr="photo-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4"/>
          <p:cNvSpPr/>
          <p:nvPr/>
        </p:nvSpPr>
        <p:spPr>
          <a:xfrm>
            <a:off x="7317720" y="333360"/>
            <a:ext cx="182628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终年冰雪覆盖，最低气温零下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70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多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5" descr="gif056"/>
          <p:cNvPicPr/>
          <p:nvPr/>
        </p:nvPicPr>
        <p:blipFill>
          <a:blip r:embed="rId2"/>
          <a:stretch/>
        </p:blipFill>
        <p:spPr>
          <a:xfrm>
            <a:off x="2556000" y="6165720"/>
            <a:ext cx="476280" cy="3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3" descr="photo-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4" descr="GH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5" descr="054"/>
          <p:cNvPicPr/>
          <p:nvPr/>
        </p:nvPicPr>
        <p:blipFill>
          <a:blip r:embed="rId3"/>
          <a:stretch/>
        </p:blipFill>
        <p:spPr>
          <a:xfrm>
            <a:off x="0" y="-3960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584" name="WordArt 6"/>
          <p:cNvSpPr txBox="1"/>
          <p:nvPr/>
        </p:nvSpPr>
        <p:spPr>
          <a:xfrm>
            <a:off x="3171960" y="5661000"/>
            <a:ext cx="2800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北冰洋的上冰山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0T06:23:3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cp:lastPrinted>1900-01-03T05:48:54Z</cp:lastPrinted>
  <dcterms:modified xsi:type="dcterms:W3CDTF">2015-07-20T06:36:02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