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D39-9EE0-4343-985B-8D35EE89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893-ADE6-448F-88EB-A3B95B30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8E6-D608-4C96-8E8C-6A2A306B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D35-48E0-4229-8C3B-FA53EAA1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03E-ACC3-4398-A965-0288FFD0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6F2-4260-4E15-BEE4-00E53AAC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6C6-59E9-49AC-AD4E-B9963B41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40D-8112-49E1-A765-A88E7477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B02-593B-41C9-BEC4-CC7EC9BA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6F0-921D-4FA7-9F0C-1E466EDF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A22-5FBD-4764-B775-4C5F20C5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E58B-64CD-48F8-85CD-5A7500DA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F8C8-212C-4461-BC10-BE516C9B823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47A5-BA2E-4E0D-99B1-2A5C15E4E6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hyperlink" Target="http://www.eeppt.com/sucai/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491004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六一儿童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541008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2" descr="2.png"/>
          <p:cNvPicPr/>
          <p:nvPr/>
        </p:nvPicPr>
        <p:blipFill>
          <a:blip r:embed="rId2"/>
          <a:stretch/>
        </p:blipFill>
        <p:spPr>
          <a:xfrm>
            <a:off x="3137040" y="3978360"/>
            <a:ext cx="3363840" cy="1236600"/>
          </a:xfrm>
          <a:prstGeom prst="rect">
            <a:avLst/>
          </a:prstGeom>
          <a:ln w="0">
            <a:noFill/>
          </a:ln>
        </p:spPr>
      </p:pic>
      <p:sp>
        <p:nvSpPr>
          <p:cNvPr id="45" name="矩形 12"/>
          <p:cNvSpPr/>
          <p:nvPr/>
        </p:nvSpPr>
        <p:spPr>
          <a:xfrm>
            <a:off x="314280" y="6122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上凸带形 16"/>
          <p:cNvSpPr/>
          <p:nvPr/>
        </p:nvSpPr>
        <p:spPr>
          <a:xfrm>
            <a:off x="546120" y="2643120"/>
            <a:ext cx="2333520" cy="912960"/>
          </a:xfrm>
          <a:custGeom>
            <a:avLst/>
            <a:gdLst>
              <a:gd name="textAreaLeft" fmla="*/ 583200 w 2333520"/>
              <a:gd name="textAreaRight" fmla="*/ 1750320 w 23335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145836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奖项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上凸带形 11"/>
          <p:cNvSpPr/>
          <p:nvPr/>
        </p:nvSpPr>
        <p:spPr>
          <a:xfrm>
            <a:off x="3379680" y="2643120"/>
            <a:ext cx="2335320" cy="912960"/>
          </a:xfrm>
          <a:custGeom>
            <a:avLst/>
            <a:gdLst>
              <a:gd name="textAreaLeft" fmla="*/ 583560 w 2335320"/>
              <a:gd name="textAreaRight" fmla="*/ 1751760 w 23353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上凸带形 12"/>
          <p:cNvSpPr/>
          <p:nvPr/>
        </p:nvSpPr>
        <p:spPr>
          <a:xfrm>
            <a:off x="6165720" y="2643120"/>
            <a:ext cx="2335320" cy="912960"/>
          </a:xfrm>
          <a:custGeom>
            <a:avLst/>
            <a:gdLst>
              <a:gd name="textAreaLeft" fmla="*/ 583560 w 2335320"/>
              <a:gd name="textAreaRight" fmla="*/ 1751760 w 23353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3808440" y="29383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体奖：颁发奖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6418440" y="2895480"/>
            <a:ext cx="20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育单项设一、二等奖各一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969840" y="2786040"/>
            <a:ext cx="15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每赢一次就获得糖果或其他一些实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0" descr="4.png"/>
          <p:cNvPicPr/>
          <p:nvPr/>
        </p:nvPicPr>
        <p:blipFill>
          <a:blip r:embed="rId2"/>
          <a:stretch/>
        </p:blipFill>
        <p:spPr>
          <a:xfrm>
            <a:off x="358920" y="168120"/>
            <a:ext cx="8356320" cy="5975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1143000" y="2620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643040" y="2500200"/>
            <a:ext cx="5929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年一度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儿童节到了，为了增添节日氛围，让学生过得开心有意义，丰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年儿童的学习生活，使之从中得到锻炼，让学生度过一个快乐、精彩、向上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节。希望通过活动，使学生人人自主地参与活动之中，在活动中陶冶情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中获取知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活动中培养能力。经校领导小组研究决定，我校将举行丰富多彩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，为使活动开展得安全有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将活动内容拟订如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5857920" y="464328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特发此状，以资鼓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队员入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0" descr="20110603100700243.jpg"/>
          <p:cNvPicPr/>
          <p:nvPr/>
        </p:nvPicPr>
        <p:blipFill>
          <a:blip r:embed="rId2"/>
          <a:stretch/>
        </p:blipFill>
        <p:spPr>
          <a:xfrm>
            <a:off x="2000160" y="1643040"/>
            <a:ext cx="5651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圆角矩形 16"/>
          <p:cNvSpPr/>
          <p:nvPr/>
        </p:nvSpPr>
        <p:spPr>
          <a:xfrm>
            <a:off x="3286080" y="4156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7"/>
          <p:cNvSpPr/>
          <p:nvPr/>
        </p:nvSpPr>
        <p:spPr>
          <a:xfrm>
            <a:off x="3286080" y="4727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14"/>
          <p:cNvSpPr/>
          <p:nvPr/>
        </p:nvSpPr>
        <p:spPr>
          <a:xfrm>
            <a:off x="3286080" y="3013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15"/>
          <p:cNvSpPr/>
          <p:nvPr/>
        </p:nvSpPr>
        <p:spPr>
          <a:xfrm>
            <a:off x="3286080" y="3584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12"/>
          <p:cNvSpPr/>
          <p:nvPr/>
        </p:nvSpPr>
        <p:spPr>
          <a:xfrm>
            <a:off x="3286080" y="1870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13"/>
          <p:cNvSpPr/>
          <p:nvPr/>
        </p:nvSpPr>
        <p:spPr>
          <a:xfrm>
            <a:off x="3286080" y="2441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育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857760" y="1928880"/>
            <a:ext cx="20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拔河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赛跑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跳绳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呼啦圈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4" name="组合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8"/>
          <p:cNvSpPr/>
          <p:nvPr/>
        </p:nvSpPr>
        <p:spPr>
          <a:xfrm>
            <a:off x="4154400" y="2790720"/>
            <a:ext cx="1417680" cy="14176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3429000" y="2279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钓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5357880" y="22082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蒙眼打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1"/>
          <p:cNvSpPr/>
          <p:nvPr/>
        </p:nvSpPr>
        <p:spPr>
          <a:xfrm>
            <a:off x="4572000" y="333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套圈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5500800" y="44942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点投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3071880" y="46371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拍乒乓球步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12"/>
          <p:cNvSpPr/>
          <p:nvPr/>
        </p:nvSpPr>
        <p:spPr>
          <a:xfrm>
            <a:off x="1214280" y="1778040"/>
            <a:ext cx="6858000" cy="371484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1603800" y="285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活动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643040" y="1992240"/>
            <a:ext cx="7143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新队员入队仪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跳绳比赛：分低、中、高年级组 ，每班男女生各选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赛跑比赛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项跑：分男女生两组，且分低、中、高年级组同组比赛。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力赛：分男女生两组，且分低、中、高年级组同组比赛。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比赛：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拔河比赛：分低、中、高年级组，人数根据实际情况来定，男女生分组进行比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呼啦圈比赛：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赛：五、六年级，只限男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6" descr="jbh0912091926be20da6b3e303464.jpg"/>
          <p:cNvPicPr/>
          <p:nvPr/>
        </p:nvPicPr>
        <p:blipFill>
          <a:blip r:embed="rId2"/>
          <a:stretch/>
        </p:blipFill>
        <p:spPr>
          <a:xfrm>
            <a:off x="2608200" y="4943520"/>
            <a:ext cx="1031760" cy="6033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2" descr="1.jpg"/>
          <p:cNvPicPr/>
          <p:nvPr/>
        </p:nvPicPr>
        <p:blipFill>
          <a:blip r:embed="rId3"/>
          <a:stretch/>
        </p:blipFill>
        <p:spPr>
          <a:xfrm>
            <a:off x="2898720" y="3992400"/>
            <a:ext cx="67320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3" descr="2-1402240TG1504.jpg"/>
          <p:cNvPicPr/>
          <p:nvPr/>
        </p:nvPicPr>
        <p:blipFill>
          <a:blip r:embed="rId4"/>
          <a:stretch/>
        </p:blipFill>
        <p:spPr>
          <a:xfrm>
            <a:off x="2571840" y="2585880"/>
            <a:ext cx="788760" cy="7891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5" descr="13820967193.jpg"/>
          <p:cNvPicPr/>
          <p:nvPr/>
        </p:nvPicPr>
        <p:blipFill>
          <a:blip r:embed="rId5"/>
          <a:stretch/>
        </p:blipFill>
        <p:spPr>
          <a:xfrm>
            <a:off x="2722680" y="1800360"/>
            <a:ext cx="788760" cy="788760"/>
          </a:xfrm>
          <a:prstGeom prst="rect">
            <a:avLst/>
          </a:prstGeom>
          <a:ln w="0">
            <a:noFill/>
          </a:ln>
        </p:spPr>
      </p:pic>
      <p:sp>
        <p:nvSpPr>
          <p:cNvPr id="97" name="TextBox 10"/>
          <p:cNvSpPr/>
          <p:nvPr/>
        </p:nvSpPr>
        <p:spPr>
          <a:xfrm>
            <a:off x="1143000" y="1371600"/>
            <a:ext cx="1928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跳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拔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赛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力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篮球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负责登记、拍照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总负责人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1" descr="[s]1007122212d0872d62e2800ff0.jpg"/>
          <p:cNvPicPr/>
          <p:nvPr/>
        </p:nvPicPr>
        <p:blipFill>
          <a:blip r:embed="rId6"/>
          <a:stretch/>
        </p:blipFill>
        <p:spPr>
          <a:xfrm>
            <a:off x="2714760" y="1093680"/>
            <a:ext cx="601560" cy="8496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4" descr="12I2422a3Z34K7.gif"/>
          <p:cNvPicPr/>
          <p:nvPr/>
        </p:nvPicPr>
        <p:blipFill>
          <a:blip r:embed="rId7"/>
          <a:stretch/>
        </p:blipFill>
        <p:spPr>
          <a:xfrm>
            <a:off x="2928960" y="3443400"/>
            <a:ext cx="747720" cy="523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145836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裁判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五边形 17"/>
          <p:cNvSpPr/>
          <p:nvPr/>
        </p:nvSpPr>
        <p:spPr>
          <a:xfrm>
            <a:off x="3571920" y="130032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五边形 18"/>
          <p:cNvSpPr/>
          <p:nvPr/>
        </p:nvSpPr>
        <p:spPr>
          <a:xfrm flipH="1">
            <a:off x="4071960" y="2014560"/>
            <a:ext cx="3857760" cy="35712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边形 19"/>
          <p:cNvSpPr/>
          <p:nvPr/>
        </p:nvSpPr>
        <p:spPr>
          <a:xfrm>
            <a:off x="3429000" y="280044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20"/>
          <p:cNvSpPr/>
          <p:nvPr/>
        </p:nvSpPr>
        <p:spPr>
          <a:xfrm flipH="1">
            <a:off x="4071960" y="3514680"/>
            <a:ext cx="3857760" cy="35712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边形 21"/>
          <p:cNvSpPr/>
          <p:nvPr/>
        </p:nvSpPr>
        <p:spPr>
          <a:xfrm>
            <a:off x="4286160" y="4371840"/>
            <a:ext cx="3857760" cy="35748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五边形 22"/>
          <p:cNvSpPr/>
          <p:nvPr/>
        </p:nvSpPr>
        <p:spPr>
          <a:xfrm flipH="1">
            <a:off x="3571920" y="5014800"/>
            <a:ext cx="3857760" cy="35748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五边形 23"/>
          <p:cNvSpPr/>
          <p:nvPr/>
        </p:nvSpPr>
        <p:spPr>
          <a:xfrm>
            <a:off x="2928960" y="565776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1603800" y="285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负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3643200" y="1714680"/>
            <a:ext cx="32860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钓鱼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蒙眼打球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套圈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手持乒乓球拍顶乒乓球步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左弧形箭头 11"/>
          <p:cNvSpPr/>
          <p:nvPr/>
        </p:nvSpPr>
        <p:spPr>
          <a:xfrm>
            <a:off x="3143160" y="185724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6" stAng="-5400000" swAng="-5400000"/>
                <a:lnTo>
                  <a:pt x="0" y="11612"/>
                </a:lnTo>
                <a:arcTo wR="21600" hR="8366" stAng="10800000" swAng="-3378569"/>
                <a:lnTo>
                  <a:pt x="16200" y="21334"/>
                </a:lnTo>
                <a:lnTo>
                  <a:pt x="21600" y="18354"/>
                </a:lnTo>
                <a:lnTo>
                  <a:pt x="16200" y="14842"/>
                </a:lnTo>
                <a:lnTo>
                  <a:pt x="16200" y="16465"/>
                </a:lnTo>
                <a:arcTo wR="21600" hR="8366" stAng="7421431" swAng="3115770"/>
                <a:lnTo>
                  <a:pt x="410" y="9989"/>
                </a:lnTo>
                <a:arcTo wR="21600" hR="8366" stAng="-10537202" swAng="5137202"/>
                <a:close/>
              </a:path>
              <a:path fill="darkenLess" w="21600" h="21600">
                <a:moveTo>
                  <a:pt x="21600" y="0"/>
                </a:moveTo>
                <a:arcTo wR="21600" hR="8366" stAng="-5400000" swAng="-5400000"/>
                <a:lnTo>
                  <a:pt x="0" y="8366"/>
                </a:lnTo>
                <a:arcTo wR="21600" hR="8366" stAng="10800000" swAng="-262798"/>
                <a:lnTo>
                  <a:pt x="410" y="9989"/>
                </a:lnTo>
                <a:arcTo wR="21600" hR="8366" stAng="-10537202" swAng="5137202"/>
                <a:close/>
              </a:path>
            </a:pathLst>
          </a:custGeom>
          <a:solidFill>
            <a:srgbClr val="ad081d"/>
          </a:solidFill>
          <a:ln w="25560">
            <a:solidFill>
              <a:srgbClr val="ad0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左弧形箭头 12"/>
          <p:cNvSpPr/>
          <p:nvPr/>
        </p:nvSpPr>
        <p:spPr>
          <a:xfrm flipH="1">
            <a:off x="5428440" y="264312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189"/>
                <a:lnTo>
                  <a:pt x="16200" y="21334"/>
                </a:lnTo>
                <a:lnTo>
                  <a:pt x="21600" y="18351"/>
                </a:lnTo>
                <a:lnTo>
                  <a:pt x="16200" y="14836"/>
                </a:lnTo>
                <a:lnTo>
                  <a:pt x="16200" y="16461"/>
                </a:lnTo>
                <a:arcTo wR="21600" hR="8364" stAng="7421811" swAng="3115221"/>
                <a:lnTo>
                  <a:pt x="411" y="9988"/>
                </a:lnTo>
                <a:arcTo wR="21600" hR="8364" stAng="-10537031" swAng="5137031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9"/>
                <a:lnTo>
                  <a:pt x="411" y="9988"/>
                </a:lnTo>
                <a:arcTo wR="21600" hR="8364" stAng="-10537031" swAng="5137031"/>
                <a:close/>
              </a:path>
            </a:pathLst>
          </a:custGeom>
          <a:solidFill>
            <a:srgbClr val="2284c7"/>
          </a:solidFill>
          <a:ln w="25560">
            <a:solidFill>
              <a:srgbClr val="228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左弧形箭头 13"/>
          <p:cNvSpPr/>
          <p:nvPr/>
        </p:nvSpPr>
        <p:spPr>
          <a:xfrm>
            <a:off x="3286080" y="335916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6" stAng="-5400000" swAng="-5400000"/>
                <a:lnTo>
                  <a:pt x="0" y="11612"/>
                </a:lnTo>
                <a:arcTo wR="21600" hR="8366" stAng="10800000" swAng="-3378569"/>
                <a:lnTo>
                  <a:pt x="16200" y="21334"/>
                </a:lnTo>
                <a:lnTo>
                  <a:pt x="21600" y="18354"/>
                </a:lnTo>
                <a:lnTo>
                  <a:pt x="16200" y="14842"/>
                </a:lnTo>
                <a:lnTo>
                  <a:pt x="16200" y="16465"/>
                </a:lnTo>
                <a:arcTo wR="21600" hR="8366" stAng="7421431" swAng="3115770"/>
                <a:lnTo>
                  <a:pt x="410" y="9989"/>
                </a:lnTo>
                <a:arcTo wR="21600" hR="8366" stAng="-10537202" swAng="5137202"/>
                <a:close/>
              </a:path>
              <a:path fill="darkenLess" w="21600" h="21600">
                <a:moveTo>
                  <a:pt x="21600" y="0"/>
                </a:moveTo>
                <a:arcTo wR="21600" hR="8366" stAng="-5400000" swAng="-5400000"/>
                <a:lnTo>
                  <a:pt x="0" y="8366"/>
                </a:lnTo>
                <a:arcTo wR="21600" hR="8366" stAng="10800000" swAng="-262798"/>
                <a:lnTo>
                  <a:pt x="410" y="9989"/>
                </a:lnTo>
                <a:arcTo wR="21600" hR="8366" stAng="-10537202" swAng="5137202"/>
                <a:close/>
              </a:path>
            </a:pathLst>
          </a:custGeom>
          <a:solidFill>
            <a:srgbClr val="ad081d"/>
          </a:solidFill>
          <a:ln w="25560">
            <a:solidFill>
              <a:srgbClr val="ad0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左弧形箭头 14"/>
          <p:cNvSpPr/>
          <p:nvPr/>
        </p:nvSpPr>
        <p:spPr>
          <a:xfrm flipH="1">
            <a:off x="5357880" y="4002120"/>
            <a:ext cx="428400" cy="712800"/>
          </a:xfrm>
          <a:custGeom>
            <a:avLst/>
            <a:gdLst>
              <a:gd name="textAreaLeft" fmla="*/ 57240 w 428400"/>
              <a:gd name="textAreaRight" fmla="*/ 371160 w 42840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189"/>
                <a:lnTo>
                  <a:pt x="16200" y="21334"/>
                </a:lnTo>
                <a:lnTo>
                  <a:pt x="21600" y="18351"/>
                </a:lnTo>
                <a:lnTo>
                  <a:pt x="16200" y="14836"/>
                </a:lnTo>
                <a:lnTo>
                  <a:pt x="16200" y="16461"/>
                </a:lnTo>
                <a:arcTo wR="21600" hR="8364" stAng="7421811" swAng="3115221"/>
                <a:lnTo>
                  <a:pt x="411" y="9988"/>
                </a:lnTo>
                <a:arcTo wR="21600" hR="8364" stAng="-10537031" swAng="5137031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9"/>
                <a:lnTo>
                  <a:pt x="411" y="9988"/>
                </a:lnTo>
                <a:arcTo wR="21600" hR="8364" stAng="-10537031" swAng="5137031"/>
                <a:close/>
              </a:path>
            </a:pathLst>
          </a:custGeom>
          <a:solidFill>
            <a:srgbClr val="2284c7"/>
          </a:solidFill>
          <a:ln w="25560">
            <a:solidFill>
              <a:srgbClr val="228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145836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1500120" y="2000160"/>
            <a:ext cx="554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下午课外活动课进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2714760" y="2000160"/>
            <a:ext cx="64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下午课外活动课进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4098960" y="2000160"/>
            <a:ext cx="830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新队员入队仪式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上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行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5456160" y="1928880"/>
            <a:ext cx="8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其它项目比赛顺序：呼啦圈、跳绳、单项跑、接力赛、拔河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上午进行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6858000" y="2000160"/>
            <a:ext cx="64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游园活动下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开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39:34Z</dcterms:modified>
  <cp:revision>32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