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%E9%B8%9F30.WAV" ContentType="audio/x-wav"/>
  <Override PartName="/ppt/media/image21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chimes.wav" ContentType="audio/x-wav"/>
  <Override PartName="/ppt/media/image24.jpeg" ContentType="image/jpeg"/>
  <Override PartName="/ppt/media/projctor.wav" ContentType="audio/x-wav"/>
  <Override PartName="/ppt/media/image14.png" ContentType="image/png"/>
  <Override PartName="/ppt/media/image23.png" ContentType="image/png"/>
  <Override PartName="/ppt/media/image11.png" ContentType="image/png"/>
  <Override PartName="/ppt/media/image19.jpeg" ContentType="image/jpeg"/>
  <Override PartName="/ppt/media/image37.jpeg" ContentType="image/jpeg"/>
  <Override PartName="/ppt/media/image12.jpeg" ContentType="image/jpeg"/>
  <Override PartName="/ppt/media/image34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whoosh.wav" ContentType="audio/x-wav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3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E60-FB14-43A4-A261-F1EB5546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5C6-CE1C-49D6-A31C-0F5D2ED3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FFD70-5C42-4A93-9C38-A2C3A2FF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20E29-1FAF-47E2-9642-BB40BC44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C9B8B-9793-4881-85F0-6D7E2C5F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BD0D4-98BC-48D4-ACA3-E73CD310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26464-1413-4E8E-9B15-952B6421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27B0D-2613-4800-BA4F-54F6A69B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D9003-4BAD-48A3-9E36-D5951E46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3450E-98F7-4BBE-B5D7-3ADC5658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FD9B0-E452-4515-B509-56F79A97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850ED-2602-43C2-A7DE-A1648D4C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2F3-21D0-410E-9DEB-3E6E0D64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3E226-CCDD-4D0D-AB5D-EBD42B57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16542-697B-4530-8E8F-22E3611E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C9BA2-045A-4357-A9D6-DB559E2B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53784-F782-44B2-89AE-FC774CAC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F8AF5-7C9C-407C-BF9F-1A17E700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A995C-B402-4F80-A4BA-098913CF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04F39-5C35-4BC4-93F0-4570B2C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79CC5-BD9F-49A5-B409-4DCC55E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3DB3A-C91A-445A-A2BC-58DDC21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2FFED-43DC-4A17-AAE7-3143EDB5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54A-9274-46D4-A10E-D27DF8BD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7EA00-36BD-4F62-8E5C-10B1515E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58C75-779E-482B-894C-B84B7E79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6D5C6-83A2-436C-8720-A7A36147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A1DAD-B19B-4F07-A3B0-E0E51787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A8B58-2133-48AA-B6C3-19FA742B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09994-7412-40B6-9BE9-98C3AAB8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D38E-265F-4053-ADE9-4DDA4A9B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0C1D3-49BD-45B9-A957-34FEA98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3C14F-01AD-4B02-9E55-1445C5B9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58BFB-F311-4493-822C-12A49808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BD56-F4B9-4F5B-9AC4-610AAB26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FA506-D595-4E07-A629-13D803B1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ACC16-6E56-4E2D-B8F7-22ECFB52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3C0E-D5EE-4D34-885B-7064169C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3EF26-2AB8-490C-8AB5-66CDE9D0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EE80D-3EA0-4B07-889C-060CBE7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90700-F285-48BB-9AAA-7CF67ECA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C22BA-E344-4FDC-A984-ADE9777D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F47D3-20E2-4623-9F97-E30E2BBC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88991-81C9-4A6C-9C4F-4E41C786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16FDA-2CC0-4086-AC01-6E5AE61A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CF67-7A2C-4F90-83E7-111C335B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CAF63-51DD-40C6-A2AA-8F3E3FF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08CBD-F130-4424-BA45-D3FACC78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D7EE2-E39E-4659-8DAC-3BD82102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E648C-0566-45E3-8E2C-7375FADA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EEDF4-35B4-4431-986C-9F3D884E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3D8B0-A8A0-4D74-B910-ACE295E9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5D9CF-0BF9-4158-9FEF-B0A79A23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EF997-A6F3-402A-B4AC-A8A18FAB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B12DA-4D76-4668-BDA6-914BDFDC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07BFC-39FE-4589-82AF-DDC7082A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36DA-BDD9-4653-A5CB-3BF67271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84E49-1879-4688-8017-D180F295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E8464-740E-4DFB-9B05-3CFD471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35FDA-A3C1-4FC1-8837-D3AC963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2C348-9B7E-47B3-BCEF-3DF4168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0A996-B9E9-4B27-A0B3-2DF25B1C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45A10-71A7-4F21-8589-226F281A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B8308-A281-48DA-8FC4-CD5DCBAE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35259-9609-4F00-B0DC-AFD110DE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A99E4-77E8-4787-A718-D5737F49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B4104-A8AB-4011-88FB-BFA604A6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3467-2D84-496B-A3D1-6EC69740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1EA53F-13F6-4551-987C-1FD44269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105DD-C0F3-4715-8BC8-E290ADB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416B7-D845-4AE7-A612-E1446A51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616017-2B51-43B9-A7E2-E02D1A95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25495-FC30-4FA1-9486-02BDC0C4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2ED2C-D2EC-4DE3-9DB6-EED6F19B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D97FD-2FAD-4799-959C-312F776B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CE3B3-45F4-447C-9DEC-EDA4C1BE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30330-386C-4C81-85D8-B570488A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94777-D091-4339-BF18-42EEFC91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5D47-8A27-4D9C-80C3-6FED826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C558F-CD4A-434E-A94F-769101D2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CB823-BBC0-4733-8E31-F056A9F9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B6703-0784-4E5A-BA14-DF1AE0FA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0F59E-C41D-4807-B35D-2C44E2A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D7363-CA67-407D-933A-C15FF934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3DD62-0885-4631-BD46-BA9EE13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02DA7-C6B3-4B88-8157-8301FC70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E87DD-D935-46C3-AE04-9D4B9DA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73687-3E2E-4D33-9084-010FA1F6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FA491-DC2F-4C3C-B448-0185D068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C730-489C-4D00-B38D-208FDE2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32087-8726-4DAD-A87D-C7870C3A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3ABC2-86CD-4A5C-9D47-5CDE71AE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97A56E-7F21-4DFA-B84A-BD7E8139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7B5E4-7041-412A-8969-4505F303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18760-F299-472E-82EC-E8704471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418E5-848A-4484-948E-F86D927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8061C-23FE-4C22-9C6C-7B3C9460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71C7E-1191-45AD-A71D-3A5CF24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B7240-CAFD-4E35-8BE1-EFCD551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5099B-6A16-4E36-8919-09BC4381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1EFD-9C2D-4693-A3A3-3BADD01C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07928-8D5D-4E25-BB32-5D612BD4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B3E8E-CE14-4A92-94FC-707F06F1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99959-AC19-4C1D-A77A-B20F63AD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4F07BE-746E-4C34-9369-8496B417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B7D25-025F-4B67-91E1-5FFA9954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47EE0-0CED-4D17-B99E-B14A54DD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12B5E-275D-4447-90BA-8A609FCC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2D49A-6493-4D80-92B8-5E603C8E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AD5BFC-FDCD-4C58-869F-C0861F2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1F0DE-26DF-4716-9185-99E5CF9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335-27F1-422F-9D5C-5C0E7274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42EA-CBAA-4DED-BAB8-2B65ED4D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18AA9-2464-4AF9-8ED7-BDF3A385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75A276-BBEF-443E-880A-EA175AF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5E197-C30A-48CD-ABC5-6D6B93B8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98F48-E702-4D0D-8BE3-B8DE0246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472AB-EE14-40C1-8A18-FCA74103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0CD7A-821D-433D-9326-F29D4027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F2B525-7404-4D31-894B-BD3D4173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1A445-624B-45F6-A491-2CE14FC8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2662F-9238-4927-9382-42AF07DB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76A86-EF4E-406D-97FD-3189482C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65A5-4A7E-4F5E-9ED7-47D92A2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4B53A-99AC-4283-BCCE-9D5DEF35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CCF86-C6B0-4773-AE86-3C96DC7C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F2E83-3381-49D6-93E4-26D3CCCC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63571-3704-4679-B323-BA6D7540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E02FB-229D-4AF1-8BC2-0F72DB1A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7FD59-3FF4-4B28-A741-154FD4FE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6F82BB-65EA-41EA-ADC5-C16979BC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45B4D-1C4C-48BD-BBF3-258B4893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F0EA5-138C-486D-ACA6-0984B2DA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73D99-7844-4CC4-8475-74B001A3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7CA3-1F3A-4A49-9229-D36BFA65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6A215-3C12-47F4-8262-8E20EEB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DDDCD-D639-4583-927C-31AAC279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AD9466-7473-4217-98B7-52B749C6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61B45-2AF1-473B-8B41-3D1DB6A4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83D5C-D877-487C-8E2B-69CBAB5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20288-B3EB-4121-A099-17E028B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01957-D076-46AB-98C0-AA2CCAEE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B5C08-8266-4FD4-B8D2-6ECD7FA9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E0293-9D5A-4357-97ED-7A35868D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DF98C-AE2C-40BA-AB07-98E3E382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5F10-7757-4DE3-87E8-CE4EF0E3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542F8-B652-44BC-A04D-DCD8AEDF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9A852-01B9-4EEF-9C72-D1C704EE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1CD4A-1A24-4CFD-A8E8-0A274966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A9045-EBD9-44E3-AB94-2FEF4445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59D871-AD73-4291-864A-574CB0D4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E5703-4447-443D-8747-00B8CD0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A822B-C06E-4C1D-A995-6351508D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9B5F5-26FA-4DE2-83BA-2441E40B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5601F9-7582-4A42-9EF2-58D562CF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2497A-A89D-4326-B2D6-2E3AE650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A4C2-4EF5-48C6-8F59-BF5C8642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CB3195-EFD9-45A8-8171-3AB9A501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EE941-0398-4B6C-9155-50EB6AF7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2ADD0-8452-4F87-B4EF-CB2AA871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F3AB45-F18B-4595-AEFD-CA037047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CEB8B0-0721-4208-81F8-B6523F4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45531-A791-40E1-AE1F-0CC4B8DB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2ADDB-5EBC-4886-A3F3-7FC593DA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C97440-E78F-41A1-A1D8-6D3686D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A032C-6DA7-41CB-93D0-BF163E62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46260-9A01-4C01-9635-B554C87F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17A0-6E32-4C1D-B9C5-D06166B2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B18FD9-33A5-4936-9F5D-140129E9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DA83F-507C-4B2B-A53E-6D365052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A456F-5F4E-4519-8ECB-21B83D4F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F3953-959D-4289-ABC0-78C930E3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07B57-C3F6-4F1E-B575-A47627B7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762A76-CECA-49C8-B213-829330E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B8639F-F62C-4F32-B96C-56EC75A9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97D6DA-87DB-4B7B-82E7-DE74135A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FD40C4-638A-4447-A4F4-25256F3C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CCB0E-4C09-4BE5-95DA-F36058B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B3726-0EA2-4BCD-AD90-A8AC21C1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77E0B-8AC3-438B-A7A9-E950098D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BA695-0DA8-47D9-960C-27591A9C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144B26-B3FA-4938-8A48-2D8B3280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2173AA-2ACF-44F7-B565-DA538CC1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C2392-0CC5-4CF7-B206-66717E0A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838749-FC94-47C4-9EE5-5E64AF7E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21258F-985E-4294-9200-A09638EC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4ABCF-C62F-4122-9040-E4A1D5AA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B7061-3170-445C-977F-90C86C04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CC89ED-DB9D-46C0-94B8-67DC5DB1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5F1B-5C1E-4137-940C-F56DF9E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B9F7C-76CB-4A4B-9E50-0F1E915A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926A82-541E-4AAC-A168-B096C6CE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4D44A1-72C7-437F-8B0B-20915A04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FDE74D-2EF3-47CB-847F-9A5A1225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14D9E4-E5ED-49B6-8166-051DDE4D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DEBFDA-6751-45A5-9D41-1680E84D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9C9D99-02EA-43F7-BA9A-68DA6D17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95461-4AEB-454E-8D68-9C277160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C18452-EDAC-43BE-9940-3D95378A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4F3769-3822-40E2-9A4E-ADAA6822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D6DA-07BC-42EB-B0A4-D83F9FF0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F65FC7-9F03-49C3-81A8-8953D38B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D09F61-386E-459D-B96F-4EE82D6A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5F2792-0053-477C-9ED9-9C763F9B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47B926-EE79-43F5-A448-339AD60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9F9B40-2C64-4062-A703-15447AF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7F8E2B-EA10-4C82-B060-660A217C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A5F086-B635-4CE9-86F2-A180FD1E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3E0B87-07F5-48F5-B55A-BB189478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0486A-2B8D-4AA2-8FA5-44A3C570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34A7EE-A888-477D-9E09-84D59E6A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94CB-554A-4F0A-8AA5-30E356F5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2EB959-6282-48ED-BFDE-CA7FEA5B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CF306A-E68A-4F7C-B451-EC97DB5E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55F124-8BCC-40B9-ABB3-B0D43FD9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980EFE-2236-43D0-81BB-E7A64ED2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97F1CB-D880-4D49-B494-34351D9C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40FC80-764C-45DB-B16F-710F6356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2CAB26-B844-4792-BEF9-CD76EB8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FCADE5-FF53-448C-863A-2980F44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9E55F3-DC01-4AEC-B362-8CBA22D2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488C40-E859-46A7-9E40-3A9E41A4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972-F2A0-49A5-BE2F-CC2E801D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4599-1711-4E69-84E9-9327DDFD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42E1C1-4E19-440F-ABD5-50FDBC74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337F8E-A1EA-4C20-8AB6-56AA836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C69EAB-6432-4FBA-93C6-16D271AC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829725-A854-434B-A89F-0620B9E4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736429-9252-404B-B067-3716EC65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2F18A9-B92E-4F5E-857D-125BC01B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588EB7-D85F-49C6-B6D6-7F96ED18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36349F-B775-4AB7-AA89-A505817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916BD6-E1F5-47C2-9C73-FF5D2945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489DE9-4C4F-4920-A942-E93977F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82FF7-042B-4EB2-A4B4-B7479F5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3A40CF-D3ED-461F-864B-412D9ED1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22CE47-2656-494C-BEB2-60AC0AE2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455812-F12F-47B9-8681-3A2BB6B4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206D-FF50-4543-A348-C7092132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83E2-7D14-448A-9029-B7F2A9E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D4F3-8724-4434-A898-530C8BF8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BA8A-F09F-4B93-A25C-8822F6AF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00E8-B2CD-4CA5-8342-7816F4C5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C8DE-4C45-4EA1-ADCF-D01041EC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79776-BEEE-49FF-8AFE-7A7F37E0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36EE-599A-47F7-A359-498794C6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800-5AE5-49D6-8589-58C36C71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24ED-E0D0-4F28-842F-CB1C10B7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C9BA-E9ED-4859-9CE3-F90CA047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54954-6C8F-44E4-AAF3-556A514C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ECEE6-7E1F-45AE-98C9-FB2CB46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1D8D3-EE5B-4E18-8C3F-4D4CBB2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579C-9B45-4731-BF61-2E86E5E0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0A5A-944F-4BA2-9899-F22DB126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A499-382F-4E91-BD7B-C30F8591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9A0C-819E-4273-9AC9-CF720F0B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F63C-6C28-4521-9EAF-6A119130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1C6-EEA5-4029-ADD0-7331D268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C2914-CF74-4FE3-9ADA-1608336F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F67C-28AB-4768-BB7D-65A9058A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29F7A-9ADE-409E-9496-B71FB2FF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C0BA9-BC6D-4C0D-A20A-AC83B8CC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583A9-AC59-458E-A91F-9DCBEAA8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9835-4F99-4C69-8BF2-B7870D2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D12D4-A362-459C-9674-259149B5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07D4-AE4D-4AE7-8C38-5A20AF27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CB70-883B-4BCD-832E-C04E694E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C988-6E06-46F8-813E-E9536E1F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DA1-9A90-48F4-BDB7-CD1B8770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73361-4C20-4C71-80BC-A7689A6C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B34A-499A-4E6C-ABE3-337F387D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050B6-EF62-4BFF-A6FC-0DFA3D30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3615A-5E95-41A5-B164-B5FA89D1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C530F-EDA4-4BA3-B653-C5B93D76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5C45-F184-4E6E-9E23-4B97FDB7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8AAEB-A79D-4E4D-8490-2096549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A60BE-17D0-4E43-B125-0116ADA8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3E70-F4FE-4A9E-8AED-86A080D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FB61F-8129-429C-88D6-493CB9E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2F3-53FE-4CB9-8A06-74064F2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2901D-E197-4562-B86D-5A67A7DE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34F1C-4E9B-4B8A-A1F0-F38C2217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D63C-4333-4D2E-9A59-2AA76524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3EBD-2A99-4FC7-A2C8-49DCBD18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36D5F-F494-4EC0-844B-643B542B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A3EB-7F18-4F0E-9CFF-244AB894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95C4C-1A45-4B76-A616-77D18BE5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63B95-65E1-4421-AFCD-0FB2287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CA266-EBF2-49D0-9A17-5972511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89B46-64A7-4369-832F-07E6F210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663-012A-47D1-9C80-EE9D978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E4174-C547-4516-8084-0628B19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00BD4-FB73-4E6E-AECA-F4B5ADB4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D820-A1F9-4C86-9A04-B8B9A133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A70A4-98A6-4664-8BF2-53AF22BD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C7332-6DF6-4C02-A3FD-CB1A2C50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4BB6-0E7D-4670-832D-0C9B2C52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59FA2-CD99-4E98-AEB5-CBF3E009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614C1-78E9-4129-AC06-C69EA6C7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94D93-6CC9-4AC0-9172-4144D909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B6708-1F77-43C7-B87C-DB906AA0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091-F22A-4C45-AA61-8EB8AC41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8D6DC-0CB7-4245-98F5-3297C1F7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535BF-31B8-43A9-A0AA-27B27195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E4C7C-C01B-43EB-B737-C1A051D3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04A54-DC96-413A-A073-D99A579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92A37-B23B-4BA3-817C-35439795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B6246-6DD9-4BBF-B090-28B4F51D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C34C9-BB87-4EE0-B2B7-7C5E1F76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5E8F8-F3CF-4A46-A6D2-24B83330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14F34-61A8-4582-808B-EB604C13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1C926-D675-4F4C-B8C6-AA25B8A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33A3-434B-4135-80E0-C83F775121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4E7-6547-4B80-98E3-C862A79139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D5A1-74E5-402D-8CDB-3F634C7E49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127-2C01-4C41-BC0C-4E0B88C24C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C39-AE68-4ECB-88FF-571420A65E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18AB-742D-4B63-A0A7-AC4978C236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41D3-8E65-402D-89DB-D94BC29151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3E8E-B0A2-4D5B-91ED-8493594252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3678-E58C-4534-B7A9-B3F9CEB38C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B570-58FD-4626-952B-38DF41B530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26F0-D744-457A-BCB9-1B15B9BBD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AB88-66CD-443E-B9B9-1FEAB3EF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DC52-B6E6-46E8-B63B-EB13D2CCBC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9B3F-7AF9-4282-A424-5D40C53F05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D6CA-CDF2-4CCA-BD2E-268A57B16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70E9-5B05-415A-8A71-BC048FBC65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EC03-2037-4AD4-82B1-2AFD4CBFED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CBD1-D939-40FE-888D-53BC0AC511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F0C4-3031-4341-AF79-1633CEB99B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1CE7-2B32-4A52-8D22-80CBBF2F65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257C-CD17-4628-A484-0A8961DB27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FE68-C193-49E3-9887-7C4E75999D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C88D-ABB6-4DEA-92B7-ECE259432C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62A9-F8B8-4036-A91E-F0F1BDD0FB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ED9F-3E4B-46C5-813F-D479C00640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7683-EFF1-4C3A-B4AE-796EC1BCBB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image" Target="../media/image21.png"/><Relationship Id="rId7" Type="http://schemas.openxmlformats.org/officeDocument/2006/relationships/image" Target="../media/image25.jpeg"/><Relationship Id="rId8" Type="http://schemas.openxmlformats.org/officeDocument/2006/relationships/image" Target="../media/image21.png"/><Relationship Id="rId9" Type="http://schemas.openxmlformats.org/officeDocument/2006/relationships/image" Target="../media/image26.jpeg"/><Relationship Id="rId10" Type="http://schemas.openxmlformats.org/officeDocument/2006/relationships/image" Target="../media/image21.png"/><Relationship Id="rId11" Type="http://schemas.openxmlformats.org/officeDocument/2006/relationships/image" Target="../media/image27.jpeg"/><Relationship Id="rId12" Type="http://schemas.openxmlformats.org/officeDocument/2006/relationships/image" Target="../media/image21.png"/><Relationship Id="rId13" Type="http://schemas.openxmlformats.org/officeDocument/2006/relationships/image" Target="../media/image28.jpeg"/><Relationship Id="rId14" Type="http://schemas.openxmlformats.org/officeDocument/2006/relationships/image" Target="../media/image21.png"/><Relationship Id="rId15" Type="http://schemas.openxmlformats.org/officeDocument/2006/relationships/image" Target="../media/image29.jpeg"/><Relationship Id="rId16" Type="http://schemas.openxmlformats.org/officeDocument/2006/relationships/image" Target="../media/image21.png"/><Relationship Id="rId17" Type="http://schemas.openxmlformats.org/officeDocument/2006/relationships/image" Target="../media/image30.jpeg"/><Relationship Id="rId18" Type="http://schemas.openxmlformats.org/officeDocument/2006/relationships/image" Target="../media/image21.png"/><Relationship Id="rId19" Type="http://schemas.openxmlformats.org/officeDocument/2006/relationships/image" Target="../media/image31.jpeg"/><Relationship Id="rId20" Type="http://schemas.openxmlformats.org/officeDocument/2006/relationships/image" Target="../media/image21.png"/><Relationship Id="rId21" Type="http://schemas.openxmlformats.org/officeDocument/2006/relationships/image" Target="../media/image32.jpeg"/><Relationship Id="rId22" Type="http://schemas.openxmlformats.org/officeDocument/2006/relationships/audio" Target="../media/&#40479;30.WAV"/><Relationship Id="rId2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audio" Target="../media/&#40479;30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背景9"/>
          <p:cNvPicPr/>
          <p:nvPr/>
        </p:nvPicPr>
        <p:blipFill>
          <a:blip r:embed="rId1"/>
          <a:stretch/>
        </p:blipFill>
        <p:spPr>
          <a:xfrm>
            <a:off x="-3240" y="1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7" name="矩形 1"/>
          <p:cNvSpPr/>
          <p:nvPr/>
        </p:nvSpPr>
        <p:spPr>
          <a:xfrm>
            <a:off x="2618280" y="1197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两只鸟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WordArt 2"/>
          <p:cNvSpPr txBox="1"/>
          <p:nvPr/>
        </p:nvSpPr>
        <p:spPr>
          <a:xfrm>
            <a:off x="684360" y="1557360"/>
            <a:ext cx="77752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仿佛听见了小河的流水声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1333440" y="31417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WordArt 4"/>
          <p:cNvSpPr txBox="1"/>
          <p:nvPr/>
        </p:nvSpPr>
        <p:spPr>
          <a:xfrm>
            <a:off x="3059280" y="4221000"/>
            <a:ext cx="216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好像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304920" y="61531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WordArt 2"/>
          <p:cNvSpPr txBox="1"/>
          <p:nvPr/>
        </p:nvSpPr>
        <p:spPr>
          <a:xfrm>
            <a:off x="1116000" y="1989000"/>
            <a:ext cx="7056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相信自己，    能行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06" name="WordArt 3"/>
          <p:cNvSpPr txBox="1"/>
          <p:nvPr/>
        </p:nvSpPr>
        <p:spPr>
          <a:xfrm>
            <a:off x="4114800" y="1989000"/>
            <a:ext cx="21128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一定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2"/>
          <p:cNvSpPr/>
          <p:nvPr/>
        </p:nvSpPr>
        <p:spPr>
          <a:xfrm>
            <a:off x="2239200" y="1674720"/>
            <a:ext cx="4569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从树杈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下两只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小的鸟蛋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凉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拿在手上真好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3" descr="两只鸟蛋3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0" name="Rectangle 4"/>
          <p:cNvSpPr/>
          <p:nvPr/>
        </p:nvSpPr>
        <p:spPr>
          <a:xfrm>
            <a:off x="4414680" y="2136600"/>
            <a:ext cx="44960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从树杈上取下两只鸟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小的鸟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凉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拿在手上真好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2"/>
          <p:cNvSpPr/>
          <p:nvPr/>
        </p:nvSpPr>
        <p:spPr>
          <a:xfrm>
            <a:off x="468360" y="18900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3637080" y="18900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凉凉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4"/>
          <p:cNvSpPr/>
          <p:nvPr/>
        </p:nvSpPr>
        <p:spPr>
          <a:xfrm>
            <a:off x="468360" y="234936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637080" y="234936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小小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395280" y="472428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3564000" y="472428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圆圆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 Box 2"/>
          <p:cNvSpPr/>
          <p:nvPr/>
        </p:nvSpPr>
        <p:spPr>
          <a:xfrm>
            <a:off x="250920" y="1557360"/>
            <a:ext cx="8642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小路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小路</a:t>
            </a:r>
            <a:r>
              <a:rPr b="1" sz="10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3995640" y="2060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3635280" y="155736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长长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5"/>
          <p:cNvSpPr/>
          <p:nvPr/>
        </p:nvSpPr>
        <p:spPr>
          <a:xfrm>
            <a:off x="1258920" y="3860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长长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2"/>
          <p:cNvSpPr/>
          <p:nvPr/>
        </p:nvSpPr>
        <p:spPr>
          <a:xfrm>
            <a:off x="250920" y="1341360"/>
            <a:ext cx="86421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杨树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杨树</a:t>
            </a:r>
            <a:r>
              <a:rPr b="1" sz="10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3564000" y="141300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高高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4"/>
          <p:cNvSpPr/>
          <p:nvPr/>
        </p:nvSpPr>
        <p:spPr>
          <a:xfrm>
            <a:off x="755640" y="3645000"/>
            <a:ext cx="39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高高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2"/>
          <p:cNvSpPr/>
          <p:nvPr/>
        </p:nvSpPr>
        <p:spPr>
          <a:xfrm>
            <a:off x="755640" y="1674720"/>
            <a:ext cx="838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妈妈看见了，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两只鸟蛋就是两只小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鸟妈妈这会儿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定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焦急不安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ren-2 拷贝"/>
          <p:cNvPicPr/>
          <p:nvPr/>
        </p:nvPicPr>
        <p:blipFill>
          <a:blip r:embed="rId2"/>
          <a:stretch/>
        </p:blipFill>
        <p:spPr>
          <a:xfrm>
            <a:off x="3581280" y="1219320"/>
            <a:ext cx="5830920" cy="7048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未标题-4 拷贝"/>
          <p:cNvPicPr/>
          <p:nvPr/>
        </p:nvPicPr>
        <p:blipFill>
          <a:blip r:embed="rId3"/>
          <a:stretch/>
        </p:blipFill>
        <p:spPr>
          <a:xfrm>
            <a:off x="1905120" y="1523880"/>
            <a:ext cx="4767120" cy="6129360"/>
          </a:xfrm>
          <a:prstGeom prst="rect">
            <a:avLst/>
          </a:prstGeom>
          <a:ln w="0">
            <a:noFill/>
          </a:ln>
        </p:spPr>
      </p:pic>
      <p:sp>
        <p:nvSpPr>
          <p:cNvPr id="1128" name="AutoShape 5"/>
          <p:cNvSpPr/>
          <p:nvPr/>
        </p:nvSpPr>
        <p:spPr>
          <a:xfrm>
            <a:off x="4343400" y="1447920"/>
            <a:ext cx="4191120" cy="1904760"/>
          </a:xfrm>
          <a:prstGeom prst="cloudCallout">
            <a:avLst>
              <a:gd name="adj1" fmla="val -52310"/>
              <a:gd name="adj2" fmla="val 64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5181480" y="2057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7"/>
          <p:cNvSpPr/>
          <p:nvPr/>
        </p:nvSpPr>
        <p:spPr>
          <a:xfrm>
            <a:off x="4724280" y="1828800"/>
            <a:ext cx="384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只鸟蛋就是两只小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妈妈这会儿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一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焦急不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8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6" descr="BJ_001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2"/>
          <p:cNvSpPr/>
          <p:nvPr/>
        </p:nvSpPr>
        <p:spPr>
          <a:xfrm>
            <a:off x="0" y="4762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妈妈看见了，说：两只鸟蛋就是两只小鸟，鸟妈妈这会儿一定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黑体"/>
              </a:rPr>
              <a:t>焦急不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焦急不安”你是怎样理解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092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8" descr="PM_001"/>
          <p:cNvPicPr/>
          <p:nvPr/>
        </p:nvPicPr>
        <p:blipFill>
          <a:blip r:embed="rId1"/>
          <a:stretch/>
        </p:blipFill>
        <p:spPr>
          <a:xfrm>
            <a:off x="-1473120" y="-312840"/>
            <a:ext cx="10893240" cy="7845480"/>
          </a:xfrm>
          <a:prstGeom prst="rect">
            <a:avLst/>
          </a:prstGeom>
          <a:ln w="0">
            <a:noFill/>
          </a:ln>
        </p:spPr>
      </p:pic>
      <p:sp>
        <p:nvSpPr>
          <p:cNvPr id="1070" name="Text Box 2"/>
          <p:cNvSpPr/>
          <p:nvPr/>
        </p:nvSpPr>
        <p:spPr>
          <a:xfrm>
            <a:off x="468360" y="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蛋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3"/>
          <p:cNvSpPr/>
          <p:nvPr/>
        </p:nvSpPr>
        <p:spPr>
          <a:xfrm>
            <a:off x="2965320" y="7632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4"/>
          <p:cNvSpPr/>
          <p:nvPr/>
        </p:nvSpPr>
        <p:spPr>
          <a:xfrm>
            <a:off x="4572000" y="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5"/>
          <p:cNvSpPr/>
          <p:nvPr/>
        </p:nvSpPr>
        <p:spPr>
          <a:xfrm>
            <a:off x="-896760" y="1628640"/>
            <a:ext cx="213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6"/>
          <p:cNvSpPr/>
          <p:nvPr/>
        </p:nvSpPr>
        <p:spPr>
          <a:xfrm>
            <a:off x="1403280" y="155736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ě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7"/>
          <p:cNvSpPr/>
          <p:nvPr/>
        </p:nvSpPr>
        <p:spPr>
          <a:xfrm>
            <a:off x="3924360" y="170028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611280" y="3068640"/>
            <a:ext cx="167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5"/>
          <p:cNvSpPr/>
          <p:nvPr/>
        </p:nvSpPr>
        <p:spPr>
          <a:xfrm>
            <a:off x="5003640" y="292428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13"/>
          <p:cNvSpPr/>
          <p:nvPr/>
        </p:nvSpPr>
        <p:spPr>
          <a:xfrm>
            <a:off x="2627280" y="299736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ă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684360" y="501336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ī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771640" y="4935600"/>
            <a:ext cx="167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4500720" y="493560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i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Times New Roman"/>
              </a:rPr>
              <a:t>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Picture 4" descr="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Picture 4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4" descr="t4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4" descr="t5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2" descr="FR_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3" descr="01-2"/>
          <p:cNvPicPr/>
          <p:nvPr/>
        </p:nvPicPr>
        <p:blipFill>
          <a:blip r:embed="rId2"/>
          <a:stretch/>
        </p:blipFill>
        <p:spPr>
          <a:xfrm>
            <a:off x="1187280" y="1916280"/>
            <a:ext cx="6624720" cy="4572000"/>
          </a:xfrm>
          <a:prstGeom prst="rect">
            <a:avLst/>
          </a:prstGeom>
          <a:ln w="0">
            <a:noFill/>
          </a:ln>
        </p:spPr>
      </p:pic>
      <p:sp>
        <p:nvSpPr>
          <p:cNvPr id="1140" name="Text Box 4"/>
          <p:cNvSpPr/>
          <p:nvPr/>
        </p:nvSpPr>
        <p:spPr>
          <a:xfrm>
            <a:off x="11052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鸟出生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5"/>
          <p:cNvGrpSpPr/>
          <p:nvPr/>
        </p:nvGrpSpPr>
        <p:grpSpPr>
          <a:xfrm>
            <a:off x="3894120" y="2511360"/>
            <a:ext cx="2562840" cy="1623600"/>
            <a:chOff x="3894120" y="2511360"/>
            <a:chExt cx="2562840" cy="1623600"/>
          </a:xfrm>
        </p:grpSpPr>
        <p:sp>
          <p:nvSpPr>
            <p:cNvPr id="1142" name="Oval 6"/>
            <p:cNvSpPr/>
            <p:nvPr/>
          </p:nvSpPr>
          <p:spPr>
            <a:xfrm rot="14280600">
              <a:off x="4012560" y="2903760"/>
              <a:ext cx="1199160" cy="944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7"/>
            <p:cNvSpPr/>
            <p:nvPr/>
          </p:nvSpPr>
          <p:spPr>
            <a:xfrm flipH="1">
              <a:off x="5077080" y="2853720"/>
              <a:ext cx="574560" cy="36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8"/>
            <p:cNvSpPr/>
            <p:nvPr/>
          </p:nvSpPr>
          <p:spPr>
            <a:xfrm>
              <a:off x="5849640" y="251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弟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9"/>
          <p:cNvGrpSpPr/>
          <p:nvPr/>
        </p:nvGrpSpPr>
        <p:grpSpPr>
          <a:xfrm>
            <a:off x="3330000" y="3325320"/>
            <a:ext cx="3096720" cy="1828440"/>
            <a:chOff x="3330000" y="3325320"/>
            <a:chExt cx="3096720" cy="1828440"/>
          </a:xfrm>
        </p:grpSpPr>
        <p:sp>
          <p:nvSpPr>
            <p:cNvPr id="1146" name="Oval 10"/>
            <p:cNvSpPr/>
            <p:nvPr/>
          </p:nvSpPr>
          <p:spPr>
            <a:xfrm rot="2070000">
              <a:off x="4816440" y="3600360"/>
              <a:ext cx="1368360" cy="1278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11"/>
            <p:cNvSpPr/>
            <p:nvPr/>
          </p:nvSpPr>
          <p:spPr>
            <a:xfrm flipV="1">
              <a:off x="3995640" y="4508280"/>
              <a:ext cx="863640" cy="2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12"/>
            <p:cNvSpPr/>
            <p:nvPr/>
          </p:nvSpPr>
          <p:spPr>
            <a:xfrm>
              <a:off x="3330000" y="438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哥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9" name="02.mid" descr=""/>
          <p:cNvPicPr/>
          <p:nvPr/>
        </p:nvPicPr>
        <p:blipFill>
          <a:blip r:embed="rId3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15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1" name="Picture 15" descr="FR_038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Picture 16" descr="02-2"/>
            <p:cNvPicPr/>
            <p:nvPr/>
          </p:nvPicPr>
          <p:blipFill>
            <a:blip r:embed="rId5"/>
            <a:stretch/>
          </p:blipFill>
          <p:spPr>
            <a:xfrm>
              <a:off x="1042920" y="1916280"/>
              <a:ext cx="720108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4" name="Picture 18" descr="FR_0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5" name="Picture 19" descr="04-2"/>
            <p:cNvPicPr/>
            <p:nvPr/>
          </p:nvPicPr>
          <p:blipFill>
            <a:blip r:embed="rId7"/>
            <a:stretch/>
          </p:blipFill>
          <p:spPr>
            <a:xfrm>
              <a:off x="1116000" y="1916280"/>
              <a:ext cx="70563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Text Box 20"/>
            <p:cNvSpPr/>
            <p:nvPr/>
          </p:nvSpPr>
          <p:spPr>
            <a:xfrm>
              <a:off x="931680" y="247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两天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58" name="Picture 22" descr="FR_038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Text Box 23"/>
            <p:cNvSpPr/>
            <p:nvPr/>
          </p:nvSpPr>
          <p:spPr>
            <a:xfrm>
              <a:off x="931680" y="247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九天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0" name="Picture 24" descr="07-2"/>
            <p:cNvPicPr/>
            <p:nvPr/>
          </p:nvPicPr>
          <p:blipFill>
            <a:blip r:embed="rId9"/>
            <a:stretch/>
          </p:blipFill>
          <p:spPr>
            <a:xfrm>
              <a:off x="1042920" y="1844640"/>
              <a:ext cx="720108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1" name="Group 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2" name="Picture 26" descr="FR_038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Text Box 27"/>
            <p:cNvSpPr/>
            <p:nvPr/>
          </p:nvSpPr>
          <p:spPr>
            <a:xfrm>
              <a:off x="1789560" y="18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鸟妈妈和鸟宝宝在一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4" name="Picture 28" descr="08-2"/>
            <p:cNvPicPr/>
            <p:nvPr/>
          </p:nvPicPr>
          <p:blipFill>
            <a:blip r:embed="rId11"/>
            <a:stretch/>
          </p:blipFill>
          <p:spPr>
            <a:xfrm>
              <a:off x="1116000" y="1844640"/>
              <a:ext cx="7056360" cy="460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5" name="Group 2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66" name="Picture 30" descr="FR_038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Text Box 31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8" name="Picture 32" descr="09-2"/>
            <p:cNvPicPr/>
            <p:nvPr/>
          </p:nvPicPr>
          <p:blipFill>
            <a:blip r:embed="rId13"/>
            <a:stretch/>
          </p:blipFill>
          <p:spPr>
            <a:xfrm>
              <a:off x="1042920" y="1916280"/>
              <a:ext cx="720108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9" name="Group 3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0" name="Picture 34" descr="FR_038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Text Box 35"/>
            <p:cNvSpPr/>
            <p:nvPr/>
          </p:nvSpPr>
          <p:spPr>
            <a:xfrm>
              <a:off x="1014120" y="260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半个月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2" name="Picture 36" descr="10-2"/>
            <p:cNvPicPr/>
            <p:nvPr/>
          </p:nvPicPr>
          <p:blipFill>
            <a:blip r:embed="rId15"/>
            <a:stretch/>
          </p:blipFill>
          <p:spPr>
            <a:xfrm>
              <a:off x="1116000" y="1916280"/>
              <a:ext cx="712800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3" name="Group 3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4" name="Picture 38" descr="FR_038"/>
            <p:cNvPicPr/>
            <p:nvPr/>
          </p:nvPicPr>
          <p:blipFill>
            <a:blip r:embed="rId1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5" name="Text Box 39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Picture 40" descr="11-2"/>
            <p:cNvPicPr/>
            <p:nvPr/>
          </p:nvPicPr>
          <p:blipFill>
            <a:blip r:embed="rId17"/>
            <a:stretch/>
          </p:blipFill>
          <p:spPr>
            <a:xfrm>
              <a:off x="1042920" y="1844640"/>
              <a:ext cx="720108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4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8" name="Picture 42" descr="FR_038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Text Box 43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0" name="Picture 44" descr="12-2"/>
            <p:cNvPicPr/>
            <p:nvPr/>
          </p:nvPicPr>
          <p:blipFill>
            <a:blip r:embed="rId19"/>
            <a:stretch/>
          </p:blipFill>
          <p:spPr>
            <a:xfrm>
              <a:off x="971640" y="1844640"/>
              <a:ext cx="727236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1" name="Group 45"/>
          <p:cNvGrpSpPr/>
          <p:nvPr/>
        </p:nvGrpSpPr>
        <p:grpSpPr>
          <a:xfrm>
            <a:off x="0" y="-6480"/>
            <a:ext cx="9144000" cy="6864120"/>
            <a:chOff x="0" y="-6480"/>
            <a:chExt cx="9144000" cy="6864120"/>
          </a:xfrm>
        </p:grpSpPr>
        <p:pic>
          <p:nvPicPr>
            <p:cNvPr id="1182" name="Picture 46" descr="FR_038"/>
            <p:cNvPicPr/>
            <p:nvPr/>
          </p:nvPicPr>
          <p:blipFill>
            <a:blip r:embed="rId20"/>
            <a:stretch/>
          </p:blipFill>
          <p:spPr>
            <a:xfrm>
              <a:off x="0" y="252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Text Box 47"/>
            <p:cNvSpPr/>
            <p:nvPr/>
          </p:nvSpPr>
          <p:spPr>
            <a:xfrm>
              <a:off x="2946960" y="-6480"/>
              <a:ext cx="2103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</a:rPr>
                <a:t>一个月啦</a:t>
              </a: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!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</a:rPr>
                <a:t>长成一只漂亮的小鸟了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Picture 48" descr="15-2"/>
            <p:cNvPicPr/>
            <p:nvPr/>
          </p:nvPicPr>
          <p:blipFill>
            <a:blip r:embed="rId21"/>
            <a:stretch/>
          </p:blipFill>
          <p:spPr>
            <a:xfrm>
              <a:off x="971640" y="1846800"/>
              <a:ext cx="7345440" cy="467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" fill="hold"/>
                                        <p:tgtEl>
                                          <p:spTgt spid="1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1" presetSubtype="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28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16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36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6" presetSubtype="16">
                                  <p:stCondLst>
                                    <p:cond delay="40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44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E9%B8%9F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2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3" descr="ren-2 拷贝"/>
          <p:cNvPicPr/>
          <p:nvPr/>
        </p:nvPicPr>
        <p:blipFill>
          <a:blip r:embed="rId2"/>
          <a:stretch/>
        </p:blipFill>
        <p:spPr>
          <a:xfrm>
            <a:off x="468360" y="1341360"/>
            <a:ext cx="4591080" cy="6210360"/>
          </a:xfrm>
          <a:prstGeom prst="rect">
            <a:avLst/>
          </a:prstGeom>
          <a:ln w="0">
            <a:noFill/>
          </a:ln>
        </p:spPr>
      </p:pic>
      <p:sp>
        <p:nvSpPr>
          <p:cNvPr id="1187" name="Oval 4"/>
          <p:cNvSpPr/>
          <p:nvPr/>
        </p:nvSpPr>
        <p:spPr>
          <a:xfrm flipV="1">
            <a:off x="2286000" y="464760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5"/>
          <p:cNvSpPr/>
          <p:nvPr/>
        </p:nvSpPr>
        <p:spPr>
          <a:xfrm>
            <a:off x="6400800" y="2514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4572000" y="213372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小心地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鸟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连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到树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Picture 2" descr="未标题-1 拷贝"/>
          <p:cNvPicPr/>
          <p:nvPr/>
        </p:nvPicPr>
        <p:blipFill>
          <a:blip r:embed="rId1"/>
          <a:stretch/>
        </p:blipFill>
        <p:spPr>
          <a:xfrm>
            <a:off x="0" y="-22536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1191" name="AutoShape 3"/>
          <p:cNvSpPr/>
          <p:nvPr/>
        </p:nvSpPr>
        <p:spPr>
          <a:xfrm>
            <a:off x="4572000" y="2819520"/>
            <a:ext cx="4038480" cy="8380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4"/>
          <p:cNvSpPr/>
          <p:nvPr/>
        </p:nvSpPr>
        <p:spPr>
          <a:xfrm>
            <a:off x="4648320" y="2971800"/>
            <a:ext cx="3962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轻轻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鸟蛋送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914400" y="160020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3" descr="未标题-1 拷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4" descr="未标题-5 拷贝"/>
          <p:cNvPicPr/>
          <p:nvPr/>
        </p:nvPicPr>
        <p:blipFill>
          <a:blip r:embed="rId2"/>
          <a:stretch/>
        </p:blipFill>
        <p:spPr>
          <a:xfrm>
            <a:off x="1143000" y="-1596960"/>
            <a:ext cx="4343400" cy="6673680"/>
          </a:xfrm>
          <a:prstGeom prst="rect">
            <a:avLst/>
          </a:prstGeom>
          <a:ln w="0">
            <a:noFill/>
          </a:ln>
        </p:spPr>
      </p:pic>
      <p:sp>
        <p:nvSpPr>
          <p:cNvPr id="1197" name="AutoShape 5"/>
          <p:cNvSpPr/>
          <p:nvPr/>
        </p:nvSpPr>
        <p:spPr>
          <a:xfrm>
            <a:off x="4500720" y="404640"/>
            <a:ext cx="4679640" cy="3024360"/>
          </a:xfrm>
          <a:prstGeom prst="cloudCallout">
            <a:avLst>
              <a:gd name="adj1" fmla="val -9013"/>
              <a:gd name="adj2" fmla="val 76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6"/>
          <p:cNvSpPr/>
          <p:nvPr/>
        </p:nvSpPr>
        <p:spPr>
          <a:xfrm>
            <a:off x="4645080" y="1224000"/>
            <a:ext cx="46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仿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见鸟儿的欢唱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头来，把目光投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远的蓝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9e4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 Box 4"/>
          <p:cNvSpPr/>
          <p:nvPr/>
        </p:nvSpPr>
        <p:spPr>
          <a:xfrm>
            <a:off x="-586800" y="1052640"/>
            <a:ext cx="200916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看谁最聪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1692360" y="0"/>
            <a:ext cx="70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小鸟会为小男孩唱什么歌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1908000" y="1989000"/>
            <a:ext cx="66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鸟妈妈会为小男孩唱什么歌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8"/>
          <p:cNvSpPr/>
          <p:nvPr/>
        </p:nvSpPr>
        <p:spPr>
          <a:xfrm>
            <a:off x="1692360" y="3860640"/>
            <a:ext cx="74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、你愿意像小男孩一样爱护可爱的小鸟吗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2"/>
          <p:cNvSpPr/>
          <p:nvPr/>
        </p:nvSpPr>
        <p:spPr>
          <a:xfrm>
            <a:off x="396720" y="1047240"/>
            <a:ext cx="8148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填空：   红红的    绿绿的     软软的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蓝蓝的    甜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草（　　　　　）　（          ）小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花儿（          ）   （　　　　　）花儿柳枝（　　　　　）（　　　）柳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西瓜（          ）          （          ）西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海（         ）        （           ）     大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2"/>
          <p:cNvSpPr/>
          <p:nvPr/>
        </p:nvSpPr>
        <p:spPr>
          <a:xfrm>
            <a:off x="539640" y="936720"/>
            <a:ext cx="860436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        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ŭ            liáng                    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鸟蛋      取下     凉凉的      一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lián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qīng               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f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捧着       连忙    轻轻地      仿 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ái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c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   y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抬头       听见     欢唱         高 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óu x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投  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2" descr="998933xiaoniao2_00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05" name="Text Box 3"/>
          <p:cNvSpPr/>
          <p:nvPr/>
        </p:nvSpPr>
        <p:spPr>
          <a:xfrm>
            <a:off x="306360" y="333360"/>
            <a:ext cx="853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小鸟是美丽的，有了小鸟，我们的生活才更加美好。你能说一说怎样爱护小鸟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2" descr="BAS00243"/>
          <p:cNvPicPr/>
          <p:nvPr/>
        </p:nvPicPr>
        <p:blipFill>
          <a:blip r:embed="rId1"/>
          <a:stretch/>
        </p:blipFill>
        <p:spPr>
          <a:xfrm>
            <a:off x="-249120" y="0"/>
            <a:ext cx="9645480" cy="7029360"/>
          </a:xfrm>
          <a:prstGeom prst="rect">
            <a:avLst/>
          </a:prstGeom>
          <a:ln w="0">
            <a:noFill/>
          </a:ln>
        </p:spPr>
      </p:pic>
      <p:sp>
        <p:nvSpPr>
          <p:cNvPr id="1207" name="Rectangle 3"/>
          <p:cNvSpPr/>
          <p:nvPr/>
        </p:nvSpPr>
        <p:spPr>
          <a:xfrm>
            <a:off x="2771640" y="2349360"/>
            <a:ext cx="53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（　　　），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只鸟蛋（　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鸟妈妈这会儿（　　　　　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4"/>
          <p:cNvSpPr/>
          <p:nvPr/>
        </p:nvSpPr>
        <p:spPr>
          <a:xfrm>
            <a:off x="2700360" y="981000"/>
            <a:ext cx="53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从树杈上（     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的（    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在手上（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5"/>
          <p:cNvSpPr/>
          <p:nvPr/>
        </p:nvSpPr>
        <p:spPr>
          <a:xfrm>
            <a:off x="2700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仿佛（　　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抬起头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目光（　　　　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6"/>
          <p:cNvSpPr/>
          <p:nvPr/>
        </p:nvSpPr>
        <p:spPr>
          <a:xfrm>
            <a:off x="2771640" y="36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（　　　　　）鸟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忙（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轻地（　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7"/>
          <p:cNvSpPr/>
          <p:nvPr/>
        </p:nvSpPr>
        <p:spPr>
          <a:xfrm>
            <a:off x="3557880" y="333360"/>
            <a:ext cx="15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只鸟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8" descr="小鸟"/>
          <p:cNvPicPr/>
          <p:nvPr/>
        </p:nvPicPr>
        <p:blipFill>
          <a:blip r:embed="rId2"/>
          <a:stretch/>
        </p:blipFill>
        <p:spPr>
          <a:xfrm>
            <a:off x="6948360" y="4724280"/>
            <a:ext cx="1244880" cy="1054080"/>
          </a:xfrm>
          <a:prstGeom prst="rect">
            <a:avLst/>
          </a:prstGeom>
          <a:ln w="0">
            <a:noFill/>
          </a:ln>
        </p:spPr>
      </p:pic>
      <p:sp>
        <p:nvSpPr>
          <p:cNvPr id="1213" name="WordArt 9"/>
          <p:cNvSpPr txBox="1"/>
          <p:nvPr/>
        </p:nvSpPr>
        <p:spPr>
          <a:xfrm rot="5400000">
            <a:off x="503280" y="1807560"/>
            <a:ext cx="215892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我会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1214" name="Text Box 10"/>
          <p:cNvSpPr/>
          <p:nvPr/>
        </p:nvSpPr>
        <p:spPr>
          <a:xfrm>
            <a:off x="1106640" y="65484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539640" y="936720"/>
            <a:ext cx="860436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        q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ŭ            liáng                    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鸟蛋      取下     凉凉的      一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lián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qīng               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f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捧着       连忙    轻轻地      仿 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ái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c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g              y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抬头       听见     欢唱         高 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tóu x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投  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826920" y="981000"/>
            <a:ext cx="77774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468360" y="2349360"/>
            <a:ext cx="806436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468360" y="3789360"/>
            <a:ext cx="828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"/>
          <p:cNvSpPr/>
          <p:nvPr/>
        </p:nvSpPr>
        <p:spPr>
          <a:xfrm>
            <a:off x="539640" y="5229360"/>
            <a:ext cx="194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月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WordArt 2"/>
          <p:cNvSpPr txBox="1"/>
          <p:nvPr/>
        </p:nvSpPr>
        <p:spPr>
          <a:xfrm>
            <a:off x="1042920" y="1125360"/>
            <a:ext cx="2371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取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2" name="WordArt 3"/>
          <p:cNvSpPr txBox="1"/>
          <p:nvPr/>
        </p:nvSpPr>
        <p:spPr>
          <a:xfrm>
            <a:off x="2416320" y="2395440"/>
            <a:ext cx="2371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捧着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3" name="WordArt 4"/>
          <p:cNvSpPr txBox="1"/>
          <p:nvPr/>
        </p:nvSpPr>
        <p:spPr>
          <a:xfrm>
            <a:off x="3568680" y="3619440"/>
            <a:ext cx="2371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抬头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4" name="WordArt 5"/>
          <p:cNvSpPr txBox="1"/>
          <p:nvPr/>
        </p:nvSpPr>
        <p:spPr>
          <a:xfrm>
            <a:off x="4932360" y="4915080"/>
            <a:ext cx="2371680" cy="74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投向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.53294 L -0.00365 0.86589 E">
                                      <p:cBhvr>
                                        <p:cTn id="70" dur="2000" fill="hold"/>
                                        <p:tgtEl>
                                          <p:spTgt spid="10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42913 L -0.00416 0.76208 E">
                                      <p:cBhvr>
                                        <p:cTn id="74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25087 L -0.00417 0.58382 E">
                                      <p:cBhvr>
                                        <p:cTn id="78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82" dur="2000" fill="hold"/>
                                        <p:tgtEl>
                                          <p:spTgt spid="10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WordArt 2"/>
          <p:cNvSpPr txBox="1"/>
          <p:nvPr/>
        </p:nvSpPr>
        <p:spPr>
          <a:xfrm>
            <a:off x="3475080" y="1413000"/>
            <a:ext cx="1673280" cy="17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6" name="WordArt 3"/>
          <p:cNvSpPr txBox="1"/>
          <p:nvPr/>
        </p:nvSpPr>
        <p:spPr>
          <a:xfrm>
            <a:off x="2698920" y="3419640"/>
            <a:ext cx="3528720" cy="20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冰、冷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WordArt 2" descr=""/>
          <p:cNvPicPr/>
          <p:nvPr/>
        </p:nvPicPr>
        <p:blipFill>
          <a:blip r:embed="rId1"/>
          <a:stretch/>
        </p:blipFill>
        <p:spPr>
          <a:xfrm>
            <a:off x="2987640" y="1835280"/>
            <a:ext cx="2962440" cy="1803240"/>
          </a:xfrm>
          <a:prstGeom prst="rect">
            <a:avLst/>
          </a:prstGeom>
          <a:ln w="0">
            <a:noFill/>
          </a:ln>
        </p:spPr>
      </p:pic>
      <p:sp>
        <p:nvSpPr>
          <p:cNvPr id="1098" name="WordArt 3"/>
          <p:cNvSpPr txBox="1"/>
          <p:nvPr/>
        </p:nvSpPr>
        <p:spPr>
          <a:xfrm>
            <a:off x="2279520" y="477216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鸟蛋、鸡蛋、鸭蛋、鹅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WordArt 2" descr=""/>
          <p:cNvPicPr/>
          <p:nvPr/>
        </p:nvPicPr>
        <p:blipFill>
          <a:blip r:embed="rId1"/>
          <a:stretch/>
        </p:blipFill>
        <p:spPr>
          <a:xfrm>
            <a:off x="1968480" y="2189160"/>
            <a:ext cx="3000240" cy="2359080"/>
          </a:xfrm>
          <a:prstGeom prst="rect">
            <a:avLst/>
          </a:prstGeom>
          <a:ln w="0">
            <a:noFill/>
          </a:ln>
        </p:spPr>
      </p:pic>
      <p:sp>
        <p:nvSpPr>
          <p:cNvPr id="1100" name="WordArt 3"/>
          <p:cNvSpPr txBox="1"/>
          <p:nvPr/>
        </p:nvSpPr>
        <p:spPr>
          <a:xfrm>
            <a:off x="5219640" y="2133720"/>
            <a:ext cx="122400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重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3:55:2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4:12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