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9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660-CF05-44B8-AEB6-B72CCA7B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6360" y="404676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D1E-A48A-499A-8AD4-1B9991CA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899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873-F220-4BB4-B1BC-4930FEC9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240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88440" y="177300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636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8240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88440" y="4046760"/>
            <a:ext cx="33386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6AD-2FAD-4211-A2B0-50F12316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95C-8566-4FFD-9026-EF7F0F17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2E-215E-4977-A476-D33D8F5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3A2-2DF2-4BE0-A8A4-75D97606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557-8216-4F06-A5A7-6C5CCCCC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6360" y="1118880"/>
            <a:ext cx="929952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CFE-BDB3-413C-82B9-8150DA8C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7B9-DB7A-471A-932C-2F0082D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89960" y="404676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DEB-3E64-4486-A10A-5D62EE6C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360" y="1113480"/>
            <a:ext cx="929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763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89960" y="1773000"/>
            <a:ext cx="506016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6360" y="4046760"/>
            <a:ext cx="1036944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3AAC-D4DA-44B9-A726-519FF73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-720"/>
            <a:ext cx="1152216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76360" y="1118880"/>
            <a:ext cx="9299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76360" y="1773000"/>
            <a:ext cx="1036944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6000" y="6356520"/>
            <a:ext cx="268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B4D1-1392-4414-BE10-F4EED0AE608A}" type="datetime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36960" y="6356520"/>
            <a:ext cx="3648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8040" y="6356520"/>
            <a:ext cx="2687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FF93-BC4C-4EDF-B204-52152041F3A1}" type="slidenum"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/beijing/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beijing/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765000"/>
            <a:ext cx="11536200" cy="556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3571920" y="1413000"/>
            <a:ext cx="7950240" cy="89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" descr=""/>
          <p:cNvPicPr/>
          <p:nvPr/>
        </p:nvPicPr>
        <p:blipFill>
          <a:blip r:embed="rId3"/>
          <a:stretch/>
        </p:blipFill>
        <p:spPr>
          <a:xfrm>
            <a:off x="3097080" y="2421000"/>
            <a:ext cx="82123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950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400" y="14130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3" descr=""/>
          <p:cNvPicPr/>
          <p:nvPr/>
        </p:nvPicPr>
        <p:blipFill>
          <a:blip r:embed="rId1"/>
          <a:stretch/>
        </p:blipFill>
        <p:spPr>
          <a:xfrm>
            <a:off x="0" y="762120"/>
            <a:ext cx="11536200" cy="5546520"/>
          </a:xfrm>
          <a:prstGeom prst="rect">
            <a:avLst/>
          </a:prstGeom>
          <a:ln w="0">
            <a:noFill/>
          </a:ln>
        </p:spPr>
      </p:pic>
      <p:pic>
        <p:nvPicPr>
          <p:cNvPr id="50" name="流水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-28998720" y="3860640"/>
            <a:ext cx="40520880" cy="2214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71"/>
          <p:cNvSpPr/>
          <p:nvPr/>
        </p:nvSpPr>
        <p:spPr>
          <a:xfrm flipV="1"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04" descr=""/>
          <p:cNvPicPr/>
          <p:nvPr/>
        </p:nvPicPr>
        <p:blipFill>
          <a:blip r:embed="rId3"/>
          <a:stretch/>
        </p:blipFill>
        <p:spPr>
          <a:xfrm>
            <a:off x="431640" y="348444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4321080" y="4869000"/>
            <a:ext cx="7419960" cy="88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5"/>
          <a:stretch/>
        </p:blipFill>
        <p:spPr>
          <a:xfrm>
            <a:off x="4476600" y="1484280"/>
            <a:ext cx="6469200" cy="329868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1160" y="722160"/>
            <a:ext cx="11533320" cy="556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9360" y="2492280"/>
            <a:ext cx="3971880" cy="30304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4" descr=""/>
          <p:cNvPicPr/>
          <p:nvPr/>
        </p:nvPicPr>
        <p:blipFill>
          <a:blip r:embed="rId3"/>
          <a:stretch/>
        </p:blipFill>
        <p:spPr>
          <a:xfrm>
            <a:off x="3024360" y="2205000"/>
            <a:ext cx="865080" cy="8031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3" descr=""/>
          <p:cNvPicPr/>
          <p:nvPr/>
        </p:nvPicPr>
        <p:blipFill>
          <a:blip r:embed="rId4"/>
          <a:stretch/>
        </p:blipFill>
        <p:spPr>
          <a:xfrm>
            <a:off x="2736720" y="2955960"/>
            <a:ext cx="2092320" cy="194292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4"/>
          <p:cNvGrpSpPr/>
          <p:nvPr/>
        </p:nvGrpSpPr>
        <p:grpSpPr>
          <a:xfrm>
            <a:off x="6840360" y="2739960"/>
            <a:ext cx="1597320" cy="1582920"/>
            <a:chOff x="6840360" y="2739960"/>
            <a:chExt cx="1597320" cy="1582920"/>
          </a:xfrm>
        </p:grpSpPr>
        <p:sp>
          <p:nvSpPr>
            <p:cNvPr id="62" name="直接连接符 78"/>
            <p:cNvSpPr/>
            <p:nvPr/>
          </p:nvSpPr>
          <p:spPr>
            <a:xfrm>
              <a:off x="6840360" y="2739960"/>
              <a:ext cx="1584720" cy="158292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80"/>
            <p:cNvSpPr/>
            <p:nvPr/>
          </p:nvSpPr>
          <p:spPr>
            <a:xfrm flipH="1">
              <a:off x="6840360" y="2739960"/>
              <a:ext cx="1584720" cy="158292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82"/>
            <p:cNvSpPr/>
            <p:nvPr/>
          </p:nvSpPr>
          <p:spPr>
            <a:xfrm>
              <a:off x="6852960" y="3530520"/>
              <a:ext cx="1584720" cy="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83"/>
            <p:cNvSpPr/>
            <p:nvPr/>
          </p:nvSpPr>
          <p:spPr>
            <a:xfrm>
              <a:off x="7632720" y="2739960"/>
              <a:ext cx="0" cy="1582920"/>
            </a:xfrm>
            <a:prstGeom prst="line">
              <a:avLst/>
            </a:prstGeom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64"/>
            <p:cNvSpPr/>
            <p:nvPr/>
          </p:nvSpPr>
          <p:spPr>
            <a:xfrm>
              <a:off x="6852240" y="2739960"/>
              <a:ext cx="1585440" cy="1582920"/>
            </a:xfrm>
            <a:prstGeom prst="rect">
              <a:avLst/>
            </a:prstGeom>
            <a:noFill/>
            <a:ln w="12600">
              <a:solidFill>
                <a:srgbClr val="cc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方正启体简体"/>
                  <a:ea typeface="方正启体简体"/>
                </a:rPr>
                <a:t>合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753080" y="5373720"/>
            <a:ext cx="580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3" descr=""/>
          <p:cNvPicPr/>
          <p:nvPr/>
        </p:nvPicPr>
        <p:blipFill>
          <a:blip r:embed="rId1"/>
          <a:stretch/>
        </p:blipFill>
        <p:spPr>
          <a:xfrm>
            <a:off x="0" y="762120"/>
            <a:ext cx="11536200" cy="5546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6327720" y="1916280"/>
            <a:ext cx="5194440" cy="39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2"/>
          <p:cNvSpPr/>
          <p:nvPr/>
        </p:nvSpPr>
        <p:spPr>
          <a:xfrm>
            <a:off x="4147560" y="3259080"/>
            <a:ext cx="32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beijing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0" y="746280"/>
            <a:ext cx="11536200" cy="556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0" y="3062160"/>
            <a:ext cx="3255840" cy="318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7113600" y="-7920"/>
            <a:ext cx="4408560" cy="4660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2"/>
          <p:cNvSpPr/>
          <p:nvPr/>
        </p:nvSpPr>
        <p:spPr>
          <a:xfrm>
            <a:off x="216000" y="4292640"/>
            <a:ext cx="223812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6-23彩蛋小"/>
          <p:cNvPicPr/>
          <p:nvPr/>
        </p:nvPicPr>
        <p:blipFill>
          <a:blip r:embed="rId5"/>
          <a:stretch/>
        </p:blipFill>
        <p:spPr>
          <a:xfrm>
            <a:off x="9507600" y="5591160"/>
            <a:ext cx="509400" cy="5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400" y="189000"/>
            <a:ext cx="10342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440" y="1269720"/>
            <a:ext cx="1124928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9182160" y="333360"/>
            <a:ext cx="17510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B0D-512D-4357-A625-1B35DBBD6FBE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160" y="765000"/>
            <a:ext cx="11533320" cy="5562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2"/>
          <a:stretch/>
        </p:blipFill>
        <p:spPr>
          <a:xfrm>
            <a:off x="-3240" y="1197000"/>
            <a:ext cx="11531520" cy="4054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5"/>
          <p:cNvSpPr/>
          <p:nvPr/>
        </p:nvSpPr>
        <p:spPr>
          <a:xfrm>
            <a:off x="0" y="549360"/>
            <a:ext cx="11522160" cy="5904000"/>
          </a:xfrm>
          <a:prstGeom prst="rect">
            <a:avLst/>
          </a:prstGeom>
          <a:solidFill>
            <a:srgbClr val="4944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-3240" y="647640"/>
            <a:ext cx="11533320" cy="5562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261200" y="765000"/>
            <a:ext cx="4260960" cy="4260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477720" y="2060640"/>
            <a:ext cx="1046808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06:2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23:00Z</dcterms:modified>
  <cp:revision>188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