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382F-8527-4553-A472-E97CC49A9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30080-D4B2-4B10-B919-4E3F9DB4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7896-AC33-40FC-8DDC-D34C585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0BF08-81B6-4685-80EC-33D1A569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725E4-9305-483F-9BB3-69E9B60D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B7F1F-FE2B-40E4-94A4-F948924F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0DD2-541B-4F31-95E6-EF4F4A5A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DF9D4-8004-421E-809E-702BDB31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21915-B422-43CF-BD8C-3ABCD7A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9045-B754-4073-81A2-A842AA2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1C26-52E3-4870-AEE8-F1DA05DDB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B7655-F8A3-49FC-A1E4-C0ACA401C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F45F-9883-49E5-A0FA-D9AEC20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E74BF0-A8E0-494B-AAB3-0114109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B2371A-29CB-4346-A9A6-CFB270B7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4BC1C-A0D1-4B6C-A7A4-22D094AD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7DA9A-D8DF-4EC3-AA6C-B3B6E149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58E56-92CB-44B3-BBFD-D499D62E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728D2-FE00-4749-AE8F-EF336963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5C07B-ECC1-497E-ABCB-80869A7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7341A-B22E-489A-B62F-90BA773B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BE39D-E09E-4E55-AC91-399D8546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31456-EA86-4CF6-857E-FB2AB988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ED73-55C6-418F-AAE1-30262C9D17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1CB40-12CB-4FA4-9D46-B661CB1DA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11A8FA-BBB9-4600-9496-FD31221964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A9DD96-9DAF-4A6D-AA16-7E93517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BF8DCF-67C7-4D96-B660-A14BF4F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B25F73-955B-4B35-A2A2-D07B3C99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74DEE8-33A5-4B60-A0F9-96B987FB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3BBC1D-DB59-448C-B22F-EE4A8747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F7A8F-1164-43CE-BAC8-8E51CA63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850FB-967A-4CCC-AAB2-028A575B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4C7386-14B2-4532-AC1A-DB9C008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3D352-BC24-4070-8685-031F448E15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ACF25F-9C92-491E-862F-1749A755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05435E-F2D6-4F3F-A629-274AB61C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DCE6C6-68E1-46E5-B98F-0780FBB5FE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D811E-0158-4BFF-85A7-1370138E3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2FF22-B7B0-4077-A88F-D4613F40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492EA-B943-4B2F-A2D0-DABBBF36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CF9F4-CFD9-44C7-86C4-D01D2185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4ABD6-590E-4834-BC49-55C5F7D1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86123-D97C-4BFB-BF95-553ABD25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611C1-5086-4F71-878C-F86CE397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07D3C-0352-4DC4-B8C6-EBE33C0B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1E7C1-2DFF-48C7-BA07-0A3F7FF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395C-FFD3-4EA4-A160-F69D2E8F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263F0-5E2A-401F-8514-D1BCAC7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FD4A-55B9-47AB-9A32-1A70501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7CE9A-E54E-417D-9256-23B1AF07E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8F068-4A89-455D-9591-AB2BAD59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23F4B-F12E-4BBE-9285-1F8F04D3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69274-3EA9-4A76-BFEB-4271A7F1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A4A4E-A1D9-47E3-92D2-B8FC0876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44C47-39D8-4689-8CFB-73723C0B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B2C1-8717-456C-9ECD-E56C4518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E0ECA-E2FD-4850-AFC7-9D30D74C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06DD-AA7B-4A76-B6FB-26606E42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E55D-FA91-47F9-8B69-151F535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DE5F9-24E6-492D-B0CA-F43D3B9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4902F-9CCB-4706-A131-8FB74812E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16A9-7532-4354-A83A-A0E12328D9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0316-4D41-43B2-8AD4-4B5CB64A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CDC7-28CE-4622-A5A1-DC85BB2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3D8F-C5EE-4DE4-870F-83668442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B738-D3C7-4F75-8C23-E9581AC2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53CE-A92A-4BE2-B0AC-51EA5EBB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95F7-186C-438D-B5FA-F70CD40F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F3ED-7F41-4222-B5F4-1E01659D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31E-4397-4726-AB51-16FD8930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D70A-5EDC-4685-8E00-5F3CFA8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65FC-6166-4F40-AD7C-8084C292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91E5-B025-4750-9594-001BE23F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8846-C6F2-4653-840F-424B2A0D96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D634C-8590-4959-8035-953D7E29E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E3EBE-F331-4876-A592-46A7389F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165510-6A3E-494C-8134-F8552FD1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B760-3126-4603-961E-0FEBE20F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A2895-73C5-4269-B570-EAB678CF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EA333-DD4B-4B91-A45A-500E33C7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2FFC8-AB9B-4829-A634-826DC247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6E8AD-00B2-4DD7-B76C-8BDF370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4BCED-AB04-4434-B2A9-370D7DF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58637-F171-44DB-982F-F49FC8FF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0C5B8-EB68-48F5-8B0E-8103282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3C67E-A9F7-449B-BA5E-7801672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F612E-BAE0-4BEA-BEE7-3FE0EF1391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D0F50B-502A-434D-9968-1038B991F2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4B87-0EE1-429E-9419-40E857E0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F6E92-70A1-41F5-8C73-8368A89A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6C6CC-A2D5-416C-B41A-8F754EA9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8C303-9433-4D1C-930A-C94D8E76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2F3836-E64C-42FD-ABD9-CB582994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EF98C-B0E2-4FED-BF06-5FEEB8E3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00AE5-D9D2-44BB-AF3B-46809300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767E85-6419-4C0A-9E2F-2B619FFA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38818-0A6F-4453-8B66-C699803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1C8100-8DA0-4045-ADDF-0AD15F5A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01C64F-1273-48D9-B73D-70396513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60BE-F0C5-42C7-B0D6-20951C65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354EE-29C0-42F5-B22A-B1C579D14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17C01-65F4-47CD-BFE4-5175E16F4B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0CB6F-7B0A-4524-8684-5CC025A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5351-999A-4BA4-B8C0-8C76F81D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39D1B-17B0-4BA6-A4E8-07EB269A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4C9A7-DC48-4871-9D50-74328367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E114-BD0F-4B1B-855A-8DFE6616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7C02-6C02-4BF5-96A4-2A57FBE0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1EB6-CA13-49EA-BC18-8D876AD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A42B-C319-4EBC-B9C5-3558127A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512F-8099-408E-9345-2EDB2BA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C059B-5DFE-4DC2-9010-EE07D848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9670C-6F73-4A59-9082-D1DE3BC7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15B54-8C6D-4461-B478-64D133E9C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CDC5A-AFD8-4FF0-BB79-6FC89718F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7199C-F8F0-4A3F-A0A9-32C66998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4F2BB-6957-4853-80A7-177BB9D5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22D1A-68F5-4C39-9EDD-DB5D7187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5FF2F-C2FA-4BB5-956E-53CAA58A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EBC8F-270B-4541-8F68-8A6C6BC5C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9B211-F6DB-49A3-AD63-C0102F33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1A06-A14F-4692-89F8-F128D75C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095D1-2E20-4C32-864A-FE17EE4C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93058-4287-401C-B86F-C78539DB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B81A3-AA3B-4BB3-9704-FE27C34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E3994-E302-4CA4-9B11-135E775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53CF6-9696-4FB8-B1A2-BDBBAC515E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E68AC2-20F4-4551-96E0-84276106A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E09775-D684-4740-99E1-A2FD252A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66C23C-95C2-44F0-A5E0-0DD0933B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84D521-A68C-47A0-AEBF-0AF51CCF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298C41-334D-4B99-B8B5-D6969820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25ED-B456-4590-BC6C-CCEC8B02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6095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A828A-89EF-45EC-A26B-065C1531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F0B79D-E6EE-4E95-9D3B-F30B73AD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2EA52B-CEFA-4AF1-A85F-13302061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E42016-A12E-4F16-B281-7D35677F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311669-5DCB-4F88-81FE-70E8685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92DED5-5153-4FA3-84AE-5115137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078389-85D1-48CE-B33C-97A94DD64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3065-F1C8-4801-8C1F-50E67D145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6EF06-7B20-460B-9EA7-9F8A89C7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73F8-ECF7-40BA-9B0A-DE472CDD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4A02-B63C-48C0-A648-71089E8026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470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476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19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0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DD4A-CDDC-4411-833F-5BBE6F0C53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22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528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2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5EEC-3AC5-479A-82E8-897CB1769C8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7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58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FF24-9BEA-4AF9-A036-18555A6AC1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5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6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E23D-1F02-46AD-9526-44083DBDAC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106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12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5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6765-5693-4167-ADEC-94272E91BD9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158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164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FCC-3B5F-479C-A8FF-6C47DB10AD8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210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216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9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0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B808-F5BD-440D-A3DD-CD686C47AE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262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268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1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sldNum" idx="12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DF6A-B0D4-4198-A63C-0477858E1CC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314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320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C2E9-5AD6-4519-B194-27F99451A22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365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366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372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5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16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5E6-40CB-4175-862A-83DFB40EF6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88" descr="12"/>
          <p:cNvPicPr/>
          <p:nvPr/>
        </p:nvPicPr>
        <p:blipFill>
          <a:blip r:embed="rId3"/>
          <a:stretch/>
        </p:blipFill>
        <p:spPr>
          <a:xfrm>
            <a:off x="3629160" y="1765440"/>
            <a:ext cx="4752720" cy="5092560"/>
          </a:xfrm>
          <a:prstGeom prst="rect">
            <a:avLst/>
          </a:prstGeom>
          <a:ln w="0">
            <a:noFill/>
          </a:ln>
        </p:spPr>
      </p:pic>
      <p:grpSp>
        <p:nvGrpSpPr>
          <p:cNvPr id="417" name="Group 71"/>
          <p:cNvGrpSpPr/>
          <p:nvPr/>
        </p:nvGrpSpPr>
        <p:grpSpPr>
          <a:xfrm>
            <a:off x="7620120" y="231840"/>
            <a:ext cx="1279440" cy="1279440"/>
            <a:chOff x="7620120" y="231840"/>
            <a:chExt cx="1279440" cy="1279440"/>
          </a:xfrm>
        </p:grpSpPr>
        <p:sp>
          <p:nvSpPr>
            <p:cNvPr id="418" name="Oval 72"/>
            <p:cNvSpPr/>
            <p:nvPr/>
          </p:nvSpPr>
          <p:spPr>
            <a:xfrm>
              <a:off x="7620120" y="2318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73"/>
            <p:cNvSpPr/>
            <p:nvPr/>
          </p:nvSpPr>
          <p:spPr>
            <a:xfrm>
              <a:off x="7631280" y="7207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Oval 77"/>
          <p:cNvSpPr/>
          <p:nvPr/>
        </p:nvSpPr>
        <p:spPr>
          <a:xfrm>
            <a:off x="6308640" y="880920"/>
            <a:ext cx="19044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8"/>
          <p:cNvSpPr/>
          <p:nvPr/>
        </p:nvSpPr>
        <p:spPr>
          <a:xfrm>
            <a:off x="6515280" y="609480"/>
            <a:ext cx="3427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79"/>
          <p:cNvSpPr/>
          <p:nvPr/>
        </p:nvSpPr>
        <p:spPr>
          <a:xfrm>
            <a:off x="6934320" y="53352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80"/>
          <p:cNvGrpSpPr/>
          <p:nvPr/>
        </p:nvGrpSpPr>
        <p:grpSpPr>
          <a:xfrm>
            <a:off x="7620120" y="228600"/>
            <a:ext cx="1279440" cy="1279440"/>
            <a:chOff x="7620120" y="228600"/>
            <a:chExt cx="1279440" cy="1279440"/>
          </a:xfrm>
        </p:grpSpPr>
        <p:sp>
          <p:nvSpPr>
            <p:cNvPr id="424" name="Oval 81"/>
            <p:cNvSpPr/>
            <p:nvPr/>
          </p:nvSpPr>
          <p:spPr>
            <a:xfrm>
              <a:off x="7620120" y="2286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82" descr="drop"/>
            <p:cNvPicPr/>
            <p:nvPr/>
          </p:nvPicPr>
          <p:blipFill>
            <a:blip r:embed="rId5"/>
            <a:stretch/>
          </p:blipFill>
          <p:spPr>
            <a:xfrm>
              <a:off x="7626600" y="2318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Line 86"/>
          <p:cNvSpPr/>
          <p:nvPr/>
        </p:nvSpPr>
        <p:spPr>
          <a:xfrm>
            <a:off x="536400" y="990720"/>
            <a:ext cx="573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89" descr="12"/>
          <p:cNvPicPr/>
          <p:nvPr/>
        </p:nvPicPr>
        <p:blipFill>
          <a:blip r:embed="rId6"/>
          <a:stretch/>
        </p:blipFill>
        <p:spPr>
          <a:xfrm>
            <a:off x="998640" y="3962520"/>
            <a:ext cx="2566800" cy="2895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7"/>
          </p:nvPr>
        </p:nvSpPr>
        <p:spPr>
          <a:xfrm>
            <a:off x="3270240" y="6512040"/>
            <a:ext cx="259704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8"/>
          </p:nvPr>
        </p:nvSpPr>
        <p:spPr>
          <a:xfrm>
            <a:off x="2030040" y="6526080"/>
            <a:ext cx="70956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FE31-DA88-4ADF-880D-CE21C02D6B7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41" descr="A"/>
          <p:cNvPicPr/>
          <p:nvPr/>
        </p:nvPicPr>
        <p:blipFill>
          <a:blip r:embed="rId2"/>
          <a:srcRect l="2265" t="0" r="1225" b="0"/>
          <a:stretch/>
        </p:blipFill>
        <p:spPr>
          <a:xfrm>
            <a:off x="0" y="1295280"/>
            <a:ext cx="3825720" cy="9544320"/>
          </a:xfrm>
          <a:prstGeom prst="rect">
            <a:avLst/>
          </a:prstGeom>
          <a:ln w="0">
            <a:noFill/>
          </a:ln>
        </p:spPr>
      </p:pic>
      <p:grpSp>
        <p:nvGrpSpPr>
          <p:cNvPr id="625" name="Group 69"/>
          <p:cNvGrpSpPr/>
          <p:nvPr/>
        </p:nvGrpSpPr>
        <p:grpSpPr>
          <a:xfrm>
            <a:off x="5876640" y="3733920"/>
            <a:ext cx="3267000" cy="3133080"/>
            <a:chOff x="5876640" y="3733920"/>
            <a:chExt cx="3267000" cy="3133080"/>
          </a:xfrm>
        </p:grpSpPr>
        <p:pic>
          <p:nvPicPr>
            <p:cNvPr id="626" name="Picture 70" descr="artplus_nature_naturalcity38_g"/>
            <p:cNvPicPr/>
            <p:nvPr/>
          </p:nvPicPr>
          <p:blipFill>
            <a:blip r:embed="rId3">
              <a:grayscl/>
            </a:blip>
            <a:stretch/>
          </p:blipFill>
          <p:spPr>
            <a:xfrm flipH="1">
              <a:off x="5878800" y="3736800"/>
              <a:ext cx="3264840" cy="31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Freeform 71"/>
            <p:cNvSpPr/>
            <p:nvPr/>
          </p:nvSpPr>
          <p:spPr>
            <a:xfrm flipH="1">
              <a:off x="5876280" y="3733920"/>
              <a:ext cx="3267000" cy="3116520"/>
            </a:xfrm>
            <a:custGeom>
              <a:avLst/>
              <a:gdLst>
                <a:gd name="textAreaLeft" fmla="*/ -360 w 3267000"/>
                <a:gd name="textAreaRight" fmla="*/ 3267000 w 326700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2832" h="2973">
                  <a:moveTo>
                    <a:pt x="0" y="957"/>
                  </a:moveTo>
                  <a:lnTo>
                    <a:pt x="189" y="690"/>
                  </a:lnTo>
                  <a:lnTo>
                    <a:pt x="412" y="409"/>
                  </a:lnTo>
                  <a:lnTo>
                    <a:pt x="575" y="563"/>
                  </a:lnTo>
                  <a:lnTo>
                    <a:pt x="722" y="632"/>
                  </a:lnTo>
                  <a:lnTo>
                    <a:pt x="720" y="795"/>
                  </a:lnTo>
                  <a:lnTo>
                    <a:pt x="849" y="785"/>
                  </a:lnTo>
                  <a:lnTo>
                    <a:pt x="846" y="716"/>
                  </a:lnTo>
                  <a:lnTo>
                    <a:pt x="974" y="633"/>
                  </a:lnTo>
                  <a:lnTo>
                    <a:pt x="1133" y="710"/>
                  </a:lnTo>
                  <a:lnTo>
                    <a:pt x="1130" y="770"/>
                  </a:lnTo>
                  <a:lnTo>
                    <a:pt x="1209" y="768"/>
                  </a:lnTo>
                  <a:lnTo>
                    <a:pt x="1200" y="45"/>
                  </a:lnTo>
                  <a:lnTo>
                    <a:pt x="1589" y="0"/>
                  </a:lnTo>
                  <a:lnTo>
                    <a:pt x="1868" y="68"/>
                  </a:lnTo>
                  <a:lnTo>
                    <a:pt x="1902" y="1049"/>
                  </a:lnTo>
                  <a:lnTo>
                    <a:pt x="1938" y="999"/>
                  </a:lnTo>
                  <a:lnTo>
                    <a:pt x="1965" y="989"/>
                  </a:lnTo>
                  <a:lnTo>
                    <a:pt x="2037" y="866"/>
                  </a:lnTo>
                  <a:lnTo>
                    <a:pt x="2154" y="864"/>
                  </a:lnTo>
                  <a:lnTo>
                    <a:pt x="2268" y="897"/>
                  </a:lnTo>
                  <a:lnTo>
                    <a:pt x="2232" y="960"/>
                  </a:lnTo>
                  <a:lnTo>
                    <a:pt x="2369" y="977"/>
                  </a:lnTo>
                  <a:lnTo>
                    <a:pt x="2369" y="1038"/>
                  </a:lnTo>
                  <a:lnTo>
                    <a:pt x="2394" y="1049"/>
                  </a:lnTo>
                  <a:lnTo>
                    <a:pt x="2402" y="1098"/>
                  </a:lnTo>
                  <a:lnTo>
                    <a:pt x="2420" y="1112"/>
                  </a:lnTo>
                  <a:lnTo>
                    <a:pt x="2427" y="1229"/>
                  </a:lnTo>
                  <a:lnTo>
                    <a:pt x="2457" y="1262"/>
                  </a:lnTo>
                  <a:lnTo>
                    <a:pt x="2448" y="1629"/>
                  </a:lnTo>
                  <a:lnTo>
                    <a:pt x="2544" y="1581"/>
                  </a:lnTo>
                  <a:lnTo>
                    <a:pt x="2688" y="1821"/>
                  </a:lnTo>
                  <a:lnTo>
                    <a:pt x="2832" y="2973"/>
                  </a:lnTo>
                  <a:lnTo>
                    <a:pt x="0" y="2973"/>
                  </a:lnTo>
                  <a:lnTo>
                    <a:pt x="0" y="957"/>
                  </a:lnTo>
                  <a:close/>
                </a:path>
              </a:pathLst>
            </a:custGeom>
            <a:solidFill>
              <a:srgbClr val="7e760c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Group 38"/>
          <p:cNvGrpSpPr/>
          <p:nvPr/>
        </p:nvGrpSpPr>
        <p:grpSpPr>
          <a:xfrm>
            <a:off x="5410080" y="2060640"/>
            <a:ext cx="1279440" cy="1279440"/>
            <a:chOff x="5410080" y="2060640"/>
            <a:chExt cx="1279440" cy="1279440"/>
          </a:xfrm>
        </p:grpSpPr>
        <p:sp>
          <p:nvSpPr>
            <p:cNvPr id="629" name="Oval 12"/>
            <p:cNvSpPr/>
            <p:nvPr/>
          </p:nvSpPr>
          <p:spPr>
            <a:xfrm>
              <a:off x="5410080" y="2060640"/>
              <a:ext cx="1279440" cy="127944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31"/>
            <p:cNvSpPr/>
            <p:nvPr/>
          </p:nvSpPr>
          <p:spPr>
            <a:xfrm>
              <a:off x="5421240" y="2549520"/>
              <a:ext cx="125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SUCCESSFU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37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32" name="Oval 16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32"/>
            <p:cNvSpPr/>
            <p:nvPr/>
          </p:nvSpPr>
          <p:spPr>
            <a:xfrm>
              <a:off x="6900840" y="1119600"/>
              <a:ext cx="1714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Calibri"/>
                  <a:ea typeface="Gulim"/>
                </a:rPr>
                <a:t>No.1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8"/>
          <p:cNvSpPr/>
          <p:nvPr/>
        </p:nvSpPr>
        <p:spPr>
          <a:xfrm>
            <a:off x="3809880" y="2438280"/>
            <a:ext cx="190800" cy="190800"/>
          </a:xfrm>
          <a:prstGeom prst="ellipse">
            <a:avLst/>
          </a:prstGeom>
          <a:solidFill>
            <a:srgbClr val="f67f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9"/>
          <p:cNvSpPr/>
          <p:nvPr/>
        </p:nvSpPr>
        <p:spPr>
          <a:xfrm>
            <a:off x="4038480" y="2133720"/>
            <a:ext cx="3430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0"/>
          <p:cNvSpPr/>
          <p:nvPr/>
        </p:nvSpPr>
        <p:spPr>
          <a:xfrm>
            <a:off x="4572000" y="2057400"/>
            <a:ext cx="609480" cy="609480"/>
          </a:xfrm>
          <a:prstGeom prst="ellipse">
            <a:avLst/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6"/>
          <p:cNvGrpSpPr/>
          <p:nvPr/>
        </p:nvGrpSpPr>
        <p:grpSpPr>
          <a:xfrm>
            <a:off x="5410080" y="2057400"/>
            <a:ext cx="1279440" cy="1279440"/>
            <a:chOff x="5410080" y="2057400"/>
            <a:chExt cx="1279440" cy="1279440"/>
          </a:xfrm>
        </p:grpSpPr>
        <p:sp>
          <p:nvSpPr>
            <p:cNvPr id="638" name="Oval 43"/>
            <p:cNvSpPr/>
            <p:nvPr/>
          </p:nvSpPr>
          <p:spPr>
            <a:xfrm>
              <a:off x="5410080" y="2057400"/>
              <a:ext cx="1279440" cy="12794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Picture 45" descr="drop"/>
            <p:cNvPicPr/>
            <p:nvPr/>
          </p:nvPicPr>
          <p:blipFill>
            <a:blip r:embed="rId5"/>
            <a:stretch/>
          </p:blipFill>
          <p:spPr>
            <a:xfrm>
              <a:off x="5416560" y="2060640"/>
              <a:ext cx="1269720" cy="127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73"/>
          <p:cNvGrpSpPr/>
          <p:nvPr/>
        </p:nvGrpSpPr>
        <p:grpSpPr>
          <a:xfrm>
            <a:off x="6629400" y="463680"/>
            <a:ext cx="2285640" cy="2202840"/>
            <a:chOff x="6629400" y="463680"/>
            <a:chExt cx="2285640" cy="2202840"/>
          </a:xfrm>
        </p:grpSpPr>
        <p:sp>
          <p:nvSpPr>
            <p:cNvPr id="641" name="Oval 44"/>
            <p:cNvSpPr/>
            <p:nvPr/>
          </p:nvSpPr>
          <p:spPr>
            <a:xfrm>
              <a:off x="6629400" y="463680"/>
              <a:ext cx="2285640" cy="22028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2" name="Picture 47" descr="drop"/>
            <p:cNvPicPr/>
            <p:nvPr/>
          </p:nvPicPr>
          <p:blipFill>
            <a:blip r:embed="rId7">
              <a:lum contrast="30000"/>
            </a:blip>
            <a:stretch/>
          </p:blipFill>
          <p:spPr>
            <a:xfrm>
              <a:off x="6644880" y="473040"/>
              <a:ext cx="2254320" cy="217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WordArt 5"/>
          <p:cNvSpPr txBox="1"/>
          <p:nvPr/>
        </p:nvSpPr>
        <p:spPr>
          <a:xfrm>
            <a:off x="2460600" y="4191120"/>
            <a:ext cx="508320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Arial Black"/>
              </a:rPr>
              <a:t>PowerTemplat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noFill/>
              <a:latin typeface="Arial Black"/>
              <a:ea typeface="Arial Black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2364840" y="50288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fbb426"/>
              </a:solidFill>
              <a:latin typeface="Arial"/>
              <a:ea typeface="Gulim"/>
            </a:endParaRPr>
          </a:p>
        </p:txBody>
      </p:sp>
      <p:sp>
        <p:nvSpPr>
          <p:cNvPr id="645" name="矩形 1"/>
          <p:cNvSpPr/>
          <p:nvPr/>
        </p:nvSpPr>
        <p:spPr>
          <a:xfrm>
            <a:off x="2364840" y="6602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商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AutoShape 66"/>
          <p:cNvSpPr/>
          <p:nvPr/>
        </p:nvSpPr>
        <p:spPr>
          <a:xfrm>
            <a:off x="1917720" y="52941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5"/>
          <p:cNvSpPr/>
          <p:nvPr/>
        </p:nvSpPr>
        <p:spPr>
          <a:xfrm>
            <a:off x="1917720" y="457200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bb4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64"/>
          <p:cNvSpPr/>
          <p:nvPr/>
        </p:nvSpPr>
        <p:spPr>
          <a:xfrm>
            <a:off x="1917720" y="38289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f67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63"/>
          <p:cNvSpPr/>
          <p:nvPr/>
        </p:nvSpPr>
        <p:spPr>
          <a:xfrm>
            <a:off x="1917720" y="310680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44a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1"/>
          <p:cNvSpPr/>
          <p:nvPr/>
        </p:nvSpPr>
        <p:spPr>
          <a:xfrm>
            <a:off x="1917720" y="2363760"/>
            <a:ext cx="5073480" cy="50328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2a9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ontents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653" name="Group 39"/>
          <p:cNvGrpSpPr/>
          <p:nvPr/>
        </p:nvGrpSpPr>
        <p:grpSpPr>
          <a:xfrm>
            <a:off x="1838160" y="2346480"/>
            <a:ext cx="524160" cy="526680"/>
            <a:chOff x="1838160" y="2346480"/>
            <a:chExt cx="524160" cy="526680"/>
          </a:xfrm>
        </p:grpSpPr>
        <p:sp>
          <p:nvSpPr>
            <p:cNvPr id="654" name="Oval 34"/>
            <p:cNvSpPr/>
            <p:nvPr/>
          </p:nvSpPr>
          <p:spPr>
            <a:xfrm>
              <a:off x="1838160" y="2347560"/>
              <a:ext cx="524160" cy="525600"/>
            </a:xfrm>
            <a:prstGeom prst="ellipse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Picture 38" descr="drop"/>
            <p:cNvPicPr/>
            <p:nvPr/>
          </p:nvPicPr>
          <p:blipFill>
            <a:blip r:embed="rId2"/>
            <a:stretch/>
          </p:blipFill>
          <p:spPr>
            <a:xfrm>
              <a:off x="1838520" y="2346480"/>
              <a:ext cx="520200" cy="52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Text Box 35"/>
          <p:cNvSpPr/>
          <p:nvPr/>
        </p:nvSpPr>
        <p:spPr>
          <a:xfrm>
            <a:off x="1884240" y="231444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59"/>
          <p:cNvGrpSpPr/>
          <p:nvPr/>
        </p:nvGrpSpPr>
        <p:grpSpPr>
          <a:xfrm>
            <a:off x="1838160" y="3089160"/>
            <a:ext cx="523800" cy="527040"/>
            <a:chOff x="1838160" y="3089160"/>
            <a:chExt cx="523800" cy="527040"/>
          </a:xfrm>
        </p:grpSpPr>
        <p:sp>
          <p:nvSpPr>
            <p:cNvPr id="658" name="Oval 41"/>
            <p:cNvSpPr/>
            <p:nvPr/>
          </p:nvSpPr>
          <p:spPr>
            <a:xfrm>
              <a:off x="1838160" y="3090600"/>
              <a:ext cx="523800" cy="52560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Picture 42" descr="drop"/>
            <p:cNvPicPr/>
            <p:nvPr/>
          </p:nvPicPr>
          <p:blipFill>
            <a:blip r:embed="rId3"/>
            <a:stretch/>
          </p:blipFill>
          <p:spPr>
            <a:xfrm>
              <a:off x="1841400" y="308916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Text Box 43"/>
          <p:cNvSpPr/>
          <p:nvPr/>
        </p:nvSpPr>
        <p:spPr>
          <a:xfrm>
            <a:off x="1889280" y="3057480"/>
            <a:ext cx="3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58"/>
          <p:cNvGrpSpPr/>
          <p:nvPr/>
        </p:nvGrpSpPr>
        <p:grpSpPr>
          <a:xfrm>
            <a:off x="1838160" y="3811680"/>
            <a:ext cx="523800" cy="527040"/>
            <a:chOff x="1838160" y="3811680"/>
            <a:chExt cx="523800" cy="527040"/>
          </a:xfrm>
        </p:grpSpPr>
        <p:sp>
          <p:nvSpPr>
            <p:cNvPr id="662" name="Oval 45"/>
            <p:cNvSpPr/>
            <p:nvPr/>
          </p:nvSpPr>
          <p:spPr>
            <a:xfrm>
              <a:off x="1838160" y="3813120"/>
              <a:ext cx="523800" cy="525600"/>
            </a:xfrm>
            <a:prstGeom prst="ellipse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46" descr="drop"/>
            <p:cNvPicPr/>
            <p:nvPr/>
          </p:nvPicPr>
          <p:blipFill>
            <a:blip r:embed="rId4"/>
            <a:stretch/>
          </p:blipFill>
          <p:spPr>
            <a:xfrm>
              <a:off x="1841400" y="381168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Text Box 47"/>
          <p:cNvSpPr/>
          <p:nvPr/>
        </p:nvSpPr>
        <p:spPr>
          <a:xfrm>
            <a:off x="1892160" y="3780000"/>
            <a:ext cx="3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7"/>
          <p:cNvGrpSpPr/>
          <p:nvPr/>
        </p:nvGrpSpPr>
        <p:grpSpPr>
          <a:xfrm>
            <a:off x="1838160" y="4554360"/>
            <a:ext cx="523800" cy="527040"/>
            <a:chOff x="1838160" y="4554360"/>
            <a:chExt cx="523800" cy="527040"/>
          </a:xfrm>
        </p:grpSpPr>
        <p:sp>
          <p:nvSpPr>
            <p:cNvPr id="666" name="Oval 49"/>
            <p:cNvSpPr/>
            <p:nvPr/>
          </p:nvSpPr>
          <p:spPr>
            <a:xfrm>
              <a:off x="1838160" y="4555800"/>
              <a:ext cx="523800" cy="525600"/>
            </a:xfrm>
            <a:prstGeom prst="ellipse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Picture 50" descr="drop"/>
            <p:cNvPicPr/>
            <p:nvPr/>
          </p:nvPicPr>
          <p:blipFill>
            <a:blip r:embed="rId5"/>
            <a:stretch/>
          </p:blipFill>
          <p:spPr>
            <a:xfrm>
              <a:off x="1841400" y="455436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8" name="Text Box 51"/>
          <p:cNvSpPr/>
          <p:nvPr/>
        </p:nvSpPr>
        <p:spPr>
          <a:xfrm>
            <a:off x="1884240" y="452268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56"/>
          <p:cNvGrpSpPr/>
          <p:nvPr/>
        </p:nvGrpSpPr>
        <p:grpSpPr>
          <a:xfrm>
            <a:off x="1838160" y="5275440"/>
            <a:ext cx="523800" cy="527040"/>
            <a:chOff x="1838160" y="5275440"/>
            <a:chExt cx="523800" cy="527040"/>
          </a:xfrm>
        </p:grpSpPr>
        <p:sp>
          <p:nvSpPr>
            <p:cNvPr id="670" name="Oval 53"/>
            <p:cNvSpPr/>
            <p:nvPr/>
          </p:nvSpPr>
          <p:spPr>
            <a:xfrm>
              <a:off x="1838160" y="5276880"/>
              <a:ext cx="523800" cy="525600"/>
            </a:xfrm>
            <a:prstGeom prst="ellipse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Picture 54" descr="drop"/>
            <p:cNvPicPr/>
            <p:nvPr/>
          </p:nvPicPr>
          <p:blipFill>
            <a:blip r:embed="rId6"/>
            <a:stretch/>
          </p:blipFill>
          <p:spPr>
            <a:xfrm>
              <a:off x="1841400" y="5275440"/>
              <a:ext cx="520560" cy="52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 Box 55"/>
          <p:cNvSpPr/>
          <p:nvPr/>
        </p:nvSpPr>
        <p:spPr>
          <a:xfrm>
            <a:off x="1884240" y="5243400"/>
            <a:ext cx="3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2"/>
          <p:cNvSpPr/>
          <p:nvPr/>
        </p:nvSpPr>
        <p:spPr>
          <a:xfrm>
            <a:off x="2413080" y="238428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7"/>
          <p:cNvSpPr/>
          <p:nvPr/>
        </p:nvSpPr>
        <p:spPr>
          <a:xfrm>
            <a:off x="2413080" y="31273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8"/>
          <p:cNvSpPr/>
          <p:nvPr/>
        </p:nvSpPr>
        <p:spPr>
          <a:xfrm>
            <a:off x="2413080" y="384984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9"/>
          <p:cNvSpPr/>
          <p:nvPr/>
        </p:nvSpPr>
        <p:spPr>
          <a:xfrm>
            <a:off x="2413080" y="45943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0"/>
          <p:cNvSpPr/>
          <p:nvPr/>
        </p:nvSpPr>
        <p:spPr>
          <a:xfrm>
            <a:off x="2413080" y="531648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33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7f61"/>
                </a:solidFill>
                <a:uFillTx/>
                <a:latin typeface="Arial"/>
                <a:ea typeface="宋体"/>
                <a:hlinkClick r:id="rId7"/>
              </a:rPr>
              <a:t>ppt图片素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6149880" y="2340000"/>
            <a:ext cx="45576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4"/>
          <p:cNvSpPr/>
          <p:nvPr/>
        </p:nvSpPr>
        <p:spPr>
          <a:xfrm>
            <a:off x="6162840" y="3505320"/>
            <a:ext cx="45540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5"/>
          <p:cNvSpPr/>
          <p:nvPr/>
        </p:nvSpPr>
        <p:spPr>
          <a:xfrm>
            <a:off x="6149880" y="4729320"/>
            <a:ext cx="455760" cy="380880"/>
          </a:xfrm>
          <a:prstGeom prst="downArrow">
            <a:avLst>
              <a:gd name="adj1" fmla="val 58898"/>
              <a:gd name="adj2" fmla="val 60000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380880" y="44956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7"/>
          <p:cNvGrpSpPr/>
          <p:nvPr/>
        </p:nvGrpSpPr>
        <p:grpSpPr>
          <a:xfrm>
            <a:off x="4330800" y="1577880"/>
            <a:ext cx="4051080" cy="914400"/>
            <a:chOff x="4330800" y="1577880"/>
            <a:chExt cx="4051080" cy="914400"/>
          </a:xfrm>
        </p:grpSpPr>
        <p:sp>
          <p:nvSpPr>
            <p:cNvPr id="685" name="Rectangle 8"/>
            <p:cNvSpPr/>
            <p:nvPr/>
          </p:nvSpPr>
          <p:spPr>
            <a:xfrm>
              <a:off x="4330800" y="1577880"/>
              <a:ext cx="4051080" cy="9144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9"/>
            <p:cNvSpPr/>
            <p:nvPr/>
          </p:nvSpPr>
          <p:spPr>
            <a:xfrm>
              <a:off x="4341600" y="1587240"/>
              <a:ext cx="4025520" cy="416160"/>
            </a:xfrm>
            <a:prstGeom prst="rect">
              <a:avLst/>
            </a:prstGeom>
            <a:solidFill>
              <a:srgbClr val="44a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"/>
            <p:cNvSpPr/>
            <p:nvPr/>
          </p:nvSpPr>
          <p:spPr>
            <a:xfrm>
              <a:off x="4343040" y="19843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44a8cc"/>
                </a:gs>
                <a:gs pos="100000">
                  <a:srgbClr val="8cc9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11"/>
          <p:cNvSpPr/>
          <p:nvPr/>
        </p:nvSpPr>
        <p:spPr>
          <a:xfrm>
            <a:off x="4711680" y="21114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Group 12"/>
          <p:cNvGrpSpPr/>
          <p:nvPr/>
        </p:nvGrpSpPr>
        <p:grpSpPr>
          <a:xfrm>
            <a:off x="4343400" y="2749680"/>
            <a:ext cx="4051440" cy="914400"/>
            <a:chOff x="4343400" y="2749680"/>
            <a:chExt cx="4051440" cy="914400"/>
          </a:xfrm>
        </p:grpSpPr>
        <p:sp>
          <p:nvSpPr>
            <p:cNvPr id="690" name="Rectangle 13"/>
            <p:cNvSpPr/>
            <p:nvPr/>
          </p:nvSpPr>
          <p:spPr>
            <a:xfrm>
              <a:off x="4343400" y="2749680"/>
              <a:ext cx="405144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4"/>
            <p:cNvSpPr/>
            <p:nvPr/>
          </p:nvSpPr>
          <p:spPr>
            <a:xfrm>
              <a:off x="4354560" y="2759040"/>
              <a:ext cx="4025880" cy="425520"/>
            </a:xfrm>
            <a:prstGeom prst="rect">
              <a:avLst/>
            </a:prstGeom>
            <a:solidFill>
              <a:srgbClr val="2a9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4356000" y="3156120"/>
              <a:ext cx="4024440" cy="498600"/>
            </a:xfrm>
            <a:prstGeom prst="rect">
              <a:avLst/>
            </a:prstGeom>
            <a:gradFill rotWithShape="0">
              <a:gsLst>
                <a:gs pos="0">
                  <a:srgbClr val="2a9f84"/>
                </a:gs>
                <a:gs pos="100000">
                  <a:srgbClr val="7dc5b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6"/>
          <p:cNvSpPr/>
          <p:nvPr/>
        </p:nvSpPr>
        <p:spPr>
          <a:xfrm>
            <a:off x="4711680" y="326880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7"/>
          <p:cNvGrpSpPr/>
          <p:nvPr/>
        </p:nvGrpSpPr>
        <p:grpSpPr>
          <a:xfrm>
            <a:off x="4330800" y="3957480"/>
            <a:ext cx="4051080" cy="914400"/>
            <a:chOff x="4330800" y="3957480"/>
            <a:chExt cx="4051080" cy="914400"/>
          </a:xfrm>
        </p:grpSpPr>
        <p:sp>
          <p:nvSpPr>
            <p:cNvPr id="695" name="Rectangle 18"/>
            <p:cNvSpPr/>
            <p:nvPr/>
          </p:nvSpPr>
          <p:spPr>
            <a:xfrm>
              <a:off x="4330800" y="3957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9"/>
            <p:cNvSpPr/>
            <p:nvPr/>
          </p:nvSpPr>
          <p:spPr>
            <a:xfrm>
              <a:off x="4341600" y="3966840"/>
              <a:ext cx="4025520" cy="416160"/>
            </a:xfrm>
            <a:prstGeom prst="rect">
              <a:avLst/>
            </a:prstGeom>
            <a:solidFill>
              <a:srgbClr val="f67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20"/>
            <p:cNvSpPr/>
            <p:nvPr/>
          </p:nvSpPr>
          <p:spPr>
            <a:xfrm>
              <a:off x="4343040" y="4363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67f61"/>
                </a:gs>
                <a:gs pos="100000">
                  <a:srgbClr val="fbb09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21"/>
          <p:cNvSpPr/>
          <p:nvPr/>
        </p:nvSpPr>
        <p:spPr>
          <a:xfrm>
            <a:off x="4711680" y="44830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22"/>
          <p:cNvGrpSpPr/>
          <p:nvPr/>
        </p:nvGrpSpPr>
        <p:grpSpPr>
          <a:xfrm>
            <a:off x="4330800" y="5181480"/>
            <a:ext cx="4051080" cy="914400"/>
            <a:chOff x="4330800" y="5181480"/>
            <a:chExt cx="4051080" cy="914400"/>
          </a:xfrm>
        </p:grpSpPr>
        <p:sp>
          <p:nvSpPr>
            <p:cNvPr id="700" name="Rectangle 23"/>
            <p:cNvSpPr/>
            <p:nvPr/>
          </p:nvSpPr>
          <p:spPr>
            <a:xfrm>
              <a:off x="4330800" y="51814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24"/>
            <p:cNvSpPr/>
            <p:nvPr/>
          </p:nvSpPr>
          <p:spPr>
            <a:xfrm>
              <a:off x="4341600" y="5190840"/>
              <a:ext cx="4025520" cy="416160"/>
            </a:xfrm>
            <a:prstGeom prst="rect">
              <a:avLst/>
            </a:prstGeom>
            <a:solidFill>
              <a:srgbClr val="fbb4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4343040" y="5587920"/>
              <a:ext cx="4024080" cy="498600"/>
            </a:xfrm>
            <a:prstGeom prst="rect">
              <a:avLst/>
            </a:prstGeom>
            <a:gradFill rotWithShape="0">
              <a:gsLst>
                <a:gs pos="0">
                  <a:srgbClr val="fbb426"/>
                </a:gs>
                <a:gs pos="100000">
                  <a:srgbClr val="fdd1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Text Box 26"/>
          <p:cNvSpPr/>
          <p:nvPr/>
        </p:nvSpPr>
        <p:spPr>
          <a:xfrm>
            <a:off x="4711680" y="5703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5154480" y="15858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8"/>
          <p:cNvSpPr/>
          <p:nvPr/>
        </p:nvSpPr>
        <p:spPr>
          <a:xfrm>
            <a:off x="5187960" y="274320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9"/>
          <p:cNvSpPr/>
          <p:nvPr/>
        </p:nvSpPr>
        <p:spPr>
          <a:xfrm>
            <a:off x="5187960" y="393552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5187960" y="5154480"/>
            <a:ext cx="243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1"/>
          <p:cNvGrpSpPr/>
          <p:nvPr/>
        </p:nvGrpSpPr>
        <p:grpSpPr>
          <a:xfrm>
            <a:off x="533520" y="1981080"/>
            <a:ext cx="2831760" cy="2376360"/>
            <a:chOff x="533520" y="1981080"/>
            <a:chExt cx="2831760" cy="2376360"/>
          </a:xfrm>
        </p:grpSpPr>
        <p:sp>
          <p:nvSpPr>
            <p:cNvPr id="709" name="Freeform 32"/>
            <p:cNvSpPr/>
            <p:nvPr/>
          </p:nvSpPr>
          <p:spPr>
            <a:xfrm flipH="1">
              <a:off x="1801080" y="3643200"/>
              <a:ext cx="1335240" cy="68580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"/>
            <p:cNvSpPr/>
            <p:nvPr/>
          </p:nvSpPr>
          <p:spPr>
            <a:xfrm>
              <a:off x="1019160" y="3473280"/>
              <a:ext cx="1400400" cy="663480"/>
            </a:xfrm>
            <a:custGeom>
              <a:avLst/>
              <a:gdLst>
                <a:gd name="textAreaLeft" fmla="*/ 0 w 1400400"/>
                <a:gd name="textAreaRight" fmla="*/ 1400400 w 140040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4"/>
            <p:cNvSpPr/>
            <p:nvPr/>
          </p:nvSpPr>
          <p:spPr>
            <a:xfrm>
              <a:off x="533520" y="3795480"/>
              <a:ext cx="1187280" cy="5619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35"/>
            <p:cNvGrpSpPr/>
            <p:nvPr/>
          </p:nvGrpSpPr>
          <p:grpSpPr>
            <a:xfrm>
              <a:off x="1279440" y="1981080"/>
              <a:ext cx="2085840" cy="2364840"/>
              <a:chOff x="1279440" y="1981080"/>
              <a:chExt cx="2085840" cy="2364840"/>
            </a:xfrm>
          </p:grpSpPr>
          <p:sp>
            <p:nvSpPr>
              <p:cNvPr id="713" name="Freeform 36"/>
              <p:cNvSpPr/>
              <p:nvPr/>
            </p:nvSpPr>
            <p:spPr>
              <a:xfrm flipH="1">
                <a:off x="2695680" y="2619360"/>
                <a:ext cx="669600" cy="1690920"/>
              </a:xfrm>
              <a:custGeom>
                <a:avLst/>
                <a:gdLst>
                  <a:gd name="textAreaLeft" fmla="*/ 0 w 669600"/>
                  <a:gd name="textAreaRight" fmla="*/ 669600 w 669600"/>
                  <a:gd name="textAreaTop" fmla="*/ 0 h 1690920"/>
                  <a:gd name="textAreaBottom" fmla="*/ 1691280 h 16909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37"/>
              <p:cNvSpPr/>
              <p:nvPr/>
            </p:nvSpPr>
            <p:spPr>
              <a:xfrm flipH="1">
                <a:off x="1878120" y="1981080"/>
                <a:ext cx="842400" cy="2127240"/>
              </a:xfrm>
              <a:custGeom>
                <a:avLst/>
                <a:gdLst>
                  <a:gd name="textAreaLeft" fmla="*/ 360 w 842400"/>
                  <a:gd name="textAreaRight" fmla="*/ 843120 w 842400"/>
                  <a:gd name="textAreaTop" fmla="*/ 0 h 2127240"/>
                  <a:gd name="textAreaBottom" fmla="*/ 2127600 h 21272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1c1c1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38"/>
              <p:cNvSpPr/>
              <p:nvPr/>
            </p:nvSpPr>
            <p:spPr>
              <a:xfrm flipH="1">
                <a:off x="1279080" y="265464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9c9c9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3"/>
          <p:cNvSpPr/>
          <p:nvPr/>
        </p:nvSpPr>
        <p:spPr>
          <a:xfrm>
            <a:off x="37152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17993"/>
              </a:gs>
              <a:gs pos="100000">
                <a:srgbClr val="44a8cc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4343400" y="1905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5"/>
          <p:cNvSpPr/>
          <p:nvPr/>
        </p:nvSpPr>
        <p:spPr>
          <a:xfrm>
            <a:off x="2556000" y="3962520"/>
            <a:ext cx="1885680" cy="201744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e715e"/>
              </a:gs>
              <a:gs pos="100000">
                <a:srgbClr val="2a9f84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6"/>
          <p:cNvSpPr/>
          <p:nvPr/>
        </p:nvSpPr>
        <p:spPr>
          <a:xfrm>
            <a:off x="4707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05b45"/>
              </a:gs>
              <a:gs pos="100000">
                <a:srgbClr val="f67f61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7"/>
          <p:cNvSpPr/>
          <p:nvPr/>
        </p:nvSpPr>
        <p:spPr>
          <a:xfrm>
            <a:off x="6858000" y="396252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d881c"/>
              </a:gs>
              <a:gs pos="100000">
                <a:srgbClr val="fbb426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"/>
          <p:cNvSpPr/>
          <p:nvPr/>
        </p:nvSpPr>
        <p:spPr>
          <a:xfrm>
            <a:off x="8721720" y="4245120"/>
            <a:ext cx="3240" cy="1463400"/>
          </a:xfrm>
          <a:prstGeom prst="line">
            <a:avLst/>
          </a:prstGeom>
          <a:ln w="19080">
            <a:solidFill>
              <a:srgbClr val="080808">
                <a:alpha val="1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503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3906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1"/>
          <p:cNvSpPr/>
          <p:nvPr/>
        </p:nvSpPr>
        <p:spPr>
          <a:xfrm>
            <a:off x="255276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4694400" y="4191120"/>
            <a:ext cx="18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6858000" y="419112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264312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805280" y="495288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6956280" y="495288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7"/>
          <p:cNvGrpSpPr/>
          <p:nvPr/>
        </p:nvGrpSpPr>
        <p:grpSpPr>
          <a:xfrm>
            <a:off x="1371600" y="1523880"/>
            <a:ext cx="2298600" cy="2298960"/>
            <a:chOff x="1371600" y="1523880"/>
            <a:chExt cx="2298600" cy="2298960"/>
          </a:xfrm>
        </p:grpSpPr>
        <p:pic>
          <p:nvPicPr>
            <p:cNvPr id="731" name="Picture 18" descr="worldmap_ani8"/>
            <p:cNvPicPr/>
            <p:nvPr/>
          </p:nvPicPr>
          <p:blipFill>
            <a:blip r:embed="rId2"/>
            <a:stretch/>
          </p:blipFill>
          <p:spPr>
            <a:xfrm>
              <a:off x="1500480" y="1647000"/>
              <a:ext cx="206928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AutoShape 19"/>
            <p:cNvSpPr/>
            <p:nvPr/>
          </p:nvSpPr>
          <p:spPr>
            <a:xfrm>
              <a:off x="1371600" y="1523880"/>
              <a:ext cx="2298600" cy="2298960"/>
            </a:xfrm>
            <a:custGeom>
              <a:avLst/>
              <a:gdLst>
                <a:gd name="textAreaLeft" fmla="*/ 0 w 2298600"/>
                <a:gd name="textAreaRight" fmla="*/ 2298960 w 2298600"/>
                <a:gd name="textAreaTop" fmla="*/ 0 h 2298960"/>
                <a:gd name="textAreaBottom" fmla="*/ 2299320 h 229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159" y="10800"/>
                  </a:moveTo>
                  <a:cubicBezTo>
                    <a:pt x="1159" y="16125"/>
                    <a:pt x="5475" y="20441"/>
                    <a:pt x="10800" y="20441"/>
                  </a:cubicBezTo>
                  <a:cubicBezTo>
                    <a:pt x="16125" y="20441"/>
                    <a:pt x="20441" y="16125"/>
                    <a:pt x="20441" y="10800"/>
                  </a:cubicBezTo>
                  <a:cubicBezTo>
                    <a:pt x="20441" y="5475"/>
                    <a:pt x="16125" y="1159"/>
                    <a:pt x="10800" y="1159"/>
                  </a:cubicBezTo>
                  <a:cubicBezTo>
                    <a:pt x="5475" y="1159"/>
                    <a:pt x="1159" y="5475"/>
                    <a:pt x="1159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AutoShape 20"/>
          <p:cNvSpPr/>
          <p:nvPr/>
        </p:nvSpPr>
        <p:spPr>
          <a:xfrm>
            <a:off x="230040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44a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1"/>
          <p:cNvSpPr/>
          <p:nvPr/>
        </p:nvSpPr>
        <p:spPr>
          <a:xfrm>
            <a:off x="4441680" y="477684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2a9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6593040" y="477684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457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2635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48132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6978600" y="46483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095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Corbel"/>
                <a:ea typeface="Gulim"/>
              </a:rPr>
              <a:t>Click to edit title style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1523880" y="1830240"/>
            <a:ext cx="6400080" cy="3361680"/>
            <a:chOff x="1523880" y="1830240"/>
            <a:chExt cx="6400080" cy="3361680"/>
          </a:xfrm>
        </p:grpSpPr>
        <p:grpSp>
          <p:nvGrpSpPr>
            <p:cNvPr id="743" name="Group 4"/>
            <p:cNvGrpSpPr/>
            <p:nvPr/>
          </p:nvGrpSpPr>
          <p:grpSpPr>
            <a:xfrm>
              <a:off x="1523880" y="1888920"/>
              <a:ext cx="4260600" cy="3303000"/>
              <a:chOff x="1523880" y="1888920"/>
              <a:chExt cx="4260600" cy="3303000"/>
            </a:xfrm>
          </p:grpSpPr>
          <p:sp>
            <p:nvSpPr>
              <p:cNvPr id="744" name="Freeform 5"/>
              <p:cNvSpPr/>
              <p:nvPr/>
            </p:nvSpPr>
            <p:spPr>
              <a:xfrm>
                <a:off x="2192760" y="1919160"/>
                <a:ext cx="244440" cy="10044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6"/>
              <p:cNvSpPr/>
              <p:nvPr/>
            </p:nvSpPr>
            <p:spPr>
              <a:xfrm>
                <a:off x="2346480" y="19717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7"/>
              <p:cNvSpPr/>
              <p:nvPr/>
            </p:nvSpPr>
            <p:spPr>
              <a:xfrm>
                <a:off x="1884960" y="240444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8"/>
              <p:cNvSpPr/>
              <p:nvPr/>
            </p:nvSpPr>
            <p:spPr>
              <a:xfrm>
                <a:off x="1800720" y="2479680"/>
                <a:ext cx="109080" cy="10800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9"/>
              <p:cNvSpPr/>
              <p:nvPr/>
            </p:nvSpPr>
            <p:spPr>
              <a:xfrm>
                <a:off x="4407840" y="428652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10"/>
              <p:cNvSpPr/>
              <p:nvPr/>
            </p:nvSpPr>
            <p:spPr>
              <a:xfrm>
                <a:off x="4640040" y="3871800"/>
                <a:ext cx="502920" cy="333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720"/>
                  <a:gd name="textAreaBottom" fmla="*/ 334080 h 33372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4654080" y="387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016960" y="5099400"/>
                <a:ext cx="70560" cy="9252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230800" y="495720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498640" y="4877640"/>
                <a:ext cx="164520" cy="1450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5586120" y="481212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6"/>
              <p:cNvSpPr/>
              <p:nvPr/>
            </p:nvSpPr>
            <p:spPr>
              <a:xfrm>
                <a:off x="2920320" y="4050720"/>
                <a:ext cx="193680" cy="31932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9320"/>
                  <a:gd name="textAreaBottom" fmla="*/ 319680 h 31932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7"/>
              <p:cNvSpPr/>
              <p:nvPr/>
            </p:nvSpPr>
            <p:spPr>
              <a:xfrm>
                <a:off x="3758760" y="355392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8"/>
              <p:cNvSpPr/>
              <p:nvPr/>
            </p:nvSpPr>
            <p:spPr>
              <a:xfrm>
                <a:off x="4232880" y="3648240"/>
                <a:ext cx="174960" cy="290160"/>
              </a:xfrm>
              <a:custGeom>
                <a:avLst/>
                <a:gdLst>
                  <a:gd name="textAreaLeft" fmla="*/ 0 w 174960"/>
                  <a:gd name="textAreaRight" fmla="*/ 175320 w 174960"/>
                  <a:gd name="textAreaTop" fmla="*/ 0 h 290160"/>
                  <a:gd name="textAreaBottom" fmla="*/ 290520 h 29016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9"/>
              <p:cNvSpPr/>
              <p:nvPr/>
            </p:nvSpPr>
            <p:spPr>
              <a:xfrm>
                <a:off x="4084920" y="3557160"/>
                <a:ext cx="113760" cy="2170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20"/>
              <p:cNvSpPr/>
              <p:nvPr/>
            </p:nvSpPr>
            <p:spPr>
              <a:xfrm>
                <a:off x="4161960" y="373140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1"/>
              <p:cNvSpPr/>
              <p:nvPr/>
            </p:nvSpPr>
            <p:spPr>
              <a:xfrm>
                <a:off x="4232880" y="3949920"/>
                <a:ext cx="102600" cy="8604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22"/>
              <p:cNvSpPr/>
              <p:nvPr/>
            </p:nvSpPr>
            <p:spPr>
              <a:xfrm>
                <a:off x="4397040" y="379836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3"/>
              <p:cNvSpPr/>
              <p:nvPr/>
            </p:nvSpPr>
            <p:spPr>
              <a:xfrm>
                <a:off x="4403160" y="3144960"/>
                <a:ext cx="34920" cy="11340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4"/>
              <p:cNvSpPr/>
              <p:nvPr/>
            </p:nvSpPr>
            <p:spPr>
              <a:xfrm>
                <a:off x="4426200" y="3333600"/>
                <a:ext cx="95400" cy="187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5"/>
              <p:cNvSpPr/>
              <p:nvPr/>
            </p:nvSpPr>
            <p:spPr>
              <a:xfrm>
                <a:off x="4443480" y="3571560"/>
                <a:ext cx="99720" cy="12564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563360" y="3795120"/>
                <a:ext cx="44280" cy="78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4537080" y="392616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4580280" y="3909960"/>
                <a:ext cx="70560" cy="5868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689360" y="402156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5109480" y="395460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4483080" y="4048560"/>
                <a:ext cx="72360" cy="799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406400" y="407916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4374000" y="403272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4426200" y="4050720"/>
                <a:ext cx="53640" cy="381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4349520" y="3521880"/>
                <a:ext cx="42840" cy="87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36"/>
              <p:cNvSpPr/>
              <p:nvPr/>
            </p:nvSpPr>
            <p:spPr>
              <a:xfrm>
                <a:off x="4429440" y="350748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37"/>
              <p:cNvSpPr/>
              <p:nvPr/>
            </p:nvSpPr>
            <p:spPr>
              <a:xfrm>
                <a:off x="4464720" y="3480480"/>
                <a:ext cx="15120" cy="399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4480200" y="3499560"/>
                <a:ext cx="33840" cy="766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4057200" y="361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4040280" y="35730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4034160" y="3544560"/>
                <a:ext cx="18360" cy="223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4066200" y="349164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4019040" y="3520440"/>
                <a:ext cx="24120" cy="205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5337000" y="4511880"/>
                <a:ext cx="70560" cy="939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5701680" y="443376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5449320" y="439380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5435640" y="4358520"/>
                <a:ext cx="32400" cy="2700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8"/>
              <p:cNvSpPr/>
              <p:nvPr/>
            </p:nvSpPr>
            <p:spPr>
              <a:xfrm>
                <a:off x="5195520" y="405072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49"/>
              <p:cNvSpPr/>
              <p:nvPr/>
            </p:nvSpPr>
            <p:spPr>
              <a:xfrm>
                <a:off x="5247720" y="411912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0"/>
              <p:cNvSpPr/>
              <p:nvPr/>
            </p:nvSpPr>
            <p:spPr>
              <a:xfrm>
                <a:off x="5290560" y="421812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1"/>
              <p:cNvSpPr/>
              <p:nvPr/>
            </p:nvSpPr>
            <p:spPr>
              <a:xfrm>
                <a:off x="5344920" y="4202280"/>
                <a:ext cx="44640" cy="4104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2"/>
              <p:cNvSpPr/>
              <p:nvPr/>
            </p:nvSpPr>
            <p:spPr>
              <a:xfrm>
                <a:off x="5329440" y="414468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3"/>
              <p:cNvSpPr/>
              <p:nvPr/>
            </p:nvSpPr>
            <p:spPr>
              <a:xfrm>
                <a:off x="5288040" y="4106160"/>
                <a:ext cx="41400" cy="54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4"/>
              <p:cNvSpPr/>
              <p:nvPr/>
            </p:nvSpPr>
            <p:spPr>
              <a:xfrm>
                <a:off x="5236920" y="408096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5"/>
              <p:cNvSpPr/>
              <p:nvPr/>
            </p:nvSpPr>
            <p:spPr>
              <a:xfrm>
                <a:off x="5300280" y="416376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2812680" y="199080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2945160" y="2155320"/>
                <a:ext cx="62640" cy="190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3268080" y="190800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3315600" y="192852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3400560" y="1933200"/>
                <a:ext cx="79560" cy="511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3951360" y="1976760"/>
                <a:ext cx="137880" cy="489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2"/>
              <p:cNvSpPr/>
              <p:nvPr/>
            </p:nvSpPr>
            <p:spPr>
              <a:xfrm>
                <a:off x="4092480" y="197496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3"/>
              <p:cNvSpPr/>
              <p:nvPr/>
            </p:nvSpPr>
            <p:spPr>
              <a:xfrm>
                <a:off x="4060440" y="2021400"/>
                <a:ext cx="57960" cy="255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4"/>
              <p:cNvSpPr/>
              <p:nvPr/>
            </p:nvSpPr>
            <p:spPr>
              <a:xfrm>
                <a:off x="4457160" y="2377080"/>
                <a:ext cx="119880" cy="1803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5"/>
              <p:cNvSpPr/>
              <p:nvPr/>
            </p:nvSpPr>
            <p:spPr>
              <a:xfrm>
                <a:off x="4554000" y="256392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6"/>
              <p:cNvSpPr/>
              <p:nvPr/>
            </p:nvSpPr>
            <p:spPr>
              <a:xfrm>
                <a:off x="4497120" y="269172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7"/>
              <p:cNvSpPr/>
              <p:nvPr/>
            </p:nvSpPr>
            <p:spPr>
              <a:xfrm>
                <a:off x="2823480" y="1890360"/>
                <a:ext cx="81360" cy="478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8"/>
              <p:cNvSpPr/>
              <p:nvPr/>
            </p:nvSpPr>
            <p:spPr>
              <a:xfrm>
                <a:off x="2654280" y="190476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9"/>
              <p:cNvSpPr/>
              <p:nvPr/>
            </p:nvSpPr>
            <p:spPr>
              <a:xfrm>
                <a:off x="2692800" y="1903320"/>
                <a:ext cx="58320" cy="428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70"/>
              <p:cNvSpPr/>
              <p:nvPr/>
            </p:nvSpPr>
            <p:spPr>
              <a:xfrm>
                <a:off x="2789640" y="188892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71"/>
              <p:cNvSpPr/>
              <p:nvPr/>
            </p:nvSpPr>
            <p:spPr>
              <a:xfrm>
                <a:off x="2760480" y="1917360"/>
                <a:ext cx="23040" cy="208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2"/>
              <p:cNvSpPr/>
              <p:nvPr/>
            </p:nvSpPr>
            <p:spPr>
              <a:xfrm>
                <a:off x="4558680" y="194292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73"/>
              <p:cNvSpPr/>
              <p:nvPr/>
            </p:nvSpPr>
            <p:spPr>
              <a:xfrm>
                <a:off x="3165120" y="425160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74"/>
              <p:cNvSpPr/>
              <p:nvPr/>
            </p:nvSpPr>
            <p:spPr>
              <a:xfrm>
                <a:off x="3228120" y="424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75"/>
              <p:cNvSpPr/>
              <p:nvPr/>
            </p:nvSpPr>
            <p:spPr>
              <a:xfrm>
                <a:off x="3121920" y="399636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76"/>
              <p:cNvSpPr/>
              <p:nvPr/>
            </p:nvSpPr>
            <p:spPr>
              <a:xfrm>
                <a:off x="3215880" y="3879720"/>
                <a:ext cx="18360" cy="302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77"/>
              <p:cNvSpPr/>
              <p:nvPr/>
            </p:nvSpPr>
            <p:spPr>
              <a:xfrm>
                <a:off x="3178800" y="3878280"/>
                <a:ext cx="16560" cy="298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78"/>
              <p:cNvSpPr/>
              <p:nvPr/>
            </p:nvSpPr>
            <p:spPr>
              <a:xfrm>
                <a:off x="3160440" y="391320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79"/>
              <p:cNvSpPr/>
              <p:nvPr/>
            </p:nvSpPr>
            <p:spPr>
              <a:xfrm>
                <a:off x="3121920" y="3967200"/>
                <a:ext cx="13320" cy="24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80"/>
              <p:cNvSpPr/>
              <p:nvPr/>
            </p:nvSpPr>
            <p:spPr>
              <a:xfrm>
                <a:off x="3151080" y="394668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81"/>
              <p:cNvSpPr/>
              <p:nvPr/>
            </p:nvSpPr>
            <p:spPr>
              <a:xfrm>
                <a:off x="1995840" y="237564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82"/>
              <p:cNvSpPr/>
              <p:nvPr/>
            </p:nvSpPr>
            <p:spPr>
              <a:xfrm>
                <a:off x="1523880" y="1976760"/>
                <a:ext cx="3248640" cy="261324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240"/>
                  <a:gd name="textAreaBottom" fmla="*/ 2613600 h 261324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83"/>
            <p:cNvGrpSpPr/>
            <p:nvPr/>
          </p:nvGrpSpPr>
          <p:grpSpPr>
            <a:xfrm>
              <a:off x="5041800" y="1830240"/>
              <a:ext cx="2882160" cy="3230640"/>
              <a:chOff x="5041800" y="1830240"/>
              <a:chExt cx="2882160" cy="3230640"/>
            </a:xfrm>
          </p:grpSpPr>
          <p:sp>
            <p:nvSpPr>
              <p:cNvPr id="823" name="Freeform 84"/>
              <p:cNvSpPr/>
              <p:nvPr/>
            </p:nvSpPr>
            <p:spPr>
              <a:xfrm>
                <a:off x="5166000" y="1980360"/>
                <a:ext cx="1997640" cy="308052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0520"/>
                  <a:gd name="textAreaBottom" fmla="*/ 3080880 h 308052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85"/>
              <p:cNvSpPr/>
              <p:nvPr/>
            </p:nvSpPr>
            <p:spPr>
              <a:xfrm>
                <a:off x="5103000" y="227376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86"/>
              <p:cNvSpPr/>
              <p:nvPr/>
            </p:nvSpPr>
            <p:spPr>
              <a:xfrm>
                <a:off x="5587560" y="246852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87"/>
              <p:cNvSpPr/>
              <p:nvPr/>
            </p:nvSpPr>
            <p:spPr>
              <a:xfrm>
                <a:off x="6819840" y="2558160"/>
                <a:ext cx="155160" cy="11772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88"/>
              <p:cNvSpPr/>
              <p:nvPr/>
            </p:nvSpPr>
            <p:spPr>
              <a:xfrm>
                <a:off x="6072480" y="3169440"/>
                <a:ext cx="248760" cy="13392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89"/>
              <p:cNvSpPr/>
              <p:nvPr/>
            </p:nvSpPr>
            <p:spPr>
              <a:xfrm>
                <a:off x="6278040" y="3271680"/>
                <a:ext cx="155520" cy="633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90"/>
              <p:cNvSpPr/>
              <p:nvPr/>
            </p:nvSpPr>
            <p:spPr>
              <a:xfrm>
                <a:off x="6442920" y="331128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91"/>
              <p:cNvSpPr/>
              <p:nvPr/>
            </p:nvSpPr>
            <p:spPr>
              <a:xfrm>
                <a:off x="6532200" y="331596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92"/>
              <p:cNvSpPr/>
              <p:nvPr/>
            </p:nvSpPr>
            <p:spPr>
              <a:xfrm>
                <a:off x="6242760" y="197208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93"/>
              <p:cNvSpPr/>
              <p:nvPr/>
            </p:nvSpPr>
            <p:spPr>
              <a:xfrm>
                <a:off x="6369120" y="1906920"/>
                <a:ext cx="230400" cy="954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94"/>
              <p:cNvSpPr/>
              <p:nvPr/>
            </p:nvSpPr>
            <p:spPr>
              <a:xfrm>
                <a:off x="6692040" y="201816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95"/>
              <p:cNvSpPr/>
              <p:nvPr/>
            </p:nvSpPr>
            <p:spPr>
              <a:xfrm>
                <a:off x="6689160" y="188748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96"/>
              <p:cNvSpPr/>
              <p:nvPr/>
            </p:nvSpPr>
            <p:spPr>
              <a:xfrm>
                <a:off x="6556680" y="1999080"/>
                <a:ext cx="102600" cy="655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97"/>
              <p:cNvSpPr/>
              <p:nvPr/>
            </p:nvSpPr>
            <p:spPr>
              <a:xfrm>
                <a:off x="6664320" y="2012040"/>
                <a:ext cx="84600" cy="3816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98"/>
              <p:cNvSpPr/>
              <p:nvPr/>
            </p:nvSpPr>
            <p:spPr>
              <a:xfrm>
                <a:off x="6618240" y="195444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99"/>
              <p:cNvSpPr/>
              <p:nvPr/>
            </p:nvSpPr>
            <p:spPr>
              <a:xfrm>
                <a:off x="6575040" y="190368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00"/>
              <p:cNvSpPr/>
              <p:nvPr/>
            </p:nvSpPr>
            <p:spPr>
              <a:xfrm>
                <a:off x="6755040" y="1908360"/>
                <a:ext cx="179640" cy="12276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01"/>
              <p:cNvSpPr/>
              <p:nvPr/>
            </p:nvSpPr>
            <p:spPr>
              <a:xfrm>
                <a:off x="5041800" y="2297880"/>
                <a:ext cx="39960" cy="23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02"/>
              <p:cNvSpPr/>
              <p:nvPr/>
            </p:nvSpPr>
            <p:spPr>
              <a:xfrm>
                <a:off x="6235200" y="311040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03"/>
              <p:cNvSpPr/>
              <p:nvPr/>
            </p:nvSpPr>
            <p:spPr>
              <a:xfrm>
                <a:off x="6239880" y="315036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04"/>
              <p:cNvSpPr/>
              <p:nvPr/>
            </p:nvSpPr>
            <p:spPr>
              <a:xfrm>
                <a:off x="6561360" y="3359520"/>
                <a:ext cx="24120" cy="187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05"/>
              <p:cNvSpPr/>
              <p:nvPr/>
            </p:nvSpPr>
            <p:spPr>
              <a:xfrm>
                <a:off x="6756840" y="258984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06"/>
              <p:cNvSpPr/>
              <p:nvPr/>
            </p:nvSpPr>
            <p:spPr>
              <a:xfrm>
                <a:off x="6599880" y="22640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07"/>
              <p:cNvSpPr/>
              <p:nvPr/>
            </p:nvSpPr>
            <p:spPr>
              <a:xfrm>
                <a:off x="6701400" y="1980360"/>
                <a:ext cx="61200" cy="284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08"/>
              <p:cNvSpPr/>
              <p:nvPr/>
            </p:nvSpPr>
            <p:spPr>
              <a:xfrm>
                <a:off x="6801480" y="215064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09"/>
              <p:cNvSpPr/>
              <p:nvPr/>
            </p:nvSpPr>
            <p:spPr>
              <a:xfrm>
                <a:off x="6825600" y="183024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10"/>
              <p:cNvSpPr/>
              <p:nvPr/>
            </p:nvSpPr>
            <p:spPr>
              <a:xfrm>
                <a:off x="7162560" y="2122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11"/>
              <p:cNvSpPr/>
              <p:nvPr/>
            </p:nvSpPr>
            <p:spPr>
              <a:xfrm>
                <a:off x="7608960" y="2227680"/>
                <a:ext cx="201600" cy="8604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12"/>
              <p:cNvSpPr/>
              <p:nvPr/>
            </p:nvSpPr>
            <p:spPr>
              <a:xfrm>
                <a:off x="7767360" y="1969200"/>
                <a:ext cx="61200" cy="37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13"/>
              <p:cNvSpPr/>
              <p:nvPr/>
            </p:nvSpPr>
            <p:spPr>
              <a:xfrm>
                <a:off x="7898040" y="232020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53" name="Object 114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1987560" cy="2038320"/>
          </a:xfrm>
          <a:prstGeom prst="rect">
            <a:avLst/>
          </a:prstGeom>
          <a:ln w="0">
            <a:noFill/>
          </a:ln>
        </p:spPr>
      </p:pic>
      <p:pic>
        <p:nvPicPr>
          <p:cNvPr id="854" name="Object 115" descr=""/>
          <p:cNvPicPr/>
          <p:nvPr/>
        </p:nvPicPr>
        <p:blipFill>
          <a:blip r:embed="rId3"/>
          <a:stretch/>
        </p:blipFill>
        <p:spPr>
          <a:xfrm>
            <a:off x="6130800" y="2684520"/>
            <a:ext cx="2022480" cy="1954080"/>
          </a:xfrm>
          <a:prstGeom prst="rect">
            <a:avLst/>
          </a:prstGeom>
          <a:ln w="0">
            <a:noFill/>
          </a:ln>
        </p:spPr>
      </p:pic>
      <p:pic>
        <p:nvPicPr>
          <p:cNvPr id="855" name="Object 116" descr=""/>
          <p:cNvPicPr/>
          <p:nvPr/>
        </p:nvPicPr>
        <p:blipFill>
          <a:blip r:embed="rId4"/>
          <a:stretch/>
        </p:blipFill>
        <p:spPr>
          <a:xfrm>
            <a:off x="3767040" y="3219480"/>
            <a:ext cx="1801800" cy="1819080"/>
          </a:xfrm>
          <a:prstGeom prst="rect">
            <a:avLst/>
          </a:prstGeom>
          <a:ln w="0">
            <a:noFill/>
          </a:ln>
        </p:spPr>
      </p:pic>
      <p:sp>
        <p:nvSpPr>
          <p:cNvPr id="856" name="Line 117"/>
          <p:cNvSpPr/>
          <p:nvPr/>
        </p:nvSpPr>
        <p:spPr>
          <a:xfrm>
            <a:off x="1143000" y="5268960"/>
            <a:ext cx="701028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1219320" y="536724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19"/>
          <p:cNvSpPr/>
          <p:nvPr/>
        </p:nvSpPr>
        <p:spPr>
          <a:xfrm>
            <a:off x="4648320" y="5268960"/>
            <a:ext cx="0" cy="10396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120"/>
          <p:cNvSpPr/>
          <p:nvPr/>
        </p:nvSpPr>
        <p:spPr>
          <a:xfrm>
            <a:off x="685800" y="1754280"/>
            <a:ext cx="266688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121"/>
          <p:cNvSpPr/>
          <p:nvPr/>
        </p:nvSpPr>
        <p:spPr>
          <a:xfrm>
            <a:off x="3124080" y="2744640"/>
            <a:ext cx="2590920" cy="371520"/>
          </a:xfrm>
          <a:prstGeom prst="wedgeRectCallout">
            <a:avLst>
              <a:gd name="adj1" fmla="val 13902"/>
              <a:gd name="adj2" fmla="val 124356"/>
            </a:avLst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22"/>
          <p:cNvSpPr/>
          <p:nvPr/>
        </p:nvSpPr>
        <p:spPr>
          <a:xfrm>
            <a:off x="6248520" y="2220840"/>
            <a:ext cx="2514600" cy="371520"/>
          </a:xfrm>
          <a:prstGeom prst="wedgeRectCallout">
            <a:avLst>
              <a:gd name="adj1" fmla="val -25694"/>
              <a:gd name="adj2" fmla="val 119226"/>
            </a:avLst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23"/>
          <p:cNvSpPr/>
          <p:nvPr/>
        </p:nvSpPr>
        <p:spPr>
          <a:xfrm>
            <a:off x="4876920" y="5397480"/>
            <a:ext cx="180720" cy="181080"/>
          </a:xfrm>
          <a:prstGeom prst="ellipse">
            <a:avLst/>
          </a:prstGeom>
          <a:solidFill>
            <a:srgbClr val="44a8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4"/>
          <p:cNvSpPr/>
          <p:nvPr/>
        </p:nvSpPr>
        <p:spPr>
          <a:xfrm>
            <a:off x="5092200" y="53402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125"/>
          <p:cNvSpPr/>
          <p:nvPr/>
        </p:nvSpPr>
        <p:spPr>
          <a:xfrm>
            <a:off x="4876920" y="5722920"/>
            <a:ext cx="180720" cy="181080"/>
          </a:xfrm>
          <a:prstGeom prst="ellipse">
            <a:avLst/>
          </a:prstGeom>
          <a:solidFill>
            <a:srgbClr val="f67f6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6"/>
          <p:cNvSpPr/>
          <p:nvPr/>
        </p:nvSpPr>
        <p:spPr>
          <a:xfrm>
            <a:off x="5092200" y="56386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27"/>
          <p:cNvSpPr/>
          <p:nvPr/>
        </p:nvSpPr>
        <p:spPr>
          <a:xfrm>
            <a:off x="4876920" y="6045120"/>
            <a:ext cx="180720" cy="181080"/>
          </a:xfrm>
          <a:prstGeom prst="ellipse">
            <a:avLst/>
          </a:prstGeom>
          <a:solidFill>
            <a:srgbClr val="2a9f84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28"/>
          <p:cNvSpPr/>
          <p:nvPr/>
        </p:nvSpPr>
        <p:spPr>
          <a:xfrm>
            <a:off x="5092200" y="598788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29"/>
          <p:cNvSpPr/>
          <p:nvPr/>
        </p:nvSpPr>
        <p:spPr>
          <a:xfrm>
            <a:off x="1835280" y="623736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7f61"/>
                </a:solidFill>
                <a:uFillTx/>
                <a:latin typeface="Arial"/>
                <a:ea typeface="宋体"/>
                <a:hlinkClick r:id="rId5"/>
              </a:rPr>
              <a:t>ppt图片素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Corbel"/>
                <a:ea typeface="宋体"/>
              </a:rPr>
              <a:t>使用规范说明</a:t>
            </a:r>
            <a:endParaRPr b="1" lang="en-US" sz="4400" spc="-1" strike="noStrike">
              <a:solidFill>
                <a:srgbClr val="333333"/>
              </a:solidFill>
              <a:latin typeface="Corbe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67f61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7:5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33:53Z</dcterms:modified>
  <cp:revision>4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