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A09-29FA-4E1D-857B-0A802050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7AE-CB4E-43AA-8EA9-BF1197C8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152-22DC-4E9F-8C3F-38F0185E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81A-C852-47B2-B9F1-CB8AE376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2C5-6EB8-47C1-801B-49EE193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E0E-A879-4800-AA1B-32D3441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C26-AF2D-47B7-9F84-979E0D6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53D-A6D9-46EF-9539-0A928E0A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1FC-25DA-410C-8FA1-D880DA4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8C1-A428-4A84-9A5F-BEDDE240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9A3-159C-428D-ABDC-FA6551C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210-A541-448B-B156-19EEB7B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652B-59AC-4681-B30A-8EC1E4D91B2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9118;&#38083;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4.jpeg"/><Relationship Id="rId8" Type="http://schemas.openxmlformats.org/officeDocument/2006/relationships/image" Target="../media/image11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0.jpeg"/><Relationship Id="rId10" Type="http://schemas.openxmlformats.org/officeDocument/2006/relationships/image" Target="../media/image27.png"/><Relationship Id="rId11" Type="http://schemas.openxmlformats.org/officeDocument/2006/relationships/hyperlink" Target="http://baike.baidu.com/view/116800.htm" TargetMode="External"/><Relationship Id="rId12" Type="http://schemas.openxmlformats.org/officeDocument/2006/relationships/hyperlink" Target="http://baike.baidu.com/view/59961.htm" TargetMode="External"/><Relationship Id="rId13" Type="http://schemas.openxmlformats.org/officeDocument/2006/relationships/hyperlink" Target="http://baike.baidu.com/view/26165.htm" TargetMode="External"/><Relationship Id="rId14" Type="http://schemas.openxmlformats.org/officeDocument/2006/relationships/hyperlink" Target="http://baike.baidu.com/view/26165.ht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0" y="762120"/>
            <a:ext cx="144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2120"/>
            <a:ext cx="205740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2590920"/>
            <a:ext cx="205740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4419720"/>
            <a:ext cx="2057400" cy="175248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057400" y="762120"/>
            <a:ext cx="205740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057400" y="2590920"/>
            <a:ext cx="205740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057400" y="4419720"/>
            <a:ext cx="2057400" cy="175248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114800" y="762120"/>
            <a:ext cx="205740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14800" y="2590920"/>
            <a:ext cx="2057400" cy="182880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114800" y="4419720"/>
            <a:ext cx="2057400" cy="175248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867360" y="230184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6172200" y="762120"/>
            <a:ext cx="2971800" cy="5410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魅力广州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6477120" y="2409840"/>
            <a:ext cx="2438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f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9280" y="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魅力广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87431 9.3E-005 E">
                                      <p:cBhvr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87431 0.005648 E">
                                      <p:cBhvr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54097 9.3E-005 E">
                                      <p:cBhvr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625 -0.011111 E">
                                      <p:cBhvr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54236 0.005648 E">
                                      <p:cBhvr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4236 9.3E-005 E">
                                      <p:cBhvr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76320" y="76320"/>
            <a:ext cx="8991360" cy="1066680"/>
          </a:xfrm>
          <a:prstGeom prst="roundRect">
            <a:avLst>
              <a:gd name="adj" fmla="val 1018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ff33"/>
                </a:solidFill>
                <a:latin typeface="Arial"/>
              </a:rPr>
              <a:t>Content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76320" y="1219320"/>
            <a:ext cx="8991360" cy="5638680"/>
          </a:xfrm>
          <a:prstGeom prst="roundRect">
            <a:avLst>
              <a:gd name="adj" fmla="val 273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>
            <a:hlinkClick r:id="rId1"/>
          </p:cNvPr>
          <p:cNvSpPr/>
          <p:nvPr/>
        </p:nvSpPr>
        <p:spPr>
          <a:xfrm rot="7200000">
            <a:off x="6743520" y="1638000"/>
            <a:ext cx="205740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 rot="6960000">
            <a:off x="6057360" y="2095200"/>
            <a:ext cx="205740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 rot="1620000">
            <a:off x="5181480" y="2286000"/>
            <a:ext cx="205740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 rot="1500000">
            <a:off x="4266720" y="2666880"/>
            <a:ext cx="205740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 rot="1440000">
            <a:off x="3580920" y="2819520"/>
            <a:ext cx="2057400" cy="182880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 rot="1020000">
            <a:off x="2819160" y="3200400"/>
            <a:ext cx="205740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 rot="1200000">
            <a:off x="1828800" y="3505320"/>
            <a:ext cx="2057400" cy="175248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 rot="1440000">
            <a:off x="609120" y="3123720"/>
            <a:ext cx="2057400" cy="175284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2">
            <a:hlinkClick r:id="" action="ppaction://hlinkshowjump?jump=nextslide"/>
          </p:cNvPr>
          <p:cNvSpPr/>
          <p:nvPr/>
        </p:nvSpPr>
        <p:spPr>
          <a:xfrm>
            <a:off x="8304120" y="5638680"/>
            <a:ext cx="685800" cy="6426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五羊石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291440" y="5640480"/>
            <a:ext cx="9381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山纪念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324480" y="5638680"/>
            <a:ext cx="9255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镇海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584680" y="5638680"/>
            <a:ext cx="663840" cy="6426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黄埔军校旧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800600" y="5638680"/>
            <a:ext cx="70812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沙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3809880" y="5638680"/>
            <a:ext cx="9399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云台花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743200" y="5638680"/>
            <a:ext cx="103500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白云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295280" y="5638680"/>
            <a:ext cx="110520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烈士陵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74167 -0.11666 E">
                                      <p:cBhvr>
                                        <p:cTn id="17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24931 -0.061019 E">
                                      <p:cBhvr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9097 0.066759 E">
                                      <p:cBhvr>
                                        <p:cTn id="17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4097 0.122315 E">
                                      <p:cBhvr>
                                        <p:cTn id="17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236 0.233426 E">
                                      <p:cBhvr>
                                        <p:cTn id="18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5903 -0.32213 E">
                                      <p:cBhvr>
                                        <p:cTn id="18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556 L 0.475 -0.18889 E">
                                      <p:cBhvr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5903 0.205648 E">
                                      <p:cBhvr>
                                        <p:cTn id="18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5787 L -0.87066 -0.62431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44 -0.05787 L -0.706944 -0.502315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889 -0.037778 L -0.508889 -0.337778 E">
                                      <p:cBhvr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944 -0.077685 L -0.321944 -0.255463 E">
                                      <p:cBhvr>
                                        <p:cTn id="19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944 -0.046667 L -0.055278 -0.113333 E">
                                      <p:cBhvr>
                                        <p:cTn id="19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014 -0.026759 L 0.407014 -0.582315 E">
                                      <p:cBhvr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3 -0.07106 L 0.40173 -0.33773 E">
                                      <p:cBhvr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75 -0.02662 L 0.49792 -0.22662 E">
                                      <p:cBhvr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83808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819520" y="1676520"/>
            <a:ext cx="107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山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02920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纪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723888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念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762120" y="495288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堂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819520" y="495288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105520" y="502920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迎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7238880" y="5181480"/>
            <a:ext cx="10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您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457200" y="1219320"/>
            <a:ext cx="1800360" cy="180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2590920" y="1219320"/>
            <a:ext cx="1800000" cy="180000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800600" y="1219320"/>
            <a:ext cx="1800360" cy="18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7010280" y="1219320"/>
            <a:ext cx="1800360" cy="1800000"/>
          </a:xfrm>
          <a:prstGeom prst="ellipse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2438280" y="4800600"/>
            <a:ext cx="1800360" cy="180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4648320" y="4876920"/>
            <a:ext cx="1800000" cy="180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380880" y="4800600"/>
            <a:ext cx="1800360" cy="180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6934320" y="4876920"/>
            <a:ext cx="1800000" cy="180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1219320"/>
            <a:ext cx="9144000" cy="5638680"/>
          </a:xfrm>
          <a:prstGeom prst="roundRect">
            <a:avLst>
              <a:gd name="adj" fmla="val 3241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029200" y="1219320"/>
            <a:ext cx="4114800" cy="5638680"/>
          </a:xfrm>
          <a:custGeom>
            <a:avLst/>
            <a:gdLst>
              <a:gd name="textAreaLeft" fmla="*/ 41760 w 4114800"/>
              <a:gd name="textAreaRight" fmla="*/ 4073040 w 4114800"/>
              <a:gd name="textAreaTop" fmla="*/ 41760 h 5638680"/>
              <a:gd name="textAreaBottom" fmla="*/ 5596920 h 5638680"/>
            </a:gdLst>
            <a:ahLst/>
            <a:rect l="textAreaLeft" t="textAreaTop" r="textAreaRight" b="textAreaBottom"/>
            <a:pathLst>
              <a:path w="21600" h="29599">
                <a:moveTo>
                  <a:pt x="753" y="0"/>
                </a:moveTo>
                <a:arcTo wR="753" hR="753" stAng="16200000" swAng="-5400000"/>
                <a:lnTo>
                  <a:pt x="0" y="28846"/>
                </a:lnTo>
                <a:arcTo wR="753" hR="753" stAng="10800000" swAng="-5400000"/>
                <a:lnTo>
                  <a:pt x="20847" y="29599"/>
                </a:lnTo>
                <a:arcTo wR="753" hR="753" stAng="5400000" swAng="-5400000"/>
                <a:lnTo>
                  <a:pt x="21600" y="753"/>
                </a:lnTo>
                <a:arcTo wR="753" hR="753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12313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广州中山纪念堂是广州最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标性的建筑物之一，又是广州市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型集会和演出的重要场所。它见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了广州的许多历史大事：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936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年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广州市各界人士在此举行禁烟大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行；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945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年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9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月，驻广州地区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日本侵略军在这里签字投降解放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，每年各种纪念孙中山先生的活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、省市的重要集会和文艺演出都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这里举行，如教育基金百万行、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州国际集体婚礼、纪念毛泽东诞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0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、纪念红军长征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6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纪念抗日战争胜利和世界反法西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战争胜利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5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等等。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114" name="AutoShape 21"/>
            <p:cNvSpPr/>
            <p:nvPr/>
          </p:nvSpPr>
          <p:spPr>
            <a:xfrm>
              <a:off x="0" y="0"/>
              <a:ext cx="9144000" cy="10666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WordArt 22"/>
            <p:cNvSpPr txBox="1"/>
            <p:nvPr/>
          </p:nvSpPr>
          <p:spPr>
            <a:xfrm>
              <a:off x="155520" y="152280"/>
              <a:ext cx="32734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中山纪念堂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564E-006 L 0.00156 -0.50855 E">
                                      <p:cBhvr>
                                        <p:cTn id="218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90564E-006 L 0.00156 -0.50855 E">
                                      <p:cBhvr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564E-006 L 0.00156 -0.49745 E">
                                      <p:cBhvr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90564E-006 L 0.00157 -0.49745 E">
                                      <p:cBhvr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73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500"/>
                            </p:stCondLst>
                            <p:childTnLst>
                              <p:par>
                                <p:cTn id="3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0181"/>
            </a:avLst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Arial"/>
              </a:rPr>
              <a:t>镇海楼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124080" y="380880"/>
            <a:ext cx="1441440" cy="1440000"/>
          </a:xfrm>
          <a:prstGeom prst="ellipse">
            <a:avLst/>
          </a:prstGeom>
          <a:blipFill rotWithShape="0">
            <a:blip r:embed="rId1">
              <a:alphaModFix amt="90000"/>
            </a:blip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2895480" y="5418000"/>
            <a:ext cx="144144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1447920" y="1600200"/>
            <a:ext cx="144144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5181480" y="457200"/>
            <a:ext cx="144144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629400" y="1905120"/>
            <a:ext cx="1441440" cy="1439640"/>
          </a:xfrm>
          <a:prstGeom prst="ellipse">
            <a:avLst/>
          </a:prstGeom>
          <a:blipFill rotWithShape="0">
            <a:blip r:embed="rId5">
              <a:alphaModFix amt="90000"/>
            </a:blip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105520" y="5418000"/>
            <a:ext cx="1441440" cy="144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1295280" y="3886200"/>
            <a:ext cx="1441440" cy="1440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6553080" y="3962520"/>
            <a:ext cx="1441440" cy="1439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2819520" y="1828800"/>
            <a:ext cx="3733560" cy="358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905120" y="1219320"/>
            <a:ext cx="5562360" cy="53337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2819520" y="1905120"/>
            <a:ext cx="3809880" cy="4038480"/>
          </a:xfrm>
          <a:custGeom>
            <a:avLst/>
            <a:gdLst>
              <a:gd name="textAreaLeft" fmla="*/ 28080 w 3809880"/>
              <a:gd name="textAreaRight" fmla="*/ 3781800 w 3809880"/>
              <a:gd name="textAreaTop" fmla="*/ 28080 h 4038480"/>
              <a:gd name="textAreaBottom" fmla="*/ 4010400 h 4038480"/>
            </a:gdLst>
            <a:ahLst/>
            <a:rect l="textAreaLeft" t="textAreaTop" r="textAreaRight" b="textAreaBottom"/>
            <a:pathLst>
              <a:path w="21600" h="22896">
                <a:moveTo>
                  <a:pt x="550" y="0"/>
                </a:moveTo>
                <a:arcTo wR="550" hR="550" stAng="16200000" swAng="-5400000"/>
                <a:lnTo>
                  <a:pt x="0" y="22346"/>
                </a:lnTo>
                <a:arcTo wR="550" hR="550" stAng="10800000" swAng="-5400000"/>
                <a:lnTo>
                  <a:pt x="21050" y="22896"/>
                </a:lnTo>
                <a:arcTo wR="550" hR="550" stAng="5400000" swAng="-5400000"/>
                <a:lnTo>
                  <a:pt x="21600" y="550"/>
                </a:lnTo>
                <a:arcTo wR="550" hR="550" stAng="0" swAng="-5400000"/>
                <a:close/>
              </a:path>
            </a:pathLst>
          </a:custGeom>
          <a:blipFill rotWithShape="0">
            <a:blip r:embed="rId10">
              <a:alphaModFix amt="3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1"/>
              </a:rPr>
              <a:t>镇海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楼坐落在越秀山小蟠龙冈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。该楼又名“</a:t>
            </a: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2"/>
              </a:rPr>
              <a:t>望海楼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”，因当时</a:t>
            </a: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3"/>
              </a:rPr>
              <a:t>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4"/>
              </a:rPr>
              <a:t>海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河道甚宽，故将“望江”变为“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海”。又因楼高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，故又俗称“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楼”。楼前碑廊有历代碑刻，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侧陈列有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门古炮。镇海楼是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州标志性建筑之一。全楼高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呈长方形，阔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31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，深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16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。下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两层围墙用红砂岩条石砌造，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以上为砖墙，外墙逐层收减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有复檐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，绿琉璃瓦覆盖，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有石湾彩釉鳌鱼花脊，朱红墙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瓦砌成，巍峨壮观，被誉为“岭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第一胜览”。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5 0.311111 E">
                                      <p:cBhvr>
                                        <p:cTn id="41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25 0.139537 E">
                                      <p:cBhvr>
                                        <p:cTn id="4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4583 -0.149352 E">
                                      <p:cBhvr>
                                        <p:cTn id="42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7917 -0.349352 E">
                                      <p:cBhvr>
                                        <p:cTn id="42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0417 -0.349352 E">
                                      <p:cBhvr>
                                        <p:cTn id="42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0417 -0.160463 E">
                                      <p:cBhvr>
                                        <p:cTn id="42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875 0.095093 E">
                                      <p:cBhvr>
                                        <p:cTn id="43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875 0.295093 E">
                                      <p:cBhvr>
                                        <p:cTn id="43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83 0.339537 L -0.112083 -0.438241 E">
                                      <p:cBhvr>
                                        <p:cTn id="43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2917 0.161759 L -0.362083 -0.271574 E">
                                      <p:cBhvr>
                                        <p:cTn id="43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583 -0.149352 L -0.378681 0.195093 E">
                                      <p:cBhvr>
                                        <p:cTn id="43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25 -0.360463 L -0.262083 0.395093 E">
                                      <p:cBhvr>
                                        <p:cTn id="44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75 -0.360463 L 0.07125 0.406204 E">
                                      <p:cBhvr>
                                        <p:cTn id="44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417 -0.171574 L 0.337917 0.306204 E">
                                      <p:cBhvr>
                                        <p:cTn id="44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75 0.1 L 0.34625 -0.116019 E">
                                      <p:cBhvr>
                                        <p:cTn id="4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17 0.328426 L 0.19625 -0.404815 E">
                                      <p:cBhvr>
                                        <p:cTn id="44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FD5-5ABA-48EB-92EC-1A865CDBDB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22:55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4:39:10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