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A6A-088F-4280-B6BD-2D053E3C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4EA-5DA9-4E12-958D-568BE770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789-D5DB-4879-936A-E9DD1019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17-E897-4E4D-B742-EA8E9DE9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AA5-2B8F-4E2B-928F-9D5D58D7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AD6-95A3-4F56-937D-7A0AE59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209-DB81-4AE4-A888-27CF48E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E6A-C440-49FE-81AD-2C4D025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EEF-1930-40C5-9090-0E6087B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92A-D19E-4801-B57B-C862A39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821-F62F-4331-812A-C5777D8A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B66-C3AC-4D79-BFB1-7461466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FA2-22B9-4A08-BD42-5080EF02147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F7F-DA18-4D34-950F-2982BBF428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1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rc 13"/>
          <p:cNvSpPr/>
          <p:nvPr/>
        </p:nvSpPr>
        <p:spPr>
          <a:xfrm>
            <a:off x="-2814480" y="692280"/>
            <a:ext cx="5946480" cy="59497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4"/>
          <p:cNvSpPr/>
          <p:nvPr/>
        </p:nvSpPr>
        <p:spPr>
          <a:xfrm>
            <a:off x="2873520" y="1370160"/>
            <a:ext cx="312480" cy="312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5"/>
          <p:cNvSpPr/>
          <p:nvPr/>
        </p:nvSpPr>
        <p:spPr>
          <a:xfrm>
            <a:off x="3371760" y="2638440"/>
            <a:ext cx="312840" cy="312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3375000" y="3906720"/>
            <a:ext cx="311040" cy="312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2886120" y="5175360"/>
            <a:ext cx="311040" cy="3124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rc 18"/>
          <p:cNvSpPr/>
          <p:nvPr/>
        </p:nvSpPr>
        <p:spPr>
          <a:xfrm>
            <a:off x="-1370160" y="1905120"/>
            <a:ext cx="3046680" cy="3047760"/>
          </a:xfrm>
          <a:prstGeom prst="pi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66320" y="306720"/>
            <a:ext cx="228960" cy="6244920"/>
            <a:chOff x="166320" y="306720"/>
            <a:chExt cx="228960" cy="6244920"/>
          </a:xfrm>
        </p:grpSpPr>
        <p:grpSp>
          <p:nvGrpSpPr>
            <p:cNvPr id="50" name=""/>
            <p:cNvGrpSpPr/>
            <p:nvPr/>
          </p:nvGrpSpPr>
          <p:grpSpPr>
            <a:xfrm>
              <a:off x="166680" y="3235680"/>
              <a:ext cx="228600" cy="3315960"/>
              <a:chOff x="166680" y="3235680"/>
              <a:chExt cx="228600" cy="3315960"/>
            </a:xfrm>
          </p:grpSpPr>
          <p:pic>
            <p:nvPicPr>
              <p:cNvPr id="51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166680" y="323568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25"/>
              <p:cNvSpPr/>
              <p:nvPr/>
            </p:nvSpPr>
            <p:spPr>
              <a:xfrm rot="10800000">
                <a:off x="238680" y="336816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66320" y="306720"/>
              <a:ext cx="228600" cy="3315960"/>
              <a:chOff x="166320" y="306720"/>
              <a:chExt cx="228600" cy="3315960"/>
            </a:xfrm>
          </p:grpSpPr>
          <p:pic>
            <p:nvPicPr>
              <p:cNvPr id="54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28"/>
              <p:cNvSpPr/>
              <p:nvPr/>
            </p:nvSpPr>
            <p:spPr>
              <a:xfrm rot="10800000">
                <a:off x="23940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TextBox 22"/>
          <p:cNvSpPr/>
          <p:nvPr/>
        </p:nvSpPr>
        <p:spPr>
          <a:xfrm flipH="1">
            <a:off x="3431520" y="1143000"/>
            <a:ext cx="58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品牌的定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 flipH="1">
            <a:off x="3894840" y="239220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价值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 flipH="1">
            <a:off x="3897360" y="36417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服务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 flipH="1">
            <a:off x="3429000" y="480060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产品的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70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92240" y="-5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目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20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984-8F74-4DE2-96AF-F5DB3236D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9:48Z</dcterms:modified>
  <cp:revision>84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