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1100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811120" y="175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1124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1100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811120" y="4098960"/>
            <a:ext cx="228528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010880" y="412920"/>
            <a:ext cx="7095960" cy="45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48320" y="409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24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8320" y="1758960"/>
            <a:ext cx="34635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11240" y="4098960"/>
            <a:ext cx="709776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240" y="1758960"/>
            <a:ext cx="709776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3680" indent="-193680">
              <a:spcAft>
                <a:spcPts val="1250"/>
              </a:spcAft>
              <a:buClr>
                <a:srgbClr val="ff66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1" marL="768240" indent="-285480">
              <a:spcAft>
                <a:spcPts val="1250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2" marL="11872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3" marL="160668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4" marL="205740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5" marL="205740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  <a:p>
            <a:pPr lvl="6" marL="2057400" indent="-228600">
              <a:spcAft>
                <a:spcPts val="1250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45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10880" y="412920"/>
            <a:ext cx="7095960" cy="98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Helvetica 65 Medium"/>
              </a:rPr>
              <a:t>Click to edit the title text format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25200" y="6440400"/>
            <a:ext cx="5972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Helvetica 65 Medium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elvetica 65 Medium"/>
              </a:rPr>
              <a:t>France Telecom Group confidential</a:t>
            </a: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5560" y="6423120"/>
            <a:ext cx="73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9D03-2D12-4445-B73E-DD9449E5AC98}" type="slidenum">
              <a:rPr b="0" lang="fr-FR" sz="800" spc="-1" strike="noStrike">
                <a:solidFill>
                  <a:srgbClr val="000000"/>
                </a:solidFill>
                <a:latin typeface="Helvetica 55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dongtai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Box 1"/>
          <p:cNvSpPr/>
          <p:nvPr/>
        </p:nvSpPr>
        <p:spPr>
          <a:xfrm>
            <a:off x="90360" y="914400"/>
            <a:ext cx="643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Helvetica 65 Medium"/>
              </a:rPr>
              <a:t>surprise them!</a:t>
            </a:r>
            <a:endParaRPr b="0" lang="en-US" sz="72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406760" y="1835280"/>
            <a:ext cx="4413240" cy="509580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-69480" y="23760"/>
            <a:ext cx="82548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e46c0a"/>
                </a:solidFill>
                <a:latin typeface="Helvetica 55 Roman"/>
              </a:rPr>
              <a:t>your presentation will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3244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Helvetica 45 Light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Helvetica 45 Light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5" name=""/>
          <p:cNvSpPr/>
          <p:nvPr/>
        </p:nvSpPr>
        <p:spPr>
          <a:xfrm>
            <a:off x="990360" y="2743200"/>
            <a:ext cx="30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欧美动态</a:t>
            </a:r>
            <a:r>
              <a:rPr b="0" lang="en-US" sz="4000" spc="-1" strike="noStrike">
                <a:solidFill>
                  <a:srgbClr val="ffffff"/>
                </a:solidFill>
                <a:latin typeface="Helvetica 45 Light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Helvetica 45 Light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584280" y="0"/>
            <a:ext cx="810252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1979280" y="2316240"/>
            <a:ext cx="52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6600"/>
                </a:solidFill>
                <a:latin typeface="Helvetica 45 Light"/>
              </a:rPr>
              <a:t>a picture</a:t>
            </a:r>
            <a:endParaRPr b="0" lang="en-US" sz="9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4" name="TextBox 6"/>
          <p:cNvSpPr/>
          <p:nvPr/>
        </p:nvSpPr>
        <p:spPr>
          <a:xfrm>
            <a:off x="3364920" y="3486240"/>
            <a:ext cx="26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7c7c7"/>
                </a:solidFill>
                <a:latin typeface="Helvetica 45 Light"/>
              </a:rPr>
              <a:t>is worth 1,000 word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144880" y="1638360"/>
            <a:ext cx="18396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622240" y="3032280"/>
            <a:ext cx="38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6a6a6"/>
                </a:solidFill>
                <a:latin typeface="Helvetica 45 Light"/>
              </a:rPr>
              <a:t>every picture tells a story</a:t>
            </a:r>
            <a:r>
              <a:rPr b="0" lang="en-US" sz="2400" spc="-1" strike="noStrike">
                <a:solidFill>
                  <a:srgbClr val="ff6600"/>
                </a:solidFill>
                <a:latin typeface="Helvetica 45 Ligh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6600"/>
                </a:solidFill>
                <a:latin typeface="Helvetica 65 Medium"/>
              </a:rPr>
              <a:t>使用规范说明</a:t>
            </a:r>
            <a:endParaRPr b="0" lang="en-US" sz="2400" spc="-1" strike="noStrike">
              <a:solidFill>
                <a:srgbClr val="ff6600"/>
              </a:solidFill>
              <a:latin typeface="Helvetica 65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Helvetica 45 Light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Helvetica 45 Light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Helvetica 45 Light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Helvetica 45 Light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Helvetica 45 Light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Helvetica 45 Light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Helvetica 45 Light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Helvetica 45 Light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Helvetica 45 Light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93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  <a:p>
            <a:pPr indent="0">
              <a:lnSpc>
                <a:spcPct val="90000"/>
              </a:lnSpc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Helvetica 45 Ligh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2"/>
          <p:cNvSpPr/>
          <p:nvPr/>
        </p:nvSpPr>
        <p:spPr>
          <a:xfrm>
            <a:off x="3020400" y="3259080"/>
            <a:ext cx="29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Helvetica 45 Light"/>
              </a:rPr>
              <a:t>ppt.glzy8.com</a:t>
            </a:r>
            <a:r>
              <a:rPr b="0" lang="zh-CN" sz="1600" spc="-1" strike="noStrike">
                <a:solidFill>
                  <a:srgbClr val="4a452a"/>
                </a:solidFill>
                <a:latin typeface="Helvetica 45 Light"/>
              </a:rPr>
              <a:t>海量</a:t>
            </a:r>
            <a:r>
              <a:rPr b="0" lang="en-US" sz="1600" spc="-1" strike="noStrike">
                <a:solidFill>
                  <a:srgbClr val="4a452a"/>
                </a:solidFill>
                <a:latin typeface="Helvetica 45 Light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Helvetica 45 Light"/>
              </a:rPr>
              <a:t>模板免费下载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>
            <a:lum bright="-16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3"/>
          <p:cNvSpPr/>
          <p:nvPr/>
        </p:nvSpPr>
        <p:spPr>
          <a:xfrm rot="16200000">
            <a:off x="619920" y="2830320"/>
            <a:ext cx="123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ddddd"/>
                </a:solidFill>
                <a:latin typeface="Helvetica 35 Thin"/>
              </a:rPr>
              <a:t>VIDEO IS</a:t>
            </a: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685800" y="2100240"/>
            <a:ext cx="80773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6600"/>
                </a:solidFill>
                <a:latin typeface="Helvetica 45 Light"/>
              </a:rPr>
              <a:t>PRESENT</a:t>
            </a:r>
            <a:endParaRPr b="0" lang="en-US" sz="115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-379440" y="5529240"/>
            <a:ext cx="388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videos inside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slideshare now!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420920" y="550404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video on flickr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3554280" y="548640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 </a:t>
            </a: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every minute, ten hour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of video is uploaded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5535720" y="5530680"/>
            <a:ext cx="388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15,000 videos 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a6a6a6"/>
                </a:solidFill>
                <a:latin typeface="Helvetica 45 Light"/>
              </a:rPr>
              <a:t>uploaded daily</a:t>
            </a:r>
            <a:endParaRPr b="0" lang="en-US" sz="1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6600"/>
                </a:solidFill>
                <a:uFillTx/>
                <a:latin typeface="Helvetica 45 Light"/>
                <a:hlinkClick r:id="rId2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Helvetica 45 Light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2"/>
          <p:cNvSpPr/>
          <p:nvPr/>
        </p:nvSpPr>
        <p:spPr>
          <a:xfrm>
            <a:off x="2576520" y="1798560"/>
            <a:ext cx="259092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900" spc="-1" strike="noStrike">
                <a:solidFill>
                  <a:srgbClr val="ff6600"/>
                </a:solidFill>
                <a:latin typeface="Arial Narrow"/>
              </a:rPr>
              <a:t>IS</a:t>
            </a:r>
            <a:endParaRPr b="0" lang="en-US" sz="199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5" name="Text Box 3"/>
          <p:cNvSpPr/>
          <p:nvPr/>
        </p:nvSpPr>
        <p:spPr>
          <a:xfrm rot="16200000">
            <a:off x="1587240" y="2875680"/>
            <a:ext cx="21909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62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693320" y="2392200"/>
            <a:ext cx="10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479840" y="2487600"/>
            <a:ext cx="1433520" cy="932040"/>
            <a:chOff x="4479840" y="2487600"/>
            <a:chExt cx="1433520" cy="932040"/>
          </a:xfrm>
        </p:grpSpPr>
        <p:pic>
          <p:nvPicPr>
            <p:cNvPr id="108" name="Text Box 3" descr=""/>
            <p:cNvPicPr/>
            <p:nvPr/>
          </p:nvPicPr>
          <p:blipFill>
            <a:blip r:embed="rId2"/>
            <a:stretch/>
          </p:blipFill>
          <p:spPr>
            <a:xfrm>
              <a:off x="4479840" y="2487600"/>
              <a:ext cx="143352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692600" y="2722680"/>
              <a:ext cx="101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dddddd"/>
                  </a:solidFill>
                  <a:latin typeface="Helvetica 35 Thin"/>
                </a:rPr>
                <a:t>faster</a:t>
              </a:r>
              <a:endParaRPr b="0" lang="en-US" sz="2400" spc="-1" strike="noStrike">
                <a:solidFill>
                  <a:srgbClr val="000000"/>
                </a:solidFill>
                <a:latin typeface="Helvetica 45 Light"/>
              </a:endParaRPr>
            </a:p>
          </p:txBody>
        </p:sp>
      </p:grpSp>
      <p:sp>
        <p:nvSpPr>
          <p:cNvPr id="110" name="Text Box 3"/>
          <p:cNvSpPr/>
          <p:nvPr/>
        </p:nvSpPr>
        <p:spPr>
          <a:xfrm>
            <a:off x="4650480" y="302724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time bound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4685040" y="33321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703400" y="3637080"/>
            <a:ext cx="162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4692600" y="3946680"/>
            <a:ext cx="6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Helvetica 35 Thin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"/>
          <p:cNvPicPr/>
          <p:nvPr/>
        </p:nvPicPr>
        <p:blipFill>
          <a:blip r:embed="rId2"/>
          <a:stretch/>
        </p:blipFill>
        <p:spPr>
          <a:xfrm>
            <a:off x="2859120" y="1895400"/>
            <a:ext cx="3071880" cy="35053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3"/>
          <p:cNvSpPr/>
          <p:nvPr/>
        </p:nvSpPr>
        <p:spPr>
          <a:xfrm>
            <a:off x="290160" y="649440"/>
            <a:ext cx="67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Helvetica 35 Thin"/>
              </a:rPr>
              <a:t>different types of presentation</a:t>
            </a:r>
            <a:endParaRPr b="0" lang="en-US" sz="36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1187640" y="2448000"/>
            <a:ext cx="8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ex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69520" y="3733920"/>
            <a:ext cx="152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pict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7164360" y="320040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video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5980320" y="1523880"/>
            <a:ext cx="204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talking pad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363000" y="46483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lideles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292040" y="5343480"/>
            <a:ext cx="21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stick figures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4386600" y="5867280"/>
            <a:ext cx="32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quiet presentation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2819520" y="1461960"/>
            <a:ext cx="3429000" cy="4100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6119280" y="6019920"/>
            <a:ext cx="289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Helvetica 35 Thin"/>
              </a:rPr>
              <a:t>can explain a lot</a:t>
            </a:r>
            <a:endParaRPr b="0" lang="en-US" sz="2800" spc="-1" strike="noStrike">
              <a:solidFill>
                <a:srgbClr val="000000"/>
              </a:solidFill>
              <a:latin typeface="Helvetica 45 Light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rcRect l="0" t="0" r="-107" b="-42"/>
          <a:stretch/>
        </p:blipFill>
        <p:spPr>
          <a:xfrm>
            <a:off x="-74520" y="2057400"/>
            <a:ext cx="2208240" cy="4800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0"/>
          <p:cNvSpPr/>
          <p:nvPr/>
        </p:nvSpPr>
        <p:spPr>
          <a:xfrm>
            <a:off x="671760" y="2743200"/>
            <a:ext cx="55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p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241200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4" name="TextBox 24"/>
          <p:cNvSpPr/>
          <p:nvPr/>
        </p:nvSpPr>
        <p:spPr>
          <a:xfrm>
            <a:off x="4318920" y="2762280"/>
            <a:ext cx="52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5" name="TextBox 25"/>
          <p:cNvSpPr/>
          <p:nvPr/>
        </p:nvSpPr>
        <p:spPr>
          <a:xfrm>
            <a:off x="6154560" y="2762280"/>
            <a:ext cx="47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7974720" y="2762280"/>
            <a:ext cx="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6a6a6"/>
                </a:solidFill>
                <a:latin typeface="Helvetica 45 Light"/>
              </a:rPr>
              <a:t>e</a:t>
            </a:r>
            <a:endParaRPr b="0" lang="en-US" sz="48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67" name="Straight Connector 39"/>
          <p:cNvSpPr/>
          <p:nvPr/>
        </p:nvSpPr>
        <p:spPr>
          <a:xfrm>
            <a:off x="552600" y="3408480"/>
            <a:ext cx="8076960" cy="1440"/>
          </a:xfrm>
          <a:prstGeom prst="line">
            <a:avLst/>
          </a:prstGeom>
          <a:ln w="22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20"/>
          <p:cNvSpPr/>
          <p:nvPr/>
        </p:nvSpPr>
        <p:spPr>
          <a:xfrm>
            <a:off x="892800" y="1490760"/>
            <a:ext cx="331704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400" spc="-1" strike="noStrike">
                <a:solidFill>
                  <a:srgbClr val="ff6600"/>
                </a:solidFill>
                <a:latin typeface="Helvetica 45 Light"/>
              </a:rPr>
              <a:t>“”</a:t>
            </a:r>
            <a:endParaRPr b="0" lang="en-US" sz="344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4114800" y="2522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a6a6a6"/>
                </a:solidFill>
                <a:latin typeface="Helvetica 45 Light"/>
              </a:rPr>
              <a:t>people don't know what they want until you show it to them </a:t>
            </a:r>
            <a:r>
              <a:rPr b="0" lang="en-US" sz="2400" spc="-1" strike="noStrike">
                <a:solidFill>
                  <a:srgbClr val="a6a6a6"/>
                </a:solidFill>
                <a:latin typeface="Helvetica 45 Light"/>
              </a:rPr>
              <a:t>– Steve Jobs 1998</a:t>
            </a:r>
            <a:endParaRPr b="0" lang="en-US" sz="24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6"/>
          <p:cNvSpPr/>
          <p:nvPr/>
        </p:nvSpPr>
        <p:spPr>
          <a:xfrm>
            <a:off x="0" y="3352680"/>
            <a:ext cx="9144000" cy="350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106200" y="2800440"/>
            <a:ext cx="20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elvetica 45 Light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73" name="TextBox 9"/>
          <p:cNvSpPr/>
          <p:nvPr/>
        </p:nvSpPr>
        <p:spPr>
          <a:xfrm flipV="1">
            <a:off x="6956280" y="3166560"/>
            <a:ext cx="214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elvetica 45 Light"/>
              </a:rPr>
              <a:t>DESIGN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cxnSp>
        <p:nvCxnSpPr>
          <p:cNvPr id="74" name="Shape 5"/>
          <p:cNvCxnSpPr>
            <a:stCxn id="72" idx="0"/>
            <a:endCxn id="73" idx="1"/>
          </p:cNvCxnSpPr>
          <p:nvPr/>
        </p:nvCxnSpPr>
        <p:spPr>
          <a:xfrm flipH="1" rot="16200000">
            <a:off x="4042440" y="-117720"/>
            <a:ext cx="1070640" cy="6906600"/>
          </a:xfrm>
          <a:prstGeom prst="curvedConnector5">
            <a:avLst>
              <a:gd name="adj1" fmla="val -21358"/>
              <a:gd name="adj2" fmla="val 25000"/>
              <a:gd name="adj3" fmla="val -21358"/>
            </a:avLst>
          </a:prstGeom>
          <a:ln w="3816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TextBox 7"/>
          <p:cNvSpPr/>
          <p:nvPr/>
        </p:nvSpPr>
        <p:spPr>
          <a:xfrm>
            <a:off x="5316840" y="6095880"/>
            <a:ext cx="375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7f7f"/>
                </a:solidFill>
                <a:latin typeface="Helvetica 45 Light"/>
              </a:rPr>
              <a:t>negative = positive</a:t>
            </a:r>
            <a:endParaRPr b="0" lang="en-US" sz="32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Text Box 3" descr=""/>
          <p:cNvPicPr/>
          <p:nvPr/>
        </p:nvPicPr>
        <p:blipFill>
          <a:blip r:embed="rId2"/>
          <a:stretch/>
        </p:blipFill>
        <p:spPr>
          <a:xfrm>
            <a:off x="-58680" y="1627200"/>
            <a:ext cx="10213920" cy="5041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"/>
          <p:cNvPicPr/>
          <p:nvPr/>
        </p:nvPicPr>
        <p:blipFill>
          <a:blip r:embed="rId1">
            <a:lum bright="-10000"/>
          </a:blip>
          <a:srcRect l="0" t="0" r="0" b="-1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"/>
          <p:cNvSpPr/>
          <p:nvPr/>
        </p:nvSpPr>
        <p:spPr>
          <a:xfrm>
            <a:off x="0" y="2873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Helvetica 45 Light"/>
              </a:rPr>
              <a:t>pictures</a:t>
            </a:r>
            <a:endParaRPr b="0" lang="en-US" sz="4000" spc="-1" strike="noStrike">
              <a:solidFill>
                <a:srgbClr val="000000"/>
              </a:solidFill>
              <a:latin typeface="Helvetica 45 Light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385560" y="463680"/>
            <a:ext cx="1419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ddddd"/>
                </a:solidFill>
                <a:latin typeface="Helvetica 35 Thin"/>
              </a:rPr>
              <a:t>#2</a:t>
            </a:r>
            <a:endParaRPr b="0" lang="en-US" sz="8000" spc="-1" strike="noStrike">
              <a:solidFill>
                <a:srgbClr val="000000"/>
              </a:solidFill>
              <a:latin typeface="Helvetica 45 Light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7:32:0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9:01Z</dcterms:modified>
  <cp:revision>25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1811000000000001024140</vt:lpwstr>
  </property>
</Properties>
</file>