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64F-85B5-46A5-BC10-085AF488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46E-CD13-4048-9B54-2177480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03F-07A6-4E31-A3E7-AD7D6043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050-4120-44A3-BE14-2E6AC810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D0F-5735-47C5-9C37-1177C6C0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9F2-89E4-40C0-802B-B67E3EB9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42F-C552-441E-88ED-F7241270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C25-BFB5-4EB6-B186-3F92CBF1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D8B-F9FF-4DBB-AAC9-6263950D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FB9-3BB3-477E-A69F-F2454549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11D-A110-4EFD-9B1C-40146DAA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766-938D-4C46-8FC8-B413A662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A11B-E569-4222-B1BA-D82EAB70DA1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未标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17" descr=""/>
          <p:cNvPicPr/>
          <p:nvPr/>
        </p:nvPicPr>
        <p:blipFill>
          <a:blip r:embed="rId2"/>
          <a:stretch/>
        </p:blipFill>
        <p:spPr>
          <a:xfrm>
            <a:off x="1981080" y="2066760"/>
            <a:ext cx="5834160" cy="1444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530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2680" y="19368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结束动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80E-A71F-4B3C-94B1-676F0A2924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4:39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36:36Z</dcterms:modified>
  <cp:revision>4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