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jpeg" ContentType="image/jpeg"/>
  <Override PartName="/ppt/media/image23.png" ContentType="image/png"/>
  <Override PartName="/ppt/media/image22.png" ContentType="image/png"/>
  <Override PartName="/ppt/media/image26.png" ContentType="image/png"/>
  <Override PartName="/ppt/media/image3.png" ContentType="image/png"/>
  <Override PartName="/ppt/media/image29.png" ContentType="image/png"/>
  <Override PartName="/ppt/media/image6.png" ContentType="image/png"/>
  <Override PartName="/ppt/media/image13.png" ContentType="image/png"/>
  <Override PartName="/ppt/media/image7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2.jpeg" ContentType="image/jpeg"/>
  <Override PartName="/ppt/media/image4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0524-CF88-4DD0-8B5B-C97F25C7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17ED-9CB1-4EDB-86FA-278F8737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9CDA-F207-496D-9E82-6E975513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A0D1-89CA-4AD8-BDA9-623A7B63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C8F3-3FF0-46E1-B610-6AF399DD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895D-B8E9-48A7-902C-B0953C7E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48AA-FA67-464E-8919-1264B083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CB2F-DAEB-416D-9B43-76C0061D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DC3F-FFEC-4F84-9F8F-B0A76D20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B28B-E9C7-46F0-A7E5-2EA308D1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9798-A3F0-4EE4-AE0B-D4A6EE70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2435-0AF3-4B7E-BD41-DE306AB3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9AC0-34F0-4065-AA84-3C9D0149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C0AE-5768-4C48-A746-C24ECE6C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62A3-14BF-416E-A171-947C2DFF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7C50-AAE6-4D6A-A8D3-91BFA15A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DEE0-29C2-4083-83F7-B459AA03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08799-F0C4-4F5E-9E74-0EE3FABB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C50BA-4672-4189-A5E2-03B46139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73D34-7E3F-4492-ACE4-E037086A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04B4F-F022-468B-BD1D-784A7860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558B9-972E-4CA0-BD26-4DBBCB21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39C6-99B2-4C82-A063-CF26F48F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179E5-17C0-497D-B9D0-B8633641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711DB-0448-470C-9296-7F636604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FA6F6-AC71-4108-97CB-17311D4A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49937-6430-4ED3-8A88-F71C91E2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44A11-49A8-4A5C-AB0A-BB995491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A4ADA-915E-4CD4-9851-17192ED3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7BD99-F32B-42E5-8FBD-5D0C65E2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B755D-DE26-497F-AE46-2BB610F7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27C29-F9ED-44CB-871A-02A6B3D9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338F3-C853-4F0A-95CB-65D3D2C0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D53E-2105-41AB-851A-D1C30847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D4373-38CB-4E18-AB7F-BAFF2366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6DAB8-EFA9-4E53-94B8-B680FF56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29FC8-2A2D-45C8-B28D-9BD3599B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E78D1-2912-4C02-AB8F-86DA2CF9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CFA09-E76A-4242-AEE3-73D2BDFE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F6595-FE98-4313-AE74-E0C5D8EB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A32D4-B79B-44D9-A03C-EABD5F3D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8CFF1-34D2-4800-8058-5A402D7D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F5FCC-4129-480D-A6EA-1FE94224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2176C-4D82-443A-8025-7BB6E64D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D60E-98B9-4A24-90CC-D896980E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B3C77-2570-444B-A1DF-F9FBC54B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E4C69-FCCD-4E89-9CAC-1D3B8479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3322F-C9D7-45FC-AAB3-01FA155D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D4097-4A07-4EC8-B255-C23B6C6B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8D9A1-A82A-4EDA-911A-20C3B55F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929A8-9B1C-4047-AA71-F8C07651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B9BF8-9C3E-442C-BBD0-AC8341BE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6AAEF-F530-4D3A-9AE5-A61EA819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649BB-0024-445D-A143-A32AFA64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0AC51-C904-473A-A37A-A8C6F0CB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D220-A1A4-4E64-B882-D728384F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E3064-551F-48C9-BED3-343CC681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E5F10-58F5-4A62-A65C-D981D3E5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5AB56-31B2-45C1-9E26-CA265F07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9EF02-0FD3-4A23-848A-19492E92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543AC-CE8F-4644-A3A1-B22EF4F7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74AE6-9AE7-4E36-A8F4-3DEE149D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7753C-E0B0-4BA9-931D-714445EB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5A750-543A-46F8-B3BB-B0E08D22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B3EC6-82EB-4A21-BEF6-3E6E4558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41C7E-3F06-4FA1-A0F5-B8783E38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D432-1CBF-4437-853C-9E96DFD1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8FD9F-9807-4C18-AF6D-774A9FB2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3B392-96B8-4265-B168-F50C59787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19A13-B013-4049-A426-0A1887D5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2122-96E0-4F5B-9441-6A0F1B73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69F6-7E47-4728-9122-86876E51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68E0-3774-4B7B-AD82-459C1A50E80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3C39-8707-4EA3-88D0-5B65336E843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8086-02E1-49C8-989F-BFC2B5A11BB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008E-C9C5-48E8-BC6B-20241F20F31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EFC0-6549-4731-8D0D-6EA1A18C5F9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D8DE-C66A-4F39-B848-AE86C8D1178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8930-A847-4B3F-BA92-C51BB66C212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445D-C9B4-4EC2-8C07-C4516CF5A40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31FF-8E2C-48F7-B1D1-5137BD007F7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579F-B9E6-434C-9932-06AE628597C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9A37-852D-46FD-9A7B-3906DD83162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E580-9A22-43CF-9C94-64151F74E5B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2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hyperlink" Target="http://www.eeppt.com/beijing/" TargetMode="External"/><Relationship Id="rId4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7"/>
          <p:cNvSpPr/>
          <p:nvPr/>
        </p:nvSpPr>
        <p:spPr>
          <a:xfrm>
            <a:off x="6948360" y="0"/>
            <a:ext cx="219564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组合 8"/>
          <p:cNvGrpSpPr/>
          <p:nvPr/>
        </p:nvGrpSpPr>
        <p:grpSpPr>
          <a:xfrm>
            <a:off x="466200" y="363600"/>
            <a:ext cx="4721400" cy="4914720"/>
            <a:chOff x="466200" y="363600"/>
            <a:chExt cx="4721400" cy="4914720"/>
          </a:xfrm>
        </p:grpSpPr>
        <p:sp>
          <p:nvSpPr>
            <p:cNvPr id="248" name="TextBox 3"/>
            <p:cNvSpPr/>
            <p:nvPr/>
          </p:nvSpPr>
          <p:spPr>
            <a:xfrm>
              <a:off x="2528280" y="1546200"/>
              <a:ext cx="2306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262626"/>
                  </a:solidFill>
                  <a:latin typeface="Impact"/>
                  <a:ea typeface="微软雅黑"/>
                </a:rPr>
                <a:t>MBTI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图片 5" descr=""/>
            <p:cNvPicPr/>
            <p:nvPr/>
          </p:nvPicPr>
          <p:blipFill>
            <a:blip r:embed="rId2"/>
            <a:srcRect l="0" t="0" r="36816" b="6824"/>
            <a:stretch/>
          </p:blipFill>
          <p:spPr>
            <a:xfrm flipH="1">
              <a:off x="466200" y="363600"/>
              <a:ext cx="4721400" cy="491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0" name="TextBox 9"/>
          <p:cNvSpPr/>
          <p:nvPr/>
        </p:nvSpPr>
        <p:spPr>
          <a:xfrm>
            <a:off x="6897600" y="-19080"/>
            <a:ext cx="914400" cy="42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10"/>
          <p:cNvSpPr/>
          <p:nvPr/>
        </p:nvSpPr>
        <p:spPr>
          <a:xfrm>
            <a:off x="6651720" y="4156200"/>
            <a:ext cx="689040" cy="688680"/>
          </a:xfrm>
          <a:prstGeom prst="ellipse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79640" y="45878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76760" y="0"/>
            <a:ext cx="37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图片背景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矩形 5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弦形 7"/>
          <p:cNvSpPr/>
          <p:nvPr/>
        </p:nvSpPr>
        <p:spPr>
          <a:xfrm rot="7980000">
            <a:off x="8493840" y="864000"/>
            <a:ext cx="512640" cy="511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EST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</a:rPr>
              <a:t>劣势篇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8462520" y="930240"/>
            <a:ext cx="5749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E6F5-660A-42DE-8DC9-F773D955A242}" type="slidenum">
              <a:rPr b="0" lang="zh-CN" sz="12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图片 3" descr=""/>
          <p:cNvPicPr/>
          <p:nvPr/>
        </p:nvPicPr>
        <p:blipFill>
          <a:blip r:embed="rId2"/>
          <a:stretch/>
        </p:blipFill>
        <p:spPr>
          <a:xfrm>
            <a:off x="417600" y="1486080"/>
            <a:ext cx="2138400" cy="3649320"/>
          </a:xfrm>
          <a:prstGeom prst="rect">
            <a:avLst/>
          </a:prstGeom>
          <a:ln w="0">
            <a:noFill/>
          </a:ln>
        </p:spPr>
      </p:pic>
      <p:grpSp>
        <p:nvGrpSpPr>
          <p:cNvPr id="383" name="组合 8"/>
          <p:cNvGrpSpPr/>
          <p:nvPr/>
        </p:nvGrpSpPr>
        <p:grpSpPr>
          <a:xfrm>
            <a:off x="2822760" y="1419120"/>
            <a:ext cx="6070320" cy="1067400"/>
            <a:chOff x="2822760" y="1419120"/>
            <a:chExt cx="6070320" cy="1067400"/>
          </a:xfrm>
        </p:grpSpPr>
        <p:sp>
          <p:nvSpPr>
            <p:cNvPr id="384" name="矩形 5"/>
            <p:cNvSpPr/>
            <p:nvPr/>
          </p:nvSpPr>
          <p:spPr>
            <a:xfrm>
              <a:off x="2822760" y="1419120"/>
              <a:ext cx="99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团队方面</a:t>
              </a: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矩形 6"/>
            <p:cNvSpPr/>
            <p:nvPr/>
          </p:nvSpPr>
          <p:spPr>
            <a:xfrm>
              <a:off x="4049280" y="1419120"/>
              <a:ext cx="4843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不喜欢参与式的管理，认为团队妨碍有效的工作，工作最好由个人独立完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管理风格比较突兀、直接、不合常规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直接连接符 7"/>
          <p:cNvSpPr/>
          <p:nvPr/>
        </p:nvSpPr>
        <p:spPr>
          <a:xfrm>
            <a:off x="2556000" y="3095640"/>
            <a:ext cx="6372000" cy="144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4"/>
          <p:cNvGrpSpPr/>
          <p:nvPr/>
        </p:nvGrpSpPr>
        <p:grpSpPr>
          <a:xfrm>
            <a:off x="2822760" y="3203640"/>
            <a:ext cx="5835600" cy="1067400"/>
            <a:chOff x="2822760" y="3203640"/>
            <a:chExt cx="5835600" cy="1067400"/>
          </a:xfrm>
        </p:grpSpPr>
        <p:sp>
          <p:nvSpPr>
            <p:cNvPr id="388" name="矩形 9"/>
            <p:cNvSpPr/>
            <p:nvPr/>
          </p:nvSpPr>
          <p:spPr>
            <a:xfrm>
              <a:off x="2822760" y="3203640"/>
              <a:ext cx="99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个人方面</a:t>
              </a: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矩形 10"/>
            <p:cNvSpPr/>
            <p:nvPr/>
          </p:nvSpPr>
          <p:spPr>
            <a:xfrm>
              <a:off x="4049280" y="3203640"/>
              <a:ext cx="46090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喜欢刺激，对工作和管理，一旦兴趣消除，耐心也就到头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讨厌的三件事情：规定、行政工作和文书工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直接连接符 14"/>
          <p:cNvSpPr/>
          <p:nvPr/>
        </p:nvSpPr>
        <p:spPr>
          <a:xfrm>
            <a:off x="2556000" y="4803840"/>
            <a:ext cx="6372000" cy="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矩形 5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弦形 7"/>
          <p:cNvSpPr/>
          <p:nvPr/>
        </p:nvSpPr>
        <p:spPr>
          <a:xfrm rot="7980000">
            <a:off x="8493840" y="864000"/>
            <a:ext cx="512640" cy="511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ISFP — </a:t>
            </a:r>
            <a:r>
              <a:rPr b="0" lang="zh-CN" sz="3600" spc="-1" strike="noStrike">
                <a:solidFill>
                  <a:srgbClr val="c00000"/>
                </a:solidFill>
                <a:latin typeface="华康俪金黑W8"/>
              </a:rPr>
              <a:t>行动胜于语言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4" name="TextBox 4"/>
          <p:cNvSpPr/>
          <p:nvPr/>
        </p:nvSpPr>
        <p:spPr>
          <a:xfrm>
            <a:off x="1660680" y="185112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5"/>
          <p:cNvSpPr/>
          <p:nvPr/>
        </p:nvSpPr>
        <p:spPr>
          <a:xfrm>
            <a:off x="3467160" y="185112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6"/>
          <p:cNvSpPr/>
          <p:nvPr/>
        </p:nvSpPr>
        <p:spPr>
          <a:xfrm>
            <a:off x="5278320" y="18511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7"/>
          <p:cNvSpPr/>
          <p:nvPr/>
        </p:nvSpPr>
        <p:spPr>
          <a:xfrm>
            <a:off x="7186680" y="18511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8"/>
          <p:cNvSpPr/>
          <p:nvPr/>
        </p:nvSpPr>
        <p:spPr>
          <a:xfrm>
            <a:off x="2509920" y="20829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9"/>
          <p:cNvSpPr/>
          <p:nvPr/>
        </p:nvSpPr>
        <p:spPr>
          <a:xfrm>
            <a:off x="4352760" y="208296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0"/>
          <p:cNvSpPr/>
          <p:nvPr/>
        </p:nvSpPr>
        <p:spPr>
          <a:xfrm>
            <a:off x="6194520" y="208296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1"/>
          <p:cNvSpPr/>
          <p:nvPr/>
        </p:nvSpPr>
        <p:spPr>
          <a:xfrm>
            <a:off x="611280" y="3200400"/>
            <a:ext cx="189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I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关注世界多于外部世界，追求自己内心世界的有序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2"/>
          <p:cNvSpPr/>
          <p:nvPr/>
        </p:nvSpPr>
        <p:spPr>
          <a:xfrm>
            <a:off x="2832120" y="4076640"/>
            <a:ext cx="207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S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关注可以触摸的、直接的、实实在在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4"/>
          <p:cNvSpPr/>
          <p:nvPr/>
        </p:nvSpPr>
        <p:spPr>
          <a:xfrm>
            <a:off x="4211640" y="3181320"/>
            <a:ext cx="205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F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决策过程中情感方面的因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5"/>
          <p:cNvSpPr/>
          <p:nvPr/>
        </p:nvSpPr>
        <p:spPr>
          <a:xfrm>
            <a:off x="6458040" y="4076640"/>
            <a:ext cx="21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P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非常开放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曲线连接符 17"/>
          <p:cNvCxnSpPr>
            <a:stCxn id="395" idx="2"/>
            <a:endCxn id="402" idx="1"/>
          </p:cNvCxnSpPr>
          <p:nvPr/>
        </p:nvCxnSpPr>
        <p:spPr>
          <a:xfrm rot="5400000">
            <a:off x="2587680" y="3202920"/>
            <a:ext cx="1410480" cy="923040"/>
          </a:xfrm>
          <a:prstGeom prst="curvedConnector5">
            <a:avLst>
              <a:gd name="adj1" fmla="val 39622"/>
              <a:gd name="adj2" fmla="val 62387"/>
              <a:gd name="adj3" fmla="val 39622"/>
            </a:avLst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06" name="曲线连接符 18"/>
          <p:cNvCxnSpPr/>
          <p:nvPr/>
        </p:nvCxnSpPr>
        <p:spPr>
          <a:xfrm rot="5400000">
            <a:off x="1558440" y="2887560"/>
            <a:ext cx="315000" cy="311760"/>
          </a:xfrm>
          <a:prstGeom prst="curvedConnector5">
            <a:avLst>
              <a:gd name="adj1" fmla="val 50000"/>
              <a:gd name="adj2" fmla="val 49942"/>
              <a:gd name="adj3" fmla="val 50000"/>
            </a:avLst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07" name="曲线连接符 21"/>
          <p:cNvCxnSpPr/>
          <p:nvPr/>
        </p:nvCxnSpPr>
        <p:spPr>
          <a:xfrm rot="5400000">
            <a:off x="5117400" y="2949480"/>
            <a:ext cx="356400" cy="108720"/>
          </a:xfrm>
          <a:prstGeom prst="curvedConnector5">
            <a:avLst>
              <a:gd name="adj1" fmla="val 49949"/>
              <a:gd name="adj2" fmla="val 49833"/>
              <a:gd name="adj3" fmla="val 49949"/>
            </a:avLst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08" name="曲线连接符 24"/>
          <p:cNvCxnSpPr>
            <a:stCxn id="397" idx="2"/>
            <a:endCxn id="404" idx="1"/>
          </p:cNvCxnSpPr>
          <p:nvPr/>
        </p:nvCxnSpPr>
        <p:spPr>
          <a:xfrm rot="5400000">
            <a:off x="6321240" y="3093120"/>
            <a:ext cx="1286640" cy="1018440"/>
          </a:xfrm>
          <a:prstGeom prst="curvedConnector5">
            <a:avLst>
              <a:gd name="adj1" fmla="val 43408"/>
              <a:gd name="adj2" fmla="val 61209"/>
              <a:gd name="adj3" fmla="val 43408"/>
            </a:avLst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09" name=""/>
          <p:cNvSpPr txBox="1"/>
          <p:nvPr/>
        </p:nvSpPr>
        <p:spPr>
          <a:xfrm>
            <a:off x="8462520" y="930240"/>
            <a:ext cx="5749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70ED-F902-4A98-8578-3B34934882A8}" type="slidenum">
              <a:rPr b="0" lang="zh-CN" sz="12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矩形 5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弦形 7"/>
          <p:cNvSpPr/>
          <p:nvPr/>
        </p:nvSpPr>
        <p:spPr>
          <a:xfrm rot="7980000">
            <a:off x="8493840" y="864000"/>
            <a:ext cx="512640" cy="511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ISF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</a:rPr>
              <a:t>优势篇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462520" y="930240"/>
            <a:ext cx="5749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67B3-1296-4886-A073-C3DE05118E93}" type="slidenum">
              <a:rPr b="0" lang="zh-CN" sz="12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组合 17"/>
          <p:cNvGrpSpPr/>
          <p:nvPr/>
        </p:nvGrpSpPr>
        <p:grpSpPr>
          <a:xfrm>
            <a:off x="3224160" y="1434960"/>
            <a:ext cx="3017520" cy="646200"/>
            <a:chOff x="3224160" y="1434960"/>
            <a:chExt cx="3017520" cy="646200"/>
          </a:xfrm>
        </p:grpSpPr>
        <p:pic>
          <p:nvPicPr>
            <p:cNvPr id="415" name="图片 4" descr=""/>
            <p:cNvPicPr/>
            <p:nvPr/>
          </p:nvPicPr>
          <p:blipFill>
            <a:blip r:embed="rId2"/>
            <a:stretch/>
          </p:blipFill>
          <p:spPr>
            <a:xfrm>
              <a:off x="3224160" y="1445040"/>
              <a:ext cx="860760" cy="63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矩形 8"/>
            <p:cNvSpPr/>
            <p:nvPr/>
          </p:nvSpPr>
          <p:spPr>
            <a:xfrm>
              <a:off x="4460760" y="1434960"/>
              <a:ext cx="178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1.  </a:t>
              </a:r>
              <a:r>
                <a:rPr b="0" lang="zh-CN" sz="18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注重细节，立即行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直接连接符 10"/>
          <p:cNvSpPr/>
          <p:nvPr/>
        </p:nvSpPr>
        <p:spPr>
          <a:xfrm>
            <a:off x="2916360" y="2209680"/>
            <a:ext cx="5975280" cy="180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组合 18"/>
          <p:cNvGrpSpPr/>
          <p:nvPr/>
        </p:nvGrpSpPr>
        <p:grpSpPr>
          <a:xfrm>
            <a:off x="3240000" y="2340000"/>
            <a:ext cx="3143880" cy="647640"/>
            <a:chOff x="3240000" y="2340000"/>
            <a:chExt cx="3143880" cy="647640"/>
          </a:xfrm>
        </p:grpSpPr>
        <p:pic>
          <p:nvPicPr>
            <p:cNvPr id="419" name="图片 6" descr=""/>
            <p:cNvPicPr/>
            <p:nvPr/>
          </p:nvPicPr>
          <p:blipFill>
            <a:blip r:embed="rId3"/>
            <a:stretch/>
          </p:blipFill>
          <p:spPr>
            <a:xfrm>
              <a:off x="3240000" y="2365560"/>
              <a:ext cx="78012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矩形 11"/>
            <p:cNvSpPr/>
            <p:nvPr/>
          </p:nvSpPr>
          <p:spPr>
            <a:xfrm>
              <a:off x="5732280" y="2340000"/>
              <a:ext cx="65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2.  </a:t>
              </a:r>
              <a:r>
                <a:rPr b="0" lang="zh-CN" sz="18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谨慎、亲和的风格是组织中必须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组合 19"/>
          <p:cNvGrpSpPr/>
          <p:nvPr/>
        </p:nvGrpSpPr>
        <p:grpSpPr>
          <a:xfrm>
            <a:off x="3271680" y="3246480"/>
            <a:ext cx="5693040" cy="1277640"/>
            <a:chOff x="3271680" y="3246480"/>
            <a:chExt cx="5693040" cy="1277640"/>
          </a:xfrm>
        </p:grpSpPr>
        <p:pic>
          <p:nvPicPr>
            <p:cNvPr id="422" name="图片 5" descr=""/>
            <p:cNvPicPr/>
            <p:nvPr/>
          </p:nvPicPr>
          <p:blipFill>
            <a:blip r:embed="rId4"/>
            <a:stretch/>
          </p:blipFill>
          <p:spPr>
            <a:xfrm>
              <a:off x="3271680" y="3786120"/>
              <a:ext cx="74772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矩形 12"/>
            <p:cNvSpPr/>
            <p:nvPr/>
          </p:nvSpPr>
          <p:spPr>
            <a:xfrm>
              <a:off x="4114080" y="3246480"/>
              <a:ext cx="485064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3.  </a:t>
              </a:r>
              <a:r>
                <a:rPr b="0" lang="zh-CN" sz="18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人际方面的天生优势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支持和帮助他人；为看似僵化的项目和人际找到解决方案；双赢的谈判；分步骤的进行某个项目；用有效的沟通方式解决问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直接连接符 14"/>
          <p:cNvSpPr/>
          <p:nvPr/>
        </p:nvSpPr>
        <p:spPr>
          <a:xfrm>
            <a:off x="2916360" y="3116160"/>
            <a:ext cx="5975280" cy="180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直接连接符 15"/>
          <p:cNvSpPr/>
          <p:nvPr/>
        </p:nvSpPr>
        <p:spPr>
          <a:xfrm>
            <a:off x="2916360" y="4948200"/>
            <a:ext cx="5975280" cy="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图片 21" descr=""/>
          <p:cNvPicPr/>
          <p:nvPr/>
        </p:nvPicPr>
        <p:blipFill>
          <a:blip r:embed="rId5"/>
          <a:stretch/>
        </p:blipFill>
        <p:spPr>
          <a:xfrm flipH="1">
            <a:off x="-360" y="1231920"/>
            <a:ext cx="291636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矩形 5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弦形 7"/>
          <p:cNvSpPr/>
          <p:nvPr/>
        </p:nvSpPr>
        <p:spPr>
          <a:xfrm rot="7980000">
            <a:off x="8493840" y="864000"/>
            <a:ext cx="512640" cy="511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ISF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</a:rPr>
              <a:t>劣势篇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8462520" y="930240"/>
            <a:ext cx="5749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DD5F-D47C-4106-9E82-3083614AE459}" type="slidenum">
              <a:rPr b="0" lang="zh-CN" sz="12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3" descr=""/>
          <p:cNvPicPr/>
          <p:nvPr/>
        </p:nvPicPr>
        <p:blipFill>
          <a:blip r:embed="rId2"/>
          <a:stretch/>
        </p:blipFill>
        <p:spPr>
          <a:xfrm>
            <a:off x="417600" y="1486080"/>
            <a:ext cx="2138400" cy="3649320"/>
          </a:xfrm>
          <a:prstGeom prst="rect">
            <a:avLst/>
          </a:prstGeom>
          <a:ln w="0">
            <a:noFill/>
          </a:ln>
        </p:spPr>
      </p:pic>
      <p:grpSp>
        <p:nvGrpSpPr>
          <p:cNvPr id="432" name="组合 8"/>
          <p:cNvGrpSpPr/>
          <p:nvPr/>
        </p:nvGrpSpPr>
        <p:grpSpPr>
          <a:xfrm>
            <a:off x="2822760" y="1419120"/>
            <a:ext cx="6070320" cy="1067400"/>
            <a:chOff x="2822760" y="1419120"/>
            <a:chExt cx="6070320" cy="1067400"/>
          </a:xfrm>
        </p:grpSpPr>
        <p:sp>
          <p:nvSpPr>
            <p:cNvPr id="433" name="矩形 5"/>
            <p:cNvSpPr/>
            <p:nvPr/>
          </p:nvSpPr>
          <p:spPr>
            <a:xfrm>
              <a:off x="2822760" y="1419120"/>
              <a:ext cx="99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团队方面</a:t>
              </a: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矩形 6"/>
            <p:cNvSpPr/>
            <p:nvPr/>
          </p:nvSpPr>
          <p:spPr>
            <a:xfrm>
              <a:off x="4049280" y="1419120"/>
              <a:ext cx="4843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喜欢无为的管理方式，用关系做工作接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反感例行公事和照章办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直接连接符 7"/>
          <p:cNvSpPr/>
          <p:nvPr/>
        </p:nvSpPr>
        <p:spPr>
          <a:xfrm>
            <a:off x="2556000" y="2527200"/>
            <a:ext cx="6372000" cy="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组合 4"/>
          <p:cNvGrpSpPr/>
          <p:nvPr/>
        </p:nvGrpSpPr>
        <p:grpSpPr>
          <a:xfrm>
            <a:off x="2822760" y="2631960"/>
            <a:ext cx="5835600" cy="1067400"/>
            <a:chOff x="2822760" y="2631960"/>
            <a:chExt cx="5835600" cy="1067400"/>
          </a:xfrm>
        </p:grpSpPr>
        <p:sp>
          <p:nvSpPr>
            <p:cNvPr id="437" name="矩形 9"/>
            <p:cNvSpPr/>
            <p:nvPr/>
          </p:nvSpPr>
          <p:spPr>
            <a:xfrm>
              <a:off x="2822760" y="2631960"/>
              <a:ext cx="99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个人方面</a:t>
              </a: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矩形 10"/>
            <p:cNvSpPr/>
            <p:nvPr/>
          </p:nvSpPr>
          <p:spPr>
            <a:xfrm>
              <a:off x="4049280" y="2631960"/>
              <a:ext cx="46090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缺乏注意力，会失去对高生产力的兴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不擅于解决系统和根本的问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直接连接符 14"/>
          <p:cNvSpPr/>
          <p:nvPr/>
        </p:nvSpPr>
        <p:spPr>
          <a:xfrm>
            <a:off x="2556000" y="3735360"/>
            <a:ext cx="6372000" cy="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组合 12"/>
          <p:cNvGrpSpPr/>
          <p:nvPr/>
        </p:nvGrpSpPr>
        <p:grpSpPr>
          <a:xfrm>
            <a:off x="2822760" y="3840120"/>
            <a:ext cx="5835600" cy="642600"/>
            <a:chOff x="2822760" y="3840120"/>
            <a:chExt cx="5835600" cy="642600"/>
          </a:xfrm>
        </p:grpSpPr>
        <p:sp>
          <p:nvSpPr>
            <p:cNvPr id="441" name="矩形 13"/>
            <p:cNvSpPr/>
            <p:nvPr/>
          </p:nvSpPr>
          <p:spPr>
            <a:xfrm>
              <a:off x="2822760" y="3840120"/>
              <a:ext cx="99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压力方面</a:t>
              </a: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矩形 15"/>
            <p:cNvSpPr/>
            <p:nvPr/>
          </p:nvSpPr>
          <p:spPr>
            <a:xfrm>
              <a:off x="4049280" y="3840120"/>
              <a:ext cx="4609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对高业绩和高要求被强加时，压力会导致他们生病、沮丧，甚至是严重的抑郁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直接连接符 16"/>
          <p:cNvSpPr/>
          <p:nvPr/>
        </p:nvSpPr>
        <p:spPr>
          <a:xfrm>
            <a:off x="2556000" y="4948200"/>
            <a:ext cx="6372000" cy="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矩形 5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弦形 7"/>
          <p:cNvSpPr/>
          <p:nvPr/>
        </p:nvSpPr>
        <p:spPr>
          <a:xfrm rot="7980000">
            <a:off x="8493840" y="864000"/>
            <a:ext cx="512640" cy="511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ISTP — </a:t>
            </a:r>
            <a:r>
              <a:rPr b="0" lang="zh-CN" sz="3600" spc="-1" strike="noStrike">
                <a:solidFill>
                  <a:srgbClr val="c00000"/>
                </a:solidFill>
                <a:latin typeface="华康俪金黑W8"/>
              </a:rPr>
              <a:t>干起来吧！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7" name="TextBox 4"/>
          <p:cNvSpPr/>
          <p:nvPr/>
        </p:nvSpPr>
        <p:spPr>
          <a:xfrm>
            <a:off x="1660680" y="185112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3467160" y="185112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6"/>
          <p:cNvSpPr/>
          <p:nvPr/>
        </p:nvSpPr>
        <p:spPr>
          <a:xfrm>
            <a:off x="5278320" y="18511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7"/>
          <p:cNvSpPr/>
          <p:nvPr/>
        </p:nvSpPr>
        <p:spPr>
          <a:xfrm>
            <a:off x="7186680" y="18511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8"/>
          <p:cNvSpPr/>
          <p:nvPr/>
        </p:nvSpPr>
        <p:spPr>
          <a:xfrm>
            <a:off x="2509920" y="20829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9"/>
          <p:cNvSpPr/>
          <p:nvPr/>
        </p:nvSpPr>
        <p:spPr>
          <a:xfrm>
            <a:off x="4352760" y="208296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0"/>
          <p:cNvSpPr/>
          <p:nvPr/>
        </p:nvSpPr>
        <p:spPr>
          <a:xfrm>
            <a:off x="6194520" y="208296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1"/>
          <p:cNvSpPr/>
          <p:nvPr/>
        </p:nvSpPr>
        <p:spPr>
          <a:xfrm>
            <a:off x="900000" y="3200400"/>
            <a:ext cx="17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I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内向，很难被人读懂，不喜欢抛头露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2"/>
          <p:cNvSpPr/>
          <p:nvPr/>
        </p:nvSpPr>
        <p:spPr>
          <a:xfrm>
            <a:off x="2832120" y="4076640"/>
            <a:ext cx="207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S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对实际事物的喜欢，对现在的关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4"/>
          <p:cNvSpPr/>
          <p:nvPr/>
        </p:nvSpPr>
        <p:spPr>
          <a:xfrm>
            <a:off x="4211640" y="3181320"/>
            <a:ext cx="205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T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做出的决定客观公正，个人感情色彩，建立在分析的基础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5"/>
          <p:cNvSpPr/>
          <p:nvPr/>
        </p:nvSpPr>
        <p:spPr>
          <a:xfrm>
            <a:off x="6458040" y="4076640"/>
            <a:ext cx="21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P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日常生活中是即兴的、灵活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曲线连接符 17"/>
          <p:cNvCxnSpPr>
            <a:stCxn id="448" idx="2"/>
            <a:endCxn id="455" idx="1"/>
          </p:cNvCxnSpPr>
          <p:nvPr/>
        </p:nvCxnSpPr>
        <p:spPr>
          <a:xfrm rot="5400000">
            <a:off x="2587680" y="3202920"/>
            <a:ext cx="1410480" cy="923040"/>
          </a:xfrm>
          <a:prstGeom prst="curvedConnector5">
            <a:avLst>
              <a:gd name="adj1" fmla="val 39622"/>
              <a:gd name="adj2" fmla="val 62387"/>
              <a:gd name="adj3" fmla="val 39622"/>
            </a:avLst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59" name="曲线连接符 18"/>
          <p:cNvCxnSpPr/>
          <p:nvPr/>
        </p:nvCxnSpPr>
        <p:spPr>
          <a:xfrm rot="5400000">
            <a:off x="1659960" y="2989080"/>
            <a:ext cx="315000" cy="108720"/>
          </a:xfrm>
          <a:prstGeom prst="curvedConnector5">
            <a:avLst>
              <a:gd name="adj1" fmla="val 50000"/>
              <a:gd name="adj2" fmla="val 49833"/>
              <a:gd name="adj3" fmla="val 50000"/>
            </a:avLst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60" name="曲线连接符 21"/>
          <p:cNvCxnSpPr/>
          <p:nvPr/>
        </p:nvCxnSpPr>
        <p:spPr>
          <a:xfrm rot="5400000">
            <a:off x="5117400" y="2949480"/>
            <a:ext cx="356400" cy="108720"/>
          </a:xfrm>
          <a:prstGeom prst="curvedConnector5">
            <a:avLst>
              <a:gd name="adj1" fmla="val 49949"/>
              <a:gd name="adj2" fmla="val 49833"/>
              <a:gd name="adj3" fmla="val 49949"/>
            </a:avLst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61" name="曲线连接符 24"/>
          <p:cNvCxnSpPr>
            <a:stCxn id="450" idx="2"/>
            <a:endCxn id="457" idx="1"/>
          </p:cNvCxnSpPr>
          <p:nvPr/>
        </p:nvCxnSpPr>
        <p:spPr>
          <a:xfrm rot="5400000">
            <a:off x="6259320" y="3155040"/>
            <a:ext cx="1410480" cy="1018440"/>
          </a:xfrm>
          <a:prstGeom prst="curvedConnector5">
            <a:avLst>
              <a:gd name="adj1" fmla="val 39622"/>
              <a:gd name="adj2" fmla="val 61209"/>
              <a:gd name="adj3" fmla="val 39622"/>
            </a:avLst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62" name=""/>
          <p:cNvSpPr txBox="1"/>
          <p:nvPr/>
        </p:nvSpPr>
        <p:spPr>
          <a:xfrm>
            <a:off x="8462520" y="930240"/>
            <a:ext cx="5749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05D9-9E8C-4DC1-A4D0-87DAFFBCEFA6}" type="slidenum">
              <a:rPr b="0" lang="zh-CN" sz="12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矩形 5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弦形 7"/>
          <p:cNvSpPr/>
          <p:nvPr/>
        </p:nvSpPr>
        <p:spPr>
          <a:xfrm rot="7980000">
            <a:off x="8493840" y="864000"/>
            <a:ext cx="512640" cy="511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IST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</a:rPr>
              <a:t>优势篇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8462520" y="930240"/>
            <a:ext cx="5749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637E-E622-438C-9855-ADC8C3920176}" type="slidenum">
              <a:rPr b="0" lang="zh-CN" sz="12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组合 17"/>
          <p:cNvGrpSpPr/>
          <p:nvPr/>
        </p:nvGrpSpPr>
        <p:grpSpPr>
          <a:xfrm>
            <a:off x="3121200" y="1434960"/>
            <a:ext cx="3569400" cy="652680"/>
            <a:chOff x="3121200" y="1434960"/>
            <a:chExt cx="3569400" cy="652680"/>
          </a:xfrm>
        </p:grpSpPr>
        <p:pic>
          <p:nvPicPr>
            <p:cNvPr id="468" name="图片 4" descr=""/>
            <p:cNvPicPr/>
            <p:nvPr/>
          </p:nvPicPr>
          <p:blipFill>
            <a:blip r:embed="rId2"/>
            <a:stretch/>
          </p:blipFill>
          <p:spPr>
            <a:xfrm>
              <a:off x="3121200" y="1494000"/>
              <a:ext cx="55116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矩形 8"/>
            <p:cNvSpPr/>
            <p:nvPr/>
          </p:nvSpPr>
          <p:spPr>
            <a:xfrm>
              <a:off x="4498200" y="1434960"/>
              <a:ext cx="2192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1.  </a:t>
              </a:r>
              <a:r>
                <a:rPr b="0" lang="zh-CN" sz="18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感官敏感，追求准确和完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直接连接符 10"/>
          <p:cNvSpPr/>
          <p:nvPr/>
        </p:nvSpPr>
        <p:spPr>
          <a:xfrm>
            <a:off x="2771640" y="2162160"/>
            <a:ext cx="5977080" cy="144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组合 18"/>
          <p:cNvGrpSpPr/>
          <p:nvPr/>
        </p:nvGrpSpPr>
        <p:grpSpPr>
          <a:xfrm>
            <a:off x="3105000" y="2330280"/>
            <a:ext cx="4703400" cy="642600"/>
            <a:chOff x="3105000" y="2330280"/>
            <a:chExt cx="4703400" cy="642600"/>
          </a:xfrm>
        </p:grpSpPr>
        <p:pic>
          <p:nvPicPr>
            <p:cNvPr id="472" name="图片 6" descr=""/>
            <p:cNvPicPr/>
            <p:nvPr/>
          </p:nvPicPr>
          <p:blipFill>
            <a:blip r:embed="rId3"/>
            <a:stretch/>
          </p:blipFill>
          <p:spPr>
            <a:xfrm>
              <a:off x="3105000" y="2531520"/>
              <a:ext cx="56736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矩形 11"/>
            <p:cNvSpPr/>
            <p:nvPr/>
          </p:nvSpPr>
          <p:spPr>
            <a:xfrm>
              <a:off x="4793040" y="2330280"/>
              <a:ext cx="301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2.  </a:t>
              </a:r>
              <a:r>
                <a:rPr b="0" lang="zh-CN" sz="18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能及时完成工作，喜欢能自我发挥的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组合 19"/>
          <p:cNvGrpSpPr/>
          <p:nvPr/>
        </p:nvGrpSpPr>
        <p:grpSpPr>
          <a:xfrm>
            <a:off x="3100320" y="3309840"/>
            <a:ext cx="4159080" cy="642600"/>
            <a:chOff x="3100320" y="3309840"/>
            <a:chExt cx="4159080" cy="642600"/>
          </a:xfrm>
        </p:grpSpPr>
        <p:pic>
          <p:nvPicPr>
            <p:cNvPr id="475" name="图片 5" descr=""/>
            <p:cNvPicPr/>
            <p:nvPr/>
          </p:nvPicPr>
          <p:blipFill>
            <a:blip r:embed="rId4"/>
            <a:stretch/>
          </p:blipFill>
          <p:spPr>
            <a:xfrm>
              <a:off x="3100320" y="3472560"/>
              <a:ext cx="612360" cy="39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矩形 12"/>
            <p:cNvSpPr/>
            <p:nvPr/>
          </p:nvSpPr>
          <p:spPr>
            <a:xfrm>
              <a:off x="4655520" y="3309840"/>
              <a:ext cx="260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3.  </a:t>
              </a:r>
              <a:r>
                <a:rPr b="0" lang="zh-CN" sz="18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冷静的思考，迅速务实地解决问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组合 20"/>
          <p:cNvGrpSpPr/>
          <p:nvPr/>
        </p:nvGrpSpPr>
        <p:grpSpPr>
          <a:xfrm>
            <a:off x="3143160" y="4206960"/>
            <a:ext cx="3193200" cy="652320"/>
            <a:chOff x="3143160" y="4206960"/>
            <a:chExt cx="3193200" cy="652320"/>
          </a:xfrm>
        </p:grpSpPr>
        <p:pic>
          <p:nvPicPr>
            <p:cNvPr id="478" name="图片 7" descr=""/>
            <p:cNvPicPr/>
            <p:nvPr/>
          </p:nvPicPr>
          <p:blipFill>
            <a:blip r:embed="rId5"/>
            <a:stretch/>
          </p:blipFill>
          <p:spPr>
            <a:xfrm>
              <a:off x="3143160" y="4206960"/>
              <a:ext cx="5436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矩形 13"/>
            <p:cNvSpPr/>
            <p:nvPr/>
          </p:nvSpPr>
          <p:spPr>
            <a:xfrm>
              <a:off x="4418280" y="4213440"/>
              <a:ext cx="191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4.  </a:t>
              </a:r>
              <a:r>
                <a:rPr b="0" lang="zh-CN" sz="18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擅于收集各种技术信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直接连接符 14"/>
          <p:cNvSpPr/>
          <p:nvPr/>
        </p:nvSpPr>
        <p:spPr>
          <a:xfrm>
            <a:off x="2771640" y="3143160"/>
            <a:ext cx="5977080" cy="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直接连接符 15"/>
          <p:cNvSpPr/>
          <p:nvPr/>
        </p:nvSpPr>
        <p:spPr>
          <a:xfrm>
            <a:off x="2771640" y="4038480"/>
            <a:ext cx="5977080" cy="180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直接连接符 16"/>
          <p:cNvSpPr/>
          <p:nvPr/>
        </p:nvSpPr>
        <p:spPr>
          <a:xfrm>
            <a:off x="2771640" y="4948200"/>
            <a:ext cx="5977080" cy="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图片 21" descr=""/>
          <p:cNvPicPr/>
          <p:nvPr/>
        </p:nvPicPr>
        <p:blipFill>
          <a:blip r:embed="rId6"/>
          <a:stretch/>
        </p:blipFill>
        <p:spPr>
          <a:xfrm>
            <a:off x="108000" y="1511280"/>
            <a:ext cx="24652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Impact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Impact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Impact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Impact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Impact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Impact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Impact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Impact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7D98F-B58C-4018-B24A-1B917B1F9E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矩形 5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弦形 7"/>
          <p:cNvSpPr/>
          <p:nvPr/>
        </p:nvSpPr>
        <p:spPr>
          <a:xfrm rot="7980000">
            <a:off x="8493840" y="864000"/>
            <a:ext cx="512640" cy="511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IST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</a:rPr>
              <a:t>劣势篇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8462520" y="930240"/>
            <a:ext cx="5749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0019-0AA7-474F-A8AF-A400FDAF99F8}" type="slidenum">
              <a:rPr b="0" lang="zh-CN" sz="12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图片 3" descr=""/>
          <p:cNvPicPr/>
          <p:nvPr/>
        </p:nvPicPr>
        <p:blipFill>
          <a:blip r:embed="rId2"/>
          <a:stretch/>
        </p:blipFill>
        <p:spPr>
          <a:xfrm>
            <a:off x="417600" y="1486080"/>
            <a:ext cx="2138400" cy="3649320"/>
          </a:xfrm>
          <a:prstGeom prst="rect">
            <a:avLst/>
          </a:prstGeom>
          <a:ln w="0">
            <a:noFill/>
          </a:ln>
        </p:spPr>
      </p:pic>
      <p:grpSp>
        <p:nvGrpSpPr>
          <p:cNvPr id="492" name="组合 8"/>
          <p:cNvGrpSpPr/>
          <p:nvPr/>
        </p:nvGrpSpPr>
        <p:grpSpPr>
          <a:xfrm>
            <a:off x="2822760" y="1419120"/>
            <a:ext cx="6070320" cy="1067400"/>
            <a:chOff x="2822760" y="1419120"/>
            <a:chExt cx="6070320" cy="1067400"/>
          </a:xfrm>
        </p:grpSpPr>
        <p:sp>
          <p:nvSpPr>
            <p:cNvPr id="493" name="矩形 5"/>
            <p:cNvSpPr/>
            <p:nvPr/>
          </p:nvSpPr>
          <p:spPr>
            <a:xfrm>
              <a:off x="2822760" y="1419120"/>
              <a:ext cx="99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团队方面</a:t>
              </a: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6"/>
            <p:cNvSpPr/>
            <p:nvPr/>
          </p:nvSpPr>
          <p:spPr>
            <a:xfrm>
              <a:off x="4049280" y="1419120"/>
              <a:ext cx="4843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不喜欢参与式的管理，认为团队妨碍有效的工作，工作最好由个人独立完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管理风格比较突兀、直接、不合常规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直接连接符 7"/>
          <p:cNvSpPr/>
          <p:nvPr/>
        </p:nvSpPr>
        <p:spPr>
          <a:xfrm>
            <a:off x="2556000" y="3095640"/>
            <a:ext cx="6372000" cy="144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组合 4"/>
          <p:cNvGrpSpPr/>
          <p:nvPr/>
        </p:nvGrpSpPr>
        <p:grpSpPr>
          <a:xfrm>
            <a:off x="2822760" y="3203640"/>
            <a:ext cx="5835600" cy="1067400"/>
            <a:chOff x="2822760" y="3203640"/>
            <a:chExt cx="5835600" cy="1067400"/>
          </a:xfrm>
        </p:grpSpPr>
        <p:sp>
          <p:nvSpPr>
            <p:cNvPr id="497" name="矩形 9"/>
            <p:cNvSpPr/>
            <p:nvPr/>
          </p:nvSpPr>
          <p:spPr>
            <a:xfrm>
              <a:off x="2822760" y="3203640"/>
              <a:ext cx="99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个人方面</a:t>
              </a: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矩形 10"/>
            <p:cNvSpPr/>
            <p:nvPr/>
          </p:nvSpPr>
          <p:spPr>
            <a:xfrm>
              <a:off x="4049280" y="3203640"/>
              <a:ext cx="46090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喜欢刺激，对工作和管理，一旦兴趣消除，耐心也就到头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讨厌的三件事情：规定、行政工作和文书工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直接连接符 14"/>
          <p:cNvSpPr/>
          <p:nvPr/>
        </p:nvSpPr>
        <p:spPr>
          <a:xfrm>
            <a:off x="2556000" y="4803840"/>
            <a:ext cx="6372000" cy="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771640" y="1131840"/>
            <a:ext cx="580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矩形 5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弦形 7"/>
          <p:cNvSpPr/>
          <p:nvPr/>
        </p:nvSpPr>
        <p:spPr>
          <a:xfrm rot="7980000">
            <a:off x="8493840" y="864000"/>
            <a:ext cx="512640" cy="511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ESF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</a:rPr>
              <a:t>快乐工作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4" name="TextBox 4"/>
          <p:cNvSpPr/>
          <p:nvPr/>
        </p:nvSpPr>
        <p:spPr>
          <a:xfrm>
            <a:off x="1660680" y="185112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5"/>
          <p:cNvSpPr/>
          <p:nvPr/>
        </p:nvSpPr>
        <p:spPr>
          <a:xfrm>
            <a:off x="3467160" y="185112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6"/>
          <p:cNvSpPr/>
          <p:nvPr/>
        </p:nvSpPr>
        <p:spPr>
          <a:xfrm>
            <a:off x="5278320" y="18511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7"/>
          <p:cNvSpPr/>
          <p:nvPr/>
        </p:nvSpPr>
        <p:spPr>
          <a:xfrm>
            <a:off x="7186680" y="18511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8"/>
          <p:cNvSpPr/>
          <p:nvPr/>
        </p:nvSpPr>
        <p:spPr>
          <a:xfrm>
            <a:off x="2509920" y="20829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9"/>
          <p:cNvSpPr/>
          <p:nvPr/>
        </p:nvSpPr>
        <p:spPr>
          <a:xfrm>
            <a:off x="4352760" y="208296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0"/>
          <p:cNvSpPr/>
          <p:nvPr/>
        </p:nvSpPr>
        <p:spPr>
          <a:xfrm>
            <a:off x="6194520" y="208296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11"/>
          <p:cNvSpPr/>
          <p:nvPr/>
        </p:nvSpPr>
        <p:spPr>
          <a:xfrm>
            <a:off x="611280" y="3200400"/>
            <a:ext cx="189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I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关注世界多于外部世界，追求自己内心世界的有序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2"/>
          <p:cNvSpPr/>
          <p:nvPr/>
        </p:nvSpPr>
        <p:spPr>
          <a:xfrm>
            <a:off x="2832120" y="4076640"/>
            <a:ext cx="207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S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关注可以触摸的、直接的、实实在在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4"/>
          <p:cNvSpPr/>
          <p:nvPr/>
        </p:nvSpPr>
        <p:spPr>
          <a:xfrm>
            <a:off x="4211640" y="3181320"/>
            <a:ext cx="205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F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决策过程中情感方面的因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5"/>
          <p:cNvSpPr/>
          <p:nvPr/>
        </p:nvSpPr>
        <p:spPr>
          <a:xfrm>
            <a:off x="6458040" y="4076640"/>
            <a:ext cx="21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P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非常开放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曲线连接符 17"/>
          <p:cNvCxnSpPr>
            <a:stCxn id="505" idx="2"/>
            <a:endCxn id="512" idx="1"/>
          </p:cNvCxnSpPr>
          <p:nvPr/>
        </p:nvCxnSpPr>
        <p:spPr>
          <a:xfrm rot="5400000">
            <a:off x="2587680" y="3202920"/>
            <a:ext cx="1410480" cy="923040"/>
          </a:xfrm>
          <a:prstGeom prst="curvedConnector5">
            <a:avLst>
              <a:gd name="adj1" fmla="val 39622"/>
              <a:gd name="adj2" fmla="val 62387"/>
              <a:gd name="adj3" fmla="val 39622"/>
            </a:avLst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516" name="曲线连接符 18"/>
          <p:cNvCxnSpPr/>
          <p:nvPr/>
        </p:nvCxnSpPr>
        <p:spPr>
          <a:xfrm rot="5400000">
            <a:off x="1558440" y="2887560"/>
            <a:ext cx="315000" cy="311760"/>
          </a:xfrm>
          <a:prstGeom prst="curvedConnector5">
            <a:avLst>
              <a:gd name="adj1" fmla="val 50000"/>
              <a:gd name="adj2" fmla="val 49942"/>
              <a:gd name="adj3" fmla="val 50000"/>
            </a:avLst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517" name="曲线连接符 21"/>
          <p:cNvCxnSpPr/>
          <p:nvPr/>
        </p:nvCxnSpPr>
        <p:spPr>
          <a:xfrm rot="5400000">
            <a:off x="5117400" y="2949480"/>
            <a:ext cx="356400" cy="108720"/>
          </a:xfrm>
          <a:prstGeom prst="curvedConnector5">
            <a:avLst>
              <a:gd name="adj1" fmla="val 49949"/>
              <a:gd name="adj2" fmla="val 49833"/>
              <a:gd name="adj3" fmla="val 49949"/>
            </a:avLst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518" name="曲线连接符 24"/>
          <p:cNvCxnSpPr>
            <a:stCxn id="507" idx="2"/>
            <a:endCxn id="514" idx="1"/>
          </p:cNvCxnSpPr>
          <p:nvPr/>
        </p:nvCxnSpPr>
        <p:spPr>
          <a:xfrm rot="5400000">
            <a:off x="6321240" y="3093120"/>
            <a:ext cx="1286640" cy="1018440"/>
          </a:xfrm>
          <a:prstGeom prst="curvedConnector5">
            <a:avLst>
              <a:gd name="adj1" fmla="val 43408"/>
              <a:gd name="adj2" fmla="val 61209"/>
              <a:gd name="adj3" fmla="val 43408"/>
            </a:avLst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519" name=""/>
          <p:cNvSpPr txBox="1"/>
          <p:nvPr/>
        </p:nvSpPr>
        <p:spPr>
          <a:xfrm>
            <a:off x="8462520" y="930240"/>
            <a:ext cx="5749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C9C4-6E23-4DE8-9680-CE673DE070B7}" type="slidenum">
              <a:rPr b="0" lang="zh-CN" sz="12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矩形 5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弦形 7"/>
          <p:cNvSpPr/>
          <p:nvPr/>
        </p:nvSpPr>
        <p:spPr>
          <a:xfrm rot="7980000">
            <a:off x="8493840" y="864000"/>
            <a:ext cx="512640" cy="511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ESF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</a:rPr>
              <a:t>优势篇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8462520" y="930240"/>
            <a:ext cx="5749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3657-0C0E-4831-9970-D41087264F6A}" type="slidenum">
              <a:rPr b="0" lang="zh-CN" sz="12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组合 17"/>
          <p:cNvGrpSpPr/>
          <p:nvPr/>
        </p:nvGrpSpPr>
        <p:grpSpPr>
          <a:xfrm>
            <a:off x="2627280" y="1308240"/>
            <a:ext cx="3737880" cy="645840"/>
            <a:chOff x="2627280" y="1308240"/>
            <a:chExt cx="3737880" cy="645840"/>
          </a:xfrm>
        </p:grpSpPr>
        <p:pic>
          <p:nvPicPr>
            <p:cNvPr id="525" name="图片 4" descr=""/>
            <p:cNvPicPr/>
            <p:nvPr/>
          </p:nvPicPr>
          <p:blipFill>
            <a:blip r:embed="rId2"/>
            <a:stretch/>
          </p:blipFill>
          <p:spPr>
            <a:xfrm>
              <a:off x="2627280" y="1318320"/>
              <a:ext cx="827280" cy="6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矩形 8"/>
            <p:cNvSpPr/>
            <p:nvPr/>
          </p:nvSpPr>
          <p:spPr>
            <a:xfrm>
              <a:off x="4035600" y="1308240"/>
              <a:ext cx="232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1.  </a:t>
              </a:r>
              <a:r>
                <a:rPr b="0" lang="zh-CN" sz="18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工作环境中多个项目齐头并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直接连接符 10"/>
          <p:cNvSpPr/>
          <p:nvPr/>
        </p:nvSpPr>
        <p:spPr>
          <a:xfrm>
            <a:off x="2482920" y="2130480"/>
            <a:ext cx="6229440" cy="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组合 18"/>
          <p:cNvGrpSpPr/>
          <p:nvPr/>
        </p:nvGrpSpPr>
        <p:grpSpPr>
          <a:xfrm>
            <a:off x="2746440" y="2306520"/>
            <a:ext cx="3632040" cy="646200"/>
            <a:chOff x="2746440" y="2306520"/>
            <a:chExt cx="3632040" cy="646200"/>
          </a:xfrm>
        </p:grpSpPr>
        <p:pic>
          <p:nvPicPr>
            <p:cNvPr id="529" name="图片 6" descr=""/>
            <p:cNvPicPr/>
            <p:nvPr/>
          </p:nvPicPr>
          <p:blipFill>
            <a:blip r:embed="rId3"/>
            <a:stretch/>
          </p:blipFill>
          <p:spPr>
            <a:xfrm>
              <a:off x="2746440" y="2332080"/>
              <a:ext cx="5392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矩形 11"/>
            <p:cNvSpPr/>
            <p:nvPr/>
          </p:nvSpPr>
          <p:spPr>
            <a:xfrm>
              <a:off x="4048920" y="2306520"/>
              <a:ext cx="232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2.  </a:t>
              </a:r>
              <a:r>
                <a:rPr b="0" lang="zh-CN" sz="18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认同每个人的差异和工作步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组合 19"/>
          <p:cNvGrpSpPr/>
          <p:nvPr/>
        </p:nvGrpSpPr>
        <p:grpSpPr>
          <a:xfrm>
            <a:off x="2658960" y="3305160"/>
            <a:ext cx="5043600" cy="520560"/>
            <a:chOff x="2658960" y="3305160"/>
            <a:chExt cx="5043600" cy="520560"/>
          </a:xfrm>
        </p:grpSpPr>
        <p:pic>
          <p:nvPicPr>
            <p:cNvPr id="532" name="图片 5" descr=""/>
            <p:cNvPicPr/>
            <p:nvPr/>
          </p:nvPicPr>
          <p:blipFill>
            <a:blip r:embed="rId4"/>
            <a:stretch/>
          </p:blipFill>
          <p:spPr>
            <a:xfrm>
              <a:off x="2658960" y="3349800"/>
              <a:ext cx="747360" cy="47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矩形 12"/>
            <p:cNvSpPr/>
            <p:nvPr/>
          </p:nvSpPr>
          <p:spPr>
            <a:xfrm>
              <a:off x="3501000" y="3305160"/>
              <a:ext cx="42015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3.  </a:t>
              </a:r>
              <a:r>
                <a:rPr b="0" lang="zh-CN" sz="18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在面对最后期限带来压力的正面态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直接连接符 14"/>
          <p:cNvSpPr/>
          <p:nvPr/>
        </p:nvSpPr>
        <p:spPr>
          <a:xfrm>
            <a:off x="2482920" y="3130560"/>
            <a:ext cx="6229440" cy="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直接连接符 15"/>
          <p:cNvSpPr/>
          <p:nvPr/>
        </p:nvSpPr>
        <p:spPr>
          <a:xfrm>
            <a:off x="2482920" y="4003560"/>
            <a:ext cx="6229440" cy="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图片 21" descr=""/>
          <p:cNvPicPr/>
          <p:nvPr/>
        </p:nvPicPr>
        <p:blipFill>
          <a:blip r:embed="rId5"/>
          <a:stretch/>
        </p:blipFill>
        <p:spPr>
          <a:xfrm>
            <a:off x="190440" y="1227240"/>
            <a:ext cx="2076480" cy="3909960"/>
          </a:xfrm>
          <a:prstGeom prst="rect">
            <a:avLst/>
          </a:prstGeom>
          <a:ln w="0">
            <a:noFill/>
          </a:ln>
        </p:spPr>
      </p:pic>
      <p:grpSp>
        <p:nvGrpSpPr>
          <p:cNvPr id="537" name="组合 16"/>
          <p:cNvGrpSpPr/>
          <p:nvPr/>
        </p:nvGrpSpPr>
        <p:grpSpPr>
          <a:xfrm>
            <a:off x="2720880" y="4178160"/>
            <a:ext cx="5810400" cy="520920"/>
            <a:chOff x="2720880" y="4178160"/>
            <a:chExt cx="5810400" cy="520920"/>
          </a:xfrm>
        </p:grpSpPr>
        <p:pic>
          <p:nvPicPr>
            <p:cNvPr id="538" name="图片 20" descr=""/>
            <p:cNvPicPr/>
            <p:nvPr/>
          </p:nvPicPr>
          <p:blipFill>
            <a:blip r:embed="rId6"/>
            <a:stretch/>
          </p:blipFill>
          <p:spPr>
            <a:xfrm>
              <a:off x="2720880" y="4223160"/>
              <a:ext cx="623880" cy="47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矩形 22"/>
            <p:cNvSpPr/>
            <p:nvPr/>
          </p:nvSpPr>
          <p:spPr>
            <a:xfrm>
              <a:off x="3501360" y="4178160"/>
              <a:ext cx="50299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4.  </a:t>
              </a:r>
              <a:r>
                <a:rPr b="0" lang="zh-CN" sz="18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为大家提供高昂的情绪和力量，一起奔向目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直接连接符 23"/>
          <p:cNvSpPr/>
          <p:nvPr/>
        </p:nvSpPr>
        <p:spPr>
          <a:xfrm>
            <a:off x="2482920" y="4876920"/>
            <a:ext cx="6229440" cy="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标题 1"/>
          <p:cNvSpPr/>
          <p:nvPr/>
        </p:nvSpPr>
        <p:spPr>
          <a:xfrm>
            <a:off x="457200" y="41904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Impact"/>
                <a:ea typeface="华康俪金黑W8"/>
              </a:rPr>
              <a:t>四种气质类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7"/>
          <p:cNvGrpSpPr/>
          <p:nvPr/>
        </p:nvGrpSpPr>
        <p:grpSpPr>
          <a:xfrm>
            <a:off x="1008000" y="1574640"/>
            <a:ext cx="7128000" cy="3084840"/>
            <a:chOff x="1008000" y="1574640"/>
            <a:chExt cx="7128000" cy="3084840"/>
          </a:xfrm>
        </p:grpSpPr>
        <p:sp>
          <p:nvSpPr>
            <p:cNvPr id="256" name="矩形 2"/>
            <p:cNvSpPr/>
            <p:nvPr/>
          </p:nvSpPr>
          <p:spPr>
            <a:xfrm>
              <a:off x="1008000" y="1574640"/>
              <a:ext cx="3528000" cy="1512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</a:rPr>
                <a:t>S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</a:rPr>
                <a:t>合法主义者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</a:rPr>
                <a:t>/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</a:rPr>
                <a:t>维护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</a:rPr>
                <a:t>Legalist/Guard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3"/>
            <p:cNvSpPr/>
            <p:nvPr/>
          </p:nvSpPr>
          <p:spPr>
            <a:xfrm>
              <a:off x="4608000" y="1574640"/>
              <a:ext cx="3528000" cy="1512000"/>
            </a:xfrm>
            <a:prstGeom prst="rect">
              <a:avLst/>
            </a:prstGeom>
            <a:solidFill>
              <a:srgbClr val="008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</a:rPr>
                <a:t>N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</a:rPr>
                <a:t>通情者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</a:rPr>
                <a:t>/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</a:rPr>
                <a:t>理想主义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</a:rPr>
                <a:t>Empathist/Ideali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5"/>
            <p:cNvSpPr/>
            <p:nvPr/>
          </p:nvSpPr>
          <p:spPr>
            <a:xfrm>
              <a:off x="1008000" y="3147480"/>
              <a:ext cx="3528000" cy="15120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</a:rPr>
                <a:t>S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</a:rPr>
                <a:t>现实主义者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</a:rPr>
                <a:t>/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</a:rPr>
                <a:t>工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</a:rPr>
                <a:t>Realist/Artis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矩形 6"/>
            <p:cNvSpPr/>
            <p:nvPr/>
          </p:nvSpPr>
          <p:spPr>
            <a:xfrm>
              <a:off x="4608000" y="3147480"/>
              <a:ext cx="3528000" cy="1512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</a:rPr>
                <a:t>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</a:rPr>
                <a:t>理性主义者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</a:rPr>
                <a:t>/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</a:rPr>
                <a:t>分析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</a:rPr>
                <a:t>Rationalist/Analy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图片 8" descr=""/>
          <p:cNvPicPr/>
          <p:nvPr/>
        </p:nvPicPr>
        <p:blipFill>
          <a:blip r:embed="rId1"/>
          <a:srcRect l="0" t="0" r="0" b="3667"/>
          <a:stretch/>
        </p:blipFill>
        <p:spPr>
          <a:xfrm flipH="1">
            <a:off x="107640" y="3803760"/>
            <a:ext cx="1307880" cy="109836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9" descr=""/>
          <p:cNvPicPr/>
          <p:nvPr/>
        </p:nvPicPr>
        <p:blipFill>
          <a:blip r:embed="rId2"/>
          <a:stretch/>
        </p:blipFill>
        <p:spPr>
          <a:xfrm flipH="1">
            <a:off x="7564320" y="1085760"/>
            <a:ext cx="860400" cy="97812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0" descr=""/>
          <p:cNvPicPr/>
          <p:nvPr/>
        </p:nvPicPr>
        <p:blipFill>
          <a:blip r:embed="rId3"/>
          <a:stretch/>
        </p:blipFill>
        <p:spPr>
          <a:xfrm>
            <a:off x="7674120" y="3919680"/>
            <a:ext cx="750600" cy="95724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11" descr=""/>
          <p:cNvPicPr/>
          <p:nvPr/>
        </p:nvPicPr>
        <p:blipFill>
          <a:blip r:embed="rId4"/>
          <a:srcRect l="0" t="0" r="57121" b="0"/>
          <a:stretch/>
        </p:blipFill>
        <p:spPr>
          <a:xfrm flipH="1">
            <a:off x="585720" y="1085760"/>
            <a:ext cx="8222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矩形 5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弦形 7"/>
          <p:cNvSpPr/>
          <p:nvPr/>
        </p:nvSpPr>
        <p:spPr>
          <a:xfrm rot="7980000">
            <a:off x="8493840" y="864000"/>
            <a:ext cx="512640" cy="511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ESF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</a:rPr>
              <a:t>劣势篇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8462520" y="930240"/>
            <a:ext cx="5749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857C-F9E6-4058-A384-FEA19BFD9047}" type="slidenum">
              <a:rPr b="0" lang="zh-CN" sz="12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图片 3" descr=""/>
          <p:cNvPicPr/>
          <p:nvPr/>
        </p:nvPicPr>
        <p:blipFill>
          <a:blip r:embed="rId2"/>
          <a:stretch/>
        </p:blipFill>
        <p:spPr>
          <a:xfrm>
            <a:off x="417600" y="1486080"/>
            <a:ext cx="2138400" cy="3649320"/>
          </a:xfrm>
          <a:prstGeom prst="rect">
            <a:avLst/>
          </a:prstGeom>
          <a:ln w="0">
            <a:noFill/>
          </a:ln>
        </p:spPr>
      </p:pic>
      <p:grpSp>
        <p:nvGrpSpPr>
          <p:cNvPr id="546" name="组合 8"/>
          <p:cNvGrpSpPr/>
          <p:nvPr/>
        </p:nvGrpSpPr>
        <p:grpSpPr>
          <a:xfrm>
            <a:off x="2822760" y="2344680"/>
            <a:ext cx="6070320" cy="1067400"/>
            <a:chOff x="2822760" y="2344680"/>
            <a:chExt cx="6070320" cy="1067400"/>
          </a:xfrm>
        </p:grpSpPr>
        <p:sp>
          <p:nvSpPr>
            <p:cNvPr id="547" name="矩形 5"/>
            <p:cNvSpPr/>
            <p:nvPr/>
          </p:nvSpPr>
          <p:spPr>
            <a:xfrm>
              <a:off x="2822760" y="2344680"/>
              <a:ext cx="99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团队方面</a:t>
              </a: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6"/>
            <p:cNvSpPr/>
            <p:nvPr/>
          </p:nvSpPr>
          <p:spPr>
            <a:xfrm>
              <a:off x="4049280" y="2344680"/>
              <a:ext cx="4843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过多的参与事情，容易引发负面的情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对程序的蔑视对组织秩序的不尊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直接连接符 7"/>
          <p:cNvSpPr/>
          <p:nvPr/>
        </p:nvSpPr>
        <p:spPr>
          <a:xfrm>
            <a:off x="2556000" y="3451320"/>
            <a:ext cx="6372000" cy="144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组合 4"/>
          <p:cNvGrpSpPr/>
          <p:nvPr/>
        </p:nvGrpSpPr>
        <p:grpSpPr>
          <a:xfrm>
            <a:off x="2822760" y="3557520"/>
            <a:ext cx="5835600" cy="1067400"/>
            <a:chOff x="2822760" y="3557520"/>
            <a:chExt cx="5835600" cy="1067400"/>
          </a:xfrm>
        </p:grpSpPr>
        <p:sp>
          <p:nvSpPr>
            <p:cNvPr id="551" name="矩形 9"/>
            <p:cNvSpPr/>
            <p:nvPr/>
          </p:nvSpPr>
          <p:spPr>
            <a:xfrm>
              <a:off x="2822760" y="3557520"/>
              <a:ext cx="99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【</a:t>
              </a:r>
              <a:r>
                <a:rPr b="1" lang="zh-CN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个人方面</a:t>
              </a:r>
              <a:r>
                <a:rPr b="1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矩形 10"/>
            <p:cNvSpPr/>
            <p:nvPr/>
          </p:nvSpPr>
          <p:spPr>
            <a:xfrm>
              <a:off x="4049280" y="3557520"/>
              <a:ext cx="46090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难以掌控长期目标和程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200000"/>
                </a:lnSpc>
                <a:buClr>
                  <a:srgbClr val="c00000"/>
                </a:buClr>
                <a:buFont typeface="华康俪金黑W8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不分场合，太爱开玩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直接连接符 14"/>
          <p:cNvSpPr/>
          <p:nvPr/>
        </p:nvSpPr>
        <p:spPr>
          <a:xfrm>
            <a:off x="2556000" y="4660920"/>
            <a:ext cx="6372000" cy="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3"/>
          <p:cNvSpPr/>
          <p:nvPr/>
        </p:nvSpPr>
        <p:spPr>
          <a:xfrm>
            <a:off x="407880" y="2490840"/>
            <a:ext cx="289080" cy="2241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战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4"/>
          <p:cNvSpPr/>
          <p:nvPr/>
        </p:nvSpPr>
        <p:spPr>
          <a:xfrm>
            <a:off x="812880" y="2995560"/>
            <a:ext cx="287280" cy="1736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后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5"/>
          <p:cNvSpPr/>
          <p:nvPr/>
        </p:nvSpPr>
        <p:spPr>
          <a:xfrm>
            <a:off x="1216080" y="3219480"/>
            <a:ext cx="288720" cy="15127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战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6"/>
          <p:cNvSpPr/>
          <p:nvPr/>
        </p:nvSpPr>
        <p:spPr>
          <a:xfrm>
            <a:off x="1619280" y="3443400"/>
            <a:ext cx="288720" cy="1288800"/>
          </a:xfrm>
          <a:prstGeom prst="rect">
            <a:avLst/>
          </a:prstGeom>
          <a:solidFill>
            <a:srgbClr val="008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交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7"/>
          <p:cNvSpPr/>
          <p:nvPr/>
        </p:nvSpPr>
        <p:spPr>
          <a:xfrm>
            <a:off x="324000" y="4732200"/>
            <a:ext cx="827856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8"/>
          <p:cNvSpPr/>
          <p:nvPr/>
        </p:nvSpPr>
        <p:spPr>
          <a:xfrm>
            <a:off x="2411280" y="3443400"/>
            <a:ext cx="289080" cy="1288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战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9"/>
          <p:cNvSpPr/>
          <p:nvPr/>
        </p:nvSpPr>
        <p:spPr>
          <a:xfrm>
            <a:off x="2819520" y="3219480"/>
            <a:ext cx="288720" cy="1512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后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1"/>
          <p:cNvSpPr/>
          <p:nvPr/>
        </p:nvSpPr>
        <p:spPr>
          <a:xfrm>
            <a:off x="3227400" y="2995560"/>
            <a:ext cx="289080" cy="17366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战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2"/>
          <p:cNvSpPr/>
          <p:nvPr/>
        </p:nvSpPr>
        <p:spPr>
          <a:xfrm>
            <a:off x="3635280" y="2490840"/>
            <a:ext cx="289080" cy="2241360"/>
          </a:xfrm>
          <a:prstGeom prst="rect">
            <a:avLst/>
          </a:prstGeom>
          <a:solidFill>
            <a:srgbClr val="008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交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3"/>
          <p:cNvSpPr/>
          <p:nvPr/>
        </p:nvSpPr>
        <p:spPr>
          <a:xfrm>
            <a:off x="5087880" y="2490840"/>
            <a:ext cx="287280" cy="22413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战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14"/>
          <p:cNvSpPr/>
          <p:nvPr/>
        </p:nvSpPr>
        <p:spPr>
          <a:xfrm>
            <a:off x="5491080" y="2995560"/>
            <a:ext cx="289080" cy="1736640"/>
          </a:xfrm>
          <a:prstGeom prst="rect">
            <a:avLst/>
          </a:prstGeom>
          <a:solidFill>
            <a:srgbClr val="008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交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15"/>
          <p:cNvSpPr/>
          <p:nvPr/>
        </p:nvSpPr>
        <p:spPr>
          <a:xfrm>
            <a:off x="5896080" y="3219480"/>
            <a:ext cx="287280" cy="15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战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6"/>
          <p:cNvSpPr/>
          <p:nvPr/>
        </p:nvSpPr>
        <p:spPr>
          <a:xfrm>
            <a:off x="6299280" y="3443400"/>
            <a:ext cx="288720" cy="1288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后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17"/>
          <p:cNvSpPr/>
          <p:nvPr/>
        </p:nvSpPr>
        <p:spPr>
          <a:xfrm>
            <a:off x="7091280" y="3443400"/>
            <a:ext cx="287280" cy="128880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战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8"/>
          <p:cNvSpPr/>
          <p:nvPr/>
        </p:nvSpPr>
        <p:spPr>
          <a:xfrm>
            <a:off x="7499520" y="3219480"/>
            <a:ext cx="288720" cy="1512720"/>
          </a:xfrm>
          <a:prstGeom prst="rect">
            <a:avLst/>
          </a:prstGeom>
          <a:solidFill>
            <a:srgbClr val="008a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交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19"/>
          <p:cNvSpPr/>
          <p:nvPr/>
        </p:nvSpPr>
        <p:spPr>
          <a:xfrm>
            <a:off x="7907400" y="2995560"/>
            <a:ext cx="288720" cy="1736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战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20"/>
          <p:cNvSpPr/>
          <p:nvPr/>
        </p:nvSpPr>
        <p:spPr>
          <a:xfrm>
            <a:off x="8315280" y="2490840"/>
            <a:ext cx="289080" cy="2241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后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21"/>
          <p:cNvSpPr/>
          <p:nvPr/>
        </p:nvSpPr>
        <p:spPr>
          <a:xfrm>
            <a:off x="564480" y="174960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Impact"/>
                <a:ea typeface="微软雅黑"/>
              </a:rPr>
              <a:t>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22"/>
          <p:cNvSpPr/>
          <p:nvPr/>
        </p:nvSpPr>
        <p:spPr>
          <a:xfrm>
            <a:off x="2960640" y="174960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a3e"/>
                </a:solidFill>
                <a:latin typeface="Impact"/>
                <a:ea typeface="微软雅黑"/>
              </a:rPr>
              <a:t>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23"/>
          <p:cNvSpPr/>
          <p:nvPr/>
        </p:nvSpPr>
        <p:spPr>
          <a:xfrm>
            <a:off x="5371560" y="1749600"/>
            <a:ext cx="6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6c09"/>
                </a:solidFill>
                <a:latin typeface="Impact"/>
                <a:ea typeface="微软雅黑"/>
              </a:rPr>
              <a:t>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24"/>
          <p:cNvSpPr/>
          <p:nvPr/>
        </p:nvSpPr>
        <p:spPr>
          <a:xfrm>
            <a:off x="7819560" y="1749600"/>
            <a:ext cx="4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Impact"/>
                <a:ea typeface="微软雅黑"/>
              </a:rPr>
              <a:t>S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标题 1"/>
          <p:cNvSpPr/>
          <p:nvPr/>
        </p:nvSpPr>
        <p:spPr>
          <a:xfrm>
            <a:off x="457200" y="41904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f3f3f"/>
                </a:solidFill>
                <a:latin typeface="Impact"/>
                <a:ea typeface="华康俪金黑W8"/>
              </a:rPr>
              <a:t>四大气质类型之智能描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7874-28E9-4568-A7ED-4A4BD93612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矩形 5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弦形 7"/>
          <p:cNvSpPr/>
          <p:nvPr/>
        </p:nvSpPr>
        <p:spPr>
          <a:xfrm rot="7980000">
            <a:off x="8493840" y="864000"/>
            <a:ext cx="512640" cy="511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图片 7" descr=""/>
          <p:cNvPicPr/>
          <p:nvPr/>
        </p:nvPicPr>
        <p:blipFill>
          <a:blip r:embed="rId2"/>
          <a:srcRect l="0" t="0" r="0" b="3651"/>
          <a:stretch/>
        </p:blipFill>
        <p:spPr>
          <a:xfrm flipH="1">
            <a:off x="250920" y="1851120"/>
            <a:ext cx="3889440" cy="32655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Impact"/>
              </a:rPr>
              <a:t>SP</a:t>
            </a:r>
            <a:r>
              <a:rPr b="0" lang="en-US" sz="3200" spc="-1" strike="noStrike">
                <a:solidFill>
                  <a:srgbClr val="c00000"/>
                </a:solidFill>
                <a:latin typeface="Impact"/>
              </a:rPr>
              <a:t> — </a:t>
            </a:r>
            <a:r>
              <a:rPr b="0" lang="zh-CN" sz="3200" spc="-1" strike="noStrike">
                <a:solidFill>
                  <a:srgbClr val="c00000"/>
                </a:solidFill>
                <a:latin typeface="Impact"/>
              </a:rPr>
              <a:t>典型代表</a:t>
            </a:r>
            <a:r>
              <a:rPr b="0" lang="en-US" sz="3200" spc="-1" strike="noStrike">
                <a:solidFill>
                  <a:srgbClr val="c00000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8462520" y="930240"/>
            <a:ext cx="5749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</a:rPr>
              <a:t> </a:t>
            </a:r>
            <a:fld id="{5AF9DAE1-157C-43B9-A223-448B8F59E9D6}" type="slidenum">
              <a:rPr b="0" lang="zh-CN" sz="12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6"/>
          <p:cNvSpPr/>
          <p:nvPr/>
        </p:nvSpPr>
        <p:spPr>
          <a:xfrm>
            <a:off x="4427640" y="2003400"/>
            <a:ext cx="439236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Impact"/>
                <a:ea typeface="微软雅黑"/>
              </a:rPr>
              <a:t>变色龙</a:t>
            </a:r>
            <a:r>
              <a:rPr b="0" lang="zh-CN" sz="1800" spc="-1" strike="noStrike">
                <a:solidFill>
                  <a:srgbClr val="7f7f7f"/>
                </a:solidFill>
                <a:latin typeface="Impact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7f7f7f"/>
                </a:solidFill>
                <a:latin typeface="Impact"/>
                <a:ea typeface="微软雅黑"/>
              </a:rPr>
              <a:t>chameleon</a:t>
            </a:r>
            <a:r>
              <a:rPr b="0" lang="zh-CN" sz="1800" spc="-1" strike="noStrike">
                <a:solidFill>
                  <a:srgbClr val="7f7f7f"/>
                </a:solidFill>
                <a:latin typeface="Impact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Impact"/>
                <a:ea typeface="微软雅黑"/>
              </a:rPr>
              <a:t>变色龙是爬行动物，是非常奇特的动物，它有适于树栖生活的种种特征和行为颜色变化决定於环境因素，如光线、温度以及情绪，变色既有利于隐藏自己，又有利于捕捉猎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矩形 5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弦形 7"/>
          <p:cNvSpPr/>
          <p:nvPr/>
        </p:nvSpPr>
        <p:spPr>
          <a:xfrm rot="7980000">
            <a:off x="8493840" y="864000"/>
            <a:ext cx="512640" cy="511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Impact"/>
              </a:rPr>
              <a:t>SP </a:t>
            </a:r>
            <a:r>
              <a:rPr b="0" lang="en-US" sz="3200" spc="-1" strike="noStrike">
                <a:solidFill>
                  <a:srgbClr val="c00000"/>
                </a:solidFill>
                <a:latin typeface="Impact"/>
              </a:rPr>
              <a:t>— </a:t>
            </a:r>
            <a:r>
              <a:rPr b="0" lang="zh-CN" sz="3200" spc="-1" strike="noStrike">
                <a:solidFill>
                  <a:srgbClr val="c00000"/>
                </a:solidFill>
                <a:latin typeface="Impact"/>
              </a:rPr>
              <a:t>天才的艺术家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grpSp>
        <p:nvGrpSpPr>
          <p:cNvPr id="295" name="组合 9"/>
          <p:cNvGrpSpPr/>
          <p:nvPr/>
        </p:nvGrpSpPr>
        <p:grpSpPr>
          <a:xfrm>
            <a:off x="280800" y="1677600"/>
            <a:ext cx="2433960" cy="3104640"/>
            <a:chOff x="280800" y="1677600"/>
            <a:chExt cx="2433960" cy="3104640"/>
          </a:xfrm>
        </p:grpSpPr>
        <p:sp>
          <p:nvSpPr>
            <p:cNvPr id="296" name="矩形 2"/>
            <p:cNvSpPr/>
            <p:nvPr/>
          </p:nvSpPr>
          <p:spPr>
            <a:xfrm rot="21013800">
              <a:off x="504360" y="1825560"/>
              <a:ext cx="1986120" cy="280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图片 7" descr=""/>
            <p:cNvPicPr/>
            <p:nvPr/>
          </p:nvPicPr>
          <p:blipFill>
            <a:blip r:embed="rId2"/>
            <a:stretch/>
          </p:blipFill>
          <p:spPr>
            <a:xfrm rot="21013800">
              <a:off x="609840" y="2033640"/>
              <a:ext cx="1704960" cy="19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Box 8"/>
            <p:cNvSpPr/>
            <p:nvPr/>
          </p:nvSpPr>
          <p:spPr>
            <a:xfrm rot="21013800">
              <a:off x="860040" y="4121640"/>
              <a:ext cx="164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刘德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组合 10"/>
          <p:cNvGrpSpPr/>
          <p:nvPr/>
        </p:nvGrpSpPr>
        <p:grpSpPr>
          <a:xfrm>
            <a:off x="2340000" y="1838880"/>
            <a:ext cx="2440080" cy="3108600"/>
            <a:chOff x="2340000" y="1838880"/>
            <a:chExt cx="2440080" cy="3108600"/>
          </a:xfrm>
        </p:grpSpPr>
        <p:sp>
          <p:nvSpPr>
            <p:cNvPr id="300" name="矩形 11"/>
            <p:cNvSpPr/>
            <p:nvPr/>
          </p:nvSpPr>
          <p:spPr>
            <a:xfrm rot="595200">
              <a:off x="2566800" y="1988640"/>
              <a:ext cx="1985760" cy="280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图片 12" descr=""/>
            <p:cNvPicPr/>
            <p:nvPr/>
          </p:nvPicPr>
          <p:blipFill>
            <a:blip r:embed="rId3"/>
            <a:stretch/>
          </p:blipFill>
          <p:spPr>
            <a:xfrm rot="595200">
              <a:off x="2749320" y="2293560"/>
              <a:ext cx="1692000" cy="179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Box 13"/>
            <p:cNvSpPr/>
            <p:nvPr/>
          </p:nvSpPr>
          <p:spPr>
            <a:xfrm rot="595200">
              <a:off x="2554560" y="4284720"/>
              <a:ext cx="163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迈克尔 </a:t>
              </a:r>
              <a:r>
                <a:rPr b="1" lang="en-US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· </a:t>
              </a:r>
              <a:r>
                <a:rPr b="1" lang="zh-CN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乔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组合 14"/>
          <p:cNvGrpSpPr/>
          <p:nvPr/>
        </p:nvGrpSpPr>
        <p:grpSpPr>
          <a:xfrm>
            <a:off x="4423680" y="1501200"/>
            <a:ext cx="2438280" cy="3107520"/>
            <a:chOff x="4423680" y="1501200"/>
            <a:chExt cx="2438280" cy="3107520"/>
          </a:xfrm>
        </p:grpSpPr>
        <p:sp>
          <p:nvSpPr>
            <p:cNvPr id="304" name="矩形 15"/>
            <p:cNvSpPr/>
            <p:nvPr/>
          </p:nvSpPr>
          <p:spPr>
            <a:xfrm rot="21008400">
              <a:off x="4649400" y="1650600"/>
              <a:ext cx="1986120" cy="2808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图片 16" descr=""/>
            <p:cNvPicPr/>
            <p:nvPr/>
          </p:nvPicPr>
          <p:blipFill>
            <a:blip r:embed="rId4"/>
            <a:stretch/>
          </p:blipFill>
          <p:spPr>
            <a:xfrm rot="21007800">
              <a:off x="4755960" y="1943640"/>
              <a:ext cx="1702080" cy="18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Box 17"/>
            <p:cNvSpPr/>
            <p:nvPr/>
          </p:nvSpPr>
          <p:spPr>
            <a:xfrm rot="21008400">
              <a:off x="5006880" y="3946680"/>
              <a:ext cx="164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玛丽莲 </a:t>
              </a:r>
              <a:r>
                <a:rPr b="0" lang="en-US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· </a:t>
              </a:r>
              <a:r>
                <a:rPr b="0" lang="zh-CN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梦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18"/>
          <p:cNvGrpSpPr/>
          <p:nvPr/>
        </p:nvGrpSpPr>
        <p:grpSpPr>
          <a:xfrm>
            <a:off x="6644160" y="1742040"/>
            <a:ext cx="2322360" cy="3035160"/>
            <a:chOff x="6644160" y="1742040"/>
            <a:chExt cx="2322360" cy="3035160"/>
          </a:xfrm>
        </p:grpSpPr>
        <p:sp>
          <p:nvSpPr>
            <p:cNvPr id="308" name="矩形 19"/>
            <p:cNvSpPr/>
            <p:nvPr/>
          </p:nvSpPr>
          <p:spPr>
            <a:xfrm rot="433200">
              <a:off x="6812280" y="1855440"/>
              <a:ext cx="1985400" cy="280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9" name="图片 20" descr=""/>
            <p:cNvPicPr/>
            <p:nvPr/>
          </p:nvPicPr>
          <p:blipFill>
            <a:blip r:embed="rId5"/>
            <a:stretch/>
          </p:blipFill>
          <p:spPr>
            <a:xfrm rot="433200">
              <a:off x="6978600" y="2142720"/>
              <a:ext cx="1704240" cy="182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Box 21"/>
            <p:cNvSpPr/>
            <p:nvPr/>
          </p:nvSpPr>
          <p:spPr>
            <a:xfrm rot="433200">
              <a:off x="6659280" y="4154040"/>
              <a:ext cx="195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帕布洛 </a:t>
              </a:r>
              <a:r>
                <a:rPr b="0" lang="en-US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· </a:t>
              </a:r>
              <a:r>
                <a:rPr b="0" lang="zh-CN" sz="1600" spc="-1" strike="noStrike">
                  <a:solidFill>
                    <a:srgbClr val="c00000"/>
                  </a:solidFill>
                  <a:latin typeface="华康俪金黑W8"/>
                  <a:ea typeface="华康俪金黑W8"/>
                </a:rPr>
                <a:t>毕加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 txBox="1"/>
          <p:nvPr/>
        </p:nvSpPr>
        <p:spPr>
          <a:xfrm>
            <a:off x="8462520" y="930240"/>
            <a:ext cx="5749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8493-0C80-4CC6-86E3-23692EED2F98}" type="slidenum">
              <a:rPr b="0" lang="zh-CN" sz="12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5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弦形 7"/>
          <p:cNvSpPr/>
          <p:nvPr/>
        </p:nvSpPr>
        <p:spPr>
          <a:xfrm rot="7980000">
            <a:off x="8493840" y="864000"/>
            <a:ext cx="512640" cy="511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NF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</a:rPr>
              <a:t>交际角色变体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8462520" y="930240"/>
            <a:ext cx="5749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</a:rPr>
              <a:t> </a:t>
            </a:r>
            <a:fld id="{C27CA531-3102-476B-AFC1-738C8ECCFB9F}" type="slidenum">
              <a:rPr b="0" lang="zh-CN" sz="12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3"/>
          <p:cNvSpPr/>
          <p:nvPr/>
        </p:nvSpPr>
        <p:spPr>
          <a:xfrm>
            <a:off x="407880" y="2139840"/>
            <a:ext cx="289080" cy="2239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倡导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4"/>
          <p:cNvSpPr/>
          <p:nvPr/>
        </p:nvSpPr>
        <p:spPr>
          <a:xfrm>
            <a:off x="812880" y="2643120"/>
            <a:ext cx="287280" cy="17366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手艺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5"/>
          <p:cNvSpPr/>
          <p:nvPr/>
        </p:nvSpPr>
        <p:spPr>
          <a:xfrm>
            <a:off x="1216080" y="2867040"/>
            <a:ext cx="288720" cy="15127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表演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6"/>
          <p:cNvSpPr/>
          <p:nvPr/>
        </p:nvSpPr>
        <p:spPr>
          <a:xfrm>
            <a:off x="1619280" y="3092400"/>
            <a:ext cx="288720" cy="1287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创作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7"/>
          <p:cNvSpPr/>
          <p:nvPr/>
        </p:nvSpPr>
        <p:spPr>
          <a:xfrm>
            <a:off x="324000" y="4379760"/>
            <a:ext cx="82785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8"/>
          <p:cNvSpPr/>
          <p:nvPr/>
        </p:nvSpPr>
        <p:spPr>
          <a:xfrm>
            <a:off x="2411280" y="3092400"/>
            <a:ext cx="289080" cy="1287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倡导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9"/>
          <p:cNvSpPr/>
          <p:nvPr/>
        </p:nvSpPr>
        <p:spPr>
          <a:xfrm>
            <a:off x="2819520" y="2867040"/>
            <a:ext cx="288720" cy="15127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手艺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11"/>
          <p:cNvSpPr/>
          <p:nvPr/>
        </p:nvSpPr>
        <p:spPr>
          <a:xfrm>
            <a:off x="3227400" y="2643120"/>
            <a:ext cx="289080" cy="17366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表演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12"/>
          <p:cNvSpPr/>
          <p:nvPr/>
        </p:nvSpPr>
        <p:spPr>
          <a:xfrm>
            <a:off x="3635280" y="2139840"/>
            <a:ext cx="289080" cy="2239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创造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3"/>
          <p:cNvSpPr/>
          <p:nvPr/>
        </p:nvSpPr>
        <p:spPr>
          <a:xfrm>
            <a:off x="5087880" y="2139840"/>
            <a:ext cx="287280" cy="2239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手艺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4"/>
          <p:cNvSpPr/>
          <p:nvPr/>
        </p:nvSpPr>
        <p:spPr>
          <a:xfrm>
            <a:off x="5491080" y="2643120"/>
            <a:ext cx="289080" cy="17366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倡导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15"/>
          <p:cNvSpPr/>
          <p:nvPr/>
        </p:nvSpPr>
        <p:spPr>
          <a:xfrm>
            <a:off x="5896080" y="2867040"/>
            <a:ext cx="287280" cy="15127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创作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6"/>
          <p:cNvSpPr/>
          <p:nvPr/>
        </p:nvSpPr>
        <p:spPr>
          <a:xfrm>
            <a:off x="6299280" y="3092400"/>
            <a:ext cx="288720" cy="1287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表演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17"/>
          <p:cNvSpPr/>
          <p:nvPr/>
        </p:nvSpPr>
        <p:spPr>
          <a:xfrm>
            <a:off x="7091280" y="3092400"/>
            <a:ext cx="287280" cy="1287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手艺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18"/>
          <p:cNvSpPr/>
          <p:nvPr/>
        </p:nvSpPr>
        <p:spPr>
          <a:xfrm>
            <a:off x="7499520" y="2867040"/>
            <a:ext cx="288720" cy="15127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倡导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19"/>
          <p:cNvSpPr/>
          <p:nvPr/>
        </p:nvSpPr>
        <p:spPr>
          <a:xfrm>
            <a:off x="7907400" y="2643120"/>
            <a:ext cx="288720" cy="17366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创作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0"/>
          <p:cNvSpPr/>
          <p:nvPr/>
        </p:nvSpPr>
        <p:spPr>
          <a:xfrm>
            <a:off x="8315280" y="2139840"/>
            <a:ext cx="289080" cy="2239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表演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21"/>
          <p:cNvSpPr/>
          <p:nvPr/>
        </p:nvSpPr>
        <p:spPr>
          <a:xfrm>
            <a:off x="656640" y="4516560"/>
            <a:ext cx="87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  <a:ea typeface="微软雅黑"/>
              </a:rPr>
              <a:t>ES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2"/>
          <p:cNvSpPr/>
          <p:nvPr/>
        </p:nvSpPr>
        <p:spPr>
          <a:xfrm>
            <a:off x="2760840" y="45165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  <a:ea typeface="微软雅黑"/>
              </a:rPr>
              <a:t>IS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23"/>
          <p:cNvSpPr/>
          <p:nvPr/>
        </p:nvSpPr>
        <p:spPr>
          <a:xfrm>
            <a:off x="5528880" y="451656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  <a:ea typeface="微软雅黑"/>
              </a:rPr>
              <a:t>IS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4"/>
          <p:cNvSpPr/>
          <p:nvPr/>
        </p:nvSpPr>
        <p:spPr>
          <a:xfrm>
            <a:off x="7560000" y="451656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  <a:ea typeface="微软雅黑"/>
              </a:rPr>
              <a:t>ES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5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弦形 7"/>
          <p:cNvSpPr/>
          <p:nvPr/>
        </p:nvSpPr>
        <p:spPr>
          <a:xfrm rot="7980000">
            <a:off x="8493840" y="864000"/>
            <a:ext cx="512640" cy="511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Impact"/>
              </a:rPr>
              <a:t>位置图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8462520" y="930240"/>
            <a:ext cx="5749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</a:rPr>
              <a:t> </a:t>
            </a:r>
            <a:fld id="{9E32FFCB-732D-4790-A35E-F5AEEF6AA11F}" type="slidenum">
              <a:rPr b="0" lang="zh-CN" sz="12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539640" y="1276200"/>
          <a:ext cx="8209080" cy="3598920"/>
        </p:xfrm>
        <a:graphic>
          <a:graphicData uri="http://schemas.openxmlformats.org/drawingml/2006/table">
            <a:tbl>
              <a:tblPr/>
              <a:tblGrid>
                <a:gridCol w="2052720"/>
                <a:gridCol w="2052720"/>
                <a:gridCol w="2050920"/>
                <a:gridCol w="2052720"/>
              </a:tblGrid>
              <a:tr h="900000">
                <a:tc>
                  <a:txBody>
                    <a:bodyPr lIns="268200" rIns="26820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IST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8200" marR="2682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268200" rIns="26820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ISF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8200" marR="2682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268200" rIns="26820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INF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8200" marR="2682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268200" rIns="26820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INT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8200" marR="2682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268200" rIns="26820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pact"/>
                          <a:ea typeface="微软雅黑"/>
                        </a:rPr>
                        <a:t>IS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8200" marR="2682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268200" rIns="26820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pact"/>
                          <a:ea typeface="微软雅黑"/>
                        </a:rPr>
                        <a:t>ISF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8200" marR="2682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268200" rIns="26820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INF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8200" marR="2682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268200" rIns="26820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IN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8200" marR="2682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268200" rIns="26820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pact"/>
                          <a:ea typeface="微软雅黑"/>
                        </a:rPr>
                        <a:t>ES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8200" marR="2682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268200" rIns="26820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Impact"/>
                          <a:ea typeface="微软雅黑"/>
                        </a:rPr>
                        <a:t>ESF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8200" marR="2682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268200" rIns="26820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ENF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8200" marR="2682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268200" rIns="26820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EN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8200" marR="2682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268200" rIns="26820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EST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8200" marR="2682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268200" rIns="26820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ESF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8200" marR="2682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268200" rIns="26820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ENF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8200" marR="2682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  <a:tc>
                  <a:txBody>
                    <a:bodyPr lIns="268200" rIns="268200" tIns="133920" bIns="133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95959"/>
                          </a:solidFill>
                          <a:latin typeface="Impact"/>
                          <a:ea typeface="微软雅黑"/>
                        </a:rPr>
                        <a:t>ENT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68200" marR="2682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5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弦形 7"/>
          <p:cNvSpPr/>
          <p:nvPr/>
        </p:nvSpPr>
        <p:spPr>
          <a:xfrm rot="7980000">
            <a:off x="8493840" y="864000"/>
            <a:ext cx="512640" cy="511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ESTP — </a:t>
            </a:r>
            <a:r>
              <a:rPr b="0" lang="zh-CN" sz="3600" spc="-1" strike="noStrike">
                <a:solidFill>
                  <a:srgbClr val="c00000"/>
                </a:solidFill>
                <a:latin typeface="华康俪金黑W8"/>
              </a:rPr>
              <a:t>活在这一刻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5" name="TextBox 4"/>
          <p:cNvSpPr/>
          <p:nvPr/>
        </p:nvSpPr>
        <p:spPr>
          <a:xfrm>
            <a:off x="1660680" y="185112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3467160" y="185112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6"/>
          <p:cNvSpPr/>
          <p:nvPr/>
        </p:nvSpPr>
        <p:spPr>
          <a:xfrm>
            <a:off x="5278320" y="18511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7"/>
          <p:cNvSpPr/>
          <p:nvPr/>
        </p:nvSpPr>
        <p:spPr>
          <a:xfrm>
            <a:off x="7186680" y="185112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Impact"/>
                <a:ea typeface="微软雅黑"/>
              </a:rPr>
              <a:t>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8"/>
          <p:cNvSpPr/>
          <p:nvPr/>
        </p:nvSpPr>
        <p:spPr>
          <a:xfrm>
            <a:off x="2509920" y="20829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9"/>
          <p:cNvSpPr/>
          <p:nvPr/>
        </p:nvSpPr>
        <p:spPr>
          <a:xfrm>
            <a:off x="4352760" y="208296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0"/>
          <p:cNvSpPr/>
          <p:nvPr/>
        </p:nvSpPr>
        <p:spPr>
          <a:xfrm>
            <a:off x="6194520" y="208296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Impact"/>
                <a:ea typeface="微软雅黑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1"/>
          <p:cNvSpPr/>
          <p:nvPr/>
        </p:nvSpPr>
        <p:spPr>
          <a:xfrm>
            <a:off x="755640" y="32004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E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喜欢外部的人、事以及发生的一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2"/>
          <p:cNvSpPr/>
          <p:nvPr/>
        </p:nvSpPr>
        <p:spPr>
          <a:xfrm>
            <a:off x="2627280" y="4076640"/>
            <a:ext cx="22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S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偏好第一手、脚踏实地的方式感知世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4"/>
          <p:cNvSpPr/>
          <p:nvPr/>
        </p:nvSpPr>
        <p:spPr>
          <a:xfrm>
            <a:off x="4211640" y="3181320"/>
            <a:ext cx="205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T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做出不带个人好恶的符合逻辑的决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5"/>
          <p:cNvSpPr/>
          <p:nvPr/>
        </p:nvSpPr>
        <p:spPr>
          <a:xfrm>
            <a:off x="6458040" y="4076640"/>
            <a:ext cx="21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P</a:t>
            </a:r>
            <a:r>
              <a:rPr b="0" lang="zh-CN" sz="1600" spc="-1" strike="noStrike">
                <a:solidFill>
                  <a:srgbClr val="262626"/>
                </a:solidFill>
                <a:latin typeface="方正静蕾简体"/>
                <a:ea typeface="方正静蕾简体"/>
              </a:rPr>
              <a:t>，即兴的、灵活的对周围事物不断做出回应的生活方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曲线连接符 17"/>
          <p:cNvCxnSpPr>
            <a:stCxn id="346" idx="2"/>
            <a:endCxn id="353" idx="1"/>
          </p:cNvCxnSpPr>
          <p:nvPr/>
        </p:nvCxnSpPr>
        <p:spPr>
          <a:xfrm rot="5400000">
            <a:off x="2485080" y="3100320"/>
            <a:ext cx="1410480" cy="1127880"/>
          </a:xfrm>
          <a:prstGeom prst="curvedConnector5">
            <a:avLst>
              <a:gd name="adj1" fmla="val 39622"/>
              <a:gd name="adj2" fmla="val 60121"/>
              <a:gd name="adj3" fmla="val 39622"/>
            </a:avLst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57" name="曲线连接符 18"/>
          <p:cNvCxnSpPr/>
          <p:nvPr/>
        </p:nvCxnSpPr>
        <p:spPr>
          <a:xfrm rot="5400000">
            <a:off x="1624320" y="2953440"/>
            <a:ext cx="315000" cy="180000"/>
          </a:xfrm>
          <a:prstGeom prst="curvedConnector5">
            <a:avLst>
              <a:gd name="adj1" fmla="val 50000"/>
              <a:gd name="adj2" fmla="val 49899"/>
              <a:gd name="adj3" fmla="val 50000"/>
            </a:avLst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58" name="曲线连接符 21"/>
          <p:cNvCxnSpPr/>
          <p:nvPr/>
        </p:nvCxnSpPr>
        <p:spPr>
          <a:xfrm rot="5400000">
            <a:off x="5117400" y="2949480"/>
            <a:ext cx="356400" cy="108720"/>
          </a:xfrm>
          <a:prstGeom prst="curvedConnector5">
            <a:avLst>
              <a:gd name="adj1" fmla="val 49949"/>
              <a:gd name="adj2" fmla="val 49833"/>
              <a:gd name="adj3" fmla="val 49949"/>
            </a:avLst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59" name="曲线连接符 24"/>
          <p:cNvCxnSpPr>
            <a:stCxn id="348" idx="2"/>
            <a:endCxn id="355" idx="1"/>
          </p:cNvCxnSpPr>
          <p:nvPr/>
        </p:nvCxnSpPr>
        <p:spPr>
          <a:xfrm rot="5400000">
            <a:off x="6197400" y="3216960"/>
            <a:ext cx="1534320" cy="1018440"/>
          </a:xfrm>
          <a:prstGeom prst="curvedConnector5">
            <a:avLst>
              <a:gd name="adj1" fmla="val 36423"/>
              <a:gd name="adj2" fmla="val 61209"/>
              <a:gd name="adj3" fmla="val 36423"/>
            </a:avLst>
          </a:prstGeom>
          <a:ln w="93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360" name=""/>
          <p:cNvSpPr txBox="1"/>
          <p:nvPr/>
        </p:nvSpPr>
        <p:spPr>
          <a:xfrm>
            <a:off x="8462520" y="930240"/>
            <a:ext cx="5749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9CA8-B3EB-40B8-BBBA-BF37D039E67A}" type="slidenum">
              <a:rPr b="0" lang="zh-CN" sz="12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矩形 5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弦形 7"/>
          <p:cNvSpPr/>
          <p:nvPr/>
        </p:nvSpPr>
        <p:spPr>
          <a:xfrm rot="7980000">
            <a:off x="8493840" y="864000"/>
            <a:ext cx="512640" cy="511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Impact"/>
              </a:rPr>
              <a:t>ESTP — </a:t>
            </a:r>
            <a:r>
              <a:rPr b="0" lang="zh-CN" sz="3600" spc="-1" strike="noStrike">
                <a:solidFill>
                  <a:srgbClr val="c00000"/>
                </a:solidFill>
                <a:latin typeface="Impact"/>
              </a:rPr>
              <a:t>优势篇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8462520" y="930240"/>
            <a:ext cx="5749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004F-3B79-4457-B3B4-774F54DA1BA1}" type="slidenum">
              <a:rPr b="0" lang="zh-CN" sz="12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组合 17"/>
          <p:cNvGrpSpPr/>
          <p:nvPr/>
        </p:nvGrpSpPr>
        <p:grpSpPr>
          <a:xfrm>
            <a:off x="4021200" y="2198520"/>
            <a:ext cx="3385800" cy="642600"/>
            <a:chOff x="4021200" y="2198520"/>
            <a:chExt cx="3385800" cy="642600"/>
          </a:xfrm>
        </p:grpSpPr>
        <p:pic>
          <p:nvPicPr>
            <p:cNvPr id="366" name="图片 4" descr=""/>
            <p:cNvPicPr/>
            <p:nvPr/>
          </p:nvPicPr>
          <p:blipFill>
            <a:blip r:embed="rId2"/>
            <a:stretch/>
          </p:blipFill>
          <p:spPr>
            <a:xfrm>
              <a:off x="4021200" y="2278800"/>
              <a:ext cx="551160" cy="5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矩形 8"/>
            <p:cNvSpPr/>
            <p:nvPr/>
          </p:nvSpPr>
          <p:spPr>
            <a:xfrm>
              <a:off x="5351760" y="2198520"/>
              <a:ext cx="205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1.  </a:t>
              </a:r>
              <a:r>
                <a:rPr b="0" lang="zh-CN" sz="18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对现实现刻的欣赏和投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直接连接符 10"/>
          <p:cNvSpPr/>
          <p:nvPr/>
        </p:nvSpPr>
        <p:spPr>
          <a:xfrm>
            <a:off x="3672000" y="2927520"/>
            <a:ext cx="4500360" cy="144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18"/>
          <p:cNvGrpSpPr/>
          <p:nvPr/>
        </p:nvGrpSpPr>
        <p:grpSpPr>
          <a:xfrm>
            <a:off x="4087800" y="3095640"/>
            <a:ext cx="3332160" cy="642600"/>
            <a:chOff x="4087800" y="3095640"/>
            <a:chExt cx="3332160" cy="642600"/>
          </a:xfrm>
        </p:grpSpPr>
        <p:pic>
          <p:nvPicPr>
            <p:cNvPr id="370" name="图片 6" descr=""/>
            <p:cNvPicPr/>
            <p:nvPr/>
          </p:nvPicPr>
          <p:blipFill>
            <a:blip r:embed="rId3"/>
            <a:stretch/>
          </p:blipFill>
          <p:spPr>
            <a:xfrm>
              <a:off x="4087800" y="3296880"/>
              <a:ext cx="40032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矩形 11"/>
            <p:cNvSpPr/>
            <p:nvPr/>
          </p:nvSpPr>
          <p:spPr>
            <a:xfrm>
              <a:off x="5364720" y="3095640"/>
              <a:ext cx="205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2.  </a:t>
              </a:r>
              <a:r>
                <a:rPr b="0" lang="zh-CN" sz="18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能突破阻碍生产力的常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组合 19"/>
          <p:cNvGrpSpPr/>
          <p:nvPr/>
        </p:nvGrpSpPr>
        <p:grpSpPr>
          <a:xfrm>
            <a:off x="4110120" y="4075200"/>
            <a:ext cx="2210040" cy="642600"/>
            <a:chOff x="4110120" y="4075200"/>
            <a:chExt cx="2210040" cy="642600"/>
          </a:xfrm>
        </p:grpSpPr>
        <p:pic>
          <p:nvPicPr>
            <p:cNvPr id="373" name="图片 5" descr=""/>
            <p:cNvPicPr/>
            <p:nvPr/>
          </p:nvPicPr>
          <p:blipFill>
            <a:blip r:embed="rId4"/>
            <a:stretch/>
          </p:blipFill>
          <p:spPr>
            <a:xfrm>
              <a:off x="4110120" y="4237920"/>
              <a:ext cx="394560" cy="39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矩形 12"/>
            <p:cNvSpPr/>
            <p:nvPr/>
          </p:nvSpPr>
          <p:spPr>
            <a:xfrm>
              <a:off x="5087880" y="4075200"/>
              <a:ext cx="123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Impact"/>
                  <a:ea typeface="微软雅黑"/>
                </a:rPr>
                <a:t>3.  </a:t>
              </a:r>
              <a:r>
                <a:rPr b="0" lang="zh-CN" sz="1800" spc="-1" strike="noStrike">
                  <a:solidFill>
                    <a:srgbClr val="3f3f3f"/>
                  </a:solidFill>
                  <a:latin typeface="Impact"/>
                  <a:ea typeface="微软雅黑"/>
                </a:rPr>
                <a:t>实干的风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直接连接符 14"/>
          <p:cNvSpPr/>
          <p:nvPr/>
        </p:nvSpPr>
        <p:spPr>
          <a:xfrm>
            <a:off x="3672000" y="3908520"/>
            <a:ext cx="4500360" cy="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15"/>
          <p:cNvSpPr/>
          <p:nvPr/>
        </p:nvSpPr>
        <p:spPr>
          <a:xfrm>
            <a:off x="3672000" y="4803840"/>
            <a:ext cx="4500360" cy="0"/>
          </a:xfrm>
          <a:prstGeom prst="line">
            <a:avLst/>
          </a:prstGeom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图片 21" descr=""/>
          <p:cNvPicPr/>
          <p:nvPr/>
        </p:nvPicPr>
        <p:blipFill>
          <a:blip r:embed="rId5"/>
          <a:stretch/>
        </p:blipFill>
        <p:spPr>
          <a:xfrm>
            <a:off x="826920" y="1457280"/>
            <a:ext cx="260532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13:2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7:37:50Z</dcterms:modified>
  <cp:revision>13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