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630-E352-4DBB-9852-6AF553F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A6A-1ECB-4269-9577-8E0C31B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653-944E-4AAA-8087-82C24A9F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EE0-FE6A-4A61-BCDC-A1909DA9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B896-697A-4E66-8984-A8B38EE0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A43A-D5AD-4FD0-9ACA-658A94E0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01A-57CC-43C3-8D6A-2CF92326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2743-447E-4B06-89C1-5EE14F87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9DB7-3B4A-4127-B9B1-5C33E49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14280" y="201240"/>
            <a:ext cx="800280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4893-C406-4A6F-8390-B361357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3F9F-A6B7-4AFE-BF24-07C1FE6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945-E317-41DC-B025-C1B8D636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F767-63F6-4285-BDF3-CB5E4A1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7A0-9123-4325-AB91-5158CDE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9BB-411C-456C-81BA-7F1DE51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79D4-1441-41D0-A525-3D178EE9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2004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258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1428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2004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258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E26C-E0B2-4F87-9A7E-FBB836B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2BE-4769-473C-AF49-40DFBEF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B4C-B7FA-4445-8AE7-F5354707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48E-7079-4F43-A719-26D2DE9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14280" y="201240"/>
            <a:ext cx="800280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6C4-1C00-4CEF-BF12-BDFE7AA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5DA-7698-4DB3-9384-57666A6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15040" y="370260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C06-88A9-41A6-AF00-B1D04E8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15040" y="1052280"/>
            <a:ext cx="3905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3702600"/>
            <a:ext cx="8002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7F3-1518-4D38-BD26-8982343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7640" y="-324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4280" y="201240"/>
            <a:ext cx="8002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14280" y="6381360"/>
            <a:ext cx="9684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862280" y="6381360"/>
            <a:ext cx="977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1080" y="6381360"/>
            <a:ext cx="689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29C6-C1EF-4632-9F25-F1D711EF107F}" type="slidenum">
              <a:rPr b="0" lang="zh-CN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89840" y="5661000"/>
            <a:ext cx="361800" cy="1095480"/>
          </a:xfrm>
          <a:custGeom>
            <a:avLst/>
            <a:gdLst/>
            <a:ahLst/>
            <a:rect l="l" t="t" r="r" b="b"/>
            <a:pathLst>
              <a:path w="543" h="1649">
                <a:moveTo>
                  <a:pt x="495" y="475"/>
                </a:moveTo>
                <a:lnTo>
                  <a:pt x="481" y="456"/>
                </a:lnTo>
                <a:lnTo>
                  <a:pt x="481" y="456"/>
                </a:lnTo>
                <a:lnTo>
                  <a:pt x="481" y="446"/>
                </a:lnTo>
                <a:lnTo>
                  <a:pt x="481" y="444"/>
                </a:lnTo>
                <a:lnTo>
                  <a:pt x="483" y="443"/>
                </a:lnTo>
                <a:lnTo>
                  <a:pt x="471" y="377"/>
                </a:lnTo>
                <a:lnTo>
                  <a:pt x="463" y="376"/>
                </a:lnTo>
                <a:lnTo>
                  <a:pt x="463" y="376"/>
                </a:lnTo>
                <a:lnTo>
                  <a:pt x="463" y="371"/>
                </a:lnTo>
                <a:lnTo>
                  <a:pt x="464" y="360"/>
                </a:lnTo>
                <a:lnTo>
                  <a:pt x="468" y="347"/>
                </a:lnTo>
                <a:lnTo>
                  <a:pt x="470" y="341"/>
                </a:lnTo>
                <a:lnTo>
                  <a:pt x="474" y="337"/>
                </a:lnTo>
                <a:lnTo>
                  <a:pt x="474" y="337"/>
                </a:lnTo>
                <a:lnTo>
                  <a:pt x="470" y="326"/>
                </a:lnTo>
                <a:lnTo>
                  <a:pt x="464" y="315"/>
                </a:lnTo>
                <a:lnTo>
                  <a:pt x="456" y="302"/>
                </a:lnTo>
                <a:lnTo>
                  <a:pt x="444" y="287"/>
                </a:lnTo>
                <a:lnTo>
                  <a:pt x="436" y="280"/>
                </a:lnTo>
                <a:lnTo>
                  <a:pt x="427" y="273"/>
                </a:lnTo>
                <a:lnTo>
                  <a:pt x="419" y="266"/>
                </a:lnTo>
                <a:lnTo>
                  <a:pt x="409" y="260"/>
                </a:lnTo>
                <a:lnTo>
                  <a:pt x="397" y="254"/>
                </a:lnTo>
                <a:lnTo>
                  <a:pt x="385" y="249"/>
                </a:lnTo>
                <a:lnTo>
                  <a:pt x="385" y="249"/>
                </a:lnTo>
                <a:lnTo>
                  <a:pt x="381" y="246"/>
                </a:lnTo>
                <a:lnTo>
                  <a:pt x="378" y="242"/>
                </a:lnTo>
                <a:lnTo>
                  <a:pt x="373" y="239"/>
                </a:lnTo>
                <a:lnTo>
                  <a:pt x="366" y="235"/>
                </a:lnTo>
                <a:lnTo>
                  <a:pt x="358" y="233"/>
                </a:lnTo>
                <a:lnTo>
                  <a:pt x="348" y="231"/>
                </a:lnTo>
                <a:lnTo>
                  <a:pt x="336" y="231"/>
                </a:lnTo>
                <a:lnTo>
                  <a:pt x="297" y="235"/>
                </a:lnTo>
                <a:lnTo>
                  <a:pt x="293" y="224"/>
                </a:lnTo>
                <a:lnTo>
                  <a:pt x="287" y="209"/>
                </a:lnTo>
                <a:lnTo>
                  <a:pt x="282" y="195"/>
                </a:lnTo>
                <a:lnTo>
                  <a:pt x="290" y="208"/>
                </a:lnTo>
                <a:lnTo>
                  <a:pt x="295" y="211"/>
                </a:lnTo>
                <a:lnTo>
                  <a:pt x="290" y="204"/>
                </a:lnTo>
                <a:lnTo>
                  <a:pt x="284" y="194"/>
                </a:lnTo>
                <a:lnTo>
                  <a:pt x="280" y="183"/>
                </a:lnTo>
                <a:lnTo>
                  <a:pt x="275" y="170"/>
                </a:lnTo>
                <a:lnTo>
                  <a:pt x="270" y="137"/>
                </a:lnTo>
                <a:lnTo>
                  <a:pt x="263" y="105"/>
                </a:lnTo>
                <a:lnTo>
                  <a:pt x="260" y="88"/>
                </a:lnTo>
                <a:lnTo>
                  <a:pt x="256" y="74"/>
                </a:lnTo>
                <a:lnTo>
                  <a:pt x="250" y="59"/>
                </a:lnTo>
                <a:lnTo>
                  <a:pt x="244" y="46"/>
                </a:lnTo>
                <a:lnTo>
                  <a:pt x="238" y="34"/>
                </a:lnTo>
                <a:lnTo>
                  <a:pt x="233" y="23"/>
                </a:lnTo>
                <a:lnTo>
                  <a:pt x="225" y="15"/>
                </a:lnTo>
                <a:lnTo>
                  <a:pt x="217" y="8"/>
                </a:lnTo>
                <a:lnTo>
                  <a:pt x="212" y="6"/>
                </a:lnTo>
                <a:lnTo>
                  <a:pt x="208" y="3"/>
                </a:lnTo>
                <a:lnTo>
                  <a:pt x="203" y="2"/>
                </a:lnTo>
                <a:lnTo>
                  <a:pt x="198" y="0"/>
                </a:lnTo>
                <a:lnTo>
                  <a:pt x="194" y="0"/>
                </a:lnTo>
                <a:lnTo>
                  <a:pt x="189" y="0"/>
                </a:lnTo>
                <a:lnTo>
                  <a:pt x="183" y="1"/>
                </a:lnTo>
                <a:lnTo>
                  <a:pt x="177" y="3"/>
                </a:lnTo>
                <a:lnTo>
                  <a:pt x="175" y="3"/>
                </a:lnTo>
                <a:lnTo>
                  <a:pt x="173" y="5"/>
                </a:lnTo>
                <a:lnTo>
                  <a:pt x="168" y="3"/>
                </a:lnTo>
                <a:lnTo>
                  <a:pt x="164" y="2"/>
                </a:lnTo>
                <a:lnTo>
                  <a:pt x="158" y="2"/>
                </a:lnTo>
                <a:lnTo>
                  <a:pt x="153" y="2"/>
                </a:lnTo>
                <a:lnTo>
                  <a:pt x="145" y="3"/>
                </a:lnTo>
                <a:lnTo>
                  <a:pt x="137" y="7"/>
                </a:lnTo>
                <a:lnTo>
                  <a:pt x="129" y="13"/>
                </a:lnTo>
                <a:lnTo>
                  <a:pt x="120" y="20"/>
                </a:lnTo>
                <a:lnTo>
                  <a:pt x="113" y="28"/>
                </a:lnTo>
                <a:lnTo>
                  <a:pt x="106" y="38"/>
                </a:lnTo>
                <a:lnTo>
                  <a:pt x="100" y="48"/>
                </a:lnTo>
                <a:lnTo>
                  <a:pt x="95" y="60"/>
                </a:lnTo>
                <a:lnTo>
                  <a:pt x="91" y="72"/>
                </a:lnTo>
                <a:lnTo>
                  <a:pt x="87" y="86"/>
                </a:lnTo>
                <a:lnTo>
                  <a:pt x="84" y="98"/>
                </a:lnTo>
                <a:lnTo>
                  <a:pt x="81" y="112"/>
                </a:lnTo>
                <a:lnTo>
                  <a:pt x="80" y="126"/>
                </a:lnTo>
                <a:lnTo>
                  <a:pt x="79" y="140"/>
                </a:lnTo>
                <a:lnTo>
                  <a:pt x="79" y="150"/>
                </a:lnTo>
                <a:lnTo>
                  <a:pt x="80" y="159"/>
                </a:lnTo>
                <a:lnTo>
                  <a:pt x="84" y="181"/>
                </a:lnTo>
                <a:lnTo>
                  <a:pt x="88" y="202"/>
                </a:lnTo>
                <a:lnTo>
                  <a:pt x="91" y="224"/>
                </a:lnTo>
                <a:lnTo>
                  <a:pt x="85" y="239"/>
                </a:lnTo>
                <a:lnTo>
                  <a:pt x="82" y="244"/>
                </a:lnTo>
                <a:lnTo>
                  <a:pt x="79" y="249"/>
                </a:lnTo>
                <a:lnTo>
                  <a:pt x="82" y="246"/>
                </a:lnTo>
                <a:lnTo>
                  <a:pt x="91" y="233"/>
                </a:lnTo>
                <a:lnTo>
                  <a:pt x="86" y="246"/>
                </a:lnTo>
                <a:lnTo>
                  <a:pt x="81" y="261"/>
                </a:lnTo>
                <a:lnTo>
                  <a:pt x="75" y="274"/>
                </a:lnTo>
                <a:lnTo>
                  <a:pt x="72" y="280"/>
                </a:lnTo>
                <a:lnTo>
                  <a:pt x="69" y="283"/>
                </a:lnTo>
                <a:lnTo>
                  <a:pt x="75" y="275"/>
                </a:lnTo>
                <a:lnTo>
                  <a:pt x="82" y="265"/>
                </a:lnTo>
                <a:lnTo>
                  <a:pt x="91" y="250"/>
                </a:lnTo>
                <a:lnTo>
                  <a:pt x="87" y="262"/>
                </a:lnTo>
                <a:lnTo>
                  <a:pt x="82" y="274"/>
                </a:lnTo>
                <a:lnTo>
                  <a:pt x="77" y="285"/>
                </a:lnTo>
                <a:lnTo>
                  <a:pt x="72" y="292"/>
                </a:lnTo>
                <a:lnTo>
                  <a:pt x="75" y="287"/>
                </a:lnTo>
                <a:lnTo>
                  <a:pt x="81" y="280"/>
                </a:lnTo>
                <a:lnTo>
                  <a:pt x="86" y="272"/>
                </a:lnTo>
                <a:lnTo>
                  <a:pt x="82" y="282"/>
                </a:lnTo>
                <a:lnTo>
                  <a:pt x="79" y="292"/>
                </a:lnTo>
                <a:lnTo>
                  <a:pt x="74" y="300"/>
                </a:lnTo>
                <a:lnTo>
                  <a:pt x="69" y="306"/>
                </a:lnTo>
                <a:lnTo>
                  <a:pt x="75" y="299"/>
                </a:lnTo>
                <a:lnTo>
                  <a:pt x="82" y="291"/>
                </a:lnTo>
                <a:lnTo>
                  <a:pt x="88" y="279"/>
                </a:lnTo>
                <a:lnTo>
                  <a:pt x="86" y="287"/>
                </a:lnTo>
                <a:lnTo>
                  <a:pt x="84" y="292"/>
                </a:lnTo>
                <a:lnTo>
                  <a:pt x="81" y="298"/>
                </a:lnTo>
                <a:lnTo>
                  <a:pt x="75" y="306"/>
                </a:lnTo>
                <a:lnTo>
                  <a:pt x="67" y="313"/>
                </a:lnTo>
                <a:lnTo>
                  <a:pt x="59" y="319"/>
                </a:lnTo>
                <a:lnTo>
                  <a:pt x="52" y="325"/>
                </a:lnTo>
                <a:lnTo>
                  <a:pt x="43" y="332"/>
                </a:lnTo>
                <a:lnTo>
                  <a:pt x="36" y="340"/>
                </a:lnTo>
                <a:lnTo>
                  <a:pt x="34" y="344"/>
                </a:lnTo>
                <a:lnTo>
                  <a:pt x="32" y="348"/>
                </a:lnTo>
                <a:lnTo>
                  <a:pt x="27" y="359"/>
                </a:lnTo>
                <a:lnTo>
                  <a:pt x="23" y="371"/>
                </a:lnTo>
                <a:lnTo>
                  <a:pt x="20" y="381"/>
                </a:lnTo>
                <a:lnTo>
                  <a:pt x="17" y="392"/>
                </a:lnTo>
                <a:lnTo>
                  <a:pt x="14" y="413"/>
                </a:lnTo>
                <a:lnTo>
                  <a:pt x="9" y="437"/>
                </a:lnTo>
                <a:lnTo>
                  <a:pt x="10" y="441"/>
                </a:lnTo>
                <a:lnTo>
                  <a:pt x="12" y="442"/>
                </a:lnTo>
                <a:lnTo>
                  <a:pt x="12" y="444"/>
                </a:lnTo>
                <a:lnTo>
                  <a:pt x="13" y="444"/>
                </a:lnTo>
                <a:lnTo>
                  <a:pt x="16" y="445"/>
                </a:lnTo>
                <a:lnTo>
                  <a:pt x="20" y="445"/>
                </a:lnTo>
                <a:lnTo>
                  <a:pt x="23" y="445"/>
                </a:lnTo>
                <a:lnTo>
                  <a:pt x="27" y="445"/>
                </a:lnTo>
                <a:lnTo>
                  <a:pt x="27" y="446"/>
                </a:lnTo>
                <a:lnTo>
                  <a:pt x="28" y="448"/>
                </a:lnTo>
                <a:lnTo>
                  <a:pt x="28" y="452"/>
                </a:lnTo>
                <a:lnTo>
                  <a:pt x="30" y="519"/>
                </a:lnTo>
                <a:lnTo>
                  <a:pt x="30" y="568"/>
                </a:lnTo>
                <a:lnTo>
                  <a:pt x="30" y="608"/>
                </a:lnTo>
                <a:lnTo>
                  <a:pt x="27" y="647"/>
                </a:lnTo>
                <a:lnTo>
                  <a:pt x="25" y="653"/>
                </a:lnTo>
                <a:lnTo>
                  <a:pt x="23" y="662"/>
                </a:lnTo>
                <a:lnTo>
                  <a:pt x="19" y="678"/>
                </a:lnTo>
                <a:lnTo>
                  <a:pt x="16" y="698"/>
                </a:lnTo>
                <a:lnTo>
                  <a:pt x="14" y="721"/>
                </a:lnTo>
                <a:lnTo>
                  <a:pt x="10" y="769"/>
                </a:lnTo>
                <a:lnTo>
                  <a:pt x="8" y="795"/>
                </a:lnTo>
                <a:lnTo>
                  <a:pt x="4" y="820"/>
                </a:lnTo>
                <a:lnTo>
                  <a:pt x="3" y="831"/>
                </a:lnTo>
                <a:lnTo>
                  <a:pt x="1" y="847"/>
                </a:lnTo>
                <a:lnTo>
                  <a:pt x="0" y="857"/>
                </a:lnTo>
                <a:lnTo>
                  <a:pt x="0" y="866"/>
                </a:lnTo>
                <a:lnTo>
                  <a:pt x="0" y="877"/>
                </a:lnTo>
                <a:lnTo>
                  <a:pt x="1" y="885"/>
                </a:lnTo>
                <a:lnTo>
                  <a:pt x="10" y="900"/>
                </a:lnTo>
                <a:lnTo>
                  <a:pt x="15" y="907"/>
                </a:lnTo>
                <a:lnTo>
                  <a:pt x="22" y="914"/>
                </a:lnTo>
                <a:lnTo>
                  <a:pt x="30" y="922"/>
                </a:lnTo>
                <a:lnTo>
                  <a:pt x="39" y="927"/>
                </a:lnTo>
                <a:lnTo>
                  <a:pt x="45" y="930"/>
                </a:lnTo>
                <a:lnTo>
                  <a:pt x="51" y="932"/>
                </a:lnTo>
                <a:lnTo>
                  <a:pt x="56" y="935"/>
                </a:lnTo>
                <a:lnTo>
                  <a:pt x="62" y="935"/>
                </a:lnTo>
                <a:lnTo>
                  <a:pt x="64" y="933"/>
                </a:lnTo>
                <a:lnTo>
                  <a:pt x="65" y="931"/>
                </a:lnTo>
                <a:lnTo>
                  <a:pt x="65" y="927"/>
                </a:lnTo>
                <a:lnTo>
                  <a:pt x="64" y="923"/>
                </a:lnTo>
                <a:lnTo>
                  <a:pt x="62" y="919"/>
                </a:lnTo>
                <a:lnTo>
                  <a:pt x="61" y="916"/>
                </a:lnTo>
                <a:lnTo>
                  <a:pt x="60" y="913"/>
                </a:lnTo>
                <a:lnTo>
                  <a:pt x="61" y="913"/>
                </a:lnTo>
                <a:lnTo>
                  <a:pt x="66" y="914"/>
                </a:lnTo>
                <a:lnTo>
                  <a:pt x="69" y="916"/>
                </a:lnTo>
                <a:lnTo>
                  <a:pt x="73" y="918"/>
                </a:lnTo>
                <a:lnTo>
                  <a:pt x="75" y="920"/>
                </a:lnTo>
                <a:lnTo>
                  <a:pt x="78" y="924"/>
                </a:lnTo>
                <a:lnTo>
                  <a:pt x="81" y="931"/>
                </a:lnTo>
                <a:lnTo>
                  <a:pt x="84" y="938"/>
                </a:lnTo>
                <a:lnTo>
                  <a:pt x="85" y="946"/>
                </a:lnTo>
                <a:lnTo>
                  <a:pt x="86" y="955"/>
                </a:lnTo>
                <a:lnTo>
                  <a:pt x="88" y="962"/>
                </a:lnTo>
                <a:lnTo>
                  <a:pt x="90" y="969"/>
                </a:lnTo>
                <a:lnTo>
                  <a:pt x="99" y="1000"/>
                </a:lnTo>
                <a:lnTo>
                  <a:pt x="107" y="1030"/>
                </a:lnTo>
                <a:lnTo>
                  <a:pt x="116" y="1062"/>
                </a:lnTo>
                <a:lnTo>
                  <a:pt x="124" y="1095"/>
                </a:lnTo>
                <a:lnTo>
                  <a:pt x="125" y="1102"/>
                </a:lnTo>
                <a:lnTo>
                  <a:pt x="129" y="1112"/>
                </a:lnTo>
                <a:lnTo>
                  <a:pt x="134" y="1127"/>
                </a:lnTo>
                <a:lnTo>
                  <a:pt x="140" y="1143"/>
                </a:lnTo>
                <a:lnTo>
                  <a:pt x="143" y="1148"/>
                </a:lnTo>
                <a:lnTo>
                  <a:pt x="144" y="1157"/>
                </a:lnTo>
                <a:lnTo>
                  <a:pt x="144" y="1161"/>
                </a:lnTo>
                <a:lnTo>
                  <a:pt x="144" y="1165"/>
                </a:lnTo>
                <a:lnTo>
                  <a:pt x="143" y="1176"/>
                </a:lnTo>
                <a:lnTo>
                  <a:pt x="140" y="1185"/>
                </a:lnTo>
                <a:lnTo>
                  <a:pt x="140" y="1195"/>
                </a:lnTo>
                <a:lnTo>
                  <a:pt x="142" y="1208"/>
                </a:lnTo>
                <a:lnTo>
                  <a:pt x="143" y="1219"/>
                </a:lnTo>
                <a:lnTo>
                  <a:pt x="147" y="1244"/>
                </a:lnTo>
                <a:lnTo>
                  <a:pt x="158" y="1294"/>
                </a:lnTo>
                <a:lnTo>
                  <a:pt x="164" y="1319"/>
                </a:lnTo>
                <a:lnTo>
                  <a:pt x="165" y="1330"/>
                </a:lnTo>
                <a:lnTo>
                  <a:pt x="168" y="1343"/>
                </a:lnTo>
                <a:lnTo>
                  <a:pt x="168" y="1356"/>
                </a:lnTo>
                <a:lnTo>
                  <a:pt x="168" y="1369"/>
                </a:lnTo>
                <a:lnTo>
                  <a:pt x="166" y="1381"/>
                </a:lnTo>
                <a:lnTo>
                  <a:pt x="165" y="1395"/>
                </a:lnTo>
                <a:lnTo>
                  <a:pt x="159" y="1405"/>
                </a:lnTo>
                <a:lnTo>
                  <a:pt x="153" y="1413"/>
                </a:lnTo>
                <a:lnTo>
                  <a:pt x="146" y="1421"/>
                </a:lnTo>
                <a:lnTo>
                  <a:pt x="137" y="1429"/>
                </a:lnTo>
                <a:lnTo>
                  <a:pt x="129" y="1436"/>
                </a:lnTo>
                <a:lnTo>
                  <a:pt x="119" y="1443"/>
                </a:lnTo>
                <a:lnTo>
                  <a:pt x="100" y="1455"/>
                </a:lnTo>
                <a:lnTo>
                  <a:pt x="82" y="1468"/>
                </a:lnTo>
                <a:lnTo>
                  <a:pt x="75" y="1473"/>
                </a:lnTo>
                <a:lnTo>
                  <a:pt x="69" y="1479"/>
                </a:lnTo>
                <a:lnTo>
                  <a:pt x="64" y="1486"/>
                </a:lnTo>
                <a:lnTo>
                  <a:pt x="60" y="1495"/>
                </a:lnTo>
                <a:lnTo>
                  <a:pt x="59" y="1498"/>
                </a:lnTo>
                <a:lnTo>
                  <a:pt x="58" y="1503"/>
                </a:lnTo>
                <a:lnTo>
                  <a:pt x="58" y="1508"/>
                </a:lnTo>
                <a:lnTo>
                  <a:pt x="59" y="1511"/>
                </a:lnTo>
                <a:lnTo>
                  <a:pt x="64" y="1516"/>
                </a:lnTo>
                <a:lnTo>
                  <a:pt x="67" y="1520"/>
                </a:lnTo>
                <a:lnTo>
                  <a:pt x="73" y="1522"/>
                </a:lnTo>
                <a:lnTo>
                  <a:pt x="79" y="1523"/>
                </a:lnTo>
                <a:lnTo>
                  <a:pt x="86" y="1523"/>
                </a:lnTo>
                <a:lnTo>
                  <a:pt x="94" y="1523"/>
                </a:lnTo>
                <a:lnTo>
                  <a:pt x="110" y="1520"/>
                </a:lnTo>
                <a:lnTo>
                  <a:pt x="143" y="1510"/>
                </a:lnTo>
                <a:lnTo>
                  <a:pt x="158" y="1507"/>
                </a:lnTo>
                <a:lnTo>
                  <a:pt x="168" y="1504"/>
                </a:lnTo>
                <a:lnTo>
                  <a:pt x="175" y="1504"/>
                </a:lnTo>
                <a:lnTo>
                  <a:pt x="175" y="1512"/>
                </a:lnTo>
                <a:lnTo>
                  <a:pt x="176" y="1520"/>
                </a:lnTo>
                <a:lnTo>
                  <a:pt x="177" y="1525"/>
                </a:lnTo>
                <a:lnTo>
                  <a:pt x="178" y="1531"/>
                </a:lnTo>
                <a:lnTo>
                  <a:pt x="183" y="1543"/>
                </a:lnTo>
                <a:lnTo>
                  <a:pt x="189" y="1553"/>
                </a:lnTo>
                <a:lnTo>
                  <a:pt x="195" y="1562"/>
                </a:lnTo>
                <a:lnTo>
                  <a:pt x="202" y="1570"/>
                </a:lnTo>
                <a:lnTo>
                  <a:pt x="208" y="1577"/>
                </a:lnTo>
                <a:lnTo>
                  <a:pt x="212" y="1587"/>
                </a:lnTo>
                <a:lnTo>
                  <a:pt x="216" y="1595"/>
                </a:lnTo>
                <a:lnTo>
                  <a:pt x="220" y="1605"/>
                </a:lnTo>
                <a:lnTo>
                  <a:pt x="223" y="1613"/>
                </a:lnTo>
                <a:lnTo>
                  <a:pt x="225" y="1621"/>
                </a:lnTo>
                <a:lnTo>
                  <a:pt x="229" y="1628"/>
                </a:lnTo>
                <a:lnTo>
                  <a:pt x="235" y="1635"/>
                </a:lnTo>
                <a:lnTo>
                  <a:pt x="238" y="1638"/>
                </a:lnTo>
                <a:lnTo>
                  <a:pt x="241" y="1641"/>
                </a:lnTo>
                <a:lnTo>
                  <a:pt x="246" y="1642"/>
                </a:lnTo>
                <a:lnTo>
                  <a:pt x="250" y="1645"/>
                </a:lnTo>
                <a:lnTo>
                  <a:pt x="262" y="1648"/>
                </a:lnTo>
                <a:lnTo>
                  <a:pt x="271" y="1649"/>
                </a:lnTo>
                <a:lnTo>
                  <a:pt x="283" y="1649"/>
                </a:lnTo>
                <a:lnTo>
                  <a:pt x="294" y="1648"/>
                </a:lnTo>
                <a:lnTo>
                  <a:pt x="302" y="1642"/>
                </a:lnTo>
                <a:lnTo>
                  <a:pt x="308" y="1638"/>
                </a:lnTo>
                <a:lnTo>
                  <a:pt x="312" y="1633"/>
                </a:lnTo>
                <a:lnTo>
                  <a:pt x="314" y="1627"/>
                </a:lnTo>
                <a:lnTo>
                  <a:pt x="315" y="1620"/>
                </a:lnTo>
                <a:lnTo>
                  <a:pt x="314" y="1613"/>
                </a:lnTo>
                <a:lnTo>
                  <a:pt x="312" y="1606"/>
                </a:lnTo>
                <a:lnTo>
                  <a:pt x="309" y="1599"/>
                </a:lnTo>
                <a:lnTo>
                  <a:pt x="302" y="1585"/>
                </a:lnTo>
                <a:lnTo>
                  <a:pt x="294" y="1569"/>
                </a:lnTo>
                <a:lnTo>
                  <a:pt x="290" y="1562"/>
                </a:lnTo>
                <a:lnTo>
                  <a:pt x="287" y="1554"/>
                </a:lnTo>
                <a:lnTo>
                  <a:pt x="284" y="1547"/>
                </a:lnTo>
                <a:lnTo>
                  <a:pt x="284" y="1538"/>
                </a:lnTo>
                <a:lnTo>
                  <a:pt x="284" y="1531"/>
                </a:lnTo>
                <a:lnTo>
                  <a:pt x="284" y="1523"/>
                </a:lnTo>
                <a:lnTo>
                  <a:pt x="287" y="1508"/>
                </a:lnTo>
                <a:lnTo>
                  <a:pt x="290" y="1491"/>
                </a:lnTo>
                <a:lnTo>
                  <a:pt x="290" y="1483"/>
                </a:lnTo>
                <a:lnTo>
                  <a:pt x="290" y="1473"/>
                </a:lnTo>
                <a:lnTo>
                  <a:pt x="290" y="1463"/>
                </a:lnTo>
                <a:lnTo>
                  <a:pt x="288" y="1452"/>
                </a:lnTo>
                <a:lnTo>
                  <a:pt x="284" y="1431"/>
                </a:lnTo>
                <a:lnTo>
                  <a:pt x="279" y="1408"/>
                </a:lnTo>
                <a:lnTo>
                  <a:pt x="279" y="1397"/>
                </a:lnTo>
                <a:lnTo>
                  <a:pt x="277" y="1385"/>
                </a:lnTo>
                <a:lnTo>
                  <a:pt x="277" y="1366"/>
                </a:lnTo>
                <a:lnTo>
                  <a:pt x="279" y="1347"/>
                </a:lnTo>
                <a:lnTo>
                  <a:pt x="282" y="1307"/>
                </a:lnTo>
                <a:lnTo>
                  <a:pt x="287" y="1265"/>
                </a:lnTo>
                <a:lnTo>
                  <a:pt x="289" y="1245"/>
                </a:lnTo>
                <a:lnTo>
                  <a:pt x="290" y="1225"/>
                </a:lnTo>
                <a:lnTo>
                  <a:pt x="290" y="1203"/>
                </a:lnTo>
                <a:lnTo>
                  <a:pt x="290" y="1179"/>
                </a:lnTo>
                <a:lnTo>
                  <a:pt x="290" y="1158"/>
                </a:lnTo>
                <a:lnTo>
                  <a:pt x="290" y="1146"/>
                </a:lnTo>
                <a:lnTo>
                  <a:pt x="290" y="1137"/>
                </a:lnTo>
                <a:lnTo>
                  <a:pt x="292" y="1128"/>
                </a:lnTo>
                <a:lnTo>
                  <a:pt x="293" y="1121"/>
                </a:lnTo>
                <a:lnTo>
                  <a:pt x="297" y="1105"/>
                </a:lnTo>
                <a:lnTo>
                  <a:pt x="302" y="1091"/>
                </a:lnTo>
                <a:lnTo>
                  <a:pt x="302" y="1082"/>
                </a:lnTo>
                <a:lnTo>
                  <a:pt x="305" y="1075"/>
                </a:lnTo>
                <a:lnTo>
                  <a:pt x="312" y="1005"/>
                </a:lnTo>
                <a:lnTo>
                  <a:pt x="316" y="971"/>
                </a:lnTo>
                <a:lnTo>
                  <a:pt x="319" y="956"/>
                </a:lnTo>
                <a:lnTo>
                  <a:pt x="323" y="940"/>
                </a:lnTo>
                <a:lnTo>
                  <a:pt x="327" y="942"/>
                </a:lnTo>
                <a:lnTo>
                  <a:pt x="332" y="942"/>
                </a:lnTo>
                <a:lnTo>
                  <a:pt x="336" y="942"/>
                </a:lnTo>
                <a:lnTo>
                  <a:pt x="341" y="942"/>
                </a:lnTo>
                <a:lnTo>
                  <a:pt x="345" y="940"/>
                </a:lnTo>
                <a:lnTo>
                  <a:pt x="348" y="939"/>
                </a:lnTo>
                <a:lnTo>
                  <a:pt x="357" y="935"/>
                </a:lnTo>
                <a:lnTo>
                  <a:pt x="364" y="930"/>
                </a:lnTo>
                <a:lnTo>
                  <a:pt x="370" y="923"/>
                </a:lnTo>
                <a:lnTo>
                  <a:pt x="374" y="913"/>
                </a:lnTo>
                <a:lnTo>
                  <a:pt x="379" y="904"/>
                </a:lnTo>
                <a:lnTo>
                  <a:pt x="384" y="894"/>
                </a:lnTo>
                <a:lnTo>
                  <a:pt x="388" y="883"/>
                </a:lnTo>
                <a:lnTo>
                  <a:pt x="391" y="872"/>
                </a:lnTo>
                <a:lnTo>
                  <a:pt x="393" y="861"/>
                </a:lnTo>
                <a:lnTo>
                  <a:pt x="394" y="848"/>
                </a:lnTo>
                <a:lnTo>
                  <a:pt x="396" y="836"/>
                </a:lnTo>
                <a:lnTo>
                  <a:pt x="397" y="826"/>
                </a:lnTo>
                <a:lnTo>
                  <a:pt x="397" y="815"/>
                </a:lnTo>
                <a:lnTo>
                  <a:pt x="396" y="796"/>
                </a:lnTo>
                <a:lnTo>
                  <a:pt x="397" y="777"/>
                </a:lnTo>
                <a:lnTo>
                  <a:pt x="398" y="760"/>
                </a:lnTo>
                <a:lnTo>
                  <a:pt x="400" y="742"/>
                </a:lnTo>
                <a:lnTo>
                  <a:pt x="404" y="708"/>
                </a:lnTo>
                <a:lnTo>
                  <a:pt x="406" y="692"/>
                </a:lnTo>
                <a:lnTo>
                  <a:pt x="406" y="692"/>
                </a:lnTo>
                <a:lnTo>
                  <a:pt x="406" y="715"/>
                </a:lnTo>
                <a:lnTo>
                  <a:pt x="406" y="715"/>
                </a:lnTo>
                <a:lnTo>
                  <a:pt x="407" y="719"/>
                </a:lnTo>
                <a:lnTo>
                  <a:pt x="409" y="724"/>
                </a:lnTo>
                <a:lnTo>
                  <a:pt x="411" y="728"/>
                </a:lnTo>
                <a:lnTo>
                  <a:pt x="413" y="732"/>
                </a:lnTo>
                <a:lnTo>
                  <a:pt x="420" y="740"/>
                </a:lnTo>
                <a:lnTo>
                  <a:pt x="429" y="745"/>
                </a:lnTo>
                <a:lnTo>
                  <a:pt x="438" y="750"/>
                </a:lnTo>
                <a:lnTo>
                  <a:pt x="445" y="754"/>
                </a:lnTo>
                <a:lnTo>
                  <a:pt x="452" y="757"/>
                </a:lnTo>
                <a:lnTo>
                  <a:pt x="452" y="757"/>
                </a:lnTo>
                <a:lnTo>
                  <a:pt x="455" y="755"/>
                </a:lnTo>
                <a:lnTo>
                  <a:pt x="459" y="751"/>
                </a:lnTo>
                <a:lnTo>
                  <a:pt x="461" y="749"/>
                </a:lnTo>
                <a:lnTo>
                  <a:pt x="461" y="747"/>
                </a:lnTo>
                <a:lnTo>
                  <a:pt x="458" y="745"/>
                </a:lnTo>
                <a:lnTo>
                  <a:pt x="452" y="744"/>
                </a:lnTo>
                <a:lnTo>
                  <a:pt x="452" y="744"/>
                </a:lnTo>
                <a:lnTo>
                  <a:pt x="445" y="742"/>
                </a:lnTo>
                <a:lnTo>
                  <a:pt x="439" y="738"/>
                </a:lnTo>
                <a:lnTo>
                  <a:pt x="435" y="732"/>
                </a:lnTo>
                <a:lnTo>
                  <a:pt x="431" y="727"/>
                </a:lnTo>
                <a:lnTo>
                  <a:pt x="426" y="716"/>
                </a:lnTo>
                <a:lnTo>
                  <a:pt x="424" y="710"/>
                </a:lnTo>
                <a:lnTo>
                  <a:pt x="431" y="678"/>
                </a:lnTo>
                <a:lnTo>
                  <a:pt x="431" y="678"/>
                </a:lnTo>
                <a:lnTo>
                  <a:pt x="437" y="676"/>
                </a:lnTo>
                <a:lnTo>
                  <a:pt x="437" y="676"/>
                </a:lnTo>
                <a:lnTo>
                  <a:pt x="444" y="669"/>
                </a:lnTo>
                <a:lnTo>
                  <a:pt x="451" y="660"/>
                </a:lnTo>
                <a:lnTo>
                  <a:pt x="461" y="649"/>
                </a:lnTo>
                <a:lnTo>
                  <a:pt x="470" y="634"/>
                </a:lnTo>
                <a:lnTo>
                  <a:pt x="479" y="619"/>
                </a:lnTo>
                <a:lnTo>
                  <a:pt x="488" y="601"/>
                </a:lnTo>
                <a:lnTo>
                  <a:pt x="495" y="582"/>
                </a:lnTo>
                <a:lnTo>
                  <a:pt x="530" y="581"/>
                </a:lnTo>
                <a:lnTo>
                  <a:pt x="516" y="549"/>
                </a:lnTo>
                <a:lnTo>
                  <a:pt x="516" y="549"/>
                </a:lnTo>
                <a:lnTo>
                  <a:pt x="528" y="540"/>
                </a:lnTo>
                <a:lnTo>
                  <a:pt x="536" y="532"/>
                </a:lnTo>
                <a:lnTo>
                  <a:pt x="541" y="524"/>
                </a:lnTo>
                <a:lnTo>
                  <a:pt x="543" y="517"/>
                </a:lnTo>
                <a:lnTo>
                  <a:pt x="543" y="510"/>
                </a:lnTo>
                <a:lnTo>
                  <a:pt x="541" y="504"/>
                </a:lnTo>
                <a:lnTo>
                  <a:pt x="537" y="498"/>
                </a:lnTo>
                <a:lnTo>
                  <a:pt x="533" y="494"/>
                </a:lnTo>
                <a:lnTo>
                  <a:pt x="527" y="489"/>
                </a:lnTo>
                <a:lnTo>
                  <a:pt x="521" y="485"/>
                </a:lnTo>
                <a:lnTo>
                  <a:pt x="508" y="480"/>
                </a:lnTo>
                <a:lnTo>
                  <a:pt x="495" y="475"/>
                </a:lnTo>
                <a:lnTo>
                  <a:pt x="495" y="475"/>
                </a:lnTo>
                <a:close/>
                <a:moveTo>
                  <a:pt x="43" y="910"/>
                </a:moveTo>
                <a:lnTo>
                  <a:pt x="41" y="909"/>
                </a:lnTo>
                <a:lnTo>
                  <a:pt x="35" y="904"/>
                </a:lnTo>
                <a:lnTo>
                  <a:pt x="32" y="900"/>
                </a:lnTo>
                <a:lnTo>
                  <a:pt x="29" y="897"/>
                </a:lnTo>
                <a:lnTo>
                  <a:pt x="27" y="892"/>
                </a:lnTo>
                <a:lnTo>
                  <a:pt x="26" y="888"/>
                </a:lnTo>
                <a:lnTo>
                  <a:pt x="30" y="886"/>
                </a:lnTo>
                <a:lnTo>
                  <a:pt x="33" y="886"/>
                </a:lnTo>
                <a:lnTo>
                  <a:pt x="34" y="886"/>
                </a:lnTo>
                <a:lnTo>
                  <a:pt x="36" y="888"/>
                </a:lnTo>
                <a:lnTo>
                  <a:pt x="38" y="892"/>
                </a:lnTo>
                <a:lnTo>
                  <a:pt x="40" y="901"/>
                </a:lnTo>
                <a:lnTo>
                  <a:pt x="42" y="906"/>
                </a:lnTo>
                <a:lnTo>
                  <a:pt x="46" y="910"/>
                </a:lnTo>
                <a:lnTo>
                  <a:pt x="43" y="910"/>
                </a:lnTo>
                <a:close/>
                <a:moveTo>
                  <a:pt x="287" y="235"/>
                </a:moveTo>
                <a:lnTo>
                  <a:pt x="287" y="234"/>
                </a:lnTo>
                <a:lnTo>
                  <a:pt x="288" y="235"/>
                </a:lnTo>
                <a:lnTo>
                  <a:pt x="287" y="235"/>
                </a:lnTo>
                <a:close/>
                <a:moveTo>
                  <a:pt x="290" y="227"/>
                </a:moveTo>
                <a:lnTo>
                  <a:pt x="295" y="235"/>
                </a:lnTo>
                <a:lnTo>
                  <a:pt x="290" y="235"/>
                </a:lnTo>
                <a:lnTo>
                  <a:pt x="287" y="226"/>
                </a:lnTo>
                <a:lnTo>
                  <a:pt x="282" y="213"/>
                </a:lnTo>
                <a:lnTo>
                  <a:pt x="290" y="227"/>
                </a:lnTo>
                <a:close/>
                <a:moveTo>
                  <a:pt x="284" y="241"/>
                </a:moveTo>
                <a:lnTo>
                  <a:pt x="287" y="246"/>
                </a:lnTo>
                <a:lnTo>
                  <a:pt x="287" y="249"/>
                </a:lnTo>
                <a:lnTo>
                  <a:pt x="286" y="247"/>
                </a:lnTo>
                <a:lnTo>
                  <a:pt x="284" y="241"/>
                </a:lnTo>
                <a:close/>
                <a:moveTo>
                  <a:pt x="340" y="900"/>
                </a:moveTo>
                <a:lnTo>
                  <a:pt x="339" y="904"/>
                </a:lnTo>
                <a:lnTo>
                  <a:pt x="338" y="907"/>
                </a:lnTo>
                <a:lnTo>
                  <a:pt x="333" y="916"/>
                </a:lnTo>
                <a:lnTo>
                  <a:pt x="327" y="925"/>
                </a:lnTo>
                <a:lnTo>
                  <a:pt x="333" y="911"/>
                </a:lnTo>
                <a:lnTo>
                  <a:pt x="339" y="898"/>
                </a:lnTo>
                <a:lnTo>
                  <a:pt x="340" y="898"/>
                </a:lnTo>
                <a:lnTo>
                  <a:pt x="340" y="900"/>
                </a:lnTo>
                <a:close/>
                <a:moveTo>
                  <a:pt x="508" y="529"/>
                </a:moveTo>
                <a:lnTo>
                  <a:pt x="508" y="529"/>
                </a:lnTo>
                <a:lnTo>
                  <a:pt x="500" y="508"/>
                </a:lnTo>
                <a:lnTo>
                  <a:pt x="490" y="484"/>
                </a:lnTo>
                <a:lnTo>
                  <a:pt x="490" y="484"/>
                </a:lnTo>
                <a:lnTo>
                  <a:pt x="513" y="493"/>
                </a:lnTo>
                <a:lnTo>
                  <a:pt x="520" y="496"/>
                </a:lnTo>
                <a:lnTo>
                  <a:pt x="527" y="501"/>
                </a:lnTo>
                <a:lnTo>
                  <a:pt x="530" y="504"/>
                </a:lnTo>
                <a:lnTo>
                  <a:pt x="533" y="507"/>
                </a:lnTo>
                <a:lnTo>
                  <a:pt x="534" y="510"/>
                </a:lnTo>
                <a:lnTo>
                  <a:pt x="534" y="514"/>
                </a:lnTo>
                <a:lnTo>
                  <a:pt x="533" y="516"/>
                </a:lnTo>
                <a:lnTo>
                  <a:pt x="530" y="519"/>
                </a:lnTo>
                <a:lnTo>
                  <a:pt x="524" y="523"/>
                </a:lnTo>
                <a:lnTo>
                  <a:pt x="516" y="527"/>
                </a:lnTo>
                <a:lnTo>
                  <a:pt x="508" y="529"/>
                </a:lnTo>
                <a:lnTo>
                  <a:pt x="508" y="5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885080" y="5416560"/>
            <a:ext cx="1101240" cy="1339920"/>
            <a:chOff x="7885080" y="5416560"/>
            <a:chExt cx="1101240" cy="1339920"/>
          </a:xfrm>
        </p:grpSpPr>
        <p:sp>
          <p:nvSpPr>
            <p:cNvPr id="9" name=""/>
            <p:cNvSpPr/>
            <p:nvPr/>
          </p:nvSpPr>
          <p:spPr>
            <a:xfrm>
              <a:off x="8374680" y="5416560"/>
              <a:ext cx="611640" cy="1339920"/>
            </a:xfrm>
            <a:custGeom>
              <a:avLst/>
              <a:gdLst/>
              <a:ahLst/>
              <a:rect l="l" t="t" r="r" b="b"/>
              <a:pathLst>
                <a:path w="439" h="961">
                  <a:moveTo>
                    <a:pt x="439" y="862"/>
                  </a:moveTo>
                  <a:lnTo>
                    <a:pt x="359" y="378"/>
                  </a:lnTo>
                  <a:lnTo>
                    <a:pt x="410" y="18"/>
                  </a:lnTo>
                  <a:lnTo>
                    <a:pt x="340" y="15"/>
                  </a:lnTo>
                  <a:lnTo>
                    <a:pt x="180" y="0"/>
                  </a:lnTo>
                  <a:lnTo>
                    <a:pt x="145" y="157"/>
                  </a:lnTo>
                  <a:lnTo>
                    <a:pt x="145" y="157"/>
                  </a:lnTo>
                  <a:lnTo>
                    <a:pt x="156" y="154"/>
                  </a:lnTo>
                  <a:lnTo>
                    <a:pt x="160" y="154"/>
                  </a:lnTo>
                  <a:lnTo>
                    <a:pt x="165" y="156"/>
                  </a:lnTo>
                  <a:lnTo>
                    <a:pt x="165" y="156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70" y="148"/>
                  </a:lnTo>
                  <a:lnTo>
                    <a:pt x="174" y="144"/>
                  </a:lnTo>
                  <a:lnTo>
                    <a:pt x="179" y="139"/>
                  </a:lnTo>
                  <a:lnTo>
                    <a:pt x="179" y="139"/>
                  </a:lnTo>
                  <a:lnTo>
                    <a:pt x="184" y="134"/>
                  </a:lnTo>
                  <a:lnTo>
                    <a:pt x="188" y="130"/>
                  </a:lnTo>
                  <a:lnTo>
                    <a:pt x="193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9"/>
                  </a:lnTo>
                  <a:lnTo>
                    <a:pt x="198" y="128"/>
                  </a:lnTo>
                  <a:lnTo>
                    <a:pt x="199" y="128"/>
                  </a:lnTo>
                  <a:lnTo>
                    <a:pt x="199" y="128"/>
                  </a:lnTo>
                  <a:lnTo>
                    <a:pt x="205" y="128"/>
                  </a:lnTo>
                  <a:lnTo>
                    <a:pt x="212" y="126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1" y="117"/>
                  </a:lnTo>
                  <a:lnTo>
                    <a:pt x="238" y="116"/>
                  </a:lnTo>
                  <a:lnTo>
                    <a:pt x="241" y="116"/>
                  </a:lnTo>
                  <a:lnTo>
                    <a:pt x="243" y="117"/>
                  </a:lnTo>
                  <a:lnTo>
                    <a:pt x="243" y="117"/>
                  </a:lnTo>
                  <a:lnTo>
                    <a:pt x="244" y="119"/>
                  </a:lnTo>
                  <a:lnTo>
                    <a:pt x="244" y="122"/>
                  </a:lnTo>
                  <a:lnTo>
                    <a:pt x="242" y="125"/>
                  </a:lnTo>
                  <a:lnTo>
                    <a:pt x="242" y="125"/>
                  </a:lnTo>
                  <a:lnTo>
                    <a:pt x="238" y="129"/>
                  </a:lnTo>
                  <a:lnTo>
                    <a:pt x="235" y="131"/>
                  </a:lnTo>
                  <a:lnTo>
                    <a:pt x="235" y="131"/>
                  </a:lnTo>
                  <a:lnTo>
                    <a:pt x="230" y="134"/>
                  </a:lnTo>
                  <a:lnTo>
                    <a:pt x="222" y="139"/>
                  </a:lnTo>
                  <a:lnTo>
                    <a:pt x="222" y="139"/>
                  </a:lnTo>
                  <a:lnTo>
                    <a:pt x="225" y="144"/>
                  </a:lnTo>
                  <a:lnTo>
                    <a:pt x="227" y="152"/>
                  </a:lnTo>
                  <a:lnTo>
                    <a:pt x="229" y="162"/>
                  </a:lnTo>
                  <a:lnTo>
                    <a:pt x="229" y="168"/>
                  </a:lnTo>
                  <a:lnTo>
                    <a:pt x="227" y="174"/>
                  </a:lnTo>
                  <a:lnTo>
                    <a:pt x="227" y="175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218" y="181"/>
                  </a:lnTo>
                  <a:lnTo>
                    <a:pt x="209" y="185"/>
                  </a:lnTo>
                  <a:lnTo>
                    <a:pt x="204" y="186"/>
                  </a:lnTo>
                  <a:lnTo>
                    <a:pt x="199" y="187"/>
                  </a:lnTo>
                  <a:lnTo>
                    <a:pt x="199" y="187"/>
                  </a:lnTo>
                  <a:lnTo>
                    <a:pt x="192" y="187"/>
                  </a:lnTo>
                  <a:lnTo>
                    <a:pt x="186" y="190"/>
                  </a:lnTo>
                  <a:lnTo>
                    <a:pt x="181" y="191"/>
                  </a:lnTo>
                  <a:lnTo>
                    <a:pt x="179" y="193"/>
                  </a:lnTo>
                  <a:lnTo>
                    <a:pt x="179" y="193"/>
                  </a:lnTo>
                  <a:lnTo>
                    <a:pt x="176" y="207"/>
                  </a:lnTo>
                  <a:lnTo>
                    <a:pt x="175" y="212"/>
                  </a:lnTo>
                  <a:lnTo>
                    <a:pt x="175" y="213"/>
                  </a:lnTo>
                  <a:lnTo>
                    <a:pt x="174" y="214"/>
                  </a:lnTo>
                  <a:lnTo>
                    <a:pt x="174" y="214"/>
                  </a:lnTo>
                  <a:lnTo>
                    <a:pt x="159" y="219"/>
                  </a:lnTo>
                  <a:lnTo>
                    <a:pt x="128" y="229"/>
                  </a:lnTo>
                  <a:lnTo>
                    <a:pt x="70" y="485"/>
                  </a:lnTo>
                  <a:lnTo>
                    <a:pt x="129" y="493"/>
                  </a:lnTo>
                  <a:lnTo>
                    <a:pt x="0" y="929"/>
                  </a:lnTo>
                  <a:lnTo>
                    <a:pt x="0" y="929"/>
                  </a:lnTo>
                  <a:lnTo>
                    <a:pt x="0" y="932"/>
                  </a:lnTo>
                  <a:lnTo>
                    <a:pt x="0" y="934"/>
                  </a:lnTo>
                  <a:lnTo>
                    <a:pt x="2" y="936"/>
                  </a:lnTo>
                  <a:lnTo>
                    <a:pt x="5" y="938"/>
                  </a:lnTo>
                  <a:lnTo>
                    <a:pt x="5" y="938"/>
                  </a:lnTo>
                  <a:lnTo>
                    <a:pt x="7" y="938"/>
                  </a:lnTo>
                  <a:lnTo>
                    <a:pt x="10" y="936"/>
                  </a:lnTo>
                  <a:lnTo>
                    <a:pt x="11" y="935"/>
                  </a:lnTo>
                  <a:lnTo>
                    <a:pt x="12" y="933"/>
                  </a:lnTo>
                  <a:lnTo>
                    <a:pt x="142" y="494"/>
                  </a:lnTo>
                  <a:lnTo>
                    <a:pt x="258" y="508"/>
                  </a:lnTo>
                  <a:lnTo>
                    <a:pt x="238" y="955"/>
                  </a:lnTo>
                  <a:lnTo>
                    <a:pt x="238" y="955"/>
                  </a:lnTo>
                  <a:lnTo>
                    <a:pt x="238" y="957"/>
                  </a:lnTo>
                  <a:lnTo>
                    <a:pt x="240" y="960"/>
                  </a:lnTo>
                  <a:lnTo>
                    <a:pt x="242" y="961"/>
                  </a:lnTo>
                  <a:lnTo>
                    <a:pt x="244" y="961"/>
                  </a:lnTo>
                  <a:lnTo>
                    <a:pt x="244" y="961"/>
                  </a:lnTo>
                  <a:lnTo>
                    <a:pt x="247" y="961"/>
                  </a:lnTo>
                  <a:lnTo>
                    <a:pt x="249" y="960"/>
                  </a:lnTo>
                  <a:lnTo>
                    <a:pt x="250" y="957"/>
                  </a:lnTo>
                  <a:lnTo>
                    <a:pt x="250" y="955"/>
                  </a:lnTo>
                  <a:lnTo>
                    <a:pt x="271" y="511"/>
                  </a:lnTo>
                  <a:lnTo>
                    <a:pt x="339" y="519"/>
                  </a:lnTo>
                  <a:lnTo>
                    <a:pt x="345" y="473"/>
                  </a:lnTo>
                  <a:lnTo>
                    <a:pt x="361" y="474"/>
                  </a:lnTo>
                  <a:lnTo>
                    <a:pt x="427" y="865"/>
                  </a:lnTo>
                  <a:lnTo>
                    <a:pt x="427" y="865"/>
                  </a:lnTo>
                  <a:lnTo>
                    <a:pt x="427" y="867"/>
                  </a:lnTo>
                  <a:lnTo>
                    <a:pt x="429" y="870"/>
                  </a:lnTo>
                  <a:lnTo>
                    <a:pt x="432" y="871"/>
                  </a:lnTo>
                  <a:lnTo>
                    <a:pt x="434" y="871"/>
                  </a:lnTo>
                  <a:lnTo>
                    <a:pt x="434" y="871"/>
                  </a:lnTo>
                  <a:lnTo>
                    <a:pt x="437" y="870"/>
                  </a:lnTo>
                  <a:lnTo>
                    <a:pt x="438" y="868"/>
                  </a:lnTo>
                  <a:lnTo>
                    <a:pt x="439" y="865"/>
                  </a:lnTo>
                  <a:lnTo>
                    <a:pt x="439" y="862"/>
                  </a:lnTo>
                  <a:lnTo>
                    <a:pt x="439" y="862"/>
                  </a:lnTo>
                  <a:close/>
                  <a:moveTo>
                    <a:pt x="347" y="461"/>
                  </a:moveTo>
                  <a:lnTo>
                    <a:pt x="353" y="421"/>
                  </a:lnTo>
                  <a:lnTo>
                    <a:pt x="360" y="461"/>
                  </a:lnTo>
                  <a:lnTo>
                    <a:pt x="347" y="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85080" y="5425560"/>
              <a:ext cx="824760" cy="1325880"/>
            </a:xfrm>
            <a:custGeom>
              <a:avLst/>
              <a:gdLst/>
              <a:ahLst/>
              <a:rect l="l" t="t" r="r" b="b"/>
              <a:pathLst>
                <a:path w="592" h="951">
                  <a:moveTo>
                    <a:pt x="328" y="241"/>
                  </a:moveTo>
                  <a:lnTo>
                    <a:pt x="329" y="240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35" y="242"/>
                  </a:lnTo>
                  <a:lnTo>
                    <a:pt x="340" y="244"/>
                  </a:lnTo>
                  <a:lnTo>
                    <a:pt x="354" y="244"/>
                  </a:lnTo>
                  <a:lnTo>
                    <a:pt x="371" y="241"/>
                  </a:lnTo>
                  <a:lnTo>
                    <a:pt x="387" y="239"/>
                  </a:lnTo>
                  <a:lnTo>
                    <a:pt x="416" y="233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30" y="229"/>
                  </a:lnTo>
                  <a:lnTo>
                    <a:pt x="442" y="227"/>
                  </a:lnTo>
                  <a:lnTo>
                    <a:pt x="455" y="224"/>
                  </a:lnTo>
                  <a:lnTo>
                    <a:pt x="484" y="216"/>
                  </a:lnTo>
                  <a:lnTo>
                    <a:pt x="523" y="202"/>
                  </a:lnTo>
                  <a:lnTo>
                    <a:pt x="523" y="202"/>
                  </a:lnTo>
                  <a:lnTo>
                    <a:pt x="525" y="196"/>
                  </a:lnTo>
                  <a:lnTo>
                    <a:pt x="526" y="186"/>
                  </a:lnTo>
                  <a:lnTo>
                    <a:pt x="526" y="186"/>
                  </a:lnTo>
                  <a:lnTo>
                    <a:pt x="527" y="183"/>
                  </a:lnTo>
                  <a:lnTo>
                    <a:pt x="529" y="180"/>
                  </a:lnTo>
                  <a:lnTo>
                    <a:pt x="537" y="178"/>
                  </a:lnTo>
                  <a:lnTo>
                    <a:pt x="545" y="175"/>
                  </a:lnTo>
                  <a:lnTo>
                    <a:pt x="551" y="175"/>
                  </a:lnTo>
                  <a:lnTo>
                    <a:pt x="551" y="175"/>
                  </a:lnTo>
                  <a:lnTo>
                    <a:pt x="559" y="174"/>
                  </a:lnTo>
                  <a:lnTo>
                    <a:pt x="566" y="171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6" y="158"/>
                  </a:lnTo>
                  <a:lnTo>
                    <a:pt x="576" y="152"/>
                  </a:lnTo>
                  <a:lnTo>
                    <a:pt x="573" y="141"/>
                  </a:lnTo>
                  <a:lnTo>
                    <a:pt x="571" y="135"/>
                  </a:lnTo>
                  <a:lnTo>
                    <a:pt x="568" y="133"/>
                  </a:lnTo>
                  <a:lnTo>
                    <a:pt x="567" y="130"/>
                  </a:lnTo>
                  <a:lnTo>
                    <a:pt x="570" y="129"/>
                  </a:lnTo>
                  <a:lnTo>
                    <a:pt x="570" y="129"/>
                  </a:lnTo>
                  <a:lnTo>
                    <a:pt x="578" y="123"/>
                  </a:lnTo>
                  <a:lnTo>
                    <a:pt x="583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84" y="119"/>
                  </a:lnTo>
                  <a:lnTo>
                    <a:pt x="590" y="115"/>
                  </a:lnTo>
                  <a:lnTo>
                    <a:pt x="590" y="115"/>
                  </a:lnTo>
                  <a:lnTo>
                    <a:pt x="592" y="113"/>
                  </a:lnTo>
                  <a:lnTo>
                    <a:pt x="592" y="113"/>
                  </a:lnTo>
                  <a:lnTo>
                    <a:pt x="589" y="113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84" y="115"/>
                  </a:lnTo>
                  <a:lnTo>
                    <a:pt x="573" y="119"/>
                  </a:lnTo>
                  <a:lnTo>
                    <a:pt x="573" y="119"/>
                  </a:lnTo>
                  <a:lnTo>
                    <a:pt x="565" y="123"/>
                  </a:lnTo>
                  <a:lnTo>
                    <a:pt x="559" y="126"/>
                  </a:lnTo>
                  <a:lnTo>
                    <a:pt x="555" y="127"/>
                  </a:lnTo>
                  <a:lnTo>
                    <a:pt x="551" y="126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50" y="127"/>
                  </a:lnTo>
                  <a:lnTo>
                    <a:pt x="545" y="127"/>
                  </a:lnTo>
                  <a:lnTo>
                    <a:pt x="542" y="128"/>
                  </a:lnTo>
                  <a:lnTo>
                    <a:pt x="538" y="130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34" y="135"/>
                  </a:lnTo>
                  <a:lnTo>
                    <a:pt x="527" y="143"/>
                  </a:lnTo>
                  <a:lnTo>
                    <a:pt x="523" y="150"/>
                  </a:lnTo>
                  <a:lnTo>
                    <a:pt x="522" y="155"/>
                  </a:lnTo>
                  <a:lnTo>
                    <a:pt x="521" y="156"/>
                  </a:lnTo>
                  <a:lnTo>
                    <a:pt x="516" y="156"/>
                  </a:lnTo>
                  <a:lnTo>
                    <a:pt x="516" y="156"/>
                  </a:lnTo>
                  <a:lnTo>
                    <a:pt x="516" y="155"/>
                  </a:lnTo>
                  <a:lnTo>
                    <a:pt x="515" y="154"/>
                  </a:lnTo>
                  <a:lnTo>
                    <a:pt x="515" y="154"/>
                  </a:lnTo>
                  <a:lnTo>
                    <a:pt x="510" y="152"/>
                  </a:lnTo>
                  <a:lnTo>
                    <a:pt x="504" y="152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91" y="156"/>
                  </a:lnTo>
                  <a:lnTo>
                    <a:pt x="424" y="175"/>
                  </a:lnTo>
                  <a:lnTo>
                    <a:pt x="424" y="175"/>
                  </a:lnTo>
                  <a:lnTo>
                    <a:pt x="407" y="178"/>
                  </a:lnTo>
                  <a:lnTo>
                    <a:pt x="391" y="178"/>
                  </a:lnTo>
                  <a:lnTo>
                    <a:pt x="375" y="177"/>
                  </a:lnTo>
                  <a:lnTo>
                    <a:pt x="362" y="173"/>
                  </a:lnTo>
                  <a:lnTo>
                    <a:pt x="351" y="169"/>
                  </a:lnTo>
                  <a:lnTo>
                    <a:pt x="341" y="167"/>
                  </a:lnTo>
                  <a:lnTo>
                    <a:pt x="331" y="162"/>
                  </a:lnTo>
                  <a:lnTo>
                    <a:pt x="331" y="162"/>
                  </a:lnTo>
                  <a:lnTo>
                    <a:pt x="326" y="158"/>
                  </a:lnTo>
                  <a:lnTo>
                    <a:pt x="323" y="154"/>
                  </a:lnTo>
                  <a:lnTo>
                    <a:pt x="318" y="147"/>
                  </a:lnTo>
                  <a:lnTo>
                    <a:pt x="312" y="144"/>
                  </a:lnTo>
                  <a:lnTo>
                    <a:pt x="283" y="134"/>
                  </a:lnTo>
                  <a:lnTo>
                    <a:pt x="283" y="134"/>
                  </a:lnTo>
                  <a:lnTo>
                    <a:pt x="276" y="132"/>
                  </a:lnTo>
                  <a:lnTo>
                    <a:pt x="264" y="130"/>
                  </a:lnTo>
                  <a:lnTo>
                    <a:pt x="246" y="130"/>
                  </a:lnTo>
                  <a:lnTo>
                    <a:pt x="221" y="132"/>
                  </a:lnTo>
                  <a:lnTo>
                    <a:pt x="219" y="132"/>
                  </a:lnTo>
                  <a:lnTo>
                    <a:pt x="219" y="130"/>
                  </a:lnTo>
                  <a:lnTo>
                    <a:pt x="219" y="130"/>
                  </a:lnTo>
                  <a:lnTo>
                    <a:pt x="213" y="123"/>
                  </a:lnTo>
                  <a:lnTo>
                    <a:pt x="207" y="118"/>
                  </a:lnTo>
                  <a:lnTo>
                    <a:pt x="202" y="115"/>
                  </a:lnTo>
                  <a:lnTo>
                    <a:pt x="201" y="113"/>
                  </a:lnTo>
                  <a:lnTo>
                    <a:pt x="201" y="112"/>
                  </a:lnTo>
                  <a:lnTo>
                    <a:pt x="201" y="112"/>
                  </a:lnTo>
                  <a:lnTo>
                    <a:pt x="203" y="74"/>
                  </a:lnTo>
                  <a:lnTo>
                    <a:pt x="202" y="51"/>
                  </a:lnTo>
                  <a:lnTo>
                    <a:pt x="200" y="39"/>
                  </a:lnTo>
                  <a:lnTo>
                    <a:pt x="200" y="36"/>
                  </a:lnTo>
                  <a:lnTo>
                    <a:pt x="200" y="36"/>
                  </a:lnTo>
                  <a:lnTo>
                    <a:pt x="193" y="23"/>
                  </a:lnTo>
                  <a:lnTo>
                    <a:pt x="185" y="14"/>
                  </a:lnTo>
                  <a:lnTo>
                    <a:pt x="182" y="10"/>
                  </a:lnTo>
                  <a:lnTo>
                    <a:pt x="177" y="8"/>
                  </a:lnTo>
                  <a:lnTo>
                    <a:pt x="172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7" y="6"/>
                  </a:lnTo>
                  <a:lnTo>
                    <a:pt x="117" y="12"/>
                  </a:lnTo>
                  <a:lnTo>
                    <a:pt x="110" y="17"/>
                  </a:lnTo>
                  <a:lnTo>
                    <a:pt x="104" y="22"/>
                  </a:lnTo>
                  <a:lnTo>
                    <a:pt x="98" y="27"/>
                  </a:lnTo>
                  <a:lnTo>
                    <a:pt x="98" y="27"/>
                  </a:lnTo>
                  <a:lnTo>
                    <a:pt x="96" y="29"/>
                  </a:lnTo>
                  <a:lnTo>
                    <a:pt x="95" y="33"/>
                  </a:lnTo>
                  <a:lnTo>
                    <a:pt x="94" y="42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7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95" y="92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8" y="95"/>
                  </a:lnTo>
                  <a:lnTo>
                    <a:pt x="101" y="95"/>
                  </a:lnTo>
                  <a:lnTo>
                    <a:pt x="104" y="95"/>
                  </a:lnTo>
                  <a:lnTo>
                    <a:pt x="104" y="98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106"/>
                  </a:lnTo>
                  <a:lnTo>
                    <a:pt x="104" y="109"/>
                  </a:lnTo>
                  <a:lnTo>
                    <a:pt x="105" y="111"/>
                  </a:lnTo>
                  <a:lnTo>
                    <a:pt x="106" y="111"/>
                  </a:lnTo>
                  <a:lnTo>
                    <a:pt x="109" y="11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3"/>
                  </a:lnTo>
                  <a:lnTo>
                    <a:pt x="106" y="115"/>
                  </a:lnTo>
                  <a:lnTo>
                    <a:pt x="106" y="116"/>
                  </a:lnTo>
                  <a:lnTo>
                    <a:pt x="107" y="117"/>
                  </a:lnTo>
                  <a:lnTo>
                    <a:pt x="107" y="117"/>
                  </a:lnTo>
                  <a:lnTo>
                    <a:pt x="109" y="118"/>
                  </a:lnTo>
                  <a:lnTo>
                    <a:pt x="109" y="118"/>
                  </a:lnTo>
                  <a:lnTo>
                    <a:pt x="110" y="124"/>
                  </a:lnTo>
                  <a:lnTo>
                    <a:pt x="112" y="129"/>
                  </a:lnTo>
                  <a:lnTo>
                    <a:pt x="112" y="129"/>
                  </a:lnTo>
                  <a:lnTo>
                    <a:pt x="113" y="130"/>
                  </a:lnTo>
                  <a:lnTo>
                    <a:pt x="115" y="130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6" y="143"/>
                  </a:lnTo>
                  <a:lnTo>
                    <a:pt x="126" y="146"/>
                  </a:lnTo>
                  <a:lnTo>
                    <a:pt x="126" y="147"/>
                  </a:lnTo>
                  <a:lnTo>
                    <a:pt x="126" y="147"/>
                  </a:lnTo>
                  <a:lnTo>
                    <a:pt x="95" y="164"/>
                  </a:lnTo>
                  <a:lnTo>
                    <a:pt x="75" y="178"/>
                  </a:lnTo>
                  <a:lnTo>
                    <a:pt x="62" y="188"/>
                  </a:lnTo>
                  <a:lnTo>
                    <a:pt x="59" y="190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55" y="195"/>
                  </a:lnTo>
                  <a:lnTo>
                    <a:pt x="49" y="208"/>
                  </a:lnTo>
                  <a:lnTo>
                    <a:pt x="47" y="212"/>
                  </a:lnTo>
                  <a:lnTo>
                    <a:pt x="44" y="208"/>
                  </a:lnTo>
                  <a:lnTo>
                    <a:pt x="39" y="200"/>
                  </a:lnTo>
                  <a:lnTo>
                    <a:pt x="38" y="200"/>
                  </a:lnTo>
                  <a:lnTo>
                    <a:pt x="38" y="199"/>
                  </a:lnTo>
                  <a:lnTo>
                    <a:pt x="38" y="199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3" y="189"/>
                  </a:lnTo>
                  <a:lnTo>
                    <a:pt x="32" y="189"/>
                  </a:lnTo>
                  <a:lnTo>
                    <a:pt x="32" y="189"/>
                  </a:lnTo>
                  <a:lnTo>
                    <a:pt x="30" y="191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2" y="206"/>
                  </a:lnTo>
                  <a:lnTo>
                    <a:pt x="27" y="207"/>
                  </a:lnTo>
                  <a:lnTo>
                    <a:pt x="27" y="207"/>
                  </a:lnTo>
                  <a:lnTo>
                    <a:pt x="22" y="199"/>
                  </a:lnTo>
                  <a:lnTo>
                    <a:pt x="22" y="199"/>
                  </a:lnTo>
                  <a:lnTo>
                    <a:pt x="17" y="192"/>
                  </a:lnTo>
                  <a:lnTo>
                    <a:pt x="17" y="192"/>
                  </a:lnTo>
                  <a:lnTo>
                    <a:pt x="17" y="191"/>
                  </a:lnTo>
                  <a:lnTo>
                    <a:pt x="17" y="191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1" y="178"/>
                  </a:lnTo>
                  <a:lnTo>
                    <a:pt x="10" y="180"/>
                  </a:lnTo>
                  <a:lnTo>
                    <a:pt x="9" y="184"/>
                  </a:lnTo>
                  <a:lnTo>
                    <a:pt x="6" y="182"/>
                  </a:lnTo>
                  <a:lnTo>
                    <a:pt x="6" y="182"/>
                  </a:lnTo>
                  <a:lnTo>
                    <a:pt x="5" y="180"/>
                  </a:lnTo>
                  <a:lnTo>
                    <a:pt x="5" y="180"/>
                  </a:lnTo>
                  <a:lnTo>
                    <a:pt x="4" y="183"/>
                  </a:lnTo>
                  <a:lnTo>
                    <a:pt x="3" y="188"/>
                  </a:lnTo>
                  <a:lnTo>
                    <a:pt x="3" y="188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3" y="191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3" y="225"/>
                  </a:lnTo>
                  <a:lnTo>
                    <a:pt x="3" y="225"/>
                  </a:lnTo>
                  <a:lnTo>
                    <a:pt x="8" y="235"/>
                  </a:lnTo>
                  <a:lnTo>
                    <a:pt x="8" y="235"/>
                  </a:lnTo>
                  <a:lnTo>
                    <a:pt x="10" y="237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0" y="239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5" y="247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0" y="261"/>
                  </a:lnTo>
                  <a:lnTo>
                    <a:pt x="20" y="261"/>
                  </a:lnTo>
                  <a:lnTo>
                    <a:pt x="20" y="262"/>
                  </a:lnTo>
                  <a:lnTo>
                    <a:pt x="11" y="284"/>
                  </a:lnTo>
                  <a:lnTo>
                    <a:pt x="11" y="284"/>
                  </a:lnTo>
                  <a:lnTo>
                    <a:pt x="9" y="301"/>
                  </a:lnTo>
                  <a:lnTo>
                    <a:pt x="8" y="316"/>
                  </a:lnTo>
                  <a:lnTo>
                    <a:pt x="8" y="329"/>
                  </a:lnTo>
                  <a:lnTo>
                    <a:pt x="9" y="338"/>
                  </a:lnTo>
                  <a:lnTo>
                    <a:pt x="10" y="347"/>
                  </a:lnTo>
                  <a:lnTo>
                    <a:pt x="13" y="353"/>
                  </a:lnTo>
                  <a:lnTo>
                    <a:pt x="16" y="357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22" y="363"/>
                  </a:lnTo>
                  <a:lnTo>
                    <a:pt x="26" y="364"/>
                  </a:lnTo>
                  <a:lnTo>
                    <a:pt x="32" y="365"/>
                  </a:lnTo>
                  <a:lnTo>
                    <a:pt x="38" y="364"/>
                  </a:lnTo>
                  <a:lnTo>
                    <a:pt x="42" y="363"/>
                  </a:lnTo>
                  <a:lnTo>
                    <a:pt x="42" y="363"/>
                  </a:lnTo>
                  <a:lnTo>
                    <a:pt x="48" y="360"/>
                  </a:lnTo>
                  <a:lnTo>
                    <a:pt x="53" y="357"/>
                  </a:lnTo>
                  <a:lnTo>
                    <a:pt x="64" y="348"/>
                  </a:lnTo>
                  <a:lnTo>
                    <a:pt x="72" y="338"/>
                  </a:lnTo>
                  <a:lnTo>
                    <a:pt x="79" y="327"/>
                  </a:lnTo>
                  <a:lnTo>
                    <a:pt x="85" y="316"/>
                  </a:lnTo>
                  <a:lnTo>
                    <a:pt x="90" y="308"/>
                  </a:lnTo>
                  <a:lnTo>
                    <a:pt x="94" y="299"/>
                  </a:lnTo>
                  <a:lnTo>
                    <a:pt x="95" y="295"/>
                  </a:lnTo>
                  <a:lnTo>
                    <a:pt x="98" y="299"/>
                  </a:lnTo>
                  <a:lnTo>
                    <a:pt x="98" y="299"/>
                  </a:lnTo>
                  <a:lnTo>
                    <a:pt x="100" y="307"/>
                  </a:lnTo>
                  <a:lnTo>
                    <a:pt x="103" y="316"/>
                  </a:lnTo>
                  <a:lnTo>
                    <a:pt x="106" y="343"/>
                  </a:lnTo>
                  <a:lnTo>
                    <a:pt x="107" y="377"/>
                  </a:lnTo>
                  <a:lnTo>
                    <a:pt x="109" y="414"/>
                  </a:lnTo>
                  <a:lnTo>
                    <a:pt x="109" y="483"/>
                  </a:lnTo>
                  <a:lnTo>
                    <a:pt x="107" y="522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2" y="523"/>
                  </a:lnTo>
                  <a:lnTo>
                    <a:pt x="113" y="524"/>
                  </a:lnTo>
                  <a:lnTo>
                    <a:pt x="115" y="526"/>
                  </a:lnTo>
                  <a:lnTo>
                    <a:pt x="116" y="531"/>
                  </a:lnTo>
                  <a:lnTo>
                    <a:pt x="117" y="538"/>
                  </a:lnTo>
                  <a:lnTo>
                    <a:pt x="121" y="566"/>
                  </a:lnTo>
                  <a:lnTo>
                    <a:pt x="122" y="618"/>
                  </a:lnTo>
                  <a:lnTo>
                    <a:pt x="122" y="618"/>
                  </a:lnTo>
                  <a:lnTo>
                    <a:pt x="123" y="684"/>
                  </a:lnTo>
                  <a:lnTo>
                    <a:pt x="123" y="729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3" y="730"/>
                  </a:lnTo>
                  <a:lnTo>
                    <a:pt x="121" y="739"/>
                  </a:lnTo>
                  <a:lnTo>
                    <a:pt x="120" y="749"/>
                  </a:lnTo>
                  <a:lnTo>
                    <a:pt x="120" y="779"/>
                  </a:lnTo>
                  <a:lnTo>
                    <a:pt x="121" y="811"/>
                  </a:lnTo>
                  <a:lnTo>
                    <a:pt x="124" y="846"/>
                  </a:lnTo>
                  <a:lnTo>
                    <a:pt x="124" y="847"/>
                  </a:lnTo>
                  <a:lnTo>
                    <a:pt x="123" y="847"/>
                  </a:lnTo>
                  <a:lnTo>
                    <a:pt x="123" y="847"/>
                  </a:lnTo>
                  <a:lnTo>
                    <a:pt x="121" y="853"/>
                  </a:lnTo>
                  <a:lnTo>
                    <a:pt x="120" y="861"/>
                  </a:lnTo>
                  <a:lnTo>
                    <a:pt x="118" y="871"/>
                  </a:lnTo>
                  <a:lnTo>
                    <a:pt x="118" y="882"/>
                  </a:lnTo>
                  <a:lnTo>
                    <a:pt x="118" y="883"/>
                  </a:lnTo>
                  <a:lnTo>
                    <a:pt x="117" y="884"/>
                  </a:lnTo>
                  <a:lnTo>
                    <a:pt x="117" y="884"/>
                  </a:lnTo>
                  <a:lnTo>
                    <a:pt x="100" y="892"/>
                  </a:lnTo>
                  <a:lnTo>
                    <a:pt x="88" y="899"/>
                  </a:lnTo>
                  <a:lnTo>
                    <a:pt x="78" y="905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3" y="910"/>
                  </a:lnTo>
                  <a:lnTo>
                    <a:pt x="71" y="914"/>
                  </a:lnTo>
                  <a:lnTo>
                    <a:pt x="70" y="918"/>
                  </a:lnTo>
                  <a:lnTo>
                    <a:pt x="70" y="922"/>
                  </a:lnTo>
                  <a:lnTo>
                    <a:pt x="70" y="922"/>
                  </a:lnTo>
                  <a:lnTo>
                    <a:pt x="72" y="925"/>
                  </a:lnTo>
                  <a:lnTo>
                    <a:pt x="75" y="926"/>
                  </a:lnTo>
                  <a:lnTo>
                    <a:pt x="78" y="928"/>
                  </a:lnTo>
                  <a:lnTo>
                    <a:pt x="83" y="929"/>
                  </a:lnTo>
                  <a:lnTo>
                    <a:pt x="92" y="932"/>
                  </a:lnTo>
                  <a:lnTo>
                    <a:pt x="101" y="932"/>
                  </a:lnTo>
                  <a:lnTo>
                    <a:pt x="113" y="932"/>
                  </a:lnTo>
                  <a:lnTo>
                    <a:pt x="129" y="932"/>
                  </a:lnTo>
                  <a:lnTo>
                    <a:pt x="129" y="932"/>
                  </a:lnTo>
                  <a:lnTo>
                    <a:pt x="135" y="929"/>
                  </a:lnTo>
                  <a:lnTo>
                    <a:pt x="143" y="926"/>
                  </a:lnTo>
                  <a:lnTo>
                    <a:pt x="155" y="917"/>
                  </a:lnTo>
                  <a:lnTo>
                    <a:pt x="155" y="917"/>
                  </a:lnTo>
                  <a:lnTo>
                    <a:pt x="157" y="916"/>
                  </a:lnTo>
                  <a:lnTo>
                    <a:pt x="158" y="916"/>
                  </a:lnTo>
                  <a:lnTo>
                    <a:pt x="160" y="917"/>
                  </a:lnTo>
                  <a:lnTo>
                    <a:pt x="160" y="917"/>
                  </a:lnTo>
                  <a:lnTo>
                    <a:pt x="160" y="918"/>
                  </a:lnTo>
                  <a:lnTo>
                    <a:pt x="160" y="918"/>
                  </a:lnTo>
                  <a:lnTo>
                    <a:pt x="169" y="916"/>
                  </a:lnTo>
                  <a:lnTo>
                    <a:pt x="176" y="915"/>
                  </a:lnTo>
                  <a:lnTo>
                    <a:pt x="179" y="911"/>
                  </a:lnTo>
                  <a:lnTo>
                    <a:pt x="179" y="911"/>
                  </a:lnTo>
                  <a:lnTo>
                    <a:pt x="180" y="909"/>
                  </a:lnTo>
                  <a:lnTo>
                    <a:pt x="182" y="906"/>
                  </a:lnTo>
                  <a:lnTo>
                    <a:pt x="182" y="900"/>
                  </a:lnTo>
                  <a:lnTo>
                    <a:pt x="182" y="900"/>
                  </a:lnTo>
                  <a:lnTo>
                    <a:pt x="182" y="899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3" y="898"/>
                  </a:lnTo>
                  <a:lnTo>
                    <a:pt x="186" y="893"/>
                  </a:lnTo>
                  <a:lnTo>
                    <a:pt x="189" y="886"/>
                  </a:lnTo>
                  <a:lnTo>
                    <a:pt x="191" y="878"/>
                  </a:lnTo>
                  <a:lnTo>
                    <a:pt x="194" y="870"/>
                  </a:lnTo>
                  <a:lnTo>
                    <a:pt x="196" y="850"/>
                  </a:lnTo>
                  <a:lnTo>
                    <a:pt x="196" y="827"/>
                  </a:lnTo>
                  <a:lnTo>
                    <a:pt x="195" y="804"/>
                  </a:lnTo>
                  <a:lnTo>
                    <a:pt x="194" y="780"/>
                  </a:lnTo>
                  <a:lnTo>
                    <a:pt x="190" y="757"/>
                  </a:lnTo>
                  <a:lnTo>
                    <a:pt x="188" y="737"/>
                  </a:lnTo>
                  <a:lnTo>
                    <a:pt x="186" y="735"/>
                  </a:lnTo>
                  <a:lnTo>
                    <a:pt x="189" y="735"/>
                  </a:lnTo>
                  <a:lnTo>
                    <a:pt x="189" y="735"/>
                  </a:lnTo>
                  <a:lnTo>
                    <a:pt x="188" y="719"/>
                  </a:lnTo>
                  <a:lnTo>
                    <a:pt x="189" y="695"/>
                  </a:lnTo>
                  <a:lnTo>
                    <a:pt x="195" y="636"/>
                  </a:lnTo>
                  <a:lnTo>
                    <a:pt x="201" y="582"/>
                  </a:lnTo>
                  <a:lnTo>
                    <a:pt x="205" y="556"/>
                  </a:lnTo>
                  <a:lnTo>
                    <a:pt x="206" y="552"/>
                  </a:lnTo>
                  <a:lnTo>
                    <a:pt x="208" y="554"/>
                  </a:lnTo>
                  <a:lnTo>
                    <a:pt x="208" y="554"/>
                  </a:lnTo>
                  <a:lnTo>
                    <a:pt x="210" y="555"/>
                  </a:lnTo>
                  <a:lnTo>
                    <a:pt x="211" y="556"/>
                  </a:lnTo>
                  <a:lnTo>
                    <a:pt x="213" y="560"/>
                  </a:lnTo>
                  <a:lnTo>
                    <a:pt x="214" y="567"/>
                  </a:lnTo>
                  <a:lnTo>
                    <a:pt x="219" y="595"/>
                  </a:lnTo>
                  <a:lnTo>
                    <a:pt x="224" y="649"/>
                  </a:lnTo>
                  <a:lnTo>
                    <a:pt x="224" y="649"/>
                  </a:lnTo>
                  <a:lnTo>
                    <a:pt x="229" y="711"/>
                  </a:lnTo>
                  <a:lnTo>
                    <a:pt x="231" y="739"/>
                  </a:lnTo>
                  <a:lnTo>
                    <a:pt x="231" y="739"/>
                  </a:lnTo>
                  <a:lnTo>
                    <a:pt x="230" y="753"/>
                  </a:lnTo>
                  <a:lnTo>
                    <a:pt x="231" y="787"/>
                  </a:lnTo>
                  <a:lnTo>
                    <a:pt x="234" y="808"/>
                  </a:lnTo>
                  <a:lnTo>
                    <a:pt x="238" y="829"/>
                  </a:lnTo>
                  <a:lnTo>
                    <a:pt x="242" y="849"/>
                  </a:lnTo>
                  <a:lnTo>
                    <a:pt x="246" y="858"/>
                  </a:lnTo>
                  <a:lnTo>
                    <a:pt x="250" y="865"/>
                  </a:lnTo>
                  <a:lnTo>
                    <a:pt x="251" y="866"/>
                  </a:lnTo>
                  <a:lnTo>
                    <a:pt x="250" y="867"/>
                  </a:lnTo>
                  <a:lnTo>
                    <a:pt x="250" y="867"/>
                  </a:lnTo>
                  <a:lnTo>
                    <a:pt x="247" y="878"/>
                  </a:lnTo>
                  <a:lnTo>
                    <a:pt x="246" y="887"/>
                  </a:lnTo>
                  <a:lnTo>
                    <a:pt x="246" y="893"/>
                  </a:lnTo>
                  <a:lnTo>
                    <a:pt x="247" y="898"/>
                  </a:lnTo>
                  <a:lnTo>
                    <a:pt x="248" y="899"/>
                  </a:lnTo>
                  <a:lnTo>
                    <a:pt x="247" y="900"/>
                  </a:lnTo>
                  <a:lnTo>
                    <a:pt x="247" y="900"/>
                  </a:lnTo>
                  <a:lnTo>
                    <a:pt x="224" y="921"/>
                  </a:lnTo>
                  <a:lnTo>
                    <a:pt x="217" y="928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3" y="934"/>
                  </a:lnTo>
                  <a:lnTo>
                    <a:pt x="212" y="939"/>
                  </a:lnTo>
                  <a:lnTo>
                    <a:pt x="212" y="943"/>
                  </a:lnTo>
                  <a:lnTo>
                    <a:pt x="213" y="946"/>
                  </a:lnTo>
                  <a:lnTo>
                    <a:pt x="213" y="946"/>
                  </a:lnTo>
                  <a:lnTo>
                    <a:pt x="216" y="949"/>
                  </a:lnTo>
                  <a:lnTo>
                    <a:pt x="218" y="950"/>
                  </a:lnTo>
                  <a:lnTo>
                    <a:pt x="222" y="951"/>
                  </a:lnTo>
                  <a:lnTo>
                    <a:pt x="228" y="951"/>
                  </a:lnTo>
                  <a:lnTo>
                    <a:pt x="236" y="951"/>
                  </a:lnTo>
                  <a:lnTo>
                    <a:pt x="246" y="949"/>
                  </a:lnTo>
                  <a:lnTo>
                    <a:pt x="258" y="946"/>
                  </a:lnTo>
                  <a:lnTo>
                    <a:pt x="273" y="942"/>
                  </a:lnTo>
                  <a:lnTo>
                    <a:pt x="273" y="942"/>
                  </a:lnTo>
                  <a:lnTo>
                    <a:pt x="278" y="940"/>
                  </a:lnTo>
                  <a:lnTo>
                    <a:pt x="285" y="936"/>
                  </a:lnTo>
                  <a:lnTo>
                    <a:pt x="285" y="936"/>
                  </a:lnTo>
                  <a:lnTo>
                    <a:pt x="290" y="932"/>
                  </a:lnTo>
                  <a:lnTo>
                    <a:pt x="292" y="928"/>
                  </a:lnTo>
                  <a:lnTo>
                    <a:pt x="293" y="925"/>
                  </a:lnTo>
                  <a:lnTo>
                    <a:pt x="292" y="923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5" y="922"/>
                  </a:lnTo>
                  <a:lnTo>
                    <a:pt x="296" y="922"/>
                  </a:lnTo>
                  <a:lnTo>
                    <a:pt x="296" y="922"/>
                  </a:lnTo>
                  <a:lnTo>
                    <a:pt x="304" y="920"/>
                  </a:lnTo>
                  <a:lnTo>
                    <a:pt x="312" y="916"/>
                  </a:lnTo>
                  <a:lnTo>
                    <a:pt x="314" y="914"/>
                  </a:lnTo>
                  <a:lnTo>
                    <a:pt x="317" y="910"/>
                  </a:lnTo>
                  <a:lnTo>
                    <a:pt x="317" y="910"/>
                  </a:lnTo>
                  <a:lnTo>
                    <a:pt x="318" y="905"/>
                  </a:lnTo>
                  <a:lnTo>
                    <a:pt x="317" y="899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7" y="898"/>
                  </a:lnTo>
                  <a:lnTo>
                    <a:pt x="319" y="883"/>
                  </a:lnTo>
                  <a:lnTo>
                    <a:pt x="320" y="865"/>
                  </a:lnTo>
                  <a:lnTo>
                    <a:pt x="319" y="844"/>
                  </a:lnTo>
                  <a:lnTo>
                    <a:pt x="318" y="822"/>
                  </a:lnTo>
                  <a:lnTo>
                    <a:pt x="315" y="801"/>
                  </a:lnTo>
                  <a:lnTo>
                    <a:pt x="312" y="779"/>
                  </a:lnTo>
                  <a:lnTo>
                    <a:pt x="304" y="741"/>
                  </a:lnTo>
                  <a:lnTo>
                    <a:pt x="304" y="741"/>
                  </a:lnTo>
                  <a:lnTo>
                    <a:pt x="304" y="739"/>
                  </a:lnTo>
                  <a:lnTo>
                    <a:pt x="304" y="739"/>
                  </a:lnTo>
                  <a:lnTo>
                    <a:pt x="303" y="736"/>
                  </a:lnTo>
                  <a:lnTo>
                    <a:pt x="303" y="736"/>
                  </a:lnTo>
                  <a:lnTo>
                    <a:pt x="303" y="735"/>
                  </a:lnTo>
                  <a:lnTo>
                    <a:pt x="303" y="735"/>
                  </a:lnTo>
                  <a:lnTo>
                    <a:pt x="300" y="715"/>
                  </a:lnTo>
                  <a:lnTo>
                    <a:pt x="296" y="696"/>
                  </a:lnTo>
                  <a:lnTo>
                    <a:pt x="295" y="675"/>
                  </a:lnTo>
                  <a:lnTo>
                    <a:pt x="293" y="655"/>
                  </a:lnTo>
                  <a:lnTo>
                    <a:pt x="293" y="634"/>
                  </a:lnTo>
                  <a:lnTo>
                    <a:pt x="295" y="614"/>
                  </a:lnTo>
                  <a:lnTo>
                    <a:pt x="297" y="576"/>
                  </a:lnTo>
                  <a:lnTo>
                    <a:pt x="302" y="541"/>
                  </a:lnTo>
                  <a:lnTo>
                    <a:pt x="306" y="515"/>
                  </a:lnTo>
                  <a:lnTo>
                    <a:pt x="311" y="490"/>
                  </a:lnTo>
                  <a:lnTo>
                    <a:pt x="311" y="489"/>
                  </a:lnTo>
                  <a:lnTo>
                    <a:pt x="312" y="489"/>
                  </a:lnTo>
                  <a:lnTo>
                    <a:pt x="331" y="476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1" y="318"/>
                  </a:lnTo>
                  <a:lnTo>
                    <a:pt x="303" y="297"/>
                  </a:lnTo>
                  <a:lnTo>
                    <a:pt x="306" y="280"/>
                  </a:lnTo>
                  <a:lnTo>
                    <a:pt x="311" y="267"/>
                  </a:lnTo>
                  <a:lnTo>
                    <a:pt x="314" y="256"/>
                  </a:lnTo>
                  <a:lnTo>
                    <a:pt x="319" y="248"/>
                  </a:lnTo>
                  <a:lnTo>
                    <a:pt x="323" y="244"/>
                  </a:lnTo>
                  <a:lnTo>
                    <a:pt x="328" y="241"/>
                  </a:lnTo>
                  <a:lnTo>
                    <a:pt x="328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 flipH="1">
            <a:off x="7507440" y="5546880"/>
            <a:ext cx="304560" cy="1209600"/>
          </a:xfrm>
          <a:custGeom>
            <a:avLst/>
            <a:gdLst/>
            <a:ahLst/>
            <a:rect l="l" t="t" r="r" b="b"/>
            <a:pathLst>
              <a:path w="400" h="1585">
                <a:moveTo>
                  <a:pt x="396" y="512"/>
                </a:moveTo>
                <a:lnTo>
                  <a:pt x="388" y="469"/>
                </a:lnTo>
                <a:lnTo>
                  <a:pt x="400" y="460"/>
                </a:lnTo>
                <a:lnTo>
                  <a:pt x="357" y="339"/>
                </a:lnTo>
                <a:lnTo>
                  <a:pt x="346" y="314"/>
                </a:lnTo>
                <a:lnTo>
                  <a:pt x="336" y="291"/>
                </a:lnTo>
                <a:lnTo>
                  <a:pt x="328" y="281"/>
                </a:lnTo>
                <a:lnTo>
                  <a:pt x="318" y="270"/>
                </a:lnTo>
                <a:lnTo>
                  <a:pt x="306" y="263"/>
                </a:lnTo>
                <a:lnTo>
                  <a:pt x="294" y="256"/>
                </a:lnTo>
                <a:lnTo>
                  <a:pt x="289" y="254"/>
                </a:lnTo>
                <a:lnTo>
                  <a:pt x="283" y="252"/>
                </a:lnTo>
                <a:lnTo>
                  <a:pt x="271" y="251"/>
                </a:lnTo>
                <a:lnTo>
                  <a:pt x="259" y="252"/>
                </a:lnTo>
                <a:lnTo>
                  <a:pt x="247" y="252"/>
                </a:lnTo>
                <a:lnTo>
                  <a:pt x="238" y="254"/>
                </a:lnTo>
                <a:lnTo>
                  <a:pt x="238" y="254"/>
                </a:lnTo>
                <a:lnTo>
                  <a:pt x="228" y="247"/>
                </a:lnTo>
                <a:lnTo>
                  <a:pt x="221" y="238"/>
                </a:lnTo>
                <a:lnTo>
                  <a:pt x="218" y="235"/>
                </a:lnTo>
                <a:lnTo>
                  <a:pt x="216" y="230"/>
                </a:lnTo>
                <a:lnTo>
                  <a:pt x="215" y="224"/>
                </a:lnTo>
                <a:lnTo>
                  <a:pt x="215" y="218"/>
                </a:lnTo>
                <a:lnTo>
                  <a:pt x="215" y="218"/>
                </a:lnTo>
                <a:lnTo>
                  <a:pt x="220" y="216"/>
                </a:lnTo>
                <a:lnTo>
                  <a:pt x="220" y="216"/>
                </a:lnTo>
                <a:lnTo>
                  <a:pt x="222" y="222"/>
                </a:lnTo>
                <a:lnTo>
                  <a:pt x="225" y="228"/>
                </a:lnTo>
                <a:lnTo>
                  <a:pt x="228" y="230"/>
                </a:lnTo>
                <a:lnTo>
                  <a:pt x="231" y="232"/>
                </a:lnTo>
                <a:lnTo>
                  <a:pt x="233" y="232"/>
                </a:lnTo>
                <a:lnTo>
                  <a:pt x="235" y="232"/>
                </a:lnTo>
                <a:lnTo>
                  <a:pt x="240" y="231"/>
                </a:lnTo>
                <a:lnTo>
                  <a:pt x="240" y="231"/>
                </a:lnTo>
                <a:lnTo>
                  <a:pt x="234" y="226"/>
                </a:lnTo>
                <a:lnTo>
                  <a:pt x="229" y="221"/>
                </a:lnTo>
                <a:lnTo>
                  <a:pt x="226" y="212"/>
                </a:lnTo>
                <a:lnTo>
                  <a:pt x="224" y="203"/>
                </a:lnTo>
                <a:lnTo>
                  <a:pt x="224" y="203"/>
                </a:lnTo>
                <a:lnTo>
                  <a:pt x="237" y="209"/>
                </a:lnTo>
                <a:lnTo>
                  <a:pt x="245" y="210"/>
                </a:lnTo>
                <a:lnTo>
                  <a:pt x="247" y="210"/>
                </a:lnTo>
                <a:lnTo>
                  <a:pt x="250" y="209"/>
                </a:lnTo>
                <a:lnTo>
                  <a:pt x="253" y="206"/>
                </a:lnTo>
                <a:lnTo>
                  <a:pt x="253" y="206"/>
                </a:lnTo>
                <a:lnTo>
                  <a:pt x="242" y="202"/>
                </a:lnTo>
                <a:lnTo>
                  <a:pt x="238" y="198"/>
                </a:lnTo>
                <a:lnTo>
                  <a:pt x="234" y="196"/>
                </a:lnTo>
                <a:lnTo>
                  <a:pt x="234" y="196"/>
                </a:lnTo>
                <a:lnTo>
                  <a:pt x="232" y="191"/>
                </a:lnTo>
                <a:lnTo>
                  <a:pt x="229" y="186"/>
                </a:lnTo>
                <a:lnTo>
                  <a:pt x="231" y="180"/>
                </a:lnTo>
                <a:lnTo>
                  <a:pt x="232" y="174"/>
                </a:lnTo>
                <a:lnTo>
                  <a:pt x="232" y="174"/>
                </a:lnTo>
                <a:lnTo>
                  <a:pt x="235" y="178"/>
                </a:lnTo>
                <a:lnTo>
                  <a:pt x="239" y="180"/>
                </a:lnTo>
                <a:lnTo>
                  <a:pt x="246" y="184"/>
                </a:lnTo>
                <a:lnTo>
                  <a:pt x="246" y="184"/>
                </a:lnTo>
                <a:lnTo>
                  <a:pt x="240" y="178"/>
                </a:lnTo>
                <a:lnTo>
                  <a:pt x="237" y="171"/>
                </a:lnTo>
                <a:lnTo>
                  <a:pt x="234" y="164"/>
                </a:lnTo>
                <a:lnTo>
                  <a:pt x="233" y="157"/>
                </a:lnTo>
                <a:lnTo>
                  <a:pt x="233" y="157"/>
                </a:lnTo>
                <a:lnTo>
                  <a:pt x="235" y="161"/>
                </a:lnTo>
                <a:lnTo>
                  <a:pt x="239" y="166"/>
                </a:lnTo>
                <a:lnTo>
                  <a:pt x="246" y="172"/>
                </a:lnTo>
                <a:lnTo>
                  <a:pt x="259" y="180"/>
                </a:lnTo>
                <a:lnTo>
                  <a:pt x="259" y="180"/>
                </a:lnTo>
                <a:lnTo>
                  <a:pt x="253" y="176"/>
                </a:lnTo>
                <a:lnTo>
                  <a:pt x="246" y="171"/>
                </a:lnTo>
                <a:lnTo>
                  <a:pt x="241" y="164"/>
                </a:lnTo>
                <a:lnTo>
                  <a:pt x="237" y="156"/>
                </a:lnTo>
                <a:lnTo>
                  <a:pt x="237" y="156"/>
                </a:lnTo>
                <a:lnTo>
                  <a:pt x="253" y="169"/>
                </a:lnTo>
                <a:lnTo>
                  <a:pt x="253" y="169"/>
                </a:lnTo>
                <a:lnTo>
                  <a:pt x="246" y="159"/>
                </a:lnTo>
                <a:lnTo>
                  <a:pt x="241" y="148"/>
                </a:lnTo>
                <a:lnTo>
                  <a:pt x="237" y="137"/>
                </a:lnTo>
                <a:lnTo>
                  <a:pt x="234" y="122"/>
                </a:lnTo>
                <a:lnTo>
                  <a:pt x="234" y="122"/>
                </a:lnTo>
                <a:lnTo>
                  <a:pt x="239" y="128"/>
                </a:lnTo>
                <a:lnTo>
                  <a:pt x="242" y="135"/>
                </a:lnTo>
                <a:lnTo>
                  <a:pt x="252" y="153"/>
                </a:lnTo>
                <a:lnTo>
                  <a:pt x="252" y="153"/>
                </a:lnTo>
                <a:lnTo>
                  <a:pt x="240" y="124"/>
                </a:lnTo>
                <a:lnTo>
                  <a:pt x="235" y="108"/>
                </a:lnTo>
                <a:lnTo>
                  <a:pt x="232" y="92"/>
                </a:lnTo>
                <a:lnTo>
                  <a:pt x="232" y="92"/>
                </a:lnTo>
                <a:lnTo>
                  <a:pt x="239" y="98"/>
                </a:lnTo>
                <a:lnTo>
                  <a:pt x="246" y="102"/>
                </a:lnTo>
                <a:lnTo>
                  <a:pt x="260" y="111"/>
                </a:lnTo>
                <a:lnTo>
                  <a:pt x="260" y="111"/>
                </a:lnTo>
                <a:lnTo>
                  <a:pt x="251" y="100"/>
                </a:lnTo>
                <a:lnTo>
                  <a:pt x="240" y="88"/>
                </a:lnTo>
                <a:lnTo>
                  <a:pt x="231" y="73"/>
                </a:lnTo>
                <a:lnTo>
                  <a:pt x="220" y="55"/>
                </a:lnTo>
                <a:lnTo>
                  <a:pt x="220" y="55"/>
                </a:lnTo>
                <a:lnTo>
                  <a:pt x="227" y="60"/>
                </a:lnTo>
                <a:lnTo>
                  <a:pt x="233" y="63"/>
                </a:lnTo>
                <a:lnTo>
                  <a:pt x="233" y="63"/>
                </a:lnTo>
                <a:lnTo>
                  <a:pt x="200" y="23"/>
                </a:lnTo>
                <a:lnTo>
                  <a:pt x="200" y="23"/>
                </a:lnTo>
                <a:lnTo>
                  <a:pt x="194" y="15"/>
                </a:lnTo>
                <a:lnTo>
                  <a:pt x="187" y="9"/>
                </a:lnTo>
                <a:lnTo>
                  <a:pt x="180" y="4"/>
                </a:lnTo>
                <a:lnTo>
                  <a:pt x="173" y="1"/>
                </a:lnTo>
                <a:lnTo>
                  <a:pt x="164" y="0"/>
                </a:lnTo>
                <a:lnTo>
                  <a:pt x="156" y="1"/>
                </a:lnTo>
                <a:lnTo>
                  <a:pt x="148" y="4"/>
                </a:lnTo>
                <a:lnTo>
                  <a:pt x="138" y="10"/>
                </a:lnTo>
                <a:lnTo>
                  <a:pt x="138" y="10"/>
                </a:lnTo>
                <a:lnTo>
                  <a:pt x="135" y="7"/>
                </a:lnTo>
                <a:lnTo>
                  <a:pt x="130" y="4"/>
                </a:lnTo>
                <a:lnTo>
                  <a:pt x="125" y="4"/>
                </a:lnTo>
                <a:lnTo>
                  <a:pt x="122" y="4"/>
                </a:lnTo>
                <a:lnTo>
                  <a:pt x="112" y="5"/>
                </a:lnTo>
                <a:lnTo>
                  <a:pt x="103" y="9"/>
                </a:lnTo>
                <a:lnTo>
                  <a:pt x="103" y="9"/>
                </a:lnTo>
                <a:lnTo>
                  <a:pt x="96" y="10"/>
                </a:lnTo>
                <a:lnTo>
                  <a:pt x="89" y="13"/>
                </a:lnTo>
                <a:lnTo>
                  <a:pt x="83" y="15"/>
                </a:lnTo>
                <a:lnTo>
                  <a:pt x="78" y="18"/>
                </a:lnTo>
                <a:lnTo>
                  <a:pt x="69" y="28"/>
                </a:lnTo>
                <a:lnTo>
                  <a:pt x="60" y="39"/>
                </a:lnTo>
                <a:lnTo>
                  <a:pt x="60" y="39"/>
                </a:lnTo>
                <a:lnTo>
                  <a:pt x="52" y="50"/>
                </a:lnTo>
                <a:lnTo>
                  <a:pt x="47" y="61"/>
                </a:lnTo>
                <a:lnTo>
                  <a:pt x="44" y="70"/>
                </a:lnTo>
                <a:lnTo>
                  <a:pt x="44" y="79"/>
                </a:lnTo>
                <a:lnTo>
                  <a:pt x="44" y="79"/>
                </a:lnTo>
                <a:lnTo>
                  <a:pt x="46" y="72"/>
                </a:lnTo>
                <a:lnTo>
                  <a:pt x="50" y="67"/>
                </a:lnTo>
                <a:lnTo>
                  <a:pt x="53" y="65"/>
                </a:lnTo>
                <a:lnTo>
                  <a:pt x="56" y="65"/>
                </a:lnTo>
                <a:lnTo>
                  <a:pt x="56" y="65"/>
                </a:lnTo>
                <a:lnTo>
                  <a:pt x="53" y="75"/>
                </a:lnTo>
                <a:lnTo>
                  <a:pt x="51" y="87"/>
                </a:lnTo>
                <a:lnTo>
                  <a:pt x="47" y="109"/>
                </a:lnTo>
                <a:lnTo>
                  <a:pt x="46" y="132"/>
                </a:lnTo>
                <a:lnTo>
                  <a:pt x="46" y="153"/>
                </a:lnTo>
                <a:lnTo>
                  <a:pt x="46" y="153"/>
                </a:lnTo>
                <a:lnTo>
                  <a:pt x="50" y="115"/>
                </a:lnTo>
                <a:lnTo>
                  <a:pt x="50" y="115"/>
                </a:lnTo>
                <a:lnTo>
                  <a:pt x="52" y="150"/>
                </a:lnTo>
                <a:lnTo>
                  <a:pt x="52" y="150"/>
                </a:lnTo>
                <a:lnTo>
                  <a:pt x="53" y="158"/>
                </a:lnTo>
                <a:lnTo>
                  <a:pt x="55" y="164"/>
                </a:lnTo>
                <a:lnTo>
                  <a:pt x="55" y="171"/>
                </a:lnTo>
                <a:lnTo>
                  <a:pt x="53" y="177"/>
                </a:lnTo>
                <a:lnTo>
                  <a:pt x="52" y="183"/>
                </a:lnTo>
                <a:lnTo>
                  <a:pt x="50" y="187"/>
                </a:lnTo>
                <a:lnTo>
                  <a:pt x="44" y="196"/>
                </a:lnTo>
                <a:lnTo>
                  <a:pt x="44" y="196"/>
                </a:lnTo>
                <a:lnTo>
                  <a:pt x="57" y="183"/>
                </a:lnTo>
                <a:lnTo>
                  <a:pt x="57" y="183"/>
                </a:lnTo>
                <a:lnTo>
                  <a:pt x="59" y="190"/>
                </a:lnTo>
                <a:lnTo>
                  <a:pt x="59" y="190"/>
                </a:lnTo>
                <a:lnTo>
                  <a:pt x="63" y="184"/>
                </a:lnTo>
                <a:lnTo>
                  <a:pt x="63" y="184"/>
                </a:lnTo>
                <a:lnTo>
                  <a:pt x="65" y="196"/>
                </a:lnTo>
                <a:lnTo>
                  <a:pt x="65" y="208"/>
                </a:lnTo>
                <a:lnTo>
                  <a:pt x="63" y="218"/>
                </a:lnTo>
                <a:lnTo>
                  <a:pt x="60" y="229"/>
                </a:lnTo>
                <a:lnTo>
                  <a:pt x="60" y="229"/>
                </a:lnTo>
                <a:lnTo>
                  <a:pt x="64" y="226"/>
                </a:lnTo>
                <a:lnTo>
                  <a:pt x="66" y="223"/>
                </a:lnTo>
                <a:lnTo>
                  <a:pt x="70" y="216"/>
                </a:lnTo>
                <a:lnTo>
                  <a:pt x="72" y="206"/>
                </a:lnTo>
                <a:lnTo>
                  <a:pt x="73" y="198"/>
                </a:lnTo>
                <a:lnTo>
                  <a:pt x="73" y="198"/>
                </a:lnTo>
                <a:lnTo>
                  <a:pt x="78" y="210"/>
                </a:lnTo>
                <a:lnTo>
                  <a:pt x="83" y="222"/>
                </a:lnTo>
                <a:lnTo>
                  <a:pt x="85" y="234"/>
                </a:lnTo>
                <a:lnTo>
                  <a:pt x="85" y="247"/>
                </a:lnTo>
                <a:lnTo>
                  <a:pt x="85" y="247"/>
                </a:lnTo>
                <a:lnTo>
                  <a:pt x="86" y="249"/>
                </a:lnTo>
                <a:lnTo>
                  <a:pt x="86" y="249"/>
                </a:lnTo>
                <a:lnTo>
                  <a:pt x="92" y="250"/>
                </a:lnTo>
                <a:lnTo>
                  <a:pt x="92" y="250"/>
                </a:lnTo>
                <a:lnTo>
                  <a:pt x="95" y="243"/>
                </a:lnTo>
                <a:lnTo>
                  <a:pt x="101" y="241"/>
                </a:lnTo>
                <a:lnTo>
                  <a:pt x="101" y="241"/>
                </a:lnTo>
                <a:lnTo>
                  <a:pt x="102" y="247"/>
                </a:lnTo>
                <a:lnTo>
                  <a:pt x="103" y="254"/>
                </a:lnTo>
                <a:lnTo>
                  <a:pt x="103" y="254"/>
                </a:lnTo>
                <a:lnTo>
                  <a:pt x="108" y="255"/>
                </a:lnTo>
                <a:lnTo>
                  <a:pt x="108" y="255"/>
                </a:lnTo>
                <a:lnTo>
                  <a:pt x="110" y="251"/>
                </a:lnTo>
                <a:lnTo>
                  <a:pt x="110" y="251"/>
                </a:lnTo>
                <a:lnTo>
                  <a:pt x="110" y="256"/>
                </a:lnTo>
                <a:lnTo>
                  <a:pt x="110" y="256"/>
                </a:lnTo>
                <a:lnTo>
                  <a:pt x="112" y="257"/>
                </a:lnTo>
                <a:lnTo>
                  <a:pt x="112" y="257"/>
                </a:lnTo>
                <a:lnTo>
                  <a:pt x="114" y="251"/>
                </a:lnTo>
                <a:lnTo>
                  <a:pt x="114" y="251"/>
                </a:lnTo>
                <a:lnTo>
                  <a:pt x="116" y="258"/>
                </a:lnTo>
                <a:lnTo>
                  <a:pt x="116" y="258"/>
                </a:lnTo>
                <a:lnTo>
                  <a:pt x="120" y="261"/>
                </a:lnTo>
                <a:lnTo>
                  <a:pt x="121" y="261"/>
                </a:lnTo>
                <a:lnTo>
                  <a:pt x="92" y="294"/>
                </a:lnTo>
                <a:lnTo>
                  <a:pt x="122" y="307"/>
                </a:lnTo>
                <a:lnTo>
                  <a:pt x="120" y="309"/>
                </a:lnTo>
                <a:lnTo>
                  <a:pt x="115" y="319"/>
                </a:lnTo>
                <a:lnTo>
                  <a:pt x="110" y="327"/>
                </a:lnTo>
                <a:lnTo>
                  <a:pt x="102" y="334"/>
                </a:lnTo>
                <a:lnTo>
                  <a:pt x="86" y="348"/>
                </a:lnTo>
                <a:lnTo>
                  <a:pt x="71" y="362"/>
                </a:lnTo>
                <a:lnTo>
                  <a:pt x="65" y="369"/>
                </a:lnTo>
                <a:lnTo>
                  <a:pt x="59" y="376"/>
                </a:lnTo>
                <a:lnTo>
                  <a:pt x="55" y="384"/>
                </a:lnTo>
                <a:lnTo>
                  <a:pt x="52" y="392"/>
                </a:lnTo>
                <a:lnTo>
                  <a:pt x="50" y="402"/>
                </a:lnTo>
                <a:lnTo>
                  <a:pt x="50" y="402"/>
                </a:lnTo>
                <a:lnTo>
                  <a:pt x="46" y="419"/>
                </a:lnTo>
                <a:lnTo>
                  <a:pt x="44" y="437"/>
                </a:lnTo>
                <a:lnTo>
                  <a:pt x="40" y="457"/>
                </a:lnTo>
                <a:lnTo>
                  <a:pt x="39" y="477"/>
                </a:lnTo>
                <a:lnTo>
                  <a:pt x="39" y="496"/>
                </a:lnTo>
                <a:lnTo>
                  <a:pt x="40" y="504"/>
                </a:lnTo>
                <a:lnTo>
                  <a:pt x="43" y="510"/>
                </a:lnTo>
                <a:lnTo>
                  <a:pt x="45" y="515"/>
                </a:lnTo>
                <a:lnTo>
                  <a:pt x="49" y="518"/>
                </a:lnTo>
                <a:lnTo>
                  <a:pt x="47" y="544"/>
                </a:lnTo>
                <a:lnTo>
                  <a:pt x="45" y="593"/>
                </a:lnTo>
                <a:lnTo>
                  <a:pt x="44" y="618"/>
                </a:lnTo>
                <a:lnTo>
                  <a:pt x="44" y="645"/>
                </a:lnTo>
                <a:lnTo>
                  <a:pt x="45" y="697"/>
                </a:lnTo>
                <a:lnTo>
                  <a:pt x="44" y="748"/>
                </a:lnTo>
                <a:lnTo>
                  <a:pt x="43" y="772"/>
                </a:lnTo>
                <a:lnTo>
                  <a:pt x="39" y="795"/>
                </a:lnTo>
                <a:lnTo>
                  <a:pt x="38" y="801"/>
                </a:lnTo>
                <a:lnTo>
                  <a:pt x="36" y="805"/>
                </a:lnTo>
                <a:lnTo>
                  <a:pt x="31" y="817"/>
                </a:lnTo>
                <a:lnTo>
                  <a:pt x="26" y="828"/>
                </a:lnTo>
                <a:lnTo>
                  <a:pt x="23" y="834"/>
                </a:lnTo>
                <a:lnTo>
                  <a:pt x="23" y="840"/>
                </a:lnTo>
                <a:lnTo>
                  <a:pt x="23" y="846"/>
                </a:lnTo>
                <a:lnTo>
                  <a:pt x="24" y="853"/>
                </a:lnTo>
                <a:lnTo>
                  <a:pt x="30" y="868"/>
                </a:lnTo>
                <a:lnTo>
                  <a:pt x="34" y="883"/>
                </a:lnTo>
                <a:lnTo>
                  <a:pt x="37" y="899"/>
                </a:lnTo>
                <a:lnTo>
                  <a:pt x="38" y="913"/>
                </a:lnTo>
                <a:lnTo>
                  <a:pt x="38" y="928"/>
                </a:lnTo>
                <a:lnTo>
                  <a:pt x="36" y="958"/>
                </a:lnTo>
                <a:lnTo>
                  <a:pt x="33" y="989"/>
                </a:lnTo>
                <a:lnTo>
                  <a:pt x="33" y="1005"/>
                </a:lnTo>
                <a:lnTo>
                  <a:pt x="32" y="1021"/>
                </a:lnTo>
                <a:lnTo>
                  <a:pt x="34" y="1051"/>
                </a:lnTo>
                <a:lnTo>
                  <a:pt x="37" y="1082"/>
                </a:lnTo>
                <a:lnTo>
                  <a:pt x="42" y="1114"/>
                </a:lnTo>
                <a:lnTo>
                  <a:pt x="45" y="1146"/>
                </a:lnTo>
                <a:lnTo>
                  <a:pt x="47" y="1178"/>
                </a:lnTo>
                <a:lnTo>
                  <a:pt x="49" y="1211"/>
                </a:lnTo>
                <a:lnTo>
                  <a:pt x="52" y="1273"/>
                </a:lnTo>
                <a:lnTo>
                  <a:pt x="55" y="1291"/>
                </a:lnTo>
                <a:lnTo>
                  <a:pt x="60" y="1311"/>
                </a:lnTo>
                <a:lnTo>
                  <a:pt x="65" y="1330"/>
                </a:lnTo>
                <a:lnTo>
                  <a:pt x="69" y="1351"/>
                </a:lnTo>
                <a:lnTo>
                  <a:pt x="70" y="1366"/>
                </a:lnTo>
                <a:lnTo>
                  <a:pt x="71" y="1382"/>
                </a:lnTo>
                <a:lnTo>
                  <a:pt x="72" y="1416"/>
                </a:lnTo>
                <a:lnTo>
                  <a:pt x="75" y="1429"/>
                </a:lnTo>
                <a:lnTo>
                  <a:pt x="78" y="1442"/>
                </a:lnTo>
                <a:lnTo>
                  <a:pt x="81" y="1447"/>
                </a:lnTo>
                <a:lnTo>
                  <a:pt x="84" y="1453"/>
                </a:lnTo>
                <a:lnTo>
                  <a:pt x="88" y="1457"/>
                </a:lnTo>
                <a:lnTo>
                  <a:pt x="94" y="1459"/>
                </a:lnTo>
                <a:lnTo>
                  <a:pt x="85" y="1466"/>
                </a:lnTo>
                <a:lnTo>
                  <a:pt x="76" y="1472"/>
                </a:lnTo>
                <a:lnTo>
                  <a:pt x="65" y="1477"/>
                </a:lnTo>
                <a:lnTo>
                  <a:pt x="53" y="1481"/>
                </a:lnTo>
                <a:lnTo>
                  <a:pt x="30" y="1487"/>
                </a:lnTo>
                <a:lnTo>
                  <a:pt x="17" y="1491"/>
                </a:lnTo>
                <a:lnTo>
                  <a:pt x="5" y="1494"/>
                </a:lnTo>
                <a:lnTo>
                  <a:pt x="3" y="1499"/>
                </a:lnTo>
                <a:lnTo>
                  <a:pt x="1" y="1504"/>
                </a:lnTo>
                <a:lnTo>
                  <a:pt x="0" y="1509"/>
                </a:lnTo>
                <a:lnTo>
                  <a:pt x="1" y="1511"/>
                </a:lnTo>
                <a:lnTo>
                  <a:pt x="1" y="1515"/>
                </a:lnTo>
                <a:lnTo>
                  <a:pt x="1" y="1517"/>
                </a:lnTo>
                <a:lnTo>
                  <a:pt x="5" y="1520"/>
                </a:lnTo>
                <a:lnTo>
                  <a:pt x="12" y="1523"/>
                </a:lnTo>
                <a:lnTo>
                  <a:pt x="19" y="1525"/>
                </a:lnTo>
                <a:lnTo>
                  <a:pt x="30" y="1526"/>
                </a:lnTo>
                <a:lnTo>
                  <a:pt x="43" y="1528"/>
                </a:lnTo>
                <a:lnTo>
                  <a:pt x="68" y="1528"/>
                </a:lnTo>
                <a:lnTo>
                  <a:pt x="97" y="1524"/>
                </a:lnTo>
                <a:lnTo>
                  <a:pt x="125" y="1520"/>
                </a:lnTo>
                <a:lnTo>
                  <a:pt x="150" y="1515"/>
                </a:lnTo>
                <a:lnTo>
                  <a:pt x="161" y="1511"/>
                </a:lnTo>
                <a:lnTo>
                  <a:pt x="169" y="1507"/>
                </a:lnTo>
                <a:lnTo>
                  <a:pt x="167" y="1522"/>
                </a:lnTo>
                <a:lnTo>
                  <a:pt x="167" y="1536"/>
                </a:lnTo>
                <a:lnTo>
                  <a:pt x="168" y="1549"/>
                </a:lnTo>
                <a:lnTo>
                  <a:pt x="173" y="1558"/>
                </a:lnTo>
                <a:lnTo>
                  <a:pt x="179" y="1568"/>
                </a:lnTo>
                <a:lnTo>
                  <a:pt x="188" y="1575"/>
                </a:lnTo>
                <a:lnTo>
                  <a:pt x="196" y="1581"/>
                </a:lnTo>
                <a:lnTo>
                  <a:pt x="209" y="1583"/>
                </a:lnTo>
                <a:lnTo>
                  <a:pt x="219" y="1585"/>
                </a:lnTo>
                <a:lnTo>
                  <a:pt x="225" y="1585"/>
                </a:lnTo>
                <a:lnTo>
                  <a:pt x="231" y="1583"/>
                </a:lnTo>
                <a:lnTo>
                  <a:pt x="239" y="1583"/>
                </a:lnTo>
                <a:lnTo>
                  <a:pt x="245" y="1581"/>
                </a:lnTo>
                <a:lnTo>
                  <a:pt x="251" y="1577"/>
                </a:lnTo>
                <a:lnTo>
                  <a:pt x="257" y="1575"/>
                </a:lnTo>
                <a:lnTo>
                  <a:pt x="261" y="1571"/>
                </a:lnTo>
                <a:lnTo>
                  <a:pt x="265" y="1567"/>
                </a:lnTo>
                <a:lnTo>
                  <a:pt x="270" y="1561"/>
                </a:lnTo>
                <a:lnTo>
                  <a:pt x="272" y="1556"/>
                </a:lnTo>
                <a:lnTo>
                  <a:pt x="273" y="1550"/>
                </a:lnTo>
                <a:lnTo>
                  <a:pt x="276" y="1542"/>
                </a:lnTo>
                <a:lnTo>
                  <a:pt x="276" y="1526"/>
                </a:lnTo>
                <a:lnTo>
                  <a:pt x="274" y="1509"/>
                </a:lnTo>
                <a:lnTo>
                  <a:pt x="271" y="1489"/>
                </a:lnTo>
                <a:lnTo>
                  <a:pt x="270" y="1485"/>
                </a:lnTo>
                <a:lnTo>
                  <a:pt x="270" y="1483"/>
                </a:lnTo>
                <a:lnTo>
                  <a:pt x="271" y="1479"/>
                </a:lnTo>
                <a:lnTo>
                  <a:pt x="272" y="1478"/>
                </a:lnTo>
                <a:lnTo>
                  <a:pt x="283" y="1471"/>
                </a:lnTo>
                <a:lnTo>
                  <a:pt x="284" y="1470"/>
                </a:lnTo>
                <a:lnTo>
                  <a:pt x="286" y="1465"/>
                </a:lnTo>
                <a:lnTo>
                  <a:pt x="289" y="1444"/>
                </a:lnTo>
                <a:lnTo>
                  <a:pt x="291" y="1377"/>
                </a:lnTo>
                <a:lnTo>
                  <a:pt x="293" y="1296"/>
                </a:lnTo>
                <a:lnTo>
                  <a:pt x="297" y="1224"/>
                </a:lnTo>
                <a:lnTo>
                  <a:pt x="299" y="1169"/>
                </a:lnTo>
                <a:lnTo>
                  <a:pt x="299" y="1117"/>
                </a:lnTo>
                <a:lnTo>
                  <a:pt x="299" y="1016"/>
                </a:lnTo>
                <a:lnTo>
                  <a:pt x="299" y="915"/>
                </a:lnTo>
                <a:lnTo>
                  <a:pt x="302" y="863"/>
                </a:lnTo>
                <a:lnTo>
                  <a:pt x="304" y="809"/>
                </a:lnTo>
                <a:lnTo>
                  <a:pt x="310" y="803"/>
                </a:lnTo>
                <a:lnTo>
                  <a:pt x="316" y="796"/>
                </a:lnTo>
                <a:lnTo>
                  <a:pt x="335" y="784"/>
                </a:lnTo>
                <a:lnTo>
                  <a:pt x="342" y="777"/>
                </a:lnTo>
                <a:lnTo>
                  <a:pt x="348" y="771"/>
                </a:lnTo>
                <a:lnTo>
                  <a:pt x="354" y="763"/>
                </a:lnTo>
                <a:lnTo>
                  <a:pt x="355" y="759"/>
                </a:lnTo>
                <a:lnTo>
                  <a:pt x="356" y="757"/>
                </a:lnTo>
                <a:lnTo>
                  <a:pt x="355" y="742"/>
                </a:lnTo>
                <a:lnTo>
                  <a:pt x="356" y="727"/>
                </a:lnTo>
                <a:lnTo>
                  <a:pt x="357" y="713"/>
                </a:lnTo>
                <a:lnTo>
                  <a:pt x="358" y="701"/>
                </a:lnTo>
                <a:lnTo>
                  <a:pt x="364" y="677"/>
                </a:lnTo>
                <a:lnTo>
                  <a:pt x="371" y="655"/>
                </a:lnTo>
                <a:lnTo>
                  <a:pt x="387" y="610"/>
                </a:lnTo>
                <a:lnTo>
                  <a:pt x="393" y="588"/>
                </a:lnTo>
                <a:lnTo>
                  <a:pt x="396" y="563"/>
                </a:lnTo>
                <a:lnTo>
                  <a:pt x="400" y="557"/>
                </a:lnTo>
                <a:lnTo>
                  <a:pt x="400" y="550"/>
                </a:lnTo>
                <a:lnTo>
                  <a:pt x="400" y="538"/>
                </a:lnTo>
                <a:lnTo>
                  <a:pt x="397" y="525"/>
                </a:lnTo>
                <a:lnTo>
                  <a:pt x="396" y="5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195640" y="6381360"/>
            <a:ext cx="504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805120" y="6381360"/>
            <a:ext cx="5097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3420720" y="6381360"/>
            <a:ext cx="3589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DF8-BA33-452D-9497-0EACD6A60EF7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400" t="486" r="380" b="45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7640" y="-324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63600" y="549360"/>
            <a:ext cx="7448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>
            <a:lum bright="6000"/>
          </a:blip>
          <a:stretch/>
        </p:blipFill>
        <p:spPr>
          <a:xfrm rot="19724400">
            <a:off x="8243640" y="3284640"/>
            <a:ext cx="104760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592600">
            <a:off x="7811640" y="4292640"/>
            <a:ext cx="82548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>
            <a:lum bright="6000"/>
          </a:blip>
          <a:stretch/>
        </p:blipFill>
        <p:spPr>
          <a:xfrm rot="18480600">
            <a:off x="8123040" y="5422320"/>
            <a:ext cx="60300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8613720" y="4824360"/>
            <a:ext cx="711360" cy="9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>
            <a:lum bright="12000"/>
          </a:blip>
          <a:stretch/>
        </p:blipFill>
        <p:spPr>
          <a:xfrm rot="3568800">
            <a:off x="8632440" y="6083280"/>
            <a:ext cx="536760" cy="70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600" y="549360"/>
            <a:ext cx="7448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3600" y="1792080"/>
            <a:ext cx="7523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7600" y="62064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图表饼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14280" y="1052280"/>
            <a:ext cx="800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6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9E4-790D-4C5F-A5C9-738CA8D0F91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52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276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53000"/>
            <a:ext cx="181116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4680" y="3753000"/>
            <a:ext cx="1811520" cy="66672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7320" y="2107440"/>
            <a:ext cx="2338200" cy="2344320"/>
            <a:chOff x="157320" y="2107440"/>
            <a:chExt cx="2338200" cy="2344320"/>
          </a:xfrm>
        </p:grpSpPr>
        <p:grpSp>
          <p:nvGrpSpPr>
            <p:cNvPr id="112" name=""/>
            <p:cNvGrpSpPr/>
            <p:nvPr/>
          </p:nvGrpSpPr>
          <p:grpSpPr>
            <a:xfrm>
              <a:off x="157320" y="2107440"/>
              <a:ext cx="2338200" cy="2344320"/>
              <a:chOff x="157320" y="2107440"/>
              <a:chExt cx="2338200" cy="2344320"/>
            </a:xfrm>
          </p:grpSpPr>
          <p:sp>
            <p:nvSpPr>
              <p:cNvPr id="113" name=""/>
              <p:cNvSpPr/>
              <p:nvPr/>
            </p:nvSpPr>
            <p:spPr>
              <a:xfrm>
                <a:off x="343440" y="2300400"/>
                <a:ext cx="1799280" cy="179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463400">
                <a:off x="30168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3398600">
                <a:off x="112716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28560" y="2786040"/>
              <a:ext cx="1224000" cy="82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86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27800" y="2107440"/>
            <a:ext cx="2338200" cy="2344320"/>
            <a:chOff x="4627800" y="2107440"/>
            <a:chExt cx="2338200" cy="2344320"/>
          </a:xfrm>
        </p:grpSpPr>
        <p:grpSp>
          <p:nvGrpSpPr>
            <p:cNvPr id="118" name=""/>
            <p:cNvGrpSpPr/>
            <p:nvPr/>
          </p:nvGrpSpPr>
          <p:grpSpPr>
            <a:xfrm>
              <a:off x="4627800" y="2107440"/>
              <a:ext cx="2338200" cy="2344320"/>
              <a:chOff x="4627800" y="2107440"/>
              <a:chExt cx="2338200" cy="234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4813920" y="2300400"/>
                <a:ext cx="1799280" cy="17967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9463400">
                <a:off x="477216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3398600">
                <a:off x="559764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08176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0b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92560" y="2107440"/>
            <a:ext cx="2338200" cy="2344320"/>
            <a:chOff x="2392560" y="2107440"/>
            <a:chExt cx="2338200" cy="2344320"/>
          </a:xfrm>
        </p:grpSpPr>
        <p:grpSp>
          <p:nvGrpSpPr>
            <p:cNvPr id="124" name=""/>
            <p:cNvGrpSpPr/>
            <p:nvPr/>
          </p:nvGrpSpPr>
          <p:grpSpPr>
            <a:xfrm>
              <a:off x="2392560" y="2107440"/>
              <a:ext cx="2338200" cy="2344320"/>
              <a:chOff x="2392560" y="2107440"/>
              <a:chExt cx="2338200" cy="234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578680" y="2300400"/>
                <a:ext cx="1799280" cy="1796760"/>
              </a:xfrm>
              <a:prstGeom prst="ellipse">
                <a:avLst/>
              </a:prstGeom>
              <a:solidFill>
                <a:srgbClr val="75b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9463400">
                <a:off x="2536920" y="23317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3398600">
                <a:off x="3362400" y="26074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844720" y="27846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a4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64480" y="2105640"/>
            <a:ext cx="2338200" cy="2344320"/>
            <a:chOff x="6864480" y="2105640"/>
            <a:chExt cx="2338200" cy="2344320"/>
          </a:xfrm>
        </p:grpSpPr>
        <p:grpSp>
          <p:nvGrpSpPr>
            <p:cNvPr id="130" name=""/>
            <p:cNvGrpSpPr/>
            <p:nvPr/>
          </p:nvGrpSpPr>
          <p:grpSpPr>
            <a:xfrm>
              <a:off x="6864480" y="2105640"/>
              <a:ext cx="2338200" cy="2344320"/>
              <a:chOff x="6864480" y="2105640"/>
              <a:chExt cx="2338200" cy="2344320"/>
            </a:xfrm>
          </p:grpSpPr>
          <p:sp>
            <p:nvSpPr>
              <p:cNvPr id="131" name=""/>
              <p:cNvSpPr/>
              <p:nvPr/>
            </p:nvSpPr>
            <p:spPr>
              <a:xfrm>
                <a:off x="7050600" y="2298600"/>
                <a:ext cx="1799280" cy="17967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463400">
                <a:off x="7008840" y="2329920"/>
                <a:ext cx="1037520" cy="829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3398600">
                <a:off x="7834320" y="2605680"/>
                <a:ext cx="874440" cy="1787400"/>
              </a:xfrm>
              <a:custGeom>
                <a:avLst/>
                <a:gdLst>
                  <a:gd name="textAreaLeft" fmla="*/ 301680 w 874440"/>
                  <a:gd name="textAreaRight" fmla="*/ 594720 w 874440"/>
                  <a:gd name="textAreaTop" fmla="*/ 218160 h 1787400"/>
                  <a:gd name="textAreaBottom" fmla="*/ 1569240 h 178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145" y="2635"/>
                      <a:pt x="14690" y="5080"/>
                      <a:pt x="14690" y="10800"/>
                    </a:cubicBezTo>
                    <a:cubicBezTo>
                      <a:pt x="14690" y="16520"/>
                      <a:pt x="18145" y="189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a0f00">
                      <a:alpha val="13333"/>
                    </a:srgbClr>
                  </a:gs>
                  <a:gs pos="100000">
                    <a:srgbClr val="a86400">
                      <a:alpha val="0"/>
                    </a:srgbClr>
                  </a:gs>
                </a:gsLst>
                <a:lin ang="19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318440" y="2782800"/>
              <a:ext cx="1224000" cy="822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Insert 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7640" y="649440"/>
            <a:ext cx="8425080" cy="563400"/>
          </a:xfrm>
          <a:custGeom>
            <a:avLst/>
            <a:gdLst/>
            <a:ahLst/>
            <a:rect l="l" t="t" r="r" b="b"/>
            <a:pathLst>
              <a:path w="5307" h="355">
                <a:moveTo>
                  <a:pt x="0" y="9"/>
                </a:moveTo>
                <a:cubicBezTo>
                  <a:pt x="1882" y="4"/>
                  <a:pt x="3765" y="0"/>
                  <a:pt x="4536" y="9"/>
                </a:cubicBezTo>
                <a:cubicBezTo>
                  <a:pt x="5307" y="18"/>
                  <a:pt x="4582" y="45"/>
                  <a:pt x="4627" y="62"/>
                </a:cubicBezTo>
                <a:cubicBezTo>
                  <a:pt x="4672" y="79"/>
                  <a:pt x="4755" y="89"/>
                  <a:pt x="4808" y="110"/>
                </a:cubicBezTo>
                <a:cubicBezTo>
                  <a:pt x="4861" y="131"/>
                  <a:pt x="4930" y="172"/>
                  <a:pt x="4945" y="189"/>
                </a:cubicBezTo>
                <a:cubicBezTo>
                  <a:pt x="4960" y="206"/>
                  <a:pt x="4876" y="203"/>
                  <a:pt x="4899" y="216"/>
                </a:cubicBezTo>
                <a:cubicBezTo>
                  <a:pt x="4922" y="229"/>
                  <a:pt x="5036" y="242"/>
                  <a:pt x="5081" y="265"/>
                </a:cubicBezTo>
                <a:cubicBezTo>
                  <a:pt x="5126" y="288"/>
                  <a:pt x="5156" y="337"/>
                  <a:pt x="5171" y="355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1920" y="1522440"/>
            <a:ext cx="6746760" cy="4410000"/>
          </a:xfrm>
          <a:prstGeom prst="ellipse">
            <a:avLst/>
          </a:prstGeom>
          <a:gradFill rotWithShape="0">
            <a:gsLst>
              <a:gs pos="0">
                <a:srgbClr val="0b1107">
                  <a:alpha val="83137"/>
                </a:srgbClr>
              </a:gs>
              <a:gs pos="100000">
                <a:srgbClr val="05070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1523880"/>
            <a:ext cx="6048720" cy="4035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4280" y="175320"/>
            <a:ext cx="80028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2:39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1:32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