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D278-53DA-4AAC-B067-0BBB79FECC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BD8B-30C8-4BAA-BDBD-1AD2D69B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ABBB-D6B7-49E9-B755-21330834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7420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8212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628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7420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8212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09FD-E87E-4C7B-A049-52C4D67232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008B4-5795-44E5-B18F-CD668B0F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FDE2F-9C85-4DA6-841F-2E627ED2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E1656-BF83-4317-8B03-C2D2DFF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B2AE7-51E0-4BB7-AC20-0B58F227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D7627-8EF0-4265-8CC7-BF34979C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66280" y="298440"/>
            <a:ext cx="800892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A0BCD-0015-4113-8FD8-D79E388B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A1ABF-EB30-4FE5-AC27-30D9D66F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DBF5-C502-4D57-ADC9-145E1F17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51E68-038D-485F-9406-D3F43EC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604AF-9061-4467-AE35-7B3C60A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86FBF-F408-46BD-98A9-E82CB726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D561A-8849-435D-BA32-559A41D7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7420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8212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6628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7420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8212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1503D-EBC6-4962-9FFF-47B2E10E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57BB8-F308-4599-B8B3-3E437849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46BEA-1C93-447F-972B-6D7062CB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144A2-EBA4-48AA-BF4A-36F827B8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D6A2B-28AB-40A6-8BDA-9371D99A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2DFA9-6913-4B26-8F88-A618B98F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A3B7-264F-4458-86D2-DB3ABAF6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66280" y="298440"/>
            <a:ext cx="800892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3BA16-3935-4541-BDA8-2ED365E9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1B739-5BC4-41A0-8C9A-E7749F1E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585B5-C759-456C-BACA-3F666E1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2ACF8-386A-4CC5-8577-226FA2C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7090A-38DB-4E01-84D1-090B7D02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42DC3-83E8-4C2B-BB87-75083199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7420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8212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6628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7420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8212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17CC1-26B6-44BD-AA44-9375BF07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3C0F-5B69-4B69-89CE-DD565194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7745-21D1-4EF6-9F2A-D9AB9862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66280" y="298440"/>
            <a:ext cx="800892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045E-1CB6-4013-9F51-E9FD6933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BD1A-9368-4926-A45B-5A3BD309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0714-AE7E-4BB7-BC8F-8D45D9BC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8A20-6C43-4B9D-8C89-D4795BC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5776-3AAA-4161-8C3B-6923FD28BDB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7843320" y="0"/>
            <a:ext cx="11160" cy="749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6925320" y="40320"/>
            <a:ext cx="546120" cy="1496880"/>
          </a:xfrm>
          <a:custGeom>
            <a:avLst/>
            <a:gdLst/>
            <a:ahLst/>
            <a:rect l="l" t="t" r="r" b="b"/>
            <a:pathLst>
              <a:path w="344" h="623">
                <a:moveTo>
                  <a:pt x="114" y="0"/>
                </a:moveTo>
                <a:cubicBezTo>
                  <a:pt x="114" y="0"/>
                  <a:pt x="229" y="0"/>
                  <a:pt x="344" y="0"/>
                </a:cubicBezTo>
                <a:cubicBezTo>
                  <a:pt x="273" y="303"/>
                  <a:pt x="230" y="621"/>
                  <a:pt x="230" y="621"/>
                </a:cubicBezTo>
                <a:cubicBezTo>
                  <a:pt x="230" y="621"/>
                  <a:pt x="115" y="622"/>
                  <a:pt x="0" y="623"/>
                </a:cubicBezTo>
                <a:cubicBezTo>
                  <a:pt x="44" y="307"/>
                  <a:pt x="114" y="0"/>
                  <a:pt x="114" y="0"/>
                </a:cubicBezTo>
                <a:close/>
              </a:path>
            </a:pathLst>
          </a:cu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4271400" y="-1287360"/>
            <a:ext cx="542880" cy="3791160"/>
          </a:xfrm>
          <a:custGeom>
            <a:avLst/>
            <a:gdLst/>
            <a:ahLst/>
            <a:rect l="l" t="t" r="r" b="b"/>
            <a:pathLst>
              <a:path w="342" h="1578">
                <a:moveTo>
                  <a:pt x="114" y="0"/>
                </a:moveTo>
                <a:cubicBezTo>
                  <a:pt x="228" y="0"/>
                  <a:pt x="342" y="0"/>
                  <a:pt x="342" y="0"/>
                </a:cubicBezTo>
                <a:cubicBezTo>
                  <a:pt x="226" y="790"/>
                  <a:pt x="290" y="1578"/>
                  <a:pt x="290" y="1578"/>
                </a:cubicBezTo>
                <a:lnTo>
                  <a:pt x="60" y="1572"/>
                </a:lnTo>
                <a:cubicBezTo>
                  <a:pt x="60" y="1572"/>
                  <a:pt x="0" y="772"/>
                  <a:pt x="114" y="0"/>
                </a:cubicBezTo>
                <a:close/>
              </a:path>
            </a:pathLst>
          </a:cu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987120" y="-987480"/>
            <a:ext cx="663480" cy="2638440"/>
          </a:xfrm>
          <a:custGeom>
            <a:avLst/>
            <a:gdLst/>
            <a:ahLst/>
            <a:rect l="l" t="t" r="r" b="b"/>
            <a:pathLst>
              <a:path w="418" h="1098">
                <a:moveTo>
                  <a:pt x="0" y="0"/>
                </a:moveTo>
                <a:lnTo>
                  <a:pt x="262" y="0"/>
                </a:lnTo>
                <a:cubicBezTo>
                  <a:pt x="262" y="0"/>
                  <a:pt x="292" y="568"/>
                  <a:pt x="418" y="1098"/>
                </a:cubicBezTo>
                <a:cubicBezTo>
                  <a:pt x="209" y="1098"/>
                  <a:pt x="0" y="1098"/>
                  <a:pt x="0" y="1098"/>
                </a:cubicBezTo>
                <a:lnTo>
                  <a:pt x="0" y="0"/>
                </a:lnTo>
                <a:close/>
              </a:path>
            </a:pathLst>
          </a:custGeom>
          <a:solidFill>
            <a:srgbClr val="fba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990000" y="-558000"/>
            <a:ext cx="660240" cy="2633760"/>
          </a:xfrm>
          <a:custGeom>
            <a:avLst/>
            <a:gdLst/>
            <a:ahLst/>
            <a:rect l="l" t="t" r="r" b="b"/>
            <a:pathLst>
              <a:path w="416" h="1096">
                <a:moveTo>
                  <a:pt x="0" y="0"/>
                </a:moveTo>
                <a:cubicBezTo>
                  <a:pt x="116" y="0"/>
                  <a:pt x="232" y="0"/>
                  <a:pt x="232" y="0"/>
                </a:cubicBezTo>
                <a:cubicBezTo>
                  <a:pt x="276" y="562"/>
                  <a:pt x="416" y="1094"/>
                  <a:pt x="416" y="1094"/>
                </a:cubicBezTo>
                <a:lnTo>
                  <a:pt x="150" y="1096"/>
                </a:lnTo>
                <a:cubicBezTo>
                  <a:pt x="150" y="1096"/>
                  <a:pt x="32" y="542"/>
                  <a:pt x="0" y="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51040" y="4680"/>
            <a:ext cx="4680" cy="78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100000" y="-145080"/>
            <a:ext cx="901800" cy="1185840"/>
          </a:xfrm>
          <a:custGeom>
            <a:avLst/>
            <a:gdLst/>
            <a:ahLst/>
            <a:rect l="l" t="t" r="r" b="b"/>
            <a:pathLst>
              <a:path w="568" h="474">
                <a:moveTo>
                  <a:pt x="0" y="0"/>
                </a:moveTo>
                <a:lnTo>
                  <a:pt x="568" y="2"/>
                </a:lnTo>
                <a:cubicBezTo>
                  <a:pt x="568" y="2"/>
                  <a:pt x="496" y="240"/>
                  <a:pt x="438" y="474"/>
                </a:cubicBezTo>
                <a:cubicBezTo>
                  <a:pt x="219" y="474"/>
                  <a:pt x="0" y="474"/>
                  <a:pt x="0" y="474"/>
                </a:cubicBezTo>
                <a:lnTo>
                  <a:pt x="0" y="0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8285400" y="392760"/>
            <a:ext cx="536400" cy="1173240"/>
          </a:xfrm>
          <a:custGeom>
            <a:avLst/>
            <a:gdLst/>
            <a:ahLst/>
            <a:rect l="l" t="t" r="r" b="b"/>
            <a:pathLst>
              <a:path w="338" h="476">
                <a:moveTo>
                  <a:pt x="126" y="0"/>
                </a:moveTo>
                <a:lnTo>
                  <a:pt x="338" y="2"/>
                </a:lnTo>
                <a:lnTo>
                  <a:pt x="222" y="476"/>
                </a:lnTo>
                <a:lnTo>
                  <a:pt x="0" y="476"/>
                </a:lnTo>
                <a:lnTo>
                  <a:pt x="126" y="0"/>
                </a:lnTo>
                <a:close/>
              </a:path>
            </a:pathLst>
          </a:custGeom>
          <a:solidFill>
            <a:srgbClr val="fba49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9113400" y="0"/>
            <a:ext cx="9720" cy="124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5518440" y="-1738800"/>
            <a:ext cx="690480" cy="4165560"/>
          </a:xfrm>
          <a:custGeom>
            <a:avLst/>
            <a:gdLst/>
            <a:ahLst/>
            <a:rect l="l" t="t" r="r" b="b"/>
            <a:pathLst>
              <a:path w="435" h="1734">
                <a:moveTo>
                  <a:pt x="0" y="0"/>
                </a:moveTo>
                <a:cubicBezTo>
                  <a:pt x="411" y="3"/>
                  <a:pt x="214" y="3"/>
                  <a:pt x="435" y="3"/>
                </a:cubicBezTo>
                <a:cubicBezTo>
                  <a:pt x="222" y="837"/>
                  <a:pt x="243" y="1734"/>
                  <a:pt x="243" y="1734"/>
                </a:cubicBezTo>
                <a:lnTo>
                  <a:pt x="0" y="1734"/>
                </a:lnTo>
                <a:cubicBezTo>
                  <a:pt x="0" y="1734"/>
                  <a:pt x="0" y="0"/>
                  <a:pt x="0" y="0"/>
                </a:cubicBezTo>
                <a:close/>
              </a:path>
            </a:pathLst>
          </a:cu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959600" y="1440"/>
            <a:ext cx="0" cy="1057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rot="5400000">
            <a:off x="3006720" y="-342720"/>
            <a:ext cx="409680" cy="1095120"/>
          </a:xfrm>
          <a:custGeom>
            <a:avLst/>
            <a:gdLst/>
            <a:ahLst/>
            <a:rect l="l" t="t" r="r" b="b"/>
            <a:pathLst>
              <a:path w="258" h="456">
                <a:moveTo>
                  <a:pt x="0" y="0"/>
                </a:moveTo>
                <a:lnTo>
                  <a:pt x="243" y="0"/>
                </a:lnTo>
                <a:lnTo>
                  <a:pt x="258" y="453"/>
                </a:lnTo>
                <a:lnTo>
                  <a:pt x="0" y="456"/>
                </a:lnTo>
                <a:lnTo>
                  <a:pt x="0" y="0"/>
                </a:lnTo>
                <a:close/>
              </a:path>
            </a:pathLst>
          </a:cu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765600" y="-720"/>
            <a:ext cx="46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-237960" y="0"/>
            <a:ext cx="1431720" cy="6877080"/>
          </a:xfrm>
          <a:custGeom>
            <a:avLst/>
            <a:gdLst/>
            <a:ahLst/>
            <a:rect l="l" t="t" r="r" b="b"/>
            <a:pathLst>
              <a:path w="902" h="4332">
                <a:moveTo>
                  <a:pt x="902" y="0"/>
                </a:moveTo>
                <a:cubicBezTo>
                  <a:pt x="0" y="2364"/>
                  <a:pt x="588" y="4332"/>
                  <a:pt x="570" y="432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dt" idx="2"/>
          </p:nvPr>
        </p:nvSpPr>
        <p:spPr>
          <a:xfrm>
            <a:off x="69116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  <a:ea typeface="宋体"/>
              </a:rPr>
              <a:t>www.shenlongs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1219320" y="12193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56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e0c24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f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34c8db"/>
              </a:buClr>
              <a:buSzPct val="7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1028-E7AA-446C-A455-79B63395CF1B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34c8db"/>
                </a:solidFill>
                <a:latin typeface="Broadway"/>
              </a:rPr>
              <a:t>Click to edit the title text format</a:t>
            </a: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f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7" name="椭圆 9"/>
          <p:cNvSpPr/>
          <p:nvPr/>
        </p:nvSpPr>
        <p:spPr>
          <a:xfrm>
            <a:off x="3965400" y="901800"/>
            <a:ext cx="1173240" cy="1174680"/>
          </a:xfrm>
          <a:prstGeom prst="ellipse">
            <a:avLst/>
          </a:prstGeom>
          <a:solidFill>
            <a:srgbClr val="cdc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95b"/>
                </a:solidFill>
                <a:latin typeface="Bernard MT Condensed"/>
              </a:rPr>
              <a:t>2015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8" name="椭圆 10"/>
          <p:cNvSpPr/>
          <p:nvPr/>
        </p:nvSpPr>
        <p:spPr>
          <a:xfrm>
            <a:off x="1077840" y="3146400"/>
            <a:ext cx="250920" cy="250920"/>
          </a:xfrm>
          <a:prstGeom prst="ellipse">
            <a:avLst/>
          </a:prstGeom>
          <a:solidFill>
            <a:srgbClr val="cdc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9" name="椭圆 11"/>
          <p:cNvSpPr/>
          <p:nvPr/>
        </p:nvSpPr>
        <p:spPr>
          <a:xfrm>
            <a:off x="7819920" y="3146400"/>
            <a:ext cx="252360" cy="250920"/>
          </a:xfrm>
          <a:prstGeom prst="ellipse">
            <a:avLst/>
          </a:prstGeom>
          <a:solidFill>
            <a:srgbClr val="cdc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0" name="椭圆 12"/>
          <p:cNvSpPr/>
          <p:nvPr/>
        </p:nvSpPr>
        <p:spPr>
          <a:xfrm>
            <a:off x="4497480" y="5524560"/>
            <a:ext cx="108000" cy="108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1" name="直接连接符 13"/>
          <p:cNvSpPr/>
          <p:nvPr/>
        </p:nvSpPr>
        <p:spPr>
          <a:xfrm>
            <a:off x="4546440" y="5632560"/>
            <a:ext cx="0" cy="1225440"/>
          </a:xfrm>
          <a:prstGeom prst="line">
            <a:avLst/>
          </a:prstGeom>
          <a:ln w="6480">
            <a:solidFill>
              <a:srgbClr val="cdc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FC5F-9B82-405D-8ADF-5D6B1B6EA8BB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title"/>
          </p:nvPr>
        </p:nvSpPr>
        <p:spPr>
          <a:xfrm>
            <a:off x="1385640" y="2577600"/>
            <a:ext cx="639756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34c8db"/>
                </a:solidFill>
                <a:latin typeface="Broadway"/>
              </a:rPr>
              <a:t>Click to edit the title text format</a:t>
            </a: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1760" y="3510000"/>
            <a:ext cx="6139080" cy="0"/>
          </a:xfrm>
          <a:prstGeom prst="line">
            <a:avLst/>
          </a:prstGeom>
          <a:ln cap="rnd" w="3240">
            <a:solidFill>
              <a:srgbClr val="5559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1760" y="4233960"/>
            <a:ext cx="6139080" cy="0"/>
          </a:xfrm>
          <a:prstGeom prst="line">
            <a:avLst/>
          </a:prstGeom>
          <a:ln cap="rnd" w="3240">
            <a:solidFill>
              <a:srgbClr val="5559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01760" y="4957920"/>
            <a:ext cx="6139080" cy="0"/>
          </a:xfrm>
          <a:prstGeom prst="line">
            <a:avLst/>
          </a:prstGeom>
          <a:ln cap="rnd" w="3240">
            <a:solidFill>
              <a:srgbClr val="5559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01760" y="5605560"/>
            <a:ext cx="6139080" cy="0"/>
          </a:xfrm>
          <a:prstGeom prst="line">
            <a:avLst/>
          </a:prstGeom>
          <a:ln cap="rnd" w="3240">
            <a:solidFill>
              <a:srgbClr val="5559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1760" y="2755800"/>
            <a:ext cx="6139080" cy="0"/>
          </a:xfrm>
          <a:prstGeom prst="line">
            <a:avLst/>
          </a:prstGeom>
          <a:ln cap="rnd" w="3240">
            <a:solidFill>
              <a:srgbClr val="5559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7040" y="224964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输入文本内容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7040" y="2975040"/>
            <a:ext cx="544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输入文本内容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7040" y="373536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输入文本内容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7040" y="4454640"/>
            <a:ext cx="544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输入文本内容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46400" y="5129280"/>
            <a:ext cx="547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55595b"/>
                </a:solidFill>
                <a:latin typeface="Arial"/>
                <a:ea typeface="宋体"/>
              </a:rPr>
              <a:t>输入文本内容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52000" y="2124000"/>
            <a:ext cx="1304640" cy="610920"/>
            <a:chOff x="1152000" y="2124000"/>
            <a:chExt cx="1304640" cy="610920"/>
          </a:xfrm>
        </p:grpSpPr>
        <p:sp>
          <p:nvSpPr>
            <p:cNvPr id="153" name=""/>
            <p:cNvSpPr/>
            <p:nvPr/>
          </p:nvSpPr>
          <p:spPr>
            <a:xfrm flipH="1">
              <a:off x="1151640" y="2124000"/>
              <a:ext cx="610920" cy="610920"/>
            </a:xfrm>
            <a:prstGeom prst="ellipse">
              <a:avLst/>
            </a:prstGeom>
            <a:solidFill>
              <a:srgbClr val="e35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746720" y="2124000"/>
              <a:ext cx="30528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874" y="3256"/>
                    <a:pt x="18148" y="5080"/>
                    <a:pt x="18148" y="10800"/>
                  </a:cubicBezTo>
                  <a:cubicBezTo>
                    <a:pt x="18148" y="16520"/>
                    <a:pt x="19874" y="1834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3501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943640" y="2124000"/>
              <a:ext cx="30744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350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49200" y="2124000"/>
              <a:ext cx="30708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3501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50560" y="2855880"/>
            <a:ext cx="1304640" cy="610920"/>
            <a:chOff x="1150560" y="2855880"/>
            <a:chExt cx="1304640" cy="610920"/>
          </a:xfrm>
        </p:grpSpPr>
        <p:sp>
          <p:nvSpPr>
            <p:cNvPr id="158" name=""/>
            <p:cNvSpPr/>
            <p:nvPr/>
          </p:nvSpPr>
          <p:spPr>
            <a:xfrm flipH="1">
              <a:off x="1150200" y="2855880"/>
              <a:ext cx="610920" cy="6109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745280" y="2855880"/>
              <a:ext cx="30528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874" y="3256"/>
                    <a:pt x="18148" y="5080"/>
                    <a:pt x="18148" y="10800"/>
                  </a:cubicBezTo>
                  <a:cubicBezTo>
                    <a:pt x="18148" y="16520"/>
                    <a:pt x="19874" y="1834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942200" y="2855880"/>
              <a:ext cx="30744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147760" y="2855880"/>
              <a:ext cx="30708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150560" y="4294080"/>
            <a:ext cx="1304640" cy="610920"/>
            <a:chOff x="1150560" y="4294080"/>
            <a:chExt cx="1304640" cy="610920"/>
          </a:xfrm>
        </p:grpSpPr>
        <p:sp>
          <p:nvSpPr>
            <p:cNvPr id="163" name=""/>
            <p:cNvSpPr/>
            <p:nvPr/>
          </p:nvSpPr>
          <p:spPr>
            <a:xfrm flipH="1">
              <a:off x="1150200" y="4294080"/>
              <a:ext cx="610920" cy="610920"/>
            </a:xfrm>
            <a:prstGeom prst="ellipse">
              <a:avLst/>
            </a:prstGeom>
            <a:solidFill>
              <a:srgbClr val="e9b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745280" y="4294080"/>
              <a:ext cx="30528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874" y="3256"/>
                    <a:pt x="18148" y="5080"/>
                    <a:pt x="18148" y="10800"/>
                  </a:cubicBezTo>
                  <a:cubicBezTo>
                    <a:pt x="18148" y="16520"/>
                    <a:pt x="19874" y="1834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9b26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942200" y="4294080"/>
              <a:ext cx="30744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9b26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147760" y="4294080"/>
              <a:ext cx="30708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9b26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52000" y="4998960"/>
            <a:ext cx="1304640" cy="610920"/>
            <a:chOff x="1152000" y="4998960"/>
            <a:chExt cx="1304640" cy="610920"/>
          </a:xfrm>
        </p:grpSpPr>
        <p:sp>
          <p:nvSpPr>
            <p:cNvPr id="168" name=""/>
            <p:cNvSpPr/>
            <p:nvPr/>
          </p:nvSpPr>
          <p:spPr>
            <a:xfrm flipH="1">
              <a:off x="1151640" y="4998960"/>
              <a:ext cx="610920" cy="610920"/>
            </a:xfrm>
            <a:prstGeom prst="ellipse">
              <a:avLst/>
            </a:prstGeom>
            <a:solidFill>
              <a:srgbClr val="fba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746720" y="4998960"/>
              <a:ext cx="30528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874" y="3256"/>
                    <a:pt x="18148" y="5080"/>
                    <a:pt x="18148" y="10800"/>
                  </a:cubicBezTo>
                  <a:cubicBezTo>
                    <a:pt x="18148" y="16520"/>
                    <a:pt x="19874" y="1834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ba49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943640" y="4998960"/>
              <a:ext cx="30744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ba4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149200" y="4998960"/>
              <a:ext cx="307080" cy="59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ba49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52000" y="3575160"/>
            <a:ext cx="1304640" cy="610560"/>
            <a:chOff x="1152000" y="3575160"/>
            <a:chExt cx="1304640" cy="610560"/>
          </a:xfrm>
        </p:grpSpPr>
        <p:sp>
          <p:nvSpPr>
            <p:cNvPr id="173" name=""/>
            <p:cNvSpPr/>
            <p:nvPr/>
          </p:nvSpPr>
          <p:spPr>
            <a:xfrm flipH="1">
              <a:off x="1151640" y="3575160"/>
              <a:ext cx="610920" cy="610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746720" y="3575160"/>
              <a:ext cx="305280" cy="59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874" y="3256"/>
                    <a:pt x="18148" y="5080"/>
                    <a:pt x="18148" y="10800"/>
                  </a:cubicBezTo>
                  <a:cubicBezTo>
                    <a:pt x="18148" y="16520"/>
                    <a:pt x="19874" y="1834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943640" y="3575160"/>
              <a:ext cx="307440" cy="59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0c0c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49200" y="3575160"/>
              <a:ext cx="307080" cy="59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0c0c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195560" y="2266920"/>
            <a:ext cx="6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题目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97000" y="3014640"/>
            <a:ext cx="6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题目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95560" y="3719520"/>
            <a:ext cx="6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题目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77920" y="4452840"/>
            <a:ext cx="6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题目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51436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题目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08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12920" y="63828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5595b"/>
                </a:solidFill>
                <a:latin typeface="Verdana"/>
                <a:ea typeface="宋体"/>
              </a:rPr>
              <a:t>PPT</a:t>
            </a:r>
            <a:r>
              <a:rPr b="0" lang="en-US" sz="4000" spc="-1" strike="noStrike">
                <a:solidFill>
                  <a:srgbClr val="55595b"/>
                </a:solidFill>
                <a:latin typeface="Verdana"/>
                <a:ea typeface="宋体"/>
              </a:rPr>
              <a:t>图表类型模板</a:t>
            </a:r>
            <a:endParaRPr b="0" lang="en-US" sz="40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4c8db"/>
                </a:solidFill>
                <a:latin typeface="Broadway"/>
              </a:rPr>
              <a:t>使用规范说明</a:t>
            </a: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5595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29093-7CB9-4D46-9593-F4A5DC9E98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3:47:5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54:15Z</dcterms:modified>
  <cp:revision>4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