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2E7-E6EC-486B-8559-D8ED388C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B25-9A0C-4C37-B314-B7994B5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0D1-D459-45A4-8B4A-9E0C8BB8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FAD-B9BB-4D9F-A057-DE75B182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014-3835-4FEE-B445-ACC9E12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1EC-B250-4CB7-85F8-629636A5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32A-3461-497B-98CA-613CEDB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256-39CA-4B08-9E44-490AD6E1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135-878E-465F-BB1B-453F43D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EE6-A8C7-4D2D-A448-5FF9F1B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467-0B07-470A-87A2-1C99BE2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A91-F6D4-48D6-B5B9-A96A2D55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453-5CE4-42F0-A104-50FB151431C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D820-DBF5-4239-9D52-CC7FDA0BB0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203040" y="1235160"/>
            <a:ext cx="8690040" cy="4136760"/>
            <a:chOff x="203040" y="1235160"/>
            <a:chExt cx="8690040" cy="4136760"/>
          </a:xfrm>
        </p:grpSpPr>
        <p:sp>
          <p:nvSpPr>
            <p:cNvPr id="43" name="矩形 1"/>
            <p:cNvSpPr/>
            <p:nvPr/>
          </p:nvSpPr>
          <p:spPr>
            <a:xfrm>
              <a:off x="3637800" y="1235160"/>
              <a:ext cx="2354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4395600" y="1983600"/>
              <a:ext cx="351000" cy="322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4"/>
            <p:cNvSpPr/>
            <p:nvPr/>
          </p:nvSpPr>
          <p:spPr>
            <a:xfrm>
              <a:off x="4862520" y="2705760"/>
              <a:ext cx="1157760" cy="2498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3123720" y="2705760"/>
              <a:ext cx="1154160" cy="2498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6"/>
            <p:cNvSpPr/>
            <p:nvPr/>
          </p:nvSpPr>
          <p:spPr>
            <a:xfrm>
              <a:off x="4671360" y="2369520"/>
              <a:ext cx="687240" cy="28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7"/>
            <p:cNvSpPr/>
            <p:nvPr/>
          </p:nvSpPr>
          <p:spPr>
            <a:xfrm>
              <a:off x="3781800" y="2369520"/>
              <a:ext cx="689040" cy="28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20"/>
            <p:cNvGrpSpPr/>
            <p:nvPr/>
          </p:nvGrpSpPr>
          <p:grpSpPr>
            <a:xfrm>
              <a:off x="3668760" y="4181400"/>
              <a:ext cx="1782000" cy="1190520"/>
              <a:chOff x="3668760" y="4181400"/>
              <a:chExt cx="1782000" cy="1190520"/>
            </a:xfrm>
          </p:grpSpPr>
          <p:sp>
            <p:nvSpPr>
              <p:cNvPr id="50" name="AutoShape 19"/>
              <p:cNvSpPr/>
              <p:nvPr/>
            </p:nvSpPr>
            <p:spPr>
              <a:xfrm>
                <a:off x="3668760" y="4214520"/>
                <a:ext cx="1782000" cy="11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2"/>
              <p:cNvSpPr/>
              <p:nvPr/>
            </p:nvSpPr>
            <p:spPr>
              <a:xfrm>
                <a:off x="3845520" y="4181400"/>
                <a:ext cx="1445760" cy="909360"/>
              </a:xfrm>
              <a:prstGeom prst="pie">
                <a:avLst/>
              </a:prstGeom>
              <a:solidFill>
                <a:srgbClr val="023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27"/>
            <p:cNvSpPr/>
            <p:nvPr/>
          </p:nvSpPr>
          <p:spPr>
            <a:xfrm>
              <a:off x="2614680" y="4006080"/>
              <a:ext cx="394560" cy="393840"/>
            </a:xfrm>
            <a:prstGeom prst="pie">
              <a:avLst/>
            </a:prstGeom>
            <a:solidFill>
              <a:srgbClr val="fc2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"/>
            <p:cNvSpPr/>
            <p:nvPr/>
          </p:nvSpPr>
          <p:spPr>
            <a:xfrm>
              <a:off x="203040" y="3814920"/>
              <a:ext cx="2354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7"/>
            <p:cNvSpPr/>
            <p:nvPr/>
          </p:nvSpPr>
          <p:spPr>
            <a:xfrm>
              <a:off x="2614680" y="2949120"/>
              <a:ext cx="394560" cy="393840"/>
            </a:xfrm>
            <a:prstGeom prst="pie">
              <a:avLst/>
            </a:prstGeom>
            <a:solidFill>
              <a:srgbClr val="fcb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"/>
            <p:cNvSpPr/>
            <p:nvPr/>
          </p:nvSpPr>
          <p:spPr>
            <a:xfrm>
              <a:off x="203040" y="2757960"/>
              <a:ext cx="2354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7"/>
            <p:cNvSpPr/>
            <p:nvPr/>
          </p:nvSpPr>
          <p:spPr>
            <a:xfrm>
              <a:off x="6111360" y="4006080"/>
              <a:ext cx="394560" cy="393840"/>
            </a:xfrm>
            <a:prstGeom prst="pie">
              <a:avLst/>
            </a:prstGeom>
            <a:solidFill>
              <a:srgbClr val="016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6538320" y="3814920"/>
              <a:ext cx="2354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6111360" y="2949120"/>
              <a:ext cx="394560" cy="393840"/>
            </a:xfrm>
            <a:prstGeom prst="pie">
              <a:avLst/>
            </a:prstGeom>
            <a:solidFill>
              <a:srgbClr val="04a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"/>
            <p:cNvSpPr/>
            <p:nvPr/>
          </p:nvSpPr>
          <p:spPr>
            <a:xfrm>
              <a:off x="6538320" y="2757960"/>
              <a:ext cx="2354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7"/>
            <p:cNvSpPr/>
            <p:nvPr/>
          </p:nvSpPr>
          <p:spPr>
            <a:xfrm>
              <a:off x="3205800" y="1424520"/>
              <a:ext cx="394560" cy="393840"/>
            </a:xfrm>
            <a:prstGeom prst="pie">
              <a:avLst/>
            </a:prstGeom>
            <a:solidFill>
              <a:srgbClr val="a1d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63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5480" y="26028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免费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6AA-6113-4F8A-9CC5-2157CFB809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6:47Z</dcterms:modified>
  <cp:revision>132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