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390A-4FD8-481A-B4DF-238B125C2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F8DE-252A-444A-85F3-7A0DB5697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D468-6117-4C8E-918B-4D39C42E6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3E7C-863F-4769-8E5F-F04751922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2C84-C0C1-4E42-89F9-8F1DD4800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7E57-67C0-49DA-9464-806B56FA6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539F-C42E-48CC-969C-521C5607D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F4A2-5D10-44F2-8A52-23C99593F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F63A-BFFE-4607-8899-19BDACE7F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87E5-48B6-40D0-8530-23689FEC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5E76-9434-4BE4-891D-25BC92F1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3738-F307-4E3E-ADB6-1F3E92F2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7C16A-7459-42DC-98A6-F6AE88F2DAAD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930CE-E109-42D6-AF50-7CC7D0A06B5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tubiao/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-34920" y="765000"/>
            <a:ext cx="9191520" cy="5372280"/>
          </a:xfrm>
          <a:prstGeom prst="rect">
            <a:avLst/>
          </a:prstGeom>
          <a:ln w="0">
            <a:noFill/>
          </a:ln>
        </p:spPr>
      </p:pic>
      <p:grpSp>
        <p:nvGrpSpPr>
          <p:cNvPr id="42" name="Group 17"/>
          <p:cNvGrpSpPr/>
          <p:nvPr/>
        </p:nvGrpSpPr>
        <p:grpSpPr>
          <a:xfrm>
            <a:off x="3071880" y="1854360"/>
            <a:ext cx="3840120" cy="3495600"/>
            <a:chOff x="3071880" y="1854360"/>
            <a:chExt cx="3840120" cy="3495600"/>
          </a:xfrm>
        </p:grpSpPr>
        <p:sp>
          <p:nvSpPr>
            <p:cNvPr id="43" name="Oval 11"/>
            <p:cNvSpPr/>
            <p:nvPr/>
          </p:nvSpPr>
          <p:spPr>
            <a:xfrm>
              <a:off x="3958920" y="3251520"/>
              <a:ext cx="2068560" cy="365760"/>
            </a:xfrm>
            <a:prstGeom prst="ellipse">
              <a:avLst/>
            </a:prstGeom>
            <a:solidFill>
              <a:srgbClr val="0070c0"/>
            </a:solidFill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6"/>
            <p:cNvSpPr/>
            <p:nvPr/>
          </p:nvSpPr>
          <p:spPr>
            <a:xfrm>
              <a:off x="4608000" y="4473720"/>
              <a:ext cx="767880" cy="761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Oval 6"/>
            <p:cNvSpPr/>
            <p:nvPr/>
          </p:nvSpPr>
          <p:spPr>
            <a:xfrm>
              <a:off x="4608000" y="5121360"/>
              <a:ext cx="767880" cy="22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lowchart: Merge 11"/>
            <p:cNvSpPr/>
            <p:nvPr/>
          </p:nvSpPr>
          <p:spPr>
            <a:xfrm>
              <a:off x="3087720" y="2084760"/>
              <a:ext cx="3808440" cy="2495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val 8"/>
            <p:cNvSpPr/>
            <p:nvPr/>
          </p:nvSpPr>
          <p:spPr>
            <a:xfrm>
              <a:off x="3071880" y="1854360"/>
              <a:ext cx="3840120" cy="407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lowchart: Merge 11"/>
            <p:cNvSpPr/>
            <p:nvPr/>
          </p:nvSpPr>
          <p:spPr>
            <a:xfrm>
              <a:off x="3971160" y="3465720"/>
              <a:ext cx="2041560" cy="11138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lowchart: Merge 16"/>
            <p:cNvSpPr/>
            <p:nvPr/>
          </p:nvSpPr>
          <p:spPr>
            <a:xfrm rot="20799000">
              <a:off x="4212360" y="2118600"/>
              <a:ext cx="745560" cy="2496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2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4"/>
            <p:cNvSpPr/>
            <p:nvPr/>
          </p:nvSpPr>
          <p:spPr>
            <a:xfrm>
              <a:off x="4608000" y="4349880"/>
              <a:ext cx="767880" cy="228600"/>
            </a:xfrm>
            <a:prstGeom prst="ellipse">
              <a:avLst/>
            </a:prstGeom>
            <a:solidFill>
              <a:srgbClr val="0070c0">
                <a:alpha val="50000"/>
              </a:srgbClr>
            </a:solidFill>
            <a:ln w="12600">
              <a:solidFill>
                <a:srgbClr val="1f497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Straight Connector 19"/>
          <p:cNvSpPr/>
          <p:nvPr/>
        </p:nvSpPr>
        <p:spPr>
          <a:xfrm flipH="1">
            <a:off x="1219320" y="2058840"/>
            <a:ext cx="1752480" cy="0"/>
          </a:xfrm>
          <a:prstGeom prst="line">
            <a:avLst/>
          </a:prstGeom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20"/>
          <p:cNvSpPr/>
          <p:nvPr/>
        </p:nvSpPr>
        <p:spPr>
          <a:xfrm flipH="1">
            <a:off x="1219320" y="3448080"/>
            <a:ext cx="2666880" cy="1440"/>
          </a:xfrm>
          <a:prstGeom prst="line">
            <a:avLst/>
          </a:prstGeom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9"/>
          <p:cNvSpPr/>
          <p:nvPr/>
        </p:nvSpPr>
        <p:spPr>
          <a:xfrm>
            <a:off x="1240560" y="2109960"/>
            <a:ext cx="15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Arial"/>
              </a:rPr>
              <a:t>Text Title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0"/>
          <p:cNvSpPr/>
          <p:nvPr/>
        </p:nvSpPr>
        <p:spPr>
          <a:xfrm>
            <a:off x="1232280" y="2448000"/>
            <a:ext cx="1218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Body Text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Body Text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Body Text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1"/>
          <p:cNvSpPr/>
          <p:nvPr/>
        </p:nvSpPr>
        <p:spPr>
          <a:xfrm>
            <a:off x="1240560" y="3673440"/>
            <a:ext cx="15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Arial"/>
              </a:rPr>
              <a:t>Text Title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2"/>
          <p:cNvSpPr/>
          <p:nvPr/>
        </p:nvSpPr>
        <p:spPr>
          <a:xfrm>
            <a:off x="1238400" y="4011480"/>
            <a:ext cx="2495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Body Text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Body Text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Body Text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Down Arrow 28"/>
          <p:cNvSpPr/>
          <p:nvPr/>
        </p:nvSpPr>
        <p:spPr>
          <a:xfrm rot="1938600">
            <a:off x="6511680" y="2030400"/>
            <a:ext cx="177840" cy="2714760"/>
          </a:xfrm>
          <a:prstGeom prst="downArrow">
            <a:avLst>
              <a:gd name="adj1" fmla="val 50000"/>
              <a:gd name="adj2" fmla="val 141839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462000"/>
          </a:gra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4"/>
          <p:cNvSpPr/>
          <p:nvPr/>
        </p:nvSpPr>
        <p:spPr>
          <a:xfrm rot="18120000">
            <a:off x="6143400" y="3317760"/>
            <a:ext cx="138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Arial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6720" y="63086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grpSp>
        <p:nvGrpSpPr>
          <p:cNvPr id="61" name="Group 34"/>
          <p:cNvGrpSpPr/>
          <p:nvPr/>
        </p:nvGrpSpPr>
        <p:grpSpPr>
          <a:xfrm>
            <a:off x="884160" y="1724040"/>
            <a:ext cx="3840120" cy="3495600"/>
            <a:chOff x="884160" y="1724040"/>
            <a:chExt cx="3840120" cy="3495600"/>
          </a:xfrm>
        </p:grpSpPr>
        <p:sp>
          <p:nvSpPr>
            <p:cNvPr id="62" name="Oval 8"/>
            <p:cNvSpPr/>
            <p:nvPr/>
          </p:nvSpPr>
          <p:spPr>
            <a:xfrm>
              <a:off x="2420280" y="4219560"/>
              <a:ext cx="767880" cy="228600"/>
            </a:xfrm>
            <a:prstGeom prst="ellipse">
              <a:avLst/>
            </a:prstGeom>
            <a:solidFill>
              <a:srgbClr val="bfbfbf">
                <a:alpha val="54000"/>
              </a:srgbClr>
            </a:solid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6"/>
            <p:cNvSpPr/>
            <p:nvPr/>
          </p:nvSpPr>
          <p:spPr>
            <a:xfrm>
              <a:off x="2420280" y="4343400"/>
              <a:ext cx="767880" cy="761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10"/>
            <p:cNvSpPr/>
            <p:nvPr/>
          </p:nvSpPr>
          <p:spPr>
            <a:xfrm>
              <a:off x="2420280" y="4991040"/>
              <a:ext cx="767880" cy="22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lowchart: Merge 11"/>
            <p:cNvSpPr/>
            <p:nvPr/>
          </p:nvSpPr>
          <p:spPr>
            <a:xfrm>
              <a:off x="900000" y="1954440"/>
              <a:ext cx="3808440" cy="2495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15"/>
            <p:cNvSpPr/>
            <p:nvPr/>
          </p:nvSpPr>
          <p:spPr>
            <a:xfrm>
              <a:off x="884160" y="1724040"/>
              <a:ext cx="3840120" cy="407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lowchart: Merge 16"/>
            <p:cNvSpPr/>
            <p:nvPr/>
          </p:nvSpPr>
          <p:spPr>
            <a:xfrm rot="20799000">
              <a:off x="2024640" y="1988280"/>
              <a:ext cx="745560" cy="2496960"/>
            </a:xfrm>
            <a:prstGeom prst="pie">
              <a:avLst/>
            </a:prstGeom>
            <a:solidFill>
              <a:srgbClr val="ffffff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Straight Connector 30"/>
          <p:cNvSpPr/>
          <p:nvPr/>
        </p:nvSpPr>
        <p:spPr>
          <a:xfrm>
            <a:off x="3309840" y="4343400"/>
            <a:ext cx="1067040" cy="0"/>
          </a:xfrm>
          <a:prstGeom prst="line">
            <a:avLst/>
          </a:prstGeom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9"/>
          <p:cNvSpPr/>
          <p:nvPr/>
        </p:nvSpPr>
        <p:spPr>
          <a:xfrm>
            <a:off x="3569040" y="3933720"/>
            <a:ext cx="6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0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36"/>
          <p:cNvSpPr/>
          <p:nvPr/>
        </p:nvSpPr>
        <p:spPr>
          <a:xfrm>
            <a:off x="5257800" y="1203480"/>
            <a:ext cx="3352680" cy="4419360"/>
          </a:xfrm>
          <a:custGeom>
            <a:avLst/>
            <a:gdLst>
              <a:gd name="textAreaLeft" fmla="*/ 18720 w 3352680"/>
              <a:gd name="textAreaRight" fmla="*/ 3333960 w 3352680"/>
              <a:gd name="textAreaTop" fmla="*/ 18720 h 4419360"/>
              <a:gd name="textAreaBottom" fmla="*/ 4400640 h 4419360"/>
            </a:gdLst>
            <a:ahLst/>
            <a:rect l="textAreaLeft" t="textAreaTop" r="textAreaRight" b="textAreaBottom"/>
            <a:pathLst>
              <a:path w="21600" h="28471">
                <a:moveTo>
                  <a:pt x="415" y="0"/>
                </a:moveTo>
                <a:arcTo wR="415" hR="415" stAng="16200000" swAng="-5400000"/>
                <a:lnTo>
                  <a:pt x="0" y="28056"/>
                </a:lnTo>
                <a:arcTo wR="415" hR="415" stAng="10800000" swAng="-5400000"/>
                <a:lnTo>
                  <a:pt x="21185" y="28471"/>
                </a:lnTo>
                <a:arcTo wR="415" hR="415" stAng="5400000" swAng="-5400000"/>
                <a:lnTo>
                  <a:pt x="21600" y="415"/>
                </a:lnTo>
                <a:arcTo wR="415" hR="415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82880" bIns="1828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er 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1126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1126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our Body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1126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our Body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1126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5518080"/>
            <a:ext cx="7611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图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tubia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68760" y="836640"/>
            <a:ext cx="37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图表免费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sp>
        <p:nvSpPr>
          <p:cNvPr id="74" name="Straight Connector 30"/>
          <p:cNvSpPr/>
          <p:nvPr/>
        </p:nvSpPr>
        <p:spPr>
          <a:xfrm>
            <a:off x="4297320" y="1963800"/>
            <a:ext cx="1066680" cy="1440"/>
          </a:xfrm>
          <a:prstGeom prst="line">
            <a:avLst/>
          </a:prstGeom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"/>
          <p:cNvSpPr/>
          <p:nvPr/>
        </p:nvSpPr>
        <p:spPr>
          <a:xfrm>
            <a:off x="4379760" y="155412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100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36"/>
          <p:cNvSpPr/>
          <p:nvPr/>
        </p:nvSpPr>
        <p:spPr>
          <a:xfrm>
            <a:off x="5486400" y="1203480"/>
            <a:ext cx="3352680" cy="4419360"/>
          </a:xfrm>
          <a:custGeom>
            <a:avLst/>
            <a:gdLst>
              <a:gd name="textAreaLeft" fmla="*/ 18720 w 3352680"/>
              <a:gd name="textAreaRight" fmla="*/ 3333960 w 3352680"/>
              <a:gd name="textAreaTop" fmla="*/ 18720 h 4419360"/>
              <a:gd name="textAreaBottom" fmla="*/ 4400640 h 4419360"/>
            </a:gdLst>
            <a:ahLst/>
            <a:rect l="textAreaLeft" t="textAreaTop" r="textAreaRight" b="textAreaBottom"/>
            <a:pathLst>
              <a:path w="21600" h="28471">
                <a:moveTo>
                  <a:pt x="415" y="0"/>
                </a:moveTo>
                <a:arcTo wR="415" hR="415" stAng="16200000" swAng="-5400000"/>
                <a:lnTo>
                  <a:pt x="0" y="28056"/>
                </a:lnTo>
                <a:arcTo wR="415" hR="415" stAng="10800000" swAng="-5400000"/>
                <a:lnTo>
                  <a:pt x="21185" y="28471"/>
                </a:lnTo>
                <a:arcTo wR="415" hR="415" stAng="5400000" swAng="-5400000"/>
                <a:lnTo>
                  <a:pt x="21600" y="415"/>
                </a:lnTo>
                <a:arcTo wR="415" hR="415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82880" bIns="182880" anchor="t">
            <a:noAutofit/>
          </a:bodyPr>
          <a:p>
            <a:pPr marL="285840" indent="-112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Enter 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1126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1126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Your Body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1126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Your Body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1126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1"/>
          <p:cNvGrpSpPr/>
          <p:nvPr/>
        </p:nvGrpSpPr>
        <p:grpSpPr>
          <a:xfrm>
            <a:off x="380880" y="1724040"/>
            <a:ext cx="3840120" cy="3495600"/>
            <a:chOff x="380880" y="1724040"/>
            <a:chExt cx="3840120" cy="3495600"/>
          </a:xfrm>
        </p:grpSpPr>
        <p:sp>
          <p:nvSpPr>
            <p:cNvPr id="78" name="Rectangle 6"/>
            <p:cNvSpPr/>
            <p:nvPr/>
          </p:nvSpPr>
          <p:spPr>
            <a:xfrm>
              <a:off x="1917000" y="4343400"/>
              <a:ext cx="767880" cy="761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0"/>
            <p:cNvSpPr/>
            <p:nvPr/>
          </p:nvSpPr>
          <p:spPr>
            <a:xfrm>
              <a:off x="1917000" y="4991040"/>
              <a:ext cx="767880" cy="22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lowchart: Merge 11"/>
            <p:cNvSpPr/>
            <p:nvPr/>
          </p:nvSpPr>
          <p:spPr>
            <a:xfrm>
              <a:off x="396720" y="1954440"/>
              <a:ext cx="3808440" cy="2495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5"/>
            <p:cNvSpPr/>
            <p:nvPr/>
          </p:nvSpPr>
          <p:spPr>
            <a:xfrm>
              <a:off x="380880" y="1724040"/>
              <a:ext cx="3840120" cy="407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lowchart: Merge 16"/>
            <p:cNvSpPr/>
            <p:nvPr/>
          </p:nvSpPr>
          <p:spPr>
            <a:xfrm rot="20799000">
              <a:off x="1521360" y="1988280"/>
              <a:ext cx="745560" cy="2496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2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8"/>
            <p:cNvSpPr/>
            <p:nvPr/>
          </p:nvSpPr>
          <p:spPr>
            <a:xfrm>
              <a:off x="1917000" y="4219560"/>
              <a:ext cx="767880" cy="228600"/>
            </a:xfrm>
            <a:prstGeom prst="ellipse">
              <a:avLst/>
            </a:prstGeom>
            <a:solidFill>
              <a:srgbClr val="0070c0">
                <a:alpha val="50000"/>
              </a:srgbClr>
            </a:solidFill>
            <a:ln w="12600">
              <a:solidFill>
                <a:srgbClr val="1f497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1F8B-2625-489D-B9FD-7A36CE372FC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2T12:57:43Z</dcterms:modified>
  <cp:revision>1552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