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59B-2D4F-49AC-99ED-5D01D1E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821-FED9-4D9B-A3B9-A3247094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C90-5CBA-4810-804B-AD5F196A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E7B-97C7-45BA-BADE-B99F2DD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81D-A71C-4720-A364-083C24CD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B98-3072-4545-8558-CBC256F4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52D-A0ED-4787-AA13-BF83858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322-7726-451E-88F5-7EDDBAD6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7BA-7976-4ED4-B831-9237244A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78DE-4503-4F6E-A24C-897485DA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75E-7379-441E-B90F-279C8C4F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6F3-2377-4045-8078-1B0727FD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3683-E1F4-4105-8822-5ECD321D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1400-85EF-444B-B968-755985B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55C-E28F-418C-8829-F5EB58E2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3C4F-F263-4913-B4D6-E9814DDC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5B42-E852-46A8-869E-1EC52821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27A5-668E-4781-83F1-29ACD8E4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2BF-DA34-4112-8A23-AFDEA27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AE1E-401B-4108-916A-9935C12F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D2FB-51B3-438A-9245-E73EB3DC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CD16-5683-416E-9F57-065AEBAE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30EB-C248-4705-A708-2F57EDF0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EDB3-ECEA-41FF-9F90-860AF12E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ridgeinside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bridgetitle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04E1-C02D-4B68-B0AA-7A9576F39B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D7BA-4D3C-4045-B5FC-49AD70539DF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620280"/>
            <a:ext cx="8172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桥梁建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30680" y="645336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4764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47640" y="313992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992400" y="313992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640" y="26082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44720" y="6237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3536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11760" y="2787480"/>
            <a:ext cx="826920" cy="611280"/>
          </a:xfrm>
          <a:prstGeom prst="rect">
            <a:avLst/>
          </a:prstGeom>
          <a:solidFill>
            <a:srgbClr val="b3cc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82720" y="4402080"/>
            <a:ext cx="827280" cy="61128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851200" y="4402080"/>
            <a:ext cx="826920" cy="611280"/>
          </a:xfrm>
          <a:prstGeom prst="rect">
            <a:avLst/>
          </a:prstGeom>
          <a:solidFill>
            <a:srgbClr val="2e4c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19680" y="4402080"/>
            <a:ext cx="826920" cy="611280"/>
          </a:xfrm>
          <a:prstGeom prst="rect">
            <a:avLst/>
          </a:prstGeom>
          <a:solidFill>
            <a:srgbClr val="ffab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989600" y="4402080"/>
            <a:ext cx="826920" cy="611280"/>
          </a:xfrm>
          <a:prstGeom prst="rect">
            <a:avLst/>
          </a:prstGeom>
          <a:solidFill>
            <a:srgbClr val="0091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971960" y="27874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766880" y="2787480"/>
            <a:ext cx="826920" cy="611280"/>
          </a:xfrm>
          <a:prstGeom prst="rect">
            <a:avLst/>
          </a:prstGeom>
          <a:solidFill>
            <a:srgbClr val="1e3f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54872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8674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381708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09796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92528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87280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80700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88808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95280" y="198900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6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park_1"/>
          <p:cNvPicPr/>
          <p:nvPr/>
        </p:nvPicPr>
        <p:blipFill>
          <a:blip r:embed="rId1"/>
          <a:stretch/>
        </p:blipFill>
        <p:spPr>
          <a:xfrm>
            <a:off x="3995640" y="2960640"/>
            <a:ext cx="2454480" cy="3273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2e4c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2e4c9d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2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2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solidFill>
            <a:srgbClr val="2e4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5240" y="1806480"/>
          <a:ext cx="6551640" cy="3278160"/>
        </p:xfrm>
        <a:graphic>
          <a:graphicData uri="http://schemas.openxmlformats.org/drawingml/2006/table">
            <a:tbl>
              <a:tblPr/>
              <a:tblGrid>
                <a:gridCol w="3276720"/>
                <a:gridCol w="32749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29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149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ab57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193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873680" y="1668600"/>
          <a:ext cx="2806560" cy="1614240"/>
        </p:xfrm>
        <a:graphic>
          <a:graphicData uri="http://schemas.openxmlformats.org/drawingml/2006/table">
            <a:tbl>
              <a:tblPr/>
              <a:tblGrid>
                <a:gridCol w="1403280"/>
                <a:gridCol w="14032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3cc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4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