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22C-1FB1-4C83-AF9B-E4B4C782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CF7-E20B-44AC-BF0F-3D0D4B98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099-AC8A-40FE-A07A-B4A4F55F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470-8226-411B-94A1-696ADF28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4DD5-DE98-4B3D-A9D8-642A1540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4742-F047-4181-8289-0B102817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B26A-AEEC-4D32-B7E9-09C7BEF4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DD4C-A3A1-4B81-BB7E-F082EA37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4831-C2E2-46E5-A09C-2B6E5E1A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AAC0-6281-4D14-9469-9E1F54FE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C578-F3E0-48A8-A52D-5E61F1DB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564-6733-4F07-8455-59D11772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34CE-E8F7-4245-A3E5-62B9575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4346-C779-4919-9CAE-70E9F919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F3EC-8127-4A99-B4DE-EFB2FC01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CE50-3D7A-41DC-817E-B185A4B5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3A73-1BB5-419A-AAFE-E3DD9BD4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8B8-9782-4017-9092-58B81655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022-7150-407F-B5C9-7CE0052E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A2A-CC2D-43FA-9A97-1B612F12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D02-8207-4C32-8971-A77832DB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658-F865-42F8-9260-8A21B82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8FA-0428-4CFD-85F9-435F8377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08D-F4F6-41D6-82C0-1EFB2C89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CC04-5BBC-41C9-9193-C1D621C6C29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A1D2-93F9-46A1-9BFC-299F552DAF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9012-B2E2-4D20-9169-DCC78E3D4C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23"/>
          <p:cNvGrpSpPr/>
          <p:nvPr/>
        </p:nvGrpSpPr>
        <p:grpSpPr>
          <a:xfrm>
            <a:off x="2155680" y="4149720"/>
            <a:ext cx="1492560" cy="1492200"/>
            <a:chOff x="2155680" y="4149720"/>
            <a:chExt cx="1492560" cy="1492200"/>
          </a:xfrm>
        </p:grpSpPr>
        <p:pic>
          <p:nvPicPr>
            <p:cNvPr id="85" name="Picture 2" descr="http://www.72sc.com/png/UploadFiles_4404/200807/20080723230855590.png"/>
            <p:cNvPicPr/>
            <p:nvPr/>
          </p:nvPicPr>
          <p:blipFill>
            <a:blip r:embed="rId2"/>
            <a:stretch/>
          </p:blipFill>
          <p:spPr>
            <a:xfrm>
              <a:off x="2155680" y="4149720"/>
              <a:ext cx="149256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25"/>
            <p:cNvSpPr/>
            <p:nvPr/>
          </p:nvSpPr>
          <p:spPr>
            <a:xfrm>
              <a:off x="2537280" y="4711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智力测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26"/>
          <p:cNvGrpSpPr/>
          <p:nvPr/>
        </p:nvGrpSpPr>
        <p:grpSpPr>
          <a:xfrm>
            <a:off x="1725480" y="2273400"/>
            <a:ext cx="1730520" cy="1730160"/>
            <a:chOff x="1725480" y="2273400"/>
            <a:chExt cx="1730520" cy="1730160"/>
          </a:xfrm>
        </p:grpSpPr>
        <p:pic>
          <p:nvPicPr>
            <p:cNvPr id="88" name="Picture 2" descr="http://www.72sc.com/png/UploadFiles_4404/200807/20080723230855590.png"/>
            <p:cNvPicPr/>
            <p:nvPr/>
          </p:nvPicPr>
          <p:blipFill>
            <a:blip r:embed="rId3"/>
            <a:stretch/>
          </p:blipFill>
          <p:spPr>
            <a:xfrm>
              <a:off x="1725480" y="2273400"/>
              <a:ext cx="173052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28"/>
            <p:cNvSpPr/>
            <p:nvPr/>
          </p:nvSpPr>
          <p:spPr>
            <a:xfrm>
              <a:off x="2225880" y="2815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能力倾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性测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9"/>
          <p:cNvGrpSpPr/>
          <p:nvPr/>
        </p:nvGrpSpPr>
        <p:grpSpPr>
          <a:xfrm>
            <a:off x="3564000" y="1389240"/>
            <a:ext cx="1730160" cy="1730160"/>
            <a:chOff x="3564000" y="1389240"/>
            <a:chExt cx="1730160" cy="1730160"/>
          </a:xfrm>
        </p:grpSpPr>
        <p:pic>
          <p:nvPicPr>
            <p:cNvPr id="91" name="Picture 2" descr="http://www.72sc.com/png/UploadFiles_4404/200807/20080723230855590.png"/>
            <p:cNvPicPr/>
            <p:nvPr/>
          </p:nvPicPr>
          <p:blipFill>
            <a:blip r:embed="rId4"/>
            <a:stretch/>
          </p:blipFill>
          <p:spPr>
            <a:xfrm>
              <a:off x="3564000" y="1389240"/>
              <a:ext cx="173016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31"/>
            <p:cNvSpPr/>
            <p:nvPr/>
          </p:nvSpPr>
          <p:spPr>
            <a:xfrm>
              <a:off x="4064400" y="20696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人格测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2"/>
          <p:cNvGrpSpPr/>
          <p:nvPr/>
        </p:nvGrpSpPr>
        <p:grpSpPr>
          <a:xfrm>
            <a:off x="5465880" y="2600280"/>
            <a:ext cx="1358640" cy="1359000"/>
            <a:chOff x="5465880" y="2600280"/>
            <a:chExt cx="1358640" cy="1359000"/>
          </a:xfrm>
        </p:grpSpPr>
        <p:pic>
          <p:nvPicPr>
            <p:cNvPr id="94" name="Picture 2" descr="http://www.72sc.com/png/UploadFiles_4404/200807/20080723230855590.png"/>
            <p:cNvPicPr/>
            <p:nvPr/>
          </p:nvPicPr>
          <p:blipFill>
            <a:blip r:embed="rId5"/>
            <a:stretch/>
          </p:blipFill>
          <p:spPr>
            <a:xfrm>
              <a:off x="5465880" y="2600280"/>
              <a:ext cx="13586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34"/>
            <p:cNvSpPr/>
            <p:nvPr/>
          </p:nvSpPr>
          <p:spPr>
            <a:xfrm>
              <a:off x="5848920" y="295668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心理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康测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35"/>
          <p:cNvGrpSpPr/>
          <p:nvPr/>
        </p:nvGrpSpPr>
        <p:grpSpPr>
          <a:xfrm>
            <a:off x="3649680" y="3257640"/>
            <a:ext cx="1359000" cy="1358640"/>
            <a:chOff x="3649680" y="3257640"/>
            <a:chExt cx="1359000" cy="1358640"/>
          </a:xfrm>
        </p:grpSpPr>
        <p:pic>
          <p:nvPicPr>
            <p:cNvPr id="97" name="Picture 2" descr="http://www.72sc.com/png/UploadFiles_4404/200807/20080723230855590.png"/>
            <p:cNvPicPr/>
            <p:nvPr/>
          </p:nvPicPr>
          <p:blipFill>
            <a:blip r:embed="rId6"/>
            <a:stretch/>
          </p:blipFill>
          <p:spPr>
            <a:xfrm>
              <a:off x="3649680" y="3257640"/>
              <a:ext cx="135900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37"/>
            <p:cNvSpPr/>
            <p:nvPr/>
          </p:nvSpPr>
          <p:spPr>
            <a:xfrm>
              <a:off x="4033080" y="361404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职业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趣测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38"/>
          <p:cNvGrpSpPr/>
          <p:nvPr/>
        </p:nvGrpSpPr>
        <p:grpSpPr>
          <a:xfrm>
            <a:off x="4983120" y="4273560"/>
            <a:ext cx="1494000" cy="1494000"/>
            <a:chOff x="4983120" y="4273560"/>
            <a:chExt cx="1494000" cy="1494000"/>
          </a:xfrm>
        </p:grpSpPr>
        <p:pic>
          <p:nvPicPr>
            <p:cNvPr id="100" name="Picture 2" descr="http://www.72sc.com/png/UploadFiles_4404/200807/20080723230855590.png"/>
            <p:cNvPicPr/>
            <p:nvPr/>
          </p:nvPicPr>
          <p:blipFill>
            <a:blip r:embed="rId7"/>
            <a:stretch/>
          </p:blipFill>
          <p:spPr>
            <a:xfrm>
              <a:off x="4983120" y="4273560"/>
              <a:ext cx="14940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40"/>
            <p:cNvSpPr/>
            <p:nvPr/>
          </p:nvSpPr>
          <p:spPr>
            <a:xfrm>
              <a:off x="531648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创造力测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928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2160" y="6937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气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55FC-3015-440E-929F-0E097075BD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02:51Z</dcterms:modified>
  <cp:revision>105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