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E80A-D390-499C-9AD4-A4299B7D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DF53-F20A-4012-8058-7BC2632D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C3001-AFD4-41AF-8155-F3D4FED0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C2863-278C-4213-8C2B-82D7A269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13C7F-C39D-438C-ABBD-1D510A9E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40103-C3CA-4AC5-9C5C-1E51BA8B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1F8D8-F85B-4161-A2E2-91357439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75189-98AB-4F6B-A9FF-7A1020C7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34723-D5F0-4588-837E-7689207B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A33C3-C5FD-480E-A940-CC94141B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2A093-184B-4AE1-9846-09130684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06F75-BA04-4614-AEAC-AA1FF04B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9ED6-D9BA-4A23-B51C-F53208EB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5C510-112B-4BC4-A6B7-4FF9A28E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418D7-D24E-4F88-B0CF-478D1194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00D54-7BC4-4112-90ED-77DCB737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49324-34D8-4CD9-806E-22937201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A61AF-C063-4552-999F-B2D9EF3A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D7C1C-80D9-4159-825C-85CF62D3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6B2C5-6E0B-43B4-845C-D8156C16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FA998-EDBC-432B-8A9F-0005C194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BE818-3EE9-42D5-AF3D-DE8FA9C0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D29BD-6CCF-48CA-ABCF-C4149BBD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86C-8D52-4286-BF9C-A4F2DC14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A7DEE-51CF-4886-94D5-AD801F35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EAC7F-041F-4E28-AF73-7AB88378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C9FF1-26B7-41BA-A363-25F5748D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AE56D-E6D8-41B6-91FA-F4B0E5F7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ABF74-230A-4397-A0D0-9EF661A6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AF09E-9A38-47E1-A866-FC87A0C2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58EE0-ED6D-4F92-B78F-48BF4BA3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B0477-0658-4593-8AC8-AC889E56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1EABE-D7EA-41C7-81AE-62A92281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DBBAD-3393-4B5B-9C1C-218D18D3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BDF2-EE18-400E-8CD7-9005B802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43123-A551-4AF4-A456-BE2D95DF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C643C-E70A-42A0-AEC5-570432B3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B286E-809B-4706-9EE4-505EF556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B6897-5309-49C9-9F33-497BE488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84C7B-2CB1-45FD-8EAC-0563A9EC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D9F73-547E-4A5D-969D-6D2027C2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9C01B-11AE-473F-9F40-5ED40A43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0387D-24CE-4249-A439-002CFC7D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9056D-FB03-4005-8070-1D6688D6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6A055-190E-4C7A-BB5C-692C98E7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FEC6-C8E8-400C-93A3-D755FDDC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FF086-D9A1-4173-9F2E-237EC137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FCD82-70DB-403C-9238-1B454605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9A2B5-FF74-4984-B9C8-ED0890B9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AC119-28BF-49A0-9D9F-D187EBFE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CE2E2-E6A7-490C-918C-AFED98E9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89F48-BA6E-429F-94E4-0266B845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74680-7BB4-4BC8-839A-0BD08580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9D2F6-D9D1-4CB6-BDB5-540044DA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92017B-65E1-4329-B9A0-CB050D91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F511DC-0BFA-48D9-A548-0F33D279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471C-205A-4D82-BED9-424CE72D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118CC3-B23E-4AF8-A13A-D95F764D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BD47F-2BAC-417D-861C-89932B6D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98619-995F-4FAF-8697-4E699593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51711-225B-4F35-B306-42B034D8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DF62B-92F9-45CC-ACB1-FDAFEF8A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D87D6-D314-44A7-95DE-2E449F85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5D009-A7C7-4C4A-9064-26657500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B191-6166-4422-AA04-60E65FA1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67CB-B683-47C2-9C41-24C7673F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FE3A-9FBD-461F-AD4A-E6F637A3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2BB7-5A73-4390-B78F-99CD3C02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D1C9-6E5A-4485-BC75-1F53572C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F355-FD38-4BBA-99B9-6C0A3A21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098A-E376-492E-B3BD-0B241D54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AE96-16DD-4654-8646-3EF33A8E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AEA0-4E8B-4908-9C06-AB8A5014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85AE-1CF8-4762-9D0D-16787D7EB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A72A9-63E3-4171-ABE3-D1D5CE42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6FA6B-DC75-4619-8758-58C2EACF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71785-3F6A-46D9-9209-90BA9CD6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2E865-4E35-42C2-A485-4A11975A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090AF-4E02-4ACD-B595-4CC942F1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C521-0802-4468-85DC-C918C20A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C17FE-4158-4081-9174-3032A3BB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F9A84-626C-4DEF-9C41-58C3F6AA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A581B-B3E8-4B05-8B41-F01AA7DA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18136-DFB4-4C03-8976-8C76159D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19B01-BF96-453E-A990-858819CA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6D58A-5752-47D6-B25E-B8517513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57EFB-34DE-4FE8-9501-EDA7F085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FE545-C1A5-44CD-8A56-145E3FF1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E7471-8A7E-4632-962E-426D9BC1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F3FBC-C94E-4231-A56D-25B99476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8001-74CC-4261-95A0-2E8481D0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B3657-A9C8-4B95-9205-ECD8EC12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ABD00-38B2-431A-BF19-52928EDC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1F0AD-CA53-413C-ACB8-041E9CC2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31AF0-3E86-4B2C-A8A5-6E9B0198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60B2F-C7FB-4440-873B-17FADEF6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5BA88-0100-4761-837A-3F06BB36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0520A-87F4-43ED-AAF5-BACE30EC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D5E20-F8C7-4B11-BF72-7BC2AF87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33A50-4616-4F42-8E77-66278E0D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BB4F7-EB58-4FE4-B028-1A7891A2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E2B5-5C7A-4A3F-91A7-6EEC72FB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73EA4-095A-45FE-BCE5-94BBB0F7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3401A-572B-4EB0-B634-F8DE8A5B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75CF7-A5DB-4A60-AA51-274FC716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317D2-5FD5-4D6A-B60E-C6BD8FDF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6A4C7-924D-411F-BE03-21C3B4E3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058B2-275D-4C0A-A845-373FE208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99E88-80E2-4DBB-8A99-04D373AC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D6E37-E283-414D-9176-F482FC03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4F569-D63F-4D82-81BE-EF461206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9374D-F8EE-4662-A8C9-A896F96D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AC1D-D57F-4923-A998-B125A2AC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B88AD-62BC-4F55-A936-C41D9631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BAC4F-8EFB-4ABA-8883-5226B961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D0402-174A-4D07-A5C7-1A8888DB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8AB97-B9E8-42DD-91BE-EF3B25DC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D3939-F279-4192-A2AC-AC6BF556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F2EE6-372A-45F5-ABAC-A19B122B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3F69D-4A7C-481C-8058-D6EDA79E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55E80-B816-4074-8CF3-885534C7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1D46C-1118-4E22-B513-68D6B6C8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DFC53-AEED-40B5-9E96-DD75C975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52B-AA9C-4EC3-9A8E-9AF22997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F2249-BD59-45BF-A7B6-83EC5CCC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17AA1-4176-4F62-ACE6-B28B1F18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288A8-129B-4A4C-B75C-EEF4878B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48AA8-AD04-45EC-B330-16B56D21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4D61E-AAEB-42FA-B942-210E187B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3DFCF-87CA-4323-8EBD-D303F119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FEE59-0A67-44BB-9387-4F03F2A0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8C910-3A23-47DB-A251-10951D7F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B9698-053C-413C-85C9-1EFE3E51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4BB14-7541-414C-BAA8-0B3A17B0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84C-1194-413B-8EF3-D907EFBD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36BD5-EEF7-4C11-A790-E73A96FE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18901-1A87-4BFF-985A-C9326266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E2D3B-849F-4828-A613-71B0021A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C2FF6-6064-45E3-B0A9-D4D49FD6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1F5A3-9106-4258-A8D1-E3A09ABA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A36ED-D910-41CA-AFDF-C7DDEC2D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53D63-C942-46AE-A625-97711C39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49943-02DE-47E0-898C-81E02F22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27412-269B-4CD8-992F-BF07D7A4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01E0F-171E-4D63-9F56-F1C992C6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AF28-34BA-4F65-894C-A5BC0A0C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F5414-2A72-408A-ADE3-4A2252F3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33DB5-0D9A-4392-ACE0-8130F3B3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64691-8C59-4BFC-9C1B-E0DDE1A3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BF3A9-F567-4230-A1E4-BD93501D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52206-5961-4413-A6D6-E67AAB3D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F5C9D-410C-4A73-9003-C9F4F1D8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61479-546E-44DC-8984-6E098A04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7A851-EBD4-40FB-BB0A-0B54922C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D576C-E8A1-4BF6-B9C0-7C4A13C4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77891-6F2B-46C6-81FD-4AB98818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C0BB-5C0E-49F1-A3F3-932085FAB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A324-65C3-4A49-9455-E5C45E4FED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2643-EED7-4268-9E9A-F05EADD1B0B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CFC1-6531-44A3-8743-67DD603549D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F163-5620-4A85-9443-80DC9357AD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9067-E0EC-4E7D-9965-DB8DC2BD4C4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2056-9F77-4C7D-B5BA-F44C058FCB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9223-D9A8-4583-ACA4-E1B36D3278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CC16-BA63-4E19-AA83-DFA13D9C62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7502-0898-407F-97A7-4B93D4A3BB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C582-E14F-4696-A866-3BDBE3B802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0155-B618-4F64-9F22-B5A832E8EE7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837E-D8E5-4D82-9AEA-F9EA69C84C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图片 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矩形 1"/>
          <p:cNvSpPr/>
          <p:nvPr/>
        </p:nvSpPr>
        <p:spPr>
          <a:xfrm>
            <a:off x="0" y="1557360"/>
            <a:ext cx="9144000" cy="33116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8712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e4649"/>
                </a:solidFill>
                <a:latin typeface="Arial Unicode MS"/>
                <a:ea typeface="Arial Unicode MS"/>
              </a:rPr>
              <a:t>浅谈安全管理体系的实施</a:t>
            </a:r>
            <a:r>
              <a:rPr b="0" lang="en-US" sz="4000" spc="-1" strike="noStrike">
                <a:solidFill>
                  <a:srgbClr val="1e4649"/>
                </a:solidFill>
                <a:latin typeface="Arial Unicode MS"/>
                <a:ea typeface="Arial Unicode MS"/>
              </a:rPr>
              <a:t>PPT</a:t>
            </a:r>
            <a:r>
              <a:rPr b="0" lang="zh-CN" sz="4000" spc="-1" strike="noStrike">
                <a:solidFill>
                  <a:srgbClr val="1e4649"/>
                </a:solidFill>
                <a:latin typeface="Arial Unicode MS"/>
                <a:ea typeface="Arial Unicode MS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5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何抓安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思路：抓安全就是消除隐患，预防事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抓安全要在防字上下功夫：防为上，救次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安全才有效益                 出了事故，追悔莫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7" descr="1119109278_FZaims"/>
          <p:cNvPicPr/>
          <p:nvPr/>
        </p:nvPicPr>
        <p:blipFill>
          <a:blip r:embed="rId1"/>
          <a:stretch/>
        </p:blipFill>
        <p:spPr>
          <a:xfrm>
            <a:off x="395280" y="3789360"/>
            <a:ext cx="3809880" cy="27129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8" descr="0016364f1e8302420c2102"/>
          <p:cNvPicPr/>
          <p:nvPr/>
        </p:nvPicPr>
        <p:blipFill>
          <a:blip r:embed="rId2"/>
          <a:stretch/>
        </p:blipFill>
        <p:spPr>
          <a:xfrm>
            <a:off x="4788000" y="3789360"/>
            <a:ext cx="40320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何抓安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首先我们谈下硬件管理：硬件管理就是把设备设施和环境的完好，重点是提高先进性可靠性稳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里我们看一下在很多企业中推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0" y="206064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5" descr="251434_b"/>
          <p:cNvPicPr/>
          <p:nvPr/>
        </p:nvPicPr>
        <p:blipFill>
          <a:blip r:embed="rId1"/>
          <a:stretch/>
        </p:blipFill>
        <p:spPr>
          <a:xfrm>
            <a:off x="4572000" y="2060640"/>
            <a:ext cx="4572000" cy="479736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整理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义：区分要与不要的东西，职场除了要用的东西以外，一切都不放置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的：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空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腾出来活用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整顿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义：要的东西依规定定位、定方法摆放整齐，明确数量，明确标示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的：不浪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找东西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S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清扫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义：清除职场内的脏污，并防止污染的发生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的：消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脏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保持职场干干净净、明明亮亮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S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清洁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义：将上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实施的做法制度化，规范化，维持其成果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的：通过制度化来维持成果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S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素养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定义：培养文明礼貌习惯，按规定行事，养成良好的工作习惯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的：提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的品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成为对任何工作都讲究认真的人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效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节约家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ing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降低很多不必要的材料以及工具的浪费减少“寻找”的浪费，节省很多宝贵的时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降低工时，提高效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安全有保障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洁有序的办公环境，设备车辆一目了然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遵守堆积限制，危险处一目了然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会造成杂乱情形而影响工作的顺畅及安全生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标准化的推动者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atio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家都正确的按照规定执行任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程序稳定，带来品质稳定，成本也安定，安全就有了保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何抓安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次我们谈一下软件管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软件管理就是着重把各项规章制度、业务流程等一系列制度建立并不断地完善起来，并能有效的保证这些制度规程能被一丝不苟的实施下去！我总结了几项重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管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管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管落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安全管理的重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管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思想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树立员工正确的人生观价值观安全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行为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严格按照工作准则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习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强化培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5" descr="boerer502342"/>
          <p:cNvPicPr/>
          <p:nvPr/>
        </p:nvPicPr>
        <p:blipFill>
          <a:blip r:embed="rId1"/>
          <a:stretch/>
        </p:blipFill>
        <p:spPr>
          <a:xfrm>
            <a:off x="4643280" y="2133720"/>
            <a:ext cx="4032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安全管理的重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管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做什么？如何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完成什么目标？遵守什么规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执行什么标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采取什么样的方式方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追求什么样的效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6" descr="20070409161615902"/>
          <p:cNvPicPr/>
          <p:nvPr/>
        </p:nvPicPr>
        <p:blipFill>
          <a:blip r:embed="rId1"/>
          <a:stretch/>
        </p:blipFill>
        <p:spPr>
          <a:xfrm>
            <a:off x="4643280" y="2060640"/>
            <a:ext cx="4032360" cy="424800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安全管理的重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管落实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用什么方法落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谁来落实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什么时间落实？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5" descr="boerer502338"/>
          <p:cNvPicPr/>
          <p:nvPr/>
        </p:nvPicPr>
        <p:blipFill>
          <a:blip r:embed="rId1"/>
          <a:stretch/>
        </p:blipFill>
        <p:spPr>
          <a:xfrm>
            <a:off x="4643280" y="2133720"/>
            <a:ext cx="4032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的演讲结束谢谢各位领导同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：相关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们总在谈安全生产，那么什么是安全？什么又是危险？有没有明确的定义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安全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fety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传统定义：远离危险的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古人讲“无危则安，无缺则全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6" descr="温馨家庭"/>
          <p:cNvPicPr/>
          <p:nvPr/>
        </p:nvPicPr>
        <p:blipFill>
          <a:blip r:embed="rId1"/>
          <a:stretch/>
        </p:blipFill>
        <p:spPr>
          <a:xfrm>
            <a:off x="4643280" y="2133720"/>
            <a:ext cx="40323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安全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fety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现代安全管理思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安全就是人们把风险控制在可以接受的水平以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安全是系统的固有特征，能够保证系统在人们可以接受的风险水平下运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6" descr="dtxxpic"/>
          <p:cNvPicPr/>
          <p:nvPr/>
        </p:nvPicPr>
        <p:blipFill>
          <a:blip r:embed="rId1"/>
          <a:stretch/>
        </p:blipFill>
        <p:spPr>
          <a:xfrm>
            <a:off x="4643280" y="2133720"/>
            <a:ext cx="403236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安全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fety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安全的定义是随着安全经济学的出现而发生了根本性的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20071021213905338"/>
          <p:cNvPicPr/>
          <p:nvPr/>
        </p:nvPicPr>
        <p:blipFill>
          <a:blip r:embed="rId1"/>
          <a:stretch/>
        </p:blipFill>
        <p:spPr>
          <a:xfrm>
            <a:off x="4643280" y="2205000"/>
            <a:ext cx="40323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危险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zard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定义：事物处于一种不安全状态，将可能导致一种事故或者一系列的损害或损失事件的出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5" descr="火灾5"/>
          <p:cNvPicPr/>
          <p:nvPr/>
        </p:nvPicPr>
        <p:blipFill>
          <a:blip r:embed="rId1"/>
          <a:stretch/>
        </p:blipFill>
        <p:spPr>
          <a:xfrm>
            <a:off x="755640" y="4149720"/>
            <a:ext cx="3672000" cy="23749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6" descr="油罐车失火"/>
          <p:cNvPicPr/>
          <p:nvPr/>
        </p:nvPicPr>
        <p:blipFill>
          <a:blip r:embed="rId2"/>
          <a:stretch/>
        </p:blipFill>
        <p:spPr>
          <a:xfrm>
            <a:off x="5076720" y="4149720"/>
            <a:ext cx="3598920" cy="242568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：什么是安全第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针的概念：引导事业前进的方向和目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安全第一”是指在生产经营活动中，在处理保证安全与生产经营活动等的关系上，要始终把安全放在首位，优先考虑从业人员和其他人员的人身安全、设备设施安全和环境的安全，实行安全优先原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：什么是预防为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预防是按照系统化、科学化的管理思想，按照事故发生的规律和特点，千方百计地预防事故的发生，做到防患于未然，将事故消灭在萌芽状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6" descr="消防学习2"/>
          <p:cNvPicPr/>
          <p:nvPr/>
        </p:nvPicPr>
        <p:blipFill>
          <a:blip r:embed="rId1"/>
          <a:stretch/>
        </p:blipFill>
        <p:spPr>
          <a:xfrm>
            <a:off x="4572000" y="2133720"/>
            <a:ext cx="41418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四：如何抓安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管理硬件与软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质上讲包括硬件和软件管理两个方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者之间的关系是硬件是基础，软件是关键，彼此影响，彼此制约，相互依存，互为因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1:59:1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47:48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