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F807-DF92-4E55-A6EB-2FBDC202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2EF5-6098-48BD-B796-EEC8A4F6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870C1-AC3D-4849-806C-919E8654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0E1E2-0EED-4BD3-BA53-A9692E9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B6126-07FB-482C-8A78-2A43C7A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804D6-87F1-45BA-AFC0-0064B4D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6647B-7640-465D-925B-A62B884B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8DD9-C864-4B8E-AEC8-3E27232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1BAD0-D400-4749-AE27-D75DC95C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319A6-6EB6-4DC9-85A9-0C476B10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3D2DF-FE88-4CEE-A833-DDCE378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09E00-E778-4ED2-A22A-5DF4B870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72914-404D-4273-B587-38398A4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2F27C-9EB2-4AFE-8017-BA4B14D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F1C94-1197-4CEC-8A69-DBA19A0C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ABDB4-A5D2-4F38-80F8-17DB365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D1216-D703-49D3-B86D-8C6AA6D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32DA-981A-441F-9DD0-C9630F9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87D62-6C4E-43BF-AEBD-470E838A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44831-6A7F-435E-A294-C875599C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2971-9E81-49D4-A824-49EBC840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A5B27-C200-4F2B-B8A7-20D422F1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5B1E8-DDF3-40AD-B33F-ABCFCD7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CE582-BCDD-4422-9977-8509AC64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E20E6-EDB3-4F28-87DE-7D8D7F0D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78870-2A78-4224-BA11-2481CCC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886FE-C571-4D4B-9B13-59C84BD5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3CACB-3919-414A-B302-5B23966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E96DD-AC0C-41EC-87EA-AB77D3DD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FDEB7-2746-4C21-B7F3-9A9BB649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637-295C-458D-A600-BE474FFA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01578-EEF9-47B7-8949-4F060D2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B2E04-6F60-4064-B180-4796EA1A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7901-E52F-4261-9E84-C98996A2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FAFCB-7F95-4D5E-9AE3-66A05B8C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AB03B-FA9F-467D-99AA-B2A6CDF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8D8C2-AD2B-4158-ACA5-B3ED9EC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B121A-2A10-4CC3-A65D-8A318798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6013-5BD0-4E2E-9E2C-3680F571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702F1-F904-4604-97AB-83CC5DB8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7F9DE-AB4B-41EC-8568-144D398C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AC5-9E10-4838-A7B9-FEFAC129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726B9-F351-470F-AB78-E41F634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FED7-BA61-4002-A372-D566925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E9979-1F04-44C5-9873-3A5C71F2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98BB0-6689-4F36-B6ED-0CF27EF9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6A23C-6B45-40F4-9415-AEBD2A67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8FC0A-F0DC-4917-86F2-C69B65DD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20390-7BA5-4894-A808-0FB48845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F20F2-5C08-4177-B70D-982FF49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57716-148F-4D64-8891-BD44736E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E8063-7D9F-49A8-83F2-6C331163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6B0-71CF-40C1-BCED-EDAF2AE7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910DA-D2D2-4F2C-A473-F8D168CB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7C44E-EF59-4C27-8ECB-4517D918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ED922-B47D-4A5F-A267-919F8DFC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229E6-5973-4114-8123-5628BCF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CC5F9-66FF-448C-BDDA-B09BF7C5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F526E-237B-4108-BCBD-49959E76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A9E68-B267-4261-9214-BCFEEB27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3E5-A3FA-4C51-9D27-B515E27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795-00E6-4939-B19C-555DC68E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AA6-8DEF-461A-AF41-4AC54D41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F62-25D6-4153-8165-251FDF3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67C-D20A-4A24-B9F6-B3B16BD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F48-7D12-4CCB-8EF9-CAD8DB32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F11-6916-48B0-8A3B-036C18E2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0FA-65B9-4B53-A4B1-A2B6A588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9AF-0A7A-41F6-9B6F-3CD66607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C6B4-3C25-482F-AE25-87B8E467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80E9-CD04-40EC-9C1D-DACC2D5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E0FC-773F-4689-980A-318ACEE8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78D5-1F27-4C45-94AE-57FCFF6E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42CB-4D38-46E2-80E1-9D1B569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2535-5724-43A2-AD35-0203AEC0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4738-C0BE-46B6-BA9E-503B044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FC18-A12A-4EC4-B97C-8BB8BE09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8385-F0F7-487D-AF9D-C85E0E8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4C4F-CC71-44F7-8E66-F07DB4A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6F54-CFCD-400D-ADAD-C89CA73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0BED-B3BE-4286-A585-C4569FCC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3EA3-2A52-463D-9410-45C85837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13E4-0DA4-4698-A090-D9551547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34D4-5F15-43D8-9461-771C0C0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E7BA-C804-47F9-B084-3DD32E5A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5EC5-8B2B-41C0-8CAF-D6EBAF93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D915-DCAB-4B4E-9E3E-CA1D5F7A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1F36B-3A9D-4576-ACA6-A535D07F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0A6FB-1EAC-4024-8634-49159275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7459-1524-4B5E-B3A5-87C7B21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D0A1-8114-4F85-A2A0-14B425F7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1DB2-8D38-43C1-AC1C-DC8D3F38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23D9-83F3-41D7-A424-7E90F2EA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C0EE-B650-4130-82BD-FA15F93A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FE0C-D778-4E27-B22F-721CB0F5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D8B8-E8A7-4C8E-83CE-135C179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2181-9993-45E7-8EF0-2892CFF5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03F1-429B-403F-A8D5-C91A464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33FE-3468-4339-B9BF-2DCFC2DE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51583-699A-4B58-9F16-D279627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E570-E01F-42E3-AF03-F0543AA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B079-93F0-45F9-8142-17215CD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D291-D0B1-4701-A56E-734081E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1A7F-C7F4-4C6C-89E2-EC5F5476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01E1-DAB4-4927-A680-18DF9153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367B-B4DB-4D08-A70C-23448359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8BE6-CF25-41C0-8B3F-0ABDD15A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E902-21E3-495E-93A6-A0D9C93B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0B24-9895-41EA-B552-D9D177A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6916-FEB1-472C-81F8-022983FC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46CCD-41D6-4246-8275-7E6C0B7F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D249-BD21-41D8-93D0-3B697B8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83CD-D683-44C1-9000-5BC2747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04CF2-77D5-46CC-93D0-284E05C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BE7A-DBEE-49D6-85F0-BC71356F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6ED46-0BE2-4B73-854D-EA522138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D2CA-0C84-4E3B-A810-E118FCA3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E9691-2C82-452C-8821-4768729A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E42CC-26D2-40B4-9760-C9E1AAC4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6619-9AF2-4037-94EF-C91E5D1C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97F6D-3893-40AD-90C5-0A5F879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225F-91FD-4C76-81BA-1FDFA167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B9A9-0D0C-4007-B557-3FC6E8A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E10A2-FA87-4CE7-BD1F-3147BF3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D26E-AB20-4CA3-9EE3-8165582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D78C-04E9-4EA3-BDB1-D2F9444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ED3D-CEE1-48DF-BAE4-17FF8570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2F9F-AB29-4F12-898E-9A81EA70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19BA3-6A92-4CE8-B94A-C6A9FA6E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E4822-F55A-4178-A57A-19FDCEC6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A23B-C60C-4CD9-AB53-640B0285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BD893-DE45-44B8-9DC4-1B83024D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A104-C027-46B7-91BE-1691CE1F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9A0B5-ACEA-4C96-890D-CB0270B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ACCE-CD89-450C-B028-DD6D6C9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AB48-7A7A-4419-B560-D5F3EA26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3CB2-4D42-4949-880E-99ED3B3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2CE85-4BA9-49B0-B9DC-7F6EB70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7424C-F6B2-488F-A28A-812479A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AC490-68D9-431C-8A18-CF6D551A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A14DC-4E0F-41E9-8369-AC784A6B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9497F-C96C-41EA-A743-9EE44798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5A926-59A6-4F5C-93C9-E16DE53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2BBF0-7CB3-4060-967F-210DB4C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FE7-4439-4D7E-90FE-CA06BF0D7D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CC19-0D62-4A68-86C8-5042C50A8A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508-C384-4422-B22E-19BE6DDF8C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4AA-00D7-4DE3-82A0-5170353291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04A-CE3A-44ED-BD50-534379DD87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A571-1802-48D6-BACF-E744C6C12C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C0EC-67FA-47C0-8A1A-64ADA77E93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866-4E67-4D90-A374-434962B68E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4B3-9C25-4E07-981B-50665BF7A8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0D4-B2FE-41C1-ACC0-7332FE234E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C96D-E656-4C21-81BB-334983D20C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CB03-BDE8-463B-A2FC-F0CC2C75F4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求富路社区公共文化服务体系建设总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矩形 1"/>
          <p:cNvSpPr/>
          <p:nvPr/>
        </p:nvSpPr>
        <p:spPr>
          <a:xfrm>
            <a:off x="1953360" y="836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区文化服务体系建设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基础概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如画的生态景观，和谐的人际关系，多彩的文化活动，这里就是广东省优秀文化社区、东莞市文化标兵社区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求富路社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大力开展文化艺术活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求富路社区位于大朗镇中心区，毗邻松山湖科技产园，面积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.69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平方公里，户籍人口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42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多人，新莞人近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万多人。社区共有灯光球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，文化广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，村史馆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，图书馆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健身器材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5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套，宣传长廊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条。求富路每年对本地居民、新莞人、青少年等不同类的服务人群开展文化活动需求调查，有针对性地开展了一系列文化艺术活动。如：开展了“家庭教育”、“普发教育”、“道德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等知识传播活动？场，年播放电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场，举办文艺展演？场，年办篮球比赛、羽毛球比赛、兵乓球比赛各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场。并在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月，由社区组织举办了第一届才艺大赛，给参赛者提供展现自我的平台，也为社区挖掘了一批文艺术人才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着力打造“书香社区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求富路积极利用图书馆、村史馆、文化资源，以开展知识传播活动为载体，着力打造“书香社区”，不断丰富社区居民的文化内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引进社工组织，创新文化服务模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月成立了社区综合服务中心，中心以常规服务月特色服务结合，做到天天有服务，周周有活动，月月主题。中心自成立以来，共举办了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小组和活动，服务人次达到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72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保障措施到位，确保文化工作顺利开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求富路在文化建设保障措施做到了以下几点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一）领导重视是前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二）经费到位是保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三）宣传领导是抓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四）形成合力是关键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4:11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8:10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