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2546-2240-44CF-A632-AD66D9D8F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F93D-41F0-49DC-85E9-2AD48DC3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81F3-ADF9-4F4B-ADC5-FE2ABBC32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4176-1B80-44BF-8714-E5DF4340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CE90-3028-4899-AED9-81009BFC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585B-35AD-4F1B-AF17-3E5FD0CD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307F-97A4-45D6-A3E3-6F51EA23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472F-D3CB-4A1A-B957-255B0714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DBC3-DCBE-4FB5-92D7-C143AAEE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281E-3E05-43E0-A1FA-218CC6E6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48D1-8244-4A6E-96BF-6072530E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02E0-623A-4B4A-809A-D2A769ED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9B30-1FC7-48B6-B3B2-B8CC9FEAC83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F926-5062-4410-A886-B11C6F2F3C4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beijing/" TargetMode="External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6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2360" y="6237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99920" y="98100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时尚绚丽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6"/>
          <p:cNvSpPr/>
          <p:nvPr/>
        </p:nvSpPr>
        <p:spPr>
          <a:xfrm>
            <a:off x="4716360" y="1917720"/>
            <a:ext cx="4248360" cy="4941720"/>
          </a:xfrm>
          <a:prstGeom prst="rect">
            <a:avLst/>
          </a:prstGeom>
          <a:solidFill>
            <a:srgbClr val="0099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932360" y="2060640"/>
            <a:ext cx="40435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我想，我是不是好久没有认真的看一下这个美丽的世界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是不是好久好久没有好好的欣赏一下这个美丽的世界</a:t>
            </a:r>
            <a:r>
              <a:rPr b="0" lang="en-US" sz="1800" spc="-1" strike="noStrike">
                <a:solidFill>
                  <a:srgbClr val="ffffff"/>
                </a:solidFill>
                <a:latin typeface="华文仿宋"/>
                <a:ea typeface="华文仿宋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是不是好久好久没有抬头仰望一下那似海水一般湛蓝的天空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是不是好久好久没有舒展一下紧蹙的眉头，把嘴角上扬会心的微笑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仿宋"/>
                <a:ea typeface="华文仿宋"/>
              </a:rPr>
              <a:t>是不是好久好久没有静下心来，尽情地享受一下属于生命的美好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5" descr=""/>
          <p:cNvPicPr/>
          <p:nvPr/>
        </p:nvPicPr>
        <p:blipFill>
          <a:blip r:embed="rId2"/>
          <a:stretch/>
        </p:blipFill>
        <p:spPr>
          <a:xfrm flipH="1">
            <a:off x="107640" y="260280"/>
            <a:ext cx="4824360" cy="6597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4"/>
          <p:cNvSpPr/>
          <p:nvPr/>
        </p:nvSpPr>
        <p:spPr>
          <a:xfrm>
            <a:off x="1187280" y="4653000"/>
            <a:ext cx="6624720" cy="2206440"/>
          </a:xfrm>
          <a:prstGeom prst="rect">
            <a:avLst/>
          </a:prstGeom>
          <a:solidFill>
            <a:srgbClr val="99cc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332000" y="4869000"/>
            <a:ext cx="6624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华文仿宋"/>
                <a:ea typeface="华文仿宋"/>
              </a:rPr>
              <a:t>那一片天空，很美。不经意抬头，却望见了不知名的宁静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华文仿宋"/>
                <a:ea typeface="华文仿宋"/>
              </a:rPr>
              <a:t>夜，深了，静了，天光似水一样清凉温柔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华文仿宋"/>
                <a:ea typeface="华文仿宋"/>
              </a:rPr>
              <a:t>越来越喜欢夜晚，虽然一片漆黑，却能体味到一直缺乏的安全感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华文仿宋"/>
                <a:ea typeface="华文仿宋"/>
              </a:rPr>
              <a:t>因而，心也会变得少有的宁静，退去浮华，回归清澈透明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4"/>
          <p:cNvSpPr/>
          <p:nvPr/>
        </p:nvSpPr>
        <p:spPr>
          <a:xfrm>
            <a:off x="250920" y="3551400"/>
            <a:ext cx="3529080" cy="3306600"/>
          </a:xfrm>
          <a:prstGeom prst="rect">
            <a:avLst/>
          </a:prstGeom>
          <a:solidFill>
            <a:srgbClr val="ff33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63160" y="3717720"/>
            <a:ext cx="373212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华文仿宋"/>
                <a:ea typeface="华文仿宋"/>
              </a:rPr>
              <a:t>爱，我爱这个夏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华文仿宋"/>
                <a:ea typeface="华文仿宋"/>
              </a:rPr>
              <a:t>爱，我爱那娇艳的花朵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华文仿宋"/>
                <a:ea typeface="华文仿宋"/>
              </a:rPr>
              <a:t>爱，我爱那茵茵的绿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华文仿宋"/>
                <a:ea typeface="华文仿宋"/>
              </a:rPr>
              <a:t>爱，我爱那绵绵地细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华文仿宋"/>
                <a:ea typeface="华文仿宋"/>
              </a:rPr>
              <a:t>爱，我爱那温暖的阳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华文仿宋"/>
                <a:ea typeface="华文仿宋"/>
              </a:rPr>
              <a:t>爱，我爱这个世界上所有的美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9301-FD92-49F3-ACFF-1A01108F97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5"/>
          <p:cNvSpPr/>
          <p:nvPr/>
        </p:nvSpPr>
        <p:spPr>
          <a:xfrm>
            <a:off x="0" y="4508640"/>
            <a:ext cx="8677440" cy="1584360"/>
          </a:xfrm>
          <a:prstGeom prst="rect">
            <a:avLst/>
          </a:prstGeom>
          <a:solidFill>
            <a:srgbClr val="ffc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920" y="4689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仿宋"/>
                <a:ea typeface="华文仿宋"/>
              </a:rPr>
              <a:t>河流弯弯，记录岁月哀愁。小溪潺潺，承载流年往昔。记忆，越来越淡了，淡得似乎已想不起你的容颜。印象，越来越浅了，浅得宛如那天边的云彩，一阵风就会将它吹散。记忆，容颜，印象，吹散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3636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6453360"/>
            <a:ext cx="580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背景图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6"/>
          <p:cNvSpPr/>
          <p:nvPr/>
        </p:nvSpPr>
        <p:spPr>
          <a:xfrm>
            <a:off x="5508720" y="692280"/>
            <a:ext cx="3384360" cy="6165720"/>
          </a:xfrm>
          <a:prstGeom prst="rect">
            <a:avLst/>
          </a:prstGeom>
          <a:solidFill>
            <a:srgbClr val="ff0066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616360" y="691920"/>
            <a:ext cx="325116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仿宋"/>
                <a:ea typeface="华文仿宋"/>
              </a:rPr>
              <a:t>路旁的花，色彩斑斓，开得妖娆灿烂，暗香浮动。浓春烟景，似人间仙境。岁月悠悠，时过境迁，人非物换，悲喜无常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仿宋"/>
                <a:ea typeface="华文仿宋"/>
              </a:rPr>
              <a:t>急景流年里，我只愿用一颗永恒的心去应对人生的风风雨雨，喜怒无常。流深静水，往事如烟云。唯愿记住快乐，忘却痛苦。记住欢喜，忘记悲凉。将美好的曾经和过往，永久珍藏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仿宋"/>
                <a:ea typeface="华文仿宋"/>
              </a:rPr>
              <a:t>好好爱，别让美丽变尘埃。给自己一份好心情，让世界对着你微笑：给别人一份好心情，让生活对我们微笑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图片 5" descr=""/>
          <p:cNvPicPr/>
          <p:nvPr/>
        </p:nvPicPr>
        <p:blipFill>
          <a:blip r:embed="rId2"/>
          <a:stretch/>
        </p:blipFill>
        <p:spPr>
          <a:xfrm flipH="1">
            <a:off x="0" y="1268280"/>
            <a:ext cx="5192640" cy="574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55640" y="630864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01:02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08:39:18Z</dcterms:modified>
  <cp:revision>5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