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EF6B-09FF-4461-8CAE-6426E31E7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72B1-C66E-4520-B74B-CAAFE094B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FA7F-9E02-4CBC-8AC0-96DEB8596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E7F7-D937-4803-AEB7-09AD0C77A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34E4-3B66-4220-844B-1A0921378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CE8C-65AE-45DE-A01A-57E291357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23C0-4170-45C2-AD23-140E87604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0F5D-EEAB-4941-9774-5E62EAA4A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54F2-2E44-4130-AE44-A74AF80C8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8AEF-8368-4ED2-96D8-165050F67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093E-D36F-4C32-9DA4-F774905C4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D9AB-20CB-4498-BFFF-38A594CA0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31FEF-377A-4342-B5C1-4485AC69B2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123"/>
          <p:cNvPicPr/>
          <p:nvPr/>
        </p:nvPicPr>
        <p:blipFill>
          <a:blip r:embed="rId1"/>
          <a:srcRect l="0" t="483" r="0" b="0"/>
          <a:stretch/>
        </p:blipFill>
        <p:spPr>
          <a:xfrm>
            <a:off x="-14400" y="0"/>
            <a:ext cx="9172800" cy="6891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6360" y="991800"/>
            <a:ext cx="78487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山行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PPT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课件完整版在线下载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640080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枫林晚景"/>
          <p:cNvPicPr/>
          <p:nvPr/>
        </p:nvPicPr>
        <p:blipFill>
          <a:blip r:embed="rId1"/>
          <a:stretch/>
        </p:blipFill>
        <p:spPr>
          <a:xfrm>
            <a:off x="0" y="533520"/>
            <a:ext cx="3710160" cy="58672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428640" y="274320"/>
            <a:ext cx="525780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山 行</a:t>
            </a:r>
            <a:br>
              <a:rPr sz="4800"/>
            </a:b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[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唐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]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杜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429000" y="1752120"/>
            <a:ext cx="5943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yuǎn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shà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ɡ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hán s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n s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宋体"/>
              </a:rPr>
              <a:t>jìng </a:t>
            </a:r>
            <a:r>
              <a:rPr b="0" lang="en-US" sz="2400" spc="-1" strike="noStrike">
                <a:solidFill>
                  <a:srgbClr val="3333cc"/>
                </a:solidFill>
                <a:latin typeface="宋体"/>
              </a:rPr>
              <a:t>xi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  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远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上 寒 山 石 </a:t>
            </a:r>
            <a:r>
              <a:rPr b="0" lang="zh-CN" sz="4400" spc="-1" strike="noStrike">
                <a:solidFill>
                  <a:srgbClr val="3333cc"/>
                </a:solidFill>
                <a:latin typeface="Arial"/>
                <a:ea typeface="楷体_GB2312"/>
              </a:rPr>
              <a:t>径 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ái yún s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ē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ɡ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chù 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ǒ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u rén j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白 云 生 处 有 人 家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tínɡ ch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ē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zuò ài 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ē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nɡ lín wǎ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  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停 车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坐 爱 枫 林 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shu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ā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nɡ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yè hónɡ yú èr  yuè h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  <a:ea typeface="楷体_GB2312"/>
              </a:rPr>
              <a:t>        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霜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叶 红 于 二 月 花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shan1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80520" y="0"/>
            <a:ext cx="84582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yuǎn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shà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ɡ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hán s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ā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n s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宋体"/>
              </a:rPr>
              <a:t>jìng xi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  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远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上 寒 山 石 </a:t>
            </a:r>
            <a:r>
              <a:rPr b="1" lang="zh-CN" sz="6000" spc="-1" strike="noStrike">
                <a:solidFill>
                  <a:srgbClr val="3333cc"/>
                </a:solidFill>
                <a:latin typeface="Arial"/>
                <a:ea typeface="楷体_GB2312"/>
              </a:rPr>
              <a:t>径 斜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380880" y="5943600"/>
            <a:ext cx="83844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字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shan2"/>
          <p:cNvPicPr/>
          <p:nvPr/>
        </p:nvPicPr>
        <p:blipFill>
          <a:blip r:embed="rId1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09120" y="3124080"/>
            <a:ext cx="8077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bái yún s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ē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ɡ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 chù 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ǒ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u rén ji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白 云 生 处 有 人 家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shan2"/>
          <p:cNvPicPr/>
          <p:nvPr/>
        </p:nvPicPr>
        <p:blipFill>
          <a:blip r:embed="rId1"/>
          <a:stretch/>
        </p:blipFill>
        <p:spPr>
          <a:xfrm>
            <a:off x="-14400" y="0"/>
            <a:ext cx="91728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990720" y="1981080"/>
            <a:ext cx="7238880" cy="3353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yuǎn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shà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ɡ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hán s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ā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n s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宋体"/>
              </a:rPr>
              <a:t>jìng xi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 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远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上 寒 山 石 </a:t>
            </a:r>
            <a:r>
              <a:rPr b="1" lang="zh-CN" sz="5400" spc="-1" strike="noStrike">
                <a:solidFill>
                  <a:srgbClr val="3333cc"/>
                </a:solidFill>
                <a:latin typeface="Arial"/>
                <a:ea typeface="楷体_GB2312"/>
              </a:rPr>
              <a:t>径 斜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bái yún s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ē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ɡ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chù 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ǒ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u rén j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白 云 生 处 有 人 家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008小猪数数儿.MP3" descr=""/>
          <p:cNvPicPr/>
          <p:nvPr/>
        </p:nvPicPr>
        <p:blipFill>
          <a:blip r:embed="rId2"/>
          <a:stretch/>
        </p:blipFill>
        <p:spPr>
          <a:xfrm>
            <a:off x="7086600" y="5029200"/>
            <a:ext cx="9907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81537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8" descr="123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51814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0" y="0"/>
            <a:ext cx="7391520" cy="31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宋体"/>
              </a:rPr>
              <a:t>tínɡ ch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ē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 zuò ài f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ē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nɡ lín wǎ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停 车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坐 爱 枫 林 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宋体"/>
              </a:rPr>
              <a:t>shu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ā</a:t>
            </a:r>
            <a:r>
              <a:rPr b="0" lang="en-US" sz="3600" spc="-1" strike="noStrike">
                <a:solidFill>
                  <a:srgbClr val="ff0000"/>
                </a:solidFill>
                <a:latin typeface="宋体"/>
              </a:rPr>
              <a:t>nɡ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 yè hónɡ yú  èr yuè hu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ā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霜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叶 红 于 二 月 花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228600" y="5867280"/>
            <a:ext cx="685800" cy="3682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1219320" y="5867280"/>
            <a:ext cx="685800" cy="3682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4267080" y="5867280"/>
            <a:ext cx="1067040" cy="3682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雨  笔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3200400" y="5867280"/>
            <a:ext cx="762120" cy="3682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儿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2209680" y="5867280"/>
            <a:ext cx="685800" cy="3682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6" descr="123"/>
          <p:cNvPicPr/>
          <p:nvPr/>
        </p:nvPicPr>
        <p:blipFill>
          <a:blip r:embed="rId1"/>
          <a:stretch/>
        </p:blipFill>
        <p:spPr>
          <a:xfrm>
            <a:off x="-14400" y="-33480"/>
            <a:ext cx="9172800" cy="69249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68580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山 行</a:t>
            </a:r>
            <a:br>
              <a:rPr sz="6000"/>
            </a:b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[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唐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]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杜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43000" y="1904760"/>
            <a:ext cx="685800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远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上 寒 山 石 </a:t>
            </a:r>
            <a:r>
              <a:rPr b="1" lang="zh-CN" sz="4800" spc="-1" strike="noStrike">
                <a:solidFill>
                  <a:srgbClr val="3333cc"/>
                </a:solidFill>
                <a:latin typeface="Arial"/>
                <a:ea typeface="楷体_GB2312"/>
              </a:rPr>
              <a:t>径 斜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白 云 生 处 有 人 家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停 车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坐 爱 枫 林 晚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霜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叶 红 于 二 月 花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43E1-2D49-4690-9500-49B892EA3E7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2T03:31:26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8-23T09:28:36Z</dcterms:modified>
  <cp:revision>63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  <property fmtid="{D5CDD505-2E9C-101B-9397-08002B2CF9AE}" pid="3" name="Version">
    <vt:r8>1</vt:r8>
  </property>
</Properties>
</file>