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9BC4-E9E4-45A4-9732-63D809041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29200" y="18864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B632-7AF9-4484-8DFF-DDFC981F8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0" y="18864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E01F-5597-4978-A919-E91E7CC01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029200" y="18864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6FF6-4A3A-4846-BFD8-DBA951B2E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B2684-7869-4419-8564-DA70CCE95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0" y="18864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78CDB-8277-4DFC-A2F0-4FFBD9D49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0" y="18864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71491-B0AD-4BE1-AC12-733CB7250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0" y="18864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3C90C-3BA9-4F2F-BA7F-1C5FDCF7F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0" y="18864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069A1-B67F-43B0-80C4-B24265B7D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029200" y="188640"/>
            <a:ext cx="4114800" cy="30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07E83-5357-4FAA-BDE1-E5BA953B5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0" y="18864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4F20C-2172-4616-BBBC-C958B389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0" y="18864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31AA-AFEE-4423-9F8E-87C9AAACA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0" y="18864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B0C2B-0119-493B-B1FA-B21B7ECA5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0" y="18864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A4563-9FB6-4117-8E89-DA38F940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0" y="18864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14D1E-B445-4024-885E-D25E99281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29200" y="18864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F25D5-49FC-415C-B1B9-2BC01FEC2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29200" y="18864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0840F-678D-4397-8D43-9333768E5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0" y="18864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5906-9DB5-4B30-BFA5-23D954CBC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0" y="18864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E6F4-FF5E-4D69-B5B6-7D8BE704C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29200" y="18864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4294-BD3C-44C9-84F6-D149D61DA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029200" y="188640"/>
            <a:ext cx="4114800" cy="30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653F-760C-4F4D-A740-878444EDF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29200" y="18864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2F49-02FA-4417-BF32-0F6FB276E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29200" y="18864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A63D-A797-4770-A56A-31A2911EB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29200" y="18864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D42D-0CBE-43C5-9324-85C1BA12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360"/>
            <a:ext cx="9144000" cy="981000"/>
            <a:chOff x="0" y="-360"/>
            <a:chExt cx="9144000" cy="981000"/>
          </a:xfrm>
        </p:grpSpPr>
        <p:pic>
          <p:nvPicPr>
            <p:cNvPr id="1" name="Picture 3" descr="0142"/>
            <p:cNvPicPr/>
            <p:nvPr/>
          </p:nvPicPr>
          <p:blipFill>
            <a:blip r:embed="rId2"/>
            <a:stretch/>
          </p:blipFill>
          <p:spPr>
            <a:xfrm rot="10800000">
              <a:off x="0" y="-360"/>
              <a:ext cx="9144000" cy="98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4" descr="0142"/>
            <p:cNvPicPr/>
            <p:nvPr/>
          </p:nvPicPr>
          <p:blipFill>
            <a:blip r:embed="rId3"/>
            <a:stretch/>
          </p:blipFill>
          <p:spPr>
            <a:xfrm>
              <a:off x="0" y="917640"/>
              <a:ext cx="9144000" cy="60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C1547-9F80-49C5-848C-E447B837EC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966960" y="189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公司名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123"/>
          <p:cNvPicPr/>
          <p:nvPr/>
        </p:nvPicPr>
        <p:blipFill>
          <a:blip r:embed="rId4"/>
          <a:stretch/>
        </p:blipFill>
        <p:spPr>
          <a:xfrm>
            <a:off x="163440" y="165240"/>
            <a:ext cx="577800" cy="53640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5029200" y="18864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图片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0142"/>
          <p:cNvPicPr/>
          <p:nvPr/>
        </p:nvPicPr>
        <p:blipFill>
          <a:blip r:embed="rId3"/>
          <a:stretch/>
        </p:blipFill>
        <p:spPr>
          <a:xfrm>
            <a:off x="0" y="5457960"/>
            <a:ext cx="9144000" cy="1400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0143"/>
          <p:cNvPicPr/>
          <p:nvPr/>
        </p:nvPicPr>
        <p:blipFill>
          <a:blip r:embed="rId4"/>
          <a:stretch/>
        </p:blipFill>
        <p:spPr>
          <a:xfrm>
            <a:off x="4168800" y="115920"/>
            <a:ext cx="4975200" cy="5897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123"/>
          <p:cNvPicPr/>
          <p:nvPr/>
        </p:nvPicPr>
        <p:blipFill>
          <a:blip r:embed="rId5"/>
          <a:stretch/>
        </p:blipFill>
        <p:spPr>
          <a:xfrm>
            <a:off x="7740720" y="260280"/>
            <a:ext cx="1150920" cy="1071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0" y="18864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E71B7-6FBB-45C1-9FF6-5AA6386A42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280" y="1412640"/>
            <a:ext cx="4680000" cy="216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0" y="3715920"/>
            <a:ext cx="4859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920" y="6526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833120" y="11736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石油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DD5E-EE7C-46A4-94C6-F6D7988681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1T01:58:58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5:59:44Z</dcterms:modified>
  <cp:revision>5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