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E48-6BAA-47A9-B137-B20A1CF3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2DF-DD35-4E48-BAA6-BBB222C3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3D85A-F386-4722-9A4B-8A7B950C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22B20-679D-4809-80C2-13B25CC6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075E4-C630-4541-8A4E-A9306DD6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9F9A4-D637-47F3-BBFF-AF09805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322AA-7729-4146-B213-C9636A50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FEA03-BA1F-4E0F-A258-C46EFADA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1DCF7-1BA3-47C3-9F91-1CC5A619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18785-0790-408A-BA18-EAD303B2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67FBD-7863-49C0-8F2F-A86F4B6B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F50BD-E300-4194-8848-625B8E51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D4E-8360-452F-B0BE-7F7DB1B0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3C28F-C858-44A9-A49D-308C8899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0CE8C-CF2D-4749-A290-2034F8E9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F252F-9C04-4B62-8626-BCF56CB3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22372-7146-43FA-A25E-4CF093BA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A4342-0C81-4430-B757-490FBAB5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05719-0686-4A73-AE23-6B02989C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B2A91-6417-491C-884F-9554927F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D3171-3C2C-4B76-8108-778E0567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E20C8-C263-49B1-8719-A6F419A2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BE60E-2255-448E-A1F6-0B4B3D51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058-42C2-4DF9-8FD4-20B24C8E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F2299-4C7D-412C-9EB3-A535FC36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26C3E-5938-4B44-8B92-EF2CFFF3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30C66-CD82-4369-A277-703B7240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47157-4EFF-44DF-B702-0AED7CB4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1D6E4-B6E9-45F9-BE55-B98080A5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A82B0-D7C6-4051-8E59-06F888A0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79F5A-6AEE-4703-A795-ACF090E4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CC93A-28E6-4A17-A00D-1CD60367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5F7C5-694E-4DA0-BE1B-43C304EF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CC62D-32D0-41B3-974E-32685FF3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DB16-462F-4244-992A-322CBB0A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52DF1-82FC-4808-9825-78F6C553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E3401-EBE0-414C-9A33-A7F6E505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C8AF6-C88B-4CDB-9CA3-A4296C4E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C3B3A-CE33-4347-B763-932B608B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0CFE8-8CB4-4432-9FFF-43E05575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5890C-F0FD-451B-9841-1B4509EA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7EC1C-E023-4A5F-9035-8F8381E1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24EE6-038F-4770-BA34-F0C89BA8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61465-2554-44E4-B258-973EEF1A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F3D25-5FC4-4100-B3E4-FF0FC638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57C7-5DF3-478F-A69E-B3F176C0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2AB15-6BF8-4F8C-B868-6A12AFF5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26BAC-5D51-4192-A004-50AB801F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F8754-0C82-4DDA-8B41-B180E4E5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30CC4-275C-404E-8CCC-49FE9C4E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BFF62-F1F2-4094-B3A8-348F07E1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9227C-52DF-448E-B367-C214FAB0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3E450-D96B-4D44-88D3-FCC3E14E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7DEF8-3A63-4511-A12F-021DE9DB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17D35-D4D7-46CA-91C0-4FCFD31B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9E675-16B2-41B8-BDC4-7BB9F530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C356-184C-48C0-996E-C1A90385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FE3F2-02C6-4257-8213-DFA37183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627A3-2B41-40AB-85DC-9C8B61E5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26226-CFFF-4260-A728-9DFB50B0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19577-0168-44AA-A0D6-0684D2A2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A1DF8-3ED2-4A20-A457-6AE796B8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48616-08AE-4E79-AFF7-70A02455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20461-58E3-4357-9374-42B09D8A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9216-E9E8-441D-A62E-FEA1F24C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9147-2FFC-427B-9EA5-71805C90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E5FD-8DD4-46AF-AF96-1BE69131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CD98-BAA5-4BDE-8247-FA9CB83A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6E5-C92F-4549-9D8C-6BF02C2A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D2DC-C370-4C30-B901-C3894567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7B67-8EF1-4B92-95F1-E6863247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8991-B838-4CBE-83AE-548BCAAF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F8BF-5CA4-4FFA-9B57-E02C0A48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2B4A-BF29-4C29-8BD7-9DCA6B81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D5F5-4B8A-4B95-94E9-8B658CC5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C670-A068-4CB1-BA08-D2E736E8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D7D2-8FC1-4A82-834C-912C5703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EBF5-761C-4FD9-9006-D817050D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DB8D7-1D04-4611-B4D0-B9DED94E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BB6-FB43-4D4C-B5B7-67EB5DB2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1EEE-0505-4C22-A826-A76CA86B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5E514-2DBA-429F-A7EF-D1BE4CB5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E9F16-B910-4C87-9738-0F0D2303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AA9E6-9BE9-4A51-91D9-2D366762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EFE3-072A-4582-AA5B-207AA37A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F794-1396-43B6-83D1-0BCBF095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EBE5-95EE-4FC5-A781-C34B183F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0710A-279D-46C7-A476-1CD42337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AEA4E-EA5E-45C5-9E4B-67B4EF43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4C7EE-082B-4684-A664-45FA9524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BAE5-51C0-4AAE-8149-78E4C57D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7A6C-21AE-4184-A4CA-A356BB56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39FF3-73B6-49AA-B83A-6B84783C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BB30-F4AA-4480-B60D-CE3CDA25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5D706-319B-435F-8A6A-89611BB6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32CD-CA71-433C-9B9B-6E7746B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9808F-3735-40C5-83B7-5C17AA5F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9D5CD-8445-4FF8-8125-3E685CA4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A4A3F-F124-4AA9-9350-369C818B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DC010-E44B-408D-BEF7-AB71E08A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8E94B-763E-4770-BA5B-082A0147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226-8974-4C34-A787-D791E71F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6BD6-8969-4CFB-B24F-5E59B44D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B52F-5BD7-47A0-9092-58022686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5CEFB-6F56-41A4-9BBE-FC98E0F4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E26B2-C77B-4C6D-9772-858EF9AF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FC6BF-CC58-4795-9442-57709AAB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27743-6991-4FD3-85A6-A1B0CA2E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F7724-1D04-49B2-9416-365E41D7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6B6CA-9732-46C4-A341-D12167F6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7A0C1-4C0F-49D5-AC7A-AB5B8AA9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546D0-4F4A-4EFC-8A08-9CDF2458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59B-59A6-474F-9ABF-6633A300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F4289-1F99-410D-83A9-4AAC9AF8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C1FF8-7CEC-4725-A532-C19FE69F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B4268-14AF-4167-891B-66EEFD0D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46BD1-72A5-414B-8208-A2BACBA5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384C5-D6C7-44EF-B103-E32F805F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FA3B7-6077-4082-9ABB-5354D33D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9F4B0-B653-4B4E-8AAF-516A5C17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758A8-3D57-405B-9507-5F43937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6F1C0-9826-4F6E-89FD-592354FF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39D77-9D56-4347-88C0-132159DC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7F4-2713-47BF-92F4-1B6C7D46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78390-0601-4964-BDAC-998CD94D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112FA-65B3-4D4B-AD70-D1BED5AA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6B502-9D32-4D14-B57B-85DFF036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6FA43-2F9D-4D65-8184-B19C786D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D21EF-15A5-40AA-BB8A-5DF932C7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98602-3595-4EAE-AB67-5EFB2978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C707A-71AD-4B7E-A096-97BCC1CC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C859C-B28B-4E07-9F08-7A019FCD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54EDD-4F0C-4489-89CE-542F8956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21E11-9A8F-4662-859D-6BDD534F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B39-5982-49C1-87F6-E8844CFE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24574-C97A-484D-BD32-9662F042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7C544-D148-44AC-8AF0-A41D4839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264B2-772E-4766-8CC1-493D9BF0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A5C40-2906-4011-A910-2BD29CFA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7BA04-896C-4C26-A598-E2BA7DA3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F5EBC-5CA3-47A0-994B-4534434C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E6399-0370-412D-B79B-A3FC023A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7B978-EED8-4622-9D22-8EFB75B3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32039-226E-4224-AB44-6C02202F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54104-DB5F-4ACA-963F-D55B9390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71F-F5A4-4448-BC3B-100CBCDF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2A3CB-E762-4CC3-91E2-E6CA936C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52D05-AEB2-4951-825D-513BA487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94716-0AC5-4CB4-B2BA-4E2E19D2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C358D-CFEC-420F-B79F-D1CDEA6C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770B3-D6B7-4E89-A8C2-63E59280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6DDF3-5E1A-4191-BC69-53E00401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50B49-5193-476C-8AFA-3C2B5ED6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30D21-90F1-4E91-B80F-AB96C74E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57A8B-4734-4796-ACBE-87085340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E7A7A-813E-41E9-B0CE-DA5921AA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0642-04C7-4AA9-BEB0-E162714993E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5F67-585B-4346-88BF-835CFBE4E5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E7A3-52E0-4C0C-A96C-0761727242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5391-9C7A-42B8-B76F-151ECCE401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CB0C-D080-4EAB-ACB4-C83C0199DB1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5C24-B224-4DD1-9FAD-4C60EA8AD5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5588-963A-4DB6-A2CD-85B7D95A35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CE35-6668-4B18-A1C5-2A2CB4F5CD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71EE-6D3B-4109-9C7E-9D2185B16F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A1D5-9F29-4080-8704-AC5763C1FE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E632-642C-480B-9585-A904F537590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77EB-1BCC-439A-A75E-8519AEAC8E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C0F1-EA76-4DD2-8B8A-C10125B5AD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DB9E-9CAC-4D94-ABA9-D36391EBD1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3CF6-58DB-4CF8-84B4-ADB3E1A180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BE5C-63A6-425A-9043-25D8024CAF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D207-9E27-4C81-AA76-AB8C7871BE8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2382-E98E-4470-A575-0A3D81D7C7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3A9E-6300-49E5-A837-18D18411A3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ABC1-737A-4EE8-9F31-F82CB50B28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CEFC-8128-49D2-8D5D-8AF89CB50F2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E1AC-205C-406C-8B25-E2768DE95A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FC52-2BBA-4A38-AC4A-1FB53A72B7F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9845-13D8-4609-873F-E1CBFBD122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AEB8-5E73-4B21-A515-C91EA3F6D3D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5877-5E88-49F0-8585-0E066859EB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6" descr="沙漏.png"/>
          <p:cNvPicPr/>
          <p:nvPr/>
        </p:nvPicPr>
        <p:blipFill>
          <a:blip r:embed="rId2"/>
          <a:stretch/>
        </p:blipFill>
        <p:spPr>
          <a:xfrm>
            <a:off x="3328920" y="1773360"/>
            <a:ext cx="2438640" cy="2438280"/>
          </a:xfrm>
          <a:prstGeom prst="rect">
            <a:avLst/>
          </a:prstGeom>
          <a:ln w="0">
            <a:noFill/>
          </a:ln>
        </p:spPr>
      </p:pic>
      <p:grpSp>
        <p:nvGrpSpPr>
          <p:cNvPr id="535" name="组合 7"/>
          <p:cNvGrpSpPr/>
          <p:nvPr/>
        </p:nvGrpSpPr>
        <p:grpSpPr>
          <a:xfrm>
            <a:off x="3013200" y="4702320"/>
            <a:ext cx="3070080" cy="1071360"/>
            <a:chOff x="3013200" y="4702320"/>
            <a:chExt cx="3070080" cy="1071360"/>
          </a:xfrm>
        </p:grpSpPr>
        <p:sp>
          <p:nvSpPr>
            <p:cNvPr id="536" name="AutoShape 4"/>
            <p:cNvSpPr/>
            <p:nvPr/>
          </p:nvSpPr>
          <p:spPr>
            <a:xfrm>
              <a:off x="3013200" y="4702320"/>
              <a:ext cx="3070080" cy="1071360"/>
            </a:xfrm>
            <a:prstGeom prst="roundRect">
              <a:avLst>
                <a:gd name="adj" fmla="val 11741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147"/>
            <p:cNvSpPr/>
            <p:nvPr/>
          </p:nvSpPr>
          <p:spPr>
            <a:xfrm>
              <a:off x="3174480" y="505980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时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矩形 1"/>
          <p:cNvSpPr/>
          <p:nvPr/>
        </p:nvSpPr>
        <p:spPr>
          <a:xfrm>
            <a:off x="2409480" y="-9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8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4:03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