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camera.wav" ContentType="audio/x-wav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2.gif" ContentType="image/gif"/>
  <Override PartName="/ppt/media/image25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9.wmf" ContentType="image/x-wmf"/>
  <Override PartName="/ppt/media/image14.jpeg" ContentType="image/jpeg"/>
  <Override PartName="/ppt/media/image17.png" ContentType="image/png"/>
  <Override PartName="/ppt/media/image15.jpeg" ContentType="image/jpeg"/>
  <Override PartName="/ppt/media/image12.jpeg" ContentType="image/jpeg"/>
  <Override PartName="/ppt/media/chimes.wav" ContentType="audio/x-wav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FEC-92B0-46B6-8DCC-C911423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7D1-8DBD-4241-BF53-316EB7C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93A-9A00-4C7E-9952-BF2517BF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D5D-43E4-4994-8071-B930FAE3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896-79EF-4B17-9744-6BC9CAD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D10-9140-4D1B-B624-2F92C4D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96-F26E-47F3-BD8B-343DAA0D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0DC-41F3-46C2-9EDB-63865D7D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7F-76E4-4634-A445-F68A6B0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CEE-9CA7-45CB-9834-362418F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9ED-ACBD-4C11-AA83-4C5E6CD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E40-F463-47AD-BFD1-BBEEE23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129E-E515-4E1A-A624-915F8529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7" descr="图片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天窗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2370240"/>
            <a:ext cx="4826160" cy="3983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6400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005_12_28_632713887047031250"/>
          <p:cNvPicPr/>
          <p:nvPr/>
        </p:nvPicPr>
        <p:blipFill>
          <a:blip r:embed="rId1"/>
          <a:stretch/>
        </p:blipFill>
        <p:spPr>
          <a:xfrm>
            <a:off x="0" y="457200"/>
            <a:ext cx="3000240" cy="480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38_10006_cf1212bef7e41c1"/>
          <p:cNvPicPr/>
          <p:nvPr/>
        </p:nvPicPr>
        <p:blipFill>
          <a:blip r:embed="rId2"/>
          <a:stretch/>
        </p:blipFill>
        <p:spPr>
          <a:xfrm>
            <a:off x="2990880" y="457200"/>
            <a:ext cx="6153120" cy="4800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685800" y="5638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一朵云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0" y="56386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奇幻的云彩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你从那小小的玻璃，你会看见雨脚在那里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卜落卜落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跳，你会看见带子似的闪电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一划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；你想象到这雨、这风、这雷、这电，怎样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猛厉地扫荡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了这世界；你想象到它们的威力比你在露天真实感到的要大十倍百倍。小小的天窗会使你的想象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跃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28600" y="38088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语言训练</a:t>
            </a:r>
            <a:endParaRPr b="0" i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雷鸣暴雨声.mp3" descr=""/>
          <p:cNvPicPr/>
          <p:nvPr/>
        </p:nvPicPr>
        <p:blipFill>
          <a:blip r:embed="rId3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4" name="chimes.wav"/>
      </p:stSnd>
    </p:sndAc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8989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28600" y="38088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语言训练</a:t>
            </a:r>
            <a:endParaRPr b="0" i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152388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zh-CN" sz="4000" spc="-1" strike="noStrike">
                <a:solidFill>
                  <a:srgbClr val="cc0099"/>
                </a:solidFill>
                <a:latin typeface="Arial"/>
              </a:rPr>
              <a:t>你会从那小玻璃上面的一颗星、一朵云，想象到无数闪闪烁烁可爱的星，无数像山似的、马似的、巨人似的奇幻的云彩；</a:t>
            </a:r>
            <a:r>
              <a:rPr b="0" i="1" lang="zh-CN" sz="4000" spc="-1" strike="noStrike" u="sng">
                <a:solidFill>
                  <a:srgbClr val="cc0099"/>
                </a:solidFill>
                <a:uFillTx/>
                <a:latin typeface="Arial"/>
              </a:rPr>
              <a:t>你会从那小玻璃上面掠过一条黑影，想象到这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也许</a:t>
            </a:r>
            <a:r>
              <a:rPr b="0" i="1" lang="zh-CN" sz="4000" spc="-1" strike="noStrike" u="sng">
                <a:solidFill>
                  <a:srgbClr val="cc0099"/>
                </a:solidFill>
                <a:uFillTx/>
                <a:latin typeface="Arial"/>
              </a:rPr>
              <a:t>是灰色的蝙蝠，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也许</a:t>
            </a:r>
            <a:r>
              <a:rPr b="0" i="1" lang="zh-CN" sz="4000" spc="-1" strike="noStrike" u="sng">
                <a:solidFill>
                  <a:srgbClr val="cc0099"/>
                </a:solidFill>
                <a:uFillTx/>
                <a:latin typeface="Arial"/>
              </a:rPr>
              <a:t>是会唱歌的夜莺，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也许</a:t>
            </a:r>
            <a:r>
              <a:rPr b="0" i="1" lang="zh-CN" sz="4000" spc="-1" strike="noStrike" u="sng">
                <a:solidFill>
                  <a:srgbClr val="cc0099"/>
                </a:solidFill>
                <a:uFillTx/>
                <a:latin typeface="Arial"/>
              </a:rPr>
              <a:t>是恶霸似的猫头鹰</a:t>
            </a:r>
            <a:r>
              <a:rPr b="0" i="1" lang="en-US" sz="4000" spc="-1" strike="noStrike">
                <a:solidFill>
                  <a:srgbClr val="cc0099"/>
                </a:solidFill>
                <a:latin typeface="Arial"/>
              </a:rPr>
              <a:t>——</a:t>
            </a:r>
            <a:r>
              <a:rPr b="0" i="1" lang="zh-CN" sz="4000" spc="-1" strike="noStrike">
                <a:solidFill>
                  <a:srgbClr val="cc0099"/>
                </a:solidFill>
                <a:latin typeface="Arial"/>
              </a:rPr>
              <a:t>总之，美丽而神奇的夜的世界的一切，立刻会在你的想象中展开。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1" name="天窗（7）.MP3" descr=""/>
          <p:cNvPicPr/>
          <p:nvPr/>
        </p:nvPicPr>
        <p:blipFill>
          <a:blip r:embed="rId3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4" name="chimes.wav"/>
      </p:stSnd>
    </p:sndAc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678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9280" y="76320"/>
          <a:ext cx="8964720" cy="6114960"/>
        </p:xfrm>
        <a:graphic>
          <a:graphicData uri="http://schemas.openxmlformats.org/drawingml/2006/table">
            <a:tbl>
              <a:tblPr/>
              <a:tblGrid>
                <a:gridCol w="4484520"/>
                <a:gridCol w="44802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看到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想到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雨脚在那里跳，带子似的闪电一划；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雨，这风，这雷、这电，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怎样猛厉地扫荡了这世界；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它们的威力比你在露天真实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感到的要大十倍百倍。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一颗星，一朵云。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无数闪闪烁烁可爱的星；无数像山似的、马似的、巨人似的奇幻的云彩。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掠过的一条黑影。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也许是灰色的蝙蝠，也许是会唱歌的夜莺，也许是恶霸似的猫头鹰。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想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颗星，想象到无数闪闪烁烁可爱的星，它们（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朵云，想象到无数奇幻的云彩，有的像（           ）的山，有的像（       ）的马，有的像（             ）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小的天窗是你唯一的慰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呢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孩子们跟着木板窗的关闭也就被关在地洞似的屋里的时候，天窗给漆黑的屋子带来的仅有的光明，通过天窗看见了雨脚、闪电、星星、云彩。这些都是孩子们唯一的慰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整体感知"/>
          <p:cNvPicPr/>
          <p:nvPr/>
        </p:nvPicPr>
        <p:blipFill>
          <a:blip r:embed="rId1"/>
          <a:stretch/>
        </p:blipFill>
        <p:spPr>
          <a:xfrm>
            <a:off x="762120" y="838080"/>
            <a:ext cx="2017440" cy="4176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3352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藉  蝙   蝠  霸   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读一读"/>
          <p:cNvPicPr/>
          <p:nvPr/>
        </p:nvPicPr>
        <p:blipFill>
          <a:blip r:embed="rId1"/>
          <a:stretch/>
        </p:blipFill>
        <p:spPr>
          <a:xfrm>
            <a:off x="990720" y="0"/>
            <a:ext cx="211428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14300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jiè 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3372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iān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3526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fú 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41972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à  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410080" y="344340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zhòu   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说天窗是神奇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活泼会想的孩子们会知道怎样通过天窗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整体感知"/>
          <p:cNvPicPr/>
          <p:nvPr/>
        </p:nvPicPr>
        <p:blipFill>
          <a:blip r:embed="rId1"/>
          <a:stretch/>
        </p:blipFill>
        <p:spPr>
          <a:xfrm>
            <a:off x="685800" y="83808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透过这扇天窗，文中的孩子看到了什么？又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阅读质疑"/>
          <p:cNvPicPr/>
          <p:nvPr/>
        </p:nvPicPr>
        <p:blipFill>
          <a:blip r:embed="rId1"/>
          <a:stretch/>
        </p:blipFill>
        <p:spPr>
          <a:xfrm>
            <a:off x="1219320" y="762120"/>
            <a:ext cx="296208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因为活泼会想的孩子们会知道怎样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！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怎么理解这段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感受领悟"/>
          <p:cNvPicPr/>
          <p:nvPr/>
        </p:nvPicPr>
        <p:blipFill>
          <a:blip r:embed="rId1"/>
          <a:stretch/>
        </p:blipFill>
        <p:spPr>
          <a:xfrm>
            <a:off x="685800" y="838080"/>
            <a:ext cx="1890720" cy="5130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8120" y="685800"/>
            <a:ext cx="57909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1440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505320" y="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       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茅盾，原名沈德鸿，字雁冰，茅盾是他的笔名，他是中国现代最著名文学家之一。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1896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年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7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月出生于浙江省桐乡县乌镇一个商人家庭。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1981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年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3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月在北京病逝，临终前茅盾捐献出自己一生的积蓄设立文学奖，专门奖励优秀的小说创作者，这就是著名的“茅盾文学奖”。作品有小说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子夜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林家铺子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、“农村三部曲”：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春蚕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秋收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冬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。抗战时期，辗转于香港、新疆、延安、重庆、桂林等地，发表了长篇小说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腐蚀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霜叶红似二月花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锻炼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和剧本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《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清明前后</a:t>
            </a:r>
            <a:r>
              <a:rPr b="1" i="1" lang="en-US" sz="2800" spc="-1" strike="noStrike">
                <a:solidFill>
                  <a:srgbClr val="f2663a"/>
                </a:solidFill>
                <a:latin typeface="Arial"/>
              </a:rPr>
              <a:t>》</a:t>
            </a:r>
            <a:r>
              <a:rPr b="1" i="1" lang="zh-CN" sz="2800" spc="-1" strike="noStrike">
                <a:solidFill>
                  <a:srgbClr val="f2663a"/>
                </a:solidFill>
                <a:latin typeface="Arial"/>
              </a:rPr>
              <a:t>等。</a:t>
            </a:r>
            <a:endParaRPr b="0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Picture 9" descr="F2009060410093200171"/>
          <p:cNvPicPr/>
          <p:nvPr/>
        </p:nvPicPr>
        <p:blipFill>
          <a:blip r:embed="rId1"/>
          <a:stretch/>
        </p:blipFill>
        <p:spPr>
          <a:xfrm>
            <a:off x="533520" y="549360"/>
            <a:ext cx="2743200" cy="425124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24000" y="479736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i="1" lang="zh-CN" sz="4000" spc="-1" strike="noStrike">
                <a:solidFill>
                  <a:srgbClr val="00cc00"/>
                </a:solidFill>
                <a:latin typeface="Arial"/>
              </a:rPr>
              <a:t>：下雨了或下雪了，透过玻璃窗，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cc00"/>
                </a:solidFill>
                <a:latin typeface="Arial"/>
              </a:rPr>
              <a:t>说说你看到了什么？想到了什么？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Picture 9" descr="拓展学习"/>
          <p:cNvPicPr/>
          <p:nvPr/>
        </p:nvPicPr>
        <p:blipFill>
          <a:blip r:embed="rId2"/>
          <a:stretch/>
        </p:blipFill>
        <p:spPr>
          <a:xfrm>
            <a:off x="0" y="0"/>
            <a:ext cx="3565440" cy="88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200703081538197566"/>
          <p:cNvPicPr/>
          <p:nvPr/>
        </p:nvPicPr>
        <p:blipFill>
          <a:blip r:embed="rId3"/>
          <a:stretch/>
        </p:blipFill>
        <p:spPr>
          <a:xfrm>
            <a:off x="762120" y="1828800"/>
            <a:ext cx="369576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11_133830_img_1820"/>
          <p:cNvPicPr/>
          <p:nvPr/>
        </p:nvPicPr>
        <p:blipFill>
          <a:blip r:embed="rId4"/>
          <a:stretch/>
        </p:blipFill>
        <p:spPr>
          <a:xfrm>
            <a:off x="5105520" y="19051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5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图片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：乘汽车或乘火车、乘飞机时，透过玻璃窗，说说你看到什么，又想到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无标题"/>
          <p:cNvPicPr/>
          <p:nvPr/>
        </p:nvPicPr>
        <p:blipFill>
          <a:blip r:embed="rId2"/>
          <a:stretch/>
        </p:blipFill>
        <p:spPr>
          <a:xfrm>
            <a:off x="762120" y="2743200"/>
            <a:ext cx="3352680" cy="3419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2450369088_e627ef4f9d"/>
          <p:cNvPicPr/>
          <p:nvPr/>
        </p:nvPicPr>
        <p:blipFill>
          <a:blip r:embed="rId3"/>
          <a:stretch/>
        </p:blipFill>
        <p:spPr>
          <a:xfrm>
            <a:off x="4495680" y="27432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4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拓展学习"/>
          <p:cNvPicPr/>
          <p:nvPr/>
        </p:nvPicPr>
        <p:blipFill>
          <a:blip r:embed="rId1"/>
          <a:stretch/>
        </p:blipFill>
        <p:spPr>
          <a:xfrm>
            <a:off x="380880" y="0"/>
            <a:ext cx="3565800" cy="880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04920" y="144792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你能说说自己生活中排解不快的方法吗？是读书？看电视？还是摆弄小玩具？</a:t>
            </a:r>
            <a:endParaRPr b="0" i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把自己的经历像作者这样记录下来，为我们的童年增添一笔美好的回忆。</a:t>
            </a:r>
            <a:endParaRPr b="0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天窗"/>
          <p:cNvPicPr/>
          <p:nvPr/>
        </p:nvPicPr>
        <p:blipFill>
          <a:blip r:embed="rId1"/>
          <a:stretch/>
        </p:blipFill>
        <p:spPr>
          <a:xfrm>
            <a:off x="1143000" y="152280"/>
            <a:ext cx="6019920" cy="403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04920" y="44956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00cc00"/>
                </a:solidFill>
                <a:latin typeface="Arial"/>
              </a:rPr>
              <a:t>乡下人在屋顶上面开一个小方洞，装了一块玻璃，叫做天窗。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524-50C2-4AA5-BDEB-BBCF4D8D321B}" type="slidenum">
              <a:t>4</a:t>
            </a:fld>
          </a:p>
        </p:txBody>
      </p:sp>
    </p:spTree>
  </p:cSld>
  <p:transition spd="med">
    <p:fade/>
    <p:sndAc>
      <p:stSnd>
        <p:snd r:embed="rId2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创设情境"/>
          <p:cNvPicPr/>
          <p:nvPr/>
        </p:nvPicPr>
        <p:blipFill>
          <a:blip r:embed="rId1"/>
          <a:stretch/>
        </p:blipFill>
        <p:spPr>
          <a:xfrm>
            <a:off x="838080" y="0"/>
            <a:ext cx="3140280" cy="86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乡下的房子"/>
          <p:cNvPicPr/>
          <p:nvPr/>
        </p:nvPicPr>
        <p:blipFill>
          <a:blip r:embed="rId2"/>
          <a:stretch/>
        </p:blipFill>
        <p:spPr>
          <a:xfrm>
            <a:off x="990720" y="16765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木板窗"/>
          <p:cNvPicPr/>
          <p:nvPr/>
        </p:nvPicPr>
        <p:blipFill>
          <a:blip r:embed="rId3"/>
          <a:stretch/>
        </p:blipFill>
        <p:spPr>
          <a:xfrm>
            <a:off x="5181480" y="838080"/>
            <a:ext cx="3595680" cy="4792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095880" y="5715000"/>
            <a:ext cx="19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方正楷体_GBK"/>
              </a:rPr>
              <a:t>木板窗</a:t>
            </a:r>
            <a:endParaRPr b="0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8380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2663a"/>
                </a:solidFill>
                <a:latin typeface="Arial"/>
              </a:rPr>
              <a:t>人们为什么要在屋顶上面开天窗呢？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90720" y="19051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</a:rPr>
              <a:t>乡下的房子只有前面一排木板窗。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743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</a:rPr>
              <a:t>碰着大风大雨，或者北风呼呼的冬天，木板窗只好关起来，屋子就黑得像地洞里似的。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4920" y="4952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663a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f2663a"/>
                </a:solidFill>
                <a:latin typeface="Arial"/>
              </a:rPr>
              <a:t>于是乡下人在屋顶上面开一个小方洞，装一块玻璃，叫做天窗。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371600"/>
            <a:ext cx="914400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夏天阵雨来了时，孩子们顶喜欢在雨里跑跳，仰着脸看闪电。然而，大人们 偏就不许，“</a:t>
            </a:r>
            <a:r>
              <a:rPr b="0" i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到屋里来呀</a:t>
            </a: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！”</a:t>
            </a:r>
            <a:r>
              <a:rPr b="0" i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孩子们跟着木板窗的关闭，也就被关在地洞似的屋里了</a:t>
            </a: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；这时候，小小的天窗是唯一的慰藉。</a:t>
            </a:r>
            <a:endParaRPr b="0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找出这段话的一个比喻句，说说是把什么比作了什么。</a:t>
            </a:r>
            <a:endParaRPr b="0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i="1" lang="zh-CN" sz="3600" spc="-1" strike="noStrike">
                <a:solidFill>
                  <a:srgbClr val="ff00ff"/>
                </a:solidFill>
                <a:latin typeface="宋体"/>
              </a:rPr>
              <a:t>要读出命令的语气，无奈的语气。</a:t>
            </a:r>
            <a:endParaRPr b="0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228600" y="38088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语言训练</a:t>
            </a:r>
            <a:endParaRPr b="0" i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月光下的草地河滩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438280" y="5638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月光下的草地河滩</a:t>
            </a:r>
            <a:endParaRPr b="0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一粒星"/>
          <p:cNvPicPr/>
          <p:nvPr/>
        </p:nvPicPr>
        <p:blipFill>
          <a:blip r:embed="rId1"/>
          <a:stretch/>
        </p:blipFill>
        <p:spPr>
          <a:xfrm>
            <a:off x="0" y="685800"/>
            <a:ext cx="365760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990720" y="5181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一颗星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019920" y="5181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星空</a:t>
            </a:r>
            <a:endParaRPr b="0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4383e82e184d01181e308907"/>
          <p:cNvPicPr/>
          <p:nvPr/>
        </p:nvPicPr>
        <p:blipFill>
          <a:blip r:embed="rId2"/>
          <a:stretch/>
        </p:blipFill>
        <p:spPr>
          <a:xfrm>
            <a:off x="3733920" y="685800"/>
            <a:ext cx="5410080" cy="421812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8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4:59Z</dcterms:modified>
  <cp:revision>4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